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4008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62592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F4962-70F2-4250-BDC5-59F80E4DF08E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28520" y="650520"/>
            <a:ext cx="434340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249760"/>
            <a:ext cx="277344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625920" y="8249760"/>
            <a:ext cx="277344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C75D2-613F-4E28-8F01-93F3F0D85BF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68823-6B6E-43EF-A630-61745515A41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5EFFB-F4D9-4CD2-9104-24490E9EFE7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CC298-6310-4FA2-98A7-2793D1A675B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F7414-06D0-4CEB-9228-6FC0AEBFD2D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7B7B0-ECD8-4DFD-B52F-D53F9557216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1A2E5-E808-44E7-A4B0-002648DAB21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32575-6ABE-4AB3-B3D2-23920D09462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FDBE7-FDAE-4B33-AA9D-B61004F9327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F650F-94DD-4B52-BBFA-4A497291D51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481C1-59F9-4B24-8E31-89464707D34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A70B1-14C9-4BBD-B893-FAFDC2AF27D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77FC7-AEE5-4A41-96E8-73E8C4E702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A8C45-C1A1-44D9-A309-61636A46FCE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74EDB-CD2E-440B-B811-997D08E5C3C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DDEA9-DA75-4136-8689-43D407AFDD1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01EF3-F598-49D2-9208-BDCF2FAADE9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AA719-63A6-4B00-ADAE-FC155054D7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1923A-7570-4370-B9F8-4A6FFFCCE20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9D06A-6CDB-4C12-B5B3-D22AA784CE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evidence of effective instruction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who are modeling demonst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ing academic feed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38E44-A8F0-4E13-B6A3-19452E2C095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2FB63-94F3-4E46-822D-5E7E01D1A1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F63F1-1A9B-4958-89CA-8ABB1939790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86C33-12D0-49B6-A7FA-EB7B8E6BDD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0C5D1-5FAD-4DA0-8E5E-ACEBCC51B04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31C6E-515F-49E0-988B-607833115E6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C8E2E-93B1-47E5-B3B7-C66A4537AF9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7D2C9-1008-44BC-8E9D-E88E81BC199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57733-C793-4BF1-969E-0A7C46B219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CF90C-C9DB-4655-BC55-396E5FD7113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86BF7-4979-4F00-926E-EDEA1C3C2FD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3664C-7A08-430C-B6F6-22AE8A8B0C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big ideas in the research related to math instruction anchors the ELM Curricul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8D849-5AD7-4A72-A41A-FC89137AE4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16F15-A4F1-421D-ACC3-0B2F9908935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819FF-4A65-4A50-A070-2FBAB2D5D28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E74-80C3-446E-93DB-79A8CA8C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387-EC8D-47A1-9612-9252588D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D89-F666-49A9-A6F5-04959747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7ED-C94F-42FE-808E-803B7855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AAA-C701-46A9-9319-F04EF246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453-7C00-42A5-BF92-6823179B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906-CDBA-4622-B0C9-50EE98D5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56E-CC77-422B-AF44-C39A51E6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91B-26EF-490F-9B5D-20B6E4D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5A1-581C-4E1C-887B-702847BD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53B-011E-44A3-A4C6-4437D3D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4BA-9D57-4722-B17E-C37B9F9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830EC-EEA7-4805-8370-0AF0A136C8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D2CC5-F99A-4532-8315-2D4014833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arly Learning in Mathematics (ELM)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Efficacy of a Kindergarten Curriculum Implemented in Whole Classroom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9040" y="232884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cott K. Baker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cific Institutes for Research / University of Oreg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n Clarke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cific Institutes for Researc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k Fien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ith Smolkowski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regon Research Institut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ris Doabler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cific Institutes for Researc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vid Chard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uthern Methodist Universit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1f497d"/>
                </a:solidFill>
                <a:latin typeface="Calibri"/>
              </a:rPr>
              <a:t>IES Conference June 201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tudent Demo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6.3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gible for free or reduced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8.4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 Lea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4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9.5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6.4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8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an / Pacific Isla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3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n Ameri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iagram 1" descr=""/>
          <p:cNvPicPr/>
          <p:nvPr/>
        </p:nvPicPr>
        <p:blipFill>
          <a:blip r:embed="rId1"/>
          <a:stretch/>
        </p:blipFill>
        <p:spPr>
          <a:xfrm>
            <a:off x="781200" y="1036800"/>
            <a:ext cx="7710480" cy="5260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760680" y="14382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2976480" y="1438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907520" y="143820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a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7077600" y="143820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0"/>
          <p:cNvSpPr/>
          <p:nvPr/>
        </p:nvSpPr>
        <p:spPr>
          <a:xfrm flipV="1">
            <a:off x="6393600" y="3663720"/>
            <a:ext cx="567000" cy="88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2"/>
          <p:cNvSpPr/>
          <p:nvPr/>
        </p:nvSpPr>
        <p:spPr>
          <a:xfrm>
            <a:off x="6393600" y="2857680"/>
            <a:ext cx="567000" cy="80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289440" y="203040"/>
            <a:ext cx="86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Hypothesized Model of ELM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12"/>
          <p:cNvCxnSpPr/>
          <p:nvPr/>
        </p:nvCxnSpPr>
        <p:spPr>
          <a:xfrm>
            <a:off x="2333160" y="3664080"/>
            <a:ext cx="545400" cy="100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grpSp>
        <p:nvGrpSpPr>
          <p:cNvPr id="86" name="Group 15"/>
          <p:cNvGrpSpPr/>
          <p:nvPr/>
        </p:nvGrpSpPr>
        <p:grpSpPr>
          <a:xfrm>
            <a:off x="4307040" y="2857320"/>
            <a:ext cx="519480" cy="1524240"/>
            <a:chOff x="4307040" y="2857320"/>
            <a:chExt cx="519480" cy="1524240"/>
          </a:xfrm>
        </p:grpSpPr>
        <p:cxnSp>
          <p:nvCxnSpPr>
            <p:cNvPr id="87" name="Straight Arrow Connector 14"/>
            <p:cNvCxnSpPr/>
            <p:nvPr/>
          </p:nvCxnSpPr>
          <p:spPr>
            <a:xfrm flipV="1">
              <a:off x="4307040" y="2857320"/>
              <a:ext cx="519840" cy="77544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88" name="Straight Arrow Connector 19"/>
            <p:cNvCxnSpPr/>
            <p:nvPr/>
          </p:nvCxnSpPr>
          <p:spPr>
            <a:xfrm>
              <a:off x="4307040" y="3632400"/>
              <a:ext cx="519840" cy="216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89" name="Straight Arrow Connector 25"/>
            <p:cNvCxnSpPr/>
            <p:nvPr/>
          </p:nvCxnSpPr>
          <p:spPr>
            <a:xfrm>
              <a:off x="4307040" y="3632040"/>
              <a:ext cx="519840" cy="74988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</p:grpSp>
      <p:cxnSp>
        <p:nvCxnSpPr>
          <p:cNvPr id="90" name="Straight Arrow Connector 27"/>
          <p:cNvCxnSpPr/>
          <p:nvPr/>
        </p:nvCxnSpPr>
        <p:spPr>
          <a:xfrm>
            <a:off x="6393960" y="3673080"/>
            <a:ext cx="567720" cy="25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scriptive data on imple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room fidelity observations – treatment and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room observations focusing on instructional interactions – treatment and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 logs addressing content coverage – treatment and control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mplementation Fide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ratings (8 i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s skills/concepts appropriately and with 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ages students in learning throughout the le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ELM / completes all lesson activities (dichotomo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or each ELM activity (range 1-7 per lesson): Full (2) / Partial (1) / Not Taught (0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mplementation Fidelity Data: ELM Lesson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8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1 ELM (fidelity) observations during the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 = 1.71 (SD = .1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 = 1.65 (SD = .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ing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 = 1.62 (SD = .4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all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n = 1.65 (SD = .36) (83% of Fu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of 81 lessons had a mean below Partial (1) level of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tudent measures of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of Early Mathematics Ability (TE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Numeracy – C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al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y Discri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sing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ethod and Analysis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ing curricu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students received instr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balanced across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 risk (some or high ris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 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ercen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6% of student s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ris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≥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ercen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4% of student s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Nested Time × Condi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come: net differences from pre to p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sted students within classroo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ol for nonindependence (e.g., ICC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ols for teacher ef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ximum likelihood (restrict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des all cases with data at either T1 or T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s bias from miss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deration added Time × Risk × Condition intera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ffect sizes: Hedges’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ample Means, SDs, and 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232160"/>
        </p:xfrm>
        <a:graphic>
          <a:graphicData uri="http://schemas.openxmlformats.org/drawingml/2006/table">
            <a:tbl>
              <a:tblPr/>
              <a:tblGrid>
                <a:gridCol w="1905120"/>
                <a:gridCol w="838080"/>
                <a:gridCol w="1371600"/>
                <a:gridCol w="1371600"/>
                <a:gridCol w="1371600"/>
                <a:gridCol w="137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 R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0  (6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8 (7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1 (6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 (6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6  (6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1 (7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6 (8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 (8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 Percen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5 (16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1 (17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5 (11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4 (11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4 (18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1 (20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5 (23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0 (22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M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.3 (4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7 (43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0 (32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5 (35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 (35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.9 (38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.4 (50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6 (50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Standard deviations (SDs) presented in parentheses. For students with some risk at T1, we collected TEMAs from 53 fewer students in ELM classrooms and 48 fewer students in control classroom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EMA Percentile Scores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Gains by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5627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: 10.9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M: 14.7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ce: 3.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of Cond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= 2.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f = 6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= .03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 = +0.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1 differences were not statistically significant (t = 0.5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876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Institute of Education Sci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earch reported here was supported by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titute of Education Scien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U.S. Department of Education, through Goal 2 development grant, #R305K040081, and a Goal 3 efficacy grant, #R305A080114, to Pacific Institutes for Research. The opinions expressed are those of the authors and do not represent  views of the Institute or the U.S. Department of Educ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Additional Oregon Project St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thy Jungjohann / Karen Davi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iculum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ri Strand Cary / Rhonda Griffith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ordination and resear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ris Doabler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ation measurement an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BM Total Scores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Gains by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5627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: 77.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M: 84.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ce: 7.6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of Cond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= 1.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f = 6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= .05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 = +0.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1 differences were not statistically significant (t = 0.6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876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EMA Raw Scores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ndition by Risk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Ef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 in gains: 1.3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= 2.41, df = 61, p = .019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dition by Risk Sta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= 2.47, df = 61, p = .016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Risk ≥ 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fference in gains: 0.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 = 0.51, df = 61, p = .958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isk &lt; 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fference in gains: 1.9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 = 3.29, df = 61, p = .001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BM Total Scores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ndition by Risk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Ef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 in gains: 7.6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= 1.99, df = 61, p = .05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dition by Risk Sta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= 2.24, df = 61, p = .028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Risk ≥ 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fference in gains: -0.2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 = -0.05, df = 61, p = .957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isk &lt; 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fference in gains: 10.8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 = 2.54, df = 61, p = .013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ffect Sizes (Hedges’ </a:t>
            </a: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g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50960"/>
          <a:ext cx="8229600" cy="2514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At Ri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 Risk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 Raw Sc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.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.242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-CBM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.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.215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9" name="TextBox 9"/>
          <p:cNvSpPr/>
          <p:nvPr/>
        </p:nvSpPr>
        <p:spPr>
          <a:xfrm>
            <a:off x="468720" y="441972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p &lt; .05; **p &lt; 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M classrooms outperformed contro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A raw and percentile sc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-CBM To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s at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on all measures more than no-risk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students at risk catching up on no-risk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A: 14.0 percentile gain on no-risk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-CBM: 9.6 point gain on no-risk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M students at risk catching no-risk students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A: 18.6 percentile gain on no-risk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-CBM: 20.63 point gain on no-risk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 condition effects for students with no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Diagram 1" descr=""/>
          <p:cNvPicPr/>
          <p:nvPr/>
        </p:nvPicPr>
        <p:blipFill>
          <a:blip r:embed="rId1"/>
          <a:stretch/>
        </p:blipFill>
        <p:spPr>
          <a:xfrm>
            <a:off x="762120" y="1152360"/>
            <a:ext cx="7705440" cy="5261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760680" y="14382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2825640" y="1438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907520" y="143820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a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077600" y="143820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0"/>
          <p:cNvSpPr/>
          <p:nvPr/>
        </p:nvSpPr>
        <p:spPr>
          <a:xfrm flipV="1">
            <a:off x="6393600" y="3663720"/>
            <a:ext cx="567000" cy="88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2"/>
          <p:cNvSpPr/>
          <p:nvPr/>
        </p:nvSpPr>
        <p:spPr>
          <a:xfrm>
            <a:off x="6393600" y="2857680"/>
            <a:ext cx="567000" cy="80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3"/>
          <p:cNvSpPr/>
          <p:nvPr/>
        </p:nvSpPr>
        <p:spPr>
          <a:xfrm>
            <a:off x="621000" y="203040"/>
            <a:ext cx="78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reliminary Analysis of Association between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Observation Data and Student Outc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12"/>
          <p:cNvCxnSpPr/>
          <p:nvPr/>
        </p:nvCxnSpPr>
        <p:spPr>
          <a:xfrm>
            <a:off x="2333160" y="3664080"/>
            <a:ext cx="545400" cy="100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grpSp>
        <p:nvGrpSpPr>
          <p:cNvPr id="131" name="Group 15"/>
          <p:cNvGrpSpPr/>
          <p:nvPr/>
        </p:nvGrpSpPr>
        <p:grpSpPr>
          <a:xfrm>
            <a:off x="4307040" y="2857320"/>
            <a:ext cx="519480" cy="1524240"/>
            <a:chOff x="4307040" y="2857320"/>
            <a:chExt cx="519480" cy="1524240"/>
          </a:xfrm>
        </p:grpSpPr>
        <p:cxnSp>
          <p:nvCxnSpPr>
            <p:cNvPr id="132" name="Straight Arrow Connector 14"/>
            <p:cNvCxnSpPr/>
            <p:nvPr/>
          </p:nvCxnSpPr>
          <p:spPr>
            <a:xfrm flipV="1">
              <a:off x="4307040" y="2857320"/>
              <a:ext cx="519840" cy="77544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133" name="Straight Arrow Connector 19"/>
            <p:cNvCxnSpPr/>
            <p:nvPr/>
          </p:nvCxnSpPr>
          <p:spPr>
            <a:xfrm>
              <a:off x="4307040" y="3632400"/>
              <a:ext cx="519840" cy="216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134" name="Straight Arrow Connector 25"/>
            <p:cNvCxnSpPr/>
            <p:nvPr/>
          </p:nvCxnSpPr>
          <p:spPr>
            <a:xfrm>
              <a:off x="4307040" y="3632040"/>
              <a:ext cx="519840" cy="74988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</p:grpSp>
      <p:cxnSp>
        <p:nvCxnSpPr>
          <p:cNvPr id="135" name="Straight Arrow Connector 27"/>
          <p:cNvCxnSpPr/>
          <p:nvPr/>
        </p:nvCxnSpPr>
        <p:spPr>
          <a:xfrm>
            <a:off x="6393960" y="3673080"/>
            <a:ext cx="567720" cy="25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ding of Academic Teacher-Student Interactions (CATS) Observation Instru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" y="1676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S uses a frequency count approach to measure teacher-student instructional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servers code behavior occurrences in a continual, serial fash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zes a strict coding structur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ATS based on evidence of effective instruction in early literacy and beginning mathematics, and adapted from the STICO observation instrument (Smolkowski &amp; Gunn, 2010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002BD-5D76-4F89-9EF9-E6FACD5C7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3546360"/>
          <a:ext cx="6096240" cy="1560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BEHAVI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 BEHAVI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al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vert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tak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ademic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5"/>
          <p:cNvSpPr/>
          <p:nvPr/>
        </p:nvSpPr>
        <p:spPr>
          <a:xfrm>
            <a:off x="1523880" y="3505320"/>
            <a:ext cx="6096240" cy="11912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533520" y="2400480"/>
            <a:ext cx="7880400" cy="3187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1920600" y="357120"/>
            <a:ext cx="53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Hypothetical Case of a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Instruction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ject 2" descr=""/>
          <p:cNvPicPr/>
          <p:nvPr/>
        </p:nvPicPr>
        <p:blipFill>
          <a:blip r:embed="rId1"/>
          <a:stretch/>
        </p:blipFill>
        <p:spPr>
          <a:xfrm>
            <a:off x="1100160" y="317520"/>
            <a:ext cx="6791400" cy="622296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7"/>
          <p:cNvGrpSpPr/>
          <p:nvPr/>
        </p:nvGrpSpPr>
        <p:grpSpPr>
          <a:xfrm>
            <a:off x="2816280" y="1746360"/>
            <a:ext cx="4219560" cy="533160"/>
            <a:chOff x="2816280" y="1746360"/>
            <a:chExt cx="4219560" cy="533160"/>
          </a:xfrm>
        </p:grpSpPr>
        <p:sp>
          <p:nvSpPr>
            <p:cNvPr id="145" name="Oval 2"/>
            <p:cNvSpPr/>
            <p:nvPr/>
          </p:nvSpPr>
          <p:spPr>
            <a:xfrm>
              <a:off x="2816280" y="174636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"/>
            <p:cNvSpPr/>
            <p:nvPr/>
          </p:nvSpPr>
          <p:spPr>
            <a:xfrm>
              <a:off x="4556160" y="174636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"/>
            <p:cNvSpPr/>
            <p:nvPr/>
          </p:nvSpPr>
          <p:spPr>
            <a:xfrm>
              <a:off x="6435720" y="174636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0"/>
          <p:cNvGrpSpPr/>
          <p:nvPr/>
        </p:nvGrpSpPr>
        <p:grpSpPr>
          <a:xfrm>
            <a:off x="2825640" y="2400480"/>
            <a:ext cx="4210200" cy="533160"/>
            <a:chOff x="2825640" y="2400480"/>
            <a:chExt cx="4210200" cy="533160"/>
          </a:xfrm>
        </p:grpSpPr>
        <p:sp>
          <p:nvSpPr>
            <p:cNvPr id="149" name="Oval 6"/>
            <p:cNvSpPr/>
            <p:nvPr/>
          </p:nvSpPr>
          <p:spPr>
            <a:xfrm>
              <a:off x="2825640" y="24004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4556160" y="24004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6435720" y="24004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2825640" y="3098880"/>
            <a:ext cx="4210200" cy="533160"/>
            <a:chOff x="2825640" y="3098880"/>
            <a:chExt cx="4210200" cy="533160"/>
          </a:xfrm>
        </p:grpSpPr>
        <p:sp>
          <p:nvSpPr>
            <p:cNvPr id="153" name="Oval 10"/>
            <p:cNvSpPr/>
            <p:nvPr/>
          </p:nvSpPr>
          <p:spPr>
            <a:xfrm>
              <a:off x="2825640" y="30988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"/>
            <p:cNvSpPr/>
            <p:nvPr/>
          </p:nvSpPr>
          <p:spPr>
            <a:xfrm>
              <a:off x="4556160" y="30988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2"/>
            <p:cNvSpPr/>
            <p:nvPr/>
          </p:nvSpPr>
          <p:spPr>
            <a:xfrm>
              <a:off x="6435720" y="30988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2"/>
          <p:cNvGrpSpPr/>
          <p:nvPr/>
        </p:nvGrpSpPr>
        <p:grpSpPr>
          <a:xfrm>
            <a:off x="2825640" y="3987720"/>
            <a:ext cx="4210200" cy="533520"/>
            <a:chOff x="2825640" y="3987720"/>
            <a:chExt cx="4210200" cy="533520"/>
          </a:xfrm>
        </p:grpSpPr>
        <p:sp>
          <p:nvSpPr>
            <p:cNvPr id="157" name="Oval 13"/>
            <p:cNvSpPr/>
            <p:nvPr/>
          </p:nvSpPr>
          <p:spPr>
            <a:xfrm>
              <a:off x="2825640" y="398772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4556160" y="398772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5"/>
            <p:cNvSpPr/>
            <p:nvPr/>
          </p:nvSpPr>
          <p:spPr>
            <a:xfrm>
              <a:off x="6435720" y="398772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4"/>
          <p:cNvGrpSpPr/>
          <p:nvPr/>
        </p:nvGrpSpPr>
        <p:grpSpPr>
          <a:xfrm>
            <a:off x="2901960" y="5321160"/>
            <a:ext cx="4133880" cy="533520"/>
            <a:chOff x="2901960" y="5321160"/>
            <a:chExt cx="4133880" cy="533520"/>
          </a:xfrm>
        </p:grpSpPr>
        <p:sp>
          <p:nvSpPr>
            <p:cNvPr id="161" name="Oval 16"/>
            <p:cNvSpPr/>
            <p:nvPr/>
          </p:nvSpPr>
          <p:spPr>
            <a:xfrm>
              <a:off x="2901960" y="532116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4556160" y="532116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8"/>
            <p:cNvSpPr/>
            <p:nvPr/>
          </p:nvSpPr>
          <p:spPr>
            <a:xfrm>
              <a:off x="6435720" y="532116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7"/>
          <p:cNvGrpSpPr/>
          <p:nvPr/>
        </p:nvGrpSpPr>
        <p:grpSpPr>
          <a:xfrm>
            <a:off x="2863800" y="4648320"/>
            <a:ext cx="4172040" cy="533160"/>
            <a:chOff x="2863800" y="4648320"/>
            <a:chExt cx="4172040" cy="533160"/>
          </a:xfrm>
        </p:grpSpPr>
        <p:sp>
          <p:nvSpPr>
            <p:cNvPr id="165" name="Oval 23"/>
            <p:cNvSpPr/>
            <p:nvPr/>
          </p:nvSpPr>
          <p:spPr>
            <a:xfrm>
              <a:off x="6435720" y="464832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2863800" y="4692600"/>
              <a:ext cx="507960" cy="406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6"/>
            <p:cNvSpPr/>
            <p:nvPr/>
          </p:nvSpPr>
          <p:spPr>
            <a:xfrm>
              <a:off x="4594320" y="4692600"/>
              <a:ext cx="507960" cy="406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The Role of Teacher Modeling and Student Practice in Student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61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arly Learning in Mathematics (EL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year randomized efficacy control 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ing the efficacy of a kindergarten mathematics curriculum in Oregon and Tex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Research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ized Controlled Block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rooms within school matched on full / half day and randomly assigned to treatment (ELM) or contro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elm LOGO+tiff.tiff"/>
          <p:cNvPicPr/>
          <p:nvPr/>
        </p:nvPicPr>
        <p:blipFill>
          <a:blip r:embed="rId1"/>
          <a:srcRect l="-32083" t="0" r="-32083" b="0"/>
          <a:stretch/>
        </p:blipFill>
        <p:spPr>
          <a:xfrm>
            <a:off x="6645240" y="3187800"/>
            <a:ext cx="295596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C3A8F-8962-4D76-8CB0-D6EA7E531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reliminary Medi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rate of teacher models or student practice opportunities mediate condition eff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s of (a) teacher models, (b) student group practice opportunity and (c) individual student practice opportunities entered as mediators to determine if they decreased condition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 effect was still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vidence to support this mediation hypothe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econdar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tudent practice overall is not mediating impact, perhaps the value (quality) of practice differs by classroom and is related to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teraction between Rate of Practice and Con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condition do rates of practice opportunities show the same pattern of impact on student outco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reatment – control differences on student outcomes similar in classrooms with high rates of practice vs. low rates of prac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teraction between Rate of Practice and Con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Classrooms by Treatment Condition and Median Rate of Individual and Group Practice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Opportunity Quartiles in Rate per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48320" y="1600200"/>
          <a:ext cx="4038480" cy="4622760"/>
        </p:xfrm>
        <a:graphic>
          <a:graphicData uri="http://schemas.openxmlformats.org/drawingml/2006/table">
            <a:tbl>
              <a:tblPr/>
              <a:tblGrid>
                <a:gridCol w="1190520"/>
                <a:gridCol w="949320"/>
                <a:gridCol w="949320"/>
                <a:gridCol w="949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ve 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w 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TEMA Scores by Rate of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ELM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practice classrooms outperform low-practice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2.59, t = 2.58, df = 29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 = 0.015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ontrol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ifference between high- and low-practice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0.39, t = 0.31, df = 29, p = .757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lassrooms with an above-median practic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M classrooms (might) outperform control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2.33, t = 1.85, df = 29, p = .07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lassrooms with a below-median practic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ifference between ELM and control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0.14, t = 0.14, df = 29, p = .89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N-CBM Scores by Rate of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ELM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ifference between high- and low-practice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9.83, t = 1.46, df = 29, p = 0.15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ontrol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ifference between high- and low-practice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-7.59, t = -0.92, df = 29, p = .36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lassrooms with an above-median practic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M classrooms outperform control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19.37, t = 2.35, df = 29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 = .02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lassrooms with a below-median practic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ifference between ELM and control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1.95, t = 0.29, df = 29, p = .77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just completed implementation of Study 1 in Dallas, Tex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just completed implementation of Study 2 in Ore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implement Study 2 in Dallas, Texas in 2010-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going analysis to investigate impact of condition and mediation and moderation variables associated with impa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rpose of the 4-year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udy 1: Efficacy trial of the whole group curriculum (ELM) on kindergarten students’ mathematics 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2: Efficacy trial of small group ELM component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o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on the achievement of at-risk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ine potential mediation variables, dose-response variables, and moderat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tructure of the 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2080" y="17521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Calendar Lessons /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utes daily, whole class “circle”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thly booklets with objectives and applica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0 Core Lessons divided into 4 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 minutes whole class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utes teacher directed written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quarter assessment of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LM Instructional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Math Advisory Panel (2008) recommends a focused, coherent progression of mathematics learning with emphasis on proficiency with key top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M focuses on key strands rather than a broad array of mathematical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s and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ulary (NCTM Process Standard, 2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5715000" y="50990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TM Curriculum Focal Points for K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Brace 12"/>
          <p:cNvSpPr/>
          <p:nvPr/>
        </p:nvSpPr>
        <p:spPr>
          <a:xfrm>
            <a:off x="5143680" y="4673520"/>
            <a:ext cx="838080" cy="144792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1447920"/>
              <a:gd name="textAreaBottom" fmla="*/ 14263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1"/>
                  <a:pt x="10800" y="1042"/>
                </a:cubicBezTo>
                <a:lnTo>
                  <a:pt x="10800" y="9758"/>
                </a:lnTo>
                <a:cubicBezTo>
                  <a:pt x="10800" y="10279"/>
                  <a:pt x="16200" y="10800"/>
                  <a:pt x="21600" y="10800"/>
                </a:cubicBezTo>
                <a:cubicBezTo>
                  <a:pt x="16200" y="10800"/>
                  <a:pt x="10800" y="11321"/>
                  <a:pt x="10800" y="11842"/>
                </a:cubicBezTo>
                <a:lnTo>
                  <a:pt x="10800" y="20558"/>
                </a:lnTo>
                <a:cubicBezTo>
                  <a:pt x="10800" y="2107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3200400" y="1523880"/>
          <a:ext cx="594360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594360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5680" y="304920"/>
            <a:ext cx="84405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LM 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1981080" y="1617840"/>
            <a:ext cx="5791320" cy="4782960"/>
            <a:chOff x="1981080" y="1617840"/>
            <a:chExt cx="5791320" cy="4782960"/>
          </a:xfrm>
        </p:grpSpPr>
        <p:sp>
          <p:nvSpPr>
            <p:cNvPr id="68" name="Oval 5"/>
            <p:cNvSpPr/>
            <p:nvPr/>
          </p:nvSpPr>
          <p:spPr>
            <a:xfrm>
              <a:off x="1981080" y="1617840"/>
              <a:ext cx="3105360" cy="2869920"/>
            </a:xfrm>
            <a:prstGeom prst="ellipse">
              <a:avLst/>
            </a:prstGeom>
            <a:solidFill>
              <a:srgbClr val="ff66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velopment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themat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cepts /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4667040" y="1617840"/>
              <a:ext cx="3105360" cy="2870280"/>
            </a:xfrm>
            <a:prstGeom prst="ellipse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thematics-rel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ocabulary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s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6"/>
            <p:cNvSpPr/>
            <p:nvPr/>
          </p:nvSpPr>
          <p:spPr>
            <a:xfrm>
              <a:off x="3323880" y="3530880"/>
              <a:ext cx="3105360" cy="2869920"/>
            </a:xfrm>
            <a:prstGeom prst="ellipse">
              <a:avLst/>
            </a:prstGeom>
            <a:solidFill>
              <a:srgbClr val="008000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cedural Flu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Calibri"/>
              </a:rPr>
              <a:t>Research ques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immediate impact of ELM taught in general education kindergarten classrooms on mathematics achievement compared to standard district practi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mpact moderated by student level of risk for mathematics difficul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rate of teacher models or student practice opportunities mediate a condition eff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re evidence of an interaction between condition and student practice on student outcom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Calibri"/>
              </a:rPr>
              <a:t>Study Samp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 at the classroom level blocked on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cts =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s  = 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 classrooms = 3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classrooms =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nested in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class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1,3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9:43:33Z</dcterms:created>
  <dc:creator>Scott Baker</dc:creator>
  <dc:description/>
  <dc:language>en-US</dc:language>
  <cp:lastModifiedBy>Jdabrowski</cp:lastModifiedBy>
  <dcterms:modified xsi:type="dcterms:W3CDTF">2010-07-02T16:14:40Z</dcterms:modified>
  <cp:revision>98</cp:revision>
  <dc:subject/>
  <dc:title>Title </dc:title>
</cp:coreProperties>
</file>