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62592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72EC6-954D-4EFB-9266-8028C94CBA14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625920" y="8249760"/>
            <a:ext cx="277344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459CD-A176-4299-B3A7-1E675A5F46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731ED-199A-4A89-AC74-7E6B7E7538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7265E-2BF0-4B14-8C91-6E95BB02D7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F211F-7880-4431-88AC-9FFB2DEFCF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C71CE-5A3D-4E59-8A6D-BABA7A62D9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C11FD-9F2D-402F-B99F-AC7188CADB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5BB1A-A428-4477-B7AB-4CB57C235C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42A33-50A3-4563-8A73-DAB962DC8C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89977-7423-42E0-BD5F-08E2A29C38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91B57-DD86-4CCC-89B8-CF95F74C3D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6411-62E1-4971-9AFF-0E694E1400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47B5F-44F2-43ED-805D-BC8887F43F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66C97-832C-4079-91F4-184E9DBE6C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8FD9B-B46F-49E0-9A93-C2560CEDC57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E81FF-F3F8-45A5-B66F-D7743BCE18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7141C-2FD5-44CF-909B-1787BCABCE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A7DEE-A940-4CD1-85D1-96392B5B3B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359B7-B72B-41E4-9B34-9BB59967A7A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2BB82-7277-4EB8-8591-4C85FC1DF1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8E965-B999-47C5-A814-C402372468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evidence of effective instruction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who are modeling 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academic feed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53B9F-7577-4DE9-BEFB-7B416C3341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050CD-1268-47CB-8303-6F71021D8F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F39FC-EFE2-4D22-9F79-9BF687410E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259E5-E43F-49D3-B5F6-49C6985992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A8CE-D57D-4376-9CB1-36C0BFBEAF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E7E6D-9383-4E31-9756-4C98DEF16F8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662B4-997C-48E2-87C4-BC5000F410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8FF01-0900-438F-9943-19E2FFF5C8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BFA4F-B154-485A-A496-725B2B5733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9D4D1-8A76-4BDF-9F90-A2AAC13349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5E513-1213-4DE7-8B7D-0F8113C46A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750CC-3F63-4074-A3E3-E89FFB5AD4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big ideas in the research related to math instruction anchors the ELM Curricul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91BD7-7AF8-4ED1-A1A2-2D99C23F17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AC9D5-FA5C-417C-9708-298AAB8B25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39720" y="4125600"/>
            <a:ext cx="5121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625920" y="8250120"/>
            <a:ext cx="2773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DB54B-B9E1-45E0-9EF1-E6B07EA644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939-21A8-4C4C-BFB6-AC31AED0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5C1-23FA-4E57-86B2-DEBCB39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97F-B420-47B6-8ED4-804A02B8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FF7-F33A-4715-AE0A-7422B764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613-6B72-4FFF-847C-A4F0195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5F0-4E6A-441A-B73D-C92515E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829-A4E4-48A5-9111-8D653358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159-DC60-4481-B1FB-6806A751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EE8-6C13-41E0-8AB4-E0B9FFB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465-3036-4409-8378-3FF7B9F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58E-7024-4515-B550-C5E6962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5A3-45BD-4614-835C-9B3A562C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F0BF7-B1FC-43D6-A222-4B9397A3C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4AB2D-1DCD-4262-B357-B07DDECE8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arly Learning in Mathematics (ELM)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Efficacy of a Kindergarten Curriculum Implemented in Whole Classroom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9040" y="232884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cott K. Baker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 / University of Oreg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n Clarke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k Fien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ith Smolkowski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regon Research Institut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hris Doabler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cific Institutes for Researc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vid Chard, Ph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thern Methodist Univers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1f497d"/>
                </a:solidFill>
                <a:latin typeface="Calibri"/>
              </a:rPr>
              <a:t>IES Conference June 201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udent Demo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6.3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gible for free or reduced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ish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.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6.4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8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an / Pacific Isla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781200" y="1036800"/>
            <a:ext cx="7710480" cy="5260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760680" y="1438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976480" y="1438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90752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07760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0"/>
          <p:cNvSpPr/>
          <p:nvPr/>
        </p:nvSpPr>
        <p:spPr>
          <a:xfrm flipV="1">
            <a:off x="6393600" y="3663720"/>
            <a:ext cx="567000" cy="88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2"/>
          <p:cNvSpPr/>
          <p:nvPr/>
        </p:nvSpPr>
        <p:spPr>
          <a:xfrm>
            <a:off x="6393600" y="2857680"/>
            <a:ext cx="567000" cy="80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289440" y="203040"/>
            <a:ext cx="86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Hypothesized Model of ELM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2"/>
          <p:cNvCxnSpPr/>
          <p:nvPr/>
        </p:nvCxnSpPr>
        <p:spPr>
          <a:xfrm>
            <a:off x="2333160" y="3664080"/>
            <a:ext cx="545400" cy="100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pSp>
        <p:nvGrpSpPr>
          <p:cNvPr id="86" name="Group 15"/>
          <p:cNvGrpSpPr/>
          <p:nvPr/>
        </p:nvGrpSpPr>
        <p:grpSpPr>
          <a:xfrm>
            <a:off x="4307040" y="2857320"/>
            <a:ext cx="519480" cy="1524240"/>
            <a:chOff x="4307040" y="2857320"/>
            <a:chExt cx="519480" cy="1524240"/>
          </a:xfrm>
        </p:grpSpPr>
        <p:cxnSp>
          <p:nvCxnSpPr>
            <p:cNvPr id="87" name="Straight Arrow Connector 14"/>
            <p:cNvCxnSpPr/>
            <p:nvPr/>
          </p:nvCxnSpPr>
          <p:spPr>
            <a:xfrm flipV="1">
              <a:off x="4307040" y="2857320"/>
              <a:ext cx="519840" cy="77544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88" name="Straight Arrow Connector 19"/>
            <p:cNvCxnSpPr/>
            <p:nvPr/>
          </p:nvCxnSpPr>
          <p:spPr>
            <a:xfrm>
              <a:off x="4307040" y="3632400"/>
              <a:ext cx="519840" cy="216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89" name="Straight Arrow Connector 25"/>
            <p:cNvCxnSpPr/>
            <p:nvPr/>
          </p:nvCxnSpPr>
          <p:spPr>
            <a:xfrm>
              <a:off x="4307040" y="3632040"/>
              <a:ext cx="519840" cy="74988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</p:grpSp>
      <p:cxnSp>
        <p:nvCxnSpPr>
          <p:cNvPr id="90" name="Straight Arrow Connector 27"/>
          <p:cNvCxnSpPr/>
          <p:nvPr/>
        </p:nvCxnSpPr>
        <p:spPr>
          <a:xfrm>
            <a:off x="6393960" y="3673080"/>
            <a:ext cx="56772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criptive data on im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fidelity observations – treatment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room observations focusing on instructional interactions – treatment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logs addressing content coverage – treatment and control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mplementation Fide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ratings (8 i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skills/concepts appropriately and with 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s students in learning throughout the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ELM / completes all lesson activities (dichotomo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or each ELM activity (range 1-7 per lesson): Full (2) / Partial (1) / Not Taught (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mplementation Fidelity Data: ELM Lesson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8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1 ELM (fidelity) observations during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71 (SD = .1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65 (SD = .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 = 1.62 (SD = .4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 = 1.65 (SD = .36) (83% of Fu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of 81 lessons had a mean below Partial (1) level o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udent measures of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of Early Mathematics Ability (TE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Numeracy – C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l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y Discr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ing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ethod and Analysi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ing curricu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students received i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balanced across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risk (some or high ris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6% of student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ris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4% of student s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Nested Time × Condi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come: net differences from pre to p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sted students within classroo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 for nonindependence (e.g., ICC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s for teacher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ximum likelihood (restrict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des all cases with data at either T1 or T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s bias from miss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ration added Time × Risk × Condition inter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ffect sizes: Hedges’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ample Means, SDs, and 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232160"/>
        </p:xfrm>
        <a:graphic>
          <a:graphicData uri="http://schemas.openxmlformats.org/drawingml/2006/table">
            <a:tbl>
              <a:tblPr/>
              <a:tblGrid>
                <a:gridCol w="1905120"/>
                <a:gridCol w="83808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  (6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8 (7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1 (6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 (6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  (6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1 (7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6 (8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 (8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Percen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5 (16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1 (17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 (11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4 (11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4 (18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1 (20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5 (23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 (22.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M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3 (4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7 (43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 (32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 (3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 (3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.9 (38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4 (50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 (50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tandard deviations (SDs) presented in parentheses. For students with some risk at T1, we collected TEMAs from 53 fewer students in ELM classrooms and 48 fewer students in control classroo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A Percentile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Gains by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: 10.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: 14.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: 3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of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2.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f = 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.03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= +0.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 differences were not statistically significant (t = 0.5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Institute of Education Sc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 reported here was supported by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titute of Education Sci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.S. Department of Education, through Goal 2 development grant, #R305K040081, and a Goal 3 efficacy grant, #R305A080114, to Pacific Institutes for Research. The opinions expressed are those of the authors and do not represent  views of the Institute or the U.S. Department of Educ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ditional Oregon Project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athy Jungjohann / Karen Davi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iculum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i Strand Cary / Rhonda Griffith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ordination and resea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ris Doabler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measurement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BM Total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Gains by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: 77.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: 84.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: 7.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of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1.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f = 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= .05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= +0.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 differences were not statistically significant (t = 0.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EMA Raw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ndition by Risk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 in gains: 1.3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41, df = 61, p = .019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dition by Risk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47, df = 61, p = .016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isk ≥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0.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0.51, df = 61, p = .958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1.9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3.29, df = 61, p = .001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BM Total Scores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ndition by Risk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 in gains: 7.6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1.99, df = 61, p = .05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dition by Risk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= 2.24, df = 61, p = .02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isk ≥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-0.2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-0.05, df = 61, p = .957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&lt; 4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fference in gains: 10.8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 = 2.54, df = 61, p = .013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ffect Sizes (Hedges’ 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g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50960"/>
          <a:ext cx="8229600" cy="2514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At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 Ris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 Raw S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242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-CBM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.215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9"/>
          <p:cNvSpPr/>
          <p:nvPr/>
        </p:nvSpPr>
        <p:spPr>
          <a:xfrm>
            <a:off x="468720" y="441972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 &lt; .05; **p &lt; 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M classrooms outperformed contro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A raw and percentile sc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-CBM To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at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on all measures more than no-risk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students at risk catching up on no-risk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A: 14.0 percentile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-CBM: 9.6 point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M students at risk catching no-risk students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A: 18.6 percentile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-CBM: 20.63 point gain on no-risk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 condition effects for students with no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Diagram 1" descr=""/>
          <p:cNvPicPr/>
          <p:nvPr/>
        </p:nvPicPr>
        <p:blipFill>
          <a:blip r:embed="rId1"/>
          <a:stretch/>
        </p:blipFill>
        <p:spPr>
          <a:xfrm>
            <a:off x="762120" y="1152360"/>
            <a:ext cx="7705440" cy="5261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760680" y="1438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825640" y="1438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0752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077600" y="143820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"/>
          <p:cNvSpPr/>
          <p:nvPr/>
        </p:nvSpPr>
        <p:spPr>
          <a:xfrm flipV="1">
            <a:off x="6393600" y="3663720"/>
            <a:ext cx="567000" cy="88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2"/>
          <p:cNvSpPr/>
          <p:nvPr/>
        </p:nvSpPr>
        <p:spPr>
          <a:xfrm>
            <a:off x="6393600" y="2857680"/>
            <a:ext cx="567000" cy="80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621000" y="20304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reliminary Analysis of Association between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Observation Data and Student Out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12"/>
          <p:cNvCxnSpPr/>
          <p:nvPr/>
        </p:nvCxnSpPr>
        <p:spPr>
          <a:xfrm>
            <a:off x="2333160" y="3664080"/>
            <a:ext cx="545400" cy="100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pSp>
        <p:nvGrpSpPr>
          <p:cNvPr id="131" name="Group 15"/>
          <p:cNvGrpSpPr/>
          <p:nvPr/>
        </p:nvGrpSpPr>
        <p:grpSpPr>
          <a:xfrm>
            <a:off x="4307040" y="2857320"/>
            <a:ext cx="519480" cy="1524240"/>
            <a:chOff x="4307040" y="2857320"/>
            <a:chExt cx="519480" cy="1524240"/>
          </a:xfrm>
        </p:grpSpPr>
        <p:cxnSp>
          <p:nvCxnSpPr>
            <p:cNvPr id="132" name="Straight Arrow Connector 14"/>
            <p:cNvCxnSpPr/>
            <p:nvPr/>
          </p:nvCxnSpPr>
          <p:spPr>
            <a:xfrm flipV="1">
              <a:off x="4307040" y="2857320"/>
              <a:ext cx="519840" cy="77544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33" name="Straight Arrow Connector 19"/>
            <p:cNvCxnSpPr/>
            <p:nvPr/>
          </p:nvCxnSpPr>
          <p:spPr>
            <a:xfrm>
              <a:off x="4307040" y="3632400"/>
              <a:ext cx="519840" cy="216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34" name="Straight Arrow Connector 25"/>
            <p:cNvCxnSpPr/>
            <p:nvPr/>
          </p:nvCxnSpPr>
          <p:spPr>
            <a:xfrm>
              <a:off x="4307040" y="3632040"/>
              <a:ext cx="519840" cy="749880"/>
            </a:xfrm>
            <a:prstGeom prst="straightConnector1">
              <a:avLst/>
            </a:prstGeom>
            <a:ln w="25560">
              <a:solidFill>
                <a:srgbClr val="008000"/>
              </a:solidFill>
              <a:miter/>
              <a:tailEnd len="med" type="arrow" w="med"/>
            </a:ln>
          </p:spPr>
        </p:cxnSp>
      </p:grpSp>
      <p:cxnSp>
        <p:nvCxnSpPr>
          <p:cNvPr id="135" name="Straight Arrow Connector 27"/>
          <p:cNvCxnSpPr/>
          <p:nvPr/>
        </p:nvCxnSpPr>
        <p:spPr>
          <a:xfrm>
            <a:off x="6393960" y="3673080"/>
            <a:ext cx="56772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ding of Academic Teacher-Student Interactions (CATS) Observation Instru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S uses a frequency count approach to measure teacher-student instructional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servers code behavior occurrences in a continual, serial fash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zes a strict coding structur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ATS based on evidence of effective instruction in early literacy and beginning mathematics, and adapted from the STICO observation instrument (Smolkowski &amp; Gunn, 2010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2E1AC-F73B-4DD1-85C4-E69F735AF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3546360"/>
          <a:ext cx="6096240" cy="1560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vert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t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c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5"/>
          <p:cNvSpPr/>
          <p:nvPr/>
        </p:nvSpPr>
        <p:spPr>
          <a:xfrm>
            <a:off x="1523880" y="3505320"/>
            <a:ext cx="6096240" cy="119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533520" y="2400480"/>
            <a:ext cx="7880400" cy="3187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1920600" y="357120"/>
            <a:ext cx="53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Hypothetical Case of a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Instruction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1100160" y="317520"/>
            <a:ext cx="6791400" cy="62229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7"/>
          <p:cNvGrpSpPr/>
          <p:nvPr/>
        </p:nvGrpSpPr>
        <p:grpSpPr>
          <a:xfrm>
            <a:off x="2816280" y="1746360"/>
            <a:ext cx="4219560" cy="533160"/>
            <a:chOff x="2816280" y="1746360"/>
            <a:chExt cx="4219560" cy="533160"/>
          </a:xfrm>
        </p:grpSpPr>
        <p:sp>
          <p:nvSpPr>
            <p:cNvPr id="145" name="Oval 2"/>
            <p:cNvSpPr/>
            <p:nvPr/>
          </p:nvSpPr>
          <p:spPr>
            <a:xfrm>
              <a:off x="281628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"/>
            <p:cNvSpPr/>
            <p:nvPr/>
          </p:nvSpPr>
          <p:spPr>
            <a:xfrm>
              <a:off x="455616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"/>
            <p:cNvSpPr/>
            <p:nvPr/>
          </p:nvSpPr>
          <p:spPr>
            <a:xfrm>
              <a:off x="6435720" y="174636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2825640" y="2400480"/>
            <a:ext cx="4210200" cy="533160"/>
            <a:chOff x="2825640" y="2400480"/>
            <a:chExt cx="4210200" cy="533160"/>
          </a:xfrm>
        </p:grpSpPr>
        <p:sp>
          <p:nvSpPr>
            <p:cNvPr id="149" name="Oval 6"/>
            <p:cNvSpPr/>
            <p:nvPr/>
          </p:nvSpPr>
          <p:spPr>
            <a:xfrm>
              <a:off x="282564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455616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6435720" y="24004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2825640" y="3098880"/>
            <a:ext cx="4210200" cy="533160"/>
            <a:chOff x="2825640" y="3098880"/>
            <a:chExt cx="4210200" cy="533160"/>
          </a:xfrm>
        </p:grpSpPr>
        <p:sp>
          <p:nvSpPr>
            <p:cNvPr id="153" name="Oval 10"/>
            <p:cNvSpPr/>
            <p:nvPr/>
          </p:nvSpPr>
          <p:spPr>
            <a:xfrm>
              <a:off x="282564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"/>
            <p:cNvSpPr/>
            <p:nvPr/>
          </p:nvSpPr>
          <p:spPr>
            <a:xfrm>
              <a:off x="455616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2"/>
            <p:cNvSpPr/>
            <p:nvPr/>
          </p:nvSpPr>
          <p:spPr>
            <a:xfrm>
              <a:off x="6435720" y="309888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2"/>
          <p:cNvGrpSpPr/>
          <p:nvPr/>
        </p:nvGrpSpPr>
        <p:grpSpPr>
          <a:xfrm>
            <a:off x="2825640" y="3987720"/>
            <a:ext cx="4210200" cy="533520"/>
            <a:chOff x="2825640" y="3987720"/>
            <a:chExt cx="4210200" cy="533520"/>
          </a:xfrm>
        </p:grpSpPr>
        <p:sp>
          <p:nvSpPr>
            <p:cNvPr id="157" name="Oval 13"/>
            <p:cNvSpPr/>
            <p:nvPr/>
          </p:nvSpPr>
          <p:spPr>
            <a:xfrm>
              <a:off x="282564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455616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6435720" y="398772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2901960" y="5321160"/>
            <a:ext cx="4133880" cy="533520"/>
            <a:chOff x="2901960" y="5321160"/>
            <a:chExt cx="4133880" cy="533520"/>
          </a:xfrm>
        </p:grpSpPr>
        <p:sp>
          <p:nvSpPr>
            <p:cNvPr id="161" name="Oval 16"/>
            <p:cNvSpPr/>
            <p:nvPr/>
          </p:nvSpPr>
          <p:spPr>
            <a:xfrm>
              <a:off x="290196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55616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6435720" y="5321160"/>
              <a:ext cx="600120" cy="5335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7"/>
          <p:cNvGrpSpPr/>
          <p:nvPr/>
        </p:nvGrpSpPr>
        <p:grpSpPr>
          <a:xfrm>
            <a:off x="2863800" y="4648320"/>
            <a:ext cx="4172040" cy="533160"/>
            <a:chOff x="2863800" y="4648320"/>
            <a:chExt cx="4172040" cy="533160"/>
          </a:xfrm>
        </p:grpSpPr>
        <p:sp>
          <p:nvSpPr>
            <p:cNvPr id="165" name="Oval 23"/>
            <p:cNvSpPr/>
            <p:nvPr/>
          </p:nvSpPr>
          <p:spPr>
            <a:xfrm>
              <a:off x="6435720" y="4648320"/>
              <a:ext cx="600120" cy="533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2863800" y="4692600"/>
              <a:ext cx="507960" cy="406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6"/>
            <p:cNvSpPr/>
            <p:nvPr/>
          </p:nvSpPr>
          <p:spPr>
            <a:xfrm>
              <a:off x="4594320" y="4692600"/>
              <a:ext cx="507960" cy="406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e Role of Teacher Modeling and Student Practice in Student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6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arly Learning in Mathematics (EL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year randomized efficacy control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ing the efficacy of a kindergarten mathematics curriculum in Oregon and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Research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d Controlled Block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s within school matched on full / half day and randomly assigned to treatment (ELM) or contro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lm LOGO+tiff.tiff"/>
          <p:cNvPicPr/>
          <p:nvPr/>
        </p:nvPicPr>
        <p:blipFill>
          <a:blip r:embed="rId1"/>
          <a:srcRect l="-32083" t="0" r="-32083" b="0"/>
          <a:stretch/>
        </p:blipFill>
        <p:spPr>
          <a:xfrm>
            <a:off x="6645240" y="3187800"/>
            <a:ext cx="29559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942A1-8356-4068-95F7-823EF1847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reliminary Medi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ate of teacher models or student practice opportunities mediate condition eff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s of (a) teacher models, (b) student group practice opportunity and (c) individual student practice opportunities entered as mediators to determine if they decreased condition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 effect was still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vidence to support this mediation hypoth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econda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tudent practice overall is not mediating impact, perhaps the value (quality) of practice differs by classroom and is related to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teraction between Rate of Practice and Con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ondition do rates of practice opportunities show the same pattern of impact on student outco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reatment – control differences on student outcomes similar in classrooms with high rates of practice vs. low rates of prac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teraction between Rate of Practice and Con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Classrooms by Treatment Condition and Median Rate of Individual and Group Practice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Opportunity Quartiles in Rate per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48320" y="1600200"/>
          <a:ext cx="4038480" cy="4622760"/>
        </p:xfrm>
        <a:graphic>
          <a:graphicData uri="http://schemas.openxmlformats.org/drawingml/2006/table">
            <a:tbl>
              <a:tblPr/>
              <a:tblGrid>
                <a:gridCol w="1190520"/>
                <a:gridCol w="949320"/>
                <a:gridCol w="949320"/>
                <a:gridCol w="94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ve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w 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EMA Scores by Rat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ELM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practice classrooms outperform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2.59, t = 2.58, df = 29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 = 0.01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ro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0.39, t = 0.31, df = 29, p = .75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n above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M classrooms (might) outperform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2.33, t = 1.85, df = 29, p = .07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 below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ELM and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0.14, t = 0.14, df = 29, p = .89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N-CBM Scores by Rate of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ELM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9.83, t = 1.46, df = 29, p = 0.15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ro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high- and low-practice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-7.59, t = -0.92, df = 29, p = .36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n above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M classrooms outperform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19.37, t = 2.35, df = 29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 = .02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lassrooms with a below-median practic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difference between ELM and control classro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 = 1.95, t = 0.29, df = 29, p = .77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just completed implementation of Study 1 in Dallas,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just completed implementation of Study 2 in Ore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implement Study 2 in Dallas, Texas in 2010-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going analysis to investigate impact of condition and mediation and moderation variables associated with impa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rpose of the 4-yea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y 1: Efficacy trial of the whole group curriculum (ELM) on kindergarten students’ mathematics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2: Efficacy trial of small group ELM component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on the achievement of at-risk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ine potential mediation variables, dose-response variables, and moder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tructure of the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08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Calendar Lessons /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utes daily, whole class “circle”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thly booklets with objectives and applic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 Core Lessons divided into 4 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minutes whole class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utes teacher directed written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quarter assessment of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LM Instructional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Math Advisory Panel (2008) recommends a focused, coherent progression of mathematics learning with emphasis on proficiency with key t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M focuses on key strands rather than a broad array of mathematical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s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ulary (NCTM Process Standard, 2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715000" y="50990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TM Curriculum Focal Points for K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Brace 12"/>
          <p:cNvSpPr/>
          <p:nvPr/>
        </p:nvSpPr>
        <p:spPr>
          <a:xfrm>
            <a:off x="5143680" y="467352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447920"/>
              <a:gd name="textAreaBottom" fmla="*/ 1426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1"/>
                  <a:pt x="10800" y="1042"/>
                </a:cubicBezTo>
                <a:lnTo>
                  <a:pt x="10800" y="9758"/>
                </a:lnTo>
                <a:cubicBezTo>
                  <a:pt x="10800" y="10279"/>
                  <a:pt x="16200" y="10800"/>
                  <a:pt x="21600" y="10800"/>
                </a:cubicBezTo>
                <a:cubicBezTo>
                  <a:pt x="16200" y="10800"/>
                  <a:pt x="10800" y="11321"/>
                  <a:pt x="10800" y="11842"/>
                </a:cubicBezTo>
                <a:lnTo>
                  <a:pt x="10800" y="20558"/>
                </a:lnTo>
                <a:cubicBezTo>
                  <a:pt x="10800" y="2107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3200400" y="1523880"/>
          <a:ext cx="594360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594360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680" y="304920"/>
            <a:ext cx="8440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LM 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1981080" y="1617840"/>
            <a:ext cx="5791320" cy="4782960"/>
            <a:chOff x="1981080" y="1617840"/>
            <a:chExt cx="5791320" cy="4782960"/>
          </a:xfrm>
        </p:grpSpPr>
        <p:sp>
          <p:nvSpPr>
            <p:cNvPr id="68" name="Oval 5"/>
            <p:cNvSpPr/>
            <p:nvPr/>
          </p:nvSpPr>
          <p:spPr>
            <a:xfrm>
              <a:off x="1981080" y="1617840"/>
              <a:ext cx="3105360" cy="2869920"/>
            </a:xfrm>
            <a:prstGeom prst="ellipse">
              <a:avLst/>
            </a:prstGeom>
            <a:solidFill>
              <a:srgbClr val="ff66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velopment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hemat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cepts /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4667040" y="1617840"/>
              <a:ext cx="3105360" cy="2870280"/>
            </a:xfrm>
            <a:prstGeom prst="ellipse">
              <a:avLst/>
            </a:prstGeom>
            <a:solidFill>
              <a:srgbClr val="ffff00">
                <a:alpha val="43000"/>
              </a:srgbClr>
            </a:soli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hematics-rel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ocabulary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s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3323880" y="3530880"/>
              <a:ext cx="3105360" cy="2869920"/>
            </a:xfrm>
            <a:prstGeom prst="ellipse">
              <a:avLst/>
            </a:prstGeom>
            <a:solidFill>
              <a:srgbClr val="008000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cedural Flu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Research ques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immediate impact of ELM taught in general education kindergarten classrooms on mathematics achievement compared to standard district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mpact moderated by student level of risk for mathematics difficul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rate of teacher models or student practice opportunities mediate a condition e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evidence of an interaction between condition and student practice on student outco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Study Samp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at the classroom level blocked on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s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s  =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classrooms = 3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classrooms =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nested in classro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class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1,3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9:43:33Z</dcterms:created>
  <dc:creator>Scott Baker</dc:creator>
  <dc:description/>
  <dc:language>en-US</dc:language>
  <cp:lastModifiedBy>Jdabrowski</cp:lastModifiedBy>
  <dcterms:modified xsi:type="dcterms:W3CDTF">2010-07-02T16:14:40Z</dcterms:modified>
  <cp:revision>98</cp:revision>
  <dc:subject/>
  <dc:title>Title </dc:title>
</cp:coreProperties>
</file>