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4EB6-C65F-4CAD-8953-D3F21F5CC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1F72-9EC7-4D90-A67E-09CF3AB11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94F0-C2B6-4A4F-974B-79BA4B2F5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C64A-E3C0-41E5-97C1-1DFF761FE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3812-1A86-4EA9-BFF8-25F453555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2BA5-A4F8-4353-B7E3-44A933D69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19C0-9BA6-40FF-89F2-507BC74BC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14AA-66B0-43CB-B0B7-C709CDC6A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7EF3-EEAF-4DA5-A62F-5C3536CA6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3915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3915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7" descr="smallicon2"/>
          <p:cNvPicPr/>
          <p:nvPr/>
        </p:nvPicPr>
        <p:blipFill>
          <a:blip r:embed="rId2"/>
          <a:stretch/>
        </p:blipFill>
        <p:spPr>
          <a:xfrm>
            <a:off x="76320" y="6010200"/>
            <a:ext cx="688680" cy="77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2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" name="Picture 23" descr="abr_header3"/>
          <p:cNvPicPr/>
          <p:nvPr/>
        </p:nvPicPr>
        <p:blipFill>
          <a:blip r:embed="rId2"/>
          <a:stretch/>
        </p:blipFill>
        <p:spPr>
          <a:xfrm>
            <a:off x="152280" y="5791320"/>
            <a:ext cx="8610840" cy="87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3505320" y="4647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ostsecondaryresearch.org/" TargetMode="External"/><Relationship Id="rId2" Type="http://schemas.openxmlformats.org/officeDocument/2006/relationships/hyperlink" Target="mailto:ccrc@columbia.edu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The Promise of Developmental Summer Bridge Program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819160" y="3352320"/>
            <a:ext cx="56386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sabeth Barnett, Thomas Baile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NCPR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S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SUMMER 2009 BRIDGES: Students in the Sampl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1" name="Object 2"/>
          <p:cNvGraphicFramePr/>
          <p:nvPr/>
        </p:nvGraphicFramePr>
        <p:xfrm>
          <a:off x="1447920" y="1752480"/>
          <a:ext cx="6476760" cy="40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52480"/>
                    <a:ext cx="647676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bout the Students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4% Hispa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% Fe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 age - 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1% qualified for free/reduced lu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% heard about DSB from counselor; 21% from a fl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s for applying to DSB: attaining college level standing, improving skills, experiencing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SUMMER 2009 BRIDGE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Contact Hour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6" name="Object 2"/>
          <p:cNvGraphicFramePr/>
          <p:nvPr/>
        </p:nvGraphicFramePr>
        <p:xfrm>
          <a:off x="1628640" y="1773360"/>
          <a:ext cx="6562800" cy="444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773360"/>
                    <a:ext cx="656280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SUMMER 2009 BRIDGES: Subjects Studied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9" name="Object 2"/>
          <p:cNvGraphicFramePr/>
          <p:nvPr/>
        </p:nvGraphicFramePr>
        <p:xfrm>
          <a:off x="1498680" y="2135160"/>
          <a:ext cx="6603840" cy="387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8680" y="2135160"/>
                    <a:ext cx="660384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Subjects Studied</a:t>
            </a:r>
            <a:endParaRPr b="0" lang="en-US" sz="4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offered math; 5 offered both OR either math and Engl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ourse-based; some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ught by regular facul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iculum generally based on existing developmental edu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lasses were “leveled;” others were not. Both approaches were seen as v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SUMMER 2009 BRIDGE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College Knowledg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24" name="Object 2"/>
          <p:cNvGraphicFramePr/>
          <p:nvPr/>
        </p:nvGraphicFramePr>
        <p:xfrm>
          <a:off x="1214280" y="1684440"/>
          <a:ext cx="737892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684440"/>
                    <a:ext cx="737892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llege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used abbreviated student success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offered pres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ulty, mentors, and tutors played a 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inclu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ge applications and financial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seeking in col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college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SUMMER 2009 BRIDGE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Student Suppor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29" name="Object 2"/>
          <p:cNvGraphicFramePr/>
          <p:nvPr/>
        </p:nvGraphicFramePr>
        <p:xfrm>
          <a:off x="1065240" y="1833480"/>
          <a:ext cx="7740720" cy="47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833480"/>
                    <a:ext cx="774072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udent Support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colleges used men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 of training var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entoring was 1-1; some in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ors were older stud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grams offered tu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 time had different degrees of 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tors and tutors were generally impressive, but sometimes stretched th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received stip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Preliminary Implementation Finding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ge knowledge- provided formally and informally- is important for connecting and engaging stud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-based vs. non-course-based formats provided different experi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celerated format was important, yet challenging to imp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About the Center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tional Center for Postsecondary Research focuses on measuring the effectiveness of programs designed to help students make the transition to college and master the skills needed to advance to a deg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funding from IES of the U.S. Dept. of 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sed at CCRC, Teachers College, Columbia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D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y School of Education, University of Virgi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Curry_web"/>
          <p:cNvPicPr/>
          <p:nvPr/>
        </p:nvPicPr>
        <p:blipFill>
          <a:blip r:embed="rId1"/>
          <a:stretch/>
        </p:blipFill>
        <p:spPr>
          <a:xfrm>
            <a:off x="5715000" y="4952880"/>
            <a:ext cx="1490760" cy="787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MDRCsmallweb"/>
          <p:cNvPicPr/>
          <p:nvPr/>
        </p:nvPicPr>
        <p:blipFill>
          <a:blip r:embed="rId2"/>
          <a:stretch/>
        </p:blipFill>
        <p:spPr>
          <a:xfrm>
            <a:off x="3733920" y="5105520"/>
            <a:ext cx="1438200" cy="533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teal_ccrc_transweb"/>
          <p:cNvPicPr/>
          <p:nvPr/>
        </p:nvPicPr>
        <p:blipFill>
          <a:blip r:embed="rId3"/>
          <a:stretch/>
        </p:blipFill>
        <p:spPr>
          <a:xfrm>
            <a:off x="1676520" y="5105520"/>
            <a:ext cx="1544400" cy="5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838080" y="3049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Verdana"/>
              </a:rPr>
              <a:t>Random Assignment Design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514600" y="1447920"/>
            <a:ext cx="3505320" cy="520200"/>
          </a:xfrm>
          <a:prstGeom prst="rect">
            <a:avLst/>
          </a:prstGeom>
          <a:noFill/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Targeted students invited to participate in stu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143000" y="4876920"/>
            <a:ext cx="2193840" cy="755640"/>
          </a:xfrm>
          <a:prstGeom prst="rect">
            <a:avLst/>
          </a:prstGeom>
          <a:noFill/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rogram grou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Enrolled in enhanced programs and servic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181480" y="4876920"/>
            <a:ext cx="2057400" cy="991080"/>
          </a:xfrm>
          <a:prstGeom prst="rect">
            <a:avLst/>
          </a:prstGeom>
          <a:noFill/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Control grou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Received regular  courses and servic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4572000" y="4724280"/>
            <a:ext cx="549360" cy="373320"/>
          </a:xfrm>
          <a:custGeom>
            <a:avLst/>
            <a:gdLst>
              <a:gd name="textAreaLeft" fmla="*/ 0 w 549360"/>
              <a:gd name="textAreaRight" fmla="*/ 549720 w 54936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250" h="169">
                <a:moveTo>
                  <a:pt x="0" y="0"/>
                </a:moveTo>
                <a:lnTo>
                  <a:pt x="250" y="169"/>
                </a:lnTo>
              </a:path>
            </a:pathLst>
          </a:custGeom>
          <a:noFill/>
          <a:ln w="64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3124080" y="2971800"/>
            <a:ext cx="2210040" cy="307080"/>
          </a:xfrm>
          <a:prstGeom prst="rect">
            <a:avLst/>
          </a:prstGeom>
          <a:noFill/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Baseline data collect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4267080" y="3505320"/>
            <a:ext cx="0" cy="228600"/>
          </a:xfrm>
          <a:prstGeom prst="line">
            <a:avLst/>
          </a:prstGeom>
          <a:ln w="64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reeform 11"/>
          <p:cNvSpPr/>
          <p:nvPr/>
        </p:nvSpPr>
        <p:spPr>
          <a:xfrm>
            <a:off x="3352680" y="4724280"/>
            <a:ext cx="487440" cy="373320"/>
          </a:xfrm>
          <a:custGeom>
            <a:avLst/>
            <a:gdLst>
              <a:gd name="textAreaLeft" fmla="*/ 0 w 487440"/>
              <a:gd name="textAreaRight" fmla="*/ 487800 w 48744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215" h="162">
                <a:moveTo>
                  <a:pt x="215" y="0"/>
                </a:moveTo>
                <a:lnTo>
                  <a:pt x="135" y="61"/>
                </a:lnTo>
                <a:lnTo>
                  <a:pt x="0" y="162"/>
                </a:lnTo>
              </a:path>
            </a:pathLst>
          </a:custGeom>
          <a:noFill/>
          <a:ln w="64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3048120" y="2362320"/>
            <a:ext cx="2422440" cy="307080"/>
          </a:xfrm>
          <a:prstGeom prst="rect">
            <a:avLst/>
          </a:prstGeom>
          <a:noFill/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Students give con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4267080" y="2666880"/>
            <a:ext cx="0" cy="304920"/>
          </a:xfrm>
          <a:prstGeom prst="line">
            <a:avLst/>
          </a:prstGeom>
          <a:ln w="64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3581280" y="3733920"/>
            <a:ext cx="1371600" cy="1295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505320" y="403848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ndom Assign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426708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0" y="611280"/>
            <a:ext cx="7068960" cy="76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Outcomes of Interes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ge enrollmen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developmental cours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 accum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rollment status (FT, 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aid 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group analyses will also be done (income status, prior achiev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Preliminary Impact Finding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rst look at early findings: Program impacts on college enrollment in the fall of 2009, to be presented at the IES con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outcomes and longer follow-up will be presented in future rep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For more information: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visit us on the web 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www.PostsecondaryResearch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our latest resea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sign up for electronic announc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388620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ional Center for Postsecondary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achers College, Columbia Universit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25 West 120th Street, Box 174,  New York, NY 10027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cpr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columbia.ed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phone: (212) 678-309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914400" y="6248520"/>
            <a:ext cx="7924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NCPR is funded by the Institute of Education Sciences of the U.S. Department of Educa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  <a:ea typeface="华文仿宋"/>
              </a:rPr>
              <a:t>Developmental Educa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suggests that the current developmental education system does not work we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iley, 2009; Pusser &amp; Levin, 2009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students do not complete their developmental sequenc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alcagno, Crosta, Bailey, &amp; Davis, 20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placed into developmental education are less likely to complete colle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delman, 2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Placement into developmental education in community college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om NELS (1988-200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8 percent—at least one cour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4 percent—1 to 3 cour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4 percent—more than 3 cour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om ATD (2003-200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9 percent—at least one cour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Summer Bridge Program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history in higher edu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zar, 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tle research on effica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is grounded in literature on acceler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lodkowski &amp; Kasworm, 200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cial know-ho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il-Amen &amp; Rosenbaum, 2003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llege knowled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ley, 2005)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contextualiz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erin, 200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760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Developmental Summer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Bridge Study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ght colleges and universities around Tex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programs funded in part by THECB g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ontribute some college funds and received NCP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just completed high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need reme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texasmap copy"/>
          <p:cNvPicPr/>
          <p:nvPr/>
        </p:nvPicPr>
        <p:blipFill>
          <a:blip r:embed="rId1"/>
          <a:stretch/>
        </p:blipFill>
        <p:spPr>
          <a:xfrm>
            <a:off x="4952880" y="1600200"/>
            <a:ext cx="3810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84200" y="610920"/>
            <a:ext cx="7150320" cy="30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Bridge Programs in the Stud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 to six wee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celerated instruction in developmental math, English, and/or read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ademic and student services supp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llege knowledge” compon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 cohor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 stipend for complet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576000"/>
            <a:ext cx="7391520" cy="117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Verdana"/>
              </a:rPr>
              <a:t>Potential</a:t>
            </a: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 Benefits of Developmental Summer Bridge Program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need for developmental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ure to college and academic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 with college faculty and administ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cohorts of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pends to reduce need for summer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02840" y="576000"/>
            <a:ext cx="7231320" cy="30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The Research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ative (data source: interviews, classroom observations, focus groups, surve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the programs and students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challenges in implement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rogram design elements show promi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ative (data source: student data from Fall 2009 to Fall 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summer bridge programs reduce the need for developmental education and improve other college-related outcom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9:02:09Z</dcterms:created>
  <dc:creator>American Institutes for Research</dc:creator>
  <dc:description/>
  <dc:language>en-US</dc:language>
  <cp:lastModifiedBy>Jdabrowski</cp:lastModifiedBy>
  <dcterms:modified xsi:type="dcterms:W3CDTF">2010-07-01T18:44:06Z</dcterms:modified>
  <cp:revision>84</cp:revision>
  <dc:subject/>
  <dc:title>Higher Education Outcomes and Temporal Dependence</dc:title>
</cp:coreProperties>
</file>