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5B1-490F-44C6-B758-5CD6D518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8381-8A3D-4707-A0BE-06D29AC3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5A83-B66A-43F2-9B61-BFCE7F66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18C-6C6A-4223-9639-F5CF2835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3FD-A7C0-45E6-8BFB-DE4FE644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A0D-B7DD-4EE7-8EAB-B50986F4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D2DD-6FDB-4AA7-A8BA-DCCDE728A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F87-F141-4742-8143-8BD3CA354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1D5-AA7D-4D8D-AFA9-077F1A30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83B-985E-4215-BB46-F888AF6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C6F-219B-4EF7-9CEE-CA500EC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53B-11D6-4450-98E8-F1C9FD83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3C3-4CDC-4AEF-8FA0-2057F6DB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01C-76E7-43E4-80B2-E10F3A0B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DA5B-36AA-45C9-807F-86D05CFE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E6B1-7BC8-42A1-A630-0D0680E5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02EF-F566-46E4-B2B1-4E49ED8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9D5-7633-48C5-8A93-9B5BCB2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49FA-279D-4F5B-ACE5-64026A4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139F-C000-4BE9-8EEA-FDA4455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830-533E-42C7-A2CD-CCB454D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CBB-4E25-4CED-90BF-A3BFE42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AC01-E756-4D91-A6CA-1A3B61D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780-C206-4979-B3C7-8A5275DB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492-2FFB-4D5E-8613-EFC4B5C0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49B-F168-4E0E-A11C-781233BA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738-D991-46F4-9618-E4147B9F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2E0-4BE2-470C-9F9A-65463ED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E56-1DE7-4D8A-9F05-61DC7DE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D44-686B-46D4-AE72-83E6D40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6D5-5C93-43E4-8266-796F261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2C7-9265-4EE4-921F-E81A016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DC2-C0F3-44BC-A0F2-73B008A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84b00">
                  <a:alpha val="45098"/>
                </a:srgbClr>
              </a:gs>
              <a:gs pos="100000">
                <a:srgbClr val="9696a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a7a88">
                  <a:alpha val="45098"/>
                </a:srgbClr>
              </a:gs>
              <a:gs pos="100000">
                <a:srgbClr val="9e6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66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12B-A542-4EB7-BBB2-0BB9FA9749D8}" type="datetime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4E7-D8EC-4739-8182-7E0F0B9FBBDF}" type="slidenum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Rectangle 47"/>
          <p:cNvSpPr/>
          <p:nvPr/>
        </p:nvSpPr>
        <p:spPr>
          <a:xfrm>
            <a:off x="7142040" y="-44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84b00">
                  <a:alpha val="45098"/>
                </a:srgbClr>
              </a:gs>
              <a:gs pos="100000">
                <a:srgbClr val="9696a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a7a88">
                  <a:alpha val="45098"/>
                </a:srgbClr>
              </a:gs>
              <a:gs pos="100000">
                <a:srgbClr val="9e6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66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3EF-45BE-4A03-9910-E14008B2EB92}" type="datetime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56B8-3A3E-4C2B-8E33-B4CE68DFA7F1}" type="slidenum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7" descr=""/>
          <p:cNvPicPr/>
          <p:nvPr/>
        </p:nvPicPr>
        <p:blipFill>
          <a:blip r:embed="rId1"/>
          <a:stretch/>
        </p:blipFill>
        <p:spPr>
          <a:xfrm>
            <a:off x="291960" y="1054080"/>
            <a:ext cx="824868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3885840"/>
            <a:ext cx="8382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ian Bot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bott2@uky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Teaching Approaches Lead to . . 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2133360"/>
            <a:ext cx="753912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applied problem” from the National Assessment of Educational Progress (19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,000 13-year-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my bus holds 36 soldiers. If 1,128 soldiers are being bused to their training site, how many buse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410080"/>
            <a:ext cx="68547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9% of the students c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1 remainder 1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Teaching Approaches Lead to  . . .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n had 12 baseball cards. He gave 1/3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Jim. How many did John have lef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6th graders answered “11 2/3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one student thought that 2/3 of a baseba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d was od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shall, 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115920" y="298440"/>
            <a:ext cx="8272440" cy="21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_x0008_Q55.tiff                                                       00001330_x000c_TEAM CURRENT                   BDCA317D:"/>
          <p:cNvPicPr/>
          <p:nvPr/>
        </p:nvPicPr>
        <p:blipFill>
          <a:blip r:embed="rId2"/>
          <a:stretch/>
        </p:blipFill>
        <p:spPr>
          <a:xfrm>
            <a:off x="1828800" y="2666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3" descr="_x0007_Q55.gif                                                        00001330_x000c_TEAM CURRENT                   BDCA317D:"/>
          <p:cNvPicPr/>
          <p:nvPr/>
        </p:nvPicPr>
        <p:blipFill>
          <a:blip r:embed="rId1"/>
          <a:stretch/>
        </p:blipFill>
        <p:spPr>
          <a:xfrm>
            <a:off x="990720" y="1143000"/>
            <a:ext cx="7226280" cy="5289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6019920"/>
            <a:ext cx="9601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8500"/>
                </a:solidFill>
                <a:latin typeface="Times New Roman"/>
              </a:rPr>
              <a:t>30%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iddle School Stud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MSA, 2010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828440"/>
            <a:ext cx="79246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ious and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fer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joy group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blish connections  (concrete –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decisions that put them intellec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risk” (oppositional behavi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ruction for middle school stud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be . . 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MSA, 2010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1752120"/>
            <a:ext cx="73152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ev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066680" y="4952880"/>
            <a:ext cx="7124760" cy="11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2f1c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ho are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ectangle 3" descr=""/>
          <p:cNvPicPr/>
          <p:nvPr/>
        </p:nvPicPr>
        <p:blipFill>
          <a:blip r:embed="rId1"/>
          <a:stretch/>
        </p:blipFill>
        <p:spPr>
          <a:xfrm>
            <a:off x="633240" y="450720"/>
            <a:ext cx="8285400" cy="1768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"/>
          <p:cNvSpPr/>
          <p:nvPr/>
        </p:nvSpPr>
        <p:spPr>
          <a:xfrm>
            <a:off x="1170000" y="2286000"/>
            <a:ext cx="2630520" cy="2438280"/>
          </a:xfrm>
          <a:prstGeom prst="downArrowCallout">
            <a:avLst>
              <a:gd name="adj1" fmla="val 26924"/>
              <a:gd name="adj2" fmla="val 26921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5257800" y="2286000"/>
            <a:ext cx="2630520" cy="2438280"/>
          </a:xfrm>
          <a:prstGeom prst="downArrowCallout">
            <a:avLst>
              <a:gd name="adj1" fmla="val 26934"/>
              <a:gd name="adj2" fmla="val 26936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319640" y="2666880"/>
            <a:ext cx="4366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638680" y="23623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Mathematics Advisory Pane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057400"/>
            <a:ext cx="826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SH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key math concep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represent fractions on a number line, identify equivalent f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procedural flu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add and subtract f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to formulate and solve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hanced Anchored Instruction (EAI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video-based and applied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uates mathematics in authentic-like, engaging contex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ges instruction on foundation skills (e.g., perform operations with whole and rational numbers) with problem-solving applications (e.g., design/build hovercraf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ps students’ background knowledge and promotes learning trans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ngs together unique combinations of teachers (math, technology education, special education) in multiple settings (general education, special edu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 Concepts in EAI Problem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 of the C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pplied Problems (Hovercra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ree-dimensional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o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engths and convert units (feet to inches, inches to 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combinations with whole numbers and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’s Komet + Applied Problems (Car Der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rate given time and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variables and predict values based on line of best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data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n 20 minutes or less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rateg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and Concepts Addresse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raction of the C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Application (Hovercra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hole numbers an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and mak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3D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units (feet to inches, inches to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compute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ction Button: Movie 3"/>
          <p:cNvSpPr/>
          <p:nvPr/>
        </p:nvSpPr>
        <p:spPr>
          <a:xfrm>
            <a:off x="784872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7301"/>
                </a:moveTo>
                <a:lnTo>
                  <a:pt x="17659" y="7301"/>
                </a:lnTo>
                <a:lnTo>
                  <a:pt x="18042" y="7667"/>
                </a:lnTo>
                <a:lnTo>
                  <a:pt x="27251" y="7667"/>
                </a:lnTo>
                <a:lnTo>
                  <a:pt x="27808" y="8224"/>
                </a:lnTo>
                <a:lnTo>
                  <a:pt x="27808" y="8772"/>
                </a:lnTo>
                <a:lnTo>
                  <a:pt x="29653" y="8772"/>
                </a:lnTo>
                <a:lnTo>
                  <a:pt x="30019" y="8224"/>
                </a:lnTo>
                <a:lnTo>
                  <a:pt x="30758" y="8224"/>
                </a:lnTo>
                <a:lnTo>
                  <a:pt x="30758" y="13376"/>
                </a:lnTo>
                <a:lnTo>
                  <a:pt x="30019" y="13376"/>
                </a:lnTo>
                <a:lnTo>
                  <a:pt x="29653" y="12828"/>
                </a:lnTo>
                <a:lnTo>
                  <a:pt x="27808" y="12828"/>
                </a:lnTo>
                <a:lnTo>
                  <a:pt x="27808" y="14107"/>
                </a:lnTo>
                <a:lnTo>
                  <a:pt x="18225" y="14107"/>
                </a:lnTo>
                <a:lnTo>
                  <a:pt x="18225" y="9877"/>
                </a:lnTo>
                <a:lnTo>
                  <a:pt x="18042" y="9877"/>
                </a:lnTo>
                <a:lnTo>
                  <a:pt x="17659" y="10243"/>
                </a:lnTo>
                <a:lnTo>
                  <a:pt x="16745" y="1024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56100"/>
            </a:solidFill>
            <a:miter/>
          </a:ln>
          <a:effectLst>
            <a:outerShdw dist="38160" dir="5400000" blurRad="0" rotWithShape="0">
              <a:srgbClr val="4228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600200"/>
            <a:ext cx="8447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–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st students become active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gagement reduces in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–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t’s not always necessary to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ents see benefit of learning bas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Intu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w achievers often have intact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achers can uncover students’ “inert”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) situational –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ents make use of problem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arning and context are not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EAI in action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2DCTS-SP Short Segment.mov" descr="/Users/brianbottge/Desktop/2DCTS-SP Short Segment.mov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with MLD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M 3-Level Model of Treatment Effects on Fractions Computation T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ottge et al., in pres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6600" y="2057400"/>
            <a:ext cx="82738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380880" y="2057400"/>
          <a:ext cx="579132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579132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5410080" y="5867280"/>
                <a:ext cx="312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TextBox 8"/>
          <p:cNvSpPr/>
          <p:nvPr/>
        </p:nvSpPr>
        <p:spPr>
          <a:xfrm>
            <a:off x="5410080" y="5181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1.14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0.81 Formal over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 – Students with ML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ottge et al., in pres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96600" y="1904760"/>
            <a:ext cx="82738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380880" y="2057400"/>
          <a:ext cx="59436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59436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Box 4"/>
          <p:cNvSpPr/>
          <p:nvPr/>
        </p:nvSpPr>
        <p:spPr>
          <a:xfrm>
            <a:off x="5410080" y="5029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1.16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0.03 Formal over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5410080" y="5867280"/>
                <a:ext cx="312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5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259480" cy="1811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80880" y="2117880"/>
            <a:ext cx="83822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ing  the Math Skills of Low-Achieving Adolescents in Technology-Rich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ducation, Institute of Education Sciences, Cognition and Student Learning Research  Program, Goal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the Efficacy of Enhanced Anchored Instruction for Middle School Students with Learning Disabilities in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ducation, Institute of Education Sciences, Cognition and Student Learning in Special Education Research  Program, Goal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69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ssessment of Educational Progress (NAEP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47920"/>
            <a:ext cx="77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e, Grigg, &amp; Dion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1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erie, Grigg, &amp; Dion,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6600" y="303120"/>
            <a:ext cx="77691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ans students . . 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475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omplete problems correctly with the help of structural prompts such as diagrams, charts, and gra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 incl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ropriate use of strategies and technological tools to understand fundamental algebraic and informal geometric concepts in problem solvi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. 20)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e, Grigg, &amp; Dion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3059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for Employe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Industr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TS, 2007; NCEE, 2007; NRCCTC, 2006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ole numbers, fractions,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p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ata in graphs, tables, and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blems with fellow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ally and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compu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perform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04520"/>
            <a:ext cx="86108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xtualized Nature of Problem Solv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6600" y="1828440"/>
            <a:ext cx="776916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ur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ss, Hoyles, &amp; Pozzi,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ate to manually “flush” drug left in the “dead space” of a IV cat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obile manufact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ith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rder a series of drill bits by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pet la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singila,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stimate and calculate area, measure to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9560" y="609120"/>
            <a:ext cx="77709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Contexts, Prior Knowledge, and Mental Mod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6000" y="2133720"/>
            <a:ext cx="77691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2400" indent="-482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rning involve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nnecting new information with previously learn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sto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ese connections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ividuals form their own “mental models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models bec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re vivid with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blem for teac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ny students have not had rich learning experiences (or not the kind valued by school), difficult for teachers to establish connections (if we keep teaching the same 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302760"/>
            <a:ext cx="776916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would think you’d be use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iling by now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7800" y="2135160"/>
            <a:ext cx="7770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art.mov" descr="/Brian's Laptop/Desktop/MOVIES/Bart.mov"/>
          <p:cNvPicPr/>
          <p:nvPr/>
        </p:nvPicPr>
        <p:blipFill>
          <a:blip r:embed="rId1"/>
          <a:stretch/>
        </p:blipFill>
        <p:spPr>
          <a:xfrm>
            <a:off x="2438280" y="2819520"/>
            <a:ext cx="428652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Judging “Problem Solving” in Cognitive Scie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96600" y="21333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sk (a) in which the studen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ga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r which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shes to ob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solution, and (b) for which the stud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es not have a readily accessible mathematical 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which to achieve that resolution” (Schoenfeld, 1989) (underline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ould know what it feels like to be completely absorbed in a problem” (Bruner, 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“experiences” that are engaging to students and that “live fruitfully and creatively in subsequent experiences.” (Dewey, 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3:26:23Z</dcterms:created>
  <dc:creator>Enrique Rueda</dc:creator>
  <dc:description/>
  <dc:language>en-US</dc:language>
  <cp:lastModifiedBy>Authorised User</cp:lastModifiedBy>
  <cp:lastPrinted>2004-12-13T23:02:44Z</cp:lastPrinted>
  <dcterms:modified xsi:type="dcterms:W3CDTF">2010-05-20T12:57:12Z</dcterms:modified>
  <cp:revision>205</cp:revision>
  <dc:subject/>
  <dc:title>Advancing  the Math Skills of Low-Achieving Adolescents in Technology-Rich Learning Environments. U.S. Department of Education, Institute of  Education Sciences, Cognition and Student Learning Research  Program</dc:title>
</cp:coreProperties>
</file>