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gif" ContentType="image/gif"/>
  <Override PartName="/ppt/media/image8.png" ContentType="image/png"/>
  <Override PartName="/ppt/media/image9.png" ContentType="image/png"/>
  <Override PartName="/ppt/media/image11.wmf" ContentType="image/x-wmf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A091C-1844-469F-9F73-7F10EA204B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B7296-4E1F-4B06-9AE1-21D5EF6A1F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4440" y="6969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0800" y="4339800"/>
            <a:ext cx="5040360" cy="413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18904-9E73-4CBE-9DA4-91BE81CB51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82397-57B3-4D32-95D1-CE06699762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4440" y="6969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0800" y="4339800"/>
            <a:ext cx="5040360" cy="413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3A26B-DEA6-4818-9375-FC92C62B83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4440" y="6969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0800" y="4339800"/>
            <a:ext cx="5040360" cy="413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3C75F-329C-4A39-8E30-4984ECDCA1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4440" y="6969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0800" y="4339800"/>
            <a:ext cx="5040360" cy="413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91656-0EF6-4A81-94F5-2E41EAEDED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173E2-7909-4BF1-9144-20448FC527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4440" y="6969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0800" y="4339800"/>
            <a:ext cx="5040360" cy="413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443F8-8F7E-445D-BD39-3EA5850074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4440" y="6969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0800" y="4339800"/>
            <a:ext cx="5040360" cy="413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6A98-747D-4EE1-8A2D-BB524B519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3442-174B-4AED-B6B5-1019BE156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B236-7ECD-463D-A06C-D390AD43C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E5CF-6100-4BF0-B8C6-A30B7E2B9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EEE44-28E0-4886-86A4-C278FED3E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B69F5-229A-4E16-807A-D50767C6B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66932-DD12-4443-AC6A-5BCBC7707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08683-C147-4C2D-AC1C-A787D22C5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E5CB5-E610-4A2B-AB07-8262332AA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D20B1-5DAA-4405-88EF-6F85BD75D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21709-EE3E-4B3D-AA14-3A044814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F956-74C3-47F5-A164-53309E282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6D6D3-DF7F-4E28-8323-2D7BA33F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5DFA0-C851-47C3-8792-F983D9F3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B86F7-3688-4B6D-9E48-2E9D8FEC1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E0946-C043-4D11-AC61-B039681D5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0072C-4629-410D-9F86-ECBB5DC28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0658-6266-4865-8385-B73FFB7E1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9856-D80A-4A4B-B1D8-A2202FEA0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E75A-35C2-48D5-95CC-AC89C6EB2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5F77-8896-4DF3-A373-BA5821844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5F61-0DBC-4787-BA66-787655031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3052-2F82-4E7C-821A-A237439A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D826-34DB-4A83-8E5D-19E40272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84b00">
                  <a:alpha val="45098"/>
                </a:srgbClr>
              </a:gs>
              <a:gs pos="100000">
                <a:srgbClr val="9696aa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a7a88">
                  <a:alpha val="45098"/>
                </a:srgbClr>
              </a:gs>
              <a:gs pos="100000">
                <a:srgbClr val="9e60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c885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966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4E080-1738-4B68-8EEF-4050CC94A1C1}" type="datetime">
              <a:rPr b="0" lang="en-US" sz="1200" spc="-1" strike="noStrike">
                <a:solidFill>
                  <a:srgbClr val="000061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ABF8E-1237-480E-87C5-A3359AFE3B91}" type="slidenum">
              <a:rPr b="0" lang="en-US" sz="1200" spc="-1" strike="noStrike">
                <a:solidFill>
                  <a:srgbClr val="0000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Rectangle 47"/>
          <p:cNvSpPr/>
          <p:nvPr/>
        </p:nvSpPr>
        <p:spPr>
          <a:xfrm>
            <a:off x="7142040" y="-449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nip and Round Single Corner Rectangle 14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ight Triangle 15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84b00">
                  <a:alpha val="45098"/>
                </a:srgbClr>
              </a:gs>
              <a:gs pos="100000">
                <a:srgbClr val="9696aa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Freeform 18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a7a88">
                  <a:alpha val="45098"/>
                </a:srgbClr>
              </a:gs>
              <a:gs pos="100000">
                <a:srgbClr val="9e60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c885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966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A0E17-7B18-439F-9551-AC9579EA9B22}" type="datetime">
              <a:rPr b="0" lang="en-US" sz="1200" spc="-1" strike="noStrike">
                <a:solidFill>
                  <a:srgbClr val="000061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A8D48-E63D-4C78-AAA8-DAF57CB08205}" type="slidenum">
              <a:rPr b="0" lang="en-US" sz="1200" spc="-1" strike="noStrike">
                <a:solidFill>
                  <a:srgbClr val="0000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Rectangle 7" descr=""/>
          <p:cNvPicPr/>
          <p:nvPr/>
        </p:nvPicPr>
        <p:blipFill>
          <a:blip r:embed="rId1"/>
          <a:stretch/>
        </p:blipFill>
        <p:spPr>
          <a:xfrm>
            <a:off x="291960" y="1054080"/>
            <a:ext cx="8248680" cy="23050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380880" y="3885840"/>
            <a:ext cx="83822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rian Bott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iversity of Kentu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bott2@uky.e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9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br>
              <a:rPr sz="4100"/>
            </a:br>
            <a:br>
              <a:rPr sz="4100"/>
            </a:br>
            <a:br>
              <a:rPr sz="4100"/>
            </a:br>
            <a:br>
              <a:rPr sz="41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cedural Teaching Approaches Lead to . . .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95320" y="2133360"/>
            <a:ext cx="7539120" cy="22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23560" indent="-2235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560" indent="-2235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“applied problem” from the National Assessment of Educational Progress (198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560" indent="-2235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5,000 13-year-o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560" indent="-2235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560" indent="-2235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rmy bus holds 36 soldiers. If 1,128 soldiers are being bused to their training site, how many buses are need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1042920" y="5410080"/>
            <a:ext cx="6854760" cy="15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29% of the students ch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31 remainder 12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cedural Teaching Approaches Lead to  . . .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hn had 12 baseball cards. He gave 1/3 of th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Jim. How many did John have lef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ny 6th graders answered “11 2/3”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one student thought that 2/3 of a basebal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rd was od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arshall, 199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Rectangle 2" descr=""/>
          <p:cNvPicPr/>
          <p:nvPr/>
        </p:nvPicPr>
        <p:blipFill>
          <a:blip r:embed="rId1"/>
          <a:stretch/>
        </p:blipFill>
        <p:spPr>
          <a:xfrm>
            <a:off x="115920" y="298440"/>
            <a:ext cx="8272440" cy="21463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_x0008_Q55.tiff                                                       00001330_x000c_TEAM CURRENT                   BDCA317D:"/>
          <p:cNvPicPr/>
          <p:nvPr/>
        </p:nvPicPr>
        <p:blipFill>
          <a:blip r:embed="rId2"/>
          <a:stretch/>
        </p:blipFill>
        <p:spPr>
          <a:xfrm>
            <a:off x="1828800" y="2666880"/>
            <a:ext cx="44197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1" name="Picture 3" descr="_x0007_Q55.gif                                                        00001330_x000c_TEAM CURRENT                   BDCA317D:"/>
          <p:cNvPicPr/>
          <p:nvPr/>
        </p:nvPicPr>
        <p:blipFill>
          <a:blip r:embed="rId1"/>
          <a:stretch/>
        </p:blipFill>
        <p:spPr>
          <a:xfrm>
            <a:off x="990720" y="1143000"/>
            <a:ext cx="7226280" cy="52894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4"/>
          <p:cNvSpPr/>
          <p:nvPr/>
        </p:nvSpPr>
        <p:spPr>
          <a:xfrm>
            <a:off x="0" y="6019920"/>
            <a:ext cx="960120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8500"/>
                </a:solidFill>
                <a:latin typeface="Times New Roman"/>
              </a:rPr>
              <a:t>30% Cor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racteristics of Middle School Stud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NMSA, 2010)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160" y="1828440"/>
            <a:ext cx="7924680" cy="48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urious and wi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efer active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njoy group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stablish connections  (concrete – abstrac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ke decisions that put them intellectu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t risk” (oppositional behavio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struction for middle school student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ould be . . 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NMSA, 2010)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1752120"/>
            <a:ext cx="7315200" cy="48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leva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allen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tegr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pl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2"/>
          <p:cNvSpPr/>
          <p:nvPr/>
        </p:nvSpPr>
        <p:spPr>
          <a:xfrm>
            <a:off x="1066680" y="4952880"/>
            <a:ext cx="7124760" cy="114300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38160" dir="5400000" blurRad="0" rotWithShape="0">
              <a:srgbClr val="2f1c00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udents who are . . 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Rectangle 3" descr=""/>
          <p:cNvPicPr/>
          <p:nvPr/>
        </p:nvPicPr>
        <p:blipFill>
          <a:blip r:embed="rId1"/>
          <a:stretch/>
        </p:blipFill>
        <p:spPr>
          <a:xfrm>
            <a:off x="633240" y="450720"/>
            <a:ext cx="8285400" cy="176868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4"/>
          <p:cNvSpPr/>
          <p:nvPr/>
        </p:nvSpPr>
        <p:spPr>
          <a:xfrm>
            <a:off x="1170000" y="2286000"/>
            <a:ext cx="2630520" cy="2438280"/>
          </a:xfrm>
          <a:prstGeom prst="downArrowCallout">
            <a:avLst>
              <a:gd name="adj1" fmla="val 26924"/>
              <a:gd name="adj2" fmla="val 26921"/>
              <a:gd name="adj3" fmla="val 16667"/>
              <a:gd name="adj4" fmla="val 6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4440" rIns="64440" tIns="32040" bIns="32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Sk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ci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5"/>
          <p:cNvSpPr/>
          <p:nvPr/>
        </p:nvSpPr>
        <p:spPr>
          <a:xfrm>
            <a:off x="5257800" y="2286000"/>
            <a:ext cx="2630520" cy="2438280"/>
          </a:xfrm>
          <a:prstGeom prst="downArrowCallout">
            <a:avLst>
              <a:gd name="adj1" fmla="val 26934"/>
              <a:gd name="adj2" fmla="val 26936"/>
              <a:gd name="adj3" fmla="val 16667"/>
              <a:gd name="adj4" fmla="val 6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4440" rIns="64440" tIns="32040" bIns="32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4319640" y="2666880"/>
            <a:ext cx="436680" cy="7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Box 8"/>
          <p:cNvSpPr/>
          <p:nvPr/>
        </p:nvSpPr>
        <p:spPr>
          <a:xfrm>
            <a:off x="5638680" y="2362320"/>
            <a:ext cx="190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h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tional Mathematics Advisory Panel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2008)</a:t>
            </a:r>
            <a:endParaRPr b="0" lang="en-US" sz="1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28240" y="2057400"/>
            <a:ext cx="826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UDENTS SHOU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rn key math concep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, represent fractions on a number line, identify equivalent frac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ild procedural fluenc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, add and subtract frac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rning to formulate and solve proble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hanced Anchored Instruction (EAI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7524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s video-based and applied probl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tuates mathematics in authentic-like, engaging contex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rges instruction on foundation skills (e.g., perform operations with whole and rational numbers) with problem-solving applications (e.g., design/build hovercraf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ps students’ background knowledge and promotes learning transf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ings together unique combinations of teachers (math, technology education, special education) in multiple settings (general education, special educa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880" y="9907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th Concepts in EAI Problems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500"/>
            </a:b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28600" y="1905120"/>
            <a:ext cx="8686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raction of the Co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Applied Problems (Hovercraf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3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pret three-dimensional draw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3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 to 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3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 lengths and convert units (feet to inches, inches to fe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3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 combinations with whole numbers and fr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3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3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m’s Komet + Applied Problems (Car Derb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3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 rate given time and d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3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 variables and predict values based on line of best 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3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 decim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3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uct data tab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3040">
              <a:lnSpc>
                <a:spcPct val="90000"/>
              </a:lnSpc>
              <a:spcBef>
                <a:spcPts val="499"/>
              </a:spcBef>
              <a:buClr>
                <a:srgbClr val="c885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3040">
              <a:lnSpc>
                <a:spcPct val="90000"/>
              </a:lnSpc>
              <a:spcBef>
                <a:spcPts val="499"/>
              </a:spcBef>
              <a:buClr>
                <a:srgbClr val="c885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3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3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3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3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3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In 20 minutes or less</a:t>
            </a:r>
            <a:endParaRPr b="0" lang="en-US" sz="5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26668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ne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59200" indent="-25920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59200" indent="-25920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strateg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59200" indent="-25920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59200" indent="-25920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resul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kills and Concepts Addressed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raction of the Cos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+ Application (Hovercraf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90000"/>
              </a:lnSpc>
              <a:spcBef>
                <a:spcPts val="601"/>
              </a:spcBef>
              <a:buClr>
                <a:srgbClr val="c8850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whole numbers and f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90000"/>
              </a:lnSpc>
              <a:spcBef>
                <a:spcPts val="601"/>
              </a:spcBef>
              <a:buClr>
                <a:srgbClr val="c8850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 leng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90000"/>
              </a:lnSpc>
              <a:spcBef>
                <a:spcPts val="601"/>
              </a:spcBef>
              <a:buClr>
                <a:srgbClr val="c8850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ret and mak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90000"/>
              </a:lnSpc>
              <a:spcBef>
                <a:spcPts val="601"/>
              </a:spcBef>
              <a:buClr>
                <a:srgbClr val="c8850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ret 3D draw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90000"/>
              </a:lnSpc>
              <a:spcBef>
                <a:spcPts val="601"/>
              </a:spcBef>
              <a:buClr>
                <a:srgbClr val="c8850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 to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90000"/>
              </a:lnSpc>
              <a:spcBef>
                <a:spcPts val="601"/>
              </a:spcBef>
              <a:buClr>
                <a:srgbClr val="c8850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 units (feet to inches, inches to fe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90000"/>
              </a:lnSpc>
              <a:spcBef>
                <a:spcPts val="601"/>
              </a:spcBef>
              <a:buClr>
                <a:srgbClr val="c8850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and compute combi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90000"/>
              </a:lnSpc>
              <a:spcBef>
                <a:spcPts val="601"/>
              </a:spcBef>
              <a:buClr>
                <a:srgbClr val="c8850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sales t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ction Button: Movie 3"/>
          <p:cNvSpPr/>
          <p:nvPr/>
        </p:nvSpPr>
        <p:spPr>
          <a:xfrm>
            <a:off x="7848720" y="6172200"/>
            <a:ext cx="838080" cy="380880"/>
          </a:xfrm>
          <a:custGeom>
            <a:avLst/>
            <a:gdLst>
              <a:gd name="textAreaLeft" fmla="*/ 24480 w 838080"/>
              <a:gd name="textAreaRight" fmla="*/ 813600 w 8380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504" h="21600">
                <a:moveTo>
                  <a:pt x="16745" y="7301"/>
                </a:moveTo>
                <a:lnTo>
                  <a:pt x="17659" y="7301"/>
                </a:lnTo>
                <a:lnTo>
                  <a:pt x="18042" y="7667"/>
                </a:lnTo>
                <a:lnTo>
                  <a:pt x="27251" y="7667"/>
                </a:lnTo>
                <a:lnTo>
                  <a:pt x="27808" y="8224"/>
                </a:lnTo>
                <a:lnTo>
                  <a:pt x="27808" y="8772"/>
                </a:lnTo>
                <a:lnTo>
                  <a:pt x="29653" y="8772"/>
                </a:lnTo>
                <a:lnTo>
                  <a:pt x="30019" y="8224"/>
                </a:lnTo>
                <a:lnTo>
                  <a:pt x="30758" y="8224"/>
                </a:lnTo>
                <a:lnTo>
                  <a:pt x="30758" y="13376"/>
                </a:lnTo>
                <a:lnTo>
                  <a:pt x="30019" y="13376"/>
                </a:lnTo>
                <a:lnTo>
                  <a:pt x="29653" y="12828"/>
                </a:lnTo>
                <a:lnTo>
                  <a:pt x="27808" y="12828"/>
                </a:lnTo>
                <a:lnTo>
                  <a:pt x="27808" y="14107"/>
                </a:lnTo>
                <a:lnTo>
                  <a:pt x="18225" y="14107"/>
                </a:lnTo>
                <a:lnTo>
                  <a:pt x="18225" y="9877"/>
                </a:lnTo>
                <a:lnTo>
                  <a:pt x="18042" y="9877"/>
                </a:lnTo>
                <a:lnTo>
                  <a:pt x="17659" y="10243"/>
                </a:lnTo>
                <a:lnTo>
                  <a:pt x="16745" y="10243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956100"/>
            </a:solidFill>
            <a:miter/>
          </a:ln>
          <a:effectLst>
            <a:outerShdw dist="38160" dir="5400000" blurRad="0" rotWithShape="0">
              <a:srgbClr val="422800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nding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600200"/>
            <a:ext cx="84470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7440" indent="-487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aningful – Eng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Most students become actively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Engagement reduces inappropriate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licit – Fou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It’s not always necessary to wa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tudents see benefit of learning basic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l – Intu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Low achievers often have intact problem-solving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Teachers can uncover students’ “inert”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De) situational –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tudents make use of problem contex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Learning and context are not sepa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EAI in action</a:t>
            </a:r>
            <a:endParaRPr b="0" lang="en-US" sz="5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5" name="2DCTS-SP Short Segment.mov" descr="/Users/brianbottge/Desktop/2DCTS-SP Short Segment.mov"/>
          <p:cNvPicPr/>
          <p:nvPr/>
        </p:nvPicPr>
        <p:blipFill>
          <a:blip r:embed="rId1"/>
          <a:stretch/>
        </p:blipFill>
        <p:spPr>
          <a:xfrm>
            <a:off x="1646280" y="1935000"/>
            <a:ext cx="58514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5" dur="1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udents with MLD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LM 3-Level Model of Treatment Effects on Fractions Computation Tes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Bottge et al., in press)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96600" y="2057400"/>
            <a:ext cx="827388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7440" indent="-487440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Object 2"/>
          <p:cNvGraphicFramePr/>
          <p:nvPr/>
        </p:nvGraphicFramePr>
        <p:xfrm>
          <a:off x="380880" y="2057400"/>
          <a:ext cx="579132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057400"/>
                    <a:ext cx="579132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60" name="Object 3"/>
              <p:cNvSpPr txBox="1"/>
              <p:nvPr/>
            </p:nvSpPr>
            <p:spPr>
              <a:xfrm>
                <a:off x="5410080" y="5867280"/>
                <a:ext cx="31244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g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re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ost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sSub>
                                  <m:e>
                                    <m:r>
                                      <m:t xml:space="preserve">ρ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re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ost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re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ost</m:t>
                                    </m:r>
                                  </m:sub>
                                </m:sSub>
                              </m:e>
                            </m:ra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1" name="TextBox 8"/>
          <p:cNvSpPr/>
          <p:nvPr/>
        </p:nvSpPr>
        <p:spPr>
          <a:xfrm>
            <a:off x="5410080" y="51814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 = 1.14 Infor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 = 0.81 Formal over Infor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ndings – Students with ML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Bottge et al., in press)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96600" y="1904760"/>
            <a:ext cx="8273880" cy="44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7440" indent="-487440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Object 2"/>
          <p:cNvGraphicFramePr/>
          <p:nvPr/>
        </p:nvGraphicFramePr>
        <p:xfrm>
          <a:off x="380880" y="2057400"/>
          <a:ext cx="5943600" cy="425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057400"/>
                    <a:ext cx="5943600" cy="42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TextBox 4"/>
          <p:cNvSpPr/>
          <p:nvPr/>
        </p:nvSpPr>
        <p:spPr>
          <a:xfrm>
            <a:off x="5410080" y="5029200"/>
            <a:ext cx="350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 = 1.16 Infor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 = 0.03 Formal over Infor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3"/>
              <p:cNvSpPr txBox="1"/>
              <p:nvPr/>
            </p:nvSpPr>
            <p:spPr>
              <a:xfrm>
                <a:off x="5410080" y="5867280"/>
                <a:ext cx="31244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g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re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ost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sSub>
                                  <m:e>
                                    <m:r>
                                      <m:t xml:space="preserve">ρ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re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ost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re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ost</m:t>
                                    </m:r>
                                  </m:sub>
                                </m:sSub>
                              </m:e>
                            </m:ra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Rectangle 5" descr=""/>
          <p:cNvPicPr/>
          <p:nvPr/>
        </p:nvPicPr>
        <p:blipFill>
          <a:blip r:embed="rId1"/>
          <a:stretch/>
        </p:blipFill>
        <p:spPr>
          <a:xfrm>
            <a:off x="208080" y="-6480"/>
            <a:ext cx="8259480" cy="18115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380880" y="2117880"/>
            <a:ext cx="8382240" cy="45115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cing  the Math Skills of Low-Achieving Adolescents in Technology-Rich Learning Enviro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.S. Department of Education, Institute of Education Sciences, Cognition and Student Learning Research  Program, Goal 2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4-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ng the Efficacy of Enhanced Anchored Instruction for Middle School Students with Learning Disabilities in M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.S. Department of Education, Institute of Education Sciences, Cognition and Student Learning in Special Education Research  Program, Goal 3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9-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695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4000"/>
            </a:b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tional Assessment of Educational Progress (NAEP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447920"/>
            <a:ext cx="77709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72680" indent="-472680">
              <a:lnSpc>
                <a:spcPct val="9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2680" indent="-472680">
              <a:lnSpc>
                <a:spcPct val="9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2680" indent="-472680">
              <a:lnSpc>
                <a:spcPct val="9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e 8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Lee, Grigg, &amp; Dion, 200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2680" indent="-472680">
              <a:lnSpc>
                <a:spcPct val="90000"/>
              </a:lnSpc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2680" indent="-472680">
              <a:lnSpc>
                <a:spcPct val="9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7%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sabilities scored below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as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2680" indent="-472680">
              <a:lnSpc>
                <a:spcPct val="90000"/>
              </a:lnSpc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2680" indent="-472680">
              <a:lnSpc>
                <a:spcPct val="9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6%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ith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sabilities scored below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a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2680" indent="-472680">
              <a:lnSpc>
                <a:spcPct val="9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2680" indent="-472680">
              <a:lnSpc>
                <a:spcPct val="90000"/>
              </a:lnSpc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2680" indent="-472680">
              <a:lnSpc>
                <a:spcPct val="9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e 1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erie, Grigg, &amp; Dion, 200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2680" indent="-472680">
              <a:lnSpc>
                <a:spcPct val="90000"/>
              </a:lnSpc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2680" indent="-472680">
              <a:lnSpc>
                <a:spcPct val="9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3%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sabilities scored below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a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2680" indent="-472680">
              <a:lnSpc>
                <a:spcPct val="90000"/>
              </a:lnSpc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2680" indent="-472680">
              <a:lnSpc>
                <a:spcPct val="9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6%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ith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sabilities scored below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as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2680" indent="-472680">
              <a:lnSpc>
                <a:spcPct val="9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96600" y="303120"/>
            <a:ext cx="776916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Basi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means students . . .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4475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7440" indent="-487440">
              <a:lnSpc>
                <a:spcPct val="90000"/>
              </a:lnSpc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complete problems correctly with the help of structural prompts such as diagrams, charts, and graph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 algn="ctr">
              <a:lnSpc>
                <a:spcPct val="9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nd inclu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ppropriate use of strategies and technological tools to understand fundamental algebraic and informal geometric concepts in problem solving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p. 20).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Lee, Grigg, &amp; Dion, 200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8305920" cy="933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pectations for Employe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in Industr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TS, 2007; NCEE, 2007; NRCCTC, 2006)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935000"/>
            <a:ext cx="8229600" cy="46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mpu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whole numbers, fractions, dec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terpr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ata in graphs, tables, and formu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or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e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ypothe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ol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roblems with fellow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mmunic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rally and in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se comput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o perform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6320" indent="-2563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6320" indent="-2563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704520"/>
            <a:ext cx="861084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extualized Nature of Problem Solving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96600" y="1828440"/>
            <a:ext cx="7769160" cy="42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7440" indent="-487440">
              <a:lnSpc>
                <a:spcPct val="9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urs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oss, Hoyles, &amp; Pozzi, 200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rate to manually “flush” drug left in the “dead space” of a IV cath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obile manufactu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mith, 199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order a series of drill bits by di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arpet lay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asingila, 199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estimate and calculate area, measure to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09560" y="609120"/>
            <a:ext cx="77709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blem Contexts, Prior Knowledge, and Mental Model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76000" y="2133720"/>
            <a:ext cx="7769160" cy="42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82400" indent="-4824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82400" indent="-4824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earning involves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connecting new information with previously learned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stored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knowledg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82400" indent="-4824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82400" indent="-4824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rom these connections,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individuals form their own “mental models”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82400" indent="-4824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82400" indent="-48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tal models becom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ore vivid with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2400" indent="-48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2400" indent="-48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roblem for teach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Many students have not had rich learning experiences (or not the kind valued by school), difficult for teachers to establish connections (if we keep teaching the same wa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2400" indent="-482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96600" y="302760"/>
            <a:ext cx="7769160" cy="1677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 would think you’d be used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o failing by now…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77800" y="2135160"/>
            <a:ext cx="777096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Bart.mov" descr="/Brian's Laptop/Desktop/MOVIES/Bart.mov"/>
          <p:cNvPicPr/>
          <p:nvPr/>
        </p:nvPicPr>
        <p:blipFill>
          <a:blip r:embed="rId1"/>
          <a:stretch/>
        </p:blipFill>
        <p:spPr>
          <a:xfrm>
            <a:off x="2438280" y="2819520"/>
            <a:ext cx="4286520" cy="321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iteria for Judging “Problem Solving” in Cognitive Science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96600" y="2133360"/>
            <a:ext cx="7769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744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ask (a) in which the student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teres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ngag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for which 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ishes to obt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resolution, and (b) for which the studen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oes not have a readily accessible mathematical mea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which to achieve that resolution” (Schoenfeld, 1989) (underline add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should know what it feels like to be completely absorbed in a problem” (Bruner, 196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ange “experiences” that are engaging to students and that “live fruitfully and creatively in subsequent experiences.” (Dewey, 193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7T13:26:23Z</dcterms:created>
  <dc:creator>Enrique Rueda</dc:creator>
  <dc:description/>
  <dc:language>en-US</dc:language>
  <cp:lastModifiedBy>Authorised User</cp:lastModifiedBy>
  <cp:lastPrinted>2004-12-13T23:02:44Z</cp:lastPrinted>
  <dcterms:modified xsi:type="dcterms:W3CDTF">2010-05-20T12:57:12Z</dcterms:modified>
  <cp:revision>205</cp:revision>
  <dc:subject/>
  <dc:title>Advancing  the Math Skills of Low-Achieving Adolescents in Technology-Rich Learning Environments. U.S. Department of Education, Institute of  Education Sciences, Cognition and Student Learning Research  Program</dc:title>
</cp:coreProperties>
</file>