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AC6D-3D61-46FD-A6D0-FA50565AE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6E5-3769-4141-9218-B8BE20B83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4FD-B103-4FF4-A53C-2AF22E04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3D1-1611-4E1F-8296-BEBA324F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9B9-4C39-4A57-BE7C-D53CD05A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847-1348-48BC-A4CE-E5006B91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4692-5023-4DCE-B79A-3FFFEA8B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6F98-8ECA-4CD1-B96D-39F5D505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6C09-24E2-4655-BDA8-9FF63647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18BA-D983-42E9-AB18-81EE6ABC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AAFE-90D8-4131-8544-F7E4D8CC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08EC-D350-4C4D-AAD4-7C7EF96D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D89A-3508-4572-83B3-CF9EFDCE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996-2D3D-41F5-9282-7D6142D2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8B82-CEE9-4EE4-A31E-C3B9A40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2B73-7700-4106-966B-50EDE69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8783-8DFC-4AEB-9BC9-05F518DE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452E-6EF5-483C-A507-55A28ACA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4E14-4D46-408D-8AD4-D859BFF7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923E-5646-4149-B372-E3428B7E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ED68-AFCB-41E0-BCBB-A028FF1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BDCE-3430-4823-8227-D338EB32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F385-B06E-4AA7-B875-F3B4717E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0473-6427-4489-8E5A-D336CCBC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04C-1D42-474E-923A-EFCE4073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F7B7-61B9-4190-8C4A-7098E5C5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6067-94FB-4580-950A-32AAEB5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85C6-74AB-441C-B121-0DD0C50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D6F3-26C1-4B6B-BEE7-0F28A0B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62B9-0F2C-4C9B-9F83-75E918F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0461-950D-49CE-979D-7850ABB3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D0701-A4E0-4BE2-8743-A3E39439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D552-7E8B-4FA6-8EB5-9680C317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5F1A-EADE-423A-974F-D636CE64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A0516-5EAB-4CD5-87E8-7E5A03A8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8E7-D583-474F-A5ED-1DA476CD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CA07-602B-4EC5-8A2E-74E8291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0FBE7-06AE-4F7A-99C1-8E1FE27D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CB05-93F3-4312-AC38-61A10C99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9B97-E92A-43D7-BDD9-302942A9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3857-CA1E-4CAF-BD23-05BC9B46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1A251-298D-4393-8B87-C34BFD21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F6DEC-B80D-4EEA-A46F-C124320F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EC65-6B60-4005-BACF-BF07C2AF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7FAC-B2AD-4687-B3DE-D6FD15DE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9315E-7D80-409C-BC15-1CDD4E70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E1D-D84E-40E1-8538-FF9C4F91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1387-2CE3-436F-A3F2-68344E18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EA8FF-975E-4E0F-B797-0B1363BD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4BAF-289F-44D4-8C64-CFC0A7F0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3B61-2454-4A2B-93ED-5D01240B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0ECB-D336-44ED-B317-525C3401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F593B-79A4-4F16-AABE-DF16A35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9A4D-8E4D-451E-955C-08E5B9A8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F2CDE-41A3-48CC-A22A-21EFF49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8B04-184E-49A9-9880-EDF33B45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7EC3E-1CE2-4A66-99B9-2E9091FE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0A8-7688-4584-977D-51F41EDA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DCE0B-F379-45B4-B111-B0967BB8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7D9-D9BA-4294-B71E-435F7FF9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38C-9C79-4FAB-AF29-A16C40AE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0B4-AF0C-4FF5-B4EB-CA57733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F90B-5EF5-484E-B793-E05F0EE73DA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75C-834C-41DD-9469-0EF74831F9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070C-FDE1-468F-B835-F67853A2ED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32D1-306D-4B00-92E7-FFE6E060923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89D8-1EAA-459F-8D8A-F025746E445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80880" y="3276360"/>
            <a:ext cx="87631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therine Bradshaw, PhD, M.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Johns Hopkins Center for Prevention and Early Interven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Johns Hopkins Center for the Prevention of Youth Violen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Department of Mental Health, Johns Hopkins Bloomberg School of Public Health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June 201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0" y="1506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Strengths of the Science in Behavior Disorders: </a:t>
            </a:r>
            <a:br>
              <a:rPr sz="3400"/>
            </a:br>
            <a:r>
              <a:rPr b="0" i="1" lang="en-US" sz="3400" spc="-1" strike="noStrike">
                <a:solidFill>
                  <a:srgbClr val="ffffff"/>
                </a:solidFill>
                <a:latin typeface="Franklin Gothic Book"/>
              </a:rPr>
              <a:t>Reflections and Future Directions</a:t>
            </a:r>
            <a:endParaRPr b="0" lang="en-US" sz="3400" spc="-1" strike="noStrike">
              <a:solidFill>
                <a:srgbClr val="4f271c"/>
              </a:solidFill>
              <a:latin typeface="Franklin Gothic Book"/>
            </a:endParaRPr>
          </a:p>
        </p:txBody>
      </p:sp>
      <p:pic>
        <p:nvPicPr>
          <p:cNvPr id="237" name="Picture 7" descr="banner_5"/>
          <p:cNvPicPr/>
          <p:nvPr/>
        </p:nvPicPr>
        <p:blipFill>
          <a:blip r:embed="rId1"/>
          <a:stretch/>
        </p:blipFill>
        <p:spPr>
          <a:xfrm>
            <a:off x="0" y="0"/>
            <a:ext cx="9144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What is it going to take to move it out?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88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ssemination and Type II Translational Research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Spoth, 2008; Woolf, 2008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factors contribute to dissemination of programs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ultural/political shift toward accountabil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makes programs attractive to districts, schools, &amp; teachers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ory, ease of implementation, access, cos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ata to document behavioral vs. social-emotional competenc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ilosophical and theoretical differenc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acher-focused, management &amp; compliance oriented vs. child-focused, promotion of competenc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mmediate impact vs. long-term pay of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What works for whom, under what circumstances?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4479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Moderated effect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dentify profiles of responders (and non-respond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666000" indent="-18504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form research on tiered interventions (RtI, PBIS) and </a:t>
            </a: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adaptive or tailored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vention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3" marL="888480" indent="-185040">
              <a:spcBef>
                <a:spcPts val="374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terventions that “assign different dosages of certain program components across individuals, and/or within individuals across time,” and “the assignment of a particular level of dosage and/or type of treatment is based on the individual’s values on variables that are expected to moderate the effect of the treatment component” (Collins, Murphy, &amp; Bierman, 2004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ntextual facto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666000" indent="-18504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idelity of implementation, school disorder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Bradshaw, Koth et al., 2009,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Prevention Science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Looking inside the ‘black box’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dentifying mechanisms and testing the theory of chang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Know little about critical components of interven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packing pro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components work independent of the packag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rdering/sequenc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gram adapt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hould we emphasize programs or frameworks/models (e.g., RtI, PBIS)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search approach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onents analysis or factorial desig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elements are hardest or easiest to implement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Integrated_Model_Figure1.JPG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70102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914400" y="228600"/>
            <a:ext cx="7772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Franklin Gothic Book"/>
              </a:rPr>
              <a:t>Model of the Integr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Integrated_Model_Figure1.JPG"/>
          <p:cNvPicPr/>
          <p:nvPr/>
        </p:nvPicPr>
        <p:blipFill>
          <a:blip r:embed="rId1"/>
          <a:stretch/>
        </p:blipFill>
        <p:spPr>
          <a:xfrm>
            <a:off x="228600" y="-152280"/>
            <a:ext cx="2590920" cy="2431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9000" y="68580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Franklin Gothic Book"/>
              </a:rPr>
              <a:t>Rationale for Integrated Models of Prevention </a:t>
            </a:r>
            <a:endParaRPr b="0" lang="en-US" sz="36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380880" y="1905120"/>
            <a:ext cx="8534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interventions may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t adequately address the underlying mechanism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ibuting to the development of problem behavi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models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keep the uniqu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es of each intervention model and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rge those that overla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ulting in a model that delivers a broader set of approaches simultaneous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a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hared conceptual framework and 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tegrated models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ximize students’ exposur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tervention process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elements are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eaml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 that there is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ess repetition and duplication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effort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0" y="632448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mitrovich, Bradshaw, Greenberg et al., 2009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logy in the Schoo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990720" y="990720"/>
            <a:ext cx="6629040" cy="5333400"/>
            <a:chOff x="990720" y="990720"/>
            <a:chExt cx="6629040" cy="5333400"/>
          </a:xfrm>
        </p:grpSpPr>
        <p:sp>
          <p:nvSpPr>
            <p:cNvPr id="252" name="AutoShape 3"/>
            <p:cNvSpPr/>
            <p:nvPr/>
          </p:nvSpPr>
          <p:spPr>
            <a:xfrm>
              <a:off x="990720" y="990720"/>
              <a:ext cx="6629040" cy="5333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c02"/>
                </a:gs>
                <a:gs pos="100000">
                  <a:srgbClr val="0b87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4"/>
            <p:cNvSpPr/>
            <p:nvPr/>
          </p:nvSpPr>
          <p:spPr>
            <a:xfrm>
              <a:off x="3052800" y="990720"/>
              <a:ext cx="2503800" cy="2009880"/>
            </a:xfrm>
            <a:prstGeom prst="triangle">
              <a:avLst>
                <a:gd name="adj" fmla="val 49889"/>
              </a:avLst>
            </a:prstGeom>
            <a:gradFill rotWithShape="0">
              <a:gsLst>
                <a:gs pos="0">
                  <a:srgbClr val="c40a1d"/>
                </a:gs>
                <a:gs pos="100000">
                  <a:srgbClr val="d2d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6"/>
          <p:cNvSpPr/>
          <p:nvPr/>
        </p:nvSpPr>
        <p:spPr>
          <a:xfrm>
            <a:off x="457200" y="13716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 rot="1123800">
            <a:off x="5243040" y="2234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chool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 rot="1382400">
            <a:off x="6249600" y="1519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Text Box 13" descr=""/>
          <p:cNvPicPr/>
          <p:nvPr/>
        </p:nvPicPr>
        <p:blipFill>
          <a:blip r:embed="rId1"/>
          <a:stretch/>
        </p:blipFill>
        <p:spPr>
          <a:xfrm>
            <a:off x="3346560" y="1749600"/>
            <a:ext cx="664920" cy="45050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4"/>
          <p:cNvSpPr/>
          <p:nvPr/>
        </p:nvSpPr>
        <p:spPr>
          <a:xfrm rot="1548600">
            <a:off x="759960" y="1384200"/>
            <a:ext cx="30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Social Emot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289080" y="4608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 rot="21195600">
            <a:off x="206640" y="3014280"/>
            <a:ext cx="30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ruanc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7"/>
          <p:cNvSpPr/>
          <p:nvPr/>
        </p:nvSpPr>
        <p:spPr>
          <a:xfrm rot="20149800">
            <a:off x="6000840" y="3065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uspensi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 rot="917400">
            <a:off x="380160" y="4952520"/>
            <a:ext cx="36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pecial Education Assessment and Refer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 rot="580800">
            <a:off x="4442760" y="5486040"/>
            <a:ext cx="45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Bullying Prevention/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Tiered Preven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2693880" y="3579840"/>
            <a:ext cx="34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ositive Behavioral Interventions and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76201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43 0.03053 L -0.24427 -0.1302 E">
                                      <p:cBhvr>
                                        <p:cTn id="6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6 -0.00439 L -0.42083 0.19543 E">
                                      <p:cBhvr>
                                        <p:cTn id="8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83071E-006 L 0.23368 0.5592 E">
                                      <p:cBhvr>
                                        <p:cTn id="10" dur="5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45694 0.23889 E">
                                      <p:cBhvr>
                                        <p:cTn id="1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486 L -0.46458 0.24977 E">
                                      <p:cBhvr>
                                        <p:cTn id="14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28646 -0.38658 E">
                                      <p:cBhvr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218E-006 L -0.10903 -0.0666 E">
                                      <p:cBhvr>
                                        <p:cTn id="1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What is it going to take to do it well?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0666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mplementation fidel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extual influences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Domitrovich, Bradshaw, Poduska et al., 2008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pport syst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aching and on-site technical assistanc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dels of coaching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e.g., Technical/Expert, Problem-Solving, Team-Building, Reflective Practice; Denton &amp; Hasbrouck, in press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cess for training and supporting coach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aching as an adaptive/tailored proces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artnershi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dels of partnership with teachers, administrators, district, st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666000" indent="-18504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pecial issue of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dministration and Policy in Mental Health and Mental Health Services Research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itled  “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Forging and Sustai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Partnerships to Support Child Mental Health Prevention and Services Research”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with Katherine Taylor Hayn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Framework_Final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0:06:20Z</dcterms:created>
  <dc:creator>Catherine Bradshaw</dc:creator>
  <dc:description/>
  <dc:language>en-US</dc:language>
  <cp:lastModifiedBy>Jdabrowski</cp:lastModifiedBy>
  <dcterms:modified xsi:type="dcterms:W3CDTF">2010-07-02T15:15:23Z</dcterms:modified>
  <cp:revision>264</cp:revision>
  <dc:subject/>
  <dc:title>Prevention of Mental Health Problems: A Public Health Perspective</dc:title>
</cp:coreProperties>
</file>