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0625-00A7-40F1-BBEB-E7C9D8E31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0C87-8B33-4E54-8AC7-C75B15ADB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E4D-C69C-4AC6-8780-25610CA5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BD8-DCBD-41CD-B671-01EFB326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89A-2070-485E-B6BD-160ABE46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ED5-E6F6-44A7-97D5-06D40084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A937-F985-41F6-90F0-71F69058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798C-0F97-4F5F-9140-0B971AFD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0E11-B164-471C-A58C-18C9FEF1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FAA9-54F3-4393-8D7A-E83B79A9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6A3-79FD-4959-88A3-D22D0D09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3796-BA12-4360-B60A-DF2EC333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9A93-66C9-49F0-A79D-F2931DA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C5C-9BF3-4C8C-8141-E6E4F68D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B4E0-5F86-4BC5-9895-DE4A6C44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CA17-1AAA-4682-B42F-C11C857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1403-2107-4BF7-9C25-BB946D0D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6FC3-2E4A-4F40-B4FE-22937DFB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454E-A83E-4D0F-8948-ECFFB6F6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0DBF-0D30-4893-938D-F4E8AAF6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6E94-1976-4870-8A26-B260DC53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6DA8-ED10-464D-A19E-9649E3CF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DACB-D206-49E8-A0EF-97A0DC7F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158E-F9D7-46A9-BBD7-5F51F3C9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4F3-6595-44E2-9A15-F5014DBF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4AF1-7526-42F2-A3A5-064A8589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4D03-8FE1-4512-9EDD-C7CF5527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CACEC-61C8-4663-9DFB-8579EE8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7846-DC8A-45E7-93DD-7C099BCA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AE81-660C-4D06-95BA-A22CB610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7E18-3641-4895-AE51-3899365C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827A5-FA9F-4DBD-B588-915FBA20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2787-1AE6-48F5-A5A1-B8699DC4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3EF2-CEEE-4CCD-9C8F-2565B2D3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F4A6-6AB8-49D0-861B-D21812F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351-415D-4306-B92F-6C81871D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67E29-D44D-44DE-BC6E-8308CC16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31E4B-84AB-4191-BF17-BA10ABF5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5017-A00C-4FB0-817D-75097687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1D58-5765-4765-B395-1EC7562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DEFA-9FFE-4BE9-B5A4-33D2253F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D81A-5FBE-4B20-8528-D2A1E45F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6E06-5F03-4330-88E7-861776EC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9CF5-1B54-44DB-A81A-9D82BDD4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64218-AC90-4FA3-B069-27C65230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5086A-F70C-4941-945F-CC842FDB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510-D089-41A0-A809-0DEBDB29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8027A-3BA1-4190-B775-F0187AAD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D16AD-339A-4840-8A38-9B672A6B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2CC44-A233-4272-B7C8-6299D49B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51096-BE79-4607-AFD7-CB815AC3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D6F5-21F2-450E-806A-A4F92815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D2036-6950-4740-A9CA-ACC0A3E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C03A-FFEF-409F-A42C-951FFF5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E797-D53E-41F1-A4AD-C6A163AC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D3038-6757-45D6-BB2E-3EF0880B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C8D5-1C9D-4999-A431-375B89FF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DF6-FEE5-4201-93EF-24C2E37C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5A59A-43A9-4CD2-99A7-DDB22B6D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BDD-6E26-4A9F-A2E3-38EA2D5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053-8677-4FC4-9CAC-34157026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624-6EDC-4654-AF6E-17311C47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2068-BF7C-4FCD-88DD-637BF2BBB88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3DFA-4DB3-498D-977A-6D11C4E1F1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5BC3-50D2-4683-A93E-0AD2C36C8B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5DDF-9AE2-4603-8488-C8A790805AD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6285-2C55-4D26-86C1-3E5F22E569B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80880" y="3276360"/>
            <a:ext cx="87631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therine Bradshaw, PhD, M.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Johns Hopkins Center for Prevention and Early Interven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Johns Hopkins Center for the Prevention of Youth Violen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Department of Mental Health, Johns Hopkins Bloomberg School of Public Health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June 201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0" y="1506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Strengths of the Science in Behavior Disorders: </a:t>
            </a:r>
            <a:br>
              <a:rPr sz="3400"/>
            </a:br>
            <a:r>
              <a:rPr b="0" i="1" lang="en-US" sz="3400" spc="-1" strike="noStrike">
                <a:solidFill>
                  <a:srgbClr val="ffffff"/>
                </a:solidFill>
                <a:latin typeface="Franklin Gothic Book"/>
              </a:rPr>
              <a:t>Reflections and Future Directions</a:t>
            </a:r>
            <a:endParaRPr b="0" lang="en-US" sz="3400" spc="-1" strike="noStrike">
              <a:solidFill>
                <a:srgbClr val="4f271c"/>
              </a:solidFill>
              <a:latin typeface="Franklin Gothic Book"/>
            </a:endParaRPr>
          </a:p>
        </p:txBody>
      </p:sp>
      <p:pic>
        <p:nvPicPr>
          <p:cNvPr id="237" name="Picture 7" descr="banner_5"/>
          <p:cNvPicPr/>
          <p:nvPr/>
        </p:nvPicPr>
        <p:blipFill>
          <a:blip r:embed="rId1"/>
          <a:stretch/>
        </p:blipFill>
        <p:spPr>
          <a:xfrm>
            <a:off x="0" y="0"/>
            <a:ext cx="9144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What is it going to take to move it out?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88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ssemination and Type II Translational Research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Spoth, 2008; Woolf, 2008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factors contribute to dissemination of programs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ultural/political shift toward accountabil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makes programs attractive to districts, schools, &amp; teachers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ory, ease of implementation, access, cos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ata to document behavioral vs. social-emotional competenc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ilosophical and theoretical differenc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acher-focused, management &amp; compliance oriented vs. child-focused, promotion of competenc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mmediate impact vs. long-term pay of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What works for whom, under what circumstances?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4479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Moderated effect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dentify profiles of responders (and non-respond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666000" indent="-18504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form research on tiered interventions (RtI, PBIS) and </a:t>
            </a: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adaptive or tailored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vention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3" marL="888480" indent="-185040">
              <a:spcBef>
                <a:spcPts val="374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terventions that “assign different dosages of certain program components across individuals, and/or within individuals across time,” and “the assignment of a particular level of dosage and/or type of treatment is based on the individual’s values on variables that are expected to moderate the effect of the treatment component” (Collins, Murphy, &amp; Bierman, 2004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ntextual facto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666000" indent="-18504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idelity of implementation, school disorder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Bradshaw, Koth et al., 2009,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</a:rPr>
              <a:t>Prevention Science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Looking inside the ‘black box’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dentifying mechanisms and testing the theory of chang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Know little about critical components of interven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packing pro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components work independent of the packag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rdering/sequenc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gram adapt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hould we emphasize programs or frameworks/models (e.g., RtI, PBIS)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search approach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onents analysis or factorial desig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elements are hardest or easiest to implement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Integrated_Model_Figure1.JPG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70102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914400" y="228600"/>
            <a:ext cx="7772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Franklin Gothic Book"/>
              </a:rPr>
              <a:t>Model of the Integr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Integrated_Model_Figure1.JPG"/>
          <p:cNvPicPr/>
          <p:nvPr/>
        </p:nvPicPr>
        <p:blipFill>
          <a:blip r:embed="rId1"/>
          <a:stretch/>
        </p:blipFill>
        <p:spPr>
          <a:xfrm>
            <a:off x="228600" y="-152280"/>
            <a:ext cx="2590920" cy="2431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9000" y="68580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Franklin Gothic Book"/>
              </a:rPr>
              <a:t>Rationale for Integrated Models of Prevention </a:t>
            </a:r>
            <a:endParaRPr b="0" lang="en-US" sz="36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380880" y="1905120"/>
            <a:ext cx="8534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interventions may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t adequately address the underlying mechanism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ibuting to the development of problem behavi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models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keep the uniqu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es of each intervention model and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rge those that overla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ulting in a model that delivers a broader set of approaches simultaneous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a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hared conceptual framework and 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tegrated models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ximize students’ exposur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tervention process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elements are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eaml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 that there is </a:t>
            </a:r>
            <a:r>
              <a:rPr b="1" i="1" lang="en-US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ess repetition and duplication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effort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0" y="632448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mitrovich, Bradshaw, Greenberg et al., 2009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logy in the Schoo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990720" y="990720"/>
            <a:ext cx="6629040" cy="5333400"/>
            <a:chOff x="990720" y="990720"/>
            <a:chExt cx="6629040" cy="5333400"/>
          </a:xfrm>
        </p:grpSpPr>
        <p:sp>
          <p:nvSpPr>
            <p:cNvPr id="252" name="AutoShape 3"/>
            <p:cNvSpPr/>
            <p:nvPr/>
          </p:nvSpPr>
          <p:spPr>
            <a:xfrm>
              <a:off x="990720" y="990720"/>
              <a:ext cx="6629040" cy="5333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c02"/>
                </a:gs>
                <a:gs pos="100000">
                  <a:srgbClr val="0b87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4"/>
            <p:cNvSpPr/>
            <p:nvPr/>
          </p:nvSpPr>
          <p:spPr>
            <a:xfrm>
              <a:off x="3052800" y="990720"/>
              <a:ext cx="2503800" cy="2009880"/>
            </a:xfrm>
            <a:prstGeom prst="triangle">
              <a:avLst>
                <a:gd name="adj" fmla="val 49889"/>
              </a:avLst>
            </a:prstGeom>
            <a:gradFill rotWithShape="0">
              <a:gsLst>
                <a:gs pos="0">
                  <a:srgbClr val="c40a1d"/>
                </a:gs>
                <a:gs pos="100000">
                  <a:srgbClr val="d2d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6"/>
          <p:cNvSpPr/>
          <p:nvPr/>
        </p:nvSpPr>
        <p:spPr>
          <a:xfrm>
            <a:off x="457200" y="13716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 rot="1123800">
            <a:off x="5243040" y="2234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chool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 rot="1382400">
            <a:off x="6249600" y="1519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Text Box 13" descr=""/>
          <p:cNvPicPr/>
          <p:nvPr/>
        </p:nvPicPr>
        <p:blipFill>
          <a:blip r:embed="rId1"/>
          <a:stretch/>
        </p:blipFill>
        <p:spPr>
          <a:xfrm>
            <a:off x="3346560" y="1749600"/>
            <a:ext cx="664920" cy="45050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4"/>
          <p:cNvSpPr/>
          <p:nvPr/>
        </p:nvSpPr>
        <p:spPr>
          <a:xfrm rot="1548600">
            <a:off x="759960" y="1384200"/>
            <a:ext cx="30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Rockwell"/>
              </a:rPr>
              <a:t>Social Emot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289080" y="4608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 rot="21195600">
            <a:off x="206640" y="3014280"/>
            <a:ext cx="30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ruanc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7"/>
          <p:cNvSpPr/>
          <p:nvPr/>
        </p:nvSpPr>
        <p:spPr>
          <a:xfrm rot="20149800">
            <a:off x="6000840" y="3065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uspensi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 rot="917400">
            <a:off x="380160" y="4952520"/>
            <a:ext cx="36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pecial Education Assessment and Refer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 rot="580800">
            <a:off x="4442760" y="5486040"/>
            <a:ext cx="45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Bullying Prevention/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Tiered Preven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2693880" y="3579840"/>
            <a:ext cx="34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ositive Behavioral Interventions and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76201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43 0.03053 L -0.24427 -0.1302 E">
                                      <p:cBhvr>
                                        <p:cTn id="6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6 -0.00439 L -0.42083 0.19543 E">
                                      <p:cBhvr>
                                        <p:cTn id="8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83071E-006 L 0.23368 0.5592 E">
                                      <p:cBhvr>
                                        <p:cTn id="10" dur="5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45694 0.23889 E">
                                      <p:cBhvr>
                                        <p:cTn id="1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486 L -0.46458 0.24977 E">
                                      <p:cBhvr>
                                        <p:cTn id="14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28646 -0.38658 E">
                                      <p:cBhvr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218E-006 L -0.10903 -0.0666 E">
                                      <p:cBhvr>
                                        <p:cTn id="1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Franklin Gothic Book"/>
              </a:rPr>
              <a:t>What is it going to take to do it well?</a:t>
            </a:r>
            <a:endParaRPr b="0" lang="en-US" sz="40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0666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mplementation fideli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extual influences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Domitrovich, Bradshaw, Poduska et al., 2008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pport syst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aching and on-site technical assistanc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dels of coaching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e.g., Technical/Expert, Problem-Solving, Team-Building, Reflective Practice; Denton &amp; Hasbrouck, in press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cess for training and supporting coach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aching as an adaptive/tailored proces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artnershi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dels of partnership with teachers, administrators, district, st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666000" indent="-185040">
              <a:spcBef>
                <a:spcPts val="374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pecial issue of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dministration and Policy in Mental Health and Mental Health Services Research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itled  “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Forging and Sustai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Partnerships to Support Child Mental Health Prevention and Services Research”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with Katherine Taylor Hayn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Framework_Final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0:06:20Z</dcterms:created>
  <dc:creator>Catherine Bradshaw</dc:creator>
  <dc:description/>
  <dc:language>en-US</dc:language>
  <cp:lastModifiedBy>Jdabrowski</cp:lastModifiedBy>
  <dcterms:modified xsi:type="dcterms:W3CDTF">2010-07-02T15:15:23Z</dcterms:modified>
  <cp:revision>264</cp:revision>
  <dc:subject/>
  <dc:title>Prevention of Mental Health Problems: A Public Health Perspective</dc:title>
</cp:coreProperties>
</file>