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5461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524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880" y="156996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7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524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880" y="388512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5461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920" y="388512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56996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388512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6640" indent="-20664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417160" y="6400800"/>
            <a:ext cx="73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293F31-5B1C-4736-98F4-F4B8C5F6DC45}" type="slidenum">
              <a:rPr b="1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304920" y="333360"/>
            <a:ext cx="3125520" cy="1039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6640" indent="-20664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9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9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9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12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Effectiveness in Urban School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38228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Buddin &amp; Gema Zamar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S Research Conference, June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5"/>
          <p:cNvGraphicFramePr/>
          <p:nvPr/>
        </p:nvGraphicFramePr>
        <p:xfrm>
          <a:off x="257040" y="1417680"/>
          <a:ext cx="4086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417680"/>
                    <a:ext cx="4086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9400" y="1569960"/>
            <a:ext cx="3809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er quality distribution has a large interquartile range in reading and ma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with a teacher at the 25th percentile of the teacher quality distribution score 9 to 12 percentile point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an do similar students assigned to a teacher at the 75th percent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teachers get much better classroom results than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28600" y="312840"/>
            <a:ext cx="8686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Teacher Quality Has A Large Effect on Student Test Scores,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After Controlling for Stu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Do Traditional Measures of Teacher Qualifications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Predict Classroom Performance?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7240" y="150660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 experience is weakly related to student achiev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five year increase in experience increases achievement by less than one percentage poi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 education level has no effect on student achiev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so, little evidence that student/teacher match affects classroom achievement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ce/ethnic mat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der mat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income students with better educated teac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66"/>
                </a:solidFill>
                <a:latin typeface="Arial"/>
              </a:rPr>
              <a:t>Do Higher Scoring Teachers Have Better </a:t>
            </a:r>
            <a:br>
              <a:rPr sz="2900"/>
            </a:br>
            <a:r>
              <a:rPr b="1" i="1" lang="en-US" sz="2900" spc="-1" strike="noStrike">
                <a:solidFill>
                  <a:srgbClr val="ffcc66"/>
                </a:solidFill>
                <a:latin typeface="Arial"/>
              </a:rPr>
              <a:t>Student Achievement in Their Classrooms?</a:t>
            </a:r>
            <a:endParaRPr b="1" i="1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5224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80000"/>
              </a:lnSpc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censure scores are unrelated to student achiev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aptitude, subject-matter, and reading pedagogy score have no significant effects on student achiev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looked at scores for each test separately and different tests at different grades, but the scores did not matter in either reading or m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ined whether teachers who initially failed licensure tests had lower student achievement in their classroo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 failures were also insignificantly linked to achievement sco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7240" y="125208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censure tests and teacher performance are available only for teachers who pass the t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teachers who fall below the cut scores on the licensure tests might have worse classroom outcomes than teachers who ultimately surpass those cut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sing the cut scores of current tests would not improve student achie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cter licensure screens might do a better job of differentiating teac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ghter screens might significantly reduce the pool of available teachers and discourage qualified individuals from pursuing teaching caree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licensure results provide no indication of how well teachers will do in the classro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03200"/>
            <a:ext cx="9144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Limitations of Licensure Tes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3164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Special Findings from Middle 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High School Analysi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6714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8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ddle school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th elementary school credentials had slightly better success than did teachers with secondary school credenti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er general knowledge or subject-matter skill (as measured on licensure exam) did not affect classroom effective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80000"/>
              </a:lnSpc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school results</a:t>
            </a: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hievement outcomes differ substantially from teacher to teacher, and the effects of a good teacher spill over from one subject to anothe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en here, effectiveness was unrelated to licensure sco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91440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66"/>
                </a:solidFill>
                <a:latin typeface="Arial"/>
              </a:rPr>
              <a:t>How does teacher quality vary across </a:t>
            </a:r>
            <a:br>
              <a:rPr sz="2500"/>
            </a:br>
            <a:r>
              <a:rPr b="1" lang="en-US" sz="2500" spc="-1" strike="noStrike">
                <a:solidFill>
                  <a:srgbClr val="ffcc66"/>
                </a:solidFill>
                <a:latin typeface="Arial"/>
              </a:rPr>
              <a:t>classrooms and across schools?</a:t>
            </a:r>
            <a:endParaRPr b="1" i="1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706040"/>
            <a:ext cx="77724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ble variation in teacher quality across classrooms and less variation across schoo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teacher quality measures and licensure test scores explain little of the learning gap between these schoo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cher quality gap between low- and high- scoring schools is only about one percentage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orts to improve the teaching performance in low performing schools are unlikely to succeed, if they rely entirely on traditional measures of teacher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huffling teachers with better qualifications to low performing schools is unlikely to close the achievement g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Final Thought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56996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 quality measures may be weakly tied to student achievement because teacher effort is inversely related to those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more experienced or smarter teachers are bet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each, but they do not consistently perform in the classro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999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haps the current compensation system provides too little incentive for the “best” teachers to deliver their best performance in the classroom on a consistent ba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Research Question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458720"/>
            <a:ext cx="77724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eacher quality vary across classrooms and across schools?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teacher qualifications affect teacher effectiven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measures like experience and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er licensure test scor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he best teachers concentrated in a few school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achers with single-subject credentials more effective in middle school than teacher with multi-subject credential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quality of high school ELA instruction spill over into math and visa vers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944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Focus on Los Angeles Unified School District</a:t>
            </a:r>
            <a:endParaRPr b="1" i="1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600" y="1440000"/>
            <a:ext cx="83739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USD is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rgest district in the U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90,000 stud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6,000 teach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00 schoo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ight years worth of student achievement data for students in grades 2 through 1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hievement scores in reading and math each ye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udents records linked longitudinal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rs are matched with individual stud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480" indent="-222480">
              <a:spcBef>
                <a:spcPts val="275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cher licensure tests scores as well as traditional teacher credentials like experience and educational backgroun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314280"/>
            <a:ext cx="9144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Teacher Licensure Test Scor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0120" y="136836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e other states, California relies on expert panels of teachers, administrators, and content experts to develop tests and set cut s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ifornia requires passing scores on three tests as part of teacher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aptitud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ing pedagogy (elementary onl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ject matter knowledg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25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entialing commission receives licensure scores directly, but they are not reported to districts or teaching candi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ential teachers know whether they pass 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cts know if a candidate is certified or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How Do Teaching Candidates Perform on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California Licensure Tests? 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473040" y="1643040"/>
          <a:ext cx="798048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43040"/>
                    <a:ext cx="798048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Pass Rates Rise with College 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468360" y="1600200"/>
          <a:ext cx="8207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7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8080"/>
            <a:ext cx="91440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cc66"/>
                </a:solidFill>
                <a:latin typeface="Arial"/>
              </a:rPr>
              <a:t>Empirical Issues</a:t>
            </a:r>
            <a:endParaRPr b="1" i="1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6440" y="929880"/>
            <a:ext cx="801396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timation methods control for prior learning and isolate the contribution of current teacher and school inputs to student learn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No ideal method—more flexible models require more years data and involve restrictions that may offset benefi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625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We used three types of model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mporaneous value-added: student achievement is a function of student and teacher fixed effe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alue-added gains: Similar but uses year-to-year gains as dependent variab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gged achievement: Current student achievement as a function of prior year achievement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79480" y="5794200"/>
            <a:ext cx="7574040" cy="836640"/>
          </a:xfrm>
          <a:prstGeom prst="rect">
            <a:avLst/>
          </a:prstGeom>
          <a:solidFill>
            <a:srgbClr val="006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ults for all models for elementary, midd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igh schools—focus on elementary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Low Scoring Schools Have Much Different Mix of Students </a:t>
            </a:r>
            <a:br>
              <a:rPr sz="2400"/>
            </a:b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and Teachers than High Scoring Schools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8400" y="1531800"/>
            <a:ext cx="3600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minority, English learner, and low income students in low scoring schoo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aker teacher credentials in low scoring schoo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 experie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wer advanced degre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wer licensure scor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past two years, LAUSD has cut young teaching sta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fewer young teachers, most of the gap in teacher characteristics has disappea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clear how this will affect achievem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011480" y="1219320"/>
          <a:ext cx="4775400" cy="5383080"/>
        </p:xfrm>
        <a:graphic>
          <a:graphicData uri="http://schemas.openxmlformats.org/drawingml/2006/table">
            <a:tbl>
              <a:tblPr/>
              <a:tblGrid>
                <a:gridCol w="2951280"/>
                <a:gridCol w="914400"/>
                <a:gridCol w="909720"/>
              </a:tblGrid>
              <a:tr h="1308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Lowest Quartile Sch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ghest Quartile Sch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Student Characteris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Reading Percent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34.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53.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Math Percent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40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62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spa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L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Parents not high school gradu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Teacher Characteris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Years of Experi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6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9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Experience &lt; 3 y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Bl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Hispa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262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Master's/Docto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General Ability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Subject Matter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0.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ab4"/>
                    </a:solidFill>
                  </a:tcPr>
                </a:tc>
              </a:tr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Reading Pedagogy (standardiz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dec" pos="204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ahoma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ab4"/>
                    </a:solidFill>
                  </a:tcPr>
                </a:tc>
              </a:tr>
            </a:tbl>
          </a:graphicData>
        </a:graphic>
      </p:graphicFrame>
      <p:sp>
        <p:nvSpPr>
          <p:cNvPr id="98" name="AutoShape 760"/>
          <p:cNvSpPr/>
          <p:nvPr/>
        </p:nvSpPr>
        <p:spPr>
          <a:xfrm>
            <a:off x="4022640" y="3627360"/>
            <a:ext cx="4756320" cy="411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761"/>
          <p:cNvSpPr/>
          <p:nvPr/>
        </p:nvSpPr>
        <p:spPr>
          <a:xfrm>
            <a:off x="4016520" y="5611680"/>
            <a:ext cx="4755960" cy="30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eacher Effects Are Much Larger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an School Effects 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Text Box 152"/>
          <p:cNvSpPr/>
          <p:nvPr/>
        </p:nvSpPr>
        <p:spPr>
          <a:xfrm>
            <a:off x="928800" y="5562720"/>
            <a:ext cx="7208640" cy="82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quality teachers are spread across schools and not concentrated in a few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8040" y="1866960"/>
          <a:ext cx="7772400" cy="3349440"/>
        </p:xfrm>
        <a:graphic>
          <a:graphicData uri="http://schemas.openxmlformats.org/drawingml/2006/table">
            <a:tbl>
              <a:tblPr/>
              <a:tblGrid>
                <a:gridCol w="5126040"/>
                <a:gridCol w="1498680"/>
                <a:gridCol w="1147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#1.  Student &amp; Teacher Fixed Eff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.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eacher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#2.  Student &amp; School Fixed Eff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.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chool (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chool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3fab4"/>
                      </a:solidFill>
                    </a:lnL>
                    <a:lnR w="5760">
                      <a:solidFill>
                        <a:srgbClr val="f3fab4"/>
                      </a:solidFill>
                    </a:lnR>
                    <a:lnT w="5760">
                      <a:solidFill>
                        <a:srgbClr val="f3fab4"/>
                      </a:solidFill>
                    </a:lnT>
                    <a:lnB w="5760">
                      <a:solidFill>
                        <a:srgbClr val="f3fab4"/>
                      </a:solidFill>
                    </a:lnB>
                    <a:solidFill>
                      <a:srgbClr val="f3fab4"/>
                    </a:solidFill>
                  </a:tcPr>
                </a:tc>
              </a:tr>
            </a:tbl>
          </a:graphicData>
        </a:graphic>
      </p:graphicFrame>
      <p:sp>
        <p:nvSpPr>
          <p:cNvPr id="103" name="Line 692"/>
          <p:cNvSpPr/>
          <p:nvPr/>
        </p:nvSpPr>
        <p:spPr>
          <a:xfrm>
            <a:off x="609480" y="3817800"/>
            <a:ext cx="775188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93"/>
          <p:cNvSpPr/>
          <p:nvPr/>
        </p:nvSpPr>
        <p:spPr>
          <a:xfrm>
            <a:off x="603360" y="2351160"/>
            <a:ext cx="77659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8:03:48Z</dcterms:created>
  <dc:creator>Rochelle Hardison</dc:creator>
  <dc:description/>
  <cp:keywords/>
  <dc:language>en-US</dc:language>
  <cp:lastModifiedBy>Jdabrowski</cp:lastModifiedBy>
  <cp:lastPrinted>2002-01-16T19:02:41Z</cp:lastPrinted>
  <dcterms:modified xsi:type="dcterms:W3CDTF">2010-07-01T20:12:42Z</dcterms:modified>
  <cp:revision>118</cp:revision>
  <dc:subject/>
  <dc:title>White Background Template, Purple Logo</dc:title>
</cp:coreProperties>
</file>