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546120"/>
            <a:ext cx="914400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569960"/>
            <a:ext cx="777240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3885120"/>
            <a:ext cx="777240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546120"/>
            <a:ext cx="914400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569960"/>
            <a:ext cx="379260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920" y="1569960"/>
            <a:ext cx="379260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3885120"/>
            <a:ext cx="379260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920" y="3885120"/>
            <a:ext cx="379260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546120"/>
            <a:ext cx="914400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569960"/>
            <a:ext cx="250236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5240" y="1569960"/>
            <a:ext cx="250236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880" y="1569960"/>
            <a:ext cx="250236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3885120"/>
            <a:ext cx="250236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5240" y="3885120"/>
            <a:ext cx="250236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880" y="3885120"/>
            <a:ext cx="250236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546120"/>
            <a:ext cx="914400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7240" y="1569960"/>
            <a:ext cx="777240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546120"/>
            <a:ext cx="914400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569960"/>
            <a:ext cx="777240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546120"/>
            <a:ext cx="914400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7240" y="1569960"/>
            <a:ext cx="379260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9920" y="1569960"/>
            <a:ext cx="379260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546120"/>
            <a:ext cx="914400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0" y="546120"/>
            <a:ext cx="9144000" cy="28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546120"/>
            <a:ext cx="914400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7240" y="1569960"/>
            <a:ext cx="379260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9920" y="1569960"/>
            <a:ext cx="379260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7240" y="3885120"/>
            <a:ext cx="379260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0" y="546120"/>
            <a:ext cx="914400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569960"/>
            <a:ext cx="777240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546120"/>
            <a:ext cx="914400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7240" y="1569960"/>
            <a:ext cx="379260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9920" y="1569960"/>
            <a:ext cx="379260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69920" y="3885120"/>
            <a:ext cx="379260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546120"/>
            <a:ext cx="914400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7240" y="1569960"/>
            <a:ext cx="379260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9920" y="1569960"/>
            <a:ext cx="379260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7240" y="3885120"/>
            <a:ext cx="777240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546120"/>
            <a:ext cx="914400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7240" y="1569960"/>
            <a:ext cx="777240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87240" y="3885120"/>
            <a:ext cx="777240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546120"/>
            <a:ext cx="914400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7240" y="1569960"/>
            <a:ext cx="379260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9920" y="1569960"/>
            <a:ext cx="379260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7240" y="3885120"/>
            <a:ext cx="379260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69920" y="3885120"/>
            <a:ext cx="379260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546120"/>
            <a:ext cx="914400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7240" y="1569960"/>
            <a:ext cx="250236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15240" y="1569960"/>
            <a:ext cx="250236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42880" y="1569960"/>
            <a:ext cx="250236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87240" y="3885120"/>
            <a:ext cx="250236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15240" y="3885120"/>
            <a:ext cx="250236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42880" y="3885120"/>
            <a:ext cx="250236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546120"/>
            <a:ext cx="914400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569960"/>
            <a:ext cx="777240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546120"/>
            <a:ext cx="914400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569960"/>
            <a:ext cx="379260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920" y="1569960"/>
            <a:ext cx="379260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546120"/>
            <a:ext cx="914400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0" y="546120"/>
            <a:ext cx="9144000" cy="28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546120"/>
            <a:ext cx="914400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569960"/>
            <a:ext cx="379260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920" y="1569960"/>
            <a:ext cx="379260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3885120"/>
            <a:ext cx="379260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546120"/>
            <a:ext cx="914400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569960"/>
            <a:ext cx="379260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920" y="1569960"/>
            <a:ext cx="379260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920" y="3885120"/>
            <a:ext cx="379260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546120"/>
            <a:ext cx="914400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569960"/>
            <a:ext cx="379260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920" y="1569960"/>
            <a:ext cx="379260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3885120"/>
            <a:ext cx="777240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546120"/>
            <a:ext cx="914400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1" i="1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569960"/>
            <a:ext cx="777240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marL="206640" indent="-206640">
              <a:spcBef>
                <a:spcPts val="2999"/>
              </a:spcBef>
              <a:buClr>
                <a:srgbClr val="ffcc66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29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2999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29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72000" indent="-207720">
              <a:spcBef>
                <a:spcPts val="2999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72000" indent="-207720">
              <a:spcBef>
                <a:spcPts val="2999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72000" indent="-207720">
              <a:spcBef>
                <a:spcPts val="2999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8417160" y="6400800"/>
            <a:ext cx="739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5360" bIns="4536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2846A403-C6FF-4580-A704-E1854954F361}" type="slidenum">
              <a:rPr b="1" lang="en-US" sz="900" spc="-1" strike="noStrike">
                <a:solidFill>
                  <a:srgbClr val="ffcc6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4" descr=""/>
          <p:cNvPicPr/>
          <p:nvPr/>
        </p:nvPicPr>
        <p:blipFill>
          <a:blip r:embed="rId2"/>
          <a:stretch/>
        </p:blipFill>
        <p:spPr>
          <a:xfrm>
            <a:off x="304920" y="333360"/>
            <a:ext cx="3125520" cy="103968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0" y="546120"/>
            <a:ext cx="914400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1" i="1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687240" y="1569960"/>
            <a:ext cx="777240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marL="206640" indent="-206640">
              <a:spcBef>
                <a:spcPts val="2999"/>
              </a:spcBef>
              <a:buClr>
                <a:srgbClr val="ffcc66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29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2999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29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72000" indent="-207720">
              <a:spcBef>
                <a:spcPts val="2999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72000" indent="-207720">
              <a:spcBef>
                <a:spcPts val="2999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72000" indent="-207720">
              <a:spcBef>
                <a:spcPts val="2999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24127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66"/>
                </a:solidFill>
                <a:latin typeface="Arial"/>
              </a:rPr>
              <a:t>Teacher Effectiveness in Urban Schools</a:t>
            </a:r>
            <a:endParaRPr b="1" i="1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0" y="382284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ichard Buddin &amp; Gema Zamarro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ES Research Conference, June 2010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Object 5"/>
          <p:cNvGraphicFramePr/>
          <p:nvPr/>
        </p:nvGraphicFramePr>
        <p:xfrm>
          <a:off x="257040" y="1417680"/>
          <a:ext cx="4086360" cy="490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7040" y="1417680"/>
                    <a:ext cx="4086360" cy="490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49400" y="1569960"/>
            <a:ext cx="380988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7160" indent="-227160">
              <a:lnSpc>
                <a:spcPct val="90000"/>
              </a:lnSpc>
              <a:spcBef>
                <a:spcPts val="2500"/>
              </a:spcBef>
              <a:buClr>
                <a:srgbClr val="ffcc66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acher quality distribution has a large interquartile range in reading and ma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7160" indent="-227160">
              <a:lnSpc>
                <a:spcPct val="90000"/>
              </a:lnSpc>
              <a:spcBef>
                <a:spcPts val="2500"/>
              </a:spcBef>
              <a:buClr>
                <a:srgbClr val="ffcc66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udents with a teacher at the 25th percentile of the teacher quality distribution score 9 to 12 percentile points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lower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than do similar students assigned to a teacher at the 75th percentil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7160" indent="-227160">
              <a:lnSpc>
                <a:spcPct val="90000"/>
              </a:lnSpc>
              <a:spcBef>
                <a:spcPts val="2500"/>
              </a:spcBef>
              <a:buClr>
                <a:srgbClr val="ffcc66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teachers get much better classroom results than othe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7"/>
          <p:cNvSpPr/>
          <p:nvPr/>
        </p:nvSpPr>
        <p:spPr>
          <a:xfrm>
            <a:off x="228600" y="312840"/>
            <a:ext cx="86868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66"/>
                </a:solidFill>
                <a:latin typeface="Arial"/>
              </a:rPr>
              <a:t>Teacher Quality Has A Large Effect on Student Test Scores, </a:t>
            </a:r>
            <a:br>
              <a:rPr sz="2400"/>
            </a:br>
            <a:r>
              <a:rPr b="1" i="1" lang="en-US" sz="2400" spc="-1" strike="noStrike">
                <a:solidFill>
                  <a:srgbClr val="ffcc66"/>
                </a:solidFill>
                <a:latin typeface="Arial"/>
              </a:rPr>
              <a:t>After Controlling for Student Characterist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434880"/>
            <a:ext cx="914400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66"/>
                </a:solidFill>
                <a:latin typeface="Arial"/>
              </a:rPr>
              <a:t>Do Traditional Measures of Teacher Qualifications </a:t>
            </a:r>
            <a:br>
              <a:rPr sz="2400"/>
            </a:br>
            <a:r>
              <a:rPr b="1" i="1" lang="en-US" sz="2400" spc="-1" strike="noStrike">
                <a:solidFill>
                  <a:srgbClr val="ffcc66"/>
                </a:solidFill>
                <a:latin typeface="Arial"/>
              </a:rPr>
              <a:t>Predict Classroom Performance?</a:t>
            </a:r>
            <a:endParaRPr b="1" i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7240" y="1506600"/>
            <a:ext cx="777240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7160" indent="-227160">
              <a:lnSpc>
                <a:spcPct val="90000"/>
              </a:lnSpc>
              <a:spcBef>
                <a:spcPts val="2750"/>
              </a:spcBef>
              <a:buClr>
                <a:srgbClr val="ffcc66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eacher experience is weakly related to student achievement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A five year increase in experience increases achievement by less than one percentage point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7160" indent="-227160">
              <a:lnSpc>
                <a:spcPct val="90000"/>
              </a:lnSpc>
              <a:spcBef>
                <a:spcPts val="2750"/>
              </a:spcBef>
              <a:buClr>
                <a:srgbClr val="ffcc66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eacher education level has no effect on student achievement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7160" indent="-227160">
              <a:lnSpc>
                <a:spcPct val="90000"/>
              </a:lnSpc>
              <a:spcBef>
                <a:spcPts val="2750"/>
              </a:spcBef>
              <a:buClr>
                <a:srgbClr val="ffcc66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Also, little evidence that student/teacher match affects classroom achievement 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Race/ethnic match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Gender match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High income students with better educated teacher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75760"/>
            <a:ext cx="914400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ffcc66"/>
                </a:solidFill>
                <a:latin typeface="Arial"/>
              </a:rPr>
              <a:t>Do Higher Scoring Teachers Have Better </a:t>
            </a:r>
            <a:br>
              <a:rPr sz="2900"/>
            </a:br>
            <a:r>
              <a:rPr b="1" i="1" lang="en-US" sz="2900" spc="-1" strike="noStrike">
                <a:solidFill>
                  <a:srgbClr val="ffcc66"/>
                </a:solidFill>
                <a:latin typeface="Arial"/>
              </a:rPr>
              <a:t>Student Achievement in Their Classrooms?</a:t>
            </a:r>
            <a:endParaRPr b="1" i="1" lang="en-US" sz="29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55560" y="1522440"/>
            <a:ext cx="777240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7160" indent="-227160">
              <a:lnSpc>
                <a:spcPct val="80000"/>
              </a:lnSpc>
              <a:spcBef>
                <a:spcPts val="2999"/>
              </a:spcBef>
              <a:buClr>
                <a:srgbClr val="ffcc66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censure scores are unrelated to student achievem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eneral aptitude, subject-matter, and reading pedagogy score have no significant effects on student achievem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so looked at scores for each test separately and different tests at different grades, but the scores did not matter in either reading or m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7160" indent="-227160">
              <a:lnSpc>
                <a:spcPct val="80000"/>
              </a:lnSpc>
              <a:spcBef>
                <a:spcPts val="2999"/>
              </a:spcBef>
              <a:buClr>
                <a:srgbClr val="ffcc66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ined whether teachers who initially failed licensure tests had lower student achievement in their classroo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itial failures were also insignificantly linked to achievement scor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7160" indent="0">
              <a:lnSpc>
                <a:spcPct val="8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687240" y="1252080"/>
            <a:ext cx="7772400" cy="50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7160" indent="-227160">
              <a:spcBef>
                <a:spcPts val="2500"/>
              </a:spcBef>
              <a:buClr>
                <a:srgbClr val="ffcc66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censure tests and teacher performance are available only for teachers who pass the tes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tential teachers who fall below the cut scores on the licensure tests might have worse classroom outcomes than teachers who ultimately surpass those cut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aising the cut scores of current tests would not improve student achieveme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7160" indent="-227160">
              <a:spcBef>
                <a:spcPts val="2500"/>
              </a:spcBef>
              <a:buClr>
                <a:srgbClr val="ffcc66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ricter licensure screens might do a better job of differentiating teache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ighter screens might significantly reduce the pool of available teachers and discourage qualified individuals from pursuing teaching careers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rrent licensure results provide no indication of how well teachers will do in the classroo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0" y="403200"/>
            <a:ext cx="914400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66"/>
                </a:solidFill>
                <a:latin typeface="Arial"/>
              </a:rPr>
              <a:t>Limitations of Licensure Test Resul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431640"/>
            <a:ext cx="914400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66"/>
                </a:solidFill>
                <a:latin typeface="Arial"/>
              </a:rPr>
              <a:t>Special Findings from Middle and </a:t>
            </a:r>
            <a:br>
              <a:rPr sz="2800"/>
            </a:br>
            <a:r>
              <a:rPr b="1" i="1" lang="en-US" sz="2800" spc="-1" strike="noStrike">
                <a:solidFill>
                  <a:srgbClr val="ffcc66"/>
                </a:solidFill>
                <a:latin typeface="Arial"/>
              </a:rPr>
              <a:t>High School Analysis</a:t>
            </a:r>
            <a:endParaRPr b="1" i="1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7240" y="1671480"/>
            <a:ext cx="777240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7160" indent="-227160">
              <a:lnSpc>
                <a:spcPct val="80000"/>
              </a:lnSpc>
              <a:spcBef>
                <a:spcPts val="2750"/>
              </a:spcBef>
              <a:buClr>
                <a:srgbClr val="ffcc66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Middle school result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eachers with elementary school credentials had slightly better success than did teachers with secondary school credential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Higher general knowledge or subject-matter skill (as measured on licensure exam) did not affect classroom effectivenes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7160" indent="-227160">
              <a:lnSpc>
                <a:spcPct val="80000"/>
              </a:lnSpc>
              <a:spcBef>
                <a:spcPts val="2750"/>
              </a:spcBef>
              <a:buClr>
                <a:srgbClr val="ffcc66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High school results</a:t>
            </a:r>
            <a:r>
              <a:rPr b="1" lang="en-US" sz="22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Achievement outcomes differ substantially from teacher to teacher, and the effects of a good teacher spill over from one subject to another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Even here, effectiveness was unrelated to licensure score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7160" indent="0">
              <a:lnSpc>
                <a:spcPct val="80000"/>
              </a:lnSpc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421920"/>
            <a:ext cx="9144000" cy="60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cc66"/>
                </a:solidFill>
                <a:latin typeface="Arial"/>
              </a:rPr>
              <a:t>How does teacher quality vary across </a:t>
            </a:r>
            <a:br>
              <a:rPr sz="2500"/>
            </a:br>
            <a:r>
              <a:rPr b="1" lang="en-US" sz="2500" spc="-1" strike="noStrike">
                <a:solidFill>
                  <a:srgbClr val="ffcc66"/>
                </a:solidFill>
                <a:latin typeface="Arial"/>
              </a:rPr>
              <a:t>classrooms and across schools?</a:t>
            </a:r>
            <a:endParaRPr b="1" i="1" lang="en-US" sz="25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35040" y="1706040"/>
            <a:ext cx="777240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lnSpc>
                <a:spcPct val="90000"/>
              </a:lnSpc>
              <a:spcBef>
                <a:spcPts val="2500"/>
              </a:spcBef>
              <a:buClr>
                <a:srgbClr val="ffcc66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siderable variation in teacher quality across classrooms and less variation across schoo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2500"/>
              </a:spcBef>
              <a:buClr>
                <a:srgbClr val="ffcc66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aditional teacher quality measures and licensure test scores explain little of the learning gap between these schoo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2500"/>
              </a:spcBef>
              <a:buClr>
                <a:srgbClr val="ffcc66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teacher quality gap between low- and high- scoring schools is only about one percentage poi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fforts to improve the teaching performance in low performing schools are unlikely to succeed, if they rely entirely on traditional measures of teacher quali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huffling teachers with better qualifications to low performing schools is unlikely to close the achievement gap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546120"/>
            <a:ext cx="914400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66"/>
                </a:solidFill>
                <a:latin typeface="Arial"/>
              </a:rPr>
              <a:t>Final Thought</a:t>
            </a:r>
            <a:endParaRPr b="1" i="1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7240" y="1569960"/>
            <a:ext cx="777240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7160" indent="-227160">
              <a:spcBef>
                <a:spcPts val="2999"/>
              </a:spcBef>
              <a:buClr>
                <a:srgbClr val="ffcc66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acher quality measures may be weakly tied to student achievement because teacher effort is inversely related to those measur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7160" indent="-227160">
              <a:spcBef>
                <a:spcPts val="2999"/>
              </a:spcBef>
              <a:buClr>
                <a:srgbClr val="ffcc66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erhaps more experienced or smarter teachers are better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abl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teach, but they do not consistently perform in the classroo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7160" indent="-227160">
              <a:spcBef>
                <a:spcPts val="2999"/>
              </a:spcBef>
              <a:buClr>
                <a:srgbClr val="ffcc66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erhaps the current compensation system provides too little incentive for the “best” teachers to deliver their best performance in the classroom on a consistent basi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546120"/>
            <a:ext cx="914400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66"/>
                </a:solidFill>
                <a:latin typeface="Arial"/>
              </a:rPr>
              <a:t>Research Questions</a:t>
            </a:r>
            <a:endParaRPr b="1" i="1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7240" y="1458720"/>
            <a:ext cx="7772400" cy="44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lnSpc>
                <a:spcPct val="90000"/>
              </a:lnSpc>
              <a:spcBef>
                <a:spcPts val="2500"/>
              </a:spcBef>
              <a:buClr>
                <a:srgbClr val="ffcc66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 does teacher quality vary across classrooms and across schools? 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2500"/>
              </a:spcBef>
              <a:buClr>
                <a:srgbClr val="ffcc66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 do teacher qualifications affect teacher effectivenes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aditional measures like experience and educ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acher licensure test scores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2500"/>
              </a:spcBef>
              <a:buClr>
                <a:srgbClr val="ffcc66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re the best teachers concentrated in a few school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2500"/>
              </a:spcBef>
              <a:buClr>
                <a:srgbClr val="ffcc66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re teachers with single-subject credentials more effective in middle school than teacher with multi-subject credential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2500"/>
              </a:spcBef>
              <a:buClr>
                <a:srgbClr val="ffcc66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oes the quality of high school ELA instruction spill over into math and visa versa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469440"/>
            <a:ext cx="914400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100" spc="-1" strike="noStrike">
                <a:solidFill>
                  <a:srgbClr val="ffcc66"/>
                </a:solidFill>
                <a:latin typeface="Arial"/>
              </a:rPr>
              <a:t>Focus on Los Angeles Unified School District</a:t>
            </a:r>
            <a:endParaRPr b="1" i="1" lang="en-US" sz="31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80600" y="1440000"/>
            <a:ext cx="8373960" cy="470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222480" indent="-222480">
              <a:spcBef>
                <a:spcPts val="2750"/>
              </a:spcBef>
              <a:buClr>
                <a:srgbClr val="ffcc66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LAUSD is 2</a:t>
            </a:r>
            <a:r>
              <a:rPr b="0" lang="en-US" sz="22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largest district in the US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690,000 student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36,000 teacher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800 school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2480" indent="-222480">
              <a:spcBef>
                <a:spcPts val="2750"/>
              </a:spcBef>
              <a:buClr>
                <a:srgbClr val="ffcc66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ight years worth of student achievement data for students in grades 2 through 11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chievement scores in reading and math each year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tudents records linked longitudinally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eachers are matched with individual student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2480" indent="-222480">
              <a:spcBef>
                <a:spcPts val="2750"/>
              </a:spcBef>
              <a:buClr>
                <a:srgbClr val="ffcc66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eacher licensure tests scores as well as traditional teacher credentials like experience and educational background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4"/>
          <p:cNvSpPr/>
          <p:nvPr/>
        </p:nvSpPr>
        <p:spPr>
          <a:xfrm>
            <a:off x="0" y="314280"/>
            <a:ext cx="914400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100" spc="-1" strike="noStrike">
                <a:solidFill>
                  <a:srgbClr val="ffcc66"/>
                </a:solidFill>
                <a:latin typeface="Arial"/>
              </a:rPr>
              <a:t>Teacher Licensure Test Scor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600120" y="1368360"/>
            <a:ext cx="79246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27160" indent="-227160">
              <a:spcBef>
                <a:spcPts val="2500"/>
              </a:spcBef>
              <a:buClr>
                <a:srgbClr val="ffcc66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ke other states, California relies on expert panels of teachers, administrators, and content experts to develop tests and set cut sco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7160" indent="-227160">
              <a:spcBef>
                <a:spcPts val="2500"/>
              </a:spcBef>
              <a:buClr>
                <a:srgbClr val="ffcc66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lifornia requires passing scores on three tests as part of teacher certificat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eneral aptitude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ading pedagogy (elementary only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ubject matter knowledge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7160" indent="-227160">
              <a:spcBef>
                <a:spcPts val="2500"/>
              </a:spcBef>
              <a:buClr>
                <a:srgbClr val="ffcc66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redentialing commission receives licensure scores directly, but they are not reported to districts or teaching candida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tential teachers know whether they pass or no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cts know if a candidate is certified or no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466560"/>
            <a:ext cx="914400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66"/>
                </a:solidFill>
                <a:latin typeface="Arial"/>
              </a:rPr>
              <a:t>How Do Teaching Candidates Perform on </a:t>
            </a:r>
            <a:br>
              <a:rPr sz="2800"/>
            </a:br>
            <a:r>
              <a:rPr b="1" i="1" lang="en-US" sz="2800" spc="-1" strike="noStrike">
                <a:solidFill>
                  <a:srgbClr val="ffcc66"/>
                </a:solidFill>
                <a:latin typeface="Arial"/>
              </a:rPr>
              <a:t>California Licensure Tests? </a:t>
            </a:r>
            <a:endParaRPr b="1" i="1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87" name="Object 3"/>
          <p:cNvGraphicFramePr/>
          <p:nvPr/>
        </p:nvGraphicFramePr>
        <p:xfrm>
          <a:off x="473040" y="1643040"/>
          <a:ext cx="7980480" cy="477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1643040"/>
                    <a:ext cx="7980480" cy="477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66"/>
                </a:solidFill>
                <a:latin typeface="Arial"/>
              </a:rPr>
              <a:t>Teacher Pass Rates Rise with College Gra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0" name="Object 3"/>
          <p:cNvGraphicFramePr/>
          <p:nvPr/>
        </p:nvGraphicFramePr>
        <p:xfrm>
          <a:off x="468360" y="1600200"/>
          <a:ext cx="820728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600200"/>
                    <a:ext cx="820728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208080"/>
            <a:ext cx="9144000" cy="62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100" spc="-1" strike="noStrike">
                <a:solidFill>
                  <a:srgbClr val="ffcc66"/>
                </a:solidFill>
                <a:latin typeface="Arial"/>
              </a:rPr>
              <a:t>Empirical Issues</a:t>
            </a:r>
            <a:endParaRPr b="1" i="1" lang="en-US" sz="31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96440" y="929880"/>
            <a:ext cx="8013960" cy="523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Bef>
                <a:spcPts val="2625"/>
              </a:spcBef>
              <a:buClr>
                <a:srgbClr val="ffcc66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Estimation methods control for prior learning and isolate the contribution of current teacher and school inputs to student learning</a:t>
            </a: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2625"/>
              </a:spcBef>
              <a:buClr>
                <a:srgbClr val="ffcc66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No ideal method—more flexible models require more years data and involve restrictions that may offset benefits</a:t>
            </a: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2625"/>
              </a:spcBef>
              <a:buClr>
                <a:srgbClr val="ffcc66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We used three types of models</a:t>
            </a: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524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Contemporaneous value-added: student achievement is a function of student and teacher fixed effects</a:t>
            </a: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524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Value-added gains: Similar but uses year-to-year gains as dependent variable</a:t>
            </a: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524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Lagged achievement: Current student achievement as a function of prior year achievement </a:t>
            </a: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879480" y="5794200"/>
            <a:ext cx="7574040" cy="836640"/>
          </a:xfrm>
          <a:prstGeom prst="rect">
            <a:avLst/>
          </a:prstGeom>
          <a:solidFill>
            <a:srgbClr val="006c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milar results for all models for elementary, middle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high schools—focus on elementary 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291600"/>
            <a:ext cx="914400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66"/>
                </a:solidFill>
                <a:latin typeface="Arial"/>
              </a:rPr>
              <a:t>Low Scoring Schools Have Much Different Mix of Students </a:t>
            </a:r>
            <a:br>
              <a:rPr sz="2400"/>
            </a:br>
            <a:r>
              <a:rPr b="1" i="1" lang="en-US" sz="2400" spc="-1" strike="noStrike">
                <a:solidFill>
                  <a:srgbClr val="ffcc66"/>
                </a:solidFill>
                <a:latin typeface="Arial"/>
              </a:rPr>
              <a:t>and Teachers than High Scoring Schools</a:t>
            </a:r>
            <a:endParaRPr b="1" i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8400" y="1531800"/>
            <a:ext cx="360036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lnSpc>
                <a:spcPct val="90000"/>
              </a:lnSpc>
              <a:spcBef>
                <a:spcPts val="2001"/>
              </a:spcBef>
              <a:buClr>
                <a:srgbClr val="ffcc66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ore minority, English learner, and low income students in low scoring school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2001"/>
              </a:spcBef>
              <a:buClr>
                <a:srgbClr val="ffcc66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eaker teacher credentials in low scoring school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ess experienc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ewer advanced degree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ower licensure score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2001"/>
              </a:spcBef>
              <a:buClr>
                <a:srgbClr val="ffcc66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 past two years, LAUSD has cut young teaching staff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ith fewer young teachers, most of the gap in teacher characteristics has disappeared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Unclear how this will affect achievement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4011480" y="1219320"/>
          <a:ext cx="4775400" cy="5383080"/>
        </p:xfrm>
        <a:graphic>
          <a:graphicData uri="http://schemas.openxmlformats.org/drawingml/2006/table">
            <a:tbl>
              <a:tblPr/>
              <a:tblGrid>
                <a:gridCol w="2951280"/>
                <a:gridCol w="914400"/>
                <a:gridCol w="909720"/>
              </a:tblGrid>
              <a:tr h="130860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8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r>
                        <a:rPr b="0" lang="en-US" sz="1600" spc="-1" strike="noStrike">
                          <a:solidFill>
                            <a:srgbClr val="008000"/>
                          </a:solidFill>
                          <a:latin typeface="Tahoma"/>
                          <a:ea typeface="Times New Roman"/>
                        </a:rPr>
                        <a:t>Characteristic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ab4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8000"/>
                          </a:solidFill>
                          <a:latin typeface="Tahoma"/>
                          <a:ea typeface="Times New Roman"/>
                        </a:rPr>
                        <a:t>Lowest Quartile School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ab4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8000"/>
                          </a:solidFill>
                          <a:latin typeface="Tahoma"/>
                          <a:ea typeface="Times New Roman"/>
                        </a:rPr>
                        <a:t>Highest Quartile School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ab4"/>
                    </a:solidFill>
                  </a:tcPr>
                </a:tc>
              </a:tr>
              <a:tr h="33516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ff"/>
                          </a:solidFill>
                          <a:latin typeface="Tahoma"/>
                          <a:ea typeface="Times New Roman"/>
                        </a:rPr>
                        <a:t>Student Characteristic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3fab4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3fab4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3fab4"/>
                    </a:solidFill>
                  </a:tcPr>
                </a:tc>
              </a:tr>
              <a:tr h="26208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8000"/>
                          </a:solidFill>
                          <a:latin typeface="Tahoma"/>
                          <a:ea typeface="Times New Roman"/>
                        </a:rPr>
                        <a:t>Reading Percent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ab4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dec" pos="204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8000"/>
                          </a:solidFill>
                          <a:latin typeface="Tahoma"/>
                          <a:ea typeface="Times New Roman"/>
                        </a:rPr>
                        <a:t>34.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ab4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dec" pos="204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8000"/>
                          </a:solidFill>
                          <a:latin typeface="Tahoma"/>
                          <a:ea typeface="Times New Roman"/>
                        </a:rPr>
                        <a:t>53.6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ab4"/>
                    </a:solidFill>
                  </a:tcPr>
                </a:tc>
              </a:tr>
              <a:tr h="26208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8000"/>
                          </a:solidFill>
                          <a:latin typeface="Tahoma"/>
                          <a:ea typeface="Times New Roman"/>
                        </a:rPr>
                        <a:t>Math Percent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ab4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dec" pos="204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8000"/>
                          </a:solidFill>
                          <a:latin typeface="Tahoma"/>
                          <a:ea typeface="Times New Roman"/>
                        </a:rPr>
                        <a:t>40.7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ab4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dec" pos="204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8000"/>
                          </a:solidFill>
                          <a:latin typeface="Tahoma"/>
                          <a:ea typeface="Times New Roman"/>
                        </a:rPr>
                        <a:t>62.3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ab4"/>
                    </a:solidFill>
                  </a:tcPr>
                </a:tc>
              </a:tr>
              <a:tr h="26208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8000"/>
                          </a:solidFill>
                          <a:latin typeface="Tahoma"/>
                          <a:ea typeface="Times New Roman"/>
                        </a:rPr>
                        <a:t>Blac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ab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dec" pos="204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8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8000"/>
                          </a:solidFill>
                          <a:latin typeface="Tahoma"/>
                          <a:ea typeface="Times New Roman"/>
                        </a:rPr>
                        <a:t>0.1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ab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dec" pos="204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8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8000"/>
                          </a:solidFill>
                          <a:latin typeface="Tahoma"/>
                          <a:ea typeface="Times New Roman"/>
                        </a:rPr>
                        <a:t>0.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ab4"/>
                    </a:solidFill>
                  </a:tcPr>
                </a:tc>
              </a:tr>
              <a:tr h="26208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8000"/>
                          </a:solidFill>
                          <a:latin typeface="Tahoma"/>
                          <a:ea typeface="Times New Roman"/>
                        </a:rPr>
                        <a:t>Hispanic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ab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dec" pos="204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8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8000"/>
                          </a:solidFill>
                          <a:latin typeface="Tahoma"/>
                          <a:ea typeface="Times New Roman"/>
                        </a:rPr>
                        <a:t>0.8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ab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dec" pos="204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8000"/>
                          </a:solidFill>
                          <a:latin typeface="Tahoma"/>
                          <a:ea typeface="Times New Roman"/>
                        </a:rPr>
                        <a:t>0.3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ab4"/>
                    </a:solidFill>
                  </a:tcPr>
                </a:tc>
              </a:tr>
              <a:tr h="26208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8000"/>
                          </a:solidFill>
                          <a:latin typeface="Tahoma"/>
                          <a:ea typeface="Times New Roman"/>
                        </a:rPr>
                        <a:t>LEP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ab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dec" pos="204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8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8000"/>
                          </a:solidFill>
                          <a:latin typeface="Tahoma"/>
                          <a:ea typeface="Times New Roman"/>
                        </a:rPr>
                        <a:t>0.6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ab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dec" pos="204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8000"/>
                          </a:solidFill>
                          <a:latin typeface="Tahoma"/>
                          <a:ea typeface="Times New Roman"/>
                        </a:rPr>
                        <a:t>0.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ab4"/>
                    </a:solidFill>
                  </a:tcPr>
                </a:tc>
              </a:tr>
              <a:tr h="43236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8000"/>
                          </a:solidFill>
                          <a:latin typeface="Tahoma"/>
                          <a:ea typeface="Times New Roman"/>
                        </a:rPr>
                        <a:t>Parents not high school graduat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ab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dec" pos="204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8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8000"/>
                          </a:solidFill>
                          <a:latin typeface="Tahoma"/>
                          <a:ea typeface="Times New Roman"/>
                        </a:rPr>
                        <a:t>0.4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ab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dec" pos="204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8000"/>
                          </a:solidFill>
                          <a:latin typeface="Tahoma"/>
                          <a:ea typeface="Times New Roman"/>
                        </a:rPr>
                        <a:t>0.1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ab4"/>
                    </a:solidFill>
                  </a:tcPr>
                </a:tc>
              </a:tr>
              <a:tr h="33516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ff"/>
                          </a:solidFill>
                          <a:latin typeface="Tahoma"/>
                          <a:ea typeface="Times New Roman"/>
                        </a:rPr>
                        <a:t>Teacher Characteristic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ab4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ab4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ab4"/>
                    </a:solidFill>
                  </a:tcPr>
                </a:tc>
              </a:tr>
              <a:tr h="26208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8000"/>
                          </a:solidFill>
                          <a:latin typeface="Tahoma"/>
                          <a:ea typeface="Times New Roman"/>
                        </a:rPr>
                        <a:t>Years of Experienc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ab4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dec" pos="204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8000"/>
                          </a:solidFill>
                          <a:latin typeface="Tahoma"/>
                          <a:ea typeface="Times New Roman"/>
                        </a:rPr>
                        <a:t>6.3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ab4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dec" pos="204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8000"/>
                          </a:solidFill>
                          <a:latin typeface="Tahoma"/>
                          <a:ea typeface="Times New Roman"/>
                        </a:rPr>
                        <a:t>9.3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ab4"/>
                    </a:solidFill>
                  </a:tcPr>
                </a:tc>
              </a:tr>
              <a:tr h="26208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8000"/>
                          </a:solidFill>
                          <a:latin typeface="Tahoma"/>
                          <a:ea typeface="Times New Roman"/>
                        </a:rPr>
                        <a:t>Experience &lt; 3 yr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ab4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dec" pos="204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8000"/>
                          </a:solidFill>
                          <a:latin typeface="Tahoma"/>
                          <a:ea typeface="Times New Roman"/>
                        </a:rPr>
                        <a:t>0.4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ab4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dec" pos="204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8000"/>
                          </a:solidFill>
                          <a:latin typeface="Tahoma"/>
                          <a:ea typeface="Times New Roman"/>
                        </a:rPr>
                        <a:t>0.3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ab4"/>
                    </a:solidFill>
                  </a:tcPr>
                </a:tc>
              </a:tr>
              <a:tr h="26208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8000"/>
                          </a:solidFill>
                          <a:latin typeface="Tahoma"/>
                          <a:ea typeface="Times New Roman"/>
                        </a:rPr>
                        <a:t>Blac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ab4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dec" pos="204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8000"/>
                          </a:solidFill>
                          <a:latin typeface="Tahoma"/>
                          <a:ea typeface="Times New Roman"/>
                        </a:rPr>
                        <a:t>0.2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ab4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dec" pos="204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8000"/>
                          </a:solidFill>
                          <a:latin typeface="Tahoma"/>
                          <a:ea typeface="Times New Roman"/>
                        </a:rPr>
                        <a:t>0.0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ab4"/>
                    </a:solidFill>
                  </a:tcPr>
                </a:tc>
              </a:tr>
              <a:tr h="26208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8000"/>
                          </a:solidFill>
                          <a:latin typeface="Tahoma"/>
                          <a:ea typeface="Times New Roman"/>
                        </a:rPr>
                        <a:t>Hispanic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ab4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dec" pos="204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8000"/>
                          </a:solidFill>
                          <a:latin typeface="Tahoma"/>
                          <a:ea typeface="Times New Roman"/>
                        </a:rPr>
                        <a:t>0.3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ab4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dec" pos="204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8000"/>
                          </a:solidFill>
                          <a:latin typeface="Tahoma"/>
                          <a:ea typeface="Times New Roman"/>
                        </a:rPr>
                        <a:t>0.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ab4"/>
                    </a:solidFill>
                  </a:tcPr>
                </a:tc>
              </a:tr>
              <a:tr h="26208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8000"/>
                          </a:solidFill>
                          <a:latin typeface="Tahoma"/>
                          <a:ea typeface="Times New Roman"/>
                        </a:rPr>
                        <a:t>Master's/Doctora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ab4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dec" pos="204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8000"/>
                          </a:solidFill>
                          <a:latin typeface="Tahoma"/>
                          <a:ea typeface="Times New Roman"/>
                        </a:rPr>
                        <a:t>0.1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ab4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dec" pos="204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8000"/>
                          </a:solidFill>
                          <a:latin typeface="Tahoma"/>
                          <a:ea typeface="Times New Roman"/>
                        </a:rPr>
                        <a:t>0.2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ab4"/>
                    </a:solidFill>
                  </a:tcPr>
                </a:tc>
              </a:tr>
              <a:tr h="43236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8000"/>
                          </a:solidFill>
                          <a:latin typeface="Tahoma"/>
                          <a:ea typeface="Times New Roman"/>
                        </a:rPr>
                        <a:t>General Ability (standardized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ab4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dec" pos="204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8000"/>
                          </a:solidFill>
                          <a:latin typeface="Tahoma"/>
                          <a:ea typeface="Times New Roman"/>
                        </a:rPr>
                        <a:t>-0.5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ab4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dec" pos="204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8000"/>
                          </a:solidFill>
                          <a:latin typeface="Tahoma"/>
                          <a:ea typeface="Times New Roman"/>
                        </a:rPr>
                        <a:t>-0.0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ab4"/>
                    </a:solidFill>
                  </a:tcPr>
                </a:tc>
              </a:tr>
              <a:tr h="43236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8000"/>
                          </a:solidFill>
                          <a:latin typeface="Tahoma"/>
                          <a:ea typeface="Times New Roman"/>
                        </a:rPr>
                        <a:t>Subject Matter (standardized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ab4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dec" pos="204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8000"/>
                          </a:solidFill>
                          <a:latin typeface="Tahoma"/>
                          <a:ea typeface="Times New Roman"/>
                        </a:rPr>
                        <a:t>-0.4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ab4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dec" pos="204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8000"/>
                          </a:solidFill>
                          <a:latin typeface="Tahoma"/>
                          <a:ea typeface="Times New Roman"/>
                        </a:rPr>
                        <a:t>0.0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ab4"/>
                    </a:solidFill>
                  </a:tcPr>
                </a:tc>
              </a:tr>
              <a:tr h="43236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8000"/>
                          </a:solidFill>
                          <a:latin typeface="Tahoma"/>
                          <a:ea typeface="Times New Roman"/>
                        </a:rPr>
                        <a:t>Reading Pedagogy (standardized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ab4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dec" pos="204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8000"/>
                          </a:solidFill>
                          <a:latin typeface="Tahoma"/>
                          <a:ea typeface="Times New Roman"/>
                        </a:rPr>
                        <a:t>-0.3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ab4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dec" pos="204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8000"/>
                          </a:solidFill>
                          <a:latin typeface="Tahoma"/>
                          <a:ea typeface="Times New Roman"/>
                        </a:rPr>
                        <a:t>-0.0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ab4"/>
                    </a:solidFill>
                  </a:tcPr>
                </a:tc>
              </a:tr>
            </a:tbl>
          </a:graphicData>
        </a:graphic>
      </p:graphicFrame>
      <p:sp>
        <p:nvSpPr>
          <p:cNvPr id="98" name="AutoShape 760"/>
          <p:cNvSpPr/>
          <p:nvPr/>
        </p:nvSpPr>
        <p:spPr>
          <a:xfrm>
            <a:off x="4022640" y="3627360"/>
            <a:ext cx="4756320" cy="4111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AutoShape 761"/>
          <p:cNvSpPr/>
          <p:nvPr/>
        </p:nvSpPr>
        <p:spPr>
          <a:xfrm>
            <a:off x="4016520" y="5611680"/>
            <a:ext cx="4755960" cy="30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46120"/>
            <a:ext cx="914400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66"/>
                </a:solidFill>
                <a:latin typeface="Arial"/>
              </a:rPr>
              <a:t>Teacher Effects Are Much Larger </a:t>
            </a:r>
            <a:br>
              <a:rPr sz="2800"/>
            </a:br>
            <a:r>
              <a:rPr b="1" i="1" lang="en-US" sz="2800" spc="-1" strike="noStrike">
                <a:solidFill>
                  <a:srgbClr val="ffcc66"/>
                </a:solidFill>
                <a:latin typeface="Arial"/>
              </a:rPr>
              <a:t>than School Effects </a:t>
            </a:r>
            <a:endParaRPr b="1" i="1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Text Box 152"/>
          <p:cNvSpPr/>
          <p:nvPr/>
        </p:nvSpPr>
        <p:spPr>
          <a:xfrm>
            <a:off x="928800" y="5562720"/>
            <a:ext cx="7208640" cy="8233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High quality teachers are spread across schools and not concentrated in a few schoo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608040" y="1866960"/>
          <a:ext cx="7772400" cy="3349440"/>
        </p:xfrm>
        <a:graphic>
          <a:graphicData uri="http://schemas.openxmlformats.org/drawingml/2006/table">
            <a:tbl>
              <a:tblPr/>
              <a:tblGrid>
                <a:gridCol w="5126040"/>
                <a:gridCol w="1498680"/>
                <a:gridCol w="11476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7160" indent="-227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3fab4"/>
                      </a:solidFill>
                    </a:lnL>
                    <a:lnR w="5760">
                      <a:solidFill>
                        <a:srgbClr val="f3fab4"/>
                      </a:solidFill>
                    </a:lnR>
                    <a:lnT w="5760">
                      <a:solidFill>
                        <a:srgbClr val="f3fab4"/>
                      </a:solidFill>
                    </a:lnT>
                    <a:lnB w="5760">
                      <a:solidFill>
                        <a:srgbClr val="f3fab4"/>
                      </a:solidFill>
                    </a:lnB>
                    <a:solidFill>
                      <a:srgbClr val="f3fa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7160" indent="-2271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Read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3fab4"/>
                      </a:solidFill>
                    </a:lnL>
                    <a:lnR w="5760">
                      <a:solidFill>
                        <a:srgbClr val="f3fab4"/>
                      </a:solidFill>
                    </a:lnR>
                    <a:lnT w="5760">
                      <a:solidFill>
                        <a:srgbClr val="f3fab4"/>
                      </a:solidFill>
                    </a:lnT>
                    <a:lnB w="5760">
                      <a:solidFill>
                        <a:srgbClr val="f3fab4"/>
                      </a:solidFill>
                    </a:lnB>
                    <a:solidFill>
                      <a:srgbClr val="f3fa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7160" indent="-2271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Math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3fab4"/>
                      </a:solidFill>
                    </a:lnL>
                    <a:lnR w="5760">
                      <a:solidFill>
                        <a:srgbClr val="f3fab4"/>
                      </a:solidFill>
                    </a:lnR>
                    <a:lnT w="5760">
                      <a:solidFill>
                        <a:srgbClr val="f3fab4"/>
                      </a:solidFill>
                    </a:lnT>
                    <a:lnB w="5760">
                      <a:solidFill>
                        <a:srgbClr val="f3fab4"/>
                      </a:solidFill>
                    </a:lnB>
                    <a:solidFill>
                      <a:srgbClr val="f3fab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7160" indent="-227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#1.  Student &amp; Teacher Fixed Effect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3fab4"/>
                      </a:solidFill>
                    </a:lnL>
                    <a:lnR w="5760">
                      <a:solidFill>
                        <a:srgbClr val="f3fab4"/>
                      </a:solidFill>
                    </a:lnR>
                    <a:lnT w="5760">
                      <a:solidFill>
                        <a:srgbClr val="f3fab4"/>
                      </a:solidFill>
                    </a:lnT>
                    <a:lnB w="5760">
                      <a:solidFill>
                        <a:srgbClr val="f3fab4"/>
                      </a:solidFill>
                    </a:lnB>
                    <a:solidFill>
                      <a:srgbClr val="f3fa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7160" indent="-2271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3fab4"/>
                      </a:solidFill>
                    </a:lnL>
                    <a:lnR w="5760">
                      <a:solidFill>
                        <a:srgbClr val="f3fab4"/>
                      </a:solidFill>
                    </a:lnR>
                    <a:lnT w="5760">
                      <a:solidFill>
                        <a:srgbClr val="f3fab4"/>
                      </a:solidFill>
                    </a:lnT>
                    <a:lnB w="5760">
                      <a:solidFill>
                        <a:srgbClr val="f3fab4"/>
                      </a:solidFill>
                    </a:lnB>
                    <a:solidFill>
                      <a:srgbClr val="f3fa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7160" indent="-2271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3fab4"/>
                      </a:solidFill>
                    </a:lnL>
                    <a:lnR w="5760">
                      <a:solidFill>
                        <a:srgbClr val="f3fab4"/>
                      </a:solidFill>
                    </a:lnR>
                    <a:lnT w="5760">
                      <a:solidFill>
                        <a:srgbClr val="f3fab4"/>
                      </a:solidFill>
                    </a:lnT>
                    <a:lnB w="5760">
                      <a:solidFill>
                        <a:srgbClr val="f3fab4"/>
                      </a:solidFill>
                    </a:lnB>
                    <a:solidFill>
                      <a:srgbClr val="f3fab4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7160" indent="-227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Student (</a:t>
                      </a: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2400" spc="-1" strike="noStrike" baseline="-30000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Student</a:t>
                      </a: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3fab4"/>
                      </a:solidFill>
                    </a:lnL>
                    <a:lnR w="5760">
                      <a:solidFill>
                        <a:srgbClr val="f3fab4"/>
                      </a:solidFill>
                    </a:lnR>
                    <a:lnT w="5760">
                      <a:solidFill>
                        <a:srgbClr val="f3fab4"/>
                      </a:solidFill>
                    </a:lnT>
                    <a:lnB w="5760">
                      <a:solidFill>
                        <a:srgbClr val="f3fab4"/>
                      </a:solidFill>
                    </a:lnB>
                    <a:solidFill>
                      <a:srgbClr val="f3fa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7160" indent="-2271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6.7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3fab4"/>
                      </a:solidFill>
                    </a:lnL>
                    <a:lnR w="5760">
                      <a:solidFill>
                        <a:srgbClr val="f3fab4"/>
                      </a:solidFill>
                    </a:lnR>
                    <a:lnT w="5760">
                      <a:solidFill>
                        <a:srgbClr val="f3fab4"/>
                      </a:solidFill>
                    </a:lnT>
                    <a:lnB w="5760">
                      <a:solidFill>
                        <a:srgbClr val="f3fab4"/>
                      </a:solidFill>
                    </a:lnB>
                    <a:solidFill>
                      <a:srgbClr val="f3fa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7160" indent="-2271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8.3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3fab4"/>
                      </a:solidFill>
                    </a:lnL>
                    <a:lnR w="5760">
                      <a:solidFill>
                        <a:srgbClr val="f3fab4"/>
                      </a:solidFill>
                    </a:lnR>
                    <a:lnT w="5760">
                      <a:solidFill>
                        <a:srgbClr val="f3fab4"/>
                      </a:solidFill>
                    </a:lnT>
                    <a:lnB w="5760">
                      <a:solidFill>
                        <a:srgbClr val="f3fab4"/>
                      </a:solidFill>
                    </a:lnB>
                    <a:solidFill>
                      <a:srgbClr val="f3fab4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7160" indent="-227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Teacher (</a:t>
                      </a: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2400" spc="-1" strike="noStrike" baseline="-30000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Teacher</a:t>
                      </a: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3fab4"/>
                      </a:solidFill>
                    </a:lnL>
                    <a:lnR w="5760">
                      <a:solidFill>
                        <a:srgbClr val="f3fab4"/>
                      </a:solidFill>
                    </a:lnR>
                    <a:lnT w="5760">
                      <a:solidFill>
                        <a:srgbClr val="f3fab4"/>
                      </a:solidFill>
                    </a:lnT>
                    <a:lnB w="5760">
                      <a:solidFill>
                        <a:srgbClr val="f3fab4"/>
                      </a:solidFill>
                    </a:lnB>
                    <a:solidFill>
                      <a:srgbClr val="f3fa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7160" indent="-2271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4.9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3fab4"/>
                      </a:solidFill>
                    </a:lnL>
                    <a:lnR w="5760">
                      <a:solidFill>
                        <a:srgbClr val="f3fab4"/>
                      </a:solidFill>
                    </a:lnR>
                    <a:lnT w="5760">
                      <a:solidFill>
                        <a:srgbClr val="f3fab4"/>
                      </a:solidFill>
                    </a:lnT>
                    <a:lnB w="5760">
                      <a:solidFill>
                        <a:srgbClr val="f3fab4"/>
                      </a:solidFill>
                    </a:lnB>
                    <a:solidFill>
                      <a:srgbClr val="f3fa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7160" indent="-2271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6.2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3fab4"/>
                      </a:solidFill>
                    </a:lnL>
                    <a:lnR w="5760">
                      <a:solidFill>
                        <a:srgbClr val="f3fab4"/>
                      </a:solidFill>
                    </a:lnR>
                    <a:lnT w="5760">
                      <a:solidFill>
                        <a:srgbClr val="f3fab4"/>
                      </a:solidFill>
                    </a:lnT>
                    <a:lnB w="5760">
                      <a:solidFill>
                        <a:srgbClr val="f3fab4"/>
                      </a:solidFill>
                    </a:lnB>
                    <a:solidFill>
                      <a:srgbClr val="f3fab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7160" indent="-227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#2.  Student &amp; School Fixed Effect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3fab4"/>
                      </a:solidFill>
                    </a:lnL>
                    <a:lnR w="5760">
                      <a:solidFill>
                        <a:srgbClr val="f3fab4"/>
                      </a:solidFill>
                    </a:lnR>
                    <a:lnT w="5760">
                      <a:solidFill>
                        <a:srgbClr val="f3fab4"/>
                      </a:solidFill>
                    </a:lnT>
                    <a:lnB w="5760">
                      <a:solidFill>
                        <a:srgbClr val="f3fab4"/>
                      </a:solidFill>
                    </a:lnB>
                    <a:solidFill>
                      <a:srgbClr val="f3fa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7160" indent="-2271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3fab4"/>
                      </a:solidFill>
                    </a:lnL>
                    <a:lnR w="5760">
                      <a:solidFill>
                        <a:srgbClr val="f3fab4"/>
                      </a:solidFill>
                    </a:lnR>
                    <a:lnT w="5760">
                      <a:solidFill>
                        <a:srgbClr val="f3fab4"/>
                      </a:solidFill>
                    </a:lnT>
                    <a:lnB w="5760">
                      <a:solidFill>
                        <a:srgbClr val="f3fab4"/>
                      </a:solidFill>
                    </a:lnB>
                    <a:solidFill>
                      <a:srgbClr val="f3fa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7160" indent="-2271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3fab4"/>
                      </a:solidFill>
                    </a:lnL>
                    <a:lnR w="5760">
                      <a:solidFill>
                        <a:srgbClr val="f3fab4"/>
                      </a:solidFill>
                    </a:lnR>
                    <a:lnT w="5760">
                      <a:solidFill>
                        <a:srgbClr val="f3fab4"/>
                      </a:solidFill>
                    </a:lnT>
                    <a:lnB w="5760">
                      <a:solidFill>
                        <a:srgbClr val="f3fab4"/>
                      </a:solidFill>
                    </a:lnB>
                    <a:solidFill>
                      <a:srgbClr val="f3fab4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7160" indent="-227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Student (</a:t>
                      </a: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2400" spc="-1" strike="noStrike" baseline="-30000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Student</a:t>
                      </a: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3fab4"/>
                      </a:solidFill>
                    </a:lnL>
                    <a:lnR w="5760">
                      <a:solidFill>
                        <a:srgbClr val="f3fab4"/>
                      </a:solidFill>
                    </a:lnR>
                    <a:lnT w="5760">
                      <a:solidFill>
                        <a:srgbClr val="f3fab4"/>
                      </a:solidFill>
                    </a:lnT>
                    <a:lnB w="5760">
                      <a:solidFill>
                        <a:srgbClr val="f3fab4"/>
                      </a:solidFill>
                    </a:lnB>
                    <a:solidFill>
                      <a:srgbClr val="f3fa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7160" indent="-2271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6.9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3fab4"/>
                      </a:solidFill>
                    </a:lnL>
                    <a:lnR w="5760">
                      <a:solidFill>
                        <a:srgbClr val="f3fab4"/>
                      </a:solidFill>
                    </a:lnR>
                    <a:lnT w="5760">
                      <a:solidFill>
                        <a:srgbClr val="f3fab4"/>
                      </a:solidFill>
                    </a:lnT>
                    <a:lnB w="5760">
                      <a:solidFill>
                        <a:srgbClr val="f3fab4"/>
                      </a:solidFill>
                    </a:lnB>
                    <a:solidFill>
                      <a:srgbClr val="f3fa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7160" indent="-2271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8.6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3fab4"/>
                      </a:solidFill>
                    </a:lnL>
                    <a:lnR w="5760">
                      <a:solidFill>
                        <a:srgbClr val="f3fab4"/>
                      </a:solidFill>
                    </a:lnR>
                    <a:lnT w="5760">
                      <a:solidFill>
                        <a:srgbClr val="f3fab4"/>
                      </a:solidFill>
                    </a:lnT>
                    <a:lnB w="5760">
                      <a:solidFill>
                        <a:srgbClr val="f3fab4"/>
                      </a:solidFill>
                    </a:lnB>
                    <a:solidFill>
                      <a:srgbClr val="f3fab4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7160" indent="-227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School (</a:t>
                      </a: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2400" spc="-1" strike="noStrike" baseline="-30000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School</a:t>
                      </a: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3fab4"/>
                      </a:solidFill>
                    </a:lnL>
                    <a:lnR w="5760">
                      <a:solidFill>
                        <a:srgbClr val="f3fab4"/>
                      </a:solidFill>
                    </a:lnR>
                    <a:lnT w="5760">
                      <a:solidFill>
                        <a:srgbClr val="f3fab4"/>
                      </a:solidFill>
                    </a:lnT>
                    <a:lnB w="5760">
                      <a:solidFill>
                        <a:srgbClr val="f3fab4"/>
                      </a:solidFill>
                    </a:lnB>
                    <a:solidFill>
                      <a:srgbClr val="f3fa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7160" indent="-2271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.1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3fab4"/>
                      </a:solidFill>
                    </a:lnL>
                    <a:lnR w="5760">
                      <a:solidFill>
                        <a:srgbClr val="f3fab4"/>
                      </a:solidFill>
                    </a:lnR>
                    <a:lnT w="5760">
                      <a:solidFill>
                        <a:srgbClr val="f3fab4"/>
                      </a:solidFill>
                    </a:lnT>
                    <a:lnB w="5760">
                      <a:solidFill>
                        <a:srgbClr val="f3fab4"/>
                      </a:solidFill>
                    </a:lnB>
                    <a:solidFill>
                      <a:srgbClr val="f3fa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7160" indent="-2271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.5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3fab4"/>
                      </a:solidFill>
                    </a:lnL>
                    <a:lnR w="5760">
                      <a:solidFill>
                        <a:srgbClr val="f3fab4"/>
                      </a:solidFill>
                    </a:lnR>
                    <a:lnT w="5760">
                      <a:solidFill>
                        <a:srgbClr val="f3fab4"/>
                      </a:solidFill>
                    </a:lnT>
                    <a:lnB w="5760">
                      <a:solidFill>
                        <a:srgbClr val="f3fab4"/>
                      </a:solidFill>
                    </a:lnB>
                    <a:solidFill>
                      <a:srgbClr val="f3fab4"/>
                    </a:solidFill>
                  </a:tcPr>
                </a:tc>
              </a:tr>
            </a:tbl>
          </a:graphicData>
        </a:graphic>
      </p:graphicFrame>
      <p:sp>
        <p:nvSpPr>
          <p:cNvPr id="103" name="Line 692"/>
          <p:cNvSpPr/>
          <p:nvPr/>
        </p:nvSpPr>
        <p:spPr>
          <a:xfrm>
            <a:off x="609480" y="3817800"/>
            <a:ext cx="7751880" cy="0"/>
          </a:xfrm>
          <a:prstGeom prst="line">
            <a:avLst/>
          </a:prstGeom>
          <a:ln w="507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693"/>
          <p:cNvSpPr/>
          <p:nvPr/>
        </p:nvSpPr>
        <p:spPr>
          <a:xfrm>
            <a:off x="603360" y="2351160"/>
            <a:ext cx="7765920" cy="0"/>
          </a:xfrm>
          <a:prstGeom prst="line">
            <a:avLst/>
          </a:prstGeom>
          <a:ln w="507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3T18:03:48Z</dcterms:created>
  <dc:creator>Rochelle Hardison</dc:creator>
  <dc:description/>
  <cp:keywords/>
  <dc:language>en-US</dc:language>
  <cp:lastModifiedBy>Jdabrowski</cp:lastModifiedBy>
  <cp:lastPrinted>2002-01-16T19:02:41Z</cp:lastPrinted>
  <dcterms:modified xsi:type="dcterms:W3CDTF">2010-07-01T20:12:42Z</dcterms:modified>
  <cp:revision>118</cp:revision>
  <dc:subject/>
  <dc:title>White Background Template, Purple Logo</dc:title>
</cp:coreProperties>
</file>