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8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E6B-F94B-47BE-8D3C-FE509436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332-A9A9-42AB-9073-A233A804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BB9-907A-4CD5-9EAB-8FF96037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C47-8C62-4761-9324-84E6E465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F39A-1A7F-4BAD-8197-7A5E0DCD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D9E-1FAB-4DB7-A172-39D94FFC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4C5F-CE25-4FF1-ACA3-3EFB4083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08DF-E093-476B-9D21-67D9E9CA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EEF-DDD7-4611-8451-C745615A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DB41-8FFB-4CB7-AE0A-77588429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57BB-2866-4C93-9FD5-CB62D4A9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DC7F-B77D-496C-AF24-8AE93A05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27C-D3AB-4477-AF88-811FB653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E101-7781-4B80-8CCF-F0755B15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D09-8783-4CDE-8482-79C6C02B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E52-9B3C-4B2A-BDE9-C3A43A358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08200"/>
            <a:ext cx="55879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3E7-A3CE-46B3-92FA-44B16B99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CEF-11D8-470A-B06B-BA9B7D1AF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6897-1932-4564-B736-1781C1BD7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7770-C790-4BA0-8100-F14D7FE4E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7658-5F0D-498A-A765-5757227C8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6281C-0D67-45C9-8BD8-205ECAB8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A2CD2-9C2D-4F8E-B977-5F5748DF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B3215-36CD-4DE2-907D-4C70031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BC2F-13E2-4FCF-A316-F1F54F57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C0292-6DA3-483F-8938-4AAA4C2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B835-C327-465E-B30E-C054CBF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26A5E-3225-475C-88D5-E3E576F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D78D-AEED-425D-9FED-0CBE03B65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3431D-A244-4B9D-B140-674BC81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D6E81-C38F-46CB-A03D-D1AF927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96161-F98B-4751-90AE-D59970B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4C5A6-0C91-460C-9410-80957954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0B5F7-64EB-47D0-A949-EBD7CE59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76BC5-F52D-478C-8739-8F717549A9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2E90-1134-43EA-8BCA-47F44DBD55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1E252-6D14-4090-9010-2875C9F23C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3D88-2746-42BC-8593-CF37632F65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C7006-D19E-4944-B7C9-0B5803D12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261A-930A-4247-90C0-F58F3F719F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2E384-1E8F-418C-A708-314DFE4B2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F9DC-9E22-4907-B503-AA638E6331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0DAB8-BC0F-4547-94AA-0ED5511F8E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69EDF-DFBD-42CB-B854-E4FF0BE12C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DA80-ED3B-40ED-B529-51A543D692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22893-13B6-478D-A875-2449AC1576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CF45-B828-46AA-8423-18AD6D5A10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BD97-86E2-477F-8E38-7A85600911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9E31-D06A-42E7-9598-96BA364D2B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ABE2-7706-4D24-A78B-A3ACDD725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5DCA-5CE4-48AF-8884-1FE4098168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A5B3-4B23-4504-9B80-58EDBA27A5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3BCF-28F5-4318-8E1F-07CC2970E6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E144-BC7D-4B36-92D1-D363DD73AB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2869-BAA9-4D24-A728-DC8474B4D4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5B98-F952-4CC0-9D5C-73D6DE720F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64A2-3AC3-45EB-BE00-1D17F3DA26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8557-7E69-40C7-AA11-D1E8E8274A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1E31-803B-4E59-8DD6-0A749A9ECA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0B29-4290-4064-869F-7EA5778B61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5D89F-632F-471D-8935-3A34AAD6E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2F74-7067-44B7-8D52-E57B2D7D0E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46286-9EB9-4CE1-A0A3-C5589A7DE5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D358D-0B2F-4828-B3A9-9FC1CB54C7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E3216-29CB-470F-9EF8-925454BDD8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53E4F-359B-4FFB-9ED6-4837CD4C9C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40D19-AA11-4525-8393-76D1D51E16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F1807-A8F9-408D-B9D5-A6572E2A17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1196D-285F-4F4D-8800-AD8D269B30D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30919-2641-4B04-840A-6A70D7D183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52D34-0A22-475B-A403-B8491BBDCF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8DB7A-C20E-4519-8471-40ED9ED4B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E817-A71E-4DAF-99B4-9854FE2B07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23419-DB02-4C73-9EC2-B52F564407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8240" y="28440"/>
            <a:ext cx="7398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7EB3-FFE4-4311-9176-0405044398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8876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0320" y="132696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684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48876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80320" y="3471480"/>
            <a:ext cx="2372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3240" y="347148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F97E-430D-402B-9F8F-4840DB3F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8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3240" y="1326960"/>
            <a:ext cx="3596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840" y="3471480"/>
            <a:ext cx="7369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444A-FDC9-479B-90A6-35D93CEB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D3A-3A01-467C-9A6F-496655CFD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9C8-61AC-412F-B82C-E5A997769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ldNum" idx="5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2F8-E474-418D-868A-FB9C14DC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6737400"/>
            <a:ext cx="300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5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s a registered trademark of Mathematica Policy Research.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50A0-D053-495D-AA13-6C1177F0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4a_blue-green_300.jpg"/>
          <p:cNvPicPr/>
          <p:nvPr/>
        </p:nvPicPr>
        <p:blipFill>
          <a:blip r:embed="rId2"/>
          <a:stretch/>
        </p:blipFill>
        <p:spPr>
          <a:xfrm>
            <a:off x="0" y="629136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2" descr="logo"/>
          <p:cNvPicPr/>
          <p:nvPr/>
        </p:nvPicPr>
        <p:blipFill>
          <a:blip r:embed="rId3"/>
          <a:stretch/>
        </p:blipFill>
        <p:spPr>
          <a:xfrm>
            <a:off x="7628040" y="6335640"/>
            <a:ext cx="1371600" cy="487440"/>
          </a:xfrm>
          <a:prstGeom prst="rect">
            <a:avLst/>
          </a:prstGeom>
          <a:ln w="0">
            <a:noFill/>
          </a:ln>
        </p:spPr>
      </p:pic>
      <p:sp>
        <p:nvSpPr>
          <p:cNvPr id="17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7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AED-8423-483C-AA2F-A55C50236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updated-gradient.jpg"/>
          <p:cNvPicPr/>
          <p:nvPr/>
        </p:nvPicPr>
        <p:blipFill>
          <a:blip r:embed="rId2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2" descr="logo"/>
          <p:cNvPicPr/>
          <p:nvPr/>
        </p:nvPicPr>
        <p:blipFill>
          <a:blip r:embed="rId3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updated-gradient.jpg"/>
          <p:cNvPicPr/>
          <p:nvPr/>
        </p:nvPicPr>
        <p:blipFill>
          <a:blip r:embed="rId4"/>
          <a:srcRect l="317" t="742" r="633" b="2144"/>
          <a:stretch/>
        </p:blipFill>
        <p:spPr>
          <a:xfrm>
            <a:off x="0" y="4275000"/>
            <a:ext cx="9144000" cy="258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logo"/>
          <p:cNvPicPr/>
          <p:nvPr/>
        </p:nvPicPr>
        <p:blipFill>
          <a:blip r:embed="rId5"/>
          <a:stretch/>
        </p:blipFill>
        <p:spPr>
          <a:xfrm>
            <a:off x="3714840" y="5319720"/>
            <a:ext cx="1714320" cy="609480"/>
          </a:xfrm>
          <a:prstGeom prst="rect">
            <a:avLst/>
          </a:prstGeom>
          <a:ln w="0">
            <a:noFill/>
          </a:ln>
        </p:spPr>
      </p:pic>
      <p:sp>
        <p:nvSpPr>
          <p:cNvPr id="223" name="Straight Connector 11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cole@mathematica-mpr.com" TargetMode="External"/><Relationship Id="rId2" Type="http://schemas.openxmlformats.org/officeDocument/2006/relationships/hyperlink" Target="http://ies.ed.gov/ncee/pdf/2009013.pdf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738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 Considerations for Educational Studies with Restricted Samples that Use State Tests as Pretest and Outcome Measur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3280" y="2765520"/>
            <a:ext cx="779472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at the Institute for Education Sciences Research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ssell Cole ● Josh Haimson ● Irma Perez-Johnson ● Henry M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state, year, subject, and grade-grou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test standard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of study samples (n = 5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on of pretest-posttest corre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states, 2 years pre-post data, 2 subjects, 3 grade groups for each achievement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ss-cutting aggregation (ANOV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F73-CBD3-47FF-BC64-6D585673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test-Posttest Correlations Attenuated for Lowest-Performing Sam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E60-B4F3-4453-B3DA-A46DFADE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Chart 10" descr=""/>
          <p:cNvPicPr/>
          <p:nvPr/>
        </p:nvPicPr>
        <p:blipFill>
          <a:blip r:embed="rId1"/>
          <a:stretch/>
        </p:blipFill>
        <p:spPr>
          <a:xfrm>
            <a:off x="1517760" y="1274760"/>
            <a:ext cx="556560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Variation in Pretest-Posttest Correlation Across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3CE7-AFC3-4DAC-BA53-BCAA40A0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Content Placeholder 4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27000"/>
            <a:ext cx="72597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ed                  for Power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C88F-E3DA-4FBC-8698-A8DAEB7F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"/>
          <p:cNvGrpSpPr/>
          <p:nvPr/>
        </p:nvGrpSpPr>
        <p:grpSpPr>
          <a:xfrm>
            <a:off x="8081640" y="1168560"/>
            <a:ext cx="935280" cy="3147480"/>
            <a:chOff x="8081640" y="1168560"/>
            <a:chExt cx="935280" cy="3147480"/>
          </a:xfrm>
        </p:grpSpPr>
        <p:sp>
          <p:nvSpPr>
            <p:cNvPr id="312" name="Text Box 3"/>
            <p:cNvSpPr/>
            <p:nvPr/>
          </p:nvSpPr>
          <p:spPr>
            <a:xfrm>
              <a:off x="8150400" y="1168560"/>
              <a:ext cx="8665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AutoShape 4"/>
            <p:cNvCxnSpPr/>
            <p:nvPr/>
          </p:nvCxnSpPr>
          <p:spPr>
            <a:xfrm flipV="1">
              <a:off x="8081640" y="1230840"/>
              <a:ext cx="1080" cy="3085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314" name="Group 5"/>
          <p:cNvGrpSpPr/>
          <p:nvPr/>
        </p:nvGrpSpPr>
        <p:grpSpPr>
          <a:xfrm>
            <a:off x="6153120" y="1224000"/>
            <a:ext cx="747720" cy="3088800"/>
            <a:chOff x="6153120" y="1224000"/>
            <a:chExt cx="747720" cy="3088800"/>
          </a:xfrm>
        </p:grpSpPr>
        <p:sp>
          <p:nvSpPr>
            <p:cNvPr id="315" name="Text Box 6"/>
            <p:cNvSpPr/>
            <p:nvPr/>
          </p:nvSpPr>
          <p:spPr>
            <a:xfrm>
              <a:off x="6153120" y="1224000"/>
              <a:ext cx="74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AutoShape 7"/>
            <p:cNvCxnSpPr/>
            <p:nvPr/>
          </p:nvCxnSpPr>
          <p:spPr>
            <a:xfrm flipV="1">
              <a:off x="6157800" y="122832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17" name="Group 8"/>
          <p:cNvGrpSpPr/>
          <p:nvPr/>
        </p:nvGrpSpPr>
        <p:grpSpPr>
          <a:xfrm>
            <a:off x="4602240" y="1235160"/>
            <a:ext cx="811080" cy="3099960"/>
            <a:chOff x="4602240" y="1235160"/>
            <a:chExt cx="811080" cy="3099960"/>
          </a:xfrm>
        </p:grpSpPr>
        <p:sp>
          <p:nvSpPr>
            <p:cNvPr id="318" name="Text Box 9"/>
            <p:cNvSpPr/>
            <p:nvPr/>
          </p:nvSpPr>
          <p:spPr>
            <a:xfrm>
              <a:off x="4602240" y="1235160"/>
              <a:ext cx="811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AutoShape 10"/>
            <p:cNvCxnSpPr/>
            <p:nvPr/>
          </p:nvCxnSpPr>
          <p:spPr>
            <a:xfrm flipV="1">
              <a:off x="4628520" y="125064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graphicFrame>
        <p:nvGraphicFramePr>
          <p:cNvPr id="320" name="Object 1"/>
          <p:cNvGraphicFramePr/>
          <p:nvPr/>
        </p:nvGraphicFramePr>
        <p:xfrm>
          <a:off x="2570040" y="0"/>
          <a:ext cx="15843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040" y="0"/>
                    <a:ext cx="15843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ations for MDES Might Be Mo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627-739F-4A94-BBD3-5BAD5275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6153120" y="1224000"/>
            <a:ext cx="747720" cy="3088800"/>
            <a:chOff x="6153120" y="1224000"/>
            <a:chExt cx="747720" cy="3088800"/>
          </a:xfrm>
        </p:grpSpPr>
        <p:sp>
          <p:nvSpPr>
            <p:cNvPr id="326" name="Text Box 6"/>
            <p:cNvSpPr/>
            <p:nvPr/>
          </p:nvSpPr>
          <p:spPr>
            <a:xfrm>
              <a:off x="6153120" y="1224000"/>
              <a:ext cx="74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AutoShape 7"/>
            <p:cNvCxnSpPr/>
            <p:nvPr/>
          </p:nvCxnSpPr>
          <p:spPr>
            <a:xfrm flipV="1">
              <a:off x="6157800" y="1228320"/>
              <a:ext cx="1080" cy="30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28" name="Group 5"/>
          <p:cNvGrpSpPr/>
          <p:nvPr/>
        </p:nvGrpSpPr>
        <p:grpSpPr>
          <a:xfrm>
            <a:off x="6521400" y="1612800"/>
            <a:ext cx="747720" cy="2712960"/>
            <a:chOff x="6521400" y="1612800"/>
            <a:chExt cx="747720" cy="2712960"/>
          </a:xfrm>
        </p:grpSpPr>
        <p:sp>
          <p:nvSpPr>
            <p:cNvPr id="329" name="Text Box 6"/>
            <p:cNvSpPr/>
            <p:nvPr/>
          </p:nvSpPr>
          <p:spPr>
            <a:xfrm>
              <a:off x="6521400" y="1612800"/>
              <a:ext cx="747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r =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7"/>
            <p:cNvCxnSpPr/>
            <p:nvPr/>
          </p:nvCxnSpPr>
          <p:spPr>
            <a:xfrm flipV="1">
              <a:off x="6526080" y="1616760"/>
              <a:ext cx="1080" cy="270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test-posttest correl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 attenuation when homogeneous sample sel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ght be lower than anticipated for low performers on state assess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for ELA/Mathematics and across grade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fected by other factors (ceiling/floor eff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vailable administrative records to ga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/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A12D-E3EE-478E-89E4-3D6E2B4C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1536840" y="4691160"/>
          <a:ext cx="16444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4691160"/>
                    <a:ext cx="16444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cole@mathematica-mpr.com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, Henry, Irma Perez-Johnson, Joshua Haimson, Samina Sattar, and Phil Gleason (2009).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State Tests in Education Experiments: A Discussion of the Issues.” (NCEE 2009-013). Washington, DC: National Center for Education Evaluation and Regional Assistance, Institute of Education Sciences, U.S. Department of Educ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es.ed.gov/ncee/pdf/2009013.pdf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BB5-6EED-4B5F-B92F-F49A6AFD6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4400" y="2395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earch reported here was supported by the National Center for Education Evaluation and Regional Assistance, U.S. Department of Education, through contract ED-04-CO-0112 to Mathematica Policy Research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ized controlled trial (R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biased estimate of program 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ingly prevalent in education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detecting a true program impact is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effect size (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pretest can increase power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test-Posttest correlation shrinks minimum detectable effect size (M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6294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ing impact of education inter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D00-DCCA-430F-BD11-585855A4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"/>
          <p:cNvGraphicFramePr/>
          <p:nvPr/>
        </p:nvGraphicFramePr>
        <p:xfrm>
          <a:off x="303120" y="4797360"/>
          <a:ext cx="530568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4797360"/>
                    <a:ext cx="53056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"/>
          <p:cNvGraphicFramePr/>
          <p:nvPr/>
        </p:nvGraphicFramePr>
        <p:xfrm>
          <a:off x="6513480" y="5070600"/>
          <a:ext cx="213516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3480" y="5070600"/>
                    <a:ext cx="21351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DES Increases as Pretest-Posttest Correlation Decr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B2D-4ED6-4FEC-8969-03047124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16" descr=""/>
          <p:cNvPicPr/>
          <p:nvPr/>
        </p:nvPicPr>
        <p:blipFill>
          <a:blip r:embed="rId1"/>
          <a:stretch/>
        </p:blipFill>
        <p:spPr>
          <a:xfrm>
            <a:off x="993600" y="1316160"/>
            <a:ext cx="7375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assessments as outc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d to define proficiency for AY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al in grades 3–8 (Math and EL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mizes bur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(er) cost and scale scores readily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ests tend to have lower CSEM at middle of ability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st CSEM at 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 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can be partitioned into explainable and unexplainable (measurement error)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n increased CSEM at tails, samples of students selected at tails will have higher proportions of unexplainabl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Tests Prevalent, But Appropriat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EB09-E7B0-4E36-A4A1-175DD04F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greater measurement error for low-performing students, does this mean that pretest-posttest correlations will be attenua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apture variability in correlation coefficients associated to measurement error, select samples with different average achievement levels and calcul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pretest-posttest correlations across different achievement levels (and across states) to inform power calc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Method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574-2D7B-4E2F-B50E-BC5054F8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606920" y="4129200"/>
          <a:ext cx="219708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6920" y="4129200"/>
                    <a:ext cx="2197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DB0-4EBA-4FAB-AB4D-610F2338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average pretest-posttest correlation coefficient for samples of students selected at different pretest achievement level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correlation coefficients differ by s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complete states + 2 large districts from 2 additional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years of population d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sets of pre-post correl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ear1,Year2), (Year2,Year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glish/Language Arts &amp; Mathema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s 3–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A2E4-D44D-4506-9EDF-8701320C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996840" y="1325160"/>
            <a:ext cx="73692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 pretest achievement level determ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st perfor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iciency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perfor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b30838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 grouping (pretest ye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lementary (grades 3 and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elementary (grade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b30838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school (grades 6 and 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7880" y="27000"/>
            <a:ext cx="7396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3DC8-F876-4EC0-B564-B85CC870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2:37:32Z</dcterms:created>
  <dc:creator>Russell P. Cole</dc:creator>
  <dc:description/>
  <dc:language>en-US</dc:language>
  <cp:lastModifiedBy>Authorised User</cp:lastModifiedBy>
  <dcterms:modified xsi:type="dcterms:W3CDTF">2010-07-06T12:56:51Z</dcterms:modified>
  <cp:revision>176</cp:revision>
  <dc:subject/>
  <dc:title>The Conditional Reliability of State Achievement Tests</dc:title>
</cp:coreProperties>
</file>