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8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4018-D5E6-4A83-8CC6-F2DACD61D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AADE-CBB0-47F3-BA70-8E84BA58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12F-9C20-4D4A-9A35-82A92ABA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148A-A968-4A40-ACA1-74D1B4A3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0D80-2AF5-4C5D-9802-76C5FAD2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0B5-4C67-4B5D-ACE0-CBAEBA95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1CE-AC70-482E-AC29-D0974686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5404-71C4-4DC2-A1F4-2A4E2B77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DFF7-4E07-4417-9BB3-C6D4EB0B4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746-DDC6-4BA6-A70A-DDDF04F1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CB7-1586-4372-A82C-3D4271E0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6A2-6EAE-4E98-9FBE-C563A3BA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E4D-DFA0-4367-BE27-E021E7FC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CCDB-9CBF-4E3C-AD49-BE839320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990-83AD-4159-813C-EB34B55D4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B8A-3381-4078-95F1-28CEDC2AA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F5FF-26A7-4067-A365-23E7A023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4A55-55A2-47C3-92AB-21D95F6D1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F1E2-704C-44FA-A203-B4992CBC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F581-9916-41BF-AA20-45DA7F7F7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AA49-B54F-40E2-9423-8AFB0E07C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6B42-D025-4C32-B131-5B42024C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FF04-DE4F-4943-9B18-FE8CA56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9B3A3-EED8-4CA9-A31F-A122157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52F79-941A-43F0-A3DC-2A56441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F1E24-3561-4610-8ABA-77B03639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38C9C-454B-4D6B-AA54-91BF42EB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D44F-8E6D-4D9D-902D-9ECC094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5978-B481-484F-A94C-D0C6EAA55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4B55D-C716-45D5-B38A-A4BB603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C0A15-7C28-4156-A3D6-D6027D4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78D53-FDAA-4CBE-A78E-FF008AE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724F-12A9-4E99-9C2D-D5C6CA88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067C-3164-46FE-A4C2-FCCE609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8BD97-908E-424F-815C-82FFC2D45C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A356-9C20-4BFC-B62F-8E1C2C25C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BC675-9FA9-4440-8F8F-C2BC56D1D7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1FAB-E108-452B-ADE0-93887ED748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6A71-B4F3-4BF3-87A6-371D23C74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1215-E1F3-408E-946F-44669D3336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FABE2-E66F-44AF-A0FA-2C6D013B7F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A81B7-9F73-4472-A950-14630D3824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4CD0-8BC7-4815-A870-C28167B08D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6442-47A4-458D-B07F-DD1D8A9BFD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E1D43-0312-4653-8E1A-CF72849E2A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54DE4-496E-4D34-A295-331D67A914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4E4A-4FF2-4F75-926D-B1A1A8831B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6CA-0C18-4D0B-ADD4-4061B9A78C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E874-2E4C-4653-A47A-9F13758408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999-1A5F-409C-A8E8-634C92885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EDE7-AB73-4726-9074-ED7886B219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FBE-686A-4F11-B3FF-4E788A5429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BC3E-7147-436F-A3C2-D7883ED186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8D52-A4BC-4DF5-9031-1D091D8B68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042-44A3-4D6E-BE76-FC75BF6E05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2B5B-37E8-43FD-A763-2426ED3841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D493-A901-4F8B-A637-9EBC4EC210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FC84-A94E-45E6-A414-71E276F521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08C-9288-48E7-83BB-F6DAC47934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D857-154C-4AFC-A626-53A293AE18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3542A-0A10-4F27-B6D7-CA5629E7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C134-0A15-438A-803C-DB7D4CDC6F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738E0-5CD8-4833-A2D6-021310D025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0EC06-0F48-4716-B27B-4D9D644F66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ED21C-854D-4070-BAA4-8CE08D1160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EFC45-FF68-4665-8B5A-E5D1E2154C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D0CE9-AEF9-4B79-AD32-290A7B3B6F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701B0-BE11-4033-A3E3-64BA73CE8D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73A5F-EF5D-4D44-9BB4-4BC71C5654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D1CF4-7745-479E-9EAF-0C4E93EC84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B4874-5AE8-40C1-9EAD-5CF548C5D7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B763A-90D2-429C-93D7-37C82C6DB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5C71-4CC1-473E-9EBE-AE44751851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79E00-B98F-4F23-A601-B3F763ADC3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1E12-FBC3-4AC1-895E-526A22D59F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C9D8-584E-4DED-A972-913FA49C9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5E6E-9DAD-47F5-A432-FCD6EEA35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392-CE72-4049-9011-3B98316D1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5E92-2229-4279-AAD0-8B4804BFC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8DE9-B965-4426-ACA0-0BBE95A4F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6737400"/>
            <a:ext cx="300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5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s a registered trademark of Mathematica Policy Research.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733-8F45-4EED-BCB0-CD6ED337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0AC-3AFE-4410-990F-E01D4D4D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3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cole@mathematica-mpr.com" TargetMode="External"/><Relationship Id="rId2" Type="http://schemas.openxmlformats.org/officeDocument/2006/relationships/hyperlink" Target="http://ies.ed.gov/ncee/pdf/2009013.pdf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738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 Considerations for Educational Studies with Restricted Samples that Use State Tests as Pretest and Outcome Measur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3280" y="276552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at the Institute for Education Scienc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ell Cole ● Josh Haimson ● Irma Perez-Johnson ● Henry M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state, year, subject, and grade-grou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test standard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of study samples (n = 5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on of pretest-posttest corre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states, 2 years pre-post data, 2 subjects, 3 grade groups for each achievement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ss-cutting aggregation (ANOV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D40D-A054-4507-9695-B14E320AB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test-Posttest Correlations Attenuated for Lowest-Performing S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375-3524-4A66-829A-DDC760A5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Chart 10" descr=""/>
          <p:cNvPicPr/>
          <p:nvPr/>
        </p:nvPicPr>
        <p:blipFill>
          <a:blip r:embed="rId1"/>
          <a:stretch/>
        </p:blipFill>
        <p:spPr>
          <a:xfrm>
            <a:off x="1517760" y="1274760"/>
            <a:ext cx="556560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Variation in Pretest-Posttest Correlation Across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CC0-A671-46F4-B1CC-FAF13E18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Content Placeholder 4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27000"/>
            <a:ext cx="72597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d                  for Power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356-8DC3-44AB-B9A8-530A2538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"/>
          <p:cNvGrpSpPr/>
          <p:nvPr/>
        </p:nvGrpSpPr>
        <p:grpSpPr>
          <a:xfrm>
            <a:off x="8081640" y="1168560"/>
            <a:ext cx="935280" cy="3147480"/>
            <a:chOff x="8081640" y="1168560"/>
            <a:chExt cx="935280" cy="3147480"/>
          </a:xfrm>
        </p:grpSpPr>
        <p:sp>
          <p:nvSpPr>
            <p:cNvPr id="312" name="Text Box 3"/>
            <p:cNvSpPr/>
            <p:nvPr/>
          </p:nvSpPr>
          <p:spPr>
            <a:xfrm>
              <a:off x="8150400" y="1168560"/>
              <a:ext cx="86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AutoShape 4"/>
            <p:cNvCxnSpPr/>
            <p:nvPr/>
          </p:nvCxnSpPr>
          <p:spPr>
            <a:xfrm flipV="1">
              <a:off x="8081640" y="1230840"/>
              <a:ext cx="1080" cy="3085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314" name="Group 5"/>
          <p:cNvGrpSpPr/>
          <p:nvPr/>
        </p:nvGrpSpPr>
        <p:grpSpPr>
          <a:xfrm>
            <a:off x="6153120" y="1224000"/>
            <a:ext cx="747720" cy="3088800"/>
            <a:chOff x="6153120" y="1224000"/>
            <a:chExt cx="747720" cy="3088800"/>
          </a:xfrm>
        </p:grpSpPr>
        <p:sp>
          <p:nvSpPr>
            <p:cNvPr id="315" name="Text Box 6"/>
            <p:cNvSpPr/>
            <p:nvPr/>
          </p:nvSpPr>
          <p:spPr>
            <a:xfrm>
              <a:off x="6153120" y="1224000"/>
              <a:ext cx="74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AutoShape 7"/>
            <p:cNvCxnSpPr/>
            <p:nvPr/>
          </p:nvCxnSpPr>
          <p:spPr>
            <a:xfrm flipV="1">
              <a:off x="6157800" y="122832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17" name="Group 8"/>
          <p:cNvGrpSpPr/>
          <p:nvPr/>
        </p:nvGrpSpPr>
        <p:grpSpPr>
          <a:xfrm>
            <a:off x="4602240" y="1235160"/>
            <a:ext cx="811080" cy="3099960"/>
            <a:chOff x="4602240" y="1235160"/>
            <a:chExt cx="811080" cy="3099960"/>
          </a:xfrm>
        </p:grpSpPr>
        <p:sp>
          <p:nvSpPr>
            <p:cNvPr id="318" name="Text Box 9"/>
            <p:cNvSpPr/>
            <p:nvPr/>
          </p:nvSpPr>
          <p:spPr>
            <a:xfrm>
              <a:off x="4602240" y="1235160"/>
              <a:ext cx="811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AutoShape 10"/>
            <p:cNvCxnSpPr/>
            <p:nvPr/>
          </p:nvCxnSpPr>
          <p:spPr>
            <a:xfrm flipV="1">
              <a:off x="4628520" y="125064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aphicFrame>
        <p:nvGraphicFramePr>
          <p:cNvPr id="320" name="Object 1"/>
          <p:cNvGraphicFramePr/>
          <p:nvPr/>
        </p:nvGraphicFramePr>
        <p:xfrm>
          <a:off x="2570040" y="0"/>
          <a:ext cx="15843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040" y="0"/>
                    <a:ext cx="15843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ations for MDES Might Be Mo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687-6B72-411E-878C-3BEDE055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6153120" y="1224000"/>
            <a:ext cx="747720" cy="3088800"/>
            <a:chOff x="6153120" y="1224000"/>
            <a:chExt cx="747720" cy="3088800"/>
          </a:xfrm>
        </p:grpSpPr>
        <p:sp>
          <p:nvSpPr>
            <p:cNvPr id="326" name="Text Box 6"/>
            <p:cNvSpPr/>
            <p:nvPr/>
          </p:nvSpPr>
          <p:spPr>
            <a:xfrm>
              <a:off x="6153120" y="1224000"/>
              <a:ext cx="74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AutoShape 7"/>
            <p:cNvCxnSpPr/>
            <p:nvPr/>
          </p:nvCxnSpPr>
          <p:spPr>
            <a:xfrm flipV="1">
              <a:off x="6157800" y="122832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28" name="Group 5"/>
          <p:cNvGrpSpPr/>
          <p:nvPr/>
        </p:nvGrpSpPr>
        <p:grpSpPr>
          <a:xfrm>
            <a:off x="6521400" y="1612800"/>
            <a:ext cx="747720" cy="2712960"/>
            <a:chOff x="6521400" y="1612800"/>
            <a:chExt cx="747720" cy="2712960"/>
          </a:xfrm>
        </p:grpSpPr>
        <p:sp>
          <p:nvSpPr>
            <p:cNvPr id="329" name="Text Box 6"/>
            <p:cNvSpPr/>
            <p:nvPr/>
          </p:nvSpPr>
          <p:spPr>
            <a:xfrm>
              <a:off x="6521400" y="1612800"/>
              <a:ext cx="747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7"/>
            <p:cNvCxnSpPr/>
            <p:nvPr/>
          </p:nvCxnSpPr>
          <p:spPr>
            <a:xfrm flipV="1">
              <a:off x="6526080" y="1616760"/>
              <a:ext cx="1080" cy="270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test-posttest correl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 attenuation when homogeneous sample sel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ght be lower than anticipated for low performers on state assess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for ELA/Mathematics and across grade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fected by other factors (ceiling/floor eff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vailable administrative records to ga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/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8DAA-B327-4674-BF9B-E668E099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1536840" y="4691160"/>
          <a:ext cx="16444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4691160"/>
                    <a:ext cx="16444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cole@mathematica-mpr.com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, Henry, Irma Perez-Johnson, Joshua Haimson, Samina Sattar, and Phil Gleason (2009).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State Tests in Education Experiments: A Discussion of the Issues.” (NCEE 2009-013). Washington, DC: National Center for Education Evaluation and Regional Assistance, Institute of Education Sciences, U.S. Department of Educ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es.ed.gov/ncee/pdf/2009013.pdf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E71-BCC4-41F2-B9BE-5A9A07C6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earch reported here was supported by the National Center for Education Evaluation and Regional Assistance, U.S. Department of Education, through contract ED-04-CO-0112 to Mathematica Policy Research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ized controlled trial (R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biased estimate of program 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ingly prevalent in education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detecting a true program impact is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effect size (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pretest can increase power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test-Posttest correlation shrinks minimum detectable effect size (M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6294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ing impact of education inter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7D2-5121-4F2E-B892-554E2678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"/>
          <p:cNvGraphicFramePr/>
          <p:nvPr/>
        </p:nvGraphicFramePr>
        <p:xfrm>
          <a:off x="303120" y="4797360"/>
          <a:ext cx="530568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4797360"/>
                    <a:ext cx="53056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"/>
          <p:cNvGraphicFramePr/>
          <p:nvPr/>
        </p:nvGraphicFramePr>
        <p:xfrm>
          <a:off x="6513480" y="5070600"/>
          <a:ext cx="213516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3480" y="5070600"/>
                    <a:ext cx="21351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DES Increases as Pretest-Posttest Correlation Decr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21A8-9D6C-45DA-999C-13639BDB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assessments as outc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d to define proficiency for AY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al in grades 3–8 (Math and EL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mizes bur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(er) cost and scale scores readi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ests tend to have lower CSEM at middle of ability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st CSEM at 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 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can be partitioned into explainable and unexplainable (measurement error)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n increased CSEM at tails, samples of students selected at tails will have higher proportions of unexplainabl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Tests Prevalent, But Appropri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362-B896-4C18-82AA-4BEB9053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greater measurement error for low-performing students, does this mean that pretest-posttest correlations will be attenua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apture variability in correlation coefficients associated to measurement error, select samples with different average achievement levels and calcul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pretest-posttest correlations across different achievement levels (and across states) to inform power calc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Method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3B8-57ED-4D6B-A5B0-F9F7E153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606920" y="4129200"/>
          <a:ext cx="219708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6920" y="4129200"/>
                    <a:ext cx="219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794-C3FC-4CBD-B4AE-387CF946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average pretest-posttest correlation coefficient for samples of students selected at different pretest achievement level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correlation coefficients differ by s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omplete states + 2 large districts from 2 additional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years of population d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sets of pre-post correl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ear1,Year2), (Year2,Year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lish/Language Arts &amp; Mathema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s 3–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D41E-065E-44EC-991B-AE20407D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 pretest achievement level determ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st perfor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iciency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perfor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 grouping (pretest ye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lementary (grades 3 and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elementary (grade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school (grades 6 and 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6FE5-ABAC-4FF7-A17A-3C90CC16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2:37:32Z</dcterms:created>
  <dc:creator>Russell P. Cole</dc:creator>
  <dc:description/>
  <dc:language>en-US</dc:language>
  <cp:lastModifiedBy>Authorised User</cp:lastModifiedBy>
  <dcterms:modified xsi:type="dcterms:W3CDTF">2010-07-06T12:56:51Z</dcterms:modified>
  <cp:revision>176</cp:revision>
  <dc:subject/>
  <dc:title>The Conditional Reliability of State Achievement Tests</dc:title>
</cp:coreProperties>
</file>