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8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ftr" idx="9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 type="sldNum" idx="10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6ED2-CA82-4EFF-8CA5-14D206136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ECDA-77A9-40F5-A62C-8812FBECA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2110-015D-4544-8C54-7F60BE622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D459-0F30-4775-A24E-A4633C916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BECE-CD0B-46D5-BC1F-B55EB9265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FCE7-D150-473A-8BC9-1A2C8A645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0660-3008-433F-852B-61A4451EB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1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686F-CEF6-4B1D-8C3C-88246CF0A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BE49-7D81-4878-AACA-C9C370755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987C-E31E-4DB6-9F54-4FF1DA5F0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E3C3-F92E-4FE9-83BE-76F8975B3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31E3-0E7A-4444-BF1A-7E91BFCA3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89A8-BABF-4155-8765-DD1E5AC9E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2C26D-D8FE-4E9A-9998-6AD11D62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0ACD8-8E0D-47CB-92F2-79352391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44CBB-6AF4-438F-B232-A57FB09E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91DB9-5BDA-4322-81AA-0EEC994F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344A3-6F1E-4A63-8A44-56E3613C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BD83A-DD4F-486E-8A72-725E65B0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2623E-9720-4DFF-89B3-ED227C5B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BABA-0CD1-4685-BB31-D50904C47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744E5-1C8E-4CE3-8304-A232813D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8E377-E892-4D40-A7C2-D4D8FA7B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D3455-2729-40B4-A9D1-58323EA0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6B7B1-2891-4DD2-9F61-9349EB6B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41D48-8569-43DB-AFA2-387820BC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7FFA9-A507-4998-AB19-3F6F4BF699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3221E-4435-4C5B-B40E-5F5FB77E73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98841-05F9-4E23-8F09-072082C8DE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EAC68-309D-45E8-84BE-C7D914A81F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1C8DB-AA9A-4372-9007-A4E9C71002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1A9C-D59E-4BEC-8DEF-9FAA78A4C1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11F6F-F9F6-4FA3-89D9-88C8DBAD33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51C29-51A6-47FC-A8A8-DFA2EF6D64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E780A-6DB9-49E8-98BA-CAE515AB73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F46A3-7446-4EE8-B829-C7917C11D8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57404-A2E7-4C6E-B9DA-045498C205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912DE-8AA7-4596-AA7E-70E55D2303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8B5A6-58A2-4758-8EB2-E986532250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0210-09CA-40A8-8E78-BA8F391730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2CDF-150E-480A-8122-B453F10BA5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34D7-F6DD-4A7B-A3C6-77EA0C4FF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0C42-D20F-443C-9B26-F3177B656C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CD08-9077-4717-93AA-E0E5E3AF5D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75E5-169A-43DA-8005-FD88D36A70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A25A-8DDD-4A93-809B-4B15B6ADD2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2850-A994-47B7-91FA-4D62DEC196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DD6E-42DB-4A04-807E-7E7AC5BE3D6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387F-D56A-4AFF-A4BF-82F8FFF6EA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AF91-758E-4930-816A-FC00DA3692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696B-6A7D-47BB-A4C8-EBAE348410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F307-2F53-4788-A0ED-C116EE80D26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CA7CAA-F647-4304-AC75-7B7F28391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37DA-9386-4CA2-8D02-355C51822A3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FA7300-E411-4E66-A32B-80230F64785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E44136-4E07-4484-BEC3-ED961ABBF59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0D9F26-7F56-4667-91A3-2B78713EC76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2C88F3-F7E0-47F3-9A08-899603ACE95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A505ED-A559-42D9-A7E1-97EACC9895C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62B888-FA5A-4A7F-AC00-7A92E80BF74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C17CE5-E966-4AF4-AB2F-2E8722C6BFF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9373A0-33D3-4F00-BCB9-0F479579A7E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268C5B-1174-4DA0-9BF9-B2F8DFF23B6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5DCCD2-6E74-459D-A62B-3F6699B42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D86C-A6FA-4743-8099-60F3FB1DB4E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190091-D0B1-44BC-8F84-68BC74E3830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6BEA-05EE-4AA1-B614-52F67593764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C1D2-822F-4BCA-AF2F-88D79F47E3A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A4B4-8D36-4C5C-A7AA-1EF334C1A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E817-E522-4610-A6FF-91E9BE2EB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744B-92C8-4DDF-B522-11CA0895AA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ldNum" idx="5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9A2D-3232-405A-BD4C-51258F4DA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130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6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BB0D-D51D-407B-9A00-FB6E61F24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7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8D53-3FB8-44D2-A0B3-9EF754E48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updated-gradient.jpg"/>
          <p:cNvPicPr/>
          <p:nvPr/>
        </p:nvPicPr>
        <p:blipFill>
          <a:blip r:embed="rId2"/>
          <a:srcRect l="317" t="742" r="633" b="2144"/>
          <a:stretch/>
        </p:blipFill>
        <p:spPr>
          <a:xfrm>
            <a:off x="0" y="4275000"/>
            <a:ext cx="9144000" cy="258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2" descr="logo"/>
          <p:cNvPicPr/>
          <p:nvPr/>
        </p:nvPicPr>
        <p:blipFill>
          <a:blip r:embed="rId3"/>
          <a:stretch/>
        </p:blipFill>
        <p:spPr>
          <a:xfrm>
            <a:off x="3714840" y="5319720"/>
            <a:ext cx="1714320" cy="609480"/>
          </a:xfrm>
          <a:prstGeom prst="rect">
            <a:avLst/>
          </a:prstGeom>
          <a:ln w="0">
            <a:noFill/>
          </a:ln>
        </p:spPr>
      </p:pic>
      <p:sp>
        <p:nvSpPr>
          <p:cNvPr id="219" name="Straight Connector 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updated-gradient.jpg"/>
          <p:cNvPicPr/>
          <p:nvPr/>
        </p:nvPicPr>
        <p:blipFill>
          <a:blip r:embed="rId4"/>
          <a:srcRect l="317" t="742" r="633" b="2144"/>
          <a:stretch/>
        </p:blipFill>
        <p:spPr>
          <a:xfrm>
            <a:off x="0" y="4275000"/>
            <a:ext cx="9144000" cy="2583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2" descr="logo"/>
          <p:cNvPicPr/>
          <p:nvPr/>
        </p:nvPicPr>
        <p:blipFill>
          <a:blip r:embed="rId5"/>
          <a:stretch/>
        </p:blipFill>
        <p:spPr>
          <a:xfrm>
            <a:off x="3714840" y="5319720"/>
            <a:ext cx="1714320" cy="609480"/>
          </a:xfrm>
          <a:prstGeom prst="rect">
            <a:avLst/>
          </a:prstGeom>
          <a:ln w="0">
            <a:noFill/>
          </a:ln>
        </p:spPr>
      </p:pic>
      <p:sp>
        <p:nvSpPr>
          <p:cNvPr id="222" name="Straight Connector 11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110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recision Gains from Publically Available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chool Proficiency Measures Compared to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tudy-Collected Test Scores in Education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uster-Randomized Tria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3280" y="2811600"/>
            <a:ext cx="779472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ation to the IES Research Con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hn Deke ●  Lisa Dragoset ●  Ravaris Mo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a from 8 previous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5 different outcome / baseline test score combinations (math and readin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dian sample size = 48.5 sch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ant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ilable for multiple grades, subgroups, and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nd M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advant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s define proficiency differ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is often for a different coh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test may not be aligned with post t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-level proficiency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94608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ool-level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sing proficiency data is abou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mes larger than a model with school district indicators alone (abou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.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stead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.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DE using proficiency data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mes the MDE from a model with school district indicators alone (abou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.2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stead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.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ciency data help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382A-601B-4C70-8CF6-52D558F10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chool-level 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using proficiency data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4/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e size of the 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rom study-collected pre-tests (for example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.6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ead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.7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DES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.3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imes larger (for example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.2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stead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.1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compensate for loss of precision, the average study would need to nearl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ou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e number of sch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not as much as pre-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variates for missing data – how bad would missing data bias b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variates for subgroup analysis – can we use quantile treatment effects? (separate pap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ther uses for baseline test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1143000" y="6094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statistically significant differences in pre-tests between treatment and control groups due to attrition b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ut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2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tatistically significant differences in pre-tests between those with and without post-tests (non-respondents have lower pre-tes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issing outcome data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recommend collecting student-level pre-test scores when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ases where this is not possib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ool-level proficiency data can provide precision gains, but there are no guarant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s likely retain causal validity, but there may be issues with generaliz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s exist to estimate variation in impacts by ability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9:41:19Z</dcterms:created>
  <dc:creator>jdeke</dc:creator>
  <dc:description/>
  <dc:language>en-US</dc:language>
  <cp:lastModifiedBy>Authorised User</cp:lastModifiedBy>
  <dcterms:modified xsi:type="dcterms:W3CDTF">2010-07-06T12:54:08Z</dcterms:modified>
  <cp:revision>13</cp:revision>
  <dc:subject/>
  <dc:title>Precision Gains from Publically Available School Proficiency Measures Compared to Study-Collected Test Scores in Education Cluster-Randomized Trials</dc:title>
</cp:coreProperties>
</file>