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8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ftr" idx="9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 type="sldNum" idx="10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8C16-8B11-4149-8402-B5008E069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6FD0-12A4-476A-A143-B3CD06CDE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E198-A4FE-4E3C-A202-9DCD00632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DE13-012C-49EA-9EF0-9FC5286BB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A230-A4B0-462F-BDFC-5AA2879A7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65BC-0253-4BF9-8887-BC6EB1B27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601E-6630-4C2A-BD39-445CFC797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476E-7413-46A2-8D34-633E4C95A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8A8D-4E6A-440A-989E-0E23CBC5B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33E9-B0AB-4F80-AF3F-E93854B8B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29D3-5256-4259-A353-6C0874935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E796-4A06-4C5A-BF35-420558850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74A4-F276-48D2-A5BF-A4C2539AB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DC838-38C3-4178-AC99-EB134DAA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688B4-730B-4FD2-AB62-17E81792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1151E-6E48-4829-A1BC-4A8B8441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E1CA3-565B-4C0E-B789-1E1F605B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E21F2-80C9-468A-BFC8-051D9D3F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28250-1E14-459F-AAF9-71A26618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116BD-05B6-4679-BCEB-8C16BF23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2B21-56B8-4CC2-8D1D-15D56E995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3545B-27EA-4858-A346-9A3723EF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FE2FA-90CB-4EFA-BAB3-10BBE7E5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2A196-2158-4805-9FC8-BDC2565B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C7C0D-7962-4B9A-A5DE-4CD09A14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AA79F-33BC-4ED2-AA73-B2614954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0F1D5-36F1-4538-9797-185FAF261C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EC014-B2CC-4EF8-BC6D-FE28BF04F7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155E8-31DE-4019-B9A9-AA71E4DEC1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86AE2-760A-4393-8F1B-88238A1BAF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497AD-5BC1-4E46-A978-F61B287E41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D134-4D9B-44ED-9627-8DE21887F6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F665D-DFA1-4A28-AD63-D8CECBCB3B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D1884-AFBB-4573-BF71-0A853D24B2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966E7-C8CD-4AC0-BDC4-C356E2FC65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5A475-B422-4A21-A5BB-5ECD090A0F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7F39C-F916-44E0-B68E-E4318D171E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08AF3-A098-4081-8C34-7B9E1455EF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E5EF3-914A-461F-9E58-1CE6227F6A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A135-9445-4FC4-B768-3B9AE303D7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FCE1-F7DA-4975-8AC9-BC0EF52D23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ACE5-621C-482E-BC73-98D6BE575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917C-5543-4292-A3DD-DEFB9A5618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69AE-791A-4661-87A8-96DE9A4261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4D79-D3F6-4702-84B1-463D4C0B4D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C340-A39A-4E00-B88D-EE3E54C790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D42C-A404-4D2B-BF43-B00FF13C1C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0732-0B3F-42FD-8BA0-7B354F343E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D056-793C-42B0-98CB-6D40142353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9E90-B43F-4C6D-88D1-AF40AA85B7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370E-6B10-4CF5-9295-9CCA98652A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416B-0811-4054-A4D2-E748876F22C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BEE1BB-058C-44BA-97B7-967A1E41C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A48A-9855-4DC3-A33F-59DAA80F2FF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A4B304-5CC7-4C94-9B6F-FFFDD867536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DB9125-B2AA-4D5F-84DC-8BFBEFFF5F5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43EADD-0443-478E-9F9C-9F4D28C05EA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A0A12-A956-42D3-8C5F-2FA9D34FC87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6E40B3-F197-4A9F-9DCE-EACBEB99B09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6A651E-879B-4E70-A5DD-AC081A6ADF8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146D0C-2FC6-4F24-A71A-3C05A0DAFD1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57816B-C3F2-49D7-A980-DAC1872F557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8A4CAD-B475-4100-A4F1-B34427B7632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9A4BDF-9920-4F79-85F1-006F93AD7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6DD4-175E-4A75-97CD-166164B96FD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CCF769-B7E0-4646-994E-A74208593DB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7D2D-9E50-4E18-B8C7-7BA1AD61537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A81D-4FC3-49E2-BFAE-0B177606472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04E3-5BB5-4E1F-A650-F7BB8BF23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3EEE-EF4E-4156-AD82-60937097B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4244-B91A-4C0D-9EB2-4C8B4D7A5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ldNum" idx="5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7B3E-D0C8-4544-82AF-073E8EA8E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130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6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71F5-C605-40DB-B07B-5DC287B78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7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07D8-86BA-4EF2-A5E1-FA448DB4F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updated-gradient.jpg"/>
          <p:cNvPicPr/>
          <p:nvPr/>
        </p:nvPicPr>
        <p:blipFill>
          <a:blip r:embed="rId2"/>
          <a:srcRect l="317" t="742" r="633" b="2144"/>
          <a:stretch/>
        </p:blipFill>
        <p:spPr>
          <a:xfrm>
            <a:off x="0" y="4275000"/>
            <a:ext cx="9144000" cy="258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2" descr="logo"/>
          <p:cNvPicPr/>
          <p:nvPr/>
        </p:nvPicPr>
        <p:blipFill>
          <a:blip r:embed="rId3"/>
          <a:stretch/>
        </p:blipFill>
        <p:spPr>
          <a:xfrm>
            <a:off x="3714840" y="5319720"/>
            <a:ext cx="1714320" cy="609480"/>
          </a:xfrm>
          <a:prstGeom prst="rect">
            <a:avLst/>
          </a:prstGeom>
          <a:ln w="0">
            <a:noFill/>
          </a:ln>
        </p:spPr>
      </p:pic>
      <p:sp>
        <p:nvSpPr>
          <p:cNvPr id="219" name="Straight Connector 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updated-gradient.jpg"/>
          <p:cNvPicPr/>
          <p:nvPr/>
        </p:nvPicPr>
        <p:blipFill>
          <a:blip r:embed="rId4"/>
          <a:srcRect l="317" t="742" r="633" b="2144"/>
          <a:stretch/>
        </p:blipFill>
        <p:spPr>
          <a:xfrm>
            <a:off x="0" y="4275000"/>
            <a:ext cx="9144000" cy="2583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2" descr="logo"/>
          <p:cNvPicPr/>
          <p:nvPr/>
        </p:nvPicPr>
        <p:blipFill>
          <a:blip r:embed="rId5"/>
          <a:stretch/>
        </p:blipFill>
        <p:spPr>
          <a:xfrm>
            <a:off x="3714840" y="5319720"/>
            <a:ext cx="1714320" cy="609480"/>
          </a:xfrm>
          <a:prstGeom prst="rect">
            <a:avLst/>
          </a:prstGeom>
          <a:ln w="0">
            <a:noFill/>
          </a:ln>
        </p:spPr>
      </p:pic>
      <p:sp>
        <p:nvSpPr>
          <p:cNvPr id="222" name="Straight Connector 11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110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recision Gains from Publically Available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chool Proficiency Measures Compared to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tudy-Collected Test Scores in Education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uster-Randomized Tria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3280" y="2811600"/>
            <a:ext cx="779472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ation to the IES Research Con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hn Deke ●  Lisa Dragoset ●  Ravaris Mo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a from 8 previous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5 different outcome / baseline test score combinations (math and readin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dian sample size = 48.5 sch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ant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ilable for multiple grades, subgroups, and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nd M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advant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s define proficiency differ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is often for a different coh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test may not be aligned with post t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-level proficiency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94608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ool-level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sing proficiency data is abou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mes larger than a model with school district indicators alone (abou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.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stead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.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DE using proficiency data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mes the MDE from a model with school district indicators alone (abou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.2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stead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.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ciency data help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163C-B387-4366-9A83-3D967A82E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chool-level 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using proficiency data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4/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e size of the 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rom study-collected pre-tests (for example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.6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ead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.7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DES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.3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imes larger (for example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.2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stead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.1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compensate for loss of precision, the average study would need to nearl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ou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e number of sch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not as much as pre-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variates for missing data – how bad would missing data bias b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variates for subgroup analysis – can we use quantile treatment effects? (separate pap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ther uses for baseline test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statistically significant differences in pre-tests between treatment and control groups due to attrition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ut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2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tatistically significant differences in pre-tests between those with and without post-tests (non-respondents have lower pre-tes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issing outcome data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recommend collecting student-level pre-test scores when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ases where this is not possib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ool-level proficiency data can provide precision gains, but there are no guarant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s likely retain causal validity, but there may be issues with generaliz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s exist to estimate variation in impacts by ability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9:41:19Z</dcterms:created>
  <dc:creator>jdeke</dc:creator>
  <dc:description/>
  <dc:language>en-US</dc:language>
  <cp:lastModifiedBy>Authorised User</cp:lastModifiedBy>
  <dcterms:modified xsi:type="dcterms:W3CDTF">2010-07-06T12:54:08Z</dcterms:modified>
  <cp:revision>13</cp:revision>
  <dc:subject/>
  <dc:title>Precision Gains from Publically Available School Proficiency Measures Compared to Study-Collected Test Scores in Education Cluster-Randomized Trials</dc:title>
</cp:coreProperties>
</file>