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1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CD0-7968-4803-BED9-55946F0A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713-1963-4B93-A8A8-E403FD80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1B37-1C8C-4B16-BD7E-8B16C7FD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958C-4FD2-47E0-AC4E-206D64AE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693-D62A-4820-8961-B3EB2A6C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E26-85E4-4650-8447-8B6A221C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4E6-2042-4E37-8EC4-AE6D1046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64E-971A-4652-B794-A750794D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C28-9341-4843-A934-CB883947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F8E-CCED-4C18-BF4D-23491ADE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646-8E16-4666-9CF4-47556CF2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CCA2B-3674-4FD4-ABF2-54599DD8B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7368-EF1E-49D2-A34E-BC9126017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ADAFF-913C-4596-B0AF-71D7B172B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B5429-E3D6-4849-B677-0E9BF76DB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145CE-34B4-4AA2-9C30-02A96A864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63FE8-1F0B-47C0-9994-5EAD991290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26AAC-46CE-499D-BA76-B8493C5621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67B-5806-482B-BE94-C71880E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B9939-7DDC-4D7A-B081-4B11BAF0E6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0CCE7-72CA-4C57-8124-16A7F5F62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DA81-12AC-457C-A7E8-1AACAF88F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F6B0-21FA-4298-8D60-B505D02658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63DC7-B4A1-4DB6-B2B7-BDC29A643D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971C-FF3F-422F-A3C9-6E051987D8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8258-80E0-48A2-9EE9-8C7FF8F192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B0150-C6B9-4DD0-A29F-6FED9A4EDA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1088-D9E3-4223-97E2-FB94CC5170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4A4C8-B320-4B09-BA64-8B64FC45C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F4C-A42B-4712-A5F1-D88BC598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C0BEB-450C-4C22-80A1-E015B33713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9AD30-DB45-4801-A0F3-CF546A8561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6A4D-2E9C-4865-A7AC-856528C61D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2BC6-7D7F-4701-A362-4AE14A521A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8B6AD-837E-4A2F-914A-D98E9DCA23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FA9FE-15CE-4FAF-A9C6-B48608ADB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AE0E1-E687-468B-A1DD-3782C8B312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001-0A30-4792-A66C-E0131C3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DBB-3B9F-4A3A-A8AF-EC249F273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7EE-1F52-445F-957F-318C9EB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9DE-86C0-4964-A92E-F9BBCEE17C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C6AE-4CE4-4378-A518-25DA5B77DF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F7F-E58D-4C2D-8E1B-73030AA5BA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FA7-44E0-44BF-BECB-D60AF39AB2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1249-B93E-4FCF-A93D-10F5533D20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16E5-C836-4ECD-9728-9B425B924E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12F-7E49-46A0-921E-33A9654B30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20BB-8A63-4CF7-AF09-E2F4F5FC0F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7A4-342F-46EA-915F-C8002D291C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FF39-28AF-45BC-B356-79432D0B4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2E3-6FFD-459F-B092-F9BD11C7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374E-50B2-4BBD-8530-03140BE72E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776CF-99EC-4ED3-817F-6DE9FEB652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7B03A-4A4C-4E38-88B6-D7D312DE2E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8C138-1955-4653-964D-B0890DA29D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DC663-5A40-4FF9-B594-5721695168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92A0F-AEE0-46F2-82F4-054EED435E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360B0-2602-497F-9C2F-EADA9E1928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06184-847A-4334-A8D7-575F3118D4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ACBE2-17AA-41F3-8243-2AA12C3129E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F6478-6B9B-49B9-9848-39EE87985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328-DFAC-4924-A5B3-0C0C84B6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C1831-3916-45CF-AE7D-D81E5CBC6B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D257D-FB05-443B-985A-2FCE797817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8DD52-E837-4D21-ABC9-33F57D4B4E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E6F6B-3219-4D3B-ABC1-88FF24C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B8A14-5EFA-4818-A29A-B30D1A4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63A8F-3709-41AE-948D-A4BA3BD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4B036-EA2E-48B6-9585-71C1DE7C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150DC-7736-42E1-9305-D71DA42C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2E99C-72BC-457B-B218-5E7962B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4DF70-1679-4745-8751-4EA711F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C8B-8F48-4F14-8B36-7FC311A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94326-92F5-4CB2-9808-CC13977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FC642-484C-4D86-84AB-7946DA9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086B5-29F2-4CCE-8743-1C95582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C22E4-2AA7-48E8-8FB8-261C556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0C389-4076-4E51-A754-24085856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E48771-5CCA-4D40-A88B-62A22AA4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AE379-6E1E-4F3A-9C8F-27288995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644AE2-D3E8-4BDA-AF11-1D5517A9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75C9F-6620-4095-8122-3C77608B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FA9F6-DCE4-4D77-9B39-5DC82B5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BF1-8549-4B0D-A0BE-7E3BE65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403BC-C804-481D-8707-4928CAB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960C5-0A8B-4E56-88D9-131C2A7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DAFB0-FE48-4945-926F-886B91F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E1CCC8-11A1-48EF-AE81-7D1DE86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210125-2818-4860-AA2B-4026CD11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53527-578A-4C3F-B7C4-44A6D900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D19B24-4B80-49B3-B926-434AE609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672-6B7B-4A1A-964B-1E0EC4DE6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746-E4B6-4329-B72B-84A9AD101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46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2BE-1A61-4B73-8256-CBBE7FCC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-19080" y="7920"/>
            <a:ext cx="9183600" cy="609480"/>
            <a:chOff x="-19080" y="7920"/>
            <a:chExt cx="9183600" cy="609480"/>
          </a:xfrm>
        </p:grpSpPr>
        <p:sp>
          <p:nvSpPr>
            <p:cNvPr id="127" name="Flowchart: Process 7"/>
            <p:cNvSpPr/>
            <p:nvPr/>
          </p:nvSpPr>
          <p:spPr>
            <a:xfrm>
              <a:off x="-19080" y="7920"/>
              <a:ext cx="9183600" cy="60948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7920"/>
              <a:ext cx="25142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169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608F-D9A6-4E13-90E1-3257DF07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214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BBB-4E7F-42E3-8E17-F8FE0FE8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259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0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2B60-8CF1-4173-A964-AEDF9F55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304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3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E69A-560C-4599-9B15-F3B13A1D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6400" y="2158920"/>
            <a:ext cx="8211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C Standards f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ssion Discontinuity Stud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3280" y="383544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 the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Deke  ● Jill Constant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of RD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57360"/>
            <a:ext cx="73706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ener to identify studies as being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possible design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 standards without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 standards with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meet standar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individual standar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 of the forcing (assignment)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ity of the outcome-forcing variable relation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form and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requirement for standard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939-8C6A-41BE-81F1-E695FA745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D Scree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assignment is based on a “forcing variable” – units on one side of a cutoff value are in the treatment group, units on the other side are in the comparison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cing variable must be ordinal with at least 4 values above and 4 values below the cutoff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must be no factor confounded with the cutoff value of the forcing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C79-CFEB-4F9B-99CE-A34473B9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ntegrity of the Forcing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“manipulatio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riteria: institutional integrity and statistical integ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riteria must be met to pass this standard without reservations; one criterion must be met to pass with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3854-0271-4307-A0EE-3A658C45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tr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nonresponse b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is almost the same as the WWC RCT standard on at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difference: overall attrition and differential attrition can either be reported at the cutoff value of the forcing variable or for the full treatment and comparison s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094-4F3E-4DEB-97E7-AACA0F88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117440"/>
            <a:ext cx="8853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tinuity of Outcome-Forc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Variable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50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phantom impacts from lack of “smoothness” in the relationship between the outcome and the forcing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riteria: baseline equivalence on key covariates and no evide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expl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continuities away from the cutoff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riteria must be met to pass this standard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DF60-8034-4C57-9A9F-77E5770D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81720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unctional Form and Bandwid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452240"/>
            <a:ext cx="7370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concern is misspecification b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justment must be made for the forcing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ical analysis must be included and should be consistent with bandwidth/functional form ch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evidence must be provided of an appropriate bandwidth or function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should “interact” forcing variable with treatment status or provide evidence that an interaction is not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above must be done for every combination of outcome, forcing variable, and cutoff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riteria must be met to pass standards without reservations; to meet with reservations, (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) plus (B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B378-F194-455C-B4C5-C0D8BAC8B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689040" y="1515960"/>
          <a:ext cx="73054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15960"/>
                    <a:ext cx="73054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62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Graphical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EC1-315E-4792-922B-55083C54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Evidence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 standards without reser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ust meet each individual standard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 standards with reser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ust meet individual standards 1, 2, and 4 with or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ils to meet WWC evidence standar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dividual standards 1, 2, or 4 are not m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238-0911-46F2-A9BC-4698C9C2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ing Requirement for Standard Err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errors must reflect clustering at the unit of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e and Card (2008) – clustering issue applies when forcing variable is not truly continuous (“random misspecification error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oes not affect whether a study meets standards, but it does affect how its findings can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77A-2C58-4FE5-8243-09C8D8DE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What Works Clearinghouse (WWC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ive of the U.S. Department of Education's Institute of Education Sci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and trusted source of scientific evidence for what works in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s and implements standards for reviewing and synthesizing education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s the rigor of research evidence on the effectiveness of interven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A56-5DC4-4B3D-AD6B-7FBFCD6C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-28440" y="882720"/>
            <a:ext cx="9200880" cy="510516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13C7-2452-4F70-9DF4-3E8F4385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WWC Study Designs Standar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d Control Trials (RC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xecuted RCTs can obtain the highest level of causal validit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 evidence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experimental Designs (QE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CTs  and matched comparison desig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 evidence standards with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on Discontinuity Designs (RDD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-Case Study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FA08-424D-41F9-BA6A-14343527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708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Research Design Standar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a level of rigor that informs caus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s a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ble and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nsistently applied to completed stud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255-FC7B-43A3-95D2-A978D760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RD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RCT in that treatment and control groups form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t by unobserved self-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from RCT in that groups are not formed randomly – they are formed purposefu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groups formed using a cutoff o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"forcing variable," then it is an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351-485D-49FC-B5DC-25DD0295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for Developing Standar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conve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draf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Review Guide draf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pilot tes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inalized and approved by 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AEA-D15B-4777-B878-ABED14AB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C RD Expert Pa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817640"/>
            <a:ext cx="73706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ists included Tom Cook, John Deke, Guido Imbens, J.R. Lockwood, Jack Porter, Peter Schochet, and Jeff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nel met once with follow-up conference calls over the course of several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C staff drafted the RD standards and incorporated feedback from the pane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ndards document is ready to be used by the WWC, but can be updated in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C780-558C-4380-8E73-2BCD84AF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the WWC allow RDD studies to join RCTs as studies that “meet standards without reservations”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distinguish between RDD studies that meet standards with versus without reserva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5E2-1BF9-4A6B-9C7D-C8557CAC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0:26:12Z</dcterms:created>
  <dc:creator>jdeke</dc:creator>
  <dc:description/>
  <dc:language>en-US</dc:language>
  <cp:lastModifiedBy>Authorised User</cp:lastModifiedBy>
  <dcterms:modified xsi:type="dcterms:W3CDTF">2010-07-06T12:54:21Z</dcterms:modified>
  <cp:revision>108</cp:revision>
  <dc:subject/>
  <dc:title>Regression Discontinuity Design: WWC Standards and Lessons from Practice</dc:title>
</cp:coreProperties>
</file>