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1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15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16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B0A4-FD1C-4076-97DD-FC1A941A6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45F8-ECF8-4A44-AD93-00CA7B783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18E5-5138-4757-8810-805E6645A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065F-A121-45D0-9EA6-0AF39519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29D9-E75F-447C-90AD-82DD2D9D4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9854-CAD0-458F-80B0-5E54A2A5C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0BCC-9772-4D78-AD60-D0DCC007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81C-6CA0-4BA2-84EE-E667E7F6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399-A0AB-4C26-B4FF-5409AA75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99C-B843-41BC-BF06-1BF9D948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12E-0323-4755-A146-22D7F571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D7750-07CA-4812-9D9C-E6150ABBA4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65B1F-CFC0-4CC0-A0EB-8629FEFE23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DD8BB-80F2-48D4-8C88-AF872DBFD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932AC-DEBB-4982-9023-610D23E5D7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AD303-B85A-4325-B210-1C0A2C0C0F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89684-EBF7-4E2E-9481-21458C3096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94737-58DF-48B6-833A-F00B7E5D1A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F72-7171-4F21-A563-9C50BD2C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307D5-ABE6-491E-9A7B-055E5BDA0D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F859C-02AE-4ABF-99D7-8E83C39EC4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E0B6F-F9F7-4D77-AAA7-32530CB8CB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326A0-1DBD-469A-B5B1-D7A480F9C5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09D96-98F5-42E4-BFF0-837B2D8620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34914-A8EE-44E7-B5FF-26F13B5F71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56D07-C737-47F1-ACDA-4EBBB0D64C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99AE7-FFEE-427C-B8C8-F9B7570F65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D0BF2-5419-41C6-818E-4F436A0611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C8693-EA9D-409D-A4B0-9BD6696CF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75B-2CCA-4382-8306-91F0534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03E02-3947-4E65-B492-1C5A6DA596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87076-413E-493A-BC6F-134C125F8C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2EFCC-5D34-4A48-A1D8-460ED9BA40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76D25-2739-44A8-9614-1CC3D090C0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F2216-ADD2-4CFB-A898-A4D786FDAD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E920A-7426-4BAB-8292-4CB879F1F5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53690-7507-43C4-B01C-9C6BCE0B24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246-1281-4907-946C-713D8551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0FE9-D184-4383-BDEF-1F10327DE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D26-14B2-4F5F-9644-8B844DE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5478-0471-4021-9734-58704431E6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CC7A-05AE-4B46-ADDE-013BA5898D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B57B-8F8D-4800-98F2-100967E000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58CE-9F15-4EA9-8567-B974C1F94B8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17AC-1486-473C-B8D3-8F2E3F64CA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1A92-49A4-4873-AB23-5E68D5E259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91A7-3BA0-4D0B-9FA0-1C15486779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6B61-AADE-4AB0-A5EA-A6447A95FC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289E-2E75-47C3-BE95-6621CCF61C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6197-E049-4FF3-AAE9-9DDD9D502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722-C417-4DB3-A7AB-725B4045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FAF1-5D88-4EB9-9074-98559E0D30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AC910-BBFF-4A8D-8898-A232ECA8D8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8ADED-06E1-4095-8FC6-F2C755BAA5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2BD629-37D2-4338-BF47-DC821BA44C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CB4D9-F0A2-4019-8C0E-DDCA8289B6A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8DEED-50A1-4268-B508-407F1AA93E3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701E4-BA5D-4BF8-A121-989A7FA1B0E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C0CE0-C67A-4802-99A0-941519F059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7A7B41-6BA9-4858-9422-6F7520754D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1A35C-29F6-4421-B692-5EA95E696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4D7-94A6-4C07-9ABB-F1EAC743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FCEE63-5372-43BC-BA15-11E5909C81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D7AE5-6986-431C-AB0C-90D6576451F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2AD44-9F99-4E06-A1A8-CFAEAC77D6B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59835-CB45-4FC6-8E45-62798B41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57AA8-4F06-4063-8A48-5FCC2F98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18027-7520-4BF9-B899-7E8040FE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4CF72-4FE9-4762-BA88-DA132DC9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FBDD7-6CEB-4526-9E93-5DD7AEE1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77F86-39F5-4C63-9AA1-9907DD4A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F91C3-4A2F-4A5E-B497-D6C10EB2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33E-341E-41E1-A02E-15DDF336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D960D-7AC5-437F-971E-88FD1AF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77A0F-95A8-4EEB-AF78-9468D95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EB9E4-A6D4-4AAB-9926-79F2320C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A0BA3E-DF34-4C70-8481-00BD606C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89E76-80FE-4B48-8F04-4495CFFF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2FD13-2972-484F-9358-C62887FA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68CA23-ADC4-48A0-B326-5A93FB8C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F0CE2-2704-46D1-905D-6199CE31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A8611A-D122-407C-829F-9E559E5D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01078-A338-49C6-A07C-1F7EF77B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36F-7935-4138-8EDC-66A006F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739764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3054C-0145-4D52-BE78-09B57C36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DA7B59-A7E4-4EF4-980D-FE52319C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73B908-076E-4EA2-B03A-3F642663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7150A4-C9B8-478A-B3EE-62A7BD77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7AC47F-DC0B-4AED-BCC7-AF9ACA2F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5952FF-2BBF-4323-8CE8-2D38B8AA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8AFBEB-2D78-4056-879B-80FEE905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7C50-9A56-48EC-AB90-40BD7C8B5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AB9F-D741-4144-86AF-ACDD341BC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4"/>
          <p:cNvGrpSpPr/>
          <p:nvPr/>
        </p:nvGrpSpPr>
        <p:grpSpPr>
          <a:xfrm>
            <a:off x="-19080" y="9360"/>
            <a:ext cx="9185400" cy="609840"/>
            <a:chOff x="-19080" y="9360"/>
            <a:chExt cx="9185400" cy="609840"/>
          </a:xfrm>
        </p:grpSpPr>
        <p:sp>
          <p:nvSpPr>
            <p:cNvPr id="46" name="Flowchart: Process 9"/>
            <p:cNvSpPr/>
            <p:nvPr/>
          </p:nvSpPr>
          <p:spPr>
            <a:xfrm>
              <a:off x="-19080" y="9360"/>
              <a:ext cx="9185400" cy="60984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9360"/>
              <a:ext cx="25146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ldNum" idx="5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CA2D-C427-4EFE-9AA4-B14348C3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"/>
          <p:cNvGrpSpPr/>
          <p:nvPr/>
        </p:nvGrpSpPr>
        <p:grpSpPr>
          <a:xfrm>
            <a:off x="-19080" y="7920"/>
            <a:ext cx="9183600" cy="609480"/>
            <a:chOff x="-19080" y="7920"/>
            <a:chExt cx="9183600" cy="609480"/>
          </a:xfrm>
        </p:grpSpPr>
        <p:sp>
          <p:nvSpPr>
            <p:cNvPr id="127" name="Flowchart: Process 7"/>
            <p:cNvSpPr/>
            <p:nvPr/>
          </p:nvSpPr>
          <p:spPr>
            <a:xfrm>
              <a:off x="-19080" y="7920"/>
              <a:ext cx="9183600" cy="60948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7920"/>
              <a:ext cx="251424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-19080" y="9360"/>
            <a:ext cx="9185400" cy="609840"/>
            <a:chOff x="-19080" y="9360"/>
            <a:chExt cx="9185400" cy="609840"/>
          </a:xfrm>
        </p:grpSpPr>
        <p:sp>
          <p:nvSpPr>
            <p:cNvPr id="169" name="Flowchart: Process 9"/>
            <p:cNvSpPr/>
            <p:nvPr/>
          </p:nvSpPr>
          <p:spPr>
            <a:xfrm>
              <a:off x="-19080" y="9360"/>
              <a:ext cx="9185400" cy="60984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9360"/>
              <a:ext cx="25146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6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DDA1-8269-436B-9AB4-6FED2E00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-19080" y="9360"/>
            <a:ext cx="9185400" cy="609840"/>
            <a:chOff x="-19080" y="9360"/>
            <a:chExt cx="9185400" cy="609840"/>
          </a:xfrm>
        </p:grpSpPr>
        <p:sp>
          <p:nvSpPr>
            <p:cNvPr id="214" name="Flowchart: Process 9"/>
            <p:cNvSpPr/>
            <p:nvPr/>
          </p:nvSpPr>
          <p:spPr>
            <a:xfrm>
              <a:off x="-19080" y="9360"/>
              <a:ext cx="9185400" cy="60984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9360"/>
              <a:ext cx="25146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7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96FA-1AA9-4792-B11E-A04D4A2AB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-19080" y="9360"/>
            <a:ext cx="9185400" cy="609840"/>
            <a:chOff x="-19080" y="9360"/>
            <a:chExt cx="9185400" cy="609840"/>
          </a:xfrm>
        </p:grpSpPr>
        <p:sp>
          <p:nvSpPr>
            <p:cNvPr id="259" name="Flowchart: Process 9"/>
            <p:cNvSpPr/>
            <p:nvPr/>
          </p:nvSpPr>
          <p:spPr>
            <a:xfrm>
              <a:off x="-19080" y="9360"/>
              <a:ext cx="9185400" cy="60984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9360"/>
              <a:ext cx="25146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0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5885-57DB-4C43-8624-0FEAC2DF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4"/>
          <p:cNvGrpSpPr/>
          <p:nvPr/>
        </p:nvGrpSpPr>
        <p:grpSpPr>
          <a:xfrm>
            <a:off x="-19080" y="9360"/>
            <a:ext cx="9185400" cy="609840"/>
            <a:chOff x="-19080" y="9360"/>
            <a:chExt cx="9185400" cy="609840"/>
          </a:xfrm>
        </p:grpSpPr>
        <p:sp>
          <p:nvSpPr>
            <p:cNvPr id="304" name="Flowchart: Process 9"/>
            <p:cNvSpPr/>
            <p:nvPr/>
          </p:nvSpPr>
          <p:spPr>
            <a:xfrm>
              <a:off x="-19080" y="9360"/>
              <a:ext cx="9185400" cy="609840"/>
            </a:xfrm>
            <a:prstGeom prst="flowChartProcess">
              <a:avLst/>
            </a:prstGeom>
            <a:gradFill rotWithShape="0">
              <a:gsLst>
                <a:gs pos="0">
                  <a:srgbClr val="fff3e6"/>
                </a:gs>
                <a:gs pos="100000">
                  <a:srgbClr val="fff3e6"/>
                </a:gs>
              </a:gsLst>
              <a:lin ang="10800000"/>
            </a:gradFill>
            <a:ln w="25560">
              <a:solidFill>
                <a:srgbClr val="fff3e6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2" descr=""/>
            <p:cNvPicPr/>
            <p:nvPr/>
          </p:nvPicPr>
          <p:blipFill>
            <a:blip r:embed="rId2"/>
            <a:srcRect l="23254" t="0" r="0" b="-397"/>
            <a:stretch/>
          </p:blipFill>
          <p:spPr>
            <a:xfrm>
              <a:off x="-5400" y="9360"/>
              <a:ext cx="25146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3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7307-D49F-4E0C-B594-59E48F2BB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66400" y="2158920"/>
            <a:ext cx="8211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C Standards f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ression Discontinuity Study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3280" y="3835440"/>
            <a:ext cx="779472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to the IES Research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hn Deke  ● Jill Constant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of RD Stand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57360"/>
            <a:ext cx="737064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eener to identify studies as being R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possible design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s standards without reserv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s standards with reserv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meet standar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individual standar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ty of the forcing (assignment)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r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ity of the outcome-forcing variable relation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form and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ing requirement for standard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8055-7190-4FCA-A69A-267F6FD8B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D Screen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5564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 assignment is based on a “forcing variable” – units on one side of a cutoff value are in the treatment group, units on the other side are in the comparison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cing variable must be ordinal with at least 4 values above and 4 values below the cutoff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must be no factor confounded with the cutoff value of the forcing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27DA-056A-4B76-8F4E-05BF914DC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ntegrity of the Forcing Vari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5564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concern is “manipulation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riteria: institutional integrity and statistical integ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criteria must be met to pass this standard without reservations; one criterion must be met to pass with re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EB7C-CC7E-49AE-A8E5-B3019333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Attr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5564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concern is nonresponse b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is almost the same as the WWC RCT standard on at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difference: overall attrition and differential attrition can either be reported at the cutoff value of the forcing variable or for the full treatment and comparison s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C5B2-92FE-4AF1-B4C1-D7530D3F8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117440"/>
            <a:ext cx="8853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ntinuity of Outcome-Forc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Variable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93500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concern is phantom impacts from lack of “smoothness” in the relationship between the outcome and the forcing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riteria: baseline equivalence on key covariates and no evidenc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explain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scontinuities away from the cutoff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criteria must be met to pass this standard without re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40C-74FD-4413-960A-72E960C8C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817200"/>
            <a:ext cx="88534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unctional Form and Bandwid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452240"/>
            <a:ext cx="7370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concern is misspecification bi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ve criteri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justment must be made for the forcing vari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raphical analysis must be included and should be consistent with bandwidth/functional form ch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al evidence must be provided of an appropriate bandwidth or functional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should “interact” forcing variable with treatment status or provide evidence that an interaction is not nee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f the above must be done for every combination of outcome, forcing variable, and cutoff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riteria must be met to pass standards without reservations; to meet with reservations, (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) plus (B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64C8-194E-4AB3-BF4B-CD442DF41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2"/>
          <p:cNvGraphicFramePr/>
          <p:nvPr/>
        </p:nvGraphicFramePr>
        <p:xfrm>
          <a:off x="689040" y="1515960"/>
          <a:ext cx="730548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515960"/>
                    <a:ext cx="730548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62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Graphical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B3A3-5888-44A7-B305-A00196A62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8534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eting Evidence Stand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5564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et standards without reserv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ust meet each individual standard without re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et standards with reserv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ust meet individual standards 1, 2, and 4 with or without re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ils to meet WWC evidence standar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ndividual standards 1, 2, or 4 are not m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7576-A79E-4E46-BF52-B131C764F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8534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orting Requirement for Standard Err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5564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errors must reflect clustering at the unit of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e and Card (2008) – clustering issue applies when forcing variable is not truly continuous (“random misspecification error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does not affect whether a study meets standards, but it does affect how its findings can b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1E9A-C7E9-4CF8-AD95-9A36C9E9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What Works Clearinghouse (WWC)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tive of the U.S. Department of Education's Institute of Education Sci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 and trusted source of scientific evidence for what works in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s and implements standards for reviewing and synthesizing education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s the rigor of research evidence on the effectiveness of interven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8330-B68C-491B-8D42-B0D637609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-28440" y="882720"/>
            <a:ext cx="9200880" cy="510516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2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A5D4-6521-495C-BD34-8548EB01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WWC Study Designs Standar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ized Control Trials (RC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 executed RCTs can obtain the highest level of causal validit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et evidence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si-experimental Designs (QE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CTs  and matched comparison design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et evidence standards with reserv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ression Discontinuity Designs (RDD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-Case Study Des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C04F-72F5-4473-9A14-FFA65721E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708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 Research Design Standar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s a level of rigor that informs caus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s a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icable and rel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consistently applied to completed stud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1F77-7693-4157-AD99-5CA25300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RD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05740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to RCT in that treatment and control groups form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t by unobserved self-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from RCT in that groups are not formed randomly – they are formed purposefu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groups formed using a cutoff o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"forcing variable," then it is an R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C231-D051-4922-958E-B253F10B1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for Developing Standar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205740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 conve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draf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Review Guide draf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pilot test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finalized and approved by 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A12A-D3D0-4F92-9C89-08AD08B3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C RD Expert Pa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817640"/>
            <a:ext cx="737064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ists included Tom Cook, John Deke, Guido Imbens, J.R. Lockwood, Jack Porter, Peter Schochet, and Jeff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nel met once with follow-up conference calls over the course of several mon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C staff drafted the RD standards and incorporated feedback from the pane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ndards document is ready to be used by the WWC, but can be updated in the fu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0E20-2FDD-4F82-A12B-D22FF321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39764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2057400"/>
            <a:ext cx="7370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 the WWC allow RDD studies to join RCTs as studies that “meet standards without reservations”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distinguish between RDD studies that meet standards with versus without reserva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075D-74AB-4FED-AF21-77980DA80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0:26:12Z</dcterms:created>
  <dc:creator>jdeke</dc:creator>
  <dc:description/>
  <dc:language>en-US</dc:language>
  <cp:lastModifiedBy>Authorised User</cp:lastModifiedBy>
  <dcterms:modified xsi:type="dcterms:W3CDTF">2010-07-06T12:54:21Z</dcterms:modified>
  <cp:revision>108</cp:revision>
  <dc:subject/>
  <dc:title>Regression Discontinuity Design: WWC Standards and Lessons from Practice</dc:title>
</cp:coreProperties>
</file>