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2CC3-9C1B-4499-A657-F9E58242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FC85-056B-4529-870E-76EF484A8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C538-C2B4-4FFB-B6AD-FD89EC99F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E21B-0331-416A-9761-03D981346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BBC3-4F72-49E2-9F34-7A56DD016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26DA-588C-4801-B041-C406F6B8D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B42A-008B-49B3-9F07-3DDB17FB0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8A66-315C-4039-8AB2-D7AA481EE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BE54-C339-4C50-B6B8-E04779974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9E2-64E1-4281-8896-007BFA975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C839-0014-4CC2-9336-086297A09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596A-57D6-423C-9A9D-778D53B87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0D2D-F2B8-4E24-B415-F54F73417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15"/>
          <p:cNvGraphicFramePr/>
          <p:nvPr/>
        </p:nvGraphicFramePr>
        <p:xfrm>
          <a:off x="457200" y="5867280"/>
          <a:ext cx="251460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867280"/>
                    <a:ext cx="25146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ostsecondary Research at NC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en Douglas,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8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ntroduc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name and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60 second overview of you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, persistence, and/or comple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dglxasset[1]"/>
          <p:cNvPicPr/>
          <p:nvPr/>
        </p:nvPicPr>
        <p:blipFill>
          <a:blip r:embed="rId1"/>
          <a:stretch/>
        </p:blipFill>
        <p:spPr>
          <a:xfrm>
            <a:off x="1447920" y="4114800"/>
            <a:ext cx="1272960" cy="136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glxasset[1]"/>
          <p:cNvPicPr/>
          <p:nvPr/>
        </p:nvPicPr>
        <p:blipFill>
          <a:blip r:embed="rId2"/>
          <a:stretch/>
        </p:blipFill>
        <p:spPr>
          <a:xfrm>
            <a:off x="3809880" y="3962520"/>
            <a:ext cx="1536840" cy="1812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dglxasset[1]"/>
          <p:cNvPicPr/>
          <p:nvPr/>
        </p:nvPicPr>
        <p:blipFill>
          <a:blip r:embed="rId3"/>
          <a:stretch/>
        </p:blipFill>
        <p:spPr>
          <a:xfrm>
            <a:off x="6172200" y="4267080"/>
            <a:ext cx="20908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mall Group Topic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National Student Clearinghou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uring and cleaning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tic challenges (such as selection bias in observational studies; missing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he impact of developments and findings in the f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oday’s Agenda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nug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he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talk with your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new? David Sweet will stop by to discuss the FY11 RF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ommon Ques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Report: Why is it due before the end of my first projec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tion funding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nd second no-cost ext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 I make a requ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I make a requ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w activities can be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nnual Repor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receive email notification when the annual report package for your grant has been activated in e-Grants (usually 30 days before due d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nnual reports must be uploaded to e-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owever, please also send me a copy via emai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90 days before the end of the project period. This gives me time to review it and recommend continuation of funding for the nex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ontent of Annual Repor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at is the same across all Department of Education grants, not specific to IES gr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s for Filling Out Annual Reports”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format of the objectives in your performance agreement for the project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how you have addressed each objective in the past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: if you are NOT on track with spending (either over or under) submit a budget that summarizes expenditures. Also include an expla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send publications (both in-process and in print), and other reports from your gr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IRB is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nal Repor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90 days after the end of the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 money can only be used for expenditures during the project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Let me know….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submit an administrative request (e.g., change in personnel, no-cost, etc.) send me an email alerting me that you have done 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usually get an automated message from e-Grants, but not al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he NCER Postsecondary Portfolio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7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8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9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10: 4 (first 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cale-Up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7960" y="403812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2"/>
          <p:cNvGraphicFramePr/>
          <p:nvPr/>
        </p:nvGraphicFramePr>
        <p:xfrm>
          <a:off x="3352680" y="2362320"/>
          <a:ext cx="5791320" cy="36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362320"/>
                    <a:ext cx="579132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ommon Challeng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9:21:58Z</dcterms:created>
  <dc:creator>katina.stapleton</dc:creator>
  <dc:description/>
  <dc:language>en-US</dc:language>
  <cp:lastModifiedBy>Jdabrowski</cp:lastModifiedBy>
  <dcterms:modified xsi:type="dcterms:W3CDTF">2010-07-02T16:57:34Z</dcterms:modified>
  <cp:revision>21</cp:revision>
  <dc:subject/>
  <dc:title>PowerPoint Presentation</dc:title>
</cp:coreProperties>
</file>