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3.wmf" ContentType="image/x-wmf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2.jpeg" ContentType="image/jpeg"/>
  <Override PartName="/ppt/media/image34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5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6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7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DF38-B5FE-4D18-8439-764E786DE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5C68-A146-41BC-B53F-D4C52A6E4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11D6-1FCB-4D18-8062-24675C86E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8A8B-DFEE-4B2E-ABF0-A3D82C4B3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8703-A0A8-4A6E-AF40-44F179B73DD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B115A-79FF-42D5-83D0-3238865C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2B3BA-D36C-4241-AA29-D0F52121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D9F91-1118-4ACD-96C9-6960463D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5D05B-FD8F-4F76-A027-31379852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28EB7-655B-4B25-9BF7-532F7DB7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28021-74E3-41A5-BF19-1E5B4D7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664A5-A6DD-4512-884F-3EA47848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B9C27-D830-49C3-BA45-F4223105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4C876-26F5-429F-BB31-1CD50286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83E5B-3F2C-4472-8DEF-8E06616D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333C-72C1-4ABD-85DB-C0F1526ED72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C4DBB-E9A0-422E-88AE-DE44A4AF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915A4-E044-4F0C-AE3B-B86D276E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8A0CC-1DC7-4C06-B562-A2221FD4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B8372-DD67-4AC9-B467-3DED717B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F2DD4-61AC-4A02-B060-B1EAEBCB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C7882-FA9E-4ACF-9A3A-4A860CA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1C85E-76E3-4806-BE61-468CF869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C8F56-7E49-41AA-B76C-9AF79BC0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6313B-9509-4F44-9974-33961C81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F5877-0A00-4311-BD07-0A723216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59FB-9B35-42D5-A1FB-632C56AD692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4A336-C88C-4D2C-9533-00187F25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8B4B9F-5C7C-4BF6-97C8-86CE5398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F0611D-98ED-49AE-833C-4F52EEC1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4C3B6F-8FF3-49FF-B0B3-D100618B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7617BE-C9A3-460A-ADF3-E840EA25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826373-9D65-4E42-96D8-F0D7C2DA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551C09-8CCB-4804-806D-FDF419FC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19AB7B-8282-4286-AB80-BD88A641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101B4E-51EB-4955-AC56-9CCE1254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23E2CE-70AE-4E79-9E02-A1B2DA5A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2A90A-9799-46D6-B63A-0F4D4FAF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B01C4C-1B6A-4FA5-BC69-63D71C81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864A8E-1E1C-46A3-A8F2-DB96E573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4E4D18-9AA2-4F73-B9DC-45F93023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162D7-74A8-4E7B-A513-5F665AAC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91918-BDF8-44C4-B185-ABD8B2D4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FABFB-FD87-4142-9761-E43063FB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460C9-1C92-4C0A-B1C3-BBCC157A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17A4B-6899-429D-9768-A6DBFF8E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34DEE-1D87-4794-B2AC-7156156B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A712D-2738-46A8-9A1D-B7263755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1DC66-ABD3-4DC2-9258-33D373C3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423ED-EE89-4EA3-A673-11812CAB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128F6-DB11-4595-B1B7-583FB0D9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2D4BF-953D-4705-B218-64D1C8E7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44932-AAD2-4C2B-B41B-5D1D39C5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DBCDA-D468-4DE0-8B23-C0393DE5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3990F-5224-4D44-B3EF-C2348278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F3431-013B-4946-B2AC-F838B275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747E8-6DD1-430D-89FB-B4BB9164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6B4E9-C74E-4DCC-BFA9-7313C064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57767-2A53-4C5D-B12E-4EFEA5D2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F915-4ECA-41A0-AC46-5EF7F2F10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2E7A4-537E-4EF2-801A-80349322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88B22-035E-41B1-864C-059F609E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9A5F3-4792-40AB-AC60-5B8B7D7C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5376A-14AA-4886-98F8-A2AA1AE7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E7102-CD63-45E2-8C88-60697D39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827C65-7293-4C96-A53E-1D04F32C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8CE846-1ECF-45CD-BAA2-207C36E8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544C9-D621-4731-8EAF-F8FCAFBD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7ACE81-D7B0-42A4-B90E-F9A53336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A3334-C116-47FC-90C2-8B17E7BE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4F61-D511-4148-8C8E-4A7E41D974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96192D-0F34-4996-89DE-8B89EA3D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D636C-2051-46A2-B1B6-68355392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5EDAC-B219-4CC8-B967-759F11F9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78C0D7-5815-4B2B-A2E5-2F637CD1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6944B-9D42-494E-8F6D-FC9CCCA1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4C38E-CA31-43E1-906E-B28CC82C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07CFA-19D3-482A-814B-641A259A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058C2-F012-4683-AFB4-EEC30D0F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3663C-6D22-418C-9175-45F8F29E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41739-BCEB-4DDD-9EE9-9A64C289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6D55-3786-46CB-8A5E-55F96390B8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E4A66-ADC4-457E-A477-9B3B589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4AF64-D925-4C77-B596-ADA110BD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E55B9B-453C-40ED-926D-1044BE5E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47A5C-7062-43C7-956B-05095E74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03144-F44F-4428-B412-74EBF04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DF3362-3375-48FC-9217-E06A20B7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8598F-5991-4DCD-8525-506AA340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E789F-D01E-4921-92A2-1FDEB997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0151C-98EE-4424-94A6-7D37350B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9AFD9-0546-4E63-984A-5084F90D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366A-25F5-4CC5-8DCC-32393F1E50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1A9605-C9B0-42F2-A07C-F4116E2A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1E518D-99AA-4B24-BD6B-ED21857C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F41D8-9A0C-474B-B041-EFF8B450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EA5962-167D-4EC8-A350-402538EE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3CF268-55F8-4C77-94C0-8AA50A4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DFAB9-AF92-4F51-BC51-FF52404B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C0389-EBD1-419F-838F-9EA17125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16C7CE-BE4C-401A-9EDB-6654F30F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FACA43-F685-4329-916D-A1C411AB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6C0C1-BBA3-4525-B000-10281F50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3F8E-5B3B-4459-BCF5-5D1423D2C88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83C6F3-94AB-449B-AF8B-CCD4C909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B9999-8FA2-41DD-B10C-A226C395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77225E-8901-4962-9101-1C742571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1FC74D-0B9E-409E-B193-BF8638BF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F188E-1DA0-4983-94CC-B83E8518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3078A-7CA4-44DC-8A18-B7200E26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CC407E-E577-41A3-9FFD-68C86DEE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CE12D4-B543-430F-BDE3-1D4F3DBF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19244C-E488-4975-BF77-2DD74D83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82F501-7B61-4661-8011-10EECED2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8D80-459F-4F39-AFEA-470F87B165C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5FB4F0-05BB-461F-B27D-491F355C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F744AD-CA8B-412A-82A1-8F92471A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763C93-F837-4AD2-ACBC-11D7E6FE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5E6D3F-ABCF-454B-9E74-D0C7BB90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355F05-C5E6-4D61-8090-AEA89C96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A154A2-D4FE-40A7-9E9B-31DF8BAE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AAFA65-156D-4D0C-8EB9-A5531C45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ACE6BC-1AF2-483C-B922-77584170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F03098-9B21-4A15-94A9-615AB575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ABD385-3433-4373-9D09-4CAD3E99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6084-1F00-4A0C-A8CF-6EEE24345EA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3C8D57-1D6B-4D2B-ABCB-F2D2E565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93C205-B073-4D71-A52D-BB7A2340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E5E2DA-87DE-45DD-B88E-C96F3740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A3EBAC-3FFF-423D-BD11-E7E3EC48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00FCD6-4B26-4C60-87F2-E3D19254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E3155D-39FE-4E59-A0FF-62F79C42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CA33C6-92F4-4768-8744-C5116955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9A446D-07FC-44EF-B2FC-1688AF58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B40D03-E47F-4FE8-9A8C-7221A72F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346A9A-A06E-4410-ADE1-590626EE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B7F2-20ED-424E-B9CF-C48DF321FA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552A32-3845-4E25-B07E-7C5FA5E0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00756F-53B6-4C2F-9BA7-1DF729F9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B73E77-8496-4DEE-8D84-48B18201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F1AA2D-341C-4A24-9CA7-47F16313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7DDD50-904B-414B-9832-B781924D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67BDF1-942A-4BD6-A655-C64EDD19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20DB3C-87C9-4D3F-BF60-7D3FDC42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E5F48-1921-4FDF-93CF-02C67A0A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85B2F-C89A-4791-A778-DA34DBC9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A2692-4450-4F28-BD80-D7AB79B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A29B-2E2A-45B3-8B82-19EC1FF24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9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4820-FF88-4679-9849-0068DD0ADC2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A42C-72C3-4B67-8AC6-4EDA1B75B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1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61DA-13A2-48B7-9582-1DCBF2E6F38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0EB3-287C-4827-871D-D5918E002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3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DDEE-5172-4B2E-8792-7E0EFD50025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27A7-EAB2-4F59-8F93-86C4465A9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6AAA-C1B5-4AB7-9938-B837B961584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0983-A10F-40C0-9F74-94468E511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A74D-65D3-43C6-A85F-3B87EDD36B0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C303-C30C-400A-94EB-BC95276BD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3E48-21FE-4604-A3DC-72DE635E16C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041F-083E-4450-836E-86C18C8A9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9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CD3C-8FEB-4E42-B871-D48C778ECE1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1A03-805B-4025-9B4E-D8E277B4B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1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3F5A-DFF0-4367-BD46-6E32EC29635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BA86-E099-4F9A-BD1E-E11CC108E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3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1DE8-3C86-415D-AC20-5EF9A63A835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F9E3-4ECA-4411-8800-EF803D515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5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1690-D834-4040-A206-89C460516C1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006B-D46D-40C7-A27B-20CE5AF5C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"/>
          <p:cNvPicPr/>
          <p:nvPr/>
        </p:nvPicPr>
        <p:blipFill>
          <a:blip r:embed="rId2">
            <a:lum bright="-12000"/>
          </a:blip>
          <a:srcRect l="3607" t="0" r="73657" b="19055"/>
          <a:stretch/>
        </p:blipFill>
        <p:spPr>
          <a:xfrm>
            <a:off x="304920" y="0"/>
            <a:ext cx="1600200" cy="69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7" name="Rectangle 11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gradFill rotWithShape="0">
            <a:gsLst>
              <a:gs pos="0">
                <a:srgbClr val="eab00e"/>
              </a:gs>
              <a:gs pos="100000">
                <a:srgbClr val="6c5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2" descr="USFreversevert"/>
          <p:cNvPicPr/>
          <p:nvPr/>
        </p:nvPicPr>
        <p:blipFill>
          <a:blip r:embed="rId3"/>
          <a:stretch/>
        </p:blipFill>
        <p:spPr>
          <a:xfrm>
            <a:off x="533520" y="5715000"/>
            <a:ext cx="1044360" cy="7635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D8AB-FA89-437A-AA88-2E2DA7A3E7F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4630-9243-4EC7-AAF2-34B075980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o2.wordpress.com/?id=725X1342&amp;site=startupblog.wordpress.com&amp;url=http://startupblog.files.wordpress.com/2008/04/focus-hands.jpg&amp;sref=http://startupblog.wordpress.com/2008/04/25/entrepreneurial-focus/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4"/>
          <p:cNvSpPr/>
          <p:nvPr/>
        </p:nvSpPr>
        <p:spPr>
          <a:xfrm>
            <a:off x="1905120" y="4572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ddressing Behavior Disorders in School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Integration of Education and Mental Heal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057400" y="57150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Institute of Education Sciences (IES) 5th Annual Research 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une 2010 - National Harbor,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Rectangle 6"/>
          <p:cNvGrpSpPr/>
          <p:nvPr/>
        </p:nvGrpSpPr>
        <p:grpSpPr>
          <a:xfrm>
            <a:off x="2000160" y="1719360"/>
            <a:ext cx="6515280" cy="182520"/>
            <a:chOff x="2000160" y="1719360"/>
            <a:chExt cx="6515280" cy="182520"/>
          </a:xfrm>
        </p:grpSpPr>
        <p:pic>
          <p:nvPicPr>
            <p:cNvPr id="514" name="Rectangle 6" descr=""/>
            <p:cNvPicPr/>
            <p:nvPr/>
          </p:nvPicPr>
          <p:blipFill>
            <a:blip r:embed="rId1"/>
            <a:stretch/>
          </p:blipFill>
          <p:spPr>
            <a:xfrm>
              <a:off x="2000160" y="1719360"/>
              <a:ext cx="65152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057400" y="175572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Rectangle 5"/>
          <p:cNvSpPr/>
          <p:nvPr/>
        </p:nvSpPr>
        <p:spPr>
          <a:xfrm>
            <a:off x="3124080" y="3352680"/>
            <a:ext cx="4572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bert J. Duchnowski, Ph.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sta Kutash, Ph.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partment of Child &amp; Family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versity of South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F96A-79C4-48F1-86E9-975D6C965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onSequitur - Been there Done that - highway"/>
          <p:cNvPicPr/>
          <p:nvPr/>
        </p:nvPicPr>
        <p:blipFill>
          <a:blip r:embed="rId1"/>
          <a:stretch/>
        </p:blipFill>
        <p:spPr>
          <a:xfrm>
            <a:off x="2165400" y="1447920"/>
            <a:ext cx="4889520" cy="36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6968-6D67-4E45-A750-53F3A7113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1"/>
          <p:cNvSpPr/>
          <p:nvPr/>
        </p:nvSpPr>
        <p:spPr>
          <a:xfrm>
            <a:off x="2362320" y="38088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ocusing School-Based Mental Health Services On the Core Foundation of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mo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http://s.chakpak.com/se_images/114888_-1_564_none/shhhhh-quiet-everyone-study-wallpaper.jpg"/>
          <p:cNvPicPr/>
          <p:nvPr/>
        </p:nvPicPr>
        <p:blipFill>
          <a:blip r:embed="rId1"/>
          <a:stretch/>
        </p:blipFill>
        <p:spPr>
          <a:xfrm>
            <a:off x="3429000" y="2590920"/>
            <a:ext cx="4267080" cy="3700440"/>
          </a:xfrm>
          <a:prstGeom prst="rect">
            <a:avLst/>
          </a:prstGeom>
          <a:ln w="0">
            <a:noFill/>
          </a:ln>
        </p:spPr>
      </p:pic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2457-9143-4F96-BA8D-B71C2F99E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1"/>
          <p:cNvSpPr/>
          <p:nvPr/>
        </p:nvSpPr>
        <p:spPr>
          <a:xfrm>
            <a:off x="2362320" y="30492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ools have the inh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acity to bridge home and neighborhood ec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Bridge of Sighs"/>
          <p:cNvPicPr/>
          <p:nvPr/>
        </p:nvPicPr>
        <p:blipFill>
          <a:blip r:embed="rId1"/>
          <a:stretch/>
        </p:blipFill>
        <p:spPr>
          <a:xfrm>
            <a:off x="3328920" y="1792440"/>
            <a:ext cx="4303800" cy="3541680"/>
          </a:xfrm>
          <a:prstGeom prst="rect">
            <a:avLst/>
          </a:prstGeom>
          <a:ln w="0">
            <a:noFill/>
          </a:ln>
        </p:spPr>
      </p:pic>
      <p:sp>
        <p:nvSpPr>
          <p:cNvPr id="580" name="TextBox 5"/>
          <p:cNvSpPr/>
          <p:nvPr/>
        </p:nvSpPr>
        <p:spPr>
          <a:xfrm>
            <a:off x="2514600" y="528804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ools are the ‘de facto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’s mental health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463D-F42E-42D8-8FBA-7E0CB695B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437920" y="274680"/>
            <a:ext cx="6248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focused Role of Mental Health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8120" y="2174760"/>
            <a:ext cx="579096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Teachers: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imary Change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Health Providers Become: “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ducational Enhanc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 the Core Function of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ing Social/Emotional Development, no Longer Tang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2" descr="http://startupblog.files.wordpress.com/2008/04/focus-hands.jpg?w=240&amp;h=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09680"/>
            <a:ext cx="2666880" cy="333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C7DB-E54B-4903-AB89-6F3548816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1"/>
          <p:cNvSpPr/>
          <p:nvPr/>
        </p:nvSpPr>
        <p:spPr>
          <a:xfrm>
            <a:off x="1905120" y="0"/>
            <a:ext cx="7238880" cy="68580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Oval 3"/>
          <p:cNvGrpSpPr/>
          <p:nvPr/>
        </p:nvGrpSpPr>
        <p:grpSpPr>
          <a:xfrm>
            <a:off x="2114640" y="133200"/>
            <a:ext cx="6669000" cy="6516720"/>
            <a:chOff x="2114640" y="133200"/>
            <a:chExt cx="6669000" cy="6516720"/>
          </a:xfrm>
        </p:grpSpPr>
        <p:pic>
          <p:nvPicPr>
            <p:cNvPr id="588" name="Oval 3" descr=""/>
            <p:cNvPicPr/>
            <p:nvPr/>
          </p:nvPicPr>
          <p:blipFill>
            <a:blip r:embed="rId1"/>
            <a:stretch/>
          </p:blipFill>
          <p:spPr>
            <a:xfrm>
              <a:off x="2114640" y="133200"/>
              <a:ext cx="6669000" cy="65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3265560" y="1262160"/>
              <a:ext cx="4365720" cy="42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Rounded Rectangle 12"/>
          <p:cNvGrpSpPr/>
          <p:nvPr/>
        </p:nvGrpSpPr>
        <p:grpSpPr>
          <a:xfrm>
            <a:off x="3316320" y="3889440"/>
            <a:ext cx="1468440" cy="1158840"/>
            <a:chOff x="3316320" y="3889440"/>
            <a:chExt cx="1468440" cy="1158840"/>
          </a:xfrm>
        </p:grpSpPr>
        <p:pic>
          <p:nvPicPr>
            <p:cNvPr id="591" name="Rounded Rectangle 12" descr=""/>
            <p:cNvPicPr/>
            <p:nvPr/>
          </p:nvPicPr>
          <p:blipFill>
            <a:blip r:embed="rId2"/>
            <a:stretch/>
          </p:blipFill>
          <p:spPr>
            <a:xfrm>
              <a:off x="3316320" y="3889440"/>
              <a:ext cx="14684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400560" y="4041720"/>
              <a:ext cx="119988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lations wi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e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3" name="Picture 4" descr="http://www.brisbanefreemasons.net/media/pillar.png"/>
          <p:cNvPicPr/>
          <p:nvPr/>
        </p:nvPicPr>
        <p:blipFill>
          <a:blip r:embed="rId3"/>
          <a:stretch/>
        </p:blipFill>
        <p:spPr>
          <a:xfrm>
            <a:off x="3581280" y="2514600"/>
            <a:ext cx="862200" cy="1460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594" name="Rounded Rectangle 14"/>
          <p:cNvGrpSpPr/>
          <p:nvPr/>
        </p:nvGrpSpPr>
        <p:grpSpPr>
          <a:xfrm>
            <a:off x="4761000" y="3889440"/>
            <a:ext cx="1468440" cy="1158840"/>
            <a:chOff x="4761000" y="3889440"/>
            <a:chExt cx="1468440" cy="1158840"/>
          </a:xfrm>
        </p:grpSpPr>
        <p:pic>
          <p:nvPicPr>
            <p:cNvPr id="595" name="Rounded Rectangle 14" descr=""/>
            <p:cNvPicPr/>
            <p:nvPr/>
          </p:nvPicPr>
          <p:blipFill>
            <a:blip r:embed="rId4"/>
            <a:stretch/>
          </p:blipFill>
          <p:spPr>
            <a:xfrm>
              <a:off x="4761000" y="3889440"/>
              <a:ext cx="14684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4848120" y="4041720"/>
              <a:ext cx="120024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lations with Teac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Rounded Rectangle 15"/>
          <p:cNvGrpSpPr/>
          <p:nvPr/>
        </p:nvGrpSpPr>
        <p:grpSpPr>
          <a:xfrm>
            <a:off x="6218280" y="3889440"/>
            <a:ext cx="1584360" cy="1158840"/>
            <a:chOff x="6218280" y="3889440"/>
            <a:chExt cx="1584360" cy="1158840"/>
          </a:xfrm>
        </p:grpSpPr>
        <p:pic>
          <p:nvPicPr>
            <p:cNvPr id="598" name="Rounded Rectangle 15" descr=""/>
            <p:cNvPicPr/>
            <p:nvPr/>
          </p:nvPicPr>
          <p:blipFill>
            <a:blip r:embed="rId5"/>
            <a:stretch/>
          </p:blipFill>
          <p:spPr>
            <a:xfrm>
              <a:off x="6218280" y="3889440"/>
              <a:ext cx="15843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6296040" y="4041720"/>
              <a:ext cx="13525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lations with Par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0" name="Picture 4" descr="http://www.brisbanefreemasons.net/media/pillar.png"/>
          <p:cNvPicPr/>
          <p:nvPr/>
        </p:nvPicPr>
        <p:blipFill>
          <a:blip r:embed="rId6"/>
          <a:stretch/>
        </p:blipFill>
        <p:spPr>
          <a:xfrm>
            <a:off x="5005440" y="2523960"/>
            <a:ext cx="861840" cy="1460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01" name="Picture 4" descr="http://www.brisbanefreemasons.net/media/pillar.png"/>
          <p:cNvPicPr/>
          <p:nvPr/>
        </p:nvPicPr>
        <p:blipFill>
          <a:blip r:embed="rId7"/>
          <a:stretch/>
        </p:blipFill>
        <p:spPr>
          <a:xfrm>
            <a:off x="6529320" y="2523960"/>
            <a:ext cx="862200" cy="1460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02" name="Rectangle 10"/>
          <p:cNvGrpSpPr/>
          <p:nvPr/>
        </p:nvGrpSpPr>
        <p:grpSpPr>
          <a:xfrm>
            <a:off x="3444840" y="1974960"/>
            <a:ext cx="4078440" cy="615960"/>
            <a:chOff x="3444840" y="1974960"/>
            <a:chExt cx="4078440" cy="615960"/>
          </a:xfrm>
        </p:grpSpPr>
        <p:pic>
          <p:nvPicPr>
            <p:cNvPr id="603" name="Rectangle 10" descr=""/>
            <p:cNvPicPr/>
            <p:nvPr/>
          </p:nvPicPr>
          <p:blipFill>
            <a:blip r:embed="rId8"/>
            <a:stretch/>
          </p:blipFill>
          <p:spPr>
            <a:xfrm>
              <a:off x="3444840" y="1974960"/>
              <a:ext cx="4078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3505320" y="2057400"/>
              <a:ext cx="396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cademic Su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5" name="Rectangle 5" descr=""/>
          <p:cNvPicPr/>
          <p:nvPr/>
        </p:nvPicPr>
        <p:blipFill>
          <a:blip r:embed="rId9"/>
          <a:stretch/>
        </p:blipFill>
        <p:spPr>
          <a:xfrm>
            <a:off x="2475000" y="811080"/>
            <a:ext cx="5956200" cy="5712120"/>
          </a:xfrm>
          <a:prstGeom prst="rect">
            <a:avLst/>
          </a:prstGeom>
          <a:ln w="0">
            <a:noFill/>
          </a:ln>
        </p:spPr>
      </p:pic>
      <p:sp>
        <p:nvSpPr>
          <p:cNvPr id="606" name="Down Arrow 18"/>
          <p:cNvSpPr/>
          <p:nvPr/>
        </p:nvSpPr>
        <p:spPr>
          <a:xfrm>
            <a:off x="4876920" y="1600200"/>
            <a:ext cx="1143000" cy="380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9"/>
          <p:cNvSpPr/>
          <p:nvPr/>
        </p:nvSpPr>
        <p:spPr>
          <a:xfrm>
            <a:off x="3429000" y="1138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 to promot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E009-1E1A-4AE3-A418-9ECEA15E6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teamwork_teamwork_A"/>
          <p:cNvPicPr/>
          <p:nvPr/>
        </p:nvPicPr>
        <p:blipFill>
          <a:blip r:embed="rId1"/>
          <a:stretch/>
        </p:blipFill>
        <p:spPr>
          <a:xfrm>
            <a:off x="2179800" y="1219320"/>
            <a:ext cx="6613200" cy="49593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6"/>
          <p:cNvSpPr/>
          <p:nvPr/>
        </p:nvSpPr>
        <p:spPr>
          <a:xfrm>
            <a:off x="304920" y="2895480"/>
            <a:ext cx="1600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Anything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D814-7AA4-4335-A0FE-325529BDC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601992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Program Models with Organizational Potential for Succe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Picture 2" descr="http://afalkenstein.files.wordpress.com/2009/04/tinker-toys-copy.jpg"/>
          <p:cNvPicPr/>
          <p:nvPr/>
        </p:nvPicPr>
        <p:blipFill>
          <a:blip r:embed="rId1"/>
          <a:stretch/>
        </p:blipFill>
        <p:spPr>
          <a:xfrm>
            <a:off x="2971800" y="2209680"/>
            <a:ext cx="4762440" cy="4295880"/>
          </a:xfrm>
          <a:prstGeom prst="rect">
            <a:avLst/>
          </a:prstGeom>
          <a:ln w="0">
            <a:noFill/>
          </a:ln>
        </p:spPr>
      </p:pic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D14F-B294-4E77-97EF-EC0B9A31F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3"/>
          <p:cNvSpPr/>
          <p:nvPr/>
        </p:nvSpPr>
        <p:spPr>
          <a:xfrm>
            <a:off x="2514600" y="1219320"/>
            <a:ext cx="5867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armark of a quality program or organization is that it has the capacity to get and use information for continuous improvement and accountability. No program, no matter what it does, is a good program unless it is getting and using data of a variety of sorts, from a variety of places, and in an ongoing way to see if there are ways it can do bett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iss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Text Box 4" descr=""/>
          <p:cNvPicPr/>
          <p:nvPr/>
        </p:nvPicPr>
        <p:blipFill>
          <a:blip r:embed="rId1"/>
          <a:stretch/>
        </p:blipFill>
        <p:spPr>
          <a:xfrm>
            <a:off x="274680" y="2901960"/>
            <a:ext cx="1755720" cy="1646280"/>
          </a:xfrm>
          <a:prstGeom prst="rect">
            <a:avLst/>
          </a:prstGeom>
          <a:ln w="0">
            <a:noFill/>
          </a:ln>
        </p:spPr>
      </p:pic>
      <p:sp>
        <p:nvSpPr>
          <p:cNvPr id="6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DE75-43BA-4C07-9AD1-51B8F397E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B515-E936-45F6-8CAD-24B656F1C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5" descr="Rev_SWSys2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2"/>
          <p:cNvSpPr/>
          <p:nvPr/>
        </p:nvSpPr>
        <p:spPr>
          <a:xfrm>
            <a:off x="0" y="6248520"/>
            <a:ext cx="80773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itive Behavior Suppor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5FCB-75B7-4617-835A-031517D43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88"/>
          <p:cNvSpPr/>
          <p:nvPr/>
        </p:nvSpPr>
        <p:spPr>
          <a:xfrm>
            <a:off x="2057400" y="266760"/>
            <a:ext cx="6781680" cy="5619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89"/>
          <p:cNvSpPr/>
          <p:nvPr/>
        </p:nvSpPr>
        <p:spPr>
          <a:xfrm>
            <a:off x="4317840" y="361800"/>
            <a:ext cx="2260800" cy="21909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90"/>
          <p:cNvSpPr/>
          <p:nvPr/>
        </p:nvSpPr>
        <p:spPr>
          <a:xfrm>
            <a:off x="4840200" y="457200"/>
            <a:ext cx="121608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1"/>
          <p:cNvSpPr/>
          <p:nvPr/>
        </p:nvSpPr>
        <p:spPr>
          <a:xfrm>
            <a:off x="4840200" y="1504800"/>
            <a:ext cx="1216080" cy="190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92"/>
          <p:cNvSpPr/>
          <p:nvPr/>
        </p:nvSpPr>
        <p:spPr>
          <a:xfrm>
            <a:off x="4317840" y="2457360"/>
            <a:ext cx="2260800" cy="190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4"/>
          <p:cNvSpPr/>
          <p:nvPr/>
        </p:nvSpPr>
        <p:spPr>
          <a:xfrm>
            <a:off x="3048120" y="3819600"/>
            <a:ext cx="16002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valu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 to Intervention (R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5"/>
          <p:cNvSpPr/>
          <p:nvPr/>
        </p:nvSpPr>
        <p:spPr>
          <a:xfrm>
            <a:off x="6340320" y="3905280"/>
            <a:ext cx="1202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blem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6"/>
          <p:cNvSpPr/>
          <p:nvPr/>
        </p:nvSpPr>
        <p:spPr>
          <a:xfrm>
            <a:off x="4419720" y="27432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Problem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7"/>
          <p:cNvSpPr/>
          <p:nvPr/>
        </p:nvSpPr>
        <p:spPr>
          <a:xfrm>
            <a:off x="4648320" y="47242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9e35"/>
                </a:solidFill>
                <a:latin typeface="Arial"/>
              </a:rPr>
              <a:t>Implement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98"/>
          <p:cNvGrpSpPr/>
          <p:nvPr/>
        </p:nvGrpSpPr>
        <p:grpSpPr>
          <a:xfrm>
            <a:off x="4424400" y="3400920"/>
            <a:ext cx="774720" cy="960840"/>
            <a:chOff x="4424400" y="3400920"/>
            <a:chExt cx="774720" cy="960840"/>
          </a:xfrm>
        </p:grpSpPr>
        <p:sp>
          <p:nvSpPr>
            <p:cNvPr id="632" name="Arc 99"/>
            <p:cNvSpPr/>
            <p:nvPr/>
          </p:nvSpPr>
          <p:spPr>
            <a:xfrm flipH="1" rot="18727800">
              <a:off x="4529160" y="3706560"/>
              <a:ext cx="565200" cy="533520"/>
            </a:xfrm>
            <a:custGeom>
              <a:avLst/>
              <a:gdLst>
                <a:gd name="textAreaLeft" fmla="*/ 360 w 565200"/>
                <a:gd name="textAreaRight" fmla="*/ 565920 w 5652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100"/>
            <p:cNvSpPr/>
            <p:nvPr/>
          </p:nvSpPr>
          <p:spPr>
            <a:xfrm flipH="1" rot="2790000">
              <a:off x="4705560" y="3453480"/>
              <a:ext cx="244080" cy="22932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101"/>
          <p:cNvGrpSpPr/>
          <p:nvPr/>
        </p:nvGrpSpPr>
        <p:grpSpPr>
          <a:xfrm>
            <a:off x="5629320" y="3530880"/>
            <a:ext cx="775080" cy="960840"/>
            <a:chOff x="5629320" y="3530880"/>
            <a:chExt cx="775080" cy="960840"/>
          </a:xfrm>
        </p:grpSpPr>
        <p:sp>
          <p:nvSpPr>
            <p:cNvPr id="635" name="Arc 102"/>
            <p:cNvSpPr/>
            <p:nvPr/>
          </p:nvSpPr>
          <p:spPr>
            <a:xfrm flipV="1" rot="18727800">
              <a:off x="5734080" y="3652200"/>
              <a:ext cx="565560" cy="533520"/>
            </a:xfrm>
            <a:custGeom>
              <a:avLst/>
              <a:gdLst>
                <a:gd name="textAreaLeft" fmla="*/ 0 w 565560"/>
                <a:gd name="textAreaRight" fmla="*/ 565920 w 565560"/>
                <a:gd name="textAreaTop" fmla="*/ 360 h 533520"/>
                <a:gd name="textAreaBottom" fmla="*/ 534240 h 53352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103"/>
            <p:cNvSpPr/>
            <p:nvPr/>
          </p:nvSpPr>
          <p:spPr>
            <a:xfrm flipV="1" rot="2790000">
              <a:off x="5877000" y="4209480"/>
              <a:ext cx="244080" cy="2293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104"/>
          <p:cNvGrpSpPr/>
          <p:nvPr/>
        </p:nvGrpSpPr>
        <p:grpSpPr>
          <a:xfrm>
            <a:off x="5036400" y="2890800"/>
            <a:ext cx="962280" cy="785880"/>
            <a:chOff x="5036400" y="2890800"/>
            <a:chExt cx="962280" cy="785880"/>
          </a:xfrm>
        </p:grpSpPr>
        <p:sp>
          <p:nvSpPr>
            <p:cNvPr id="638" name="Arc 105"/>
            <p:cNvSpPr/>
            <p:nvPr/>
          </p:nvSpPr>
          <p:spPr>
            <a:xfrm flipH="1" rot="2527800">
              <a:off x="5149800" y="3006720"/>
              <a:ext cx="559080" cy="554040"/>
            </a:xfrm>
            <a:custGeom>
              <a:avLst/>
              <a:gdLst>
                <a:gd name="textAreaLeft" fmla="*/ -360 w 559080"/>
                <a:gd name="textAreaRight" fmla="*/ 559080 w 5590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106"/>
            <p:cNvSpPr/>
            <p:nvPr/>
          </p:nvSpPr>
          <p:spPr>
            <a:xfrm flipH="1" rot="8190000">
              <a:off x="5709240" y="3181680"/>
              <a:ext cx="240480" cy="2379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107"/>
          <p:cNvGrpSpPr/>
          <p:nvPr/>
        </p:nvGrpSpPr>
        <p:grpSpPr>
          <a:xfrm>
            <a:off x="4893120" y="4147200"/>
            <a:ext cx="938520" cy="777240"/>
            <a:chOff x="4893120" y="4147200"/>
            <a:chExt cx="938520" cy="777240"/>
          </a:xfrm>
        </p:grpSpPr>
        <p:sp>
          <p:nvSpPr>
            <p:cNvPr id="641" name="Arc 108"/>
            <p:cNvSpPr/>
            <p:nvPr/>
          </p:nvSpPr>
          <p:spPr>
            <a:xfrm flipV="1" rot="2527800">
              <a:off x="5176080" y="4253400"/>
              <a:ext cx="535320" cy="56376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360 h 563760"/>
                <a:gd name="textAreaBottom" fmla="*/ 564480 h 56376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e5d5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109"/>
            <p:cNvSpPr/>
            <p:nvPr/>
          </p:nvSpPr>
          <p:spPr>
            <a:xfrm flipV="1" rot="8190000">
              <a:off x="4944960" y="4395600"/>
              <a:ext cx="231120" cy="243360"/>
            </a:xfrm>
            <a:prstGeom prst="triangle">
              <a:avLst>
                <a:gd name="adj" fmla="val 50000"/>
              </a:avLst>
            </a:prstGeom>
            <a:solidFill>
              <a:srgbClr val="e5d508"/>
            </a:solidFill>
            <a:ln w="9360">
              <a:solidFill>
                <a:srgbClr val="e5d5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Text Box 111"/>
          <p:cNvSpPr/>
          <p:nvPr/>
        </p:nvSpPr>
        <p:spPr>
          <a:xfrm>
            <a:off x="7977240" y="2870280"/>
            <a:ext cx="13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12"/>
          <p:cNvGrpSpPr/>
          <p:nvPr/>
        </p:nvGrpSpPr>
        <p:grpSpPr>
          <a:xfrm>
            <a:off x="5240160" y="893880"/>
            <a:ext cx="309600" cy="248760"/>
            <a:chOff x="5240160" y="893880"/>
            <a:chExt cx="309600" cy="248760"/>
          </a:xfrm>
        </p:grpSpPr>
        <p:sp>
          <p:nvSpPr>
            <p:cNvPr id="645" name="Arc 113"/>
            <p:cNvSpPr/>
            <p:nvPr/>
          </p:nvSpPr>
          <p:spPr>
            <a:xfrm flipH="1" rot="2527800">
              <a:off x="5273280" y="933120"/>
              <a:ext cx="182880" cy="169920"/>
            </a:xfrm>
            <a:custGeom>
              <a:avLst/>
              <a:gdLst>
                <a:gd name="textAreaLeft" fmla="*/ 360 w 182880"/>
                <a:gd name="textAreaRight" fmla="*/ 183600 w 182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114"/>
            <p:cNvSpPr/>
            <p:nvPr/>
          </p:nvSpPr>
          <p:spPr>
            <a:xfrm flipH="1" rot="8190000">
              <a:off x="5455800" y="986760"/>
              <a:ext cx="78840" cy="730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16"/>
          <p:cNvGrpSpPr/>
          <p:nvPr/>
        </p:nvGrpSpPr>
        <p:grpSpPr>
          <a:xfrm>
            <a:off x="5519520" y="1122480"/>
            <a:ext cx="237240" cy="300960"/>
            <a:chOff x="5519520" y="1122480"/>
            <a:chExt cx="237240" cy="300960"/>
          </a:xfrm>
        </p:grpSpPr>
        <p:sp>
          <p:nvSpPr>
            <p:cNvPr id="648" name="Arc 117"/>
            <p:cNvSpPr/>
            <p:nvPr/>
          </p:nvSpPr>
          <p:spPr>
            <a:xfrm flipV="1" rot="18727800">
              <a:off x="5551200" y="1159560"/>
              <a:ext cx="173160" cy="1634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360 h 163440"/>
                <a:gd name="textAreaBottom" fmla="*/ 164160 h 16344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18"/>
            <p:cNvSpPr/>
            <p:nvPr/>
          </p:nvSpPr>
          <p:spPr>
            <a:xfrm flipV="1" rot="2790000">
              <a:off x="5599440" y="1335960"/>
              <a:ext cx="75600" cy="7056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Arc 119"/>
          <p:cNvSpPr/>
          <p:nvPr/>
        </p:nvSpPr>
        <p:spPr>
          <a:xfrm flipV="1" rot="2527800">
            <a:off x="5360760" y="1409760"/>
            <a:ext cx="141120" cy="171360"/>
          </a:xfrm>
          <a:custGeom>
            <a:avLst/>
            <a:gdLst>
              <a:gd name="textAreaLeft" fmla="*/ 0 w 141120"/>
              <a:gd name="textAreaRight" fmla="*/ 141480 w 141120"/>
              <a:gd name="textAreaTop" fmla="*/ 360 h 171360"/>
              <a:gd name="textAreaBottom" fmla="*/ 172080 h 171360"/>
            </a:gdLst>
            <a:ahLst/>
            <a:rect l="textAreaLeft" t="textAreaTop" r="textAreaRight" b="textAreaBottom"/>
            <a:pathLst>
              <a:path fill="none" w="21600" h="2197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25"/>
                  <a:pt x="21598" y="21850"/>
                  <a:pt x="21596" y="21974"/>
                </a:cubicBezTo>
              </a:path>
              <a:path stroke="0" w="21600" h="2197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25"/>
                  <a:pt x="21598" y="21850"/>
                  <a:pt x="21596" y="21974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e5d5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20"/>
          <p:cNvGrpSpPr/>
          <p:nvPr/>
        </p:nvGrpSpPr>
        <p:grpSpPr>
          <a:xfrm>
            <a:off x="5063040" y="1109520"/>
            <a:ext cx="237960" cy="312120"/>
            <a:chOff x="5063040" y="1109520"/>
            <a:chExt cx="237960" cy="312120"/>
          </a:xfrm>
        </p:grpSpPr>
        <p:sp>
          <p:nvSpPr>
            <p:cNvPr id="652" name="Arc 121"/>
            <p:cNvSpPr/>
            <p:nvPr/>
          </p:nvSpPr>
          <p:spPr>
            <a:xfrm flipH="1" rot="18727800">
              <a:off x="5094360" y="1220400"/>
              <a:ext cx="173880" cy="16380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22"/>
            <p:cNvSpPr/>
            <p:nvPr/>
          </p:nvSpPr>
          <p:spPr>
            <a:xfrm flipH="1" rot="2790000">
              <a:off x="5148720" y="1125720"/>
              <a:ext cx="75240" cy="7092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Line 123"/>
          <p:cNvSpPr/>
          <p:nvPr/>
        </p:nvSpPr>
        <p:spPr>
          <a:xfrm>
            <a:off x="5448240" y="5315040"/>
            <a:ext cx="0" cy="12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25"/>
          <p:cNvSpPr/>
          <p:nvPr/>
        </p:nvSpPr>
        <p:spPr>
          <a:xfrm>
            <a:off x="2057400" y="5315040"/>
            <a:ext cx="6781680" cy="1238040"/>
          </a:xfrm>
          <a:prstGeom prst="flowChartSummingJunction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26"/>
          <p:cNvSpPr/>
          <p:nvPr/>
        </p:nvSpPr>
        <p:spPr>
          <a:xfrm>
            <a:off x="6477120" y="5676840"/>
            <a:ext cx="2286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room-Focused Enab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7"/>
          <p:cNvSpPr/>
          <p:nvPr/>
        </p:nvSpPr>
        <p:spPr>
          <a:xfrm>
            <a:off x="5181480" y="5257800"/>
            <a:ext cx="201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udent/Family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28"/>
          <p:cNvSpPr/>
          <p:nvPr/>
        </p:nvSpPr>
        <p:spPr>
          <a:xfrm>
            <a:off x="5307120" y="5981760"/>
            <a:ext cx="139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isis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29"/>
          <p:cNvSpPr/>
          <p:nvPr/>
        </p:nvSpPr>
        <p:spPr>
          <a:xfrm>
            <a:off x="4138560" y="6186600"/>
            <a:ext cx="1409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30"/>
          <p:cNvSpPr/>
          <p:nvPr/>
        </p:nvSpPr>
        <p:spPr>
          <a:xfrm>
            <a:off x="1981080" y="5581800"/>
            <a:ext cx="26528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munity Outreach/Volunt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31"/>
          <p:cNvSpPr/>
          <p:nvPr/>
        </p:nvSpPr>
        <p:spPr>
          <a:xfrm>
            <a:off x="4114800" y="5238720"/>
            <a:ext cx="152388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me Invol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32"/>
          <p:cNvSpPr/>
          <p:nvPr/>
        </p:nvSpPr>
        <p:spPr>
          <a:xfrm>
            <a:off x="5448240" y="5315040"/>
            <a:ext cx="0" cy="12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133"/>
          <p:cNvGrpSpPr/>
          <p:nvPr/>
        </p:nvGrpSpPr>
        <p:grpSpPr>
          <a:xfrm>
            <a:off x="4868640" y="1674720"/>
            <a:ext cx="2504880" cy="1032840"/>
            <a:chOff x="4868640" y="1674720"/>
            <a:chExt cx="2504880" cy="1032840"/>
          </a:xfrm>
        </p:grpSpPr>
        <p:sp>
          <p:nvSpPr>
            <p:cNvPr id="664" name="Arc 134"/>
            <p:cNvSpPr/>
            <p:nvPr/>
          </p:nvSpPr>
          <p:spPr>
            <a:xfrm flipH="1" rot="18727800">
              <a:off x="4928040" y="2089440"/>
              <a:ext cx="277920" cy="284760"/>
            </a:xfrm>
            <a:custGeom>
              <a:avLst/>
              <a:gdLst>
                <a:gd name="textAreaLeft" fmla="*/ 360 w 277920"/>
                <a:gd name="textAreaRight" fmla="*/ 278640 w 27792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135"/>
            <p:cNvSpPr/>
            <p:nvPr/>
          </p:nvSpPr>
          <p:spPr>
            <a:xfrm flipH="1" rot="2790000">
              <a:off x="5012280" y="1926720"/>
              <a:ext cx="119160" cy="12168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rc 136"/>
            <p:cNvSpPr/>
            <p:nvPr/>
          </p:nvSpPr>
          <p:spPr>
            <a:xfrm flipV="1" rot="18727800">
              <a:off x="5571000" y="2063520"/>
              <a:ext cx="277920" cy="2847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-360 h 284760"/>
                <a:gd name="textAreaBottom" fmla="*/ 284760 h 284760"/>
              </a:gdLst>
              <a:ahLst/>
              <a:rect l="textAreaLeft" t="textAreaTop" r="textAreaRight" b="textAreaBottom"/>
              <a:pathLst>
                <a:path fill="none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</a:path>
                <a:path stroke="0" w="25270" h="21974">
                  <a:moveTo>
                    <a:pt x="-1" y="314"/>
                  </a:moveTo>
                  <a:cubicBezTo>
                    <a:pt x="1212" y="105"/>
                    <a:pt x="2439" y="-1"/>
                    <a:pt x="3670" y="0"/>
                  </a:cubicBezTo>
                  <a:cubicBezTo>
                    <a:pt x="15599" y="0"/>
                    <a:pt x="25270" y="9670"/>
                    <a:pt x="25270" y="21600"/>
                  </a:cubicBezTo>
                  <a:cubicBezTo>
                    <a:pt x="25270" y="21724"/>
                    <a:pt x="25268" y="21849"/>
                    <a:pt x="25266" y="21974"/>
                  </a:cubicBezTo>
                  <a:lnTo>
                    <a:pt x="3670" y="21600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137"/>
            <p:cNvSpPr/>
            <p:nvPr/>
          </p:nvSpPr>
          <p:spPr>
            <a:xfrm flipV="1" rot="2790000">
              <a:off x="5665320" y="2344680"/>
              <a:ext cx="120600" cy="122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138"/>
            <p:cNvGrpSpPr/>
            <p:nvPr/>
          </p:nvGrpSpPr>
          <p:grpSpPr>
            <a:xfrm>
              <a:off x="5191560" y="1693080"/>
              <a:ext cx="502200" cy="402120"/>
              <a:chOff x="5191560" y="1693080"/>
              <a:chExt cx="502200" cy="402120"/>
            </a:xfrm>
          </p:grpSpPr>
          <p:sp>
            <p:nvSpPr>
              <p:cNvPr id="669" name="Arc 139"/>
              <p:cNvSpPr/>
              <p:nvPr/>
            </p:nvSpPr>
            <p:spPr>
              <a:xfrm flipH="1" rot="2527800">
                <a:off x="5244480" y="1757520"/>
                <a:ext cx="297720" cy="272880"/>
              </a:xfrm>
              <a:custGeom>
                <a:avLst/>
                <a:gdLst>
                  <a:gd name="textAreaLeft" fmla="*/ -360 w 297720"/>
                  <a:gd name="textAreaRight" fmla="*/ 297720 w 2977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0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0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140"/>
              <p:cNvSpPr/>
              <p:nvPr/>
            </p:nvSpPr>
            <p:spPr>
              <a:xfrm flipH="1" rot="8190000">
                <a:off x="5542560" y="1843920"/>
                <a:ext cx="128160" cy="11700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41"/>
            <p:cNvGrpSpPr/>
            <p:nvPr/>
          </p:nvGrpSpPr>
          <p:grpSpPr>
            <a:xfrm>
              <a:off x="5115240" y="2310840"/>
              <a:ext cx="489600" cy="396720"/>
              <a:chOff x="5115240" y="2310840"/>
              <a:chExt cx="489600" cy="396720"/>
            </a:xfrm>
          </p:grpSpPr>
          <p:sp>
            <p:nvSpPr>
              <p:cNvPr id="672" name="Arc 142"/>
              <p:cNvSpPr/>
              <p:nvPr/>
            </p:nvSpPr>
            <p:spPr>
              <a:xfrm flipV="1" rot="2527800">
                <a:off x="5263200" y="2370960"/>
                <a:ext cx="285840" cy="2764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76480"/>
                  <a:gd name="textAreaBottom" fmla="*/ 276480 h 27648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0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0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e5d5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AutoShape 143"/>
              <p:cNvSpPr/>
              <p:nvPr/>
            </p:nvSpPr>
            <p:spPr>
              <a:xfrm flipV="1" rot="8190000">
                <a:off x="5139000" y="2439720"/>
                <a:ext cx="123480" cy="119160"/>
              </a:xfrm>
              <a:prstGeom prst="triangle">
                <a:avLst>
                  <a:gd name="adj" fmla="val 50000"/>
                </a:avLst>
              </a:prstGeom>
              <a:solidFill>
                <a:srgbClr val="e5d508"/>
              </a:solidFill>
              <a:ln w="9360">
                <a:solidFill>
                  <a:srgbClr val="e5d5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4" name="Picture 144" descr=""/>
            <p:cNvPicPr/>
            <p:nvPr/>
          </p:nvPicPr>
          <p:blipFill>
            <a:blip r:embed="rId1"/>
            <a:stretch/>
          </p:blipFill>
          <p:spPr>
            <a:xfrm>
              <a:off x="5144400" y="1928520"/>
              <a:ext cx="510480" cy="4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Text Box 145"/>
            <p:cNvSpPr/>
            <p:nvPr/>
          </p:nvSpPr>
          <p:spPr>
            <a:xfrm>
              <a:off x="7233480" y="1674720"/>
              <a:ext cx="140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Picture 246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1136520" cy="11541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47" descr="ProblemSolvingStudent"/>
          <p:cNvPicPr/>
          <p:nvPr/>
        </p:nvPicPr>
        <p:blipFill>
          <a:blip r:embed="rId3"/>
          <a:stretch/>
        </p:blipFill>
        <p:spPr>
          <a:xfrm>
            <a:off x="5241960" y="1066680"/>
            <a:ext cx="320760" cy="3636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250"/>
          <p:cNvSpPr/>
          <p:nvPr/>
        </p:nvSpPr>
        <p:spPr>
          <a:xfrm>
            <a:off x="2819520" y="4916520"/>
            <a:ext cx="510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inuous Improvement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52"/>
          <p:cNvSpPr/>
          <p:nvPr/>
        </p:nvSpPr>
        <p:spPr>
          <a:xfrm>
            <a:off x="6553080" y="304920"/>
            <a:ext cx="240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se to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4"/>
          <p:cNvSpPr/>
          <p:nvPr/>
        </p:nvSpPr>
        <p:spPr>
          <a:xfrm>
            <a:off x="2057400" y="228600"/>
            <a:ext cx="655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Integrating Education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nd Mental Health Into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chool-Based Mental Healt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2057400" y="3048120"/>
            <a:ext cx="6324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torically, difficult to establish effective  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many reason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Rectangle 6"/>
          <p:cNvGrpSpPr/>
          <p:nvPr/>
        </p:nvGrpSpPr>
        <p:grpSpPr>
          <a:xfrm>
            <a:off x="2000160" y="1719360"/>
            <a:ext cx="6515280" cy="182520"/>
            <a:chOff x="2000160" y="1719360"/>
            <a:chExt cx="6515280" cy="182520"/>
          </a:xfrm>
        </p:grpSpPr>
        <p:pic>
          <p:nvPicPr>
            <p:cNvPr id="521" name="Rectangle 6" descr=""/>
            <p:cNvPicPr/>
            <p:nvPr/>
          </p:nvPicPr>
          <p:blipFill>
            <a:blip r:embed="rId1"/>
            <a:stretch/>
          </p:blipFill>
          <p:spPr>
            <a:xfrm>
              <a:off x="2000160" y="1719360"/>
              <a:ext cx="65152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2057400" y="175572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6A18-1F0A-43C4-96A2-8E5B68B2B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1639-ECE0-4A7B-B595-D24B0DBCD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19"/>
          <p:cNvSpPr/>
          <p:nvPr/>
        </p:nvSpPr>
        <p:spPr>
          <a:xfrm>
            <a:off x="3732120" y="2666880"/>
            <a:ext cx="3733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8541"/>
                </a:solidFill>
                <a:latin typeface="Calibri"/>
                <a:ea typeface="Times New Roman"/>
              </a:rPr>
              <a:t>The Public Heal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20"/>
          <p:cNvSpPr/>
          <p:nvPr/>
        </p:nvSpPr>
        <p:spPr>
          <a:xfrm>
            <a:off x="2209680" y="228600"/>
            <a:ext cx="2818080" cy="274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Surveillance at the population / commun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is the 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systematic data collection strategies to determine the mental health service needs in your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21"/>
          <p:cNvSpPr/>
          <p:nvPr/>
        </p:nvSpPr>
        <p:spPr>
          <a:xfrm>
            <a:off x="6249960" y="228600"/>
            <a:ext cx="2741760" cy="274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entify risk and protective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are the cau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the information collected in and on your community on a regular basis and integrate with the research lit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2"/>
          <p:cNvSpPr/>
          <p:nvPr/>
        </p:nvSpPr>
        <p:spPr>
          <a:xfrm>
            <a:off x="6249960" y="3873600"/>
            <a:ext cx="2741760" cy="274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Develop and Evaluat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works and for wh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view literature on empirical based interventions and apply/adapt to local community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23"/>
          <p:cNvSpPr/>
          <p:nvPr/>
        </p:nvSpPr>
        <p:spPr>
          <a:xfrm>
            <a:off x="2209680" y="3873600"/>
            <a:ext cx="2818080" cy="274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mplementation monitoring and scaling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s it meeting the intended need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itor interventions for proper implementation, scale-up interventions and measure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24"/>
          <p:cNvSpPr/>
          <p:nvPr/>
        </p:nvSpPr>
        <p:spPr>
          <a:xfrm>
            <a:off x="7694640" y="3048120"/>
            <a:ext cx="0" cy="914400"/>
          </a:xfrm>
          <a:prstGeom prst="line">
            <a:avLst/>
          </a:prstGeom>
          <a:ln w="127080">
            <a:solidFill>
              <a:srgbClr val="397e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25"/>
          <p:cNvSpPr/>
          <p:nvPr/>
        </p:nvSpPr>
        <p:spPr>
          <a:xfrm flipV="1">
            <a:off x="3529080" y="2895480"/>
            <a:ext cx="0" cy="914400"/>
          </a:xfrm>
          <a:prstGeom prst="line">
            <a:avLst/>
          </a:prstGeom>
          <a:ln w="127080">
            <a:solidFill>
              <a:srgbClr val="397e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26"/>
          <p:cNvSpPr/>
          <p:nvPr/>
        </p:nvSpPr>
        <p:spPr>
          <a:xfrm>
            <a:off x="5180040" y="1905120"/>
            <a:ext cx="1143000" cy="0"/>
          </a:xfrm>
          <a:prstGeom prst="line">
            <a:avLst/>
          </a:prstGeom>
          <a:ln w="127080">
            <a:solidFill>
              <a:srgbClr val="397e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27"/>
          <p:cNvSpPr/>
          <p:nvPr/>
        </p:nvSpPr>
        <p:spPr>
          <a:xfrm flipH="1" flipV="1">
            <a:off x="4875120" y="5035320"/>
            <a:ext cx="1246320" cy="3600"/>
          </a:xfrm>
          <a:prstGeom prst="line">
            <a:avLst/>
          </a:prstGeom>
          <a:ln w="127080">
            <a:solidFill>
              <a:srgbClr val="397e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DC63-1401-4ABC-A3DC-DD60F5923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AutoShape 8"/>
          <p:cNvGrpSpPr/>
          <p:nvPr/>
        </p:nvGrpSpPr>
        <p:grpSpPr>
          <a:xfrm>
            <a:off x="1037520" y="1749600"/>
            <a:ext cx="1417680" cy="1657800"/>
            <a:chOff x="1037520" y="1749600"/>
            <a:chExt cx="1417680" cy="1657800"/>
          </a:xfrm>
        </p:grpSpPr>
        <p:pic>
          <p:nvPicPr>
            <p:cNvPr id="693" name="AutoShape 8" descr=""/>
            <p:cNvPicPr/>
            <p:nvPr/>
          </p:nvPicPr>
          <p:blipFill>
            <a:blip r:embed="rId1"/>
            <a:stretch/>
          </p:blipFill>
          <p:spPr>
            <a:xfrm>
              <a:off x="1146240" y="1749600"/>
              <a:ext cx="1255680" cy="14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 rot="4015200">
              <a:off x="1067040" y="2112480"/>
              <a:ext cx="1358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Text Box 9"/>
          <p:cNvGrpSpPr/>
          <p:nvPr/>
        </p:nvGrpSpPr>
        <p:grpSpPr>
          <a:xfrm>
            <a:off x="139680" y="158760"/>
            <a:ext cx="2139840" cy="2260440"/>
            <a:chOff x="139680" y="158760"/>
            <a:chExt cx="2139840" cy="2260440"/>
          </a:xfrm>
        </p:grpSpPr>
        <p:pic>
          <p:nvPicPr>
            <p:cNvPr id="696" name="Text Box 9" descr=""/>
            <p:cNvPicPr/>
            <p:nvPr/>
          </p:nvPicPr>
          <p:blipFill>
            <a:blip r:embed="rId2"/>
            <a:stretch/>
          </p:blipFill>
          <p:spPr>
            <a:xfrm>
              <a:off x="139680" y="158760"/>
              <a:ext cx="2139840" cy="22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49120" y="233280"/>
              <a:ext cx="197820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1f497d"/>
                  </a:solidFill>
                  <a:latin typeface="Arial"/>
                </a:rPr>
                <a:t>Common Visio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Families          (FA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ental Health  (M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ucation         (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Text Box 17"/>
          <p:cNvGrpSpPr/>
          <p:nvPr/>
        </p:nvGrpSpPr>
        <p:grpSpPr>
          <a:xfrm>
            <a:off x="6456240" y="152280"/>
            <a:ext cx="2475000" cy="6156360"/>
            <a:chOff x="6456240" y="152280"/>
            <a:chExt cx="2475000" cy="6156360"/>
          </a:xfrm>
        </p:grpSpPr>
        <p:pic>
          <p:nvPicPr>
            <p:cNvPr id="699" name="Text Box 17" descr=""/>
            <p:cNvPicPr/>
            <p:nvPr/>
          </p:nvPicPr>
          <p:blipFill>
            <a:blip r:embed="rId3"/>
            <a:stretch/>
          </p:blipFill>
          <p:spPr>
            <a:xfrm>
              <a:off x="6456240" y="152280"/>
              <a:ext cx="24750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6564240" y="228600"/>
              <a:ext cx="2313000" cy="60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1f497d"/>
                  </a:solidFill>
                  <a:latin typeface="Arial"/>
                </a:rPr>
                <a:t>Intensiv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Students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Special Ed d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to Emotional Disturba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 – FBA / P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 – Assess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F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F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41"/>
          <p:cNvGrpSpPr/>
          <p:nvPr/>
        </p:nvGrpSpPr>
        <p:grpSpPr>
          <a:xfrm>
            <a:off x="7086600" y="3325680"/>
            <a:ext cx="1862280" cy="1322280"/>
            <a:chOff x="7086600" y="3325680"/>
            <a:chExt cx="1862280" cy="1322280"/>
          </a:xfrm>
        </p:grpSpPr>
        <p:sp>
          <p:nvSpPr>
            <p:cNvPr id="702" name="AutoShape 18"/>
            <p:cNvSpPr/>
            <p:nvPr/>
          </p:nvSpPr>
          <p:spPr>
            <a:xfrm>
              <a:off x="7086600" y="3428640"/>
              <a:ext cx="168120" cy="714600"/>
            </a:xfrm>
            <a:custGeom>
              <a:avLst/>
              <a:gdLst>
                <a:gd name="textAreaLeft" fmla="*/ 0 w 168120"/>
                <a:gd name="textAreaRight" fmla="*/ 60840 w 168120"/>
                <a:gd name="textAreaTop" fmla="*/ 18360 h 714600"/>
                <a:gd name="textAreaBottom" fmla="*/ 6962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19"/>
            <p:cNvSpPr/>
            <p:nvPr/>
          </p:nvSpPr>
          <p:spPr>
            <a:xfrm>
              <a:off x="7162920" y="3325680"/>
              <a:ext cx="178596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ognitive Behavior Therapy and other EB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20"/>
          <p:cNvGrpSpPr/>
          <p:nvPr/>
        </p:nvGrpSpPr>
        <p:grpSpPr>
          <a:xfrm>
            <a:off x="7050240" y="4681440"/>
            <a:ext cx="1436040" cy="1322640"/>
            <a:chOff x="7050240" y="4681440"/>
            <a:chExt cx="1436040" cy="1322640"/>
          </a:xfrm>
        </p:grpSpPr>
        <p:sp>
          <p:nvSpPr>
            <p:cNvPr id="705" name="AutoShape 21"/>
            <p:cNvSpPr/>
            <p:nvPr/>
          </p:nvSpPr>
          <p:spPr>
            <a:xfrm>
              <a:off x="7050240" y="4757400"/>
              <a:ext cx="172800" cy="777240"/>
            </a:xfrm>
            <a:custGeom>
              <a:avLst/>
              <a:gdLst>
                <a:gd name="textAreaLeft" fmla="*/ 0 w 172800"/>
                <a:gd name="textAreaRight" fmla="*/ 62280 w 172800"/>
                <a:gd name="textAreaTop" fmla="*/ 20160 h 777240"/>
                <a:gd name="textAreaBottom" fmla="*/ 757080 h 77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2"/>
            <p:cNvSpPr/>
            <p:nvPr/>
          </p:nvSpPr>
          <p:spPr>
            <a:xfrm>
              <a:off x="7166520" y="4681440"/>
              <a:ext cx="131976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eam Monitors Prog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AutoShape 23"/>
          <p:cNvGrpSpPr/>
          <p:nvPr/>
        </p:nvGrpSpPr>
        <p:grpSpPr>
          <a:xfrm>
            <a:off x="2937600" y="2968560"/>
            <a:ext cx="1417680" cy="1658160"/>
            <a:chOff x="2937600" y="2968560"/>
            <a:chExt cx="1417680" cy="1658160"/>
          </a:xfrm>
        </p:grpSpPr>
        <p:pic>
          <p:nvPicPr>
            <p:cNvPr id="708" name="AutoShape 23" descr=""/>
            <p:cNvPicPr/>
            <p:nvPr/>
          </p:nvPicPr>
          <p:blipFill>
            <a:blip r:embed="rId4"/>
            <a:stretch/>
          </p:blipFill>
          <p:spPr>
            <a:xfrm>
              <a:off x="3041640" y="2968560"/>
              <a:ext cx="1262160" cy="14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 rot="4015200">
              <a:off x="2967120" y="3331800"/>
              <a:ext cx="1358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44"/>
          <p:cNvGrpSpPr/>
          <p:nvPr/>
        </p:nvGrpSpPr>
        <p:grpSpPr>
          <a:xfrm>
            <a:off x="2362320" y="228600"/>
            <a:ext cx="1753920" cy="3308400"/>
            <a:chOff x="2362320" y="228600"/>
            <a:chExt cx="1753920" cy="3308400"/>
          </a:xfrm>
        </p:grpSpPr>
        <p:grpSp>
          <p:nvGrpSpPr>
            <p:cNvPr id="711" name="Text Box 25"/>
            <p:cNvGrpSpPr/>
            <p:nvPr/>
          </p:nvGrpSpPr>
          <p:grpSpPr>
            <a:xfrm>
              <a:off x="2362320" y="228600"/>
              <a:ext cx="1753920" cy="3308400"/>
              <a:chOff x="2362320" y="228600"/>
              <a:chExt cx="1753920" cy="3308400"/>
            </a:xfrm>
          </p:grpSpPr>
          <p:pic>
            <p:nvPicPr>
              <p:cNvPr id="712" name="Text Box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362320" y="228600"/>
                <a:ext cx="1753920" cy="330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>
                <a:off x="2459880" y="301320"/>
                <a:ext cx="1607400" cy="31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1f497d"/>
                    </a:solidFill>
                    <a:latin typeface="Arial"/>
                  </a:rPr>
                  <a:t>Universal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 Narrow"/>
                  </a:rPr>
                  <a:t>All Stud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ED – P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MH - Scree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F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ED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M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AutoShape 27"/>
            <p:cNvSpPr/>
            <p:nvPr/>
          </p:nvSpPr>
          <p:spPr>
            <a:xfrm>
              <a:off x="2948040" y="2342520"/>
              <a:ext cx="164520" cy="633600"/>
            </a:xfrm>
            <a:custGeom>
              <a:avLst/>
              <a:gdLst>
                <a:gd name="textAreaLeft" fmla="*/ 0 w 164520"/>
                <a:gd name="textAreaRight" fmla="*/ 59400 w 164520"/>
                <a:gd name="textAreaTop" fmla="*/ 16200 h 633600"/>
                <a:gd name="textAreaBottom" fmla="*/ 617400 h 63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8"/>
            <p:cNvSpPr/>
            <p:nvPr/>
          </p:nvSpPr>
          <p:spPr>
            <a:xfrm>
              <a:off x="3097800" y="2301480"/>
              <a:ext cx="89892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EBP’s (PATH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AutoShape 29"/>
          <p:cNvGrpSpPr/>
          <p:nvPr/>
        </p:nvGrpSpPr>
        <p:grpSpPr>
          <a:xfrm>
            <a:off x="5282640" y="4840200"/>
            <a:ext cx="1417320" cy="1658160"/>
            <a:chOff x="5282640" y="4840200"/>
            <a:chExt cx="1417320" cy="1658160"/>
          </a:xfrm>
        </p:grpSpPr>
        <p:pic>
          <p:nvPicPr>
            <p:cNvPr id="717" name="AutoShape 29" descr=""/>
            <p:cNvPicPr/>
            <p:nvPr/>
          </p:nvPicPr>
          <p:blipFill>
            <a:blip r:embed="rId6"/>
            <a:stretch/>
          </p:blipFill>
          <p:spPr>
            <a:xfrm>
              <a:off x="5389560" y="4840200"/>
              <a:ext cx="1260360" cy="14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 rot="4015200">
              <a:off x="5312160" y="5204160"/>
              <a:ext cx="13575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Text Box 30"/>
          <p:cNvGrpSpPr/>
          <p:nvPr/>
        </p:nvGrpSpPr>
        <p:grpSpPr>
          <a:xfrm>
            <a:off x="4114800" y="152280"/>
            <a:ext cx="2378160" cy="5364360"/>
            <a:chOff x="4114800" y="152280"/>
            <a:chExt cx="2378160" cy="5364360"/>
          </a:xfrm>
        </p:grpSpPr>
        <p:pic>
          <p:nvPicPr>
            <p:cNvPr id="720" name="Text Box 30" descr=""/>
            <p:cNvPicPr/>
            <p:nvPr/>
          </p:nvPicPr>
          <p:blipFill>
            <a:blip r:embed="rId7"/>
            <a:stretch/>
          </p:blipFill>
          <p:spPr>
            <a:xfrm>
              <a:off x="4114800" y="152280"/>
              <a:ext cx="2378160" cy="536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4219560" y="228600"/>
              <a:ext cx="2216160" cy="52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1f497d"/>
                  </a:solidFill>
                  <a:latin typeface="Arial"/>
                </a:rPr>
                <a:t>Selectiv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At-Risk Stu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 – FBA / P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 – Assess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F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F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31"/>
          <p:cNvGrpSpPr/>
          <p:nvPr/>
        </p:nvGrpSpPr>
        <p:grpSpPr>
          <a:xfrm>
            <a:off x="4792680" y="2378160"/>
            <a:ext cx="1834920" cy="3039480"/>
            <a:chOff x="4792680" y="2378160"/>
            <a:chExt cx="1834920" cy="3039480"/>
          </a:xfrm>
        </p:grpSpPr>
        <p:sp>
          <p:nvSpPr>
            <p:cNvPr id="723" name="AutoShape 32"/>
            <p:cNvSpPr/>
            <p:nvPr/>
          </p:nvSpPr>
          <p:spPr>
            <a:xfrm>
              <a:off x="4822920" y="2378160"/>
              <a:ext cx="179280" cy="661680"/>
            </a:xfrm>
            <a:custGeom>
              <a:avLst/>
              <a:gdLst>
                <a:gd name="textAreaLeft" fmla="*/ 0 w 179280"/>
                <a:gd name="textAreaRight" fmla="*/ 64800 w 179280"/>
                <a:gd name="textAreaTop" fmla="*/ 16920 h 661680"/>
                <a:gd name="textAreaBottom" fmla="*/ 644760 h 66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33"/>
            <p:cNvSpPr/>
            <p:nvPr/>
          </p:nvSpPr>
          <p:spPr>
            <a:xfrm>
              <a:off x="4792680" y="3554640"/>
              <a:ext cx="179280" cy="441360"/>
            </a:xfrm>
            <a:custGeom>
              <a:avLst/>
              <a:gdLst>
                <a:gd name="textAreaLeft" fmla="*/ 0 w 179280"/>
                <a:gd name="textAreaRight" fmla="*/ 64800 w 179280"/>
                <a:gd name="textAreaTop" fmla="*/ 11520 h 441360"/>
                <a:gd name="textAreaBottom" fmla="*/ 42984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34"/>
            <p:cNvSpPr/>
            <p:nvPr/>
          </p:nvSpPr>
          <p:spPr>
            <a:xfrm>
              <a:off x="4887000" y="3460320"/>
              <a:ext cx="140436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Group Interven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35"/>
            <p:cNvSpPr/>
            <p:nvPr/>
          </p:nvSpPr>
          <p:spPr>
            <a:xfrm>
              <a:off x="4872600" y="4516920"/>
              <a:ext cx="1755000" cy="9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eam Monitors Prog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36"/>
            <p:cNvSpPr/>
            <p:nvPr/>
          </p:nvSpPr>
          <p:spPr>
            <a:xfrm>
              <a:off x="4931280" y="2451600"/>
              <a:ext cx="7603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37"/>
            <p:cNvSpPr/>
            <p:nvPr/>
          </p:nvSpPr>
          <p:spPr>
            <a:xfrm>
              <a:off x="4813920" y="4510800"/>
              <a:ext cx="179280" cy="661680"/>
            </a:xfrm>
            <a:custGeom>
              <a:avLst/>
              <a:gdLst>
                <a:gd name="textAreaLeft" fmla="*/ 0 w 179280"/>
                <a:gd name="textAreaRight" fmla="*/ 64800 w 179280"/>
                <a:gd name="textAreaTop" fmla="*/ 16920 h 661680"/>
                <a:gd name="textAreaBottom" fmla="*/ 644760 h 66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42"/>
          <p:cNvGrpSpPr/>
          <p:nvPr/>
        </p:nvGrpSpPr>
        <p:grpSpPr>
          <a:xfrm>
            <a:off x="326880" y="3200400"/>
            <a:ext cx="4244760" cy="3685680"/>
            <a:chOff x="326880" y="3200400"/>
            <a:chExt cx="4244760" cy="3685680"/>
          </a:xfrm>
        </p:grpSpPr>
        <p:grpSp>
          <p:nvGrpSpPr>
            <p:cNvPr id="730" name="AutoShape 11"/>
            <p:cNvGrpSpPr/>
            <p:nvPr/>
          </p:nvGrpSpPr>
          <p:grpSpPr>
            <a:xfrm>
              <a:off x="1977120" y="5141160"/>
              <a:ext cx="2594520" cy="1280880"/>
              <a:chOff x="1977120" y="5141160"/>
              <a:chExt cx="2594520" cy="1280880"/>
            </a:xfrm>
          </p:grpSpPr>
          <p:pic>
            <p:nvPicPr>
              <p:cNvPr id="731" name="AutoShape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1977120" y="5141160"/>
                <a:ext cx="2594520" cy="12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"/>
              <p:cNvSpPr/>
              <p:nvPr/>
            </p:nvSpPr>
            <p:spPr>
              <a:xfrm rot="5039400">
                <a:off x="2973240" y="4709160"/>
                <a:ext cx="416880" cy="22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AutoShape 12"/>
            <p:cNvGrpSpPr/>
            <p:nvPr/>
          </p:nvGrpSpPr>
          <p:grpSpPr>
            <a:xfrm>
              <a:off x="1524600" y="4244760"/>
              <a:ext cx="2371320" cy="1738440"/>
              <a:chOff x="1524600" y="4244760"/>
              <a:chExt cx="2371320" cy="1738440"/>
            </a:xfrm>
          </p:grpSpPr>
          <p:pic>
            <p:nvPicPr>
              <p:cNvPr id="734" name="AutoShape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4600" y="4244760"/>
                <a:ext cx="2371320" cy="17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 rot="3621600">
                <a:off x="2462040" y="4030560"/>
                <a:ext cx="416880" cy="22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AutoShape 13"/>
            <p:cNvGrpSpPr/>
            <p:nvPr/>
          </p:nvGrpSpPr>
          <p:grpSpPr>
            <a:xfrm>
              <a:off x="1639440" y="3218040"/>
              <a:ext cx="1248840" cy="3021120"/>
              <a:chOff x="1639440" y="3218040"/>
              <a:chExt cx="1248840" cy="3021120"/>
            </a:xfrm>
          </p:grpSpPr>
          <p:pic>
            <p:nvPicPr>
              <p:cNvPr id="737" name="AutoShape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39440" y="3218040"/>
                <a:ext cx="1248840" cy="302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"/>
              <p:cNvSpPr/>
              <p:nvPr/>
            </p:nvSpPr>
            <p:spPr>
              <a:xfrm rot="760200">
                <a:off x="1983960" y="3467160"/>
                <a:ext cx="351000" cy="26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AutoShape 14"/>
            <p:cNvGrpSpPr/>
            <p:nvPr/>
          </p:nvGrpSpPr>
          <p:grpSpPr>
            <a:xfrm>
              <a:off x="570600" y="3200400"/>
              <a:ext cx="1580760" cy="2892600"/>
              <a:chOff x="570600" y="3200400"/>
              <a:chExt cx="1580760" cy="2892600"/>
            </a:xfrm>
          </p:grpSpPr>
          <p:pic>
            <p:nvPicPr>
              <p:cNvPr id="740" name="AutoShap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0600" y="3200400"/>
                <a:ext cx="1580760" cy="289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 rot="20235000">
                <a:off x="1247760" y="3365640"/>
                <a:ext cx="351720" cy="26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Oval 15"/>
            <p:cNvGrpSpPr/>
            <p:nvPr/>
          </p:nvGrpSpPr>
          <p:grpSpPr>
            <a:xfrm>
              <a:off x="377280" y="4225680"/>
              <a:ext cx="2709360" cy="2660400"/>
              <a:chOff x="377280" y="4225680"/>
              <a:chExt cx="2709360" cy="2660400"/>
            </a:xfrm>
          </p:grpSpPr>
          <p:pic>
            <p:nvPicPr>
              <p:cNvPr id="743" name="Oval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7280" y="4225680"/>
                <a:ext cx="2709360" cy="266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239400">
                <a:off x="815400" y="4632480"/>
                <a:ext cx="1836720" cy="180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Text Box 16"/>
            <p:cNvSpPr/>
            <p:nvPr/>
          </p:nvSpPr>
          <p:spPr>
            <a:xfrm>
              <a:off x="326880" y="4395600"/>
              <a:ext cx="2814840" cy="23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mplemen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n organiz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that support and facil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collaborative, integrat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systems of servic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43"/>
          <p:cNvSpPr/>
          <p:nvPr/>
        </p:nvSpPr>
        <p:spPr>
          <a:xfrm>
            <a:off x="4267080" y="6278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4"/>
          <p:cNvSpPr/>
          <p:nvPr/>
        </p:nvSpPr>
        <p:spPr>
          <a:xfrm>
            <a:off x="2209680" y="6094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Wa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205740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say tha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amil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the barriers to good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“those parents” would just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Rectangle 6"/>
          <p:cNvGrpSpPr/>
          <p:nvPr/>
        </p:nvGrpSpPr>
        <p:grpSpPr>
          <a:xfrm>
            <a:off x="2000160" y="1639800"/>
            <a:ext cx="6515280" cy="182520"/>
            <a:chOff x="2000160" y="1639800"/>
            <a:chExt cx="6515280" cy="182520"/>
          </a:xfrm>
        </p:grpSpPr>
        <p:pic>
          <p:nvPicPr>
            <p:cNvPr id="750" name="Rectangle 6" descr=""/>
            <p:cNvPicPr/>
            <p:nvPr/>
          </p:nvPicPr>
          <p:blipFill>
            <a:blip r:embed="rId1"/>
            <a:stretch/>
          </p:blipFill>
          <p:spPr>
            <a:xfrm>
              <a:off x="2000160" y="1639800"/>
              <a:ext cx="65152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2057400" y="167652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084D-6993-43B6-8A19-C42707047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"/>
          <p:cNvSpPr/>
          <p:nvPr/>
        </p:nvSpPr>
        <p:spPr>
          <a:xfrm>
            <a:off x="2209680" y="6094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amilies a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Rectangle 4"/>
          <p:cNvGrpSpPr/>
          <p:nvPr/>
        </p:nvGrpSpPr>
        <p:grpSpPr>
          <a:xfrm>
            <a:off x="2000160" y="1639800"/>
            <a:ext cx="6515280" cy="182520"/>
            <a:chOff x="2000160" y="1639800"/>
            <a:chExt cx="6515280" cy="182520"/>
          </a:xfrm>
        </p:grpSpPr>
        <p:pic>
          <p:nvPicPr>
            <p:cNvPr id="755" name="Rectangle 4" descr=""/>
            <p:cNvPicPr/>
            <p:nvPr/>
          </p:nvPicPr>
          <p:blipFill>
            <a:blip r:embed="rId1"/>
            <a:stretch/>
          </p:blipFill>
          <p:spPr>
            <a:xfrm>
              <a:off x="2000160" y="1639800"/>
              <a:ext cx="65152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2057400" y="167652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3"/>
          <p:cNvSpPr/>
          <p:nvPr/>
        </p:nvSpPr>
        <p:spPr>
          <a:xfrm>
            <a:off x="2209680" y="1981080"/>
            <a:ext cx="6477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“Cause,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atien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redible Informan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qual Decision Making Partner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or and Research Partner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licy Ma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0E97-6B0A-492B-AA09-CF5F5D615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Table 1" descr=""/>
          <p:cNvPicPr/>
          <p:nvPr/>
        </p:nvPicPr>
        <p:blipFill>
          <a:blip r:embed="rId1"/>
          <a:stretch/>
        </p:blipFill>
        <p:spPr>
          <a:xfrm>
            <a:off x="79200" y="768240"/>
            <a:ext cx="9088560" cy="5754960"/>
          </a:xfrm>
          <a:prstGeom prst="rect">
            <a:avLst/>
          </a:prstGeom>
          <a:ln w="0">
            <a:noFill/>
          </a:ln>
        </p:spPr>
      </p:pic>
      <p:sp>
        <p:nvSpPr>
          <p:cNvPr id="76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2977-02A9-4BA6-8A5B-112BB16E2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304920" y="2009880"/>
            <a:ext cx="1523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you Rea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FC00-58F7-4830-A6C7-1F18692EA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5" descr="teamwork_teamwork_A"/>
          <p:cNvPicPr/>
          <p:nvPr/>
        </p:nvPicPr>
        <p:blipFill>
          <a:blip r:embed="rId1"/>
          <a:stretch/>
        </p:blipFill>
        <p:spPr>
          <a:xfrm>
            <a:off x="2179800" y="1219320"/>
            <a:ext cx="66132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dence Based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437920" y="1600200"/>
            <a:ext cx="6248520" cy="358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Regis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ow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H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Fidelity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k Therapy Continues to Domi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3DC1-05AF-4B72-B6DC-E8F2AAC28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2CE7-131A-46A7-95FF-1FBF0E97A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8"/>
          <p:cNvSpPr/>
          <p:nvPr/>
        </p:nvSpPr>
        <p:spPr>
          <a:xfrm>
            <a:off x="2362320" y="2362320"/>
            <a:ext cx="6324480" cy="38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ce said to the Cheshire Cat:              “Would you tell me please, which way I ought to go from her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t depends a good deal on where        you want to get to,” said the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don’t much care where,” said Al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t doesn’t matter which                   way you go,” said the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Object 2"/>
          <p:cNvGraphicFramePr/>
          <p:nvPr/>
        </p:nvGraphicFramePr>
        <p:xfrm>
          <a:off x="1676520" y="0"/>
          <a:ext cx="38192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0"/>
                    <a:ext cx="3819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Rectangle 40"/>
          <p:cNvSpPr/>
          <p:nvPr/>
        </p:nvSpPr>
        <p:spPr>
          <a:xfrm>
            <a:off x="304920" y="29718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 depends a good deal on where        you want to get 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42" descr=""/>
          <p:cNvPicPr/>
          <p:nvPr/>
        </p:nvPicPr>
        <p:blipFill>
          <a:blip r:embed="rId3"/>
          <a:srcRect l="34097" t="0" r="29545" b="88247"/>
          <a:stretch/>
        </p:blipFill>
        <p:spPr>
          <a:xfrm>
            <a:off x="2114640" y="976320"/>
            <a:ext cx="1218960" cy="3049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4" descr=""/>
          <p:cNvPicPr/>
          <p:nvPr/>
        </p:nvPicPr>
        <p:blipFill>
          <a:blip r:embed="rId4"/>
          <a:srcRect l="0" t="71743" r="0" b="0"/>
          <a:stretch/>
        </p:blipFill>
        <p:spPr>
          <a:xfrm>
            <a:off x="1676520" y="1247760"/>
            <a:ext cx="3819240" cy="9907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45" descr=""/>
          <p:cNvPicPr/>
          <p:nvPr/>
        </p:nvPicPr>
        <p:blipFill>
          <a:blip r:embed="rId5"/>
          <a:srcRect l="34097" t="0" r="29545" b="88247"/>
          <a:stretch/>
        </p:blipFill>
        <p:spPr>
          <a:xfrm>
            <a:off x="2109960" y="1004760"/>
            <a:ext cx="12189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2590920" y="22860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e must …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2286000" y="3657600"/>
            <a:ext cx="6629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velop Competency in Implementation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0EC9-1709-466E-89D0-59A3E9BA2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F4DF-5759-41A3-9BAB-1D6AA1A66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609480" y="533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 of Implementation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304920" y="1562040"/>
            <a:ext cx="1600200" cy="25459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es the innovation fit within your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ement or Comp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2362320" y="1562040"/>
            <a:ext cx="1752480" cy="3473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illing to remove obstac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e there rewar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adership suppo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rity of Go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4572000" y="1523880"/>
            <a:ext cx="2112840" cy="208224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IMPLEMENTATION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n you implement the innovation with accuracy and fide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7050240" y="1562040"/>
            <a:ext cx="2017440" cy="208224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INNOVATION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mpact of innovation, commitment, and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380880" y="5308560"/>
            <a:ext cx="3353040" cy="1167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VOL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s there capacity and willingness to impl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4038480" y="5334120"/>
            <a:ext cx="3657600" cy="1167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1e3"/>
                </a:solidFill>
                <a:latin typeface="Arial Narrow"/>
              </a:rPr>
              <a:t>FIDELITY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1e3"/>
                </a:solidFill>
                <a:latin typeface="Arial Narrow"/>
              </a:rPr>
              <a:t>Favorable attitudes toward practice Complexity of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2"/>
          <p:cNvSpPr/>
          <p:nvPr/>
        </p:nvSpPr>
        <p:spPr>
          <a:xfrm>
            <a:off x="1881360" y="1751040"/>
            <a:ext cx="76968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3"/>
          <p:cNvSpPr/>
          <p:nvPr/>
        </p:nvSpPr>
        <p:spPr>
          <a:xfrm>
            <a:off x="3878280" y="1717560"/>
            <a:ext cx="77004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4"/>
          <p:cNvSpPr/>
          <p:nvPr/>
        </p:nvSpPr>
        <p:spPr>
          <a:xfrm>
            <a:off x="6589800" y="1717560"/>
            <a:ext cx="76824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"/>
          <p:cNvSpPr/>
          <p:nvPr/>
        </p:nvSpPr>
        <p:spPr>
          <a:xfrm flipV="1">
            <a:off x="2133720" y="1752120"/>
            <a:ext cx="0" cy="3581640"/>
          </a:xfrm>
          <a:prstGeom prst="line">
            <a:avLst/>
          </a:prstGeom>
          <a:ln w="38160">
            <a:solidFill>
              <a:srgbClr val="4bac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6"/>
          <p:cNvSpPr/>
          <p:nvPr/>
        </p:nvSpPr>
        <p:spPr>
          <a:xfrm flipV="1">
            <a:off x="4300560" y="1762200"/>
            <a:ext cx="0" cy="3657600"/>
          </a:xfrm>
          <a:prstGeom prst="line">
            <a:avLst/>
          </a:prstGeom>
          <a:ln w="38160">
            <a:solidFill>
              <a:srgbClr val="4bac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7"/>
          <p:cNvSpPr/>
          <p:nvPr/>
        </p:nvSpPr>
        <p:spPr>
          <a:xfrm flipV="1">
            <a:off x="6856560" y="1760400"/>
            <a:ext cx="1440" cy="3616560"/>
          </a:xfrm>
          <a:prstGeom prst="line">
            <a:avLst/>
          </a:prstGeom>
          <a:ln w="38160">
            <a:solidFill>
              <a:srgbClr val="4bac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4" descr="shcool.jpg"/>
          <p:cNvPicPr/>
          <p:nvPr/>
        </p:nvPicPr>
        <p:blipFill>
          <a:blip r:embed="rId1"/>
          <a:stretch/>
        </p:blipFill>
        <p:spPr>
          <a:xfrm>
            <a:off x="2057400" y="914400"/>
            <a:ext cx="6791400" cy="510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325E-A782-4911-8672-550AB1E34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6"/>
          <p:cNvSpPr/>
          <p:nvPr/>
        </p:nvSpPr>
        <p:spPr>
          <a:xfrm>
            <a:off x="4343400" y="2057400"/>
            <a:ext cx="4724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wnload this 115 page monograph FREE at: </a:t>
            </a: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http://rtckids.fmhi.usf.edu/rtcpubs/study0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6248520" y="358920"/>
            <a:ext cx="2590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Object 2"/>
          <p:cNvGraphicFramePr/>
          <p:nvPr/>
        </p:nvGraphicFramePr>
        <p:xfrm>
          <a:off x="2209680" y="1143000"/>
          <a:ext cx="19972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1997280" cy="2590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eeece1"/>
                    </a:outerShdw>
                  </a:effectLst>
                </p:spPr>
              </p:pic>
            </p:oleObj>
          </a:graphicData>
        </a:graphic>
      </p:graphicFrame>
      <p:sp>
        <p:nvSpPr>
          <p:cNvPr id="797" name="Text Box 6"/>
          <p:cNvSpPr/>
          <p:nvPr/>
        </p:nvSpPr>
        <p:spPr>
          <a:xfrm>
            <a:off x="2209680" y="4114800"/>
            <a:ext cx="6782040" cy="24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kins, M., Hoagwood, K., Kutash, K., &amp;Seidman, E. (in press and on-line as of March 2010). Toward the Integration of Education and Mental Health in School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dministration and Policy in Mental Health Services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pella, E., Frazier, S. L., Atkins, M. S., Schoenwald, S. K., &amp; Glisson, C. (2008). Enhancing Schools’ Capacity to Support Children in Poverty: An Ecological Model of School-Based Mental Health Servic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dm Policy Ment Health, 3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395-4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5"/>
          <p:cNvSpPr/>
          <p:nvPr/>
        </p:nvSpPr>
        <p:spPr>
          <a:xfrm>
            <a:off x="2209680" y="1143000"/>
            <a:ext cx="1981440" cy="259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F8FF-C7DD-4920-A2C4-33FA4A9CA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2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1" descr="http://www.optalink.com.my/Images/our_business_system_integration.jpg"/>
          <p:cNvPicPr/>
          <p:nvPr/>
        </p:nvPicPr>
        <p:blipFill>
          <a:blip r:embed="rId1"/>
          <a:stretch/>
        </p:blipFill>
        <p:spPr>
          <a:xfrm>
            <a:off x="6394320" y="4413240"/>
            <a:ext cx="1536840" cy="1689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1" descr="http://www.optalink.com.my/Images/our_business_system_integration.jpg"/>
          <p:cNvPicPr/>
          <p:nvPr/>
        </p:nvPicPr>
        <p:blipFill>
          <a:blip r:embed="rId2"/>
          <a:stretch/>
        </p:blipFill>
        <p:spPr>
          <a:xfrm>
            <a:off x="2127240" y="3956040"/>
            <a:ext cx="1994040" cy="268272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4"/>
          <p:cNvSpPr/>
          <p:nvPr/>
        </p:nvSpPr>
        <p:spPr>
          <a:xfrm>
            <a:off x="2209680" y="228600"/>
            <a:ext cx="6248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ntrasting Perspectives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2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Overarching 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Rectangle 5"/>
          <p:cNvGrpSpPr/>
          <p:nvPr/>
        </p:nvGrpSpPr>
        <p:grpSpPr>
          <a:xfrm>
            <a:off x="2073240" y="1262160"/>
            <a:ext cx="6516720" cy="176040"/>
            <a:chOff x="2073240" y="1262160"/>
            <a:chExt cx="6516720" cy="176040"/>
          </a:xfrm>
        </p:grpSpPr>
        <p:pic>
          <p:nvPicPr>
            <p:cNvPr id="530" name="Rectangle 5" descr=""/>
            <p:cNvPicPr/>
            <p:nvPr/>
          </p:nvPicPr>
          <p:blipFill>
            <a:blip r:embed="rId3"/>
            <a:stretch/>
          </p:blipFill>
          <p:spPr>
            <a:xfrm>
              <a:off x="2073240" y="1262160"/>
              <a:ext cx="65167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133720" y="129528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7"/>
          <p:cNvSpPr/>
          <p:nvPr/>
        </p:nvSpPr>
        <p:spPr>
          <a:xfrm>
            <a:off x="2057400" y="2666880"/>
            <a:ext cx="327672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ducation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with Disabilities Education Act (IDE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5486400" y="2666880"/>
            <a:ext cx="33526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ntal Health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agnostic &amp; Statistical Manual (DS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A6A1-745B-43C1-8324-3FFE37CEC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1" descr="http://www.optalink.com.my/Images/our_business_system_integration.jpg"/>
          <p:cNvPicPr/>
          <p:nvPr/>
        </p:nvPicPr>
        <p:blipFill>
          <a:blip r:embed="rId1"/>
          <a:stretch/>
        </p:blipFill>
        <p:spPr>
          <a:xfrm>
            <a:off x="6321600" y="4492800"/>
            <a:ext cx="1536480" cy="16887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http://www.optalink.com.my/Images/our_business_system_integration.jpg"/>
          <p:cNvPicPr/>
          <p:nvPr/>
        </p:nvPicPr>
        <p:blipFill>
          <a:blip r:embed="rId2"/>
          <a:stretch/>
        </p:blipFill>
        <p:spPr>
          <a:xfrm>
            <a:off x="2054160" y="3956040"/>
            <a:ext cx="1994040" cy="268272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3"/>
          <p:cNvSpPr/>
          <p:nvPr/>
        </p:nvSpPr>
        <p:spPr>
          <a:xfrm>
            <a:off x="2209680" y="228600"/>
            <a:ext cx="6248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ntrasting Perspectives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200"/>
            </a:br>
            <a:r>
              <a:rPr b="0" lang="en-US" sz="3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nceptual Framework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Rectangle 4"/>
          <p:cNvGrpSpPr/>
          <p:nvPr/>
        </p:nvGrpSpPr>
        <p:grpSpPr>
          <a:xfrm>
            <a:off x="2073240" y="1262160"/>
            <a:ext cx="6516720" cy="176040"/>
            <a:chOff x="2073240" y="1262160"/>
            <a:chExt cx="6516720" cy="176040"/>
          </a:xfrm>
        </p:grpSpPr>
        <p:pic>
          <p:nvPicPr>
            <p:cNvPr id="539" name="Rectangle 4" descr=""/>
            <p:cNvPicPr/>
            <p:nvPr/>
          </p:nvPicPr>
          <p:blipFill>
            <a:blip r:embed="rId3"/>
            <a:stretch/>
          </p:blipFill>
          <p:spPr>
            <a:xfrm>
              <a:off x="2073240" y="1262160"/>
              <a:ext cx="65167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2133720" y="129528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5"/>
          <p:cNvSpPr/>
          <p:nvPr/>
        </p:nvSpPr>
        <p:spPr>
          <a:xfrm>
            <a:off x="2057400" y="2666880"/>
            <a:ext cx="32767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ducation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havior Disorder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llenging Behavior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ademic Defic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5486400" y="2666880"/>
            <a:ext cx="335268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ntal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sychopatholog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normal Behavio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aired functio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A2EC-2D46-45DB-8428-D892213A8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the_simpsons.10x21.monty_cant_buy_me_love"/>
          <p:cNvPicPr/>
          <p:nvPr/>
        </p:nvPicPr>
        <p:blipFill>
          <a:blip r:embed="rId1"/>
          <a:stretch/>
        </p:blipFill>
        <p:spPr>
          <a:xfrm>
            <a:off x="2286000" y="990720"/>
            <a:ext cx="609588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390C-3D12-4C5B-A644-100989D97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1" descr="http://www.optalink.com.my/Images/our_business_system_integration.jpg"/>
          <p:cNvPicPr/>
          <p:nvPr/>
        </p:nvPicPr>
        <p:blipFill>
          <a:blip r:embed="rId1"/>
          <a:stretch/>
        </p:blipFill>
        <p:spPr>
          <a:xfrm>
            <a:off x="6699240" y="4797360"/>
            <a:ext cx="1536840" cy="1689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1" descr="http://www.optalink.com.my/Images/our_business_system_integration.jpg"/>
          <p:cNvPicPr/>
          <p:nvPr/>
        </p:nvPicPr>
        <p:blipFill>
          <a:blip r:embed="rId2"/>
          <a:stretch/>
        </p:blipFill>
        <p:spPr>
          <a:xfrm>
            <a:off x="2054160" y="3956040"/>
            <a:ext cx="1994040" cy="26827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2209680" y="228600"/>
            <a:ext cx="6248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ntrasting Perspectives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200"/>
            </a:br>
            <a:r>
              <a:rPr b="0" lang="en-US" sz="3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mportant Theoretical Infl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Rectangle 4"/>
          <p:cNvGrpSpPr/>
          <p:nvPr/>
        </p:nvGrpSpPr>
        <p:grpSpPr>
          <a:xfrm>
            <a:off x="2073240" y="1262160"/>
            <a:ext cx="6516720" cy="176040"/>
            <a:chOff x="2073240" y="1262160"/>
            <a:chExt cx="6516720" cy="176040"/>
          </a:xfrm>
        </p:grpSpPr>
        <p:pic>
          <p:nvPicPr>
            <p:cNvPr id="550" name="Rectangle 4" descr=""/>
            <p:cNvPicPr/>
            <p:nvPr/>
          </p:nvPicPr>
          <p:blipFill>
            <a:blip r:embed="rId3"/>
            <a:stretch/>
          </p:blipFill>
          <p:spPr>
            <a:xfrm>
              <a:off x="2073240" y="1262160"/>
              <a:ext cx="65167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2133720" y="129528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5"/>
          <p:cNvSpPr/>
          <p:nvPr/>
        </p:nvSpPr>
        <p:spPr>
          <a:xfrm>
            <a:off x="2057400" y="2666880"/>
            <a:ext cx="32767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ducation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havioris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Learning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5105520" y="2665440"/>
            <a:ext cx="403848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ntal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havior Theor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gnitive Theor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al Psycholog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ological/Genetic Perspectiv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sychopharmac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1E6F-51C5-4EB2-BD63-758DA5689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1" descr="http://www.optalink.com.my/Images/our_business_system_integration.jpg"/>
          <p:cNvPicPr/>
          <p:nvPr/>
        </p:nvPicPr>
        <p:blipFill>
          <a:blip r:embed="rId1"/>
          <a:stretch/>
        </p:blipFill>
        <p:spPr>
          <a:xfrm>
            <a:off x="6626160" y="4492800"/>
            <a:ext cx="1536840" cy="1688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http://www.optalink.com.my/Images/our_business_system_integration.jpg"/>
          <p:cNvPicPr/>
          <p:nvPr/>
        </p:nvPicPr>
        <p:blipFill>
          <a:blip r:embed="rId2"/>
          <a:stretch/>
        </p:blipFill>
        <p:spPr>
          <a:xfrm>
            <a:off x="2054160" y="3956040"/>
            <a:ext cx="1994040" cy="268272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2209680" y="228600"/>
            <a:ext cx="6248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ntrasting Perspectives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200"/>
            </a:br>
            <a:r>
              <a:rPr b="0" lang="en-US" sz="3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Focus of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Rectangle 4"/>
          <p:cNvGrpSpPr/>
          <p:nvPr/>
        </p:nvGrpSpPr>
        <p:grpSpPr>
          <a:xfrm>
            <a:off x="2073240" y="1262160"/>
            <a:ext cx="6516720" cy="176040"/>
            <a:chOff x="2073240" y="1262160"/>
            <a:chExt cx="6516720" cy="176040"/>
          </a:xfrm>
        </p:grpSpPr>
        <p:pic>
          <p:nvPicPr>
            <p:cNvPr id="559" name="Rectangle 4" descr=""/>
            <p:cNvPicPr/>
            <p:nvPr/>
          </p:nvPicPr>
          <p:blipFill>
            <a:blip r:embed="rId3"/>
            <a:stretch/>
          </p:blipFill>
          <p:spPr>
            <a:xfrm>
              <a:off x="2073240" y="1262160"/>
              <a:ext cx="65167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2133720" y="129528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5"/>
          <p:cNvSpPr/>
          <p:nvPr/>
        </p:nvSpPr>
        <p:spPr>
          <a:xfrm>
            <a:off x="1981080" y="2666880"/>
            <a:ext cx="312444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ducation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vior Manage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 Develop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ademic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5257800" y="2666880"/>
            <a:ext cx="358128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ntal Health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ren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Emotional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C7C0-3745-44AB-A7BC-692A5DFE0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1" descr="http://www.optalink.com.my/Images/our_business_system_integration.jpg"/>
          <p:cNvPicPr/>
          <p:nvPr/>
        </p:nvPicPr>
        <p:blipFill>
          <a:blip r:embed="rId1"/>
          <a:stretch/>
        </p:blipFill>
        <p:spPr>
          <a:xfrm>
            <a:off x="5632560" y="4797360"/>
            <a:ext cx="1536480" cy="16891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1" descr="http://www.optalink.com.my/Images/our_business_system_integration.jpg"/>
          <p:cNvPicPr/>
          <p:nvPr/>
        </p:nvPicPr>
        <p:blipFill>
          <a:blip r:embed="rId2"/>
          <a:stretch/>
        </p:blipFill>
        <p:spPr>
          <a:xfrm>
            <a:off x="3425760" y="3956040"/>
            <a:ext cx="1994040" cy="26827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http://www.optalink.com.my/Images/our_business_system_integration.jpg"/>
          <p:cNvPicPr/>
          <p:nvPr/>
        </p:nvPicPr>
        <p:blipFill>
          <a:blip r:embed="rId3"/>
          <a:srcRect l="9897" t="2671" r="7629" b="4006"/>
          <a:stretch/>
        </p:blipFill>
        <p:spPr>
          <a:xfrm>
            <a:off x="3429000" y="411480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2"/>
          <p:cNvSpPr/>
          <p:nvPr/>
        </p:nvSpPr>
        <p:spPr>
          <a:xfrm>
            <a:off x="2362320" y="2362320"/>
            <a:ext cx="6019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800" spc="-1" strike="noStrike" u="sng">
                <a:solidFill>
                  <a:srgbClr val="397e35"/>
                </a:solidFill>
                <a:uFillTx/>
                <a:latin typeface="Calibri"/>
                <a:ea typeface="Arial"/>
              </a:rPr>
              <a:t>Education / Mental Health System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mproving Social and Adaptive Functi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mportance of and Need to Increase Availability, Access, and Rang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2209680" y="228600"/>
            <a:ext cx="6248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ontrasting Perspectives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200"/>
            </a:br>
            <a:r>
              <a:rPr b="0" lang="en-US" sz="3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on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Rectangle 4"/>
          <p:cNvGrpSpPr/>
          <p:nvPr/>
        </p:nvGrpSpPr>
        <p:grpSpPr>
          <a:xfrm>
            <a:off x="2073240" y="1262160"/>
            <a:ext cx="6516720" cy="176040"/>
            <a:chOff x="2073240" y="1262160"/>
            <a:chExt cx="6516720" cy="176040"/>
          </a:xfrm>
        </p:grpSpPr>
        <p:pic>
          <p:nvPicPr>
            <p:cNvPr id="570" name="Rectangle 4" descr=""/>
            <p:cNvPicPr/>
            <p:nvPr/>
          </p:nvPicPr>
          <p:blipFill>
            <a:blip r:embed="rId4"/>
            <a:stretch/>
          </p:blipFill>
          <p:spPr>
            <a:xfrm>
              <a:off x="2073240" y="1262160"/>
              <a:ext cx="651672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2133720" y="1295280"/>
              <a:ext cx="6400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4318-64CB-4D4A-96BC-4723A01FD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20:38:02Z</dcterms:created>
  <dc:creator>Michael Greeson</dc:creator>
  <dc:description/>
  <dc:language>en-US</dc:language>
  <cp:lastModifiedBy>Authorised User</cp:lastModifiedBy>
  <dcterms:modified xsi:type="dcterms:W3CDTF">2010-07-06T18:23:22Z</dcterms:modified>
  <cp:revision>63</cp:revision>
  <dc:subject/>
  <dc:title>Slide 1</dc:title>
</cp:coreProperties>
</file>