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3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2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5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6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7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9D68-72B3-46DD-B627-5B725B63E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822-5A40-47BD-93F3-8EE20005D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8E1-87C0-46CD-8A7C-0F0243474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F597-6B3D-4590-8D21-B546ECAEA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E31F-80BE-495D-8723-1AAB6EC5C4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04CA3-5325-46D7-9CB2-093CC8C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690D4-BD6C-4D67-8EB6-818A9761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82CFB-AA73-442E-B390-B64A577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626F7-699C-4DAF-A204-31D79ED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D8E9D-93B6-4771-8F6A-91D1628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737C2-3A81-4A1D-8826-C20F4B6B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F1322-4B2C-4346-8089-A0783AC6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7F18D-B6E0-4AA6-B466-D5B2C1FE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355AB-4E88-4B96-A20D-75808846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94686-27CF-4AEE-A31A-569DB44E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B6FE-F315-4119-9EF1-CC2977094E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5B5C2-6B4D-4A80-8174-1402136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69974-A3E5-490F-A66B-9362070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610EF-4194-42CB-9256-95037779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2B113-3342-4A2A-A462-28A5941F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0DEE6-1E0A-47D4-B84F-DF0A3D2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4ED36-F66F-4F3B-A6E1-92A6175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9CAC5-FCAB-4442-A876-03C3BEC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E3F97-6670-4102-A34D-8171CAF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5E4C6-35A2-48AB-877C-CCABEFA6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ECE35-0ACE-4094-9328-3D8FAC06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B64C-5F91-4A35-87DF-FF3ACC891BC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44431-4697-4521-9D31-194E5CAD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B91F10-6E10-434A-8949-00B422FE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C753BF-B51B-4A5F-95FC-43524376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C78855-D72A-419C-B5C9-07A87FB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EA3606-94A3-4828-B323-AA7EECA3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990B3D-C662-4760-A6C2-4EDF81D2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20A6E1-2EB0-407B-921E-FE96057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72324C-8ABE-4F2A-A647-9EFB856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83768E-0EF8-441C-B528-2B3E122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30F6FF-BE8A-4C23-BC79-A90F52D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BC631-F2D2-40AE-BF1D-E1260CF1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B5B31C-900B-4521-A9AF-FD449A4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99711C-3EE5-4717-A455-794C9B41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C00197-6D1C-4322-A6C8-DC7174C4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98850-C8F6-4F60-B802-58155A8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90CD2-3747-4456-853D-A0DA625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FB259-874F-4C03-9DC5-949D339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56C73-8AEE-42A2-BDBB-ADF008D1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B3080-9A90-432F-9D7E-480A99D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F3C38-00FF-49F3-BCE2-95EE969A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A8B7D-BECF-4EEF-9854-EF2DE88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D533A-3E61-47B5-B2DA-0D6765D9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4E6E0-F90F-4CEB-A49F-BB8EE59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F83DD-3618-4DDF-99A2-DAA82D56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80A0C-19E4-4591-A94F-6363CC47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52D3A-5FA2-4B0C-BA1A-2667AEB1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04959-4F05-44C3-A4D5-C3845CCC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1029D-8004-49C6-AC82-2B934B23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E0994-8E77-4B5E-B948-C9C4B85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47AC4-EA6D-45DC-8BB0-50951AA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AD3B2-20EF-4D80-965B-B8B395CA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CD911-A569-4BFC-B78C-521B6C6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1F10-A940-4FD4-B621-2A4F414B9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FA8E-D366-4984-872F-CED1CAA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0FE96-1434-475A-A858-E61E9BB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6F17E-7547-4D45-8D83-4D553506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440A1-BA63-4918-8A27-9D03B046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B968-C1DE-4771-B0D0-C82830E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423CB-2626-4490-AE4D-6E2C1A2F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FA3C5-4D87-4F41-9D15-3A054C3C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6C659-4D30-4ABE-A92F-F22F55E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DF8A3-4D40-4FFB-8AC7-212BFF0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45072-ABF6-4645-BD9B-EC4B9399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F8F6-939C-443C-BC6B-AD16340B80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2324B-8E5D-40AA-A3EF-98E2E32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5D75E-FC24-4F61-80D5-9385282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5492E-C63B-44BC-9EFE-2C01681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05BE6-238C-45A4-9097-151ED727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538DF-DAF5-48D3-9378-2EB3B21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AF262-1A4A-4E73-8C68-1F0591CD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8CFD4-5513-4D2C-A88E-EE8E17E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C46FB-9E77-4221-870F-E478DDB2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69A91-78E7-4FFC-BF12-6FDC49C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A136D-6D0A-42CA-85DD-A87CBCAD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7D40-3511-409A-A30A-FBBCEB97B9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2E5E2-C27E-46A2-B470-6AEBF4AD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70CCC-4BA4-4546-8A08-1C846B7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2896E-AC0E-434C-92D9-0200437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6018C-FCA9-4793-BC6C-C454169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B46A4-9626-4BF6-817E-F2392677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5594F-F9B2-4D14-ADB6-D7BE2E2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E144F-F4A1-4802-A90C-B5ED0B63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F25F4-E4C6-4DBD-96BD-916F964E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489D6-1220-4B2D-9B2B-F0D86E86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A2F854-C2B7-4A49-A969-60B083E3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5793-24C0-4FB3-8976-EF2622F612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F576A-EA06-490D-A1BD-1801866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0307A4-6016-4E0C-AC43-FBFD938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2559C5-95A1-4C86-9D24-040378E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CBC9A-E9DD-4E49-B783-38148173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CE4B3-E958-4FB9-875A-18520FB3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6B432-E756-43E7-8EDD-A207BCA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606BD-EB98-4142-BD58-8BA226E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FDCBE-9148-436C-A083-38E835B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90091E-B3B5-49C2-81A0-0AB5EC41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7CE6F-16AF-4572-A00F-B589782F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BFA6-F400-497D-AE3C-114F23B73C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05F795-0F5C-4759-8E45-167B9DBE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71543-9E32-4154-8251-C402029E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48117-300D-4BA3-81CB-455BB4C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C399C-506B-494E-93FC-981EAE41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A0E72-74C6-4333-8460-36FEB12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7A03A-077D-40CA-AA3A-28DFD96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45783-A198-49FB-9CEA-00C4C60C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623CD-481E-45B1-8691-EE75493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8BE04D-E9DE-49E9-8CCE-1F9B78C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9EAC6-C549-47BE-8546-45C5B532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74E1-2794-47C5-9787-5DDBD5FB82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E4CBAF-4CEF-499B-96E4-5018C6DB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DF9EA-1C33-4A8E-B8AD-3F7245B5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727E0-A509-4531-9125-4F4D0671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3799D-4A70-4980-85FD-1DCAAE15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30127-71C8-494E-AAFC-4E69182F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5C693-1EFD-4447-87D9-9B0D431C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AF42F8-1FCB-4DFE-9281-A34DFCB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E6E6A-B485-416A-AE9E-DA577FF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BB026-9AE2-4F2B-9E70-87DCEE5E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F80D03-E6BD-496F-98C6-A01E5B5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EDB5-5D32-4CAE-83BA-5A8201BF6F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D43FF-F622-45C0-9008-963EE3D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E3238-F24C-48ED-89B8-1D49A2D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56D16-3CAA-4812-82B0-6910387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73DB2-5701-4426-B1C8-7F8897C0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9C665-31BE-484C-ACEF-B4F50755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BF1BE0-3664-46F9-BA71-FAD64342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D5E29-1027-4F15-AA9C-3304E32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8BBF9C-6583-470B-8143-C8B07A4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8F9FBB-B97B-469A-BDA5-62A02CC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A91F0-2F05-4A53-AD17-A905B12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C650-B3B0-46A1-942E-C405461CF3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78383-1A4F-4C6F-9A1D-885EAF72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00A62A-2B3C-48F6-810F-4460E61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D7606-D0CB-486C-80C8-95400D3E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4E8187-2153-4F3D-839F-6000549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03EB95-8EFE-4D6D-B5AC-94C39DD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A9323-4D52-4355-AFBA-7302B64E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7E14E7-96FD-443E-B9CA-38EB3F52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317E3-5B89-4D4A-A8C0-149982EE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E6D5D-CB55-42B3-B9AE-935311EC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AAA58-95B9-4992-AC70-36B4124C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DF6E-319A-4024-916E-8D44A7675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9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F78A-11E4-4014-B25F-CA53A7C087C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950F-1B05-445A-B6C1-5389B65F6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1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1692-5E30-439F-B10F-8DD2745DCB6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472F-8E5F-49C6-9D8A-63AC55E72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3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F3A1-4603-40E9-8EB9-CA5213A94AA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7E4-B6CC-4947-91CD-3DE77BB4C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89A-C5C6-4A29-B433-C60FE92EF46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B2D-E676-4351-AB4C-3409AF730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EE1-4A3C-48C9-A775-001F8FC1614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27B-755B-464F-8D5D-04E29EBF3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E24F-9C80-43C1-A259-29FF17E1578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C7AB-4C54-4709-9149-25157756E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7FE-5EC4-4DCD-9641-ACFDF1232CC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1E40-C7C0-42CB-89C6-80442521F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1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ED5-C97E-4F9D-BA41-7250B3A0B23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669-B0BE-4F8A-94F9-0517488FF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F874-9416-46DD-BCFD-53996FE7C3C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5428-0AF8-4F63-9BDA-DBD0A3CDA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5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703-5440-4767-9DDF-168159A0FAA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AF5D-457F-481B-869C-853292528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5BCA-9732-4807-8AD9-FC2C0E56CBD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A8B-3414-48BF-A7CA-17E2FE5E5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2.wordpress.com/?id=725X1342&amp;site=startupblog.wordpress.com&amp;url=http://startupblog.files.wordpress.com/2008/04/focus-hands.jpg&amp;sref=http://startupblog.wordpress.com/2008/04/25/entrepreneurial-focus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1905120" y="4572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ddressing Behavior Disorders in Schoo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Integration of Education and Mental Heal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057400" y="57150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Institute of Education Sciences (IES) 5th Annual Research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une 2010 - National Harbor,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Rectangle 6"/>
          <p:cNvGrpSpPr/>
          <p:nvPr/>
        </p:nvGrpSpPr>
        <p:grpSpPr>
          <a:xfrm>
            <a:off x="2000160" y="1719360"/>
            <a:ext cx="6515280" cy="182520"/>
            <a:chOff x="2000160" y="1719360"/>
            <a:chExt cx="6515280" cy="182520"/>
          </a:xfrm>
        </p:grpSpPr>
        <p:pic>
          <p:nvPicPr>
            <p:cNvPr id="514" name="Rectangle 6" descr=""/>
            <p:cNvPicPr/>
            <p:nvPr/>
          </p:nvPicPr>
          <p:blipFill>
            <a:blip r:embed="rId1"/>
            <a:stretch/>
          </p:blipFill>
          <p:spPr>
            <a:xfrm>
              <a:off x="2000160" y="171936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057400" y="17557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5"/>
          <p:cNvSpPr/>
          <p:nvPr/>
        </p:nvSpPr>
        <p:spPr>
          <a:xfrm>
            <a:off x="3124080" y="3352680"/>
            <a:ext cx="4572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bert J. Duchnowski, Ph.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sta Kutash, Ph.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artment of Child &amp; Family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South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61A-30A7-44FD-8ACE-C2B7DC0A3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onSequitur - Been there Done that - highway"/>
          <p:cNvPicPr/>
          <p:nvPr/>
        </p:nvPicPr>
        <p:blipFill>
          <a:blip r:embed="rId1"/>
          <a:stretch/>
        </p:blipFill>
        <p:spPr>
          <a:xfrm>
            <a:off x="2165400" y="1447920"/>
            <a:ext cx="4889520" cy="36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D47-B372-43D1-BF0D-25D0B4D50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1"/>
          <p:cNvSpPr/>
          <p:nvPr/>
        </p:nvSpPr>
        <p:spPr>
          <a:xfrm>
            <a:off x="2362320" y="38088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cusing School-Based Mental Health Services On the Core Foundation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mo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http://s.chakpak.com/se_images/114888_-1_564_none/shhhhh-quiet-everyone-study-wallpaper.jpg"/>
          <p:cNvPicPr/>
          <p:nvPr/>
        </p:nvPicPr>
        <p:blipFill>
          <a:blip r:embed="rId1"/>
          <a:stretch/>
        </p:blipFill>
        <p:spPr>
          <a:xfrm>
            <a:off x="3429000" y="2590920"/>
            <a:ext cx="4267080" cy="3700440"/>
          </a:xfrm>
          <a:prstGeom prst="rect">
            <a:avLst/>
          </a:prstGeom>
          <a:ln w="0">
            <a:noFill/>
          </a:ln>
        </p:spPr>
      </p:pic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8EA5-A63D-460D-8F94-8ED37377B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1"/>
          <p:cNvSpPr/>
          <p:nvPr/>
        </p:nvSpPr>
        <p:spPr>
          <a:xfrm>
            <a:off x="2362320" y="3049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ols have the inh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acity to bridge home and neighborhood ec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Bridge of Sighs"/>
          <p:cNvPicPr/>
          <p:nvPr/>
        </p:nvPicPr>
        <p:blipFill>
          <a:blip r:embed="rId1"/>
          <a:stretch/>
        </p:blipFill>
        <p:spPr>
          <a:xfrm>
            <a:off x="3328920" y="1792440"/>
            <a:ext cx="4303800" cy="3541680"/>
          </a:xfrm>
          <a:prstGeom prst="rect">
            <a:avLst/>
          </a:prstGeom>
          <a:ln w="0">
            <a:noFill/>
          </a:ln>
        </p:spPr>
      </p:pic>
      <p:sp>
        <p:nvSpPr>
          <p:cNvPr id="580" name="TextBox 5"/>
          <p:cNvSpPr/>
          <p:nvPr/>
        </p:nvSpPr>
        <p:spPr>
          <a:xfrm>
            <a:off x="2514600" y="528804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ols are the ‘de facto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’s mental health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570-2454-49C0-B459-55D60856A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437920" y="274680"/>
            <a:ext cx="6248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focused Role of Mental Health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8120" y="2174760"/>
            <a:ext cx="579096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eachers: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imary Change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Health Providers Become: 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ducational Enhanc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 the Core Function of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ing Social/Emotional Development, no Longer Tang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2" descr="http://startupblog.files.wordpress.com/2008/04/focus-hands.jpg?w=240&amp;h=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09680"/>
            <a:ext cx="2666880" cy="333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B01-B868-4213-80A3-AD26F92E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1"/>
          <p:cNvSpPr/>
          <p:nvPr/>
        </p:nvSpPr>
        <p:spPr>
          <a:xfrm>
            <a:off x="1905120" y="0"/>
            <a:ext cx="7238880" cy="68580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Oval 3"/>
          <p:cNvGrpSpPr/>
          <p:nvPr/>
        </p:nvGrpSpPr>
        <p:grpSpPr>
          <a:xfrm>
            <a:off x="2114640" y="133200"/>
            <a:ext cx="6669000" cy="6516720"/>
            <a:chOff x="2114640" y="133200"/>
            <a:chExt cx="6669000" cy="6516720"/>
          </a:xfrm>
        </p:grpSpPr>
        <p:pic>
          <p:nvPicPr>
            <p:cNvPr id="588" name="Oval 3" descr=""/>
            <p:cNvPicPr/>
            <p:nvPr/>
          </p:nvPicPr>
          <p:blipFill>
            <a:blip r:embed="rId1"/>
            <a:stretch/>
          </p:blipFill>
          <p:spPr>
            <a:xfrm>
              <a:off x="2114640" y="133200"/>
              <a:ext cx="6669000" cy="65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3265560" y="1262160"/>
              <a:ext cx="4365720" cy="42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Rounded Rectangle 12"/>
          <p:cNvGrpSpPr/>
          <p:nvPr/>
        </p:nvGrpSpPr>
        <p:grpSpPr>
          <a:xfrm>
            <a:off x="3316320" y="3889440"/>
            <a:ext cx="1468440" cy="1158840"/>
            <a:chOff x="3316320" y="3889440"/>
            <a:chExt cx="1468440" cy="1158840"/>
          </a:xfrm>
        </p:grpSpPr>
        <p:pic>
          <p:nvPicPr>
            <p:cNvPr id="591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3316320" y="3889440"/>
              <a:ext cx="14684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400560" y="4041720"/>
              <a:ext cx="119988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lations wi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e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Picture 4" descr="http://www.brisbanefreemasons.net/media/pillar.png"/>
          <p:cNvPicPr/>
          <p:nvPr/>
        </p:nvPicPr>
        <p:blipFill>
          <a:blip r:embed="rId3"/>
          <a:stretch/>
        </p:blipFill>
        <p:spPr>
          <a:xfrm>
            <a:off x="3581280" y="2514600"/>
            <a:ext cx="862200" cy="146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94" name="Rounded Rectangle 14"/>
          <p:cNvGrpSpPr/>
          <p:nvPr/>
        </p:nvGrpSpPr>
        <p:grpSpPr>
          <a:xfrm>
            <a:off x="4761000" y="3889440"/>
            <a:ext cx="1468440" cy="1158840"/>
            <a:chOff x="4761000" y="3889440"/>
            <a:chExt cx="1468440" cy="1158840"/>
          </a:xfrm>
        </p:grpSpPr>
        <p:pic>
          <p:nvPicPr>
            <p:cNvPr id="595" name="Rounded Rectangle 14" descr=""/>
            <p:cNvPicPr/>
            <p:nvPr/>
          </p:nvPicPr>
          <p:blipFill>
            <a:blip r:embed="rId4"/>
            <a:stretch/>
          </p:blipFill>
          <p:spPr>
            <a:xfrm>
              <a:off x="4761000" y="3889440"/>
              <a:ext cx="14684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4848120" y="4041720"/>
              <a:ext cx="12002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lations with Teac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Rounded Rectangle 15"/>
          <p:cNvGrpSpPr/>
          <p:nvPr/>
        </p:nvGrpSpPr>
        <p:grpSpPr>
          <a:xfrm>
            <a:off x="6218280" y="3889440"/>
            <a:ext cx="1584360" cy="1158840"/>
            <a:chOff x="6218280" y="3889440"/>
            <a:chExt cx="1584360" cy="1158840"/>
          </a:xfrm>
        </p:grpSpPr>
        <p:pic>
          <p:nvPicPr>
            <p:cNvPr id="598" name="Rounded Rectangle 15" descr=""/>
            <p:cNvPicPr/>
            <p:nvPr/>
          </p:nvPicPr>
          <p:blipFill>
            <a:blip r:embed="rId5"/>
            <a:stretch/>
          </p:blipFill>
          <p:spPr>
            <a:xfrm>
              <a:off x="6218280" y="3889440"/>
              <a:ext cx="15843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6296040" y="4041720"/>
              <a:ext cx="1352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lations with Par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Picture 4" descr="http://www.brisbanefreemasons.net/media/pillar.png"/>
          <p:cNvPicPr/>
          <p:nvPr/>
        </p:nvPicPr>
        <p:blipFill>
          <a:blip r:embed="rId6"/>
          <a:stretch/>
        </p:blipFill>
        <p:spPr>
          <a:xfrm>
            <a:off x="5005440" y="2523960"/>
            <a:ext cx="861840" cy="146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1" name="Picture 4" descr="http://www.brisbanefreemasons.net/media/pillar.png"/>
          <p:cNvPicPr/>
          <p:nvPr/>
        </p:nvPicPr>
        <p:blipFill>
          <a:blip r:embed="rId7"/>
          <a:stretch/>
        </p:blipFill>
        <p:spPr>
          <a:xfrm>
            <a:off x="6529320" y="2523960"/>
            <a:ext cx="862200" cy="146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02" name="Rectangle 10"/>
          <p:cNvGrpSpPr/>
          <p:nvPr/>
        </p:nvGrpSpPr>
        <p:grpSpPr>
          <a:xfrm>
            <a:off x="3444840" y="1974960"/>
            <a:ext cx="4078440" cy="615960"/>
            <a:chOff x="3444840" y="1974960"/>
            <a:chExt cx="4078440" cy="615960"/>
          </a:xfrm>
        </p:grpSpPr>
        <p:pic>
          <p:nvPicPr>
            <p:cNvPr id="603" name="Rectangle 10" descr=""/>
            <p:cNvPicPr/>
            <p:nvPr/>
          </p:nvPicPr>
          <p:blipFill>
            <a:blip r:embed="rId8"/>
            <a:stretch/>
          </p:blipFill>
          <p:spPr>
            <a:xfrm>
              <a:off x="3444840" y="1974960"/>
              <a:ext cx="4078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05320" y="2057400"/>
              <a:ext cx="396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cademic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Rectangle 5" descr=""/>
          <p:cNvPicPr/>
          <p:nvPr/>
        </p:nvPicPr>
        <p:blipFill>
          <a:blip r:embed="rId9"/>
          <a:stretch/>
        </p:blipFill>
        <p:spPr>
          <a:xfrm>
            <a:off x="2475000" y="811080"/>
            <a:ext cx="5956200" cy="5712120"/>
          </a:xfrm>
          <a:prstGeom prst="rect">
            <a:avLst/>
          </a:prstGeom>
          <a:ln w="0">
            <a:noFill/>
          </a:ln>
        </p:spPr>
      </p:pic>
      <p:sp>
        <p:nvSpPr>
          <p:cNvPr id="606" name="Down Arrow 18"/>
          <p:cNvSpPr/>
          <p:nvPr/>
        </p:nvSpPr>
        <p:spPr>
          <a:xfrm>
            <a:off x="4876920" y="1600200"/>
            <a:ext cx="114300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3429000" y="1138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to promo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7CC-483D-42BC-BED3-6E3ECB98B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teamwork_teamwork_A"/>
          <p:cNvPicPr/>
          <p:nvPr/>
        </p:nvPicPr>
        <p:blipFill>
          <a:blip r:embed="rId1"/>
          <a:stretch/>
        </p:blipFill>
        <p:spPr>
          <a:xfrm>
            <a:off x="2179800" y="1219320"/>
            <a:ext cx="6613200" cy="49593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304920" y="2895480"/>
            <a:ext cx="160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Anything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3FB-7FCF-41A6-8543-652D0E9D0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0199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Program Models with Organizational Potential for Succ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http://afalkenstein.files.wordpress.com/2009/04/tinker-toys-copy.jpg"/>
          <p:cNvPicPr/>
          <p:nvPr/>
        </p:nvPicPr>
        <p:blipFill>
          <a:blip r:embed="rId1"/>
          <a:stretch/>
        </p:blipFill>
        <p:spPr>
          <a:xfrm>
            <a:off x="2971800" y="2209680"/>
            <a:ext cx="4762440" cy="4295880"/>
          </a:xfrm>
          <a:prstGeom prst="rect">
            <a:avLst/>
          </a:prstGeom>
          <a:ln w="0">
            <a:noFill/>
          </a:ln>
        </p:spPr>
      </p:pic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F14-9DCE-4774-9224-098937773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2514600" y="121932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armark of a quality program or organization is that it has the capacity to get and use information for continuous improvement and accountability. No program, no matter what it does, is a good program unless it is getting and using data of a variety of sorts, from a variety of places, and in an ongoing way to see if there are ways it can do bett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iss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Text Box 4" descr=""/>
          <p:cNvPicPr/>
          <p:nvPr/>
        </p:nvPicPr>
        <p:blipFill>
          <a:blip r:embed="rId1"/>
          <a:stretch/>
        </p:blipFill>
        <p:spPr>
          <a:xfrm>
            <a:off x="274680" y="2901960"/>
            <a:ext cx="1755720" cy="1646280"/>
          </a:xfrm>
          <a:prstGeom prst="rect">
            <a:avLst/>
          </a:prstGeom>
          <a:ln w="0">
            <a:noFill/>
          </a:ln>
        </p:spPr>
      </p:pic>
      <p:sp>
        <p:nvSpPr>
          <p:cNvPr id="6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0FD-DFAA-405E-A75F-B9B2501F7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9979-25D6-4DA5-B5F3-3E6844117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5" descr="Rev_SWSys2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2"/>
          <p:cNvSpPr/>
          <p:nvPr/>
        </p:nvSpPr>
        <p:spPr>
          <a:xfrm>
            <a:off x="0" y="6248520"/>
            <a:ext cx="8077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itive Behavior Suppor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67BE-892E-405C-B2E0-4376DDFB2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88"/>
          <p:cNvSpPr/>
          <p:nvPr/>
        </p:nvSpPr>
        <p:spPr>
          <a:xfrm>
            <a:off x="2057400" y="266760"/>
            <a:ext cx="6781680" cy="5619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89"/>
          <p:cNvSpPr/>
          <p:nvPr/>
        </p:nvSpPr>
        <p:spPr>
          <a:xfrm>
            <a:off x="4317840" y="361800"/>
            <a:ext cx="2260800" cy="21909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90"/>
          <p:cNvSpPr/>
          <p:nvPr/>
        </p:nvSpPr>
        <p:spPr>
          <a:xfrm>
            <a:off x="4840200" y="457200"/>
            <a:ext cx="121608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1"/>
          <p:cNvSpPr/>
          <p:nvPr/>
        </p:nvSpPr>
        <p:spPr>
          <a:xfrm>
            <a:off x="4840200" y="1504800"/>
            <a:ext cx="1216080" cy="190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2"/>
          <p:cNvSpPr/>
          <p:nvPr/>
        </p:nvSpPr>
        <p:spPr>
          <a:xfrm>
            <a:off x="4317840" y="2457360"/>
            <a:ext cx="2260800" cy="190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4"/>
          <p:cNvSpPr/>
          <p:nvPr/>
        </p:nvSpPr>
        <p:spPr>
          <a:xfrm>
            <a:off x="3048120" y="3819600"/>
            <a:ext cx="16002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to Intervention (R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5"/>
          <p:cNvSpPr/>
          <p:nvPr/>
        </p:nvSpPr>
        <p:spPr>
          <a:xfrm>
            <a:off x="6340320" y="3905280"/>
            <a:ext cx="1202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bl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6"/>
          <p:cNvSpPr/>
          <p:nvPr/>
        </p:nvSpPr>
        <p:spPr>
          <a:xfrm>
            <a:off x="4419720" y="27432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roblem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7"/>
          <p:cNvSpPr/>
          <p:nvPr/>
        </p:nvSpPr>
        <p:spPr>
          <a:xfrm>
            <a:off x="4648320" y="47242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9e35"/>
                </a:solidFill>
                <a:latin typeface="Arial"/>
              </a:rPr>
              <a:t>Imple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98"/>
          <p:cNvGrpSpPr/>
          <p:nvPr/>
        </p:nvGrpSpPr>
        <p:grpSpPr>
          <a:xfrm>
            <a:off x="4424400" y="3400920"/>
            <a:ext cx="774720" cy="960840"/>
            <a:chOff x="4424400" y="3400920"/>
            <a:chExt cx="774720" cy="960840"/>
          </a:xfrm>
        </p:grpSpPr>
        <p:sp>
          <p:nvSpPr>
            <p:cNvPr id="632" name="Arc 99"/>
            <p:cNvSpPr/>
            <p:nvPr/>
          </p:nvSpPr>
          <p:spPr>
            <a:xfrm flipH="1" rot="18727800">
              <a:off x="4529160" y="3706560"/>
              <a:ext cx="565200" cy="533520"/>
            </a:xfrm>
            <a:custGeom>
              <a:avLst/>
              <a:gdLst>
                <a:gd name="textAreaLeft" fmla="*/ 360 w 565200"/>
                <a:gd name="textAreaRight" fmla="*/ 565920 w 5652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100"/>
            <p:cNvSpPr/>
            <p:nvPr/>
          </p:nvSpPr>
          <p:spPr>
            <a:xfrm flipH="1" rot="2790000">
              <a:off x="4705560" y="3453480"/>
              <a:ext cx="244080" cy="22932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101"/>
          <p:cNvGrpSpPr/>
          <p:nvPr/>
        </p:nvGrpSpPr>
        <p:grpSpPr>
          <a:xfrm>
            <a:off x="5629320" y="3530880"/>
            <a:ext cx="775080" cy="960840"/>
            <a:chOff x="5629320" y="3530880"/>
            <a:chExt cx="775080" cy="960840"/>
          </a:xfrm>
        </p:grpSpPr>
        <p:sp>
          <p:nvSpPr>
            <p:cNvPr id="635" name="Arc 102"/>
            <p:cNvSpPr/>
            <p:nvPr/>
          </p:nvSpPr>
          <p:spPr>
            <a:xfrm flipV="1" rot="18727800">
              <a:off x="5734080" y="3652200"/>
              <a:ext cx="565560" cy="53352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03"/>
            <p:cNvSpPr/>
            <p:nvPr/>
          </p:nvSpPr>
          <p:spPr>
            <a:xfrm flipV="1" rot="2790000">
              <a:off x="5877000" y="4209480"/>
              <a:ext cx="244080" cy="229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04"/>
          <p:cNvGrpSpPr/>
          <p:nvPr/>
        </p:nvGrpSpPr>
        <p:grpSpPr>
          <a:xfrm>
            <a:off x="5036400" y="2890800"/>
            <a:ext cx="962280" cy="785880"/>
            <a:chOff x="5036400" y="2890800"/>
            <a:chExt cx="962280" cy="785880"/>
          </a:xfrm>
        </p:grpSpPr>
        <p:sp>
          <p:nvSpPr>
            <p:cNvPr id="638" name="Arc 105"/>
            <p:cNvSpPr/>
            <p:nvPr/>
          </p:nvSpPr>
          <p:spPr>
            <a:xfrm flipH="1" rot="2527800">
              <a:off x="5149800" y="3006720"/>
              <a:ext cx="559080" cy="554040"/>
            </a:xfrm>
            <a:custGeom>
              <a:avLst/>
              <a:gdLst>
                <a:gd name="textAreaLeft" fmla="*/ -360 w 559080"/>
                <a:gd name="textAreaRight" fmla="*/ 559080 w 559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06"/>
            <p:cNvSpPr/>
            <p:nvPr/>
          </p:nvSpPr>
          <p:spPr>
            <a:xfrm flipH="1" rot="8190000">
              <a:off x="5709240" y="3181680"/>
              <a:ext cx="240480" cy="2379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07"/>
          <p:cNvGrpSpPr/>
          <p:nvPr/>
        </p:nvGrpSpPr>
        <p:grpSpPr>
          <a:xfrm>
            <a:off x="4893120" y="4147200"/>
            <a:ext cx="938520" cy="777240"/>
            <a:chOff x="4893120" y="4147200"/>
            <a:chExt cx="938520" cy="777240"/>
          </a:xfrm>
        </p:grpSpPr>
        <p:sp>
          <p:nvSpPr>
            <p:cNvPr id="641" name="Arc 108"/>
            <p:cNvSpPr/>
            <p:nvPr/>
          </p:nvSpPr>
          <p:spPr>
            <a:xfrm flipV="1" rot="2527800">
              <a:off x="5176080" y="4253400"/>
              <a:ext cx="535320" cy="56376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360 h 563760"/>
                <a:gd name="textAreaBottom" fmla="*/ 564480 h 56376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e5d5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109"/>
            <p:cNvSpPr/>
            <p:nvPr/>
          </p:nvSpPr>
          <p:spPr>
            <a:xfrm flipV="1" rot="8190000">
              <a:off x="4944960" y="4395600"/>
              <a:ext cx="231120" cy="243360"/>
            </a:xfrm>
            <a:prstGeom prst="triangle">
              <a:avLst>
                <a:gd name="adj" fmla="val 50000"/>
              </a:avLst>
            </a:prstGeom>
            <a:solidFill>
              <a:srgbClr val="e5d508"/>
            </a:solidFill>
            <a:ln w="9360">
              <a:solidFill>
                <a:srgbClr val="e5d5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 Box 111"/>
          <p:cNvSpPr/>
          <p:nvPr/>
        </p:nvSpPr>
        <p:spPr>
          <a:xfrm>
            <a:off x="7977240" y="2870280"/>
            <a:ext cx="13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12"/>
          <p:cNvGrpSpPr/>
          <p:nvPr/>
        </p:nvGrpSpPr>
        <p:grpSpPr>
          <a:xfrm>
            <a:off x="5240160" y="893880"/>
            <a:ext cx="309600" cy="248760"/>
            <a:chOff x="5240160" y="893880"/>
            <a:chExt cx="309600" cy="248760"/>
          </a:xfrm>
        </p:grpSpPr>
        <p:sp>
          <p:nvSpPr>
            <p:cNvPr id="645" name="Arc 113"/>
            <p:cNvSpPr/>
            <p:nvPr/>
          </p:nvSpPr>
          <p:spPr>
            <a:xfrm flipH="1" rot="2527800">
              <a:off x="5273280" y="933120"/>
              <a:ext cx="182880" cy="169920"/>
            </a:xfrm>
            <a:custGeom>
              <a:avLst/>
              <a:gdLst>
                <a:gd name="textAreaLeft" fmla="*/ 360 w 182880"/>
                <a:gd name="textAreaRight" fmla="*/ 183600 w 182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14"/>
            <p:cNvSpPr/>
            <p:nvPr/>
          </p:nvSpPr>
          <p:spPr>
            <a:xfrm flipH="1" rot="8190000">
              <a:off x="5455800" y="986760"/>
              <a:ext cx="78840" cy="730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6"/>
          <p:cNvGrpSpPr/>
          <p:nvPr/>
        </p:nvGrpSpPr>
        <p:grpSpPr>
          <a:xfrm>
            <a:off x="5519520" y="1122480"/>
            <a:ext cx="237240" cy="300960"/>
            <a:chOff x="5519520" y="1122480"/>
            <a:chExt cx="237240" cy="300960"/>
          </a:xfrm>
        </p:grpSpPr>
        <p:sp>
          <p:nvSpPr>
            <p:cNvPr id="648" name="Arc 117"/>
            <p:cNvSpPr/>
            <p:nvPr/>
          </p:nvSpPr>
          <p:spPr>
            <a:xfrm flipV="1" rot="18727800">
              <a:off x="5551200" y="1159560"/>
              <a:ext cx="173160" cy="163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360 h 163440"/>
                <a:gd name="textAreaBottom" fmla="*/ 164160 h 16344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18"/>
            <p:cNvSpPr/>
            <p:nvPr/>
          </p:nvSpPr>
          <p:spPr>
            <a:xfrm flipV="1" rot="2790000">
              <a:off x="5599440" y="1335960"/>
              <a:ext cx="75600" cy="705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Arc 119"/>
          <p:cNvSpPr/>
          <p:nvPr/>
        </p:nvSpPr>
        <p:spPr>
          <a:xfrm flipV="1" rot="2527800">
            <a:off x="5360760" y="1409760"/>
            <a:ext cx="141120" cy="171360"/>
          </a:xfrm>
          <a:custGeom>
            <a:avLst/>
            <a:gdLst>
              <a:gd name="textAreaLeft" fmla="*/ 0 w 141120"/>
              <a:gd name="textAreaRight" fmla="*/ 141480 w 141120"/>
              <a:gd name="textAreaTop" fmla="*/ 360 h 171360"/>
              <a:gd name="textAreaBottom" fmla="*/ 172080 h 171360"/>
            </a:gdLst>
            <a:ahLst/>
            <a:rect l="textAreaLeft" t="textAreaTop" r="textAreaRight" b="textAreaBottom"/>
            <a:pathLst>
              <a:path fill="none" w="21600" h="2197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5"/>
                  <a:pt x="21598" y="21850"/>
                  <a:pt x="21596" y="21974"/>
                </a:cubicBezTo>
              </a:path>
              <a:path stroke="0" w="21600" h="2197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5"/>
                  <a:pt x="21598" y="21850"/>
                  <a:pt x="21596" y="21974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e5d5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20"/>
          <p:cNvGrpSpPr/>
          <p:nvPr/>
        </p:nvGrpSpPr>
        <p:grpSpPr>
          <a:xfrm>
            <a:off x="5063040" y="1109520"/>
            <a:ext cx="237960" cy="312120"/>
            <a:chOff x="5063040" y="1109520"/>
            <a:chExt cx="237960" cy="312120"/>
          </a:xfrm>
        </p:grpSpPr>
        <p:sp>
          <p:nvSpPr>
            <p:cNvPr id="652" name="Arc 121"/>
            <p:cNvSpPr/>
            <p:nvPr/>
          </p:nvSpPr>
          <p:spPr>
            <a:xfrm flipH="1" rot="18727800">
              <a:off x="5094360" y="1220400"/>
              <a:ext cx="173880" cy="16380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22"/>
            <p:cNvSpPr/>
            <p:nvPr/>
          </p:nvSpPr>
          <p:spPr>
            <a:xfrm flipH="1" rot="2790000">
              <a:off x="5148720" y="1125720"/>
              <a:ext cx="75240" cy="7092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Line 123"/>
          <p:cNvSpPr/>
          <p:nvPr/>
        </p:nvSpPr>
        <p:spPr>
          <a:xfrm>
            <a:off x="5448240" y="5315040"/>
            <a:ext cx="0" cy="12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25"/>
          <p:cNvSpPr/>
          <p:nvPr/>
        </p:nvSpPr>
        <p:spPr>
          <a:xfrm>
            <a:off x="2057400" y="5315040"/>
            <a:ext cx="6781680" cy="1238040"/>
          </a:xfrm>
          <a:prstGeom prst="flowChartSummingJunc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6"/>
          <p:cNvSpPr/>
          <p:nvPr/>
        </p:nvSpPr>
        <p:spPr>
          <a:xfrm>
            <a:off x="6477120" y="5676840"/>
            <a:ext cx="228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room-Focused En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7"/>
          <p:cNvSpPr/>
          <p:nvPr/>
        </p:nvSpPr>
        <p:spPr>
          <a:xfrm>
            <a:off x="5181480" y="5257800"/>
            <a:ext cx="201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udent/Family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28"/>
          <p:cNvSpPr/>
          <p:nvPr/>
        </p:nvSpPr>
        <p:spPr>
          <a:xfrm>
            <a:off x="5307120" y="5981760"/>
            <a:ext cx="139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sis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29"/>
          <p:cNvSpPr/>
          <p:nvPr/>
        </p:nvSpPr>
        <p:spPr>
          <a:xfrm>
            <a:off x="4138560" y="6186600"/>
            <a:ext cx="1409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30"/>
          <p:cNvSpPr/>
          <p:nvPr/>
        </p:nvSpPr>
        <p:spPr>
          <a:xfrm>
            <a:off x="1981080" y="5581800"/>
            <a:ext cx="2652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munity Outreach/Volunt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31"/>
          <p:cNvSpPr/>
          <p:nvPr/>
        </p:nvSpPr>
        <p:spPr>
          <a:xfrm>
            <a:off x="4114800" y="5238720"/>
            <a:ext cx="152388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32"/>
          <p:cNvSpPr/>
          <p:nvPr/>
        </p:nvSpPr>
        <p:spPr>
          <a:xfrm>
            <a:off x="5448240" y="5315040"/>
            <a:ext cx="0" cy="12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33"/>
          <p:cNvGrpSpPr/>
          <p:nvPr/>
        </p:nvGrpSpPr>
        <p:grpSpPr>
          <a:xfrm>
            <a:off x="4868640" y="1674720"/>
            <a:ext cx="2504880" cy="1032840"/>
            <a:chOff x="4868640" y="1674720"/>
            <a:chExt cx="2504880" cy="1032840"/>
          </a:xfrm>
        </p:grpSpPr>
        <p:sp>
          <p:nvSpPr>
            <p:cNvPr id="664" name="Arc 134"/>
            <p:cNvSpPr/>
            <p:nvPr/>
          </p:nvSpPr>
          <p:spPr>
            <a:xfrm flipH="1" rot="18727800">
              <a:off x="4928040" y="2089440"/>
              <a:ext cx="277920" cy="284760"/>
            </a:xfrm>
            <a:custGeom>
              <a:avLst/>
              <a:gdLst>
                <a:gd name="textAreaLeft" fmla="*/ 360 w 277920"/>
                <a:gd name="textAreaRight" fmla="*/ 278640 w 27792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135"/>
            <p:cNvSpPr/>
            <p:nvPr/>
          </p:nvSpPr>
          <p:spPr>
            <a:xfrm flipH="1" rot="2790000">
              <a:off x="5012280" y="1926720"/>
              <a:ext cx="119160" cy="12168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rc 136"/>
            <p:cNvSpPr/>
            <p:nvPr/>
          </p:nvSpPr>
          <p:spPr>
            <a:xfrm flipV="1" rot="18727800">
              <a:off x="5571000" y="2063520"/>
              <a:ext cx="277920" cy="2847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-360 h 284760"/>
                <a:gd name="textAreaBottom" fmla="*/ 284760 h 28476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137"/>
            <p:cNvSpPr/>
            <p:nvPr/>
          </p:nvSpPr>
          <p:spPr>
            <a:xfrm flipV="1" rot="2790000">
              <a:off x="5665320" y="2344680"/>
              <a:ext cx="120600" cy="122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38"/>
            <p:cNvGrpSpPr/>
            <p:nvPr/>
          </p:nvGrpSpPr>
          <p:grpSpPr>
            <a:xfrm>
              <a:off x="5191560" y="1693080"/>
              <a:ext cx="502200" cy="402120"/>
              <a:chOff x="5191560" y="1693080"/>
              <a:chExt cx="502200" cy="402120"/>
            </a:xfrm>
          </p:grpSpPr>
          <p:sp>
            <p:nvSpPr>
              <p:cNvPr id="669" name="Arc 139"/>
              <p:cNvSpPr/>
              <p:nvPr/>
            </p:nvSpPr>
            <p:spPr>
              <a:xfrm flipH="1" rot="2527800">
                <a:off x="5244480" y="1757520"/>
                <a:ext cx="297720" cy="272880"/>
              </a:xfrm>
              <a:custGeom>
                <a:avLst/>
                <a:gdLst>
                  <a:gd name="textAreaLeft" fmla="*/ -360 w 297720"/>
                  <a:gd name="textAreaRight" fmla="*/ 297720 w 2977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140"/>
              <p:cNvSpPr/>
              <p:nvPr/>
            </p:nvSpPr>
            <p:spPr>
              <a:xfrm flipH="1" rot="8190000">
                <a:off x="5542560" y="1843920"/>
                <a:ext cx="128160" cy="11700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41"/>
            <p:cNvGrpSpPr/>
            <p:nvPr/>
          </p:nvGrpSpPr>
          <p:grpSpPr>
            <a:xfrm>
              <a:off x="5115240" y="2310840"/>
              <a:ext cx="489600" cy="396720"/>
              <a:chOff x="5115240" y="2310840"/>
              <a:chExt cx="489600" cy="396720"/>
            </a:xfrm>
          </p:grpSpPr>
          <p:sp>
            <p:nvSpPr>
              <p:cNvPr id="672" name="Arc 142"/>
              <p:cNvSpPr/>
              <p:nvPr/>
            </p:nvSpPr>
            <p:spPr>
              <a:xfrm flipV="1" rot="2527800">
                <a:off x="5263200" y="2370960"/>
                <a:ext cx="285840" cy="2764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76480"/>
                  <a:gd name="textAreaBottom" fmla="*/ 276480 h 27648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e5d5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143"/>
              <p:cNvSpPr/>
              <p:nvPr/>
            </p:nvSpPr>
            <p:spPr>
              <a:xfrm flipV="1" rot="8190000">
                <a:off x="5139000" y="2439720"/>
                <a:ext cx="123480" cy="119160"/>
              </a:xfrm>
              <a:prstGeom prst="triangle">
                <a:avLst>
                  <a:gd name="adj" fmla="val 50000"/>
                </a:avLst>
              </a:prstGeom>
              <a:solidFill>
                <a:srgbClr val="e5d508"/>
              </a:solidFill>
              <a:ln w="9360">
                <a:solidFill>
                  <a:srgbClr val="e5d5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4" name="Picture 144" descr=""/>
            <p:cNvPicPr/>
            <p:nvPr/>
          </p:nvPicPr>
          <p:blipFill>
            <a:blip r:embed="rId1"/>
            <a:stretch/>
          </p:blipFill>
          <p:spPr>
            <a:xfrm>
              <a:off x="5144400" y="1928520"/>
              <a:ext cx="510480" cy="4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145"/>
            <p:cNvSpPr/>
            <p:nvPr/>
          </p:nvSpPr>
          <p:spPr>
            <a:xfrm>
              <a:off x="7233480" y="1674720"/>
              <a:ext cx="140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Picture 246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1136520" cy="1154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47" descr="ProblemSolvingStudent"/>
          <p:cNvPicPr/>
          <p:nvPr/>
        </p:nvPicPr>
        <p:blipFill>
          <a:blip r:embed="rId3"/>
          <a:stretch/>
        </p:blipFill>
        <p:spPr>
          <a:xfrm>
            <a:off x="5241960" y="1066680"/>
            <a:ext cx="320760" cy="3636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50"/>
          <p:cNvSpPr/>
          <p:nvPr/>
        </p:nvSpPr>
        <p:spPr>
          <a:xfrm>
            <a:off x="2819520" y="491652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ous Improvement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52"/>
          <p:cNvSpPr/>
          <p:nvPr/>
        </p:nvSpPr>
        <p:spPr>
          <a:xfrm>
            <a:off x="6553080" y="304920"/>
            <a:ext cx="240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e to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2057400" y="228600"/>
            <a:ext cx="655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Integrating Education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nd Mental Health Int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chool-Based Mental Healt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057400" y="3048120"/>
            <a:ext cx="632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ically, difficult to establish effective 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ny reason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Rectangle 6"/>
          <p:cNvGrpSpPr/>
          <p:nvPr/>
        </p:nvGrpSpPr>
        <p:grpSpPr>
          <a:xfrm>
            <a:off x="2000160" y="1719360"/>
            <a:ext cx="6515280" cy="182520"/>
            <a:chOff x="2000160" y="1719360"/>
            <a:chExt cx="6515280" cy="182520"/>
          </a:xfrm>
        </p:grpSpPr>
        <p:pic>
          <p:nvPicPr>
            <p:cNvPr id="521" name="Rectangle 6" descr=""/>
            <p:cNvPicPr/>
            <p:nvPr/>
          </p:nvPicPr>
          <p:blipFill>
            <a:blip r:embed="rId1"/>
            <a:stretch/>
          </p:blipFill>
          <p:spPr>
            <a:xfrm>
              <a:off x="2000160" y="171936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057400" y="17557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234-487C-48C2-9CCF-FE03F40B6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55BF-BF29-46B2-8D0A-0C7A88223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19"/>
          <p:cNvSpPr/>
          <p:nvPr/>
        </p:nvSpPr>
        <p:spPr>
          <a:xfrm>
            <a:off x="3732120" y="2666880"/>
            <a:ext cx="3733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8541"/>
                </a:solidFill>
                <a:latin typeface="Calibri"/>
                <a:ea typeface="Times New Roman"/>
              </a:rPr>
              <a:t>The Public Heal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0"/>
          <p:cNvSpPr/>
          <p:nvPr/>
        </p:nvSpPr>
        <p:spPr>
          <a:xfrm>
            <a:off x="2209680" y="228600"/>
            <a:ext cx="2818080" cy="274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Surveillance at the population / commun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is the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systematic data collection strategies to determine the mental health service needs in your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21"/>
          <p:cNvSpPr/>
          <p:nvPr/>
        </p:nvSpPr>
        <p:spPr>
          <a:xfrm>
            <a:off x="6249960" y="228600"/>
            <a:ext cx="2741760" cy="274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entify risk and protective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are the cau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the information collected in and on your community on a regular basis and integrate with the research lit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2"/>
          <p:cNvSpPr/>
          <p:nvPr/>
        </p:nvSpPr>
        <p:spPr>
          <a:xfrm>
            <a:off x="6249960" y="3873600"/>
            <a:ext cx="2741760" cy="274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Develop and Evaluat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orks and for wh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view literature on empirical based interventions and apply/adapt to local community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3"/>
          <p:cNvSpPr/>
          <p:nvPr/>
        </p:nvSpPr>
        <p:spPr>
          <a:xfrm>
            <a:off x="2209680" y="3873600"/>
            <a:ext cx="2818080" cy="274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mplementation monitoring and scaling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 it meeting the intended need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itor interventions for proper implementation, scale-up interventions and measure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24"/>
          <p:cNvSpPr/>
          <p:nvPr/>
        </p:nvSpPr>
        <p:spPr>
          <a:xfrm>
            <a:off x="7694640" y="3048120"/>
            <a:ext cx="0" cy="91440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5"/>
          <p:cNvSpPr/>
          <p:nvPr/>
        </p:nvSpPr>
        <p:spPr>
          <a:xfrm flipV="1">
            <a:off x="3529080" y="2895480"/>
            <a:ext cx="0" cy="91440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6"/>
          <p:cNvSpPr/>
          <p:nvPr/>
        </p:nvSpPr>
        <p:spPr>
          <a:xfrm>
            <a:off x="5180040" y="1905120"/>
            <a:ext cx="1143000" cy="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7"/>
          <p:cNvSpPr/>
          <p:nvPr/>
        </p:nvSpPr>
        <p:spPr>
          <a:xfrm flipH="1" flipV="1">
            <a:off x="4875120" y="5035320"/>
            <a:ext cx="1246320" cy="360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664-862B-4EA8-B7A2-3F209108E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AutoShape 8"/>
          <p:cNvGrpSpPr/>
          <p:nvPr/>
        </p:nvGrpSpPr>
        <p:grpSpPr>
          <a:xfrm>
            <a:off x="1037520" y="1749600"/>
            <a:ext cx="1417680" cy="1657800"/>
            <a:chOff x="1037520" y="1749600"/>
            <a:chExt cx="1417680" cy="1657800"/>
          </a:xfrm>
        </p:grpSpPr>
        <p:pic>
          <p:nvPicPr>
            <p:cNvPr id="693" name="AutoShape 8" descr=""/>
            <p:cNvPicPr/>
            <p:nvPr/>
          </p:nvPicPr>
          <p:blipFill>
            <a:blip r:embed="rId1"/>
            <a:stretch/>
          </p:blipFill>
          <p:spPr>
            <a:xfrm>
              <a:off x="1146240" y="1749600"/>
              <a:ext cx="1255680" cy="14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 rot="4015200">
              <a:off x="1067040" y="2112480"/>
              <a:ext cx="1358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Text Box 9"/>
          <p:cNvGrpSpPr/>
          <p:nvPr/>
        </p:nvGrpSpPr>
        <p:grpSpPr>
          <a:xfrm>
            <a:off x="139680" y="158760"/>
            <a:ext cx="2139840" cy="2260440"/>
            <a:chOff x="139680" y="158760"/>
            <a:chExt cx="2139840" cy="2260440"/>
          </a:xfrm>
        </p:grpSpPr>
        <p:pic>
          <p:nvPicPr>
            <p:cNvPr id="696" name="Text Box 9" descr=""/>
            <p:cNvPicPr/>
            <p:nvPr/>
          </p:nvPicPr>
          <p:blipFill>
            <a:blip r:embed="rId2"/>
            <a:stretch/>
          </p:blipFill>
          <p:spPr>
            <a:xfrm>
              <a:off x="139680" y="158760"/>
              <a:ext cx="213984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49120" y="233280"/>
              <a:ext cx="19782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f497d"/>
                  </a:solidFill>
                  <a:latin typeface="Arial"/>
                </a:rPr>
                <a:t>Common Visio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ilies          (FA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ental Health  (M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ucation         (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Text Box 17"/>
          <p:cNvGrpSpPr/>
          <p:nvPr/>
        </p:nvGrpSpPr>
        <p:grpSpPr>
          <a:xfrm>
            <a:off x="6456240" y="152280"/>
            <a:ext cx="2475000" cy="6156360"/>
            <a:chOff x="6456240" y="152280"/>
            <a:chExt cx="2475000" cy="6156360"/>
          </a:xfrm>
        </p:grpSpPr>
        <p:pic>
          <p:nvPicPr>
            <p:cNvPr id="699" name="Text Box 17" descr=""/>
            <p:cNvPicPr/>
            <p:nvPr/>
          </p:nvPicPr>
          <p:blipFill>
            <a:blip r:embed="rId3"/>
            <a:stretch/>
          </p:blipFill>
          <p:spPr>
            <a:xfrm>
              <a:off x="6456240" y="152280"/>
              <a:ext cx="24750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6564240" y="228600"/>
              <a:ext cx="2313000" cy="60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f497d"/>
                  </a:solidFill>
                  <a:latin typeface="Arial"/>
                </a:rPr>
                <a:t>Intensiv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Students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Special Ed d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to Emotional Disturb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 – FBA / P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 – 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41"/>
          <p:cNvGrpSpPr/>
          <p:nvPr/>
        </p:nvGrpSpPr>
        <p:grpSpPr>
          <a:xfrm>
            <a:off x="7086600" y="3325680"/>
            <a:ext cx="1862280" cy="1322280"/>
            <a:chOff x="7086600" y="3325680"/>
            <a:chExt cx="1862280" cy="1322280"/>
          </a:xfrm>
        </p:grpSpPr>
        <p:sp>
          <p:nvSpPr>
            <p:cNvPr id="702" name="AutoShape 18"/>
            <p:cNvSpPr/>
            <p:nvPr/>
          </p:nvSpPr>
          <p:spPr>
            <a:xfrm>
              <a:off x="7086600" y="3428640"/>
              <a:ext cx="168120" cy="714600"/>
            </a:xfrm>
            <a:custGeom>
              <a:avLst/>
              <a:gdLst>
                <a:gd name="textAreaLeft" fmla="*/ 0 w 168120"/>
                <a:gd name="textAreaRight" fmla="*/ 60840 w 168120"/>
                <a:gd name="textAreaTop" fmla="*/ 18360 h 714600"/>
                <a:gd name="textAreaBottom" fmla="*/ 6962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9"/>
            <p:cNvSpPr/>
            <p:nvPr/>
          </p:nvSpPr>
          <p:spPr>
            <a:xfrm>
              <a:off x="7162920" y="3325680"/>
              <a:ext cx="178596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ognitive Behavior Therapy and other EB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20"/>
          <p:cNvGrpSpPr/>
          <p:nvPr/>
        </p:nvGrpSpPr>
        <p:grpSpPr>
          <a:xfrm>
            <a:off x="7050240" y="4681440"/>
            <a:ext cx="1436040" cy="1322640"/>
            <a:chOff x="7050240" y="4681440"/>
            <a:chExt cx="1436040" cy="1322640"/>
          </a:xfrm>
        </p:grpSpPr>
        <p:sp>
          <p:nvSpPr>
            <p:cNvPr id="705" name="AutoShape 21"/>
            <p:cNvSpPr/>
            <p:nvPr/>
          </p:nvSpPr>
          <p:spPr>
            <a:xfrm>
              <a:off x="7050240" y="4757400"/>
              <a:ext cx="172800" cy="777240"/>
            </a:xfrm>
            <a:custGeom>
              <a:avLst/>
              <a:gdLst>
                <a:gd name="textAreaLeft" fmla="*/ 0 w 172800"/>
                <a:gd name="textAreaRight" fmla="*/ 62280 w 172800"/>
                <a:gd name="textAreaTop" fmla="*/ 20160 h 777240"/>
                <a:gd name="textAreaBottom" fmla="*/ 757080 h 77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7166520" y="4681440"/>
              <a:ext cx="131976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eam Monitors Pro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AutoShape 23"/>
          <p:cNvGrpSpPr/>
          <p:nvPr/>
        </p:nvGrpSpPr>
        <p:grpSpPr>
          <a:xfrm>
            <a:off x="2937600" y="2968560"/>
            <a:ext cx="1417680" cy="1658160"/>
            <a:chOff x="2937600" y="2968560"/>
            <a:chExt cx="1417680" cy="1658160"/>
          </a:xfrm>
        </p:grpSpPr>
        <p:pic>
          <p:nvPicPr>
            <p:cNvPr id="708" name="AutoShape 23" descr=""/>
            <p:cNvPicPr/>
            <p:nvPr/>
          </p:nvPicPr>
          <p:blipFill>
            <a:blip r:embed="rId4"/>
            <a:stretch/>
          </p:blipFill>
          <p:spPr>
            <a:xfrm>
              <a:off x="3041640" y="2968560"/>
              <a:ext cx="1262160" cy="14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 rot="4015200">
              <a:off x="2967120" y="3331800"/>
              <a:ext cx="1358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44"/>
          <p:cNvGrpSpPr/>
          <p:nvPr/>
        </p:nvGrpSpPr>
        <p:grpSpPr>
          <a:xfrm>
            <a:off x="2362320" y="228600"/>
            <a:ext cx="1753920" cy="3308400"/>
            <a:chOff x="2362320" y="228600"/>
            <a:chExt cx="1753920" cy="3308400"/>
          </a:xfrm>
        </p:grpSpPr>
        <p:grpSp>
          <p:nvGrpSpPr>
            <p:cNvPr id="711" name="Text Box 25"/>
            <p:cNvGrpSpPr/>
            <p:nvPr/>
          </p:nvGrpSpPr>
          <p:grpSpPr>
            <a:xfrm>
              <a:off x="2362320" y="228600"/>
              <a:ext cx="1753920" cy="3308400"/>
              <a:chOff x="2362320" y="228600"/>
              <a:chExt cx="1753920" cy="3308400"/>
            </a:xfrm>
          </p:grpSpPr>
          <p:pic>
            <p:nvPicPr>
              <p:cNvPr id="712" name="Text Box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362320" y="228600"/>
                <a:ext cx="1753920" cy="330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2459880" y="301320"/>
                <a:ext cx="1607400" cy="31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1f497d"/>
                    </a:solidFill>
                    <a:latin typeface="Arial"/>
                  </a:rPr>
                  <a:t>Universa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 Narrow"/>
                  </a:rPr>
                  <a:t>All Stud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ED – P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MH - Scree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F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ED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M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AutoShape 27"/>
            <p:cNvSpPr/>
            <p:nvPr/>
          </p:nvSpPr>
          <p:spPr>
            <a:xfrm>
              <a:off x="2948040" y="2342520"/>
              <a:ext cx="164520" cy="633600"/>
            </a:xfrm>
            <a:custGeom>
              <a:avLst/>
              <a:gdLst>
                <a:gd name="textAreaLeft" fmla="*/ 0 w 164520"/>
                <a:gd name="textAreaRight" fmla="*/ 59400 w 164520"/>
                <a:gd name="textAreaTop" fmla="*/ 16200 h 633600"/>
                <a:gd name="textAreaBottom" fmla="*/ 617400 h 6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8"/>
            <p:cNvSpPr/>
            <p:nvPr/>
          </p:nvSpPr>
          <p:spPr>
            <a:xfrm>
              <a:off x="3097800" y="2301480"/>
              <a:ext cx="89892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EBP’s (PATH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AutoShape 29"/>
          <p:cNvGrpSpPr/>
          <p:nvPr/>
        </p:nvGrpSpPr>
        <p:grpSpPr>
          <a:xfrm>
            <a:off x="5282640" y="4840200"/>
            <a:ext cx="1417320" cy="1658160"/>
            <a:chOff x="5282640" y="4840200"/>
            <a:chExt cx="1417320" cy="1658160"/>
          </a:xfrm>
        </p:grpSpPr>
        <p:pic>
          <p:nvPicPr>
            <p:cNvPr id="717" name="AutoShape 29" descr=""/>
            <p:cNvPicPr/>
            <p:nvPr/>
          </p:nvPicPr>
          <p:blipFill>
            <a:blip r:embed="rId6"/>
            <a:stretch/>
          </p:blipFill>
          <p:spPr>
            <a:xfrm>
              <a:off x="5389560" y="4840200"/>
              <a:ext cx="1260360" cy="14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 rot="4015200">
              <a:off x="5312160" y="5204160"/>
              <a:ext cx="13575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Text Box 30"/>
          <p:cNvGrpSpPr/>
          <p:nvPr/>
        </p:nvGrpSpPr>
        <p:grpSpPr>
          <a:xfrm>
            <a:off x="4114800" y="152280"/>
            <a:ext cx="2378160" cy="5364360"/>
            <a:chOff x="4114800" y="152280"/>
            <a:chExt cx="2378160" cy="5364360"/>
          </a:xfrm>
        </p:grpSpPr>
        <p:pic>
          <p:nvPicPr>
            <p:cNvPr id="720" name="Text Box 30" descr=""/>
            <p:cNvPicPr/>
            <p:nvPr/>
          </p:nvPicPr>
          <p:blipFill>
            <a:blip r:embed="rId7"/>
            <a:stretch/>
          </p:blipFill>
          <p:spPr>
            <a:xfrm>
              <a:off x="4114800" y="152280"/>
              <a:ext cx="2378160" cy="53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4219560" y="228600"/>
              <a:ext cx="2216160" cy="52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f497d"/>
                  </a:solidFill>
                  <a:latin typeface="Arial"/>
                </a:rPr>
                <a:t>Selectiv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At-Risk Stu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 – FBA / P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 – 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31"/>
          <p:cNvGrpSpPr/>
          <p:nvPr/>
        </p:nvGrpSpPr>
        <p:grpSpPr>
          <a:xfrm>
            <a:off x="4792680" y="2378160"/>
            <a:ext cx="1834920" cy="3039480"/>
            <a:chOff x="4792680" y="2378160"/>
            <a:chExt cx="1834920" cy="3039480"/>
          </a:xfrm>
        </p:grpSpPr>
        <p:sp>
          <p:nvSpPr>
            <p:cNvPr id="723" name="AutoShape 32"/>
            <p:cNvSpPr/>
            <p:nvPr/>
          </p:nvSpPr>
          <p:spPr>
            <a:xfrm>
              <a:off x="4822920" y="2378160"/>
              <a:ext cx="179280" cy="661680"/>
            </a:xfrm>
            <a:custGeom>
              <a:avLst/>
              <a:gdLst>
                <a:gd name="textAreaLeft" fmla="*/ 0 w 179280"/>
                <a:gd name="textAreaRight" fmla="*/ 64800 w 179280"/>
                <a:gd name="textAreaTop" fmla="*/ 16920 h 661680"/>
                <a:gd name="textAreaBottom" fmla="*/ 64476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"/>
            <p:cNvSpPr/>
            <p:nvPr/>
          </p:nvSpPr>
          <p:spPr>
            <a:xfrm>
              <a:off x="4792680" y="3554640"/>
              <a:ext cx="179280" cy="441360"/>
            </a:xfrm>
            <a:custGeom>
              <a:avLst/>
              <a:gdLst>
                <a:gd name="textAreaLeft" fmla="*/ 0 w 179280"/>
                <a:gd name="textAreaRight" fmla="*/ 64800 w 17928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34"/>
            <p:cNvSpPr/>
            <p:nvPr/>
          </p:nvSpPr>
          <p:spPr>
            <a:xfrm>
              <a:off x="4887000" y="3460320"/>
              <a:ext cx="14043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Group Interven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5"/>
            <p:cNvSpPr/>
            <p:nvPr/>
          </p:nvSpPr>
          <p:spPr>
            <a:xfrm>
              <a:off x="4872600" y="4516920"/>
              <a:ext cx="175500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eam Monitors Pro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36"/>
            <p:cNvSpPr/>
            <p:nvPr/>
          </p:nvSpPr>
          <p:spPr>
            <a:xfrm>
              <a:off x="4931280" y="2451600"/>
              <a:ext cx="7603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7"/>
            <p:cNvSpPr/>
            <p:nvPr/>
          </p:nvSpPr>
          <p:spPr>
            <a:xfrm>
              <a:off x="4813920" y="4510800"/>
              <a:ext cx="179280" cy="661680"/>
            </a:xfrm>
            <a:custGeom>
              <a:avLst/>
              <a:gdLst>
                <a:gd name="textAreaLeft" fmla="*/ 0 w 179280"/>
                <a:gd name="textAreaRight" fmla="*/ 64800 w 179280"/>
                <a:gd name="textAreaTop" fmla="*/ 16920 h 661680"/>
                <a:gd name="textAreaBottom" fmla="*/ 64476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42"/>
          <p:cNvGrpSpPr/>
          <p:nvPr/>
        </p:nvGrpSpPr>
        <p:grpSpPr>
          <a:xfrm>
            <a:off x="326880" y="3200400"/>
            <a:ext cx="4244760" cy="3685680"/>
            <a:chOff x="326880" y="3200400"/>
            <a:chExt cx="4244760" cy="3685680"/>
          </a:xfrm>
        </p:grpSpPr>
        <p:grpSp>
          <p:nvGrpSpPr>
            <p:cNvPr id="730" name="AutoShape 11"/>
            <p:cNvGrpSpPr/>
            <p:nvPr/>
          </p:nvGrpSpPr>
          <p:grpSpPr>
            <a:xfrm>
              <a:off x="1977120" y="5141160"/>
              <a:ext cx="2594520" cy="1280880"/>
              <a:chOff x="1977120" y="5141160"/>
              <a:chExt cx="2594520" cy="1280880"/>
            </a:xfrm>
          </p:grpSpPr>
          <p:pic>
            <p:nvPicPr>
              <p:cNvPr id="731" name="AutoShap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1977120" y="5141160"/>
                <a:ext cx="2594520" cy="12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 rot="5039400">
                <a:off x="2973240" y="4709160"/>
                <a:ext cx="416880" cy="22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AutoShape 12"/>
            <p:cNvGrpSpPr/>
            <p:nvPr/>
          </p:nvGrpSpPr>
          <p:grpSpPr>
            <a:xfrm>
              <a:off x="1524600" y="4244760"/>
              <a:ext cx="2371320" cy="1738440"/>
              <a:chOff x="1524600" y="4244760"/>
              <a:chExt cx="2371320" cy="1738440"/>
            </a:xfrm>
          </p:grpSpPr>
          <p:pic>
            <p:nvPicPr>
              <p:cNvPr id="734" name="AutoShape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4600" y="4244760"/>
                <a:ext cx="2371320" cy="17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3621600">
                <a:off x="2462040" y="4030560"/>
                <a:ext cx="416880" cy="22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AutoShape 13"/>
            <p:cNvGrpSpPr/>
            <p:nvPr/>
          </p:nvGrpSpPr>
          <p:grpSpPr>
            <a:xfrm>
              <a:off x="1639440" y="3218040"/>
              <a:ext cx="1248840" cy="3021120"/>
              <a:chOff x="1639440" y="3218040"/>
              <a:chExt cx="1248840" cy="3021120"/>
            </a:xfrm>
          </p:grpSpPr>
          <p:pic>
            <p:nvPicPr>
              <p:cNvPr id="737" name="AutoShap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39440" y="3218040"/>
                <a:ext cx="1248840" cy="302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 rot="760200">
                <a:off x="1983960" y="3467160"/>
                <a:ext cx="351000" cy="26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AutoShape 14"/>
            <p:cNvGrpSpPr/>
            <p:nvPr/>
          </p:nvGrpSpPr>
          <p:grpSpPr>
            <a:xfrm>
              <a:off x="570600" y="3200400"/>
              <a:ext cx="1580760" cy="2892600"/>
              <a:chOff x="570600" y="3200400"/>
              <a:chExt cx="1580760" cy="2892600"/>
            </a:xfrm>
          </p:grpSpPr>
          <p:pic>
            <p:nvPicPr>
              <p:cNvPr id="740" name="AutoShap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0600" y="3200400"/>
                <a:ext cx="1580760" cy="28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0235000">
                <a:off x="1247760" y="3365640"/>
                <a:ext cx="351720" cy="26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Oval 15"/>
            <p:cNvGrpSpPr/>
            <p:nvPr/>
          </p:nvGrpSpPr>
          <p:grpSpPr>
            <a:xfrm>
              <a:off x="377280" y="4225680"/>
              <a:ext cx="2709360" cy="2660400"/>
              <a:chOff x="377280" y="4225680"/>
              <a:chExt cx="2709360" cy="2660400"/>
            </a:xfrm>
          </p:grpSpPr>
          <p:pic>
            <p:nvPicPr>
              <p:cNvPr id="743" name="Oval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7280" y="4225680"/>
                <a:ext cx="2709360" cy="266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239400">
                <a:off x="815400" y="4632480"/>
                <a:ext cx="1836720" cy="180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Text Box 16"/>
            <p:cNvSpPr/>
            <p:nvPr/>
          </p:nvSpPr>
          <p:spPr>
            <a:xfrm>
              <a:off x="326880" y="4395600"/>
              <a:ext cx="2814840" cy="23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mplemen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n 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that support and facil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ollaborative, integrat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systems of servic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43"/>
          <p:cNvSpPr/>
          <p:nvPr/>
        </p:nvSpPr>
        <p:spPr>
          <a:xfrm>
            <a:off x="4267080" y="6278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4"/>
          <p:cNvSpPr/>
          <p:nvPr/>
        </p:nvSpPr>
        <p:spPr>
          <a:xfrm>
            <a:off x="2209680" y="6094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Wa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205740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say t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amil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he barriers to good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“those parents” would just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Rectangle 6"/>
          <p:cNvGrpSpPr/>
          <p:nvPr/>
        </p:nvGrpSpPr>
        <p:grpSpPr>
          <a:xfrm>
            <a:off x="2000160" y="1639800"/>
            <a:ext cx="6515280" cy="182520"/>
            <a:chOff x="2000160" y="1639800"/>
            <a:chExt cx="6515280" cy="182520"/>
          </a:xfrm>
        </p:grpSpPr>
        <p:pic>
          <p:nvPicPr>
            <p:cNvPr id="750" name="Rectangle 6" descr=""/>
            <p:cNvPicPr/>
            <p:nvPr/>
          </p:nvPicPr>
          <p:blipFill>
            <a:blip r:embed="rId1"/>
            <a:stretch/>
          </p:blipFill>
          <p:spPr>
            <a:xfrm>
              <a:off x="2000160" y="163980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2057400" y="16765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1CD-FCD5-4CCE-85A7-31B7653BC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2209680" y="6094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amilies a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Rectangle 4"/>
          <p:cNvGrpSpPr/>
          <p:nvPr/>
        </p:nvGrpSpPr>
        <p:grpSpPr>
          <a:xfrm>
            <a:off x="2000160" y="1639800"/>
            <a:ext cx="6515280" cy="182520"/>
            <a:chOff x="2000160" y="1639800"/>
            <a:chExt cx="6515280" cy="182520"/>
          </a:xfrm>
        </p:grpSpPr>
        <p:pic>
          <p:nvPicPr>
            <p:cNvPr id="755" name="Rectangle 4" descr=""/>
            <p:cNvPicPr/>
            <p:nvPr/>
          </p:nvPicPr>
          <p:blipFill>
            <a:blip r:embed="rId1"/>
            <a:stretch/>
          </p:blipFill>
          <p:spPr>
            <a:xfrm>
              <a:off x="2000160" y="163980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2057400" y="16765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3"/>
          <p:cNvSpPr/>
          <p:nvPr/>
        </p:nvSpPr>
        <p:spPr>
          <a:xfrm>
            <a:off x="2209680" y="1981080"/>
            <a:ext cx="6477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“Cause,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tien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redible Informan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qual Decision Making Partner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or and Research Partner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licy Ma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1052-E95B-4AA4-B713-D04EBA4F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Table 1" descr=""/>
          <p:cNvPicPr/>
          <p:nvPr/>
        </p:nvPicPr>
        <p:blipFill>
          <a:blip r:embed="rId1"/>
          <a:stretch/>
        </p:blipFill>
        <p:spPr>
          <a:xfrm>
            <a:off x="79200" y="768240"/>
            <a:ext cx="9088560" cy="5754960"/>
          </a:xfrm>
          <a:prstGeom prst="rect">
            <a:avLst/>
          </a:prstGeom>
          <a:ln w="0">
            <a:noFill/>
          </a:ln>
        </p:spPr>
      </p:pic>
      <p:sp>
        <p:nvSpPr>
          <p:cNvPr id="7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C64-EF3B-4D49-A02A-F3939D5FC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304920" y="2009880"/>
            <a:ext cx="1523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6A2C-ED43-491A-AC6F-C06919E9B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5" descr="teamwork_teamwork_A"/>
          <p:cNvPicPr/>
          <p:nvPr/>
        </p:nvPicPr>
        <p:blipFill>
          <a:blip r:embed="rId1"/>
          <a:stretch/>
        </p:blipFill>
        <p:spPr>
          <a:xfrm>
            <a:off x="2179800" y="1219320"/>
            <a:ext cx="66132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Based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437920" y="1600200"/>
            <a:ext cx="6248520" cy="358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Regi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Fidelity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 Therapy Continues to Domi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3CB5-F225-4150-A980-2A1B9B493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6C8-80B0-442C-AB84-083A55CDD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8"/>
          <p:cNvSpPr/>
          <p:nvPr/>
        </p:nvSpPr>
        <p:spPr>
          <a:xfrm>
            <a:off x="2362320" y="2362320"/>
            <a:ext cx="6324480" cy="38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ce said to the Cheshire Cat:              “Would you tell me please, which way I ought to go from 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depends a good deal on where        you want to get to,” said the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don’t much care where,” said A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t doesn’t matter which                   way you go,” said the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Object 2"/>
          <p:cNvGraphicFramePr/>
          <p:nvPr/>
        </p:nvGraphicFramePr>
        <p:xfrm>
          <a:off x="1676520" y="0"/>
          <a:ext cx="38192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3819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Rectangle 40"/>
          <p:cNvSpPr/>
          <p:nvPr/>
        </p:nvSpPr>
        <p:spPr>
          <a:xfrm>
            <a:off x="304920" y="29718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 depends a good deal on where        you want to get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42" descr=""/>
          <p:cNvPicPr/>
          <p:nvPr/>
        </p:nvPicPr>
        <p:blipFill>
          <a:blip r:embed="rId3"/>
          <a:srcRect l="34097" t="0" r="29545" b="88247"/>
          <a:stretch/>
        </p:blipFill>
        <p:spPr>
          <a:xfrm>
            <a:off x="2114640" y="97632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4" descr=""/>
          <p:cNvPicPr/>
          <p:nvPr/>
        </p:nvPicPr>
        <p:blipFill>
          <a:blip r:embed="rId4"/>
          <a:srcRect l="0" t="71743" r="0" b="0"/>
          <a:stretch/>
        </p:blipFill>
        <p:spPr>
          <a:xfrm>
            <a:off x="1676520" y="1247760"/>
            <a:ext cx="3819240" cy="9907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5" descr=""/>
          <p:cNvPicPr/>
          <p:nvPr/>
        </p:nvPicPr>
        <p:blipFill>
          <a:blip r:embed="rId5"/>
          <a:srcRect l="34097" t="0" r="29545" b="88247"/>
          <a:stretch/>
        </p:blipFill>
        <p:spPr>
          <a:xfrm>
            <a:off x="2109960" y="1004760"/>
            <a:ext cx="12189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2590920" y="22860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e must …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2286000" y="3657600"/>
            <a:ext cx="6629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velop Competency in Implementation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DFD-7641-4BB5-9830-48B107095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F7E-BFC7-4CEE-8595-EF59220F6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60948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 of Implementation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04920" y="1562040"/>
            <a:ext cx="1600200" cy="2545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es the innovation fit within you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ment or Comp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2362320" y="1562040"/>
            <a:ext cx="1752480" cy="3473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lling to remove obstac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e there rewar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adership sup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rity of Go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4572000" y="1523880"/>
            <a:ext cx="2112840" cy="2082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IMPLEMENTA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n you implement the innovation with accuracy and fide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7050240" y="1562040"/>
            <a:ext cx="2017440" cy="2082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INNOVA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mpact of innovation, commitment, and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80880" y="5308560"/>
            <a:ext cx="3353040" cy="1167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OL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s there capacity and willingness to impl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4038480" y="5334120"/>
            <a:ext cx="3657600" cy="1167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1e3"/>
                </a:solidFill>
                <a:latin typeface="Arial Narrow"/>
              </a:rPr>
              <a:t>FIDELITY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1e3"/>
                </a:solidFill>
                <a:latin typeface="Arial Narrow"/>
              </a:rPr>
              <a:t>Favorable attitudes toward practice Complexity of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2"/>
          <p:cNvSpPr/>
          <p:nvPr/>
        </p:nvSpPr>
        <p:spPr>
          <a:xfrm>
            <a:off x="1881360" y="1751040"/>
            <a:ext cx="7696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3"/>
          <p:cNvSpPr/>
          <p:nvPr/>
        </p:nvSpPr>
        <p:spPr>
          <a:xfrm>
            <a:off x="3878280" y="1717560"/>
            <a:ext cx="7700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4"/>
          <p:cNvSpPr/>
          <p:nvPr/>
        </p:nvSpPr>
        <p:spPr>
          <a:xfrm>
            <a:off x="6589800" y="1717560"/>
            <a:ext cx="7682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"/>
          <p:cNvSpPr/>
          <p:nvPr/>
        </p:nvSpPr>
        <p:spPr>
          <a:xfrm flipV="1">
            <a:off x="2133720" y="1752120"/>
            <a:ext cx="0" cy="3581640"/>
          </a:xfrm>
          <a:prstGeom prst="line">
            <a:avLst/>
          </a:prstGeom>
          <a:ln w="38160">
            <a:solidFill>
              <a:srgbClr val="4bac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6"/>
          <p:cNvSpPr/>
          <p:nvPr/>
        </p:nvSpPr>
        <p:spPr>
          <a:xfrm flipV="1">
            <a:off x="4300560" y="1762200"/>
            <a:ext cx="0" cy="3657600"/>
          </a:xfrm>
          <a:prstGeom prst="line">
            <a:avLst/>
          </a:prstGeom>
          <a:ln w="38160">
            <a:solidFill>
              <a:srgbClr val="4bac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7"/>
          <p:cNvSpPr/>
          <p:nvPr/>
        </p:nvSpPr>
        <p:spPr>
          <a:xfrm flipV="1">
            <a:off x="6856560" y="1760400"/>
            <a:ext cx="1440" cy="3616560"/>
          </a:xfrm>
          <a:prstGeom prst="line">
            <a:avLst/>
          </a:prstGeom>
          <a:ln w="38160">
            <a:solidFill>
              <a:srgbClr val="4bac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shcool.jpg"/>
          <p:cNvPicPr/>
          <p:nvPr/>
        </p:nvPicPr>
        <p:blipFill>
          <a:blip r:embed="rId1"/>
          <a:stretch/>
        </p:blipFill>
        <p:spPr>
          <a:xfrm>
            <a:off x="2057400" y="914400"/>
            <a:ext cx="6791400" cy="510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5F7-53A6-48E1-818A-B8E91675C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6"/>
          <p:cNvSpPr/>
          <p:nvPr/>
        </p:nvSpPr>
        <p:spPr>
          <a:xfrm>
            <a:off x="4343400" y="2057400"/>
            <a:ext cx="4724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wnload this 115 page monograph FREE at: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http://rtckids.fmhi.usf.edu/rtcpubs/study0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248520" y="358920"/>
            <a:ext cx="2590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2"/>
          <p:cNvGraphicFramePr/>
          <p:nvPr/>
        </p:nvGraphicFramePr>
        <p:xfrm>
          <a:off x="2209680" y="1143000"/>
          <a:ext cx="19972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1997280" cy="259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eece1"/>
                    </a:outerShdw>
                  </a:effectLst>
                </p:spPr>
              </p:pic>
            </p:oleObj>
          </a:graphicData>
        </a:graphic>
      </p:graphicFrame>
      <p:sp>
        <p:nvSpPr>
          <p:cNvPr id="797" name="Text Box 6"/>
          <p:cNvSpPr/>
          <p:nvPr/>
        </p:nvSpPr>
        <p:spPr>
          <a:xfrm>
            <a:off x="2209680" y="4114800"/>
            <a:ext cx="6782040" cy="24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kins, M., Hoagwood, K., Kutash, K., &amp;Seidman, E. (in press and on-line as of March 2010). Toward the Integration of Education and Mental Health in School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dministration and Policy in Mental Health Services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pella, E., Frazier, S. L., Atkins, M. S., Schoenwald, S. K., &amp; Glisson, C. (2008). Enhancing Schools’ Capacity to Support Children in Poverty: An Ecological Model of School-Based Mental Health Servic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dm Policy Ment Health, 3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95-4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2209680" y="1143000"/>
            <a:ext cx="1981440" cy="259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E347-3EE3-427E-9156-DF118FF90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394320" y="4413240"/>
            <a:ext cx="1536840" cy="1689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12724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4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verarching 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Rectangle 5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30" name="Rectangle 5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7"/>
          <p:cNvSpPr/>
          <p:nvPr/>
        </p:nvSpPr>
        <p:spPr>
          <a:xfrm>
            <a:off x="2057400" y="2666880"/>
            <a:ext cx="327672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with Disabilities Education Act (IDE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5486400" y="2666880"/>
            <a:ext cx="33526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agnostic &amp; Statistical Manual (DS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A234-5E0D-4460-BF22-B52477904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321600" y="4492800"/>
            <a:ext cx="1536480" cy="1688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05416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nceptual Framework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39" name="Rectangle 4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5"/>
          <p:cNvSpPr/>
          <p:nvPr/>
        </p:nvSpPr>
        <p:spPr>
          <a:xfrm>
            <a:off x="2057400" y="2666880"/>
            <a:ext cx="3276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havior Disorder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llenging Behavior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ademic Defic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5486400" y="2666880"/>
            <a:ext cx="33526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sychopatholog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normal Behavio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aired functi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CF6-4C76-4023-A268-DFA4C82CD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the_simpsons.10x21.monty_cant_buy_me_love"/>
          <p:cNvPicPr/>
          <p:nvPr/>
        </p:nvPicPr>
        <p:blipFill>
          <a:blip r:embed="rId1"/>
          <a:stretch/>
        </p:blipFill>
        <p:spPr>
          <a:xfrm>
            <a:off x="2286000" y="990720"/>
            <a:ext cx="609588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1C2-9075-4997-8619-40972F2D4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699240" y="4797360"/>
            <a:ext cx="1536840" cy="1689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05416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mportant Theoretical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50" name="Rectangle 4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5"/>
          <p:cNvSpPr/>
          <p:nvPr/>
        </p:nvSpPr>
        <p:spPr>
          <a:xfrm>
            <a:off x="2057400" y="2666880"/>
            <a:ext cx="3276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havior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Learning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5105520" y="2665440"/>
            <a:ext cx="403848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havior Theor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gnitive Theor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al Psycholog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logical/Genetic Perspectiv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sychopharmac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ACFB-2A4D-4053-B4A3-185D6CA5D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626160" y="4492800"/>
            <a:ext cx="1536840" cy="1688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05416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Focus of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59" name="Rectangle 4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5"/>
          <p:cNvSpPr/>
          <p:nvPr/>
        </p:nvSpPr>
        <p:spPr>
          <a:xfrm>
            <a:off x="1981080" y="2666880"/>
            <a:ext cx="312444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 Manage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 Develop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ic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5257800" y="2666880"/>
            <a:ext cx="358128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Emotiona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9A2F-C626-4C9B-A6C7-6AD3BDD55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5632560" y="4797360"/>
            <a:ext cx="1536480" cy="1689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3425760" y="3956040"/>
            <a:ext cx="1994040" cy="26827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http://www.optalink.com.my/Images/our_business_system_integration.jpg"/>
          <p:cNvPicPr/>
          <p:nvPr/>
        </p:nvPicPr>
        <p:blipFill>
          <a:blip r:embed="rId3"/>
          <a:srcRect l="9897" t="2671" r="7629" b="4006"/>
          <a:stretch/>
        </p:blipFill>
        <p:spPr>
          <a:xfrm>
            <a:off x="3429000" y="411480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"/>
          <p:cNvSpPr/>
          <p:nvPr/>
        </p:nvSpPr>
        <p:spPr>
          <a:xfrm>
            <a:off x="2362320" y="2362320"/>
            <a:ext cx="6019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 u="sng">
                <a:solidFill>
                  <a:srgbClr val="397e35"/>
                </a:solidFill>
                <a:uFillTx/>
                <a:latin typeface="Calibri"/>
                <a:ea typeface="Arial"/>
              </a:rPr>
              <a:t>Education / Mental Health System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roving Social and Adaptive Functi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ce of and Need to Increase Availability, Access, and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o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70" name="Rectangle 4" descr=""/>
            <p:cNvPicPr/>
            <p:nvPr/>
          </p:nvPicPr>
          <p:blipFill>
            <a:blip r:embed="rId4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1A2C-EAB6-437B-A499-BDD5AC4EA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0:38:02Z</dcterms:created>
  <dc:creator>Michael Greeson</dc:creator>
  <dc:description/>
  <dc:language>en-US</dc:language>
  <cp:lastModifiedBy>Authorised User</cp:lastModifiedBy>
  <dcterms:modified xsi:type="dcterms:W3CDTF">2010-07-06T18:23:22Z</dcterms:modified>
  <cp:revision>63</cp:revision>
  <dc:subject/>
  <dc:title>Slide 1</dc:title>
</cp:coreProperties>
</file>