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fordable = cheap enough that it avoids the need for sampling, or at least makes sampling in large enough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560" y="1041480"/>
            <a:ext cx="12941280" cy="4495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ill Sans"/>
              </a:rPr>
              <a:t>thereNow </a:t>
            </a:r>
            <a:br>
              <a:rPr sz="9600"/>
            </a:b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nnovative Technology for 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assroom Observation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2520" y="7391520"/>
            <a:ext cx="7543800" cy="1815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"/>
              </a:rPr>
              <a:t>R. Shawn Edmondson, Ph.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EO, thereNow LLC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ww.therenow.n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Why classroom observation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17160" y="3556080"/>
            <a:ext cx="12357000" cy="523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eliability and validity of self-report data on teacher practice is questionable.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Mayer, 1999)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ation is the gold standard.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Rowann &amp; Correnti, 2009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ation has been a measurement tool in education for 30+ years.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Gage &amp; Needels, 1989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79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Challenges to </a:t>
            </a:r>
            <a:br>
              <a:rPr sz="6400"/>
            </a:b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classroom observation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9440" y="3238560"/>
            <a:ext cx="12052440" cy="523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ation requires either trained observers or videographer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refore, observation is extremely expensiv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mpling reduces the expens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 the extreme variability of teaching activities requires impractical sampling rat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8396280" y="9005040"/>
            <a:ext cx="357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(Rowan &amp; Correnti, 2009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314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Using technology for</a:t>
            </a:r>
            <a:br>
              <a:rPr sz="6400"/>
            </a:b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classroom observation: </a:t>
            </a:r>
            <a:br>
              <a:rPr sz="6400"/>
            </a:b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key issu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7600" y="3911760"/>
            <a:ext cx="11976120" cy="547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vacy, legality, security, psychology of observ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rdware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ortable, easy, unobtrusive, afford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tworking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andwidth, IT coordin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ideo coding and annotation to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ideo management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ecurity, storage, dissemin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216360" y="35532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IRIS Conn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20560" y="2692440"/>
            <a:ext cx="8979120" cy="668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eveloped 2007-2009 via IES Small Business Innovation Research (SBIR) gran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mote, synchronous observ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360° pan, floor-to-ceiling tilt, 48x zo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djustable, collapsable stan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2 wireless microphones; 2-way communic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b application: coding, annotation, shari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9740880" y="952560"/>
            <a:ext cx="2997360" cy="82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30040" y="152280"/>
            <a:ext cx="10464840" cy="264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Where is </a:t>
            </a:r>
            <a:br>
              <a:rPr sz="8400"/>
            </a:b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IRIS Connec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66760" y="3276360"/>
            <a:ext cx="126237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95 school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6 school distric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0 universi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 countries: USA, UK, Chin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4 large research studie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0+ pending grant applications that include IRIS Conn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331120" y="2873520"/>
            <a:ext cx="3721320" cy="4962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Use Case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University of Michiga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Institute for Social Research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3352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4 IRIS Connect systems; 2 year stud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lanta, GA and New York C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ll capture videos from 1,800 classroo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857320"/>
            <a:ext cx="1046484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IRIS Connect</a:t>
            </a:r>
            <a:br>
              <a:rPr sz="8400"/>
            </a:b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Demonstration Vide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7617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What’s Nex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2975400" y="4176720"/>
            <a:ext cx="704304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ntac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. Shawn Edmondson, Ph.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EO, thereNow LL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ww.thereNow.n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wn@thereNow.n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435-760-4310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