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08C-8E10-4785-B4D9-958FAFEB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759-B8BC-4012-9BB6-BEEA4AFA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79F-2F27-4A73-BD9D-0A9D224F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BD5-95F3-43EE-BDD1-CE799929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14C1-DF11-4898-89E2-4315466A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0737-B1FF-4E5C-B436-6185834E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1E16-858C-4DC6-858A-A59FC353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3C7-0E4F-4158-A2B3-38DA7EA9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093-8424-441F-BDFD-CA134B76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A7D6-B0D3-42AC-9B39-0A95C14E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527-34F4-4FAC-BA0A-1C70645C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20D-8245-43BD-80C3-087DFBEC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2553-8342-4612-BC0E-79F075A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F00B-5745-4797-9FF8-BC7ECEE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A9CF-51DF-4325-9555-9C70923C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9DC0-E13A-4FDA-8E76-98BDA7E7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385C-D342-45AD-9DBD-D7AED283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A34D-A0E5-4E1C-9DA7-00E7B84D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2E19-FA92-4467-B43B-E8FF4983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6837-C83A-4F64-A9BA-6515395C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C8AA-64E7-4E0F-95BF-7FA3715F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4C34-051A-4FD0-850C-FF7E422B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E31-BF2F-4E1E-AA86-A1B87DC8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F33C-7AD2-4F5F-B7A5-F92553DD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C685-ED8B-43D6-A629-002D386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CF93-FA8D-4E3E-B88D-222D4DA6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E0C3-18EB-467C-8FAC-E47D475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D3DD-558D-4A10-ADC3-8FF088FD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D550-4AA8-46B6-BB82-004FB7BF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8530-C473-497F-9DF0-06069DF5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3F4A-137E-49BE-A318-032B8F4A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D950B-7A97-42E1-8432-476B083C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75D9-580B-40C1-B83C-243A0E63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636-3EC8-4515-BA89-A10D4959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7973-2AC7-4DD6-82E6-99719A55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B596-9E50-484F-997C-BBC23D73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0C25-0FDD-4F89-9AC2-6442DEF7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7896-816D-43FA-A4D5-4FAEAB3E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13E4-BF8D-4CDE-B381-895D402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530A-F570-450B-95AB-EB50E4F5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CA4B-CCE9-4FFB-A97B-BCD9BC6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E7266-7B47-4800-80D7-7E5C93A3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AEF8-FAF8-469A-990A-0DE690DC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5803C-1348-4628-B6DC-41A0AB45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DDC-754D-4605-991C-495F4CFD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81233-9C47-4ED5-AA51-DE2F9DB9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CDD6-C261-4D44-A9F1-DC4D344F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F2E16-F402-44DD-AE0E-FB00D14E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70AC-754B-4D81-A43A-618FF97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914CC-A8F9-4D99-96EC-EC1FC889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7CC5-384A-4680-8A1B-6097538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FA3C-943F-46F4-8832-271C57C5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0179F-9249-4FB6-BF55-B5E88E9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0C01-2E6A-455F-89E6-F3761092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E7FB-AD57-4615-9413-DF3245B0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091-D30B-4317-842E-6A119E27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093A-72DF-41A6-A820-832C1EDA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78D-97E7-40A0-8912-6F72B5D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B34-9371-4648-9741-DA3CD3D1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D3F-3548-4BD1-9A70-98B4966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97A-07A8-4B14-B77C-FEA2DF6622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1D6-21CE-40DD-B480-96422D2C8B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516-5D71-4FBB-9D01-70E427DFB2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2922-837B-4EF6-88A9-AF12CE05D3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D83A-AFBA-4DD1-923B-F1CB1CD6FA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teven W. Evans, Christine Brady, Lee Kern, Christiana Andrews and the CARS Research Tea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Measurement Development and Inclusion Criteria: Developing Meaningful Standar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3" descr="cars_logo_sm (2).jpg"/>
          <p:cNvPicPr/>
          <p:nvPr/>
        </p:nvPicPr>
        <p:blipFill>
          <a:blip r:embed="rId1"/>
          <a:stretch/>
        </p:blipFill>
        <p:spPr>
          <a:xfrm>
            <a:off x="5715000" y="4800600"/>
            <a:ext cx="29923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tho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ose who completed packets were entered in a drawing to win one of three monetary prizes ($75, $50, $25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rawing were conducted within school to increase particip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s were allowed two weeks to complete and return the packe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assroom Performance Survey (CH.A.D.D., 1996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 re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0 items on a 5 point Likert-type scale (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= “always” to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= “never”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ems regarding homework, note-taking, test-taking, interpersonal skills, communication, and attention behavio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04920" y="4038480"/>
          <a:ext cx="8458200" cy="990720"/>
        </p:xfrm>
        <a:graphic>
          <a:graphicData uri="http://schemas.openxmlformats.org/drawingml/2006/table">
            <a:tbl>
              <a:tblPr/>
              <a:tblGrid>
                <a:gridCol w="3201840"/>
                <a:gridCol w="1008000"/>
                <a:gridCol w="1009800"/>
                <a:gridCol w="1219320"/>
                <a:gridCol w="1009440"/>
                <a:gridCol w="1009800"/>
              </a:tblGrid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ngs necessary items to cla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eacher Demographics Overall Sample</a:t>
            </a:r>
            <a:br>
              <a:rPr sz="4000"/>
            </a:b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39 teach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33520" y="1523880"/>
          <a:ext cx="3504960" cy="4114800"/>
        </p:xfrm>
        <a:graphic>
          <a:graphicData uri="http://schemas.openxmlformats.org/drawingml/2006/table">
            <a:tbl>
              <a:tblPr/>
              <a:tblGrid>
                <a:gridCol w="2311200"/>
                <a:gridCol w="1193760"/>
              </a:tblGrid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cas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rican Ameri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4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114800" y="1600200"/>
          <a:ext cx="4419720" cy="4572000"/>
        </p:xfrm>
        <a:graphic>
          <a:graphicData uri="http://schemas.openxmlformats.org/drawingml/2006/table">
            <a:tbl>
              <a:tblPr/>
              <a:tblGrid>
                <a:gridCol w="2914560"/>
                <a:gridCol w="1505160"/>
              </a:tblGrid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 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tud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 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 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# of Years Teac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udent Demographics Overall Sampl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752480"/>
          <a:ext cx="3505320" cy="3353040"/>
        </p:xfrm>
        <a:graphic>
          <a:graphicData uri="http://schemas.openxmlformats.org/drawingml/2006/table">
            <a:tbl>
              <a:tblPr/>
              <a:tblGrid>
                <a:gridCol w="2249640"/>
                <a:gridCol w="1255680"/>
              </a:tblGrid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038480" y="1676520"/>
          <a:ext cx="4267440" cy="2666880"/>
        </p:xfrm>
        <a:graphic>
          <a:graphicData uri="http://schemas.openxmlformats.org/drawingml/2006/table">
            <a:tbl>
              <a:tblPr/>
              <a:tblGrid>
                <a:gridCol w="2738520"/>
                <a:gridCol w="1528920"/>
              </a:tblGrid>
              <a:tr h="44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cas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rican Ameri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p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sis Pl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ven our sample size (139 teachers and 833 students), we decided to run an exploratory factor analysis with a portion of the sample (263 students) and a confirmatory factor analysis with the others (570 studen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ata were randomly assigned to an analysis by teacher within scho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loratory Factor Analy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indicated the presence of two factors accounting for 78.6% of the varia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 1: Academic (14 items) included items regarding homework, tests, attending to instruction, and completion of longer term assign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 2: Interpersonal (6 items) included items regarding relation to peer, relation to teachers, accepting assistance, and respecting proper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firmatory Factor Analy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wo models were compared: the two factor model found in the EFA and a one factor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indicated some degree of fit, but not enough to justify the use of either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ems on the CPS should be treated individual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an Data on the C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4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ores on every item included the full range of scores (1 to 5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wo most commonly endorsed problematic behaviors were recording assignments (M = 2.68, SD = 1.36) and completing homework assignments (M = 2.65, SD = 1.26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wo least endorsed items were respecting property (M = 1.69, SD = 1.02) and relating positively to teachers (M = 1.84, SD = 1.06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PS Correl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0" y="1143000"/>
          <a:ext cx="8853480" cy="3886200"/>
        </p:xfrm>
        <a:graphic>
          <a:graphicData uri="http://schemas.openxmlformats.org/drawingml/2006/table">
            <a:tbl>
              <a:tblPr/>
              <a:tblGrid>
                <a:gridCol w="838080"/>
                <a:gridCol w="378000"/>
                <a:gridCol w="360360"/>
                <a:gridCol w="358560"/>
                <a:gridCol w="360360"/>
                <a:gridCol w="360360"/>
                <a:gridCol w="358920"/>
                <a:gridCol w="357120"/>
                <a:gridCol w="355680"/>
                <a:gridCol w="357120"/>
                <a:gridCol w="434880"/>
                <a:gridCol w="433440"/>
                <a:gridCol w="435240"/>
                <a:gridCol w="434880"/>
                <a:gridCol w="433440"/>
                <a:gridCol w="434880"/>
                <a:gridCol w="434880"/>
                <a:gridCol w="433440"/>
                <a:gridCol w="434880"/>
                <a:gridCol w="435240"/>
                <a:gridCol w="42372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O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e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2 (Teach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3 (Academ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4 (Classro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5 (Overal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Box 5"/>
          <p:cNvSpPr/>
          <p:nvPr/>
        </p:nvSpPr>
        <p:spPr>
          <a:xfrm>
            <a:off x="380880" y="5181480"/>
            <a:ext cx="3886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correlations were significant at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= .00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PS Correl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1143000"/>
          <a:ext cx="8853480" cy="3886200"/>
        </p:xfrm>
        <a:graphic>
          <a:graphicData uri="http://schemas.openxmlformats.org/drawingml/2006/table">
            <a:tbl>
              <a:tblPr/>
              <a:tblGrid>
                <a:gridCol w="855720"/>
                <a:gridCol w="360360"/>
                <a:gridCol w="360360"/>
                <a:gridCol w="358560"/>
                <a:gridCol w="360360"/>
                <a:gridCol w="360360"/>
                <a:gridCol w="358920"/>
                <a:gridCol w="357120"/>
                <a:gridCol w="355680"/>
                <a:gridCol w="357120"/>
                <a:gridCol w="434880"/>
                <a:gridCol w="433440"/>
                <a:gridCol w="435240"/>
                <a:gridCol w="434880"/>
                <a:gridCol w="433440"/>
                <a:gridCol w="434880"/>
                <a:gridCol w="434880"/>
                <a:gridCol w="433440"/>
                <a:gridCol w="434880"/>
                <a:gridCol w="435240"/>
                <a:gridCol w="423720"/>
              </a:tblGrid>
              <a:tr h="30492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D-O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e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2 (Teach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3 (Academ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4 (Classro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S5 (Overal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5"/>
          <p:cNvSpPr/>
          <p:nvPr/>
        </p:nvSpPr>
        <p:spPr>
          <a:xfrm>
            <a:off x="380880" y="51814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correlations were significant at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= .00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fining the Popul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consistent standard that is applied across districts that would allow us to rely on school district determined label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HI (ADHD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rite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gh school students with social, emotional behavior proble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gnitive ability in the normal ran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gnificant impairment in school functio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cement in special edu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PS Descripti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1066680"/>
          <a:ext cx="8686800" cy="5562720"/>
        </p:xfrm>
        <a:graphic>
          <a:graphicData uri="http://schemas.openxmlformats.org/drawingml/2006/table">
            <a:tbl>
              <a:tblPr/>
              <a:tblGrid>
                <a:gridCol w="3697200"/>
                <a:gridCol w="627120"/>
                <a:gridCol w="627120"/>
                <a:gridCol w="627120"/>
                <a:gridCol w="627120"/>
                <a:gridCol w="1056960"/>
                <a:gridCol w="627120"/>
                <a:gridCol w="797040"/>
              </a:tblGrid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o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Z-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ngs necessary items to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class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homework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rds assignments consisten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ns in completed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long-term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s to instructions in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ives to class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perates/Participates in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skills in reading assigned tests and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adequate spelling and writing skills in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s notes in class to 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forms satisfactorily on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assigned work with accurate computation/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assignments legib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s positively to teacher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respect for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s positively to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es own needs or asks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pts assistance when needed or off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PS Descripti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28600" y="1066680"/>
          <a:ext cx="8686800" cy="5562720"/>
        </p:xfrm>
        <a:graphic>
          <a:graphicData uri="http://schemas.openxmlformats.org/drawingml/2006/table">
            <a:tbl>
              <a:tblPr/>
              <a:tblGrid>
                <a:gridCol w="3697200"/>
                <a:gridCol w="627120"/>
                <a:gridCol w="627120"/>
                <a:gridCol w="627120"/>
                <a:gridCol w="627120"/>
                <a:gridCol w="1056960"/>
                <a:gridCol w="627120"/>
                <a:gridCol w="797040"/>
              </a:tblGrid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o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Z-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ngs necessary items to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class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homework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rds assignments consisten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ns in completed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long-term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s to instructions in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ives to class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perates/Participates in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skills in reading assigned tests and 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adequate spelling and writing skills in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s notes in class to 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forms satisfactorily on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assigned work with accurate computation/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s assignments legib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s positively to teacher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s respect for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s positively to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  <a:tr h="2487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es own needs or asks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pts assistance when needed or off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d93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ce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hart 3" descr=""/>
          <p:cNvPicPr/>
          <p:nvPr/>
        </p:nvPicPr>
        <p:blipFill>
          <a:blip r:embed="rId1"/>
          <a:stretch/>
        </p:blipFill>
        <p:spPr>
          <a:xfrm>
            <a:off x="225360" y="907920"/>
            <a:ext cx="8693280" cy="57247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248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verage Z-Score by It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4 - Records Assignments Consistentl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9" name="Chart 3" descr=""/>
          <p:cNvPicPr/>
          <p:nvPr/>
        </p:nvPicPr>
        <p:blipFill>
          <a:blip r:embed="rId1"/>
          <a:stretch/>
        </p:blipFill>
        <p:spPr>
          <a:xfrm>
            <a:off x="835200" y="1365120"/>
            <a:ext cx="724824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991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– Completes Long-Term Assign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1" name="Chart 3" descr=""/>
          <p:cNvPicPr/>
          <p:nvPr/>
        </p:nvPicPr>
        <p:blipFill>
          <a:blip r:embed="rId1"/>
          <a:stretch/>
        </p:blipFill>
        <p:spPr>
          <a:xfrm>
            <a:off x="755640" y="1517760"/>
            <a:ext cx="77850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7 – Attends to Instructions in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3" name="Chart 3" descr=""/>
          <p:cNvPicPr/>
          <p:nvPr/>
        </p:nvPicPr>
        <p:blipFill>
          <a:blip r:embed="rId1"/>
          <a:stretch/>
        </p:blipFill>
        <p:spPr>
          <a:xfrm>
            <a:off x="603360" y="1365120"/>
            <a:ext cx="77850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2 – Takes Notes in Class to Stud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5" name="Chart 3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76262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4 – Completes Assigned Work with Accurate Computation/Detai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7" name="Chart 4" descr=""/>
          <p:cNvPicPr/>
          <p:nvPr/>
        </p:nvPicPr>
        <p:blipFill>
          <a:blip r:embed="rId1"/>
          <a:stretch/>
        </p:blipFill>
        <p:spPr>
          <a:xfrm>
            <a:off x="682560" y="1365120"/>
            <a:ext cx="76262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8 – Relates Positively to Pe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9" name="Chart 4" descr=""/>
          <p:cNvPicPr/>
          <p:nvPr/>
        </p:nvPicPr>
        <p:blipFill>
          <a:blip r:embed="rId1"/>
          <a:stretch/>
        </p:blipFill>
        <p:spPr>
          <a:xfrm>
            <a:off x="603360" y="1365120"/>
            <a:ext cx="7785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9 – Communicates Own Needs or Asks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603360" y="1444680"/>
            <a:ext cx="7632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Key Aspects of Defini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cial, emotional or behavior proble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oad band meas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 risk ran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gnificant impairment in school functio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mited assessment tools for use with high school aged stud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Academic Competence Evaluation Scales (ACES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73 items with norms for adolesc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Classroom Performance Scal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: 24 items with no norms or facto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lacement in special educ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gnitive ability in the normal ran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SIQ estimate equal to or greater than 75 according to most recent evaluation in school recor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0 – Accepts Assistance when Needed or Offere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3" name="Chart 3" descr=""/>
          <p:cNvPicPr/>
          <p:nvPr/>
        </p:nvPicPr>
        <p:blipFill>
          <a:blip r:embed="rId1"/>
          <a:stretch/>
        </p:blipFill>
        <p:spPr>
          <a:xfrm>
            <a:off x="682560" y="1292400"/>
            <a:ext cx="77058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are Students Distributed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228600" y="4114800"/>
            <a:ext cx="8305920" cy="243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6" name="Chart 6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785808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Number of Times Teacher Endorsed a z-score of 0.5 or Greater on Any Item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838080" y="1523880"/>
            <a:ext cx="1600200" cy="5105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Chart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931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stablishing Initial Criter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o are students with means better than normative sampl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o are students with very few items rated half of a sd worse than normative sampl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alk to CARS clinicians about student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riterion – 2 or fewer items rated less than .5 z-sco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est match with clinicians descrip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ossible to have better than average mean with some areas of significant impair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riteria Applied to Students Participating in Pil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808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e have parent BASC and CPS data for 32 participating students at two sit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erpetua"/>
              </a:rPr>
              <a:t>Met neither criteria – 2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b4b"/>
                </a:solidFill>
                <a:latin typeface="Perpetua"/>
              </a:rPr>
              <a:t>Met one criteria – 19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4a3d"/>
                </a:solidFill>
                <a:latin typeface="Perpetua"/>
              </a:rPr>
              <a:t>Met both criteria - 11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lic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sible reasons some students did not meet academic impairment crite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 setting where nothing is being expected of th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ecial education teachers tend to rate problems as less severe than regular education teach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ther consider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ny of the most problematic students are not attending public high schoo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ifica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BASC reports from both parent and special education teacher (use “or” criteria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ather CPS data from all teach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rite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ocial, emotional or behavior proble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 sd from mean on either internalizing or externaliz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ignificant impairment in school functio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ne-half sd from mean on 3 or more items on the CP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gnitive ability within average range (broadly define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Q &gt; 75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special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special education for something other than a Pervasive Developmental Disord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xt Ste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1920" y="68580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Keep eligibility criteria during next phase of pilot broadly defined (6 sites; 8 schools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special education for social, emotional or behavior proble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clude Pervasive Developmental Disorders and IQ less than 75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djust data collection and use “or” criter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ASC – gather from parent and primary special education teach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PS – gather from all teache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alyze eligibility criteria in relation to students’ responses to interventions and other evaluation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search Pl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ollect CPS and BASC data for students in the pilot study with open eligibility criteria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mpare data to BASC nor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ather normative data with the C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dentify factors (if any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stablish nor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mpare data to findings from CP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3" marL="1063800" indent="-2214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dentify items/factors that assess most problematic areas and issues for which we have interven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termine eligibility criteri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C Means &amp; SD for CARS Participa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371600"/>
          <a:ext cx="5181480" cy="2895480"/>
        </p:xfrm>
        <a:graphic>
          <a:graphicData uri="http://schemas.openxmlformats.org/drawingml/2006/table">
            <a:tbl>
              <a:tblPr/>
              <a:tblGrid>
                <a:gridCol w="2203200"/>
                <a:gridCol w="1489320"/>
                <a:gridCol w="1488960"/>
              </a:tblGrid>
              <a:tr h="96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C Exter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C Inter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C Externaliz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Chart 3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8010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C Internaliz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2" name="Chart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8163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umber Who Met BASC Crite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1"/>
          <a:stretch/>
        </p:blipFill>
        <p:spPr>
          <a:xfrm>
            <a:off x="1060560" y="1365120"/>
            <a:ext cx="69436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assroom Impairment: Metho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S investigators were asked to recruit staff at high schools for the stu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asurement packets were created for each teacher and placed in their mailbox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ckets contained a cover letter, student selection form, teacher demographic sheet, and six copies of the classroom performance survey (CPS), disruptive behaviors disorders scale (DBD), and impairment rating scale (I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s were asked to complete the CPS, DBD, and IRS for three randomly selected boys and girls from their first period classroom using the student selection fo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8:30:20Z</dcterms:created>
  <dc:creator>Brady</dc:creator>
  <dc:description/>
  <dc:language>en-US</dc:language>
  <cp:lastModifiedBy>IES</cp:lastModifiedBy>
  <dcterms:modified xsi:type="dcterms:W3CDTF">2010-07-12T12:20:04Z</dcterms:modified>
  <cp:revision>84</cp:revision>
  <dc:subject/>
  <dc:title>Slide 1</dc:title>
</cp:coreProperties>
</file>