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9167-36D2-46BC-A0BA-D0007F4D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B533-4A16-41F8-9886-53B6A70D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E2D8-2552-410E-A653-9B26EDC3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FC57-2308-45A0-AB77-B4D826C2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F73A-1FB2-4D16-AD23-B3929B8C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8BAB-B7D4-4F4E-BAE3-EE6D4CFB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88A2-D13F-47C0-B043-E1A8E749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227A-BA4E-4ED3-9FFE-BCAF9D1C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0F38-2134-4B57-8856-60A44D38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25AE-BB97-4CA3-8C5A-B46BEFDD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64CD-DBA1-4372-95FE-DDAA62A6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793F-B951-4B7F-9F2E-3F4C4C11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1C59-41FD-42A7-8EDF-D065D399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F5F1-3727-41BB-AD41-DD87C650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7275-2C72-4CD1-A191-7B297530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41A6-9BE4-411E-8189-DB9FCA75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4C3F-0807-45C5-AD27-6C392968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A99CD-6FAD-4798-A038-86C651A5C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F69CE-2C47-446B-929B-F6FC6AE6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271EA-7B7B-4AD2-88F3-03EE1C2C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207E1-744A-49B8-9038-282E8829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B97DE-FCE1-4F7C-A3F1-7DB3E5B5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6619-441E-4CDA-83BF-4EBDE8C3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CCCF8-1553-44F6-9FCA-CBACBA12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181BF-DCC6-4AAF-A3AB-C4575C64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288B6-085F-4ED5-A3C3-08ACCF66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CA812-C236-46E0-8DC9-CCFB2B40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71418-6074-4EDA-9685-534C4AA1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BC23A-09B1-4B2C-8010-A128407C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30F74-D8BE-485B-9ACD-AFF94D35E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6C241-CBDE-4846-A302-2457CF131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212E8-BAE7-4FB3-A5ED-E8776311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B2EBB-8430-4DCA-AF23-93288D41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F68A-77C8-4CBF-8B0E-7D134107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9F1E4-B55C-441A-9B7B-0F670995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65C09-ACAE-4FA6-8925-67BEACEA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EA96F-6A8D-419B-817B-FECE1493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571E5-417A-4FE4-A207-A806548F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742C3-94F9-4B7D-9594-07749C97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4F1C5-1181-47ED-A8B2-EA614345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CF48A-FFB6-46BC-8AC5-A0388278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5A128-D082-420E-AC95-1A5403265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D3CFD-E727-4D8C-B558-8505CCB0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BD225-5B5D-4A95-8BA1-74FD031D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F8B8-BF85-450B-972A-4F3FEA6E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824D3-8E52-4644-BC22-BF593CD5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4D5B8-4529-4154-AEFD-6B4531FA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87330-AC9B-44B4-A0C9-7AB3406D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C62A1-A2BB-4751-9A40-934A2E39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F90A1-7EC0-4B2E-A074-A597DD5A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AFC55-4213-460C-96C0-637E55F5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B56DA-A5BA-42D9-AF3C-954C7C05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FD5E4-418C-4208-9ECE-90C559DB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8B08A-93F5-4FCF-9AE4-8275FFD5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A90EE-9D59-4895-A5BB-C063044A1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981E-5D4B-4F70-9A95-3B27F8D6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63FFC-6CFE-49BB-BC1C-A11227469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01C6-8BAC-4CE9-A13F-96A5CC76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1AA0-5B8C-4FCD-9315-415F40DA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7EF6-8B10-43B9-85A9-32D72DAF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783E-3494-43F8-9B31-D0D9F775180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E337-4A15-4C9D-BB14-DDE944766ED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A579-DEDD-42AD-BB71-3B2242E4E8C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C09B-A82F-4FF6-8365-2798023AB29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5A07-A93A-4B76-B131-91A505E90AE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Steven W. Evans, Christine Brady, Lee Kern, Christiana Andrews and the CARS Research Team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Measurement Development and Inclusion Criteria: Developing Meaningful Standard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0" name="Picture 3" descr="cars_logo_sm (2).jpg"/>
          <p:cNvPicPr/>
          <p:nvPr/>
        </p:nvPicPr>
        <p:blipFill>
          <a:blip r:embed="rId1"/>
          <a:stretch/>
        </p:blipFill>
        <p:spPr>
          <a:xfrm>
            <a:off x="5715000" y="4800600"/>
            <a:ext cx="29923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ethod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ose who completed packets were entered in a drawing to win one of three monetary prizes ($75, $50, $25)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rawing were conducted within school to increase particip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eachers were allowed two weeks to complete and return the packe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assroom Performance Survey (CH.A.D.D., 1996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4479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eacher repor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20 items on a 5 point Likert-type scale (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= “always” to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= “never”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ems regarding homework, note-taking, test-taking, interpersonal skills, communication, and attention behavio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04920" y="4038480"/>
          <a:ext cx="8458200" cy="990720"/>
        </p:xfrm>
        <a:graphic>
          <a:graphicData uri="http://schemas.openxmlformats.org/drawingml/2006/table">
            <a:tbl>
              <a:tblPr/>
              <a:tblGrid>
                <a:gridCol w="3201840"/>
                <a:gridCol w="1008000"/>
                <a:gridCol w="1009800"/>
                <a:gridCol w="1219320"/>
                <a:gridCol w="1009440"/>
                <a:gridCol w="1009800"/>
              </a:tblGrid>
              <a:tr h="495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meti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ings necessary items to clas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eacher Demographics Overall Sample</a:t>
            </a:r>
            <a:br>
              <a:rPr sz="4000"/>
            </a:b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139 teacher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533520" y="1523880"/>
          <a:ext cx="3504960" cy="4114800"/>
        </p:xfrm>
        <a:graphic>
          <a:graphicData uri="http://schemas.openxmlformats.org/drawingml/2006/table">
            <a:tbl>
              <a:tblPr/>
              <a:tblGrid>
                <a:gridCol w="2311200"/>
                <a:gridCol w="1193760"/>
              </a:tblGrid>
              <a:tr h="41112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ucas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.6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rican Americ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4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.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4114800" y="1600200"/>
          <a:ext cx="4419720" cy="4572000"/>
        </p:xfrm>
        <a:graphic>
          <a:graphicData uri="http://schemas.openxmlformats.org/drawingml/2006/table">
            <a:tbl>
              <a:tblPr/>
              <a:tblGrid>
                <a:gridCol w="2914560"/>
                <a:gridCol w="1505160"/>
              </a:tblGrid>
              <a:tr h="352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nguage A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6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20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6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 Stud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4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i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7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0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e of Tea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eral 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ecial 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# of Years Teach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udent Demographics Overall Sampl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457200" y="1752480"/>
          <a:ext cx="3505320" cy="3353040"/>
        </p:xfrm>
        <a:graphic>
          <a:graphicData uri="http://schemas.openxmlformats.org/drawingml/2006/table">
            <a:tbl>
              <a:tblPr/>
              <a:tblGrid>
                <a:gridCol w="2249640"/>
                <a:gridCol w="1255680"/>
              </a:tblGrid>
              <a:tr h="37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7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.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.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038480" y="1676520"/>
          <a:ext cx="4267440" cy="2666880"/>
        </p:xfrm>
        <a:graphic>
          <a:graphicData uri="http://schemas.openxmlformats.org/drawingml/2006/table">
            <a:tbl>
              <a:tblPr/>
              <a:tblGrid>
                <a:gridCol w="2738520"/>
                <a:gridCol w="1528920"/>
              </a:tblGrid>
              <a:tr h="444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ucas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rican Americ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spa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nalysis Pla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iven our sample size (139 teachers and 833 students), we decided to run an exploratory factor analysis with a portion of the sample (263 students) and a confirmatory factor analysis with the others (570 student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ata were randomly assigned to an analysis by teacher within schoo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xploratory Factor Analy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ults indicated the presence of two factors accounting for 78.6% of the varia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actor 1: Academic (14 items) included items regarding homework, tests, attending to instruction, and completion of longer term assignme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actor 2: Interpersonal (6 items) included items regarding relation to peer, relation to teachers, accepting assistance, and respecting proper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firmatory Factor Analy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wo models were compared: the two factor model found in the EFA and a one factor mod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ults indicated some degree of fit, but not enough to justify the use of either mod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ems on the CPS should be treated individuall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ean Data on the CP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44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cores on every item included the full range of scores (1 to 5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two most commonly endorsed problematic behaviors were recording assignments (M = 2.68, SD = 1.36) and completing homework assignments (M = 2.65, SD = 1.26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two least endorsed items were respecting property (M = 1.69, SD = 1.02) and relating positively to teachers (M = 1.84, SD = 1.06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PS Correla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0" y="1143000"/>
          <a:ext cx="8853480" cy="3886200"/>
        </p:xfrm>
        <a:graphic>
          <a:graphicData uri="http://schemas.openxmlformats.org/drawingml/2006/table">
            <a:tbl>
              <a:tblPr/>
              <a:tblGrid>
                <a:gridCol w="838080"/>
                <a:gridCol w="378000"/>
                <a:gridCol w="360360"/>
                <a:gridCol w="358560"/>
                <a:gridCol w="360360"/>
                <a:gridCol w="360360"/>
                <a:gridCol w="358920"/>
                <a:gridCol w="357120"/>
                <a:gridCol w="355680"/>
                <a:gridCol w="357120"/>
                <a:gridCol w="434880"/>
                <a:gridCol w="433440"/>
                <a:gridCol w="435240"/>
                <a:gridCol w="434880"/>
                <a:gridCol w="433440"/>
                <a:gridCol w="434880"/>
                <a:gridCol w="434880"/>
                <a:gridCol w="433440"/>
                <a:gridCol w="434880"/>
                <a:gridCol w="435240"/>
                <a:gridCol w="423720"/>
              </a:tblGrid>
              <a:tr h="30492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D-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D-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D-OD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S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ee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S2 (Teach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S3 (Academic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S4 (Classroo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S5 (Overal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TextBox 5"/>
          <p:cNvSpPr/>
          <p:nvPr/>
        </p:nvSpPr>
        <p:spPr>
          <a:xfrm>
            <a:off x="380880" y="5181480"/>
            <a:ext cx="38862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All correlations were significant at </a:t>
            </a:r>
            <a:r>
              <a:rPr b="0" i="1" lang="en-US" sz="1800" spc="-1" strike="noStrike">
                <a:solidFill>
                  <a:srgbClr val="000000"/>
                </a:solidFill>
                <a:latin typeface="Perpetu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= .001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PS Correla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0" y="1143000"/>
          <a:ext cx="8853480" cy="3886200"/>
        </p:xfrm>
        <a:graphic>
          <a:graphicData uri="http://schemas.openxmlformats.org/drawingml/2006/table">
            <a:tbl>
              <a:tblPr/>
              <a:tblGrid>
                <a:gridCol w="855720"/>
                <a:gridCol w="360360"/>
                <a:gridCol w="360360"/>
                <a:gridCol w="358560"/>
                <a:gridCol w="360360"/>
                <a:gridCol w="360360"/>
                <a:gridCol w="358920"/>
                <a:gridCol w="357120"/>
                <a:gridCol w="355680"/>
                <a:gridCol w="357120"/>
                <a:gridCol w="434880"/>
                <a:gridCol w="433440"/>
                <a:gridCol w="435240"/>
                <a:gridCol w="434880"/>
                <a:gridCol w="433440"/>
                <a:gridCol w="434880"/>
                <a:gridCol w="434880"/>
                <a:gridCol w="433440"/>
                <a:gridCol w="434880"/>
                <a:gridCol w="435240"/>
                <a:gridCol w="423720"/>
              </a:tblGrid>
              <a:tr h="30492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D-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D-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D-OD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S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ee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S2 (Teach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S3 (Academic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S4 (Classroo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S5 (Overal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TextBox 5"/>
          <p:cNvSpPr/>
          <p:nvPr/>
        </p:nvSpPr>
        <p:spPr>
          <a:xfrm>
            <a:off x="380880" y="518148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All correlations were significant at </a:t>
            </a:r>
            <a:r>
              <a:rPr b="0" i="1" lang="en-US" sz="1800" spc="-1" strike="noStrike">
                <a:solidFill>
                  <a:srgbClr val="000000"/>
                </a:solidFill>
                <a:latin typeface="Perpetu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= .001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efining the Popula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286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 consistent standard that is applied across districts that would allow us to rely on school district determined label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HI (ADHD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riteri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igh school students with social, emotional behavior problem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gnitive ability in the normal rang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ignificant impairment in school function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lacement in special educ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PS Descriptiv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28600" y="1066680"/>
          <a:ext cx="8686800" cy="5562720"/>
        </p:xfrm>
        <a:graphic>
          <a:graphicData uri="http://schemas.openxmlformats.org/drawingml/2006/table">
            <a:tbl>
              <a:tblPr/>
              <a:tblGrid>
                <a:gridCol w="3697200"/>
                <a:gridCol w="627120"/>
                <a:gridCol w="627120"/>
                <a:gridCol w="627120"/>
                <a:gridCol w="627120"/>
                <a:gridCol w="1056960"/>
                <a:gridCol w="627120"/>
                <a:gridCol w="797040"/>
              </a:tblGrid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Norm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 Z-Sc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-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gnific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ings necessary items to 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s class assign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s homework on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rds assignments consistent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rns in completed 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s long-term assign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s to instructions in 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87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ives to class on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perates/Participates in 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onstrates skills in reading assigned tests and materi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onstrates adequate spelling and writing skills in 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es notes in class to stu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forms satisfactorily on te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2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s assigned work with accurate computation/det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s assignments legib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es positively to teacher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onstrates respect for proper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es positively to pe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87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unicates own needs or asks ques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0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epts assistance when needed or offe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PS Descriptiv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28600" y="1066680"/>
          <a:ext cx="8686800" cy="5562720"/>
        </p:xfrm>
        <a:graphic>
          <a:graphicData uri="http://schemas.openxmlformats.org/drawingml/2006/table">
            <a:tbl>
              <a:tblPr/>
              <a:tblGrid>
                <a:gridCol w="3697200"/>
                <a:gridCol w="627120"/>
                <a:gridCol w="627120"/>
                <a:gridCol w="627120"/>
                <a:gridCol w="627120"/>
                <a:gridCol w="1056960"/>
                <a:gridCol w="627120"/>
                <a:gridCol w="797040"/>
              </a:tblGrid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Norm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 Z-Sc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-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gnific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ings necessary items to 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s class assign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s homework on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rds assignments consistent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rns in completed 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s long-term assign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9d93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9d93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s to instructions in 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9d93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9d93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</a:tr>
              <a:tr h="2487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ives to class on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9d93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9d93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perates/Participates in 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onstrates skills in reading assigned tests and materi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onstrates adequate spelling and writing skills in 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es notes in class to stu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forms satisfactorily on te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2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s assigned work with accurate computation/det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s assignments legib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es positively to teacher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onstrates respect for proper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es positively to pe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9d93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9d93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</a:tr>
              <a:tr h="2487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unicates own needs or asks ques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0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epts assistance when needed or offe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9d93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9d93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Chart 3" descr=""/>
          <p:cNvPicPr/>
          <p:nvPr/>
        </p:nvPicPr>
        <p:blipFill>
          <a:blip r:embed="rId1"/>
          <a:stretch/>
        </p:blipFill>
        <p:spPr>
          <a:xfrm>
            <a:off x="225360" y="907920"/>
            <a:ext cx="8693280" cy="572472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62485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verage Z-Score by Ite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4 - Records Assignments Consistentl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79" name="Chart 3" descr=""/>
          <p:cNvPicPr/>
          <p:nvPr/>
        </p:nvPicPr>
        <p:blipFill>
          <a:blip r:embed="rId1"/>
          <a:stretch/>
        </p:blipFill>
        <p:spPr>
          <a:xfrm>
            <a:off x="835200" y="1365120"/>
            <a:ext cx="7248240" cy="45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991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6 – Completes Long-Term Assignmen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81" name="Chart 3" descr=""/>
          <p:cNvPicPr/>
          <p:nvPr/>
        </p:nvPicPr>
        <p:blipFill>
          <a:blip r:embed="rId1"/>
          <a:stretch/>
        </p:blipFill>
        <p:spPr>
          <a:xfrm>
            <a:off x="755640" y="1517760"/>
            <a:ext cx="778500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7 – Attends to Instructions in Clas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83" name="Chart 3" descr=""/>
          <p:cNvPicPr/>
          <p:nvPr/>
        </p:nvPicPr>
        <p:blipFill>
          <a:blip r:embed="rId1"/>
          <a:stretch/>
        </p:blipFill>
        <p:spPr>
          <a:xfrm>
            <a:off x="603360" y="1365120"/>
            <a:ext cx="778500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12 – Takes Notes in Class to Stud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85" name="Chart 3" descr=""/>
          <p:cNvPicPr/>
          <p:nvPr/>
        </p:nvPicPr>
        <p:blipFill>
          <a:blip r:embed="rId1"/>
          <a:stretch/>
        </p:blipFill>
        <p:spPr>
          <a:xfrm>
            <a:off x="682560" y="1444680"/>
            <a:ext cx="762624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14 – Completes Assigned Work with Accurate Computation/Detail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87" name="Chart 4" descr=""/>
          <p:cNvPicPr/>
          <p:nvPr/>
        </p:nvPicPr>
        <p:blipFill>
          <a:blip r:embed="rId1"/>
          <a:stretch/>
        </p:blipFill>
        <p:spPr>
          <a:xfrm>
            <a:off x="682560" y="1365120"/>
            <a:ext cx="762624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18 – Relates Positively to Peer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89" name="Chart 4" descr=""/>
          <p:cNvPicPr/>
          <p:nvPr/>
        </p:nvPicPr>
        <p:blipFill>
          <a:blip r:embed="rId1"/>
          <a:stretch/>
        </p:blipFill>
        <p:spPr>
          <a:xfrm>
            <a:off x="603360" y="1365120"/>
            <a:ext cx="778500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19 – Communicates Own Needs or Asks Ques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91" name="Chart 3" descr=""/>
          <p:cNvPicPr/>
          <p:nvPr/>
        </p:nvPicPr>
        <p:blipFill>
          <a:blip r:embed="rId1"/>
          <a:stretch/>
        </p:blipFill>
        <p:spPr>
          <a:xfrm>
            <a:off x="603360" y="1444680"/>
            <a:ext cx="7632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Key Aspects of Defini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ocial, emotional or behavior problem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road band meas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t risk rang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gnificant impairment in school function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imited assessment tools for use with high school aged studen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Academic Competence Evaluation Scales (ACES)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73 items with norms for adolescen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Classroom Performance Scal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: 24 items with no norms or factor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lacement in special educ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gnitive ability in the normal ran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FSIQ estimate equal to or greater than 75 according to most recent evaluation in school record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20 – Accepts Assistance when Needed or Offered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93" name="Chart 3" descr=""/>
          <p:cNvPicPr/>
          <p:nvPr/>
        </p:nvPicPr>
        <p:blipFill>
          <a:blip r:embed="rId1"/>
          <a:stretch/>
        </p:blipFill>
        <p:spPr>
          <a:xfrm>
            <a:off x="682560" y="1292400"/>
            <a:ext cx="770580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ow are Students Distributed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Oval 5"/>
          <p:cNvSpPr/>
          <p:nvPr/>
        </p:nvSpPr>
        <p:spPr>
          <a:xfrm>
            <a:off x="228600" y="4114800"/>
            <a:ext cx="8305920" cy="243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6" name="Chart 6" descr=""/>
          <p:cNvPicPr/>
          <p:nvPr/>
        </p:nvPicPr>
        <p:blipFill>
          <a:blip r:embed="rId1"/>
          <a:stretch/>
        </p:blipFill>
        <p:spPr>
          <a:xfrm>
            <a:off x="450720" y="1139760"/>
            <a:ext cx="785808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Number of Times Teacher Endorsed a z-score of 0.5 or Greater on Any Item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838080" y="1523880"/>
            <a:ext cx="1600200" cy="51055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9" name="Chart 5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9311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stablishing Initial Criter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ho are students with means better than normative sample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ho are students with very few items rated half of a sd worse than normative sample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alk to CARS clinicians about student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riterion – 2 or fewer items rated less than .5 z-scor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Best match with clinicians description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ossible to have better than average mean with some areas of significant impairmen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riteria Applied to Students Participating in Pilo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83808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We have parent BASC and CPS data for 32 participating students at two site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Perpetua"/>
              </a:rPr>
              <a:t>Met neither criteria – 2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b4b"/>
                </a:solidFill>
                <a:latin typeface="Perpetua"/>
              </a:rPr>
              <a:t>Met one criteria – 19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4a3d"/>
                </a:solidFill>
                <a:latin typeface="Perpetua"/>
              </a:rPr>
              <a:t>Met both criteria - 11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mplica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ossible reasons some students did not meet academic impairment criteri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a setting where nothing is being expected of the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pecial education teachers tend to rate problems as less severe than regular education teach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ther consider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ny of the most problematic students are not attending public high schoo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Modification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sider BASC reports from both parent and special education teacher (use “or” criteria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ather CPS data from all teach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riter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ocial, emotional or behavior problem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92480" indent="-205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1 sd from mean on either internalizing or externalizing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ignificant impairment in school functioning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92480" indent="-205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One-half sd from mean on 3 or more items on the CP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ognitive ability within average range (broadly defined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92480" indent="-205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Q &gt; 75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n special educa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92480" indent="-205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n special education for something other than a Pervasive Developmental Disorde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0773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xt Step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51920" y="685800"/>
            <a:ext cx="8534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Keep eligibility criteria during next phase of pilot broadly defined (6 sites; 8 schools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n special education for social, emotional or behavior problem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Exclude Pervasive Developmental Disorders and IQ less than 75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djust data collection and use “or” criter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BASC – gather from parent and primary special education teache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PS – gather from all teacher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nalyze eligibility criteria in relation to students’ responses to interventions and other evaluation dat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search Pla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6840" y="12193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Collect CPS and BASC data for students in the pilot study with open eligibility criteria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ompare data to BASC norm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Gather normative data with the CP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797400" indent="-2214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dentify factors (if any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97400" indent="-2214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Establish norm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97400" indent="-2214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ompare data to findings from CP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3" marL="1063800" indent="-221400">
              <a:spcBef>
                <a:spcPts val="3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dentify items/factors that assess most problematic areas and issues for which we have interventi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97400" indent="-2214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Determine eligibility criteri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BASC Means &amp; SD for CARS Participan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62120" y="1371600"/>
          <a:ext cx="5181480" cy="2895480"/>
        </p:xfrm>
        <a:graphic>
          <a:graphicData uri="http://schemas.openxmlformats.org/drawingml/2006/table">
            <a:tbl>
              <a:tblPr/>
              <a:tblGrid>
                <a:gridCol w="2203200"/>
                <a:gridCol w="1489320"/>
                <a:gridCol w="1488960"/>
              </a:tblGrid>
              <a:tr h="965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65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C Exter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65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C Inter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.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BASC Externaliz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0" name="Chart 3" descr=""/>
          <p:cNvPicPr/>
          <p:nvPr/>
        </p:nvPicPr>
        <p:blipFill>
          <a:blip r:embed="rId1"/>
          <a:stretch/>
        </p:blipFill>
        <p:spPr>
          <a:xfrm>
            <a:off x="530280" y="1444680"/>
            <a:ext cx="801036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BASC Internaliz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2" name="Chart 3" descr=""/>
          <p:cNvPicPr/>
          <p:nvPr/>
        </p:nvPicPr>
        <p:blipFill>
          <a:blip r:embed="rId1"/>
          <a:stretch/>
        </p:blipFill>
        <p:spPr>
          <a:xfrm>
            <a:off x="450720" y="1365120"/>
            <a:ext cx="816300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umber Who Met BASC Criter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4" name="Chart 2" descr=""/>
          <p:cNvPicPr/>
          <p:nvPr/>
        </p:nvPicPr>
        <p:blipFill>
          <a:blip r:embed="rId1"/>
          <a:stretch/>
        </p:blipFill>
        <p:spPr>
          <a:xfrm>
            <a:off x="1060560" y="1365120"/>
            <a:ext cx="694368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assroom Impairment: Method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RS investigators were asked to recruit staff at high schools for the stud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easurement packets were created for each teacher and placed in their mailbox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ackets contained a cover letter, student selection form, teacher demographic sheet, and six copies of the classroom performance survey (CPS), disruptive behaviors disorders scale (DBD), and impairment rating scale (IR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eachers were asked to complete the CPS, DBD, and IRS for three randomly selected boys and girls from their first period classroom using the student selection for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18:30:20Z</dcterms:created>
  <dc:creator>Brady</dc:creator>
  <dc:description/>
  <dc:language>en-US</dc:language>
  <cp:lastModifiedBy>IES</cp:lastModifiedBy>
  <dcterms:modified xsi:type="dcterms:W3CDTF">2010-07-12T12:20:04Z</dcterms:modified>
  <cp:revision>84</cp:revision>
  <dc:subject/>
  <dc:title>Slide 1</dc:title>
</cp:coreProperties>
</file>