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A0E6-D9AC-4D2D-9F79-5C2AE5AC7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EAD-EF88-4DCA-8113-7B2540576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364-6F79-4685-8BFE-B88BC68CA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D0C5-62AB-4088-90D6-09ACBA080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45E4-B0DA-442B-97AD-0F4DA0EFD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FF98-E2F8-4726-A13B-8C31C591A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B7E-4DC0-4553-90F4-D343D9C8A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49F-189E-4D26-B937-DE6C2E3E8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BEF8-3580-4C6E-A42C-219CF3173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7C4-CC65-482F-AA65-1DFE3E412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ADE-3D19-4CC3-AE61-925DF3BA4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414-C667-45AA-98DB-F2F04BA0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456-0753-4859-A42B-EE5AA18E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DD0-AB43-4B41-9A48-F2CABDA7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39A-465B-4C96-9B47-B02ED75F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7F3-2DA8-4353-B5C3-17739311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FE1-0DF8-47B0-AB47-1E0A4AE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911-F5D5-47CC-89BD-9280C5C8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11A-B9F6-40C7-B8F5-BB4447B3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B67-3FE0-489D-AE77-23BD705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BA7-9810-4C7B-A88D-E41DAD7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89-BE81-46F4-8B4B-CD9B513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16E-019B-4FDD-AA4C-5452A0F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280F-9039-488D-BD75-FB1EAFDF720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8877-43F3-41C6-8A4A-4CECC31F06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fabiano@buffalo.ed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ing Daily Report Cards as a Progress Monitoring Tool for Students with ADHD in Special Edu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gory A. Fabiano, Ph.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at Buffa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artment of Counseling, School, and Educational Psych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biano@buffalo.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ypical progress monitoring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gress monito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2% of children with ADHD are reported to have progress monitored by a special educator, but typically with long lags between assessments (i.e., weeks or month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24600" y="618336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biano et al., in preparation; Schnoes et al.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Monitoring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llmark of ADHD is behavioral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 need to be fluid, socially valid, and tied to important functional outco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ssessments cannot be static, but need to be ongoing and frequent (i.e., dai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work on an individual/idiographic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se issues/criteria, the Daily Report Card may be a useful approach to progress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ily Report Cards for Progress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What is a Daily Report Card (DRC)?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RC is an operationalized list of a child’s targe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-based privileges contingent on meeting DRC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a DR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evidence based interventions specified in the IEP’s of students diagnosed with AD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RC is an evidence-based intervention for ADHD in school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lham &amp; Fabiano, 2008; DuPaul &amp; Stoner, 2004; Evans &amp; Youngstrom, 2006; U.S. Department of Education, 200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sible for teacher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Fabiano et al., 2010; Murray et al., 200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receive immediat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icit feedback from the teacher may also serve as an antecedent to future appropriate behavio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i &amp; Colvin, 199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a DR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daily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for an intervention to facilitate communication (Pisecco, et al, 199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contribute to amenable parent-teacher relationships (Dussault, 1996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enhance relationships between teacher, parent and chil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, Pianta, 1996; Sheridan &amp; Kratochwill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llow for continued progress monitoring &amp; monitoring outco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, Chafouleas, Riley-Tillman, &amp; McDougal, 2002; Cheney, Flower, &amp; Templeton, 2008; DuPaul &amp; Stoner, 2003; Evans et al., 1995; Pelham, Fabiano, &amp; Massetti, 2005; Riley-Tillman, Chafouleas, &amp; Breisch, 200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076480" y="380880"/>
            <a:ext cx="499104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the D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lham, Fabiano, &amp; Massetti (2005) – Evidence-based assessment for AD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Cs have adequate psychometric proper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= .77- 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.62 for test-re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es with symptom-based ratings of AD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.51 - .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es with objective measures of behavior (i.e., observ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.47- .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riminates between treatment condi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ng History of Using Targeted Behavior Lists as Measures of Out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son (19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argeted behaviors listed by parents at referral (noncompliance, temper tantrum, teasing) as measures of treatment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Daily Report (PDR) is a psychometrically sound measure (Chamberlain &amp; Reid, 198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-deficit hyperactivity disorder (ADH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 is characterized by developmentally inappropriate levels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uls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 behaviors are developmentally inappropriate, pervasive, chronic, and result in considerable impairment in social and academic functio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 of Existing Studies of the DRC as a Progress Monitoring Mea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ney, Flower, and Templeton (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 Daily Progres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ified Students as responders/non-responders in an RtI mod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the DRC as a measure of on-going progress monitoring for students on Tier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fouleas, Riley-Tillman, Christ, &amp; Brie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Behavior Ratings (DB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ed a sophisticated and comprehensive program of research to validate DBRs as a measure of screening, progress monitoring, and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BRs are reliable, valid, and sensitive to treatment (Chafouleas, Christ, Riley-Tillman, Briesch, &amp; Chanese, 2007; Chafouleas, Riley-Tillman, &amp; Christ, 2009; Christ, Riley-Tillman, &amp; Chafouleas,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lh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the DRC as an intervention for ADHD (e.g., O’Leary, Pelham, Rosenbaum, &amp; Price, 1976; O’Leary &amp; Pelham, 197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ecently used the DRC as a method of progress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 effects (Pelham et al., 2001; Pelham et al.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 Modification effects (Pelham et al.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bined treatment effects (Pelham et al.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Monitoring (Coles et al., 2010; Pelham et al., 2010 a,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-1065240" y="3139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ham et al., 2001 – medication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ham &amp; Fabiano (2001) –Behavioral Treatment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hart 3" descr=""/>
          <p:cNvPicPr/>
          <p:nvPr/>
        </p:nvPicPr>
        <p:blipFill>
          <a:blip r:embed="rId1"/>
          <a:stretch/>
        </p:blipFill>
        <p:spPr>
          <a:xfrm>
            <a:off x="835200" y="1444680"/>
            <a:ext cx="7650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lham et al., 2005 – single and combined treatment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6132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197600" y="1676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C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nhancing the Effectiveness of Special Education Services for Children with ADHD Using a Daily Report Card Progra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493200" y="5791320"/>
            <a:ext cx="78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Education Sciences Goal 2 Grant # R324J06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, Vujnovic, Pelham, Waschbusch, Massetti, Pariseau, et al., in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-Investig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iam E. Pelham, J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iel A. Waschbu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ta M. Masset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hnhee Y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tin Vol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istopher J. Lop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li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n Nay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ghan Summerl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ecca Vujnov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ah Carn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lissa Rob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nna Renne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and Main Findings of Goal 2 Project (Fabiano, et al., 20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 children with ADHD and IEPs were randomly assigned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as Usual (BA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U + a DRC with targets based on IEP goals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were assessed in October and May of the school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990720" y="892080"/>
            <a:ext cx="71625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ADHD - Impair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ul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bling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of illn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elham, Foster, &amp; Robb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C group was significantly better than BAU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ind observations of disruptiv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rating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ademic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ruptive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P goal attai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ization of func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ifference on academic achievement, ratings of ADHD symptoms, or student-teache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040" y="6488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 et al.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metric Properties of the DRC as a Progress Monitoring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s between odd and even days suggested considerable temporal stability      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.94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.0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on between the DRC and an independent observation code ranged from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.45 to -.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71240" y="62485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val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ademic goals represented in the IEP were at least adequately included on the D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as not a significant correspondence between social goals reported on the IEP and the DRC goals related to social function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able that a considerable number of children with no IEP goals related to social behavior had a social goal added to the DRC during the school ye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goals may not be well-represented on I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50360" y="64580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,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242640" y="6488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 et al.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380880" y="1168560"/>
            <a:ext cx="984276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616680" y="457200"/>
            <a:ext cx="74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Academic and Social Targets on DRCs/IT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and whiskers plot for a sample month of DRCs/ITBEs in th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05600" cy="4892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274320" y="62485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iano,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76440" y="1031760"/>
            <a:ext cx="5991120" cy="4800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161080" y="38088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ITBEs vs. D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la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report satisfaction with DRC procedures related to monitoring and interven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hafouleas, Riley-Tillman, &amp; Sassu, 2006; Fabiano et al., 2010; Pelham et al., under review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C is supported as a psychometrically sound progress monitoring t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better for monitoring progress for social behavior relative to typical methods such as IEP goals/objec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significant behavioral variability, daily implementation is preferred frequency of measur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intervention may impact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/School staff are not trained in interpreting single-subject research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daily progress monitoring be utiliz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tudy of contex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within a problem-solvin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 Fabi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1"/>
              </a:rPr>
              <a:t>fabiano@buffalo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HD and Special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ace between ADHD and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to describe precisely due to no “ADHD”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ity of children in Other Health Impaired and Emotionally/Behaviorally disturbed cate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20% of children in Learning Disabled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considerable number of children with ADHD are at risk for or receive special education in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33240" y="6183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ssing et al., 2002; Reid et al., 1994; Schnoes et al.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 Impacts General and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% of time is spent in a general education set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 60-70% of children spe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jo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ir time in general education set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619560" y="61833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oes et al.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708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educators were asked “Does this child with ADHD have an IEP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advent of the Response to Intervention (RtI) approach, progress monitoring has become emphasiz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 monitoring is complicated for children with AD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ed at all 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 is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in general and special education settings working with multiple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905120" y="144468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1:27:45Z</dcterms:created>
  <dc:creator>fabiano</dc:creator>
  <dc:description/>
  <dc:language>en-US</dc:language>
  <cp:lastModifiedBy>Authorised User</cp:lastModifiedBy>
  <dcterms:modified xsi:type="dcterms:W3CDTF">2010-07-06T18:25:56Z</dcterms:modified>
  <cp:revision>98</cp:revision>
  <dc:subject/>
  <dc:title>Slide 1</dc:title>
</cp:coreProperties>
</file>