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9195-606C-48FB-BED1-0DAE8631C5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7514-C738-4BF7-ACE1-9D34D35D7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B14B-C085-4443-B191-733944AE1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B67E-7A37-46A9-A051-F66C6EA32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2832-19D2-4823-8F66-003354E0D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EADA-1EB1-4619-B866-2940A5229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8675-EEC8-46EC-92D0-9F9FF1358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93FB-1461-4E3F-B513-5B1A3C326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8CF3-528C-4050-A832-EC8666D44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D570-85E0-421E-A0A8-E1F25A26A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A222-AD3F-4A77-970B-A12CAAD7C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81E-468C-4FA2-A20E-66EF4FC4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241-4CA4-417B-ACB0-1EF55093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140-73C3-4BF6-BCDE-78A0A760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145-70FE-4797-978D-412385C9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D96-24DD-4A54-8C7C-FB41480A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E26-7D2B-47BF-83F7-C08B7A30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E91-72FA-4699-98EF-A7FB6D04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2C1-220B-49D4-8B20-ED06AF47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C7D-A632-4D8A-863E-221BC114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B17-0108-4BA1-868D-64C1808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C7B-07D7-4370-A6B9-92A77C14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FF9-13A4-4F2D-A9CA-9CD7046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DAAD-2535-45DD-B3D3-FE350521CE9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3C6C-1294-49A2-BFEE-78CB8D2E58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fabiano@buffalo.edu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ing Daily Report Cards as a Progress Monitoring Tool for Students with ADHD in Special Edu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gory A. Fabiano, Ph.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 at Buffa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artment of Counseling, School, and Educational Psych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biano@buffalo.e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ypical progress monitoring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gress monito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2% of children with ADHD are reported to have progress monitored by a special educator, but typically with long lags between assessments (i.e., weeks or month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24600" y="6183360"/>
            <a:ext cx="48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biano et al., in preparation; Schnoes et al.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Monitoring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allmark of ADHD is behavioral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 need to be fluid, socially valid, and tied to important functional outco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ssessments cannot be static, but need to be ongoing and frequent (i.e., dai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work on an individual/idiographic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se issues/criteria, the Daily Report Card may be a useful approach to progress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ily Report Cards for Progress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What is a Daily Report Card (DRC)?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RC is an operationalized list of a child’s targe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ediat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-based privileges contingent on meeting DRC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a DRC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evidence based interventions specified in the IEP’s of students diagnosed with AD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RC is an evidence-based intervention for ADHD in school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lham &amp; Fabiano, 2008; DuPaul &amp; Stoner, 2004; Evans &amp; Youngstrom, 2006; U.S. Department of Education, 200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sible for teacher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Fabiano et al., 2010; Murray et al., 200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receive immediat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icit feedback from the teacher may also serve as an antecedent to future appropriate behavio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ai &amp; Colvin, 199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a DRC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daily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 for an intervention to facilitate communication (Pisecco, et al, 1999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contribute to amenable parent-teacher relationships (Dussault, 1996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enhance relationships between teacher, parent and chil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.g., Pianta, 1996; Sheridan &amp; Kratochwill, 200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llow for continued progress monitoring &amp; monitoring outco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.g., Chafouleas, Riley-Tillman, &amp; McDougal, 2002; Cheney, Flower, &amp; Templeton, 2008; DuPaul &amp; Stoner, 2003; Evans et al., 1995; Pelham, Fabiano, &amp; Massetti, 2005; Riley-Tillman, Chafouleas, &amp; Breisch, 200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076480" y="380880"/>
            <a:ext cx="499104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the D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lham, Fabiano, &amp; Massetti (2005) – Evidence-based assessment for ADH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Cs have adequate psychometric proper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= .77- .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.62 for test-re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es with symptom-based ratings of AD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.51 - .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es with objective measures of behavior (i.e., observ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.47- .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riminates between treatment condi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ng History of Using Targeted Behavior Lists as Measures of Out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son (197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argeted behaviors listed by parents at referral (noncompliance, temper tantrum, teasing) as measures of treatment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Daily Report (PDR) is a psychometrically sound measure (Chamberlain &amp; Reid, 198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tion-deficit hyperactivity disorder (ADH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D is characterized by developmentally inappropriate levels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tt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uls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D behaviors are developmentally inappropriate, pervasive, chronic, and result in considerable impairment in social and academic functio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s of Existing Studies of the DRC as a Progress Monitoring Mea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ney, Flower, and Templeton (20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a Daily Progress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ified Students as responders/non-responders in an RtI mod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the DRC as a measure of on-going progress monitoring for students on Tier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fouleas, Riley-Tillman, Christ, &amp; Brie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Behavior Ratings (DB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ed a sophisticated and comprehensive program of research to validate DBRs as a measure of screening, progress monitoring, and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BRs are reliable, valid, and sensitive to treatment (Chafouleas, Christ, Riley-Tillman, Briesch, &amp; Chanese, 2007; Chafouleas, Riley-Tillman, &amp; Christ, 2009; Christ, Riley-Tillman, &amp; Chafouleas,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lh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d the DRC as an intervention for ADHD (e.g., O’Leary, Pelham, Rosenbaum, &amp; Price, 1976; O’Leary &amp; Pelham, 197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ecently used the DRC as a method of progress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tion effects (Pelham et al., 2001; Pelham et al.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vior Modification effects (Pelham et al.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d treatment effects (Pelham et al.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Monitoring (Coles et al., 2010; Pelham et al., 2010 a,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-1065240" y="3139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ham et al., 2001 – medication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ham &amp; Fabiano (2001) –Behavioral Treatment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hart 3" descr=""/>
          <p:cNvPicPr/>
          <p:nvPr/>
        </p:nvPicPr>
        <p:blipFill>
          <a:blip r:embed="rId1"/>
          <a:stretch/>
        </p:blipFill>
        <p:spPr>
          <a:xfrm>
            <a:off x="835200" y="1444680"/>
            <a:ext cx="7650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lham et al., 2005 – single and combined treatment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613260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4197600" y="1676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C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Enhancing the Effectiveness of Special Education Services for Children with ADHD Using a Daily Report Card Progra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493200" y="5791320"/>
            <a:ext cx="78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Education Sciences Goal 2 Grant # R324J06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, Vujnovic, Pelham, Waschbusch, Massetti, Pariseau, et al., in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-Investig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iam E. Pelham, J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iel A. Waschbu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ta M. Masset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hnhee Y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tin Vol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istopher J. Lop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li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in Nay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ghan Summerl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becca Vujnov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ah Carnef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lissa Rob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nna Renneman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 and Main Findings of Goal 2 Project (Fabiano, et al., 201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3 children with ADHD and IEPs were randomly assigned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as Usual (BA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U + a DRC with targets based on IEP goals an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were assessed in October and May of the school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990720" y="892080"/>
            <a:ext cx="71625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ADHD - Impair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ult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bling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ademic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e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of illnes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elham, Foster, &amp; Robb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C group was significantly better than BAU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ind observations of disruptiv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 rating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ademic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ruptive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P goal attai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ization of funct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ifference on academic achievement, ratings of ADHD symptoms, or student-teacher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4040" y="64882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 et al.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ychometric Properties of the DRC as a Progress Monitoring 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s between odd and even days suggested considerable temporal stability      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.94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.0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 between the DRC and an independent observation code ranged from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.45 to -.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71240" y="624852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 et al.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val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ademic goals represented in the IEP were at least adequately included on the DR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was not a significant correspondence between social goals reported on the IEP and the DRC goals related to social function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able that a considerable number of children with no IEP goals related to social behavior had a social goal added to the DRC during the school ye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goals may not be well-represented on I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50360" y="64580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, et al.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242640" y="64882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 et al.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380880" y="1168560"/>
            <a:ext cx="984276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616680" y="457200"/>
            <a:ext cx="74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10 Academic and Social Targets on DRCs/IT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and whiskers plot for a sample month of DRCs/ITBEs in th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05600" cy="4892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274320" y="62485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, et al.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76440" y="1031760"/>
            <a:ext cx="5991120" cy="4800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2161080" y="380880"/>
            <a:ext cx="51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ITBEs vs. D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la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report satisfaction with DRC procedures related to monitoring and interven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hafouleas, Riley-Tillman, &amp; Sassu, 2006; Fabiano et al., 2010; Pelham et al., under review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C is supported as a psychometrically sound progress monitoring t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better for monitoring progress for social behavior relative to typical methods such as IEP goals/objec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significant behavioral variability, daily implementation is preferred frequency of measur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intervention may impact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/School staff are not trained in interpreting single-subject research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daily progress monitoring be utiliz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study of context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ion within a problem-solving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 Fabi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Calibri"/>
                <a:hlinkClick r:id="rId1"/>
              </a:rPr>
              <a:t>fabiano@buffalo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HD and Special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face between ADHD and 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icult to describe precisely due to no “ADHD” cat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ity of children in Other Health Impaired and Emotionally/Behaviorally disturbed categ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20% of children in Learning Disabled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considerable number of children with ADHD are at risk for or receive special education in sch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33240" y="6183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ssing et al., 2002; Reid et al., 1994; Schnoes et al.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D Impacts General and 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3% of time is spent in a general education set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ximately 60-70% of children spe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jor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ir time in general education set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619560" y="61833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oes et al.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708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educators were asked “Does this child with ADHD have an IEP?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advent of the Response to Intervention (RtI) approach, progress monitoring has become emphasiz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 monitoring is complicated for children with AD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ed at all t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havior is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in general and special education settings working with multiple 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905120" y="144468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1:27:45Z</dcterms:created>
  <dc:creator>fabiano</dc:creator>
  <dc:description/>
  <dc:language>en-US</dc:language>
  <cp:lastModifiedBy>Authorised User</cp:lastModifiedBy>
  <dcterms:modified xsi:type="dcterms:W3CDTF">2010-07-06T18:25:56Z</dcterms:modified>
  <cp:revision>98</cp:revision>
  <dc:subject/>
  <dc:title>Slide 1</dc:title>
</cp:coreProperties>
</file>