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0847-B96C-47D5-9442-60F0DB4E4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9F4-7581-4BAA-A042-31DA12AA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743-497B-4580-9A72-5D277A37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6EB-9348-4B93-AD7E-1619EB620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2DEF-9FBE-41F4-A375-49DC3D1122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4BE-18F0-48FD-966F-9CC39724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29F-7E4B-4A9A-BC72-63A97D8F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E69-2316-49E0-B6CA-1B84C139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D01-0172-4AAC-B421-E68BA89673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8E9-2086-46B1-B946-8C379995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A27-5EAD-4A09-B123-D142EB4B12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B9E-3EBE-4A9B-AEF3-20E23787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61F-6128-4BB3-8EA8-3F30CA37E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9F8-132F-4DB0-820E-4B0B073E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B67-8EEA-4A27-B0FA-21E7BFD443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E2B9-0183-45A3-ACFD-EEC3A0DF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466-5202-4610-9A9B-1A611C081F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67A-DC17-4890-A73C-E2312677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0EF-C0E8-43F8-AEA7-F6E6F5ADD0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CDF-3920-456E-A91B-2BF043AD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4ECF-803F-40D4-89CD-D864FAF3EB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F38-27A9-4CAD-BB71-15D32F88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E04-EF2B-4A0A-9472-07738CC4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8291-E927-4A00-8C1F-F2E2CA81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B84-2FAD-4D5F-86B3-3C531D3B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F74-0701-4043-8B2F-3B4F2DEB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00F-B599-49FD-9187-B8EB3615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54C-BECE-46AA-B9EE-EE94927F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290F-D784-46AC-AA61-FC17476E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275B-D9E5-42D0-A7F7-0FC226C2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03D-8E98-4286-901E-A8CF306B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A24-5C1B-48BF-9196-4F1C4D8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7AB-8FDA-4807-B31E-5064C883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39E-1FD1-4F36-8EE8-561781CC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8879-E1C4-4BE6-800A-3528AD9E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2B91-EB94-41DE-829C-CA405EC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ECC-6B89-49F4-A64B-165D4D2C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28B-CF51-48EA-9D85-909E2ED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F926-A5AE-4C69-98DB-F16CA9CC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D9C-33F6-46F3-8BCD-66F0301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22D-116D-46EA-9661-E50E9C0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34B-31CB-404E-8851-862F8AB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A34-D4E7-48CA-BD0E-D143198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684-14E8-4D6D-8149-417AF1CA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4609-DF2F-485D-A656-4411179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C355-9860-41C2-A9C3-E155A3EB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814-E56C-4FBC-8765-52A951DC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935EF-41B7-46D0-9DEA-7E2DDB17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3B29C-A6E4-4184-B251-1697D6D9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D8FB8-BC6A-4E8A-932A-F32FA6CB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19080-C58A-441A-8D10-239C2E6A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55827-2789-422F-9B81-4EC6BE8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70B-112D-44D8-8207-D374A626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0F68C-994D-48A1-AA3C-148CEA1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26E63-6993-4A63-BBD5-CBD2D6A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C1BEC-0D5A-4181-9AE2-21E056E6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BEC3C-B712-471F-AC1A-59E1B65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8E530-3103-410F-A060-AEA45426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2E0B5-2947-41E8-AD6B-B92CD528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1CB28-2244-4B24-8597-EB1E8E9E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28E3-FB91-4617-A246-B1A10955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9E38-5296-441C-9D2A-649A126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790A-6809-4A7B-97E6-7E03352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01C-9344-41A9-93AF-0033E065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B8EC-04C6-491F-8A49-82D22B5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4167-2963-4003-B43D-E8869B3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7FEE-9EB8-49A1-9875-0E899042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C6A6-F523-4303-A7F5-FB1440C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5906-B533-4615-B04E-B70DA5C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C216-448D-4EF1-BEF5-9942DFE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B71B2-F550-48BC-BE97-A36D35FA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7EFF-FD8A-4D42-8D00-58197D27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86BFB-AE16-4E18-BA36-51ED4EAD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30AB4-871C-4A87-88DD-2FECC003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3DB-E8F1-4179-9D32-2E5410E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572E6-2205-4107-A6CA-76C2A73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CAB76-CD0F-461D-B742-B646FC0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4F6E4-B3CD-4928-821C-8798AC0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D3C94-514B-4076-916E-9DA6778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1C18B-DCF8-4EEC-9929-8E7E1ED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B8D3B-1979-48D3-8235-DA98F9D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118F8-BED4-411C-B40F-770DF6CD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2B65E-C6FC-4FE8-9A0C-A025617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A9D41-E5DA-43A8-9284-15FE95A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920CA-E41E-4E01-9572-7AFC9998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EA1-D39F-43A8-AB26-86D8BFF2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9F8F2-1CD8-40DE-81BF-F9C8513F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09D6E-179B-4484-A65F-E35AF110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6018E-011D-4084-B764-1514DD15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CE85D-7F37-4CA5-A883-2E1F747F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DCCDF-C628-4279-8D94-95E39F94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1B329-6E9F-4598-8743-7EB126D1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62819-BA44-4FC5-8DD9-DDEEA6A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25470-3CA1-475C-A07A-1E8C58B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DD473-4DE4-45C3-8697-5565B21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3A8A2-6266-4386-987D-A647966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4F4-9CCF-4636-B908-27D7D42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CDF91-BBD4-4E79-8571-EC839FD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56987-C932-4583-8787-C08D6240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4F38F-2A58-46A4-9A11-DDD49308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FF554-4F57-4914-828B-05CEA635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18674-1D56-4CFB-8B8A-8480A7E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8DBA1-65E3-48B0-8F68-02490DC1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2662B-8FC4-4D30-9878-FD147D1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B0F19-0164-4220-BDBB-EF79064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898F3-D933-469C-9C90-25969657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46BCC-254F-4E73-A147-66D7E507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5E5-EEF1-44D8-8A6A-2A8E176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E92DA-5451-4567-B3F1-435755D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3D757-B589-431E-B1EA-61EB83F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A6D05-2354-41FB-859E-4CD6D82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81B1E-6F08-496A-AE87-6C309DF6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8F3AD-8FEB-4013-9FA4-F814C602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035-6A67-4CDA-A80D-C3B8310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113-B959-419C-B2D2-4BD1613D01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3F88-A220-4E7A-A7A8-C76F1B621F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A32-B6D3-467B-BB6E-689C326C96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C60-8541-4C5B-9330-212F2B2A1D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2B1E-A2BE-4C36-9B6A-D102D44BB9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B3C-4595-40A8-B243-9F910A6D4E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F390-443B-4DC2-BC5E-D7F41A7F02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Bringing Educational </a:t>
            </a: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Innovation to Scale: Top-Down, </a:t>
            </a: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Bottom-Up, or A Third Way?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976-D49C-42EB-A86A-F215931B29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3074760"/>
            <a:ext cx="747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Fuchs, Kristen McMaster, Laura Saen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n Kearns, Lynn Fuchs, Loulee Ye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Compton, Chris Lemons, Wen Zh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chatschn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05G041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Education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2c16"/>
                </a:solidFill>
                <a:latin typeface="Arial"/>
              </a:rPr>
              <a:t>Support to Teachers in K-PALS </a:t>
            </a:r>
            <a:br>
              <a:rPr sz="3600"/>
            </a:br>
            <a:r>
              <a:rPr b="1" lang="en-US" sz="3600" spc="-1" strike="noStrike">
                <a:solidFill>
                  <a:srgbClr val="b32c16"/>
                </a:solidFill>
                <a:latin typeface="Arial"/>
              </a:rPr>
              <a:t>&amp; Grade 2-6 PALS R&amp;D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802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rogram development and validation, research assistants provided in-class help 1x or 2x per w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is costly, finite, and  typically disappears during scale up. Absent support, quality of implementation often suff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Q: How to successfully de-couple an effective intervention from a support system and “brand name” (culture)? How to sustain and scale-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37E-06BE-40D1-908D-E130AFD2A88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hallenges to Scaling 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st described is the well known problem of moving an innovation from A to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ss well known problem: sustaining an innovation across time, or dealing with “the changing counterfactual,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se in point: K-PA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814-B186-4CCD-9E7F-0AF868E1CFF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K-PALS: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Data from 1998-99 Study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Nashville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6E2-F963-4667-9998-EB77C4E402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9714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honological Awareness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5B5-3BEB-42D4-AC4C-90EC236383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1009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Word Reading Effects by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4C8-5F19-4BD9-8185-DD9F85E093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seudo-word Reading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269A-3984-4C19-863B-B8C7B3F5CF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436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Fluency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331D-D54D-45CF-A992-F9B31AB2FB5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96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lements of K-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741-ECD3-4089-85D1-9BF1BF55B26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7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cher-led phonological aware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2840" indent="-3355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er practi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und-letter correspon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ht words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d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2840" indent="-3355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ints earned for doing activ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4962600" y="1447920"/>
            <a:ext cx="3760560" cy="4965480"/>
            <a:chOff x="4962600" y="1447920"/>
            <a:chExt cx="3760560" cy="4965480"/>
          </a:xfrm>
        </p:grpSpPr>
        <p:sp>
          <p:nvSpPr>
            <p:cNvPr id="437" name="Rectangle 7"/>
            <p:cNvSpPr/>
            <p:nvPr/>
          </p:nvSpPr>
          <p:spPr>
            <a:xfrm>
              <a:off x="4962600" y="1447920"/>
              <a:ext cx="3760560" cy="496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6" descr="lj29"/>
            <p:cNvPicPr/>
            <p:nvPr/>
          </p:nvPicPr>
          <p:blipFill>
            <a:blip r:embed="rId1"/>
            <a:srcRect l="0" t="0" r="2554" b="0"/>
            <a:stretch/>
          </p:blipFill>
          <p:spPr>
            <a:xfrm rot="60000">
              <a:off x="5010480" y="1522800"/>
              <a:ext cx="3618000" cy="481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Over Time: Segment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0F07-4990-41B2-9834-FA2A38D8C0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22.jpg"/>
          <p:cNvPicPr/>
          <p:nvPr/>
        </p:nvPicPr>
        <p:blipFill>
          <a:blip r:embed="rId1"/>
          <a:stretch/>
        </p:blipFill>
        <p:spPr>
          <a:xfrm>
            <a:off x="457200" y="1600200"/>
            <a:ext cx="66531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Word Identification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EB9-6BE6-4FD9-B814-42C8DFB6AA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23.jpg"/>
          <p:cNvPicPr/>
          <p:nvPr/>
        </p:nvPicPr>
        <p:blipFill>
          <a:blip r:embed="rId1"/>
          <a:stretch/>
        </p:blipFill>
        <p:spPr>
          <a:xfrm>
            <a:off x="457200" y="1600200"/>
            <a:ext cx="67294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Big Q and Presentation Focu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f we can think of Grade 2-6 Peer-Assisted Learning Strategies (PALS) as a “best-evidence” reading practice, how do we scale it up? More importantly, how do we scale up any worthy educational innov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is was the general Q of an IES Goal 4 study conducted between 2004-2010. Years 1 &amp; 2, at kindergarten; Years 3-5, at grades 2 thru 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hy this question is important practically and theoretical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6DB8-31B9-4C4B-9CC4-A37B3E0119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seudo-Word Read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E30-884B-468A-9B31-F51D12A1F5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24.jpg"/>
          <p:cNvPicPr/>
          <p:nvPr/>
        </p:nvPicPr>
        <p:blipFill>
          <a:blip r:embed="rId1"/>
          <a:stretch/>
        </p:blipFill>
        <p:spPr>
          <a:xfrm>
            <a:off x="457200" y="1600200"/>
            <a:ext cx="6821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ading Fluency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854-C247-45E7-B99C-01C0359362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25.jpg"/>
          <p:cNvPicPr/>
          <p:nvPr/>
        </p:nvPicPr>
        <p:blipFill>
          <a:blip r:embed="rId1"/>
          <a:stretch/>
        </p:blipFill>
        <p:spPr>
          <a:xfrm>
            <a:off x="457200" y="1600200"/>
            <a:ext cx="68817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Grade 2-6 PALS: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Years 3, 4, &amp; 5 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of IES Study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4D1A-558C-4CE0-8596-8CD7F7D35F0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, 2006-2007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F56-B667-4BE8-BE29-79CBD70E2BC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58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, 2007-2008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2D55-96CE-46B1-8EAA-94A1F57672F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72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Moment of Truth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for the melodramatically-inclined)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7E4-EECA-4A09-B96C-9A9F4D4C4D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ar…depress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nking differently: Top-down vs. bottom-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w at starbucks: A reboun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B94-6457-44AB-8143-B72F55DAC1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470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Method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op Down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924-A627-4129-BB09-CE871636F4C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 Activiti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tner Readin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el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2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graph Shrink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ion Rela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5 Minutes per S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iprocal peer tut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tivational peer reinforcement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mphasis on fidelity – Using PALS the way it was designed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without modifica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Bottom Up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7C00-FF1C-4C93-BD62-777584A76C0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re Elements of PAL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0 minutes of Partner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0 minutes of Paragraph Shrin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5 minutes per session minim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 motivational peer reinforcement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ustomized Elements of P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mall “tweak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ig 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52FB-7652-46B0-A421-DBB1BBCC85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icipating Sites across 5 Year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73" name="Diagram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2486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esentation Overview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urpose of PALS-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ade 2-6 PALS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involved in scaling 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-thinking scaling up: “top-down” &amp; “bottom-up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ind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432-DABD-4568-BC8E-65076E7248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7FA-475C-459D-BD5D-177890A134B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icipating Teachers in Years 3-5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Grade 2-6 PALS)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cohorts of 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, 4th-, and 5th-grade teacher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hort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tered study in 2006-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hor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tered study in 2007-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years of study participa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gned randomly to PALS or Cont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 Teachers selected Top Down or Bottom Up P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ol Teachers remained in Control gro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E43-78CE-40AF-9BFC-60A88287A7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eachers by Year 2 Study Gro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79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207B-C379-4F21-B37C-B7D209A2BD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Students by Year 2 Study Gro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82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Student Measures in Years 3, 4, &amp; 5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ademic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 of Word Reading Efficiency (TOW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oodcock Reading Mastery Test-Revised (WRMT-R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ord Identification Subt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de Range Achievement Test (WRAT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tter and Word Identification Subte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rehensive Reading Assessment Battery (CRAB; 2 pass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al reading (1 min &amp; 3 m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rehension (10 open-ended ques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BM Maze Task (2 pass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ct maze choices made in 2.5 m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owa Test of Basic Skills (ITB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ading Comprehen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7275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s rated each student’s abilities to focus attention, control activity, and inhibit impul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 rat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s rated each student’s effort in reading and behavior in the classro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5E19-0283-457D-BE98-F091E12E07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eacher Measures in Years 3, 4, &amp; 5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room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S Calend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S Fide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Arts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tmosphere Rating Scale (Weh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of Enacted Curriculum (SEC): English and Language A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7275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cher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ends teacher survey (assesses school climate, teacher professional development, teacher efficacy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57A-F020-4B01-B4BF-123755FA95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ocedure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sting (September-Octo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 Workshops (September-Octo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: All teachers attend sam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: Separate TD and BU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 Implementation (~18 wee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implemented 3 times per week for 35-4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ly classroom visits from projec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“booster” sessions for TD and BU PALS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fidelity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rts observations in PALS and Control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-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ary time sampling of a variety of reading instructio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field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testing (March-M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37C1-D903-417C-99F3-7D6CE35899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Analysi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latent pretest and posttest variables combining 5 reading measures in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latent chang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an “error-free” chang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2-level HLM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 Latent chang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: Treatment condition (TD, BU, Control); Site (TN, MN, TX); latent pretest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ffects: Level 2 teacher effects; ICC = 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mparability of groups on variables plausibly related to selection of TD or 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1BE-224E-4FDB-935E-1C4847EB52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8FF-CAA8-4F8F-AAA6-0113B20EA5A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9714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 across cohorts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2007-08, 2008-09), sites, and TD/BU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427-043F-43CE-9342-EFF44F36AEA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0199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sults: Latent Change Scor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862C-140A-4B3E-A57B-67CE394C59E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9" descr="PALSeffectsizes.jpg"/>
          <p:cNvPicPr/>
          <p:nvPr/>
        </p:nvPicPr>
        <p:blipFill>
          <a:blip r:embed="rId1"/>
          <a:stretch/>
        </p:blipFill>
        <p:spPr>
          <a:xfrm>
            <a:off x="457200" y="1600200"/>
            <a:ext cx="6039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urpose of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lements the general education cor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a peer-mediated program, and facilitates intensive practice of core academic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3 times per wk in reading; twice in m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s a structure for teachers to differentiate instruction: many simultaneous peer-mediated lessons rather than one teacher-directed les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-R: K, first grade, grades 2-6, high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-M: K, first grade, grades 2-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454F-40A2-4F33-AF4C-0EC9A57339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0F3-EAD2-4F32-B626-1422A8E837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sults by Student Rating: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Latent Change Score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1" descr="PALSeffectsizes_clustered.jpg"/>
          <p:cNvPicPr/>
          <p:nvPr/>
        </p:nvPicPr>
        <p:blipFill>
          <a:blip r:embed="rId1"/>
          <a:stretch/>
        </p:blipFill>
        <p:spPr>
          <a:xfrm>
            <a:off x="457200" y="1600200"/>
            <a:ext cx="604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6E2-7AE2-47B7-A707-F9BB0385B6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Did we successfully scale up?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7470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s: PALS appears to be generally effectiv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 PALS classes appeared to outperform TD PALS and Controls under the following condi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 elements of PALS including a 35 minute PALS s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rt provided by PALS staf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E019-15C4-4C86-9FE2-83A4140C0E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otential Mediators: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No Differences Between TD &amp; BU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74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delity year 1 (ALL Teachers T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re teachers who later became TD or BU better PALS implementers in their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year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PALS activities compar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delity year 2 (TD vs. BU year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teachers chose between TD and BU PALS, did their PALS fidelity change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ined core elements of PA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Fidelity Across Year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CDAD-D77D-4425-B0C2-3BC7FF1173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0368-E1EC-4957-8359-D59DF69145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lassroom-based Potential Mediator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No Difference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74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tent Change-Year 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rect method of looking at overall teacher efficacy AND differential effect of PALS implementation in year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mber of PALS S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d one group implement more PALS than the other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asure of Classroom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, management, behavior, et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lassroom-based Potential Mediator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830-ED92-4383-A8BC-F637AC7B49E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1E0-8353-46B2-AFEC-142B894E758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Other Potential Mediator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differences were found fo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 about student nee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 of about school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s about self-effic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s about principal lead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Research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58720" y="16128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iginally based on “Juniper Gardens Classwide Peer Tutoring” (e.g., Greenwood et al., 198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ore than 15 yrs of school-based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itle I and Non-Title I schools; urban and suburb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igh, average, and low achiev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udents with 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Validated Practice” status (USDE, WWC, BE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D264-F75A-4690-9B3C-821BAF07631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Grades 2-6 PALS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tner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graph Shr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diction Rel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9020-CF56-4D68-94FD-13A4F5BD9FF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ner Read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ducted for 11-12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ronger reader reads aloud for 5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ads same text aloud for 5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tells story for 1-2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aders read quickly, correctly, and with expr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aches listen, correct mistakes, and mark points (1 point for each correctly read sentence and 10 points for story retel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9E33-2005-4C20-BBD0-874B1EE19E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pals1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agraph Shrink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ducted for 10 min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5 minu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tronger reader read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text aloud, summarizing paragraph by paragrap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me the most important who or what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me the most important thing about the who or what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hrink it to 10 or fewer words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next 5 minu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ad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text aloud, summarizing paragraph by paragraph (as abo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ach listens, corrects mistakes, and marks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847-A903-4542-BABC-24903655E93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pals2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ediction Relay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minutes, stronger reader rea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prediction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s half page (1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cks prediction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s main idea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new pred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es to rea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minutes, weaker reader continues on i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ext, with the same activ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ch listens, corrects mistakes, and marks po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9B1-D592-4A3E-8B32-6BFD5DF974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pals4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4:51:59Z</dcterms:created>
  <dc:creator>Fuchs Research</dc:creator>
  <dc:description/>
  <dc:language>en-US</dc:language>
  <cp:lastModifiedBy>Jdabrowski</cp:lastModifiedBy>
  <cp:lastPrinted>2010-06-24T22:27:41Z</cp:lastPrinted>
  <dcterms:modified xsi:type="dcterms:W3CDTF">2010-07-02T16:09:36Z</dcterms:modified>
  <cp:revision>515</cp:revision>
  <dc:subject/>
  <dc:title>Slide 1</dc:title>
</cp:coreProperties>
</file>