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4.jpeg" ContentType="image/jpeg"/>
  <Override PartName="/ppt/media/image1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23B0-65AE-4AD1-BF89-BC130E24A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BF6E-71EE-478D-B58F-0087E6FFB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F484-E5C5-4353-AFA1-EDB71D325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858A-D5AB-469C-B1E1-6948ABB77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59C6-2FBE-4DB2-9A6C-BE318DE1539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6E8A-E6A9-4E95-8EF1-6F28FD08F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6952-C679-46B0-9AFF-178AB1FB0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C9F7-B2D8-4084-8117-1F733013A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AC00-1270-428F-80E9-31774B79478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375B-23B6-4FCA-ADA2-C286A799C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CF4A-2071-4611-B6FC-6CC2D8B7A5C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A6A4-2ED1-4382-AD30-C1637E885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4898-5318-4DDC-956E-72B2788280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92AF-DD76-46C6-B569-EE7A5D68A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D92E-29F9-414E-A86D-F34C57D8CC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EDC3-D1B3-4594-BB4D-086F94B6B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4601-6345-4978-9244-68847877356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4AC1-552C-4B94-9601-2BB3927A6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A7ED-6E82-46AD-BBC9-D972ABDEB0D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D6D4-A0F3-4533-A510-2D528C0B9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67A3-540B-448C-86D0-AC14B333F6A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8324-A594-48BB-BC7A-78BFCEF66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6492-29CE-47CB-A562-233458132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5D74-8D31-444D-AD80-21272FDCC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C417-3957-445F-AAAD-380CB70C6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FC6D-3D83-4C3A-8196-8527F16B3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2E90-670B-4A9C-A373-003B53978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4F44-D75F-4734-9585-7A48CAFAF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04B9-421C-44E3-8D2D-112FD9A24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6FA5-C204-473B-BAE8-D830AAE35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D7D-145F-4968-824D-4064797C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890-C74F-4119-9B70-9E321DB3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505-D199-4D58-A5C5-4E3AA9CD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D03-70D0-4DB5-90AD-C1DF738C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6BB4-CAA2-4AEF-8AFF-8835ED77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818C-A7C7-495C-A916-013A57D1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A50B-9067-4EC9-99C3-E50D0F38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CB47-63F9-4F36-A995-CF7E3ACC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5E1F-782D-49BB-970B-23540682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A87F-89AD-4FEC-8108-EFB48BD5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3FEF-376C-4BEA-92D2-1DED593C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BE5-2833-41C8-A4F0-EEB8CC2D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1750-4A27-4098-928A-4C9A254C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F525-F532-4ECF-B6EF-BE7F589D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CF81-D0B2-4E4F-AE0A-33A9B2CE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ABE2-D8C6-4E74-B3EF-C635EE01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6DE0-7425-4DBA-A58B-F4C2AEDA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253FB-21CF-44EB-B2B6-4D7E0689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B9DB3-654C-4886-A3E0-86918ABC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9CB4B-282B-4F55-8357-AEB27C17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4D7D9-73BD-480B-A93E-62172C70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A2A2C-FD77-491B-ACE7-4DAEFE28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0D7-598E-4BA6-9C96-3D0BD75E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6F9EE-5EF6-44F3-AB70-2E0482ED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F4F56-FB61-46AD-908E-1B5BBBDF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943C5-ED58-4B87-AA25-F71D0761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D2A57-C142-48F8-A994-FDF54557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1B2D8-1F4B-4C10-8386-475EDDED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6B1A8-BD2B-40AC-BE48-900B8BEA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547E3-13A3-478C-A052-932936C9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D5A7B-1B32-4D55-8670-C0B28166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8928D-CEA5-4BEA-AFA6-28A2812E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6804C-4390-439B-94DA-A0AE43F7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CB8-A00E-49DD-9EBD-C329815F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E4D54-4782-4439-86E9-D6650648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E5E35-DAC5-4608-AFAF-392857D9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7380A-3292-42B7-894A-1E91470D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18F3D-49C1-4728-BF4B-6FFCE2DF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C0774-92AE-4182-AE00-912CB9D5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F861F-F0EF-4E93-8187-0ED2E1B7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67DDB-6BD3-4047-9D52-DEF44BEA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806F7-428C-458C-AAF7-876FA8AE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5E02B-6986-459E-8904-49DDAEC4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DDC90-2F01-44EF-A045-2C106342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2EF-FB06-4AED-9C08-38EBEF4B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37BB1A-6E13-4C87-B8BE-441D07CC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0221A-068A-4C1A-A164-DC5EDF59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62A71-1AFC-464E-95F2-07CF4CC9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5B1DF8-05BE-4578-A636-846D61A9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C3BD2B-38E3-47EE-9067-0CA9BFEF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068A85-5D2B-48DB-8CA2-68F7846B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F3136C-B786-4BCD-82A2-93E6C60B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31A87-FBE7-4EE0-AD57-97899206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D0FE4D-6BEE-49CB-8578-9AF669C3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DB2CB-FA70-46A7-B6F1-0F4B4558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784-BA89-4D80-90F3-7D477CB4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6CDAD7-84A8-499C-95EE-C3AE90E2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5002B7-6E9B-4A8B-9DD0-863448E1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3028E0-8489-4D7C-A8BD-5452D8E5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DDBB87-5E58-4DCA-A612-D216745A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2B71D-3506-498B-8841-2B88EB7D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FB7DD3-69C7-4209-A119-009133DE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3C11B-1428-43E0-BD6A-B4D4EF57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C6447-178B-4222-8010-9F9D698B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E4B02-1901-4650-A018-57F06D33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197F1-9FE8-4AA3-A1C4-EDC466B4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DEBF-815C-49E2-BE6D-2D7D9609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34292-66D8-4A7C-95F1-C0008532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B1FE49-7F50-442F-9794-E8DA2881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A293D-E843-4304-B5E1-CFC65278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EC1EA9-DD2C-4E91-B059-FF00B3C7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3B8659-4EC1-45A7-872C-03CAFEF3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A3BC9F-5656-4678-A9F9-850BFA28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508FB5-066A-4B28-B67A-E2B02293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E8E7C7-0F3B-479D-A283-DF870F17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199329-336F-491C-A1F6-46A31357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E409A7-4C70-45EA-893E-A0DC418E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2D6-194D-44E8-B3EA-B5E99648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5D9AEF-445F-429A-9C58-701717A8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4D2387-7305-4E52-8E0B-D0D69227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550191-EBB5-497F-BA9A-E12D58DF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E64E4B-F1D2-42F0-BFA4-60E2AEE6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704785-2104-4FBB-B885-3EBEADF6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124-F888-48E3-9876-6E0AB73A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8E05-EC75-4408-94DD-DAB690795C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E9C4-87E1-4ACB-9AA5-40B12CA34B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C568-0332-4602-9771-B11420B5C8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6D47-A051-4467-B251-074C78A4E4E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9AE5-C9CC-432A-97B8-B200B2EDD2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5398-9C5A-4188-80B6-2BC2398EAF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A293-F97A-4449-95C9-C3E16B0D24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b32c16"/>
                </a:solidFill>
                <a:latin typeface="Arial"/>
              </a:rPr>
              <a:t>Bringing Educational </a:t>
            </a:r>
            <a:br>
              <a:rPr sz="3200"/>
            </a:br>
            <a:r>
              <a:rPr b="1" lang="en-US" sz="3200" spc="-1" strike="noStrike">
                <a:solidFill>
                  <a:srgbClr val="b32c16"/>
                </a:solidFill>
                <a:latin typeface="Arial"/>
              </a:rPr>
              <a:t>Innovation to Scale: Top-Down, </a:t>
            </a:r>
            <a:br>
              <a:rPr sz="3200"/>
            </a:br>
            <a:r>
              <a:rPr b="1" lang="en-US" sz="3200" spc="-1" strike="noStrike">
                <a:solidFill>
                  <a:srgbClr val="b32c16"/>
                </a:solidFill>
                <a:latin typeface="Arial"/>
              </a:rPr>
              <a:t>Bottom-Up, or A Third Way?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E5C9-C543-4BC3-AFF1-2CD06010B87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3074760"/>
            <a:ext cx="747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g Fuchs, Kristen McMaster, Laura Saen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n Kearns, Lynn Fuchs, Loulee Ye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Compton, Chris Lemons, Wen Zha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rbilt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Schatschne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rida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05G041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Education Sc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95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2c16"/>
                </a:solidFill>
                <a:latin typeface="Arial"/>
              </a:rPr>
              <a:t>Support to Teachers in K-PALS </a:t>
            </a:r>
            <a:br>
              <a:rPr sz="3600"/>
            </a:br>
            <a:r>
              <a:rPr b="1" lang="en-US" sz="3600" spc="-1" strike="noStrike">
                <a:solidFill>
                  <a:srgbClr val="b32c16"/>
                </a:solidFill>
                <a:latin typeface="Arial"/>
              </a:rPr>
              <a:t>&amp; Grade 2-6 PALS R&amp;D</a:t>
            </a:r>
            <a:endParaRPr b="0" lang="en-US" sz="36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8028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rogram development and validation, research assistants provided in-class help 1x or 2x per w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is costly, finite, and  typically disappears during scale up. Absent support, quality of implementation often suff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vious Q: How to successfully de-couple an effective intervention from a support system and “brand name” (culture)? How to sustain and scale-u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0289-600F-4993-8C86-382F55199B2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Challenges to Scaling Up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ust described is the well known problem of moving an innovation from A to 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ss well known problem: sustaining an innovation across time, or dealing with “the changing counterfactual,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se in point: K-PAL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F3BE-D9B9-4E65-82B4-65EE4E2F963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b32c16"/>
                </a:solidFill>
                <a:latin typeface="Arial"/>
              </a:rPr>
              <a:t>K-PALS:</a:t>
            </a:r>
            <a:br>
              <a:rPr sz="4300"/>
            </a:br>
            <a:r>
              <a:rPr b="1" lang="en-US" sz="4300" spc="-1" strike="noStrike">
                <a:solidFill>
                  <a:srgbClr val="b32c16"/>
                </a:solidFill>
                <a:latin typeface="Arial"/>
              </a:rPr>
              <a:t>Data from 1998-99 Study</a:t>
            </a:r>
            <a:br>
              <a:rPr sz="4300"/>
            </a:br>
            <a:r>
              <a:rPr b="1" lang="en-US" sz="4300" spc="-1" strike="noStrike">
                <a:solidFill>
                  <a:srgbClr val="b32c16"/>
                </a:solidFill>
                <a:latin typeface="Arial"/>
              </a:rPr>
              <a:t>Nashville</a:t>
            </a:r>
            <a:endParaRPr b="0" lang="en-US" sz="43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4C6F-E7CD-4F6A-BB3E-9BFDBD6F497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9714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honological Awareness Effects by Achievement Level for 1990s Data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2BE1-8928-4139-8DD1-98EFA70A99D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1009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Word Reading Effects by 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Achievement Level for 1990s Data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1124-6902-408B-8742-487766E1C77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943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seudo-word Reading Effects by Achievement Level for 1990s Data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096C-1F75-41A9-9B5D-7055A198895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9436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Fluency Effects by Achievement Level for 1990s Data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B3A1-46E5-45B7-83B6-FF42B78F338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7960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Elements of K-PALS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4B94-AF74-4CD2-AF84-303751DA691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7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acher-led phonological awaren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2840" indent="-3355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er practic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-28008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und-letter correspon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-28008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ht words r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-28008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ord r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-28008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ntence r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-280080">
              <a:spcAft>
                <a:spcPts val="1199"/>
              </a:spcAft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 r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2840" indent="-3355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ints earned for doing activ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6"/>
          <p:cNvGrpSpPr/>
          <p:nvPr/>
        </p:nvGrpSpPr>
        <p:grpSpPr>
          <a:xfrm>
            <a:off x="4962600" y="1447920"/>
            <a:ext cx="3760560" cy="4965480"/>
            <a:chOff x="4962600" y="1447920"/>
            <a:chExt cx="3760560" cy="4965480"/>
          </a:xfrm>
        </p:grpSpPr>
        <p:sp>
          <p:nvSpPr>
            <p:cNvPr id="437" name="Rectangle 7"/>
            <p:cNvSpPr/>
            <p:nvPr/>
          </p:nvSpPr>
          <p:spPr>
            <a:xfrm>
              <a:off x="4962600" y="1447920"/>
              <a:ext cx="3760560" cy="496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6" descr="lj29"/>
            <p:cNvPicPr/>
            <p:nvPr/>
          </p:nvPicPr>
          <p:blipFill>
            <a:blip r:embed="rId1"/>
            <a:srcRect l="0" t="0" r="2554" b="0"/>
            <a:stretch/>
          </p:blipFill>
          <p:spPr>
            <a:xfrm rot="60000">
              <a:off x="5010480" y="1522800"/>
              <a:ext cx="3618000" cy="481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Explaining Vanishing Effects 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Over Time: Segmenting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A114-6513-4BCC-ABA0-26D248066FE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22.jpg"/>
          <p:cNvPicPr/>
          <p:nvPr/>
        </p:nvPicPr>
        <p:blipFill>
          <a:blip r:embed="rId1"/>
          <a:stretch/>
        </p:blipFill>
        <p:spPr>
          <a:xfrm>
            <a:off x="457200" y="1600200"/>
            <a:ext cx="66531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Explaining Vanishing Effects: 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Word Identification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D901-9E10-4BC7-8280-6C54C2FCE9F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" descr="23.jpg"/>
          <p:cNvPicPr/>
          <p:nvPr/>
        </p:nvPicPr>
        <p:blipFill>
          <a:blip r:embed="rId1"/>
          <a:stretch/>
        </p:blipFill>
        <p:spPr>
          <a:xfrm>
            <a:off x="457200" y="1600200"/>
            <a:ext cx="67294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Big Q and Presentation Focus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f we can think of Grade 2-6 Peer-Assisted Learning Strategies (PALS) as a “best-evidence” reading practice, how do we scale it up? More importantly, how do we scale up any worthy educational innovation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is was the general Q of an IES Goal 4 study conducted between 2004-2010. Years 1 &amp; 2, at kindergarten; Years 3-5, at grades 2 thru 5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Why this question is important practically and theoreticall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7371-87B2-4CDC-B542-962A62CA105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Explaining Vanishing Effects: 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seudo-Word Reading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6CFB-12FE-4603-8C23-54BEA2C0589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24.jpg"/>
          <p:cNvPicPr/>
          <p:nvPr/>
        </p:nvPicPr>
        <p:blipFill>
          <a:blip r:embed="rId1"/>
          <a:stretch/>
        </p:blipFill>
        <p:spPr>
          <a:xfrm>
            <a:off x="457200" y="1600200"/>
            <a:ext cx="68216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Explaining Vanishing Effects: 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Reading Fluency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49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527F-5D7C-48A6-AAE8-D2F78052095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25.jpg"/>
          <p:cNvPicPr/>
          <p:nvPr/>
        </p:nvPicPr>
        <p:blipFill>
          <a:blip r:embed="rId1"/>
          <a:stretch/>
        </p:blipFill>
        <p:spPr>
          <a:xfrm>
            <a:off x="457200" y="1600200"/>
            <a:ext cx="688176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b32c16"/>
                </a:solidFill>
                <a:latin typeface="Arial"/>
              </a:rPr>
              <a:t>Grade 2-6 PALS:</a:t>
            </a:r>
            <a:br>
              <a:rPr sz="4300"/>
            </a:br>
            <a:r>
              <a:rPr b="1" lang="en-US" sz="4300" spc="-1" strike="noStrike">
                <a:solidFill>
                  <a:srgbClr val="b32c16"/>
                </a:solidFill>
                <a:latin typeface="Arial"/>
              </a:rPr>
              <a:t>Years 3, 4, &amp; 5 </a:t>
            </a:r>
            <a:br>
              <a:rPr sz="4300"/>
            </a:br>
            <a:r>
              <a:rPr b="1" lang="en-US" sz="4300" spc="-1" strike="noStrike">
                <a:solidFill>
                  <a:srgbClr val="b32c16"/>
                </a:solidFill>
                <a:latin typeface="Arial"/>
              </a:rPr>
              <a:t>of IES Study</a:t>
            </a:r>
            <a:endParaRPr b="0" lang="en-US" sz="43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102F-DB13-43E5-9463-7B57AF6E5A5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0" y="3657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ALS vs. Controls, 2006-2007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7511-3388-4F0D-970C-3209D82C489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958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ALS vs. Controls, 2007-2008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2DDF-3F41-4E71-AA34-681CD45D14E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723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Moment of Truth 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(for the melodramatically-inclined)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AB26-AB6E-41E3-B2B2-552C290E24B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ear…depression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nking differently: Top-down vs. bottom-u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w at starbucks: A rebound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4A74-8978-4F54-9CF7-2961358DF70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747072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32c16"/>
                </a:solidFill>
                <a:latin typeface="Arial"/>
              </a:rPr>
              <a:t>Method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Top Down PALS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35FD-AEE6-4795-95D0-C1D697A8EA7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 Activiti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11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rtner Reading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10 Minut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11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tell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2 Minut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11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ragraph Shrinking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10 Minut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Aft>
                <a:spcPts val="1199"/>
              </a:spcAft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ediction Rela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10 Minut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5 Minutes per Ses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iprocal peer tuto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motivational peer reinforcement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mphasis on fidelity – Using PALS the way it was designed,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without modification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Bottom Up PALS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4B75-7C53-4C46-8ADB-7303D0EE14A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re Elements of PAL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10 minutes of Partner R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10 minutes of Paragraph Shrink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35 minutes per session minimu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 motivational peer reinforcement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ustomized Elements of P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mall “tweaks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Big cha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lexibil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91AC-C0C6-49CE-9017-0DA615D1556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articipating Sites across 5 Years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473" name="Diagram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724860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resentation Overview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4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urpose of PALS-R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spcAft>
                <a:spcPts val="4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Grade 2-6 PALS pro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spcAft>
                <a:spcPts val="4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hallenges involved in scaling u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spcAft>
                <a:spcPts val="4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e-thinking scaling up: “top-down” &amp; “bottom-up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spcAft>
                <a:spcPts val="4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indin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FC80-C6F1-4380-BCB1-240F0BD293A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BE7B-0A47-44C3-8B2A-E0ADAA905B6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articipating Teachers in Years 3-5 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(Grade 2-6 PALS)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wo cohorts of 3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, 4th-, and 5th-grade teacher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hort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-238680"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tered study in 2006-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hort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-238680"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tered study in 2007-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wo years of study participatio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Year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-238680"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signed randomly to PALS or Contr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Year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-238680"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LS Teachers selected Top Down or Bottom Up P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-238680"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rol Teachers remained in Control grou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-238680"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6499-AE83-4F8A-8FC3-B757FD2515C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Teachers by Year 2 Study Group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479" name="Content Placeholder 5" descr=""/>
          <p:cNvPicPr/>
          <p:nvPr/>
        </p:nvPicPr>
        <p:blipFill>
          <a:blip r:embed="rId1"/>
          <a:stretch/>
        </p:blipFill>
        <p:spPr>
          <a:xfrm>
            <a:off x="384120" y="1530360"/>
            <a:ext cx="7510680" cy="91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EEE3-F633-4FE3-B8BD-C1C5502471C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Students by Year 2 Study Group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482" name="Content Placeholder 5" descr=""/>
          <p:cNvPicPr/>
          <p:nvPr/>
        </p:nvPicPr>
        <p:blipFill>
          <a:blip r:embed="rId1"/>
          <a:stretch/>
        </p:blipFill>
        <p:spPr>
          <a:xfrm>
            <a:off x="384120" y="1530360"/>
            <a:ext cx="7510680" cy="91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Student Measures in Years 3, 4, &amp; 5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ademic Measu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st of Word Reading Efficiency (TOWR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oodcock Reading Mastery Test-Revised (WRMT-R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ord Identification Subte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de Range Achievement Test (WRAT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tter and Word Identification Subtes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prehensive Reading Assessment Battery (CRAB; 2 passag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ral reading (1 min &amp; 3 mi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prehension (10 open-ended question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BM Maze Task (2 passag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rect maze choices made in 2.5 m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owa Test of Basic Skills (ITB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ading Comprehen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7275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udent Characteris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W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achers rated each student’s abilities to focus attention, control activity, and inhibit impul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acher rat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achers rated each student’s effort in reading and behavior in the classro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4225-DF87-4052-AE66-ACF6143C8C1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Teacher Measures in Years 3, 4, &amp; 5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room Measu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LS Calend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LS Fide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uage Arts Ob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room Atmosphere Rating Scale (Weh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of Enacted Curriculum (SEC): English and Language Ar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7275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acher Characteris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rends teacher survey (assesses school climate, teacher professional development, teacher efficacy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46B2-F6A2-4384-9D8B-196A0181E6F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rocedures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testing (September-Octo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S Workshops (September-Octo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1: All teachers attend same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Aft>
                <a:spcPts val="1199"/>
              </a:spcAft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2: Separate TD and BU work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S Implementation (~18 wee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implemented 3 times per week for 35-40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kly classroom visits from project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“booster” sessions for TD and BU PALS 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Aft>
                <a:spcPts val="1199"/>
              </a:spcAft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fidelity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arts observations in PALS and Control class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-60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entary time sampling of a variety of reading instruction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Aft>
                <a:spcPts val="1199"/>
              </a:spcAft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ementary field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testing (March-M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8C4E-4EAB-4178-9737-EF241A7AF10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Analysis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latent pretest and posttest variables combining 5 reading measures in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latent change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an “error-free” chang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2-level HLM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: Latent change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: Treatment condition (TD, BU, Control); Site (TN, MN, TX); latent pretest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ffects: Level 2 teacher effects; ICC = 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omparability of groups on variables plausibly related to selection of TD or 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DE5A-C496-4ECA-9797-0F4C281508B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32c16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4ECB-5BA9-49EC-A5A8-14DF3E7F22C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9714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5400" y="277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ALS vs. Controls across cohorts 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(2007-08, 2008-09), sites, and TD/BU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BC9D-EA81-4193-8B3A-63131D1C2A8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0199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Results: Latent Change Score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F27C-BF31-456D-AC9D-174BBE20AED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9" descr="PALSeffectsizes.jpg"/>
          <p:cNvPicPr/>
          <p:nvPr/>
        </p:nvPicPr>
        <p:blipFill>
          <a:blip r:embed="rId1"/>
          <a:stretch/>
        </p:blipFill>
        <p:spPr>
          <a:xfrm>
            <a:off x="457200" y="1600200"/>
            <a:ext cx="60390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urpose of PALS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pplements the general education core pro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is a peer-mediated program, and facilitates intensive practice of core academic ski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lemented 3 times per wk in reading; twice in ma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reates a structure for teachers to differentiate instruction: many simultaneous peer-mediated lessons rather than one teacher-directed less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LS-R: K, first grade, grades 2-6, high sch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LS-M: K, first grade, grades 2-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181E-48F3-4B63-B961-376E300AA53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322A-FC83-45AD-A58C-782144B4253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Results by Student Rating: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Latent Change Score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11" descr="PALSeffectsizes_clustered.jpg"/>
          <p:cNvPicPr/>
          <p:nvPr/>
        </p:nvPicPr>
        <p:blipFill>
          <a:blip r:embed="rId1"/>
          <a:stretch/>
        </p:blipFill>
        <p:spPr>
          <a:xfrm>
            <a:off x="457200" y="1600200"/>
            <a:ext cx="6046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7E3F-FFF0-4DFA-B191-EACA167D3BC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Did we successfully scale up?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7470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Yes: PALS appears to be generally effectiv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 PALS classes appeared to outperform TD PALS and Controls under the following condition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e elements of PALS including a 35 minute PALS ses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pport provided by PALS staff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39A4-1109-4382-8316-B3946E2624A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otential Mediators: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No Differences Between TD &amp; BU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747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delity year 1 (ALL Teachers T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re teachers who later became TD or BU better PALS implementers in their 1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year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Aft>
                <a:spcPts val="1199"/>
              </a:spcAft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L PALS activities compared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delity year 2 (TD vs. BU year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n teachers chose between TD and BU PALS, did their PALS fidelity change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ined core elements of PAL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Fidelity Across Years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EA32-3B94-4A7D-9D67-03846856425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Content Placeholder 5" descr=""/>
          <p:cNvPicPr/>
          <p:nvPr/>
        </p:nvPicPr>
        <p:blipFill>
          <a:blip r:embed="rId1"/>
          <a:stretch/>
        </p:blipFill>
        <p:spPr>
          <a:xfrm>
            <a:off x="384120" y="1530360"/>
            <a:ext cx="7510680" cy="78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80F0-B57A-4639-8417-0E8C0CDC3DB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Classroom-based Potential Mediators: </a:t>
            </a:r>
            <a:br>
              <a:rPr sz="3000"/>
            </a:b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No Differences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747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tent Change-Year 1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Aft>
                <a:spcPts val="1199"/>
              </a:spcAft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direct method of looking at overall teacher efficacy AND differential effect of PALS implementation in year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umber of PALS Sessio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Aft>
                <a:spcPts val="1199"/>
              </a:spcAft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d one group implement more PALS than the other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asure of Classroom Environ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mate, management, behavior, et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Classroom-based Potential Mediators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A49D-300E-4257-88CF-6A8B7B97248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Content Placeholder 5" descr=""/>
          <p:cNvPicPr/>
          <p:nvPr/>
        </p:nvPicPr>
        <p:blipFill>
          <a:blip r:embed="rId1"/>
          <a:stretch/>
        </p:blipFill>
        <p:spPr>
          <a:xfrm>
            <a:off x="384120" y="1530360"/>
            <a:ext cx="7510680" cy="78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C409-E4E4-4896-9990-5F4AC700E42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Other Potential Mediators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differences were found fo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ale of attitude about student nee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ale of attitude of about school progra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ale of attitudes about self-efficac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ale of attitudes about principal lead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ALS Research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58720" y="16128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riginally based on “Juniper Gardens Classwide Peer Tutoring” (e.g., Greenwood et al., 1989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More than 15 yrs of school-based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itle I and Non-Title I schools; urban and suburb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High, average, and low achiev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tudents with 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Validated Practice” status (USDE, WWC, BE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EDC8-5371-4EEC-999F-9CB79785CDB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32c16"/>
                </a:solidFill>
                <a:latin typeface="Arial"/>
              </a:rPr>
              <a:t>Grades 2-6 PALS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rtner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ragraph Shr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ediction Rela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03CA-DDD6-455C-9A89-9AB299F0F77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artner Reading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nducted for 11-12 minu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tronger reader reads aloud for 5 minu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Weaker reader reads same text aloud for 5 minu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Weaker reader retells story for 1-2 minu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eaders read quickly, correctly, and with expres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aches listen, correct mistakes, and mark points (1 point for each correctly read sentence and 10 points for story retel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CF86-FCA1-4DD6-A6C1-BF24AC237F2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pals1"/>
          <p:cNvPicPr/>
          <p:nvPr/>
        </p:nvPicPr>
        <p:blipFill>
          <a:blip r:embed="rId1"/>
          <a:stretch/>
        </p:blipFill>
        <p:spPr>
          <a:xfrm>
            <a:off x="6629400" y="4572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aragraph Shrinking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onducted for 10 minu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For 5 minut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Stronger reader reads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text aloud, summarizing paragraph by paragrap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e8637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ame the most important who or what (1 poi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e8637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ame the most important thing about the who or what (1 poi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e8637"/>
              </a:buClr>
              <a:buSzPct val="8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Shrink it to 10 or fewer words (1 poi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For next 5 minut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Weaker reader reads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text aloud, summarizing paragraph by paragraph (as abov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oach listens, corrects mistakes, and marks poi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DEB6-8849-4694-BFA7-7F8F5DFDE6B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pals2"/>
          <p:cNvPicPr/>
          <p:nvPr/>
        </p:nvPicPr>
        <p:blipFill>
          <a:blip r:embed="rId1"/>
          <a:stretch/>
        </p:blipFill>
        <p:spPr>
          <a:xfrm>
            <a:off x="6629400" y="4572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Arial"/>
              </a:rPr>
              <a:t>Prediction Relay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 minutes, stronger reader read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ex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kes prediction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ads half page (1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ecks prediction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ates main idea (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kes new predi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Aft>
                <a:spcPts val="1199"/>
              </a:spcAft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inues to rea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 minutes, weaker reader continues on in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ext, with the same activ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ch listens, corrects mistakes, and marks poi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A56C-B4AA-4931-834C-40C986DDBD4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4" descr="pals4"/>
          <p:cNvPicPr/>
          <p:nvPr/>
        </p:nvPicPr>
        <p:blipFill>
          <a:blip r:embed="rId1"/>
          <a:stretch/>
        </p:blipFill>
        <p:spPr>
          <a:xfrm>
            <a:off x="6629400" y="4572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4:51:59Z</dcterms:created>
  <dc:creator>Fuchs Research</dc:creator>
  <dc:description/>
  <dc:language>en-US</dc:language>
  <cp:lastModifiedBy>Jdabrowski</cp:lastModifiedBy>
  <cp:lastPrinted>2010-06-24T22:27:41Z</cp:lastPrinted>
  <dcterms:modified xsi:type="dcterms:W3CDTF">2010-07-02T16:09:36Z</dcterms:modified>
  <cp:revision>515</cp:revision>
  <dc:subject/>
  <dc:title>Slide 1</dc:title>
</cp:coreProperties>
</file>