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10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997700" cy="9269413"/>
</p:presentation>
</file>

<file path=ppt/commentAuthors.xml><?xml version="1.0" encoding="utf-8"?>
<p:cmAuthorLst xmlns:p="http://schemas.openxmlformats.org/presentationml/2006/main">
  <p:cmAuthor id="0" name="user" initials="u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0-06-23T16:37:50.544000000" idx="1">
    <p:pos x="4151" y="3337"/>
    <p:text>Missing label here?</p:text>
  </p:cm>
</p:cmLst>
</file>

<file path=ppt/comments/comment11.xml><?xml version="1.0" encoding="utf-8"?>
<p:cmLst xmlns:p="http://schemas.openxmlformats.org/presentationml/2006/main">
  <p:cm authorId="0" dt="2010-06-23T16:37:50.544000000" idx="2">
    <p:pos x="4151" y="3337"/>
    <p:text>Missing label here?</p:text>
  </p:cm>
</p:cmLst>
</file>

<file path=ppt/comments/comment16.xml><?xml version="1.0" encoding="utf-8"?>
<p:cmLst xmlns:p="http://schemas.openxmlformats.org/presentationml/2006/main">
  <p:cm authorId="0" dt="2010-06-23T11:46:06.976000000" idx="3">
    <p:pos x="1083" y="754"/>
    <p:text>Why are the lines different colors</p:text>
  </p:cm>
</p:cmLst>
</file>

<file path=ppt/comments/comment23.xml><?xml version="1.0" encoding="utf-8"?>
<p:cmLst xmlns:p="http://schemas.openxmlformats.org/presentationml/2006/main">
  <p:cm authorId="0" dt="2010-06-23T16:37:50.544000000" idx="4">
    <p:pos x="4151" y="3337"/>
    <p:text>Missing label here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3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14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15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6B08-C1DF-48FD-9CB8-B63FDB673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policy levers that are hoped to improve teacher quality. One of them is to support teachers early in their careers to retain them and help them impr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IES commissioned a large scale longitudinal, study. Yesterday we released the final report from that study and now I’ll summarize the key fi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7C6D-8282-4D43-8617-C94ACE5EA8AD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230CEC0-51C4-49B3-AB9B-1B7342768D42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71C51E2-4121-4298-8097-54CE8B8FBA40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579-9EA8-42E1-8206-354557867685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7FA-580D-42BA-A017-B9FEEBDA74F6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E9F-000A-4078-8BD9-4DF4DAC777CF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80A1-65DD-4D1A-B3AD-A31F6F3DFC15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3033-430D-4A78-8D7A-3B4B3E235FDF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2B0-E439-426B-9309-8E6E057F6F3F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DE04FF2-D538-4031-BE45-50DE2E71D2F8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92320" y="70164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rrate this and end wit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eld a national competition and a panel of experts selected two providers: ETS and NTC, each of which worked with about half the districts that were in this study using a program that had these fe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07B7-0351-44F6-8F37-B748BDBF8389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27F1247-E748-4DD3-8C54-EFC924CFBC74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7F23CB3-2BBA-4F90-AF6A-D88D48EC460E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3EB6-EC77-4727-AF34-F9AE44567DB7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C96-5B05-4D39-A9C4-479B16B0F5FB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score that we’re not comparing comprehensive induction to no in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C05-F034-496C-9A64-A84F605B7E1D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A53-104A-4EE3-98CD-46D82B93A974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0FCC-7BC4-408A-AC1C-6B5072950E32}" type="slidenum">
              <a:rPr b="0" lang="en-US" sz="1200" spc="-1" strike="noStrike">
                <a:solidFill>
                  <a:srgbClr val="00598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3E8-0C51-4D5C-8E47-8A70E26E9CAF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B0BE00A-B9C3-4406-AB99-4BAC9404E66D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92320" y="70164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4836-B994-43C4-AB6A-153D0C0007B1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CC801E6-E4FD-41F2-9888-790816182399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2320" y="701640"/>
            <a:ext cx="4616280" cy="346392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2E65D37-49A6-4782-AFCF-F14217DAFFF4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809D75B-19F4-43FB-A7C3-1A5E43B2BEFD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E0E4B9F-98E0-48BA-9499-633774223F3D}" type="slidenum">
              <a:rPr b="0" i="1" lang="en-US" sz="10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7B1E-F921-4DA7-87E6-85311A1A8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56E6-EF8F-48F4-8C7C-2DDB3743FD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4BC0F-15A2-4C21-8C6D-43AB8146FA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C2D1E-AA29-408D-9454-A7D925D5DC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213D7-D039-4C33-83E1-BD95679B97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497C9-C6D1-4E40-A71E-CFA2DC3D48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36136-60B0-407C-9129-842AE90C6E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4ABA8-F734-422B-A5FE-67C81076E1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7811A-D212-47E6-B634-A26A9EB2E2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87645-86A2-40F0-A90A-149AC2121F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DC695-13A1-4455-B573-E03B956A59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72928-525B-4905-9E0C-35CD8EAE1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63B9-A091-4664-BDED-29AFE1D2640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8EE3C-9698-47A4-887B-71680445E6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0F7D6-4B52-439C-9C1D-569404CFC8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1E5BB-023E-4B13-937A-72EAC7724C0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BC056-6BD0-4C7E-916F-7AA6CACD2C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0A653-EFF3-4CEE-A8E3-2A8F584D53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38278-9069-4D68-9610-1B341738C9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E809C-111E-4840-A2EE-156E5990AD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87838-65D1-4BEF-A5DF-A5BB56B35A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BB0F8-24D7-4131-96FF-109DCEDBA0A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9FA76-F004-426D-9696-841136899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3109-6A6B-43CA-BA4B-EE32BCF4016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9C509-5E37-4CDD-AF21-FFFE2C4AC4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7674-8D48-4FBE-8D04-9BAF44C699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AEE7-3437-460B-A284-601CFEDBBF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6824-9BF6-4AFF-AB29-5B3CC0D197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FA88-79E5-4645-B1BC-34A74F25595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4ABE-4A27-499B-94AF-9A17940139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711E-F0AD-487C-8539-C75A7DB6349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10B4-6672-4219-8960-41496F95E2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6E29-33BA-4446-8677-5899710BE8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BD14-2DC3-48A3-9077-D5BA0E5A4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C3C7-BEC5-4129-B804-0AA2E42DA8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AA45-76D0-4F61-9204-45100D21C9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440B-F9C8-4E5F-8C88-B5B1EF6E86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93BA-D949-4414-8449-92ECE777C0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E3EE-D05C-42F4-9A56-51A4251333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B107-0415-43CD-ADFF-B8D23EC2A1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6EC2-9F62-49E6-B9E2-A2E3264914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91ED-7A9F-4598-BDD0-52FEBF3706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24A9-016C-4A66-A6DD-264F260E4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91C9-E256-4D34-83AE-5E546930E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6A06-7C81-4EB4-8B3D-26F4729DF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C979-8139-4CAC-8C8D-60D4711AF0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68F4-F435-4EFB-9704-4AB16980F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155A-4EE3-445D-A047-A689049DF2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A3EC-ECAB-41AD-8A98-E9A831D03E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DAF1-C5E1-4DC2-8738-8D88230451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03D34-5557-4A0A-8497-511F77B0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BD20E-EE20-41EC-BA7B-61A321D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AFB8-6D6B-4EAA-AE01-3C293DB5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7AAA7-366B-4ED4-9AA7-3BD98795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08BB-1F92-402A-962F-6BDC2B1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AB43-697D-46A8-9DA8-B5477503B9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37B16-E746-4081-B11F-743A27D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FDC4-E762-44A9-9C25-A7F1320B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F15D-FBA2-4837-8332-F2AD03B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B6D82-D319-420A-B48F-F761FDE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DB315-C77E-45C2-A132-BB930F8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222D-6857-431A-888E-7AC6E101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9099C-A046-48F8-9AD2-B742BB9C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2E8B-5744-4C7E-ABC6-15085DA816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AED5-F9C6-462C-8E0A-FC2224581B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C09D-AAC8-4FF2-94F5-88FCA5EC6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45D8-7BBA-4AEC-AB35-0600275F8B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3D12-BCA6-4743-8D67-A3CCFECE67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D599-7E4D-469A-B61A-F9193566E1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6E08-B101-4A6A-B656-5F0AB07558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81AB-C6C6-463C-B56F-23CBAF2B0C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C549-D1CE-439D-ACB4-EB8AD193D6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E7C0-AA2E-4F27-982C-86C27A611C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4162-39EB-4879-ABC0-0705334BC5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61FD-6BA3-414B-9C34-BCFBFE3982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3D40-DA3D-492C-A6CB-611472B734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7FAA5-4962-4331-A5E2-740AA453A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D4BB-C816-4338-9461-4B50F30176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28466-2214-48EC-80FA-941988B1E6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3645E-76F0-4852-A191-8AB8469E4C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5427A-04A9-41BA-9FE9-3D7AE8CA9D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60928-5056-49F7-8C6B-B9E660A006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21919-7A76-4D3F-9B20-27440248501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D9AE65-CB3B-4422-AF26-F5164A3B36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96471-8D32-48A5-AA63-735BA5EFAC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E859E-152F-4076-B911-17E9BD3AAB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1AEA8-D1DB-434F-8DC9-E75795E63E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6D8F0-FD5D-4871-AE55-9A9093215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FCAC-E7CD-48E8-B457-9D1FF6FF77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2B860-B454-4493-B1F7-3E654AC206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D3EFE-6BE6-4935-95CA-C77566C4BF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36F93-CBE3-451F-88D1-1A20809A2F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78F29-975C-4C75-88DC-4F801ACF71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595C3-E817-442A-A444-1D13CCDB58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0A418-B4CD-45BE-90FF-BB1192A838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7946-20CD-460C-8ADE-C6524D334B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A6A33-A803-44E1-B52E-485CB57C0B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2E03A-E270-47A7-971D-DFC5AC6CCA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EA0B5-7A5E-42A5-9F6C-E1B3B9723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65D7-D325-4CE3-A33E-45FCC57F20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94B78-D37E-4A03-BDEF-69F659C775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1AF40-FAA2-4446-B7B6-119A7F9409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E598C-E638-4AEC-97BB-CB781946E59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410F-0246-494E-9ABA-CADF1398CB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A97D-F90E-402C-AFA8-1DCF4503A8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DEDA-467F-4F32-B25A-75C439038B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3697-B75B-4874-8F0D-507D6F11F0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CB4E-6147-4534-BEA1-FAAF04AC12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D059-C395-42C9-94A4-70822F1395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DBC7-0CBA-437A-A256-2F1C94D89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A2A-B16D-437D-9B02-DED7C51DB8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984A-EEE5-4121-A9A5-E68D858F89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6587-0128-4B6A-B8D1-198C798088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D762-CD9B-4E3D-BCF6-5901793EEF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3D39-E7EF-4DED-A245-9ED0AB3B55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035D-831D-4301-A0C2-74ED793005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E1A1-416E-4C27-B570-43BA421061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B6A96-C6F1-43CF-885D-89ED198C5D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01DC8-FEC8-48BD-BF74-8EEA5724C3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3835A-9194-41E1-9F74-A35453499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1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D52-5C2D-4A9B-B620-D6FE1A1D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1a_blue-green_300.jpg"/>
          <p:cNvPicPr/>
          <p:nvPr/>
        </p:nvPicPr>
        <p:blipFill>
          <a:blip r:embed="rId2"/>
          <a:stretch/>
        </p:blipFill>
        <p:spPr>
          <a:xfrm>
            <a:off x="0" y="6292800"/>
            <a:ext cx="9144000" cy="60156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7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86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387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C4A3-4FEE-45B7-84C0-5234BAE86801}" type="slidenum">
              <a:rPr b="0" lang="en-US" sz="1200" spc="-1" strike="noStrike">
                <a:solidFill>
                  <a:srgbClr val="00598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9D3F-0537-4341-AFC2-B523BE340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87E0-0ECA-4BED-91BF-0AFC25A41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AFB-52E5-4065-BE49-ED65A036963C}" type="slidenum">
              <a:rPr b="1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2" descr="logo"/>
          <p:cNvPicPr/>
          <p:nvPr/>
        </p:nvPicPr>
        <p:blipFill>
          <a:blip r:embed="rId3"/>
          <a:stretch/>
        </p:blipFill>
        <p:spPr>
          <a:xfrm>
            <a:off x="7628040" y="629748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CBA9-5C0D-46E0-97E7-0EBA8A1FA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127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37C-A394-45E0-9F0D-5E911E46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0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17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C47-21D8-4E72-9523-20527502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215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217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8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1B3-FAC8-463A-A39B-FE6D7766D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262" name="Picture 42" descr="logo"/>
          <p:cNvPicPr/>
          <p:nvPr/>
        </p:nvPicPr>
        <p:blipFill>
          <a:blip r:embed="rId3"/>
          <a:stretch/>
        </p:blipFill>
        <p:spPr>
          <a:xfrm>
            <a:off x="7628040" y="6302520"/>
            <a:ext cx="1371600" cy="48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1120" y="28440"/>
            <a:ext cx="73976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59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9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95D-E1D4-48D4-9824-D09CD2EACE19}" type="slidenum">
              <a:rPr b="1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304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0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FA0-9854-432E-BEE5-40812F4C2C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comments" Target="../comments/comment1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<Relationship Id="rId3" Type="http://schemas.openxmlformats.org/officeDocument/2006/relationships/comments" Target="../comments/comment2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8280" y="1106280"/>
            <a:ext cx="814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s of Comprehensi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er Induction: Final Result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a Randomized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503280" y="281160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ES Summer Research Conference, June 2010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even Glazerman  ●  Eric Isenberg  ●  Sarah Dolfin  ●  Martha Bleeker Amy Johnson  ●  Mary Grider  ●  Matthew Jacob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7342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FF68-503E-4031-B7E5-0D2F9E7BE3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19" name="Chart 19" descr=""/>
          <p:cNvPicPr/>
          <p:nvPr/>
        </p:nvPicPr>
        <p:blipFill>
          <a:blip r:embed="rId1"/>
          <a:stretch/>
        </p:blipFill>
        <p:spPr>
          <a:xfrm>
            <a:off x="345960" y="851040"/>
            <a:ext cx="8583840" cy="50562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20"/>
          <p:cNvSpPr/>
          <p:nvPr/>
        </p:nvSpPr>
        <p:spPr>
          <a:xfrm>
            <a:off x="331920" y="5937120"/>
            <a:ext cx="77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7342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ACA-36FA-48E5-B12F-FBB01724B0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26" name="Chart 19" descr=""/>
          <p:cNvPicPr/>
          <p:nvPr/>
        </p:nvPicPr>
        <p:blipFill>
          <a:blip r:embed="rId1"/>
          <a:stretch/>
        </p:blipFill>
        <p:spPr>
          <a:xfrm>
            <a:off x="345960" y="851040"/>
            <a:ext cx="8583840" cy="50562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0"/>
          <p:cNvSpPr/>
          <p:nvPr/>
        </p:nvSpPr>
        <p:spPr>
          <a:xfrm>
            <a:off x="331920" y="5937120"/>
            <a:ext cx="77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28" name="TextBox 8"/>
          <p:cNvSpPr/>
          <p:nvPr/>
        </p:nvSpPr>
        <p:spPr>
          <a:xfrm>
            <a:off x="1593720" y="390672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  <a:ea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5160" y="2363400"/>
            <a:ext cx="8072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mpacts on the Workforce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er Mo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Chart Placeholder 6" descr=""/>
          <p:cNvPicPr/>
          <p:nvPr/>
        </p:nvPicPr>
        <p:blipFill>
          <a:blip r:embed="rId1"/>
          <a:stretch/>
        </p:blipFill>
        <p:spPr>
          <a:xfrm>
            <a:off x="915840" y="946080"/>
            <a:ext cx="7369200" cy="45975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4600" y="144360"/>
            <a:ext cx="83055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he District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EC7E-BE92-4545-87DF-6FE56E586A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14320" y="5695920"/>
            <a:ext cx="76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Chart Placeholder 6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69200" cy="45878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9077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he District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53B6-0733-4095-8F7B-9B33B845B1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26920" y="5699160"/>
            <a:ext cx="77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38" name="TextBox 1"/>
          <p:cNvSpPr/>
          <p:nvPr/>
        </p:nvSpPr>
        <p:spPr>
          <a:xfrm>
            <a:off x="919080" y="973080"/>
            <a:ext cx="1413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  <a:ea typeface="Arial"/>
              </a:rPr>
              <a:t>Percent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9680" y="2395440"/>
            <a:ext cx="82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mpacts on the Classroom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 Achie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Content Placeholder 4" descr=""/>
          <p:cNvPicPr/>
          <p:nvPr/>
        </p:nvPicPr>
        <p:blipFill>
          <a:blip r:embed="rId1"/>
          <a:stretch/>
        </p:blipFill>
        <p:spPr>
          <a:xfrm>
            <a:off x="409680" y="1325520"/>
            <a:ext cx="7956360" cy="41022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acts on Test Scores, Yea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8F4-ECB4-4C53-9DF4-986F1F73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893880" y="5686560"/>
            <a:ext cx="72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80840" y="-360"/>
            <a:ext cx="78404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 in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975-AF05-4B26-B5A7-83E9742339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46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11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1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6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75294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h in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D56F-5D6B-4BA8-AA1C-EDCAE8E117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9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20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dec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23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3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03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30360" y="1087560"/>
            <a:ext cx="7751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Induction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ontrol group received induction servic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Treatment group received more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uring intervention period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Workforce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teacher retention, mobi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Classroom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classroom practices in first yea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test scores in one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on test scores in two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s 1 and 2: no impa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 3: Effect size = 0.11 (reading) and 0.20 (math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sensitive to sample defini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127B-D094-4F5C-B927-28C9248DB0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880920" y="1109160"/>
            <a:ext cx="73677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n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efully selected and train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ll-time release with ratio of 12: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icul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ructionally focu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uctured and sequenc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ekly meetings with mentor, written lo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nthly study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assroom observation with formative assess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-of-year colloqui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ion with administrators and program staf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7880" y="-360"/>
            <a:ext cx="80139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“Comprehensive Induction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1F6-53ED-454B-A9C3-5FCE4B2631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ease cont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even Glazerm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glazerman@mathematica-mpr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ort is available online at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ies.ed.gov/ncee/pubs/20104027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or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EE8-D637-43E1-B2A6-3F8AB847C7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(extra slides follow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7678-F6B1-485A-ACC9-AA49CAE36C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nt With a Mentor Assigned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53A-3E28-4030-9CED-23655BF070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66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1430280" y="403704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7342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nt with a Mentor Assigned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564C-911F-4658-A6DC-FED08C5E8F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74" name="Chart 19" descr=""/>
          <p:cNvPicPr/>
          <p:nvPr/>
        </p:nvPicPr>
        <p:blipFill>
          <a:blip r:embed="rId1"/>
          <a:stretch/>
        </p:blipFill>
        <p:spPr>
          <a:xfrm>
            <a:off x="345960" y="851040"/>
            <a:ext cx="8583840" cy="50562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20"/>
          <p:cNvSpPr/>
          <p:nvPr/>
        </p:nvSpPr>
        <p:spPr>
          <a:xfrm>
            <a:off x="331920" y="5937120"/>
            <a:ext cx="77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1593720" y="390672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  <a:ea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hart Placeholder 6" descr=""/>
          <p:cNvPicPr/>
          <p:nvPr/>
        </p:nvPicPr>
        <p:blipFill>
          <a:blip r:embed="rId1"/>
          <a:stretch/>
        </p:blipFill>
        <p:spPr>
          <a:xfrm>
            <a:off x="880920" y="946080"/>
            <a:ext cx="7369200" cy="431496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09200" y="159840"/>
            <a:ext cx="843444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eaching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0678-D7E4-4872-93A4-425D13D3AB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741240" y="5464080"/>
            <a:ext cx="77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Chart Placeholder 6" descr=""/>
          <p:cNvPicPr/>
          <p:nvPr/>
        </p:nvPicPr>
        <p:blipFill>
          <a:blip r:embed="rId1"/>
          <a:stretch/>
        </p:blipFill>
        <p:spPr>
          <a:xfrm>
            <a:off x="853920" y="961920"/>
            <a:ext cx="7369200" cy="44499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159840"/>
            <a:ext cx="906156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ention in Teaching: Two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8849-3FEB-4CE1-B507-208AA92629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741240" y="5464080"/>
            <a:ext cx="77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No impacts are 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s on the Workforce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eacher Attit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47360" y="1060560"/>
            <a:ext cx="783108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significant impacts on satisfaction with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e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significant impacts on feelings of preparedness to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r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k with oth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k with stud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3560" y="127080"/>
            <a:ext cx="841392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Impacts on Teacher At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029-9669-46FE-ADCB-070652A8DA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7880" y="12708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osition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F0E9-0F01-48B9-963D-07F66DB5F3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03200" y="1139760"/>
            <a:ext cx="80517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eatment stayers vs. control stay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nd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sional characteristics of teachers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dif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lassroom practices in year 1: no positive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udent achievement in year 3: no positive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s on the Classroom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eacher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880920" y="1109160"/>
            <a:ext cx="73677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d to prevailing induction, what is the impact of comprehensive induction on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nduction servic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ether assigned a m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me spent with m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tivi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Workforce outcom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acher attitu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acher ret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Classroom outcom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acher practi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udent test sco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7880" y="111240"/>
            <a:ext cx="73962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396-2019-4A8F-BACF-B1F9E15C84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Content Placeholder 4" descr=""/>
          <p:cNvPicPr/>
          <p:nvPr/>
        </p:nvPicPr>
        <p:blipFill>
          <a:blip r:embed="rId1"/>
          <a:stretch/>
        </p:blipFill>
        <p:spPr>
          <a:xfrm>
            <a:off x="641520" y="1114560"/>
            <a:ext cx="7651440" cy="45543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Impact on Year 1 Classroom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C89D-9AF4-4057-981C-1D76C940B1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709560" y="4568760"/>
            <a:ext cx="12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7" name="TextBox 6"/>
          <p:cNvSpPr/>
          <p:nvPr/>
        </p:nvSpPr>
        <p:spPr>
          <a:xfrm>
            <a:off x="714240" y="199872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Consistent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8" name="TextBox 7"/>
          <p:cNvSpPr/>
          <p:nvPr/>
        </p:nvSpPr>
        <p:spPr>
          <a:xfrm>
            <a:off x="693720" y="376092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Limited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744480" y="115092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xtensive 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704880" y="2897280"/>
            <a:ext cx="153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Moderat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a4"/>
                </a:solidFill>
                <a:latin typeface="Arial"/>
              </a:rPr>
              <a:t>evidence</a:t>
            </a:r>
            <a:endParaRPr b="0" lang="en-US" sz="16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987480" y="5730840"/>
            <a:ext cx="6958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ede2"/>
                </a:solidFill>
                <a:latin typeface="Arial"/>
              </a:rPr>
              <a:t>Treatment-control differences are not statistically significant (N = 631 teachers)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8240" y="27000"/>
            <a:ext cx="7639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 in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C36-E966-43BC-B958-8BA6CE7B25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4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ede2"/>
                </a:solidFill>
                <a:latin typeface="Arial"/>
              </a:rPr>
              <a:t>Treatment-control differences are not statistically significant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87320" y="180036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7880" y="-360"/>
            <a:ext cx="73962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 Tes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h in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69D2-D291-4E56-B967-BEF54D08FD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09" name="Rectangle 53"/>
          <p:cNvSpPr/>
          <p:nvPr/>
        </p:nvSpPr>
        <p:spPr>
          <a:xfrm>
            <a:off x="604800" y="5727600"/>
            <a:ext cx="77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ignificantly different from zero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87320" y="1800360"/>
            <a:ext cx="77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8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22360" y="985680"/>
          <a:ext cx="8005680" cy="3544920"/>
        </p:xfrm>
        <a:graphic>
          <a:graphicData uri="http://schemas.openxmlformats.org/drawingml/2006/table">
            <a:tbl>
              <a:tblPr/>
              <a:tblGrid>
                <a:gridCol w="4281480"/>
                <a:gridCol w="1060560"/>
                <a:gridCol w="1282680"/>
                <a:gridCol w="138096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ct (Effect Size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Teachers)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083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. Benchmark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10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2. Drop data restriction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12*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3. Allow comparisons across grades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-0.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4. Drop pretest, benchmark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8c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5. Drop pretest, expanded sample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5a4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5983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47720" y="880920"/>
            <a:ext cx="67248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lect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 distri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ndomiz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18 elementary schoo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,009 tea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8 eligible for classroom obser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90 eligible for test-score analysis in year 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55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second year of study, created two experi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ne-year districts” with a single yea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 trea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402120">
              <a:lnSpc>
                <a:spcPct val="100000"/>
              </a:lnSpc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wo-year districts” with two year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f trea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8266-6E7B-48C6-90EC-CA1D8D77D9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30360" y="1087560"/>
            <a:ext cx="7751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Induction servi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ontrol group received induction servic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Treatment group received more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uring intervention period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Workforce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 on teacher retention, mobi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Classroom outcom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classroom practices in first yea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No impacts on test scores in one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on test scores in two-year distri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s 1 and 2: no impac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Year 3: Effect size = 0.11 (reading) and 0.20 (math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257480" indent="-457200">
              <a:lnSpc>
                <a:spcPct val="80000"/>
              </a:lnSpc>
              <a:spcBef>
                <a:spcPts val="11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Positive impacts sensitive to sample defini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530-99DF-4C3C-B38E-C0EACD6B80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52240" y="2395440"/>
            <a:ext cx="8134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duc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A884-649E-4A61-9E71-A6CBB71D00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496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E53-3F2C-48B8-A930-3459D973D1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03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1430280" y="403704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75884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pent with Mentors: One-Year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6B36-4612-410E-85F4-61BDF9D220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7086600" y="23623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  <p:pic>
        <p:nvPicPr>
          <p:cNvPr id="511" name="Chart 19" descr=""/>
          <p:cNvPicPr/>
          <p:nvPr/>
        </p:nvPicPr>
        <p:blipFill>
          <a:blip r:embed="rId1"/>
          <a:stretch/>
        </p:blipFill>
        <p:spPr>
          <a:xfrm>
            <a:off x="325440" y="914400"/>
            <a:ext cx="8547120" cy="4981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20"/>
          <p:cNvSpPr/>
          <p:nvPr/>
        </p:nvSpPr>
        <p:spPr>
          <a:xfrm>
            <a:off x="299880" y="5958000"/>
            <a:ext cx="81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d squares = Treatment-control difference is statistically significant at the 0.05 level.</a:t>
            </a:r>
            <a:endParaRPr b="0" lang="en-US" sz="1400" spc="-1" strike="noStrike">
              <a:solidFill>
                <a:srgbClr val="005983"/>
              </a:solidFill>
              <a:latin typeface="Arial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1430280" y="403704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5a4"/>
                </a:solidFill>
                <a:latin typeface="Arial"/>
              </a:rPr>
              <a:t>Intervention period</a:t>
            </a:r>
            <a:endParaRPr b="0" lang="en-US" sz="1800" spc="-1" strike="noStrike">
              <a:solidFill>
                <a:srgbClr val="005983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8:21:57Z</dcterms:created>
  <dc:creator>user</dc:creator>
  <dc:description/>
  <dc:language>en-US</dc:language>
  <cp:lastModifiedBy>Authorised User</cp:lastModifiedBy>
  <dcterms:modified xsi:type="dcterms:W3CDTF">2010-07-06T12:55:14Z</dcterms:modified>
  <cp:revision>144</cp:revision>
  <dc:subject/>
  <dc:title>The Look and Feel  of Mathematica Presentations</dc:title>
</cp:coreProperties>
</file>