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10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997700" cy="9269413"/>
</p:presentation>
</file>

<file path=ppt/commentAuthors.xml><?xml version="1.0" encoding="utf-8"?>
<p:cmAuthorLst xmlns:p="http://schemas.openxmlformats.org/presentationml/2006/main">
  <p:cmAuthor id="0" name="user" initials="u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0-06-23T16:37:50.544000000" idx="1">
    <p:pos x="4151" y="3337"/>
    <p:text>Missing label here?</p:text>
  </p:cm>
</p:cmLst>
</file>

<file path=ppt/comments/comment11.xml><?xml version="1.0" encoding="utf-8"?>
<p:cmLst xmlns:p="http://schemas.openxmlformats.org/presentationml/2006/main">
  <p:cm authorId="0" dt="2010-06-23T16:37:50.544000000" idx="2">
    <p:pos x="4151" y="3337"/>
    <p:text>Missing label here?</p:text>
  </p:cm>
</p:cmLst>
</file>

<file path=ppt/comments/comment16.xml><?xml version="1.0" encoding="utf-8"?>
<p:cmLst xmlns:p="http://schemas.openxmlformats.org/presentationml/2006/main">
  <p:cm authorId="0" dt="2010-06-23T11:46:06.976000000" idx="3">
    <p:pos x="1083" y="754"/>
    <p:text>Why are the lines different colors</p:text>
  </p:cm>
</p:cmLst>
</file>

<file path=ppt/comments/comment23.xml><?xml version="1.0" encoding="utf-8"?>
<p:cmLst xmlns:p="http://schemas.openxmlformats.org/presentationml/2006/main">
  <p:cm authorId="0" dt="2010-06-23T16:37:50.544000000" idx="4">
    <p:pos x="4151" y="3337"/>
    <p:text>Missing label here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3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14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15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CA3-3990-40C2-A51A-36FE536E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policy levers that are hoped to improve teacher quality. One of them is to support teachers early in their careers to retain them and help them impr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IES commissioned a large scale longitudinal, study. Yesterday we released the final report from that study and now I’ll summarize the key fi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3DD1-19D0-484B-9AA6-3563DA07B7A4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C7DC70A-AE23-4C42-B1F1-1EDC2F862124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C9A6EE2-90D3-44DE-915A-6274D95F1F30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14B3-354E-480A-9F81-A892B73A0763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244-6850-40BD-8DF1-9CACBF922645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2A3C-4603-4265-9B3D-0726E876CFDB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F892-A60B-4CBF-8CE6-0ABB274BAF05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4ED3-F6E7-4952-BA1B-10E641BCE38E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0B2-722C-4380-AB89-3031D7F880C8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07F0D07-3916-42DB-942B-A661D453781C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2320" y="70164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rrate this and end wit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eld a national competition and a panel of experts selected two providers: ETS and NTC, each of which worked with about half the districts that were in this study using a program that had these fe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1DF-4235-4846-8FAB-27DAEEDB5BD7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8626A86-694D-4AF9-886E-FED2F10C126D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4F425A7-EBEF-4C6D-B44C-2A4A64F2E786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4D3-E7F8-453B-A22B-117CD73CB3C4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BFE5-53D0-4103-803B-130D10FFF3C6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score that we’re not comparing comprehensive induction to no in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7063-E954-496A-AAE7-665F4CB9336F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9EA-0451-425C-AE30-CB211FEE2446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527-A41F-4657-8EAB-02C0547AFABC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3C0-CA74-45CC-BB92-E257E23649B1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8120B56-277C-40E7-91CC-CB8ACA103D24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92320" y="70164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601-D1B6-498F-8B5C-B5B71FCE5D01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2F10446-A490-4148-9FBD-5F8A5F1604A4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2320" y="70164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C94BAF1-9280-452B-9610-8F27155F7C9B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622EF81-5644-4A35-A41F-91DB9E89A57F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CEACD5F-4E1C-4FFC-B7F1-73074E70DE0B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F478-E64D-4569-A36F-3D322CB44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AB70-50CF-4C39-90A4-EAACC72B172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C534C-F210-4CF8-AB4F-883BF8A6D0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FBF0A-B8CE-47E7-8EF5-13ECC9C219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12706-E694-4B11-8470-10C299897C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039D8-6877-4538-BAB7-BA475349E7A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8B0B0D-2BAE-4638-B1CD-B3E8023933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1AA07-102F-4715-9631-2CE388C793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B968D-CA78-4980-86A4-799D88B850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AF1AE-E678-4874-A1AF-F549B0E71F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46C9C-43BA-49B8-8C0B-D294CC985E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10020-622E-4C37-89C2-421F238B3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3F5E-CBE0-4ABD-AA49-21C77FEF4C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CF623-5AF4-43FF-AC65-485C2901DD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31AC5-6E71-4EB6-BC94-13A17EE904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FF29E-4E56-4A08-8021-81A160F9BA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19A05-0857-4CDE-876D-5D056ABE329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13327-B5D4-4C94-ACAB-FAA706FBFE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87F3D-8440-48A3-AC1C-E7B2F864EB3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F96B0-980E-4DB6-9DA5-8D3E0EAFE05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595A3-96D4-4881-B077-00B285F2A4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01D94-951B-4BAB-A1E6-C434C7258C6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1451D-C2AD-470E-A7D8-6421682E6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D10C-0402-4AA4-AB2A-E592D3134C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136F0-29F5-4A96-B4B5-3A77C3C29F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516D0-4ADB-437F-8E9B-25905F206F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338B-F03E-4DD0-A531-D1E8BC877F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B30B-863C-4840-9702-FF367FADF2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257C-EBF8-45CE-A26F-9B59D03BB6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CA17-DB12-4665-BB8A-A82DF428341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6640-1F02-4581-81A8-EB9187C173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BBB0-0132-442E-84A4-B37123A406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C6D60-6985-420B-AAD8-232F0A2C49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ACAE-4FC8-4E49-9B42-63BC8E899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80F9-D619-4206-ABF5-3517C421A6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6FCC-14B8-49A2-AC45-71B3415D2FC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A6C9-1363-4345-AE23-FAA3254A116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8402-C4F7-4B55-AD9D-1A76C1E548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9700-4898-4CC9-B40C-FB1773532D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CDA9-3610-47DF-9FA7-55EF38DA5F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6076-4815-44A7-8984-F635332836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A4D3-648E-4FE2-BD6D-81B9AFB66F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4591-F992-4ACF-88E8-F75FA3C7F4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02A8-90E8-4E4C-9DA8-109431A9A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963A-768C-4CEA-B76B-00DE11F12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F8DA-C81C-4326-9492-2B242B387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06DB-E735-4E1C-A68A-AD21F120C0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EE94-8D84-4F17-A772-8B26036E5E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F0E5-B9D9-457B-8BC9-BBC8D4518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3654-509A-4B79-9867-0A4ABC9D7D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1672C-B42D-40A6-B5B1-A7340EB9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350BE-DE9E-429A-B29F-87F7F48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C0BB6-D021-415C-B791-C2CE63C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C864E-CD3E-4B12-AAD0-C886029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49D7B-E761-4ECF-9C0C-C997A90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FF15-9513-4156-81D8-90189B7E47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22B23-1D71-4E37-992C-35C47C8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345E0-0927-4DCC-A88B-187CC77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5C92B-F866-4B7B-A6BB-0E488FE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A7DA-68E6-429E-B113-C7E4114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5BE2-B81D-4AEA-A497-09107C0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A717-B3AF-41CC-845E-EA97AF0C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0EC08-1852-4EC4-B3CC-C5393E4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D255-E109-4FAF-A920-15DB4477B3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0162-35A8-44E5-9D69-B278D22E03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A01A-A15D-47E7-A4B6-AB3755804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BCFA-C94B-4580-B525-8E24D226B8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F686-F326-4AF5-A1A8-A2DAD3F31C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F18A-1A94-47C1-8E08-516CCD6D1D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D67D-9DD8-4BA8-91B4-A858D4F858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F7FD-645D-490B-A932-31241FD441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49F6-E132-41D8-BB8C-0DB69D652E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3C5F-3DF3-411E-A85F-861E0A4D60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4F3-CABB-4892-AEBD-E832E803C3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BCD-FDEA-4F3A-86CC-0BB7DF485E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7D82-EB0D-44AA-A57B-EA64DBDB05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FBE65-0715-4FCE-BA2D-CA9C82D74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A524-4A39-4514-AE4A-C8A6DE05EB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BED32-4DDE-4C8F-B5E9-FA2B39131C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5F91F-3660-4E12-AD00-2F43B34FD8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47460-D952-4094-859D-BF1DA8C094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9A1E4-14A9-47EC-A003-E2D9EBD204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63452-520C-41E5-B3C9-D8028353C8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E0459-AB1F-412E-8E06-715FAC2DD0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D7EB3-ECE7-4BFF-9DFC-7AC2B6883A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A2306-1674-4D34-B55C-3B8961B27D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55429-A821-4596-B01C-FACD41BFE8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57A2F-B785-4D5D-AA84-29B14DF8C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B8D4-E07C-46F8-8924-0419F89542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6794B-BA98-4D09-89D9-18EED79CE5D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FC29D-8D67-4040-AF40-403EB181F4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62173-7674-4AB1-B3D7-7182C7292E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3E44-E280-4778-801A-80706D5876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EFB98-139F-4C0B-BE6E-D24F613760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D8619-0882-4D59-AF8A-5F7B59BA3A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086B7-C0AD-418E-AB43-2C2BC82A3A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8E7C8-DB65-4919-B6CC-E6001D65A2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F86D8-8F68-4DDE-8279-BC49B16AAE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60C1F-865F-4604-B4B5-E0B09348F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7041-4A69-40CA-BDA7-8F8A18C5CE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3C998-256A-4391-89ED-0051F8CD77B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2882A-C625-4C65-99DB-98E1EB7012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BE9CE-723E-4167-8318-522A0ECAE6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6B0E-FDB4-4C74-841F-0CC5BC2472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94C1-9174-4672-AFA6-5DA6F5F2AC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5023-5A62-472D-8216-38D71A8BF6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C1F6-4A55-4441-9B3E-C6184C24ED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1EFC-F916-4AA7-A1EF-E7DC370448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9A87-B112-4F32-855F-E41CC41F7E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87DC-ACC0-476C-8A88-B6F148E26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7CF5-3B75-4BE7-B047-2EBCC035DA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3E0C-F8BE-4C08-AA7E-AB7466C2CD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4373-F9C4-4382-8D19-360EC40D27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2E27-6DA7-4F4C-B893-6B6929BEA1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E31A-A572-4FA4-B75E-73747931738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FB80-715E-4403-BD1B-16C2AED254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C67D-F5D6-4977-8365-A8385792397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48F3A-40C4-4F96-89A6-D0084307A9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02758-C067-477A-8663-C7C7C3AF9D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6A11A-1722-4B38-9891-C063FF500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1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BD9-F7F3-4597-AF8E-18155414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1a_blue-green_300.jpg"/>
          <p:cNvPicPr/>
          <p:nvPr/>
        </p:nvPicPr>
        <p:blipFill>
          <a:blip r:embed="rId2"/>
          <a:stretch/>
        </p:blipFill>
        <p:spPr>
          <a:xfrm>
            <a:off x="0" y="6292800"/>
            <a:ext cx="9144000" cy="60156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7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387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40AE-F11E-491C-8BDA-1CD39D090654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7B5-8E25-48C1-B5E4-1E0A383ED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7D76-614B-48E5-B6C0-4A23059CB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90A0-C431-4FC1-B562-8BBB39D7EB71}" type="slidenum">
              <a:rPr b="1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2" descr="logo"/>
          <p:cNvPicPr/>
          <p:nvPr/>
        </p:nvPicPr>
        <p:blipFill>
          <a:blip r:embed="rId3"/>
          <a:stretch/>
        </p:blipFill>
        <p:spPr>
          <a:xfrm>
            <a:off x="7628040" y="629748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314-A389-4BDC-B373-0FE06ECB7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127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BFDE-9C16-46DF-988E-90CB742E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0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17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647C-6CEB-41B3-B343-26C7DC91C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215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217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8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CAE-F31A-47A8-ADB4-00FF3903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262" name="Picture 42" descr="logo"/>
          <p:cNvPicPr/>
          <p:nvPr/>
        </p:nvPicPr>
        <p:blipFill>
          <a:blip r:embed="rId3"/>
          <a:stretch/>
        </p:blipFill>
        <p:spPr>
          <a:xfrm>
            <a:off x="7628040" y="6302520"/>
            <a:ext cx="1371600" cy="48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9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3728-33F1-497A-BEB3-BEBCBEF228EA}" type="slidenum">
              <a:rPr b="1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304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0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AD5C-8514-4005-B27E-236496FF16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comments" Target="../comments/comment1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<Relationship Id="rId3" Type="http://schemas.openxmlformats.org/officeDocument/2006/relationships/comments" Target="../comments/comment2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8280" y="1106280"/>
            <a:ext cx="814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s of Comprehensi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er Induction: Final Resul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a Randomized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503280" y="281160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ES Summer Research Conference, June 2010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even Glazerman  ●  Eric Isenberg  ●  Sarah Dolfin  ●  Martha Bleeker Amy Johnson  ●  Mary Grider  ●  Matthew Jacob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7342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F00-3EFC-4494-A6E8-2616609859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19" name="Chart 19" descr=""/>
          <p:cNvPicPr/>
          <p:nvPr/>
        </p:nvPicPr>
        <p:blipFill>
          <a:blip r:embed="rId1"/>
          <a:stretch/>
        </p:blipFill>
        <p:spPr>
          <a:xfrm>
            <a:off x="345960" y="851040"/>
            <a:ext cx="8583840" cy="50562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20"/>
          <p:cNvSpPr/>
          <p:nvPr/>
        </p:nvSpPr>
        <p:spPr>
          <a:xfrm>
            <a:off x="331920" y="5937120"/>
            <a:ext cx="77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7342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7C40-6D53-4D20-B47F-B731876051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26" name="Chart 19" descr=""/>
          <p:cNvPicPr/>
          <p:nvPr/>
        </p:nvPicPr>
        <p:blipFill>
          <a:blip r:embed="rId1"/>
          <a:stretch/>
        </p:blipFill>
        <p:spPr>
          <a:xfrm>
            <a:off x="345960" y="851040"/>
            <a:ext cx="8583840" cy="50562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0"/>
          <p:cNvSpPr/>
          <p:nvPr/>
        </p:nvSpPr>
        <p:spPr>
          <a:xfrm>
            <a:off x="331920" y="5937120"/>
            <a:ext cx="77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28" name="TextBox 8"/>
          <p:cNvSpPr/>
          <p:nvPr/>
        </p:nvSpPr>
        <p:spPr>
          <a:xfrm>
            <a:off x="1593720" y="390672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  <a:ea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5160" y="2363400"/>
            <a:ext cx="8072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mpacts on the Workforce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er Mo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Chart Placeholder 6" descr=""/>
          <p:cNvPicPr/>
          <p:nvPr/>
        </p:nvPicPr>
        <p:blipFill>
          <a:blip r:embed="rId1"/>
          <a:stretch/>
        </p:blipFill>
        <p:spPr>
          <a:xfrm>
            <a:off x="915840" y="946080"/>
            <a:ext cx="7369200" cy="45975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4600" y="144360"/>
            <a:ext cx="83055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he District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8D29-0F2C-4A7E-8484-B0F8DE1C96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14320" y="5695920"/>
            <a:ext cx="76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Chart Placeholder 6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69200" cy="45878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9077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he District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D68D-BBD4-4A23-BC5A-EB87009F21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26920" y="5699160"/>
            <a:ext cx="77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38" name="TextBox 1"/>
          <p:cNvSpPr/>
          <p:nvPr/>
        </p:nvSpPr>
        <p:spPr>
          <a:xfrm>
            <a:off x="919080" y="973080"/>
            <a:ext cx="1413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  <a:ea typeface="Arial"/>
              </a:rPr>
              <a:t>Percent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9680" y="2395440"/>
            <a:ext cx="82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mpacts on the Classroom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 Achie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Content Placeholder 4" descr=""/>
          <p:cNvPicPr/>
          <p:nvPr/>
        </p:nvPicPr>
        <p:blipFill>
          <a:blip r:embed="rId1"/>
          <a:stretch/>
        </p:blipFill>
        <p:spPr>
          <a:xfrm>
            <a:off x="409680" y="1325520"/>
            <a:ext cx="7956360" cy="41022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acts on Test Scores, Yea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D587-7A98-44F8-B095-8DC90B18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893880" y="5686560"/>
            <a:ext cx="72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80840" y="-360"/>
            <a:ext cx="78404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 in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B557-EA51-49AD-91EA-07A5A16387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46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11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1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6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75294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h in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D3D8-DAB6-49DB-9BD6-B95575C034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9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20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23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3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03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30360" y="1087560"/>
            <a:ext cx="7751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Induction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ontrol group received induction servic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Treatment group received more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uring intervention period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Workforce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teacher retention, mobi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Classroom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classroom practices in first yea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test scores in one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on test scores in two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s 1 and 2: no impa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 3: Effect size = 0.11 (reading) and 0.20 (math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sensitive to sample defini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ED91-CB0F-4F01-9980-BC199B1903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880920" y="1109160"/>
            <a:ext cx="73677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n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efully selected and train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ll-time release with ratio of 12: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icul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ructionally focu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uctured and sequenc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ekly meetings with mentor, written lo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nthly study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assroom observation with formative assess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-of-year colloqui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ion with administrators and program staf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7880" y="-360"/>
            <a:ext cx="80139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“Comprehensive Induction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368-1C50-488F-AECB-059A4464E5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ease cont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even Glazerm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glazerman@mathematica-mpr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ort is available online a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ies.ed.gov/ncee/pubs/20104027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or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221A-39A0-4698-96AF-F2D304E12B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(extra slides follow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B17-2060-4092-BDEB-F5B08B04E7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nt With a Mentor Assigned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3D1-E140-40CC-B4D1-EB9C53573C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66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1430280" y="403704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7342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nt with a Mentor Assigned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439-9835-48AB-8ECE-C6230ABB42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74" name="Chart 19" descr=""/>
          <p:cNvPicPr/>
          <p:nvPr/>
        </p:nvPicPr>
        <p:blipFill>
          <a:blip r:embed="rId1"/>
          <a:stretch/>
        </p:blipFill>
        <p:spPr>
          <a:xfrm>
            <a:off x="345960" y="851040"/>
            <a:ext cx="8583840" cy="50562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20"/>
          <p:cNvSpPr/>
          <p:nvPr/>
        </p:nvSpPr>
        <p:spPr>
          <a:xfrm>
            <a:off x="331920" y="5937120"/>
            <a:ext cx="77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1593720" y="390672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  <a:ea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hart Placeholder 6" descr=""/>
          <p:cNvPicPr/>
          <p:nvPr/>
        </p:nvPicPr>
        <p:blipFill>
          <a:blip r:embed="rId1"/>
          <a:stretch/>
        </p:blipFill>
        <p:spPr>
          <a:xfrm>
            <a:off x="880920" y="946080"/>
            <a:ext cx="7369200" cy="431496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09200" y="159840"/>
            <a:ext cx="843444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eaching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BB9-B805-49C8-AAB8-D6E3AB1172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741240" y="5464080"/>
            <a:ext cx="77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Chart Placeholder 6" descr=""/>
          <p:cNvPicPr/>
          <p:nvPr/>
        </p:nvPicPr>
        <p:blipFill>
          <a:blip r:embed="rId1"/>
          <a:stretch/>
        </p:blipFill>
        <p:spPr>
          <a:xfrm>
            <a:off x="853920" y="961920"/>
            <a:ext cx="7369200" cy="44499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159840"/>
            <a:ext cx="906156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eaching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47C9-4C58-495A-B0B1-927378073A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741240" y="5464080"/>
            <a:ext cx="77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s on the Workforce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eacher Attit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47360" y="1060560"/>
            <a:ext cx="783108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significant impacts on satisfaction with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e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significant impacts on feelings of preparedness to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r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k with oth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k with stud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3560" y="127080"/>
            <a:ext cx="841392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Impacts on Teacher At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ED18-EEE6-41FD-B49E-FB10338670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7880" y="12708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osition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BFF1-7FA5-4770-9EA8-540AB874E2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03200" y="1139760"/>
            <a:ext cx="80517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eatment stayers vs. control stay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n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sional characteristics of teachers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dif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lassroom practices in year 1: no positive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udent achievement in year 3: no positive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s on the Classroom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eacher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880920" y="1109160"/>
            <a:ext cx="73677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d to prevailing induction, what is the impact of comprehensive induction on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nduction servic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ether assigned a m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me spent with m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ivi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Workforce outcom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acher attitu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acher ret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Classroom outcom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acher practi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udent test sco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7880" y="111240"/>
            <a:ext cx="73962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90CA-0D94-4D8A-BB5B-047EE38CEB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Content Placeholder 4" descr=""/>
          <p:cNvPicPr/>
          <p:nvPr/>
        </p:nvPicPr>
        <p:blipFill>
          <a:blip r:embed="rId1"/>
          <a:stretch/>
        </p:blipFill>
        <p:spPr>
          <a:xfrm>
            <a:off x="641520" y="1114560"/>
            <a:ext cx="7651440" cy="45543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Impact on Year 1 Classroom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79C-1838-49AA-A533-956AC41EB2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709560" y="4568760"/>
            <a:ext cx="12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7" name="TextBox 6"/>
          <p:cNvSpPr/>
          <p:nvPr/>
        </p:nvSpPr>
        <p:spPr>
          <a:xfrm>
            <a:off x="714240" y="199872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Consistent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8" name="TextBox 7"/>
          <p:cNvSpPr/>
          <p:nvPr/>
        </p:nvSpPr>
        <p:spPr>
          <a:xfrm>
            <a:off x="693720" y="37609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Limited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744480" y="115092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xtensive 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704880" y="2897280"/>
            <a:ext cx="153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Moderat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987480" y="5730840"/>
            <a:ext cx="6958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ede2"/>
                </a:solidFill>
                <a:latin typeface="Arial"/>
              </a:rPr>
              <a:t>Treatment-control differences are not statistically significant (N = 631 teachers)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8240" y="27000"/>
            <a:ext cx="7639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 in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B0EB-F88D-4C3E-882B-A42E4CC416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4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ede2"/>
                </a:solidFill>
                <a:latin typeface="Arial"/>
              </a:rPr>
              <a:t>Treatment-control differences are not statistically significant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87320" y="180036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7880" y="-360"/>
            <a:ext cx="73962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h in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DAB1-0076-419E-9926-E3A9EEBD2B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9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87320" y="180036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1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12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47720" y="880920"/>
            <a:ext cx="67248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lect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 distri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ndomiz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18 elementary schoo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,009 tea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8 eligible for classroom obser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90 eligible for test-score analysis in year 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55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econd year of study, created two experi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ne-year districts” with a single yea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 trea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wo-year districts” with two year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 trea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BBC9-86B8-4626-BCE1-4A2BC7F9AF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30360" y="1087560"/>
            <a:ext cx="7751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Induction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ontrol group received induction servic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Treatment group received more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uring intervention period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Workforce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teacher retention, mobi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Classroom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classroom practices in first yea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test scores in one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on test scores in two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s 1 and 2: no impa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 3: Effect size = 0.11 (reading) and 0.20 (math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sensitive to sample defini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1F8-6161-4F78-8ADA-EF07570382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52240" y="2395440"/>
            <a:ext cx="8134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duc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EB8-15D7-4214-A1E2-4D2A06CC38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496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AA4-404C-4695-8E34-B9669A8A72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03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1430280" y="403704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BF97-56BD-40A1-944F-31C912930F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11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1430280" y="403704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8:21:57Z</dcterms:created>
  <dc:creator>user</dc:creator>
  <dc:description/>
  <dc:language>en-US</dc:language>
  <cp:lastModifiedBy>Authorised User</cp:lastModifiedBy>
  <dcterms:modified xsi:type="dcterms:W3CDTF">2010-07-06T12:55:14Z</dcterms:modified>
  <cp:revision>144</cp:revision>
  <dc:subject/>
  <dc:title>The Look and Feel  of Mathematica Presentations</dc:title>
</cp:coreProperties>
</file>