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9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10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11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82F-ADB2-470C-ABEA-A7C2F9F53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, I HAVEN’T UPDATED THES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2C3-43F4-40E3-A5B3-08BB18A1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0E79-159B-43D1-911B-F5ED69E2B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AAF6-0B75-497D-8072-8616271C8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BE2F-89FA-4194-A8C7-45005E454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168E-9C8D-4B3E-980B-DCA4F8479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22558-709A-4849-B1F9-86338EF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B09EA-0029-451F-AB58-A3EF1776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935B0-F32F-4A8E-8F48-A9FD084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CF650-7D01-4FDF-91C6-11EE59FC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3F986-DC4B-4AB9-8853-6030E8E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A080-CC28-480C-B7ED-0B441874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0848A-AF6C-47E8-AF0D-F189188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1E92-D55C-47BC-85E3-0D04EAC2B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905CA-2AE0-4E09-B1F0-2260EB9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C75B3-D5C0-4C7D-BA95-7460C15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3DD42-08C1-430C-B679-F101D50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A5BCC-875D-47D1-8F47-B4F7F234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54F2F-F1DD-4032-BD80-7991DFC6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81306-B8A9-42DD-9CF8-75617B3131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B411C-172C-4F38-901C-9F0340EA4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4CFA-4275-425E-B0E0-AEB0DD0BF0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EAC68-EDCF-4401-8D4B-026E2F6DB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07735-6DCA-4515-8A92-578D10CA0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5D01-28A6-43FE-8EB7-D48191D8FC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BAA4-633A-4B6E-8765-E50CD04872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0F72-6D4B-4981-88B8-6B4476211B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3B98-B3BD-4418-8313-2C8B9A3BED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64F70-3B98-415D-9D07-D4AE1BC251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890DB-8AAF-43B2-9AA2-F754822EF6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687A7-FFC7-40FE-85E8-97775A85E2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CC918-A6AC-427C-B7F9-B4B91C3085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6732-9F95-4D89-B561-323498E704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1FF-0E66-4FA0-A3F8-EDA91D682D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4C4B-D583-4962-8442-2714A6057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F7EC-FA94-4D62-A97F-453A91452A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17C-EB39-4F02-8BDF-69CD298ACC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2893-832A-4113-931D-0879749303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B356-CBA1-461F-B3B5-B0E66E9675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605D-6247-4D5C-B2F2-B22042C17A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D735-2BAC-4D4F-A85D-F5C61A993D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E25D-89B8-4B5A-82F8-FE7ED039C2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1E6C-D5F8-4C9B-A651-32EC2850A5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3F9E-BAA9-4227-AE0A-2DFE14A34F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EA6E-BCBA-48D8-B118-AD0174069A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D8967-779D-412A-8836-61E456F52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D6BC-D714-4299-85CE-C091A159A1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F9D36-D1A2-4A4D-8A77-3AC543ACC2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B4C41-06F8-4B56-AB58-D212B6520C5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11AE8-E957-4976-96CD-9E56B55F99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03E5A-C6AE-43EB-864A-1FF040C824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22ADC-26C5-4092-B0A2-B73D813A5D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42BEF-260B-423B-A092-6BE7D30B20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F9EFB-45A0-44E1-9477-773DD46A87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B5FA3-5045-499E-9090-E5D431B770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05603-D299-4DCA-8174-4E775D70D0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86A4E-7944-40E0-A512-9415BC9A4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DFE1-86F5-4C1E-9E2B-9DCD05B022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B0215-6B2E-4C62-B44C-8CCE2D6A04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977AD-6F1E-48B2-BC1C-F68B5804CB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C6BCC-5A5A-4386-9465-D6B79E615E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4D122-9CE4-418E-AF89-2AD5AD431D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8BD31-9281-450D-B2AE-3A66C95C8E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8F493-CAAB-47E6-A039-31F865A963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68D04-2959-452F-B99B-6558843D59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97639-9B89-4901-B4AB-2D66DD417C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FA1BA-7DEF-41AA-BE09-F26797781C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57FC4-2598-4373-A16D-C380616F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7627-BA45-4428-8E44-15C6093F5D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493DD-04EB-42CA-8056-0D98484277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E4854-F850-4D2A-98C2-8479A08F21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26A5D-1D21-44D9-9F56-4D1926C392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AA99-5B9D-422F-BD1F-0E3ADB45FB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8622-3470-42AE-BC7C-4F00DFC28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5A9-EE0C-4241-BD9D-CE537412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441-C32E-44FE-846D-CB229E06A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4DDF-C8CF-4384-ADBE-111F5B6A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9C7F-116C-4DB2-BA41-DC3BCD9CB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035-7744-4F7A-A3F2-CDE4D2508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8"/>
          </p:nvPr>
        </p:nvSpPr>
        <p:spPr>
          <a:xfrm>
            <a:off x="4351320" y="638820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C85-F59C-42C3-AE82-61E4F18B68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65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Gleason@mathematica-mpr.com" TargetMode="External"/><Relationship Id="rId2" Type="http://schemas.openxmlformats.org/officeDocument/2006/relationships/hyperlink" Target="mailto:CTuttle@mathematica-mpr.com" TargetMode="External"/><Relationship Id="rId3" Type="http://schemas.openxmlformats.org/officeDocument/2006/relationships/hyperlink" Target="mailto:MClark@mathematica-mpr.com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110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valuation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Schoo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03280" y="2631600"/>
            <a:ext cx="779472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30,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at the 2010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ip Gleason  ●  Melissa Cla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istina Clark Tuttle  ●  Emily Dwo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tudent Behav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A6D9-E1B7-4EF9-BC16-E832A3CA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Content Placeholder 3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258400" cy="40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atisfaction with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C8D4-D430-4F32-B6F9-880D814E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Content Placeholder 3" descr=""/>
          <p:cNvPicPr/>
          <p:nvPr/>
        </p:nvPicPr>
        <p:blipFill>
          <a:blip r:embed="rId1"/>
          <a:stretch/>
        </p:blipFill>
        <p:spPr>
          <a:xfrm>
            <a:off x="219240" y="1146240"/>
            <a:ext cx="8705520" cy="4049640"/>
          </a:xfrm>
          <a:prstGeom prst="rect">
            <a:avLst/>
          </a:prstGeom>
          <a:ln w="0">
            <a:noFill/>
          </a:ln>
        </p:spPr>
      </p:pic>
      <p:sp>
        <p:nvSpPr>
          <p:cNvPr id="347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 Variation in Site-Level Impact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19C-D7EC-426E-8CAE-D205D96B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hart 5" descr=""/>
          <p:cNvPicPr/>
          <p:nvPr/>
        </p:nvPicPr>
        <p:blipFill>
          <a:blip r:embed="rId1"/>
          <a:stretch/>
        </p:blipFill>
        <p:spPr>
          <a:xfrm>
            <a:off x="785880" y="957240"/>
            <a:ext cx="5962680" cy="28465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6889680" y="1235160"/>
            <a:ext cx="2022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in impacts is statistically significant at the 0.01 level, two-tailed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bars are statistically significant impacts at the 0.05 level, two-tailed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Chart 7" descr=""/>
          <p:cNvPicPr/>
          <p:nvPr/>
        </p:nvPicPr>
        <p:blipFill>
          <a:blip r:embed="rId2"/>
          <a:stretch/>
        </p:blipFill>
        <p:spPr>
          <a:xfrm>
            <a:off x="676440" y="3475080"/>
            <a:ext cx="59864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Percent Eligible for Free or Reduced Price Me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46E-2A3B-447D-8180-236A4A0E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920880" y="1606680"/>
            <a:ext cx="746604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Achievement in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EB95-72BD-4D82-864E-B7CE9B25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996840" y="1682640"/>
            <a:ext cx="7569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Urban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A3B8-0E2E-465A-BAA5-E1E031EC3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639720" y="5346720"/>
            <a:ext cx="819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statistically significant at the 0.05 (†) or 0.01 (††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#) or 0.01 (##)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996840" y="1682640"/>
            <a:ext cx="7508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ignificant impacts on student achie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mpacts on student/parent  satisfaction with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vary significantly across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successful schools were those serving disadvantaged students, in large urban a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Key F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BA3-2698-4E77-8F78-B29434EC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udy to provi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erime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timates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ional 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charter sch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experimental studies limited to large urban areas (Boston, NY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find positive impacts, consistent with our results for large urban ar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national studies are nonexperimen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find insignificant or slightly negative results, consistent with our overall impact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ion to Liter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59B-381A-4DBC-A826-43026EFA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99840" y="1364760"/>
            <a:ext cx="7761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vailable 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es.ed.gov/ncee/pubs/20104029/pdf/20104030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mathematica-mpr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ip Gleason, Project Dir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PGleason@mathematica-mp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ristina Clark Tut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CTuttle@mathematica-mp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issa Cl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083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Clark@mathematica-mp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A5F-00BB-4DD4-A519-C8772FAF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F02-7AB8-498A-8F65-ACC7A6B9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impacts of charter schools on student achievement and other outcom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 characteristics of charter schools and their environments are related to charter schools' impa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48A-E9D1-40FF-97F3-74B2F8A3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electi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C3D-E51C-4D67-A75F-524C38F9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625320" y="1308240"/>
            <a:ext cx="8114040" cy="4429080"/>
            <a:chOff x="625320" y="1308240"/>
            <a:chExt cx="8114040" cy="4429080"/>
          </a:xfrm>
        </p:grpSpPr>
        <p:sp>
          <p:nvSpPr>
            <p:cNvPr id="379" name="Rectangle 56"/>
            <p:cNvSpPr/>
            <p:nvPr/>
          </p:nvSpPr>
          <p:spPr>
            <a:xfrm>
              <a:off x="2623320" y="459396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7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604240" y="348948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167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"/>
            <p:cNvSpPr/>
            <p:nvPr/>
          </p:nvSpPr>
          <p:spPr>
            <a:xfrm>
              <a:off x="1081080" y="1308240"/>
              <a:ext cx="3383280" cy="38376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ALL CHARTER SCH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"/>
            <p:cNvSpPr/>
            <p:nvPr/>
          </p:nvSpPr>
          <p:spPr>
            <a:xfrm>
              <a:off x="2772360" y="1696320"/>
              <a:ext cx="144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"/>
            <p:cNvSpPr/>
            <p:nvPr/>
          </p:nvSpPr>
          <p:spPr>
            <a:xfrm>
              <a:off x="5005440" y="20624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"/>
            <p:cNvSpPr/>
            <p:nvPr/>
          </p:nvSpPr>
          <p:spPr>
            <a:xfrm>
              <a:off x="2726280" y="2216520"/>
              <a:ext cx="457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1"/>
            <p:cNvSpPr/>
            <p:nvPr/>
          </p:nvSpPr>
          <p:spPr>
            <a:xfrm>
              <a:off x="4473720" y="209268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>
              <a:off x="6062760" y="1789200"/>
              <a:ext cx="267660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a charter middle school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2772360" y="35305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2772360" y="22453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772360" y="407160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2772360" y="279036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"/>
            <p:cNvSpPr/>
            <p:nvPr/>
          </p:nvSpPr>
          <p:spPr>
            <a:xfrm>
              <a:off x="1081080" y="1930680"/>
              <a:ext cx="338328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Entry grade between 4 and 7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 flipV="1">
              <a:off x="4473720" y="3656520"/>
              <a:ext cx="1590840" cy="2682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4473720" y="264888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5"/>
            <p:cNvSpPr/>
            <p:nvPr/>
          </p:nvSpPr>
          <p:spPr>
            <a:xfrm>
              <a:off x="1081080" y="2476080"/>
              <a:ext cx="338328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At least 2 years old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"/>
            <p:cNvSpPr/>
            <p:nvPr/>
          </p:nvSpPr>
          <p:spPr>
            <a:xfrm>
              <a:off x="1081080" y="3027240"/>
              <a:ext cx="3383280" cy="50328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itial screen indicates potent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for oversubscription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922280" y="5024160"/>
              <a:ext cx="258768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6062760" y="2458800"/>
              <a:ext cx="252396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</a:t>
              </a:r>
              <a:br>
                <a:rPr sz="1500"/>
              </a:b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enough experience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2"/>
            <p:cNvSpPr/>
            <p:nvPr/>
          </p:nvSpPr>
          <p:spPr>
            <a:xfrm>
              <a:off x="1081080" y="3756960"/>
              <a:ext cx="33832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Recruiting effort confirms eligibility?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4"/>
            <p:cNvSpPr/>
            <p:nvPr/>
          </p:nvSpPr>
          <p:spPr>
            <a:xfrm>
              <a:off x="1082520" y="4307040"/>
              <a:ext cx="33832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Willing to participate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5"/>
            <p:cNvSpPr/>
            <p:nvPr/>
          </p:nvSpPr>
          <p:spPr>
            <a:xfrm>
              <a:off x="6062760" y="3349800"/>
              <a:ext cx="2448000" cy="50292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Ineligible</a:t>
              </a:r>
              <a:br>
                <a:rPr sz="1500"/>
              </a:b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(Not oversubscribed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6"/>
            <p:cNvSpPr/>
            <p:nvPr/>
          </p:nvSpPr>
          <p:spPr>
            <a:xfrm>
              <a:off x="4473720" y="3287160"/>
              <a:ext cx="1592280" cy="2682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7"/>
            <p:cNvSpPr/>
            <p:nvPr/>
          </p:nvSpPr>
          <p:spPr>
            <a:xfrm>
              <a:off x="4465800" y="4467240"/>
              <a:ext cx="1590840" cy="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9"/>
            <p:cNvSpPr/>
            <p:nvPr/>
          </p:nvSpPr>
          <p:spPr>
            <a:xfrm>
              <a:off x="2772360" y="463104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0"/>
            <p:cNvSpPr/>
            <p:nvPr/>
          </p:nvSpPr>
          <p:spPr>
            <a:xfrm flipV="1">
              <a:off x="7510680" y="3855600"/>
              <a:ext cx="0" cy="117036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1"/>
            <p:cNvSpPr/>
            <p:nvPr/>
          </p:nvSpPr>
          <p:spPr>
            <a:xfrm>
              <a:off x="1083600" y="5424120"/>
              <a:ext cx="3383280" cy="3132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PARTICIPATING SCH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47"/>
            <p:cNvSpPr/>
            <p:nvPr/>
          </p:nvSpPr>
          <p:spPr>
            <a:xfrm>
              <a:off x="6054840" y="4298040"/>
              <a:ext cx="1143000" cy="32004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Refus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9"/>
            <p:cNvSpPr/>
            <p:nvPr/>
          </p:nvSpPr>
          <p:spPr>
            <a:xfrm>
              <a:off x="2772360" y="5190120"/>
              <a:ext cx="0" cy="228600"/>
            </a:xfrm>
            <a:prstGeom prst="line">
              <a:avLst/>
            </a:prstGeom>
            <a:ln w="9360">
              <a:solidFill>
                <a:srgbClr val="18396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53"/>
            <p:cNvSpPr/>
            <p:nvPr/>
          </p:nvSpPr>
          <p:spPr>
            <a:xfrm>
              <a:off x="2612520" y="276588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49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5"/>
            <p:cNvSpPr/>
            <p:nvPr/>
          </p:nvSpPr>
          <p:spPr>
            <a:xfrm>
              <a:off x="2635920" y="4044240"/>
              <a:ext cx="1143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13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2634120" y="517464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Yes (n=3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58"/>
            <p:cNvSpPr/>
            <p:nvPr/>
          </p:nvSpPr>
          <p:spPr>
            <a:xfrm>
              <a:off x="5005440" y="26136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59"/>
            <p:cNvSpPr/>
            <p:nvPr/>
          </p:nvSpPr>
          <p:spPr>
            <a:xfrm>
              <a:off x="5005440" y="33807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0"/>
            <p:cNvSpPr/>
            <p:nvPr/>
          </p:nvSpPr>
          <p:spPr>
            <a:xfrm>
              <a:off x="5005440" y="377784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1"/>
            <p:cNvSpPr/>
            <p:nvPr/>
          </p:nvSpPr>
          <p:spPr>
            <a:xfrm>
              <a:off x="5005440" y="4437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62"/>
            <p:cNvSpPr/>
            <p:nvPr/>
          </p:nvSpPr>
          <p:spPr>
            <a:xfrm>
              <a:off x="4984200" y="49863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83962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7"/>
            <p:cNvSpPr/>
            <p:nvPr/>
          </p:nvSpPr>
          <p:spPr>
            <a:xfrm>
              <a:off x="625320" y="4867200"/>
              <a:ext cx="4297680" cy="320400"/>
            </a:xfrm>
            <a:prstGeom prst="rect">
              <a:avLst/>
            </a:prstGeom>
            <a:noFill/>
            <a:ln w="9360">
              <a:solidFill>
                <a:srgbClr val="1839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83962"/>
                  </a:solidFill>
                  <a:latin typeface="Arial"/>
                </a:rPr>
                <a:t>Maintain eligibility through admissions period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63720" y="-360"/>
            <a:ext cx="7394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Sample Selec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3208320" y="292428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319040" y="1114560"/>
            <a:ext cx="3276720" cy="3841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Apply to char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"/>
          <p:cNvSpPr/>
          <p:nvPr/>
        </p:nvSpPr>
        <p:spPr>
          <a:xfrm flipH="1">
            <a:off x="2957400" y="1492920"/>
            <a:ext cx="3240" cy="388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784760" y="167472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5200560" y="50497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340160" y="35924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4875120" y="2368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3151080" y="227340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No</a:t>
            </a:r>
            <a:r>
              <a:rPr b="1" lang="en-US" sz="1000" spc="-1" strike="noStrike">
                <a:solidFill>
                  <a:srgbClr val="18396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4622760" y="1995480"/>
            <a:ext cx="106668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702400" y="1568520"/>
            <a:ext cx="2398680" cy="91440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Out o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admitted to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ch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2936880" y="227160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1674720" y="5005440"/>
            <a:ext cx="0" cy="3016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7"/>
          <p:cNvSpPr/>
          <p:nvPr/>
        </p:nvSpPr>
        <p:spPr>
          <a:xfrm>
            <a:off x="2970360" y="292896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3078000" y="47196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1800360" y="37926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962"/>
                </a:solidFill>
                <a:latin typeface="Arial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46040" y="1866960"/>
            <a:ext cx="3276720" cy="38088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Exempt from lo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H="1">
            <a:off x="2858760" y="4719600"/>
            <a:ext cx="101772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4"/>
          <p:cNvSpPr/>
          <p:nvPr/>
        </p:nvSpPr>
        <p:spPr>
          <a:xfrm>
            <a:off x="4608360" y="2746440"/>
            <a:ext cx="1067040" cy="4608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5"/>
          <p:cNvSpPr/>
          <p:nvPr/>
        </p:nvSpPr>
        <p:spPr>
          <a:xfrm>
            <a:off x="1346040" y="2505240"/>
            <a:ext cx="3276720" cy="38088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Give con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6"/>
          <p:cNvSpPr/>
          <p:nvPr/>
        </p:nvSpPr>
        <p:spPr>
          <a:xfrm>
            <a:off x="927000" y="3181320"/>
            <a:ext cx="4057920" cy="41904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Participate in lottery:  Win a s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5689440" y="2631960"/>
            <a:ext cx="2468880" cy="11797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Out of sample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(participate in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lottery &amp; have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ance of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admi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4330800" y="360504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2"/>
          <p:cNvSpPr/>
          <p:nvPr/>
        </p:nvSpPr>
        <p:spPr>
          <a:xfrm>
            <a:off x="488880" y="4594320"/>
            <a:ext cx="2395440" cy="44136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Offered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3456000" y="3882960"/>
            <a:ext cx="1981080" cy="38124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Placed on wait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5"/>
          <p:cNvSpPr/>
          <p:nvPr/>
        </p:nvSpPr>
        <p:spPr>
          <a:xfrm>
            <a:off x="3879720" y="4545000"/>
            <a:ext cx="2860920" cy="533520"/>
          </a:xfrm>
          <a:prstGeom prst="rect">
            <a:avLst/>
          </a:prstGeom>
          <a:noFill/>
          <a:ln w="1260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High enough on wait list to be </a:t>
            </a:r>
            <a:br>
              <a:rPr sz="1500"/>
            </a:br>
            <a:r>
              <a:rPr b="1" lang="en-US" sz="1500" spc="-1" strike="noStrike">
                <a:solidFill>
                  <a:srgbClr val="183962"/>
                </a:solidFill>
                <a:latin typeface="Arial"/>
              </a:rPr>
              <a:t>offered admission anyway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6"/>
          <p:cNvSpPr/>
          <p:nvPr/>
        </p:nvSpPr>
        <p:spPr>
          <a:xfrm>
            <a:off x="4395960" y="428940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7"/>
          <p:cNvSpPr/>
          <p:nvPr/>
        </p:nvSpPr>
        <p:spPr>
          <a:xfrm>
            <a:off x="5062680" y="5078520"/>
            <a:ext cx="0" cy="22860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8"/>
          <p:cNvSpPr/>
          <p:nvPr/>
        </p:nvSpPr>
        <p:spPr>
          <a:xfrm>
            <a:off x="747720" y="5337000"/>
            <a:ext cx="2021040" cy="690840"/>
          </a:xfrm>
          <a:prstGeom prst="rect">
            <a:avLst/>
          </a:prstGeom>
          <a:noFill/>
          <a:ln w="5076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Treatment Group</a:t>
            </a:r>
            <a:br>
              <a:rPr sz="1800"/>
            </a:b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3995640" y="5343480"/>
            <a:ext cx="2251080" cy="658800"/>
          </a:xfrm>
          <a:prstGeom prst="rect">
            <a:avLst/>
          </a:prstGeom>
          <a:noFill/>
          <a:ln w="50760">
            <a:solidFill>
              <a:srgbClr val="1839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Control Group</a:t>
            </a:r>
            <a:br>
              <a:rPr sz="1800"/>
            </a:br>
            <a:r>
              <a:rPr b="1" lang="en-US" sz="1800" spc="-1" strike="noStrike">
                <a:solidFill>
                  <a:srgbClr val="183962"/>
                </a:solidFill>
                <a:latin typeface="Arial"/>
              </a:rPr>
              <a:t>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1663560" y="3633840"/>
            <a:ext cx="0" cy="917640"/>
          </a:xfrm>
          <a:prstGeom prst="line">
            <a:avLst/>
          </a:prstGeom>
          <a:ln w="9360">
            <a:solidFill>
              <a:srgbClr val="18396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Tim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BE2C-1EF2-47DD-99B0-DA11EB2A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26960" y="909720"/>
          <a:ext cx="8380440" cy="4941720"/>
        </p:xfrm>
        <a:graphic>
          <a:graphicData uri="http://schemas.openxmlformats.org/drawingml/2006/table">
            <a:tbl>
              <a:tblPr/>
              <a:tblGrid>
                <a:gridCol w="3425760"/>
                <a:gridCol w="2538720"/>
                <a:gridCol w="241596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/Summe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rec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llow-up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llow-up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/parent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surv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 surv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udy charter sch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Student Sub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2B9-9A34-466E-907A-E4B8CB19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96760" y="1353960"/>
          <a:ext cx="6899400" cy="2399040"/>
        </p:xfrm>
        <a:graphic>
          <a:graphicData uri="http://schemas.openxmlformats.org/drawingml/2006/table">
            <a:tbl>
              <a:tblPr/>
              <a:tblGrid>
                <a:gridCol w="4542120"/>
                <a:gridCol w="2357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 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in impac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 for free or reduced price 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 (white vs. nonwhite and Hispan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reading/math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R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25DD-15E8-479C-BC37-DCFAC0A2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Content Placeholder 3" descr=""/>
          <p:cNvPicPr/>
          <p:nvPr/>
        </p:nvPicPr>
        <p:blipFill>
          <a:blip r:embed="rId1"/>
          <a:stretch/>
        </p:blipFill>
        <p:spPr>
          <a:xfrm>
            <a:off x="996840" y="1428840"/>
            <a:ext cx="7707600" cy="40989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by G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57E5-90F8-4C2C-8ED2-A75CFFC1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3" descr=""/>
          <p:cNvPicPr/>
          <p:nvPr/>
        </p:nvPicPr>
        <p:blipFill>
          <a:blip r:embed="rId1"/>
          <a:stretch/>
        </p:blipFill>
        <p:spPr>
          <a:xfrm>
            <a:off x="984240" y="1344600"/>
            <a:ext cx="7707240" cy="40989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39720" y="554976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Reading Achie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BF6-FC4E-4FEC-9500-50B191B2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996840" y="1562040"/>
            <a:ext cx="7707600" cy="40975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Year 2 Test Scor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Baseline Math Achie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1E5-4E9F-4204-8892-7335E3511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Content Placeholder 3" descr=""/>
          <p:cNvPicPr/>
          <p:nvPr/>
        </p:nvPicPr>
        <p:blipFill>
          <a:blip r:embed="rId1"/>
          <a:stretch/>
        </p:blipFill>
        <p:spPr>
          <a:xfrm>
            <a:off x="984240" y="1501920"/>
            <a:ext cx="7707240" cy="40971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7"/>
          <p:cNvSpPr/>
          <p:nvPr/>
        </p:nvSpPr>
        <p:spPr>
          <a:xfrm>
            <a:off x="639720" y="5586480"/>
            <a:ext cx="819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ly significant at the 0.05 (*) or 0.01 (**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subgroups significant at the 0.05 (^) or 0.01 (^^) level after multiple comparison adjust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37760" y="1325160"/>
            <a:ext cx="83199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eful monitoring of admissions lotteries at 36 charter middle schools in 15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: 2,330 applicants to charter schools in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e assessments in reading and m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outcomes from school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of students, parents, and princip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4800" y="115920"/>
            <a:ext cx="87314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erimental Design Based on Admissions Lotter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80C-E639-4C60-B526-A7EEEE9E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Students in the S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88B5-23E1-4DED-93E6-CD02069D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54040" y="982800"/>
          <a:ext cx="7920000" cy="4998960"/>
        </p:xfrm>
        <a:graphic>
          <a:graphicData uri="http://schemas.openxmlformats.org/drawingml/2006/table">
            <a:tbl>
              <a:tblPr/>
              <a:tblGrid>
                <a:gridCol w="4005360"/>
                <a:gridCol w="2085840"/>
                <a:gridCol w="182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Test S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bs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/Ethnic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wh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bl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Hispa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with I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getting free/RP me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of School Attended in Year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8AF-44B4-422A-BB73-487764A9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Content Placeholder 3" descr=""/>
          <p:cNvPicPr/>
          <p:nvPr/>
        </p:nvPicPr>
        <p:blipFill>
          <a:blip r:embed="rId1"/>
          <a:stretch/>
        </p:blipFill>
        <p:spPr>
          <a:xfrm>
            <a:off x="588960" y="1185840"/>
            <a:ext cx="4191120" cy="3903840"/>
          </a:xfrm>
          <a:prstGeom prst="rect">
            <a:avLst/>
          </a:prstGeom>
          <a:ln w="0">
            <a:noFill/>
          </a:ln>
        </p:spPr>
      </p:pic>
      <p:pic>
        <p:nvPicPr>
          <p:cNvPr id="325" name="Content Placeholder 3" descr=""/>
          <p:cNvPicPr/>
          <p:nvPr/>
        </p:nvPicPr>
        <p:blipFill>
          <a:blip r:embed="rId2"/>
          <a:stretch/>
        </p:blipFill>
        <p:spPr>
          <a:xfrm>
            <a:off x="4376880" y="1157400"/>
            <a:ext cx="419076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33320" y="1325160"/>
            <a:ext cx="790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charter school is mini-experi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difference in average outcomes between treatment and control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for baseline achievement &amp; other character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impacts across charter school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bo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being admission to a study charter school (IT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attending charter school (TO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harter School Impa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A3A9-BC9A-4665-854A-60FA2F570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Impacts on Key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BC9-06F2-47F1-9946-DE4B506C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76280" y="1236600"/>
          <a:ext cx="8023320" cy="3152880"/>
        </p:xfrm>
        <a:graphic>
          <a:graphicData uri="http://schemas.openxmlformats.org/drawingml/2006/table">
            <a:tbl>
              <a:tblPr/>
              <a:tblGrid>
                <a:gridCol w="4640400"/>
                <a:gridCol w="3382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 of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Between Treatment and Control Studen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5a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achievement/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measures of academic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 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 in and out of scho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/student satisfaction with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e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involvement in child’s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A436-4CEE-40EF-8D90-8502C52A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Content Placeholder 3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259840" cy="4049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 after adjusting for multiple hypothesis tes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 after adjusting for multiple hypothesis tes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Average Test Scores, Year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8093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s on Atten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B0CE-A38C-4DA6-9B83-2202E76A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Content Placeholder 3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259840" cy="40496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609480" y="5600880"/>
            <a:ext cx="81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Difference is statistically significant at the 0.05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Difference is statistically significant at the 0.01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2:23:23Z</dcterms:created>
  <dc:creator>Christina Clark Tuttle</dc:creator>
  <dc:description/>
  <dc:language>en-US</dc:language>
  <cp:lastModifiedBy>Authorised User</cp:lastModifiedBy>
  <dcterms:modified xsi:type="dcterms:W3CDTF">2010-07-06T12:55:36Z</dcterms:modified>
  <cp:revision>111</cp:revision>
  <dc:subject/>
  <dc:title>A New Way of Presenting:  The New Look and Feel of MPR Slides</dc:title>
</cp:coreProperties>
</file>