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37600" cy="69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Goldstein, National Center for Education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231880" y="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81440" y="520200"/>
            <a:ext cx="3473280" cy="26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3400" y="3301560"/>
            <a:ext cx="7388280" cy="3127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600600"/>
            <a:ext cx="4002120" cy="34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Association Annual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231880" y="6600600"/>
            <a:ext cx="4002120" cy="34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FD1-41B7-47B0-A748-EE9324C32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881440" y="520560"/>
            <a:ext cx="3473280" cy="2606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23400" y="3301560"/>
            <a:ext cx="738828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523224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7383-EFDD-4B89-891F-4E71A0E4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523224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5"/>
          <p:cNvSpPr/>
          <p:nvPr/>
        </p:nvSpPr>
        <p:spPr>
          <a:xfrm>
            <a:off x="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Goldstein, National Center for Education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6"/>
          <p:cNvSpPr/>
          <p:nvPr/>
        </p:nvSpPr>
        <p:spPr>
          <a:xfrm>
            <a:off x="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Association Annual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81440" y="520560"/>
            <a:ext cx="3473280" cy="2606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3301560"/>
            <a:ext cx="7388280" cy="3127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ample representative of all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apply only to testabl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states with high inclusion rates at a disadvant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ime, what is the impact of changes in state inclusion and accommodation poli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EP does not permit all accommodations some states allow on their stat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sults valid for students using accommod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Header Placeholder 3"/>
          <p:cNvSpPr/>
          <p:nvPr/>
        </p:nvSpPr>
        <p:spPr>
          <a:xfrm>
            <a:off x="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Goldstein, National Center for Education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5232240" y="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Association Annual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5232240" y="6600960"/>
            <a:ext cx="400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FB3E-C69E-4F79-B15D-AB98722E8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658D-A19B-4BB1-A92B-4274239B9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8226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3578400"/>
            <a:ext cx="8226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DB19-34AF-45BC-B1EB-0A9A64475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2101-5A85-4B94-BA90-468BA8752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8270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8270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35784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5784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578400"/>
            <a:ext cx="26485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0F08-8158-4311-9E79-3CA0050B3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7567-1EC7-4D01-9BED-6560E6DAF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7C9A-12EF-4634-A441-FC113B5C1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F414-4C94-4734-B700-1FA5F663D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B203-0B0A-4176-927F-37792B312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12960"/>
            <a:ext cx="822636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2315-696D-42B6-BA7F-6777D1316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BA31-47ED-4E62-9B5D-D0029D79F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35784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1C2B-AF9F-4ECE-B6D2-B33FE500C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827000"/>
            <a:ext cx="4014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578400"/>
            <a:ext cx="8226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5D25-7D41-4F82-8098-BBCC3C8E0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15"/>
          <p:cNvGraphicFramePr/>
          <p:nvPr/>
        </p:nvGraphicFramePr>
        <p:xfrm>
          <a:off x="457200" y="5791320"/>
          <a:ext cx="2971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913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17FD-8634-4399-AD61-1AC669F4438B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ent Developments in Inclusion Practices in the National Assessment of Education Progress (NAEP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nold A. Gold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Center for Educat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Education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9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5638680" y="5943600"/>
            <a:ext cx="3200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6060"/>
                </a:solidFill>
                <a:latin typeface="Arial"/>
              </a:rPr>
              <a:t>DISCLAIMER: Opinions expressed herein do not necessarily represent the official positions of the U.S. Department of Edu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search to Increase Inclusion (1)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n range of NAEP tes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le test booklets: adapt NAEP questions to make more accessible to lower-ability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-and-skills appropriate questions: develop new questions that allow lower-ability students to demonstrate what they know and ca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testing: route students to questions they are likely to be able to answer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DD45-FC09-4349-88DF-FD0F01B6B8BB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search to Increase Inclusion (2)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and reading t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: give questions on which students are permitted to use calculators to students requiring them as an accommo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onduct experimental study on use of read-aloud accommodation on the reading test questions and answer options (but not the reading pass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78F6-8169-493E-9B65-E04E28A8C212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47E-BE3C-49CA-9E1A-B7D0DADD4415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240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EDUCATION SCIENCES REFORM ACT OF 2002, TITLE II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. 303, NATIONAL ASSESSMENT OF EDUCATIONAL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EP sh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random sampling process which is consistent with relevant, widely accepted professional assessment standard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produces data that are representative on a national and regional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formation on special groups, including, whenever feasible, information collected, cross tabulated, compared, and reported by race, ethnicity, socioeconomic status, gend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ility and limited English pro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EB63-139E-4AE8-B7DC-E1B9707A5267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Validity Issues for NAEP Inclus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iz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NAEP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bility of state results within year and ove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ring maximum accommodations without violating NAEP constr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cent Exclusion Rates in NAE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1495-4318-4BB5-9799-6D95FF8BFBC8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hart 5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594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2263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lusion of Identified SD &amp; ELL Stud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1721-0A22-4E9C-A1EA-613BCEC3A249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hart 3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594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7E78-D73E-4F83-A427-AD8FE3C9169F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231840" y="676440"/>
            <a:ext cx="86803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NAEP Inclusion Procedures--Presen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5400" y="182700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ticipation in NAEP follows how student participated in state t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ke “regular” state tes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re accommodations allowed by NAEP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require others, participate anyw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9193-69B0-44F5-B9FA-CC8DD5430084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NAEP Inclusion Procedures--Futur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7616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—follow IEP/504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ccommodations permitted on NA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quire others, encourage participation with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—include if in US schools 1 year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ccommodations permitted on NA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quire others, encourage participation with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26BA-2A32-45EA-B424-13715ABB8919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4680" y="9129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porting Exclusion Rat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7616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 in reports and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excluded of all students (representativeness 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excluded of identified students (opportunity 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 states that exclude over 5% of 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 states that exclude over 15% of identified SDs or 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7D92-8439-4AED-BFA3-33D848DA2D23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17:33Z</dcterms:created>
  <dc:creator>Opt1m1st1c1</dc:creator>
  <dc:description/>
  <dc:language>en-US</dc:language>
  <cp:lastModifiedBy>Jdabrowski</cp:lastModifiedBy>
  <dcterms:modified xsi:type="dcterms:W3CDTF">2010-07-02T16:59:03Z</dcterms:modified>
  <cp:revision>83</cp:revision>
  <dc:subject/>
  <dc:title>Slide 1</dc:title>
</cp:coreProperties>
</file>