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37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23188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81440" y="520200"/>
            <a:ext cx="3473280" cy="26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600600"/>
            <a:ext cx="4002120" cy="34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231880" y="6600600"/>
            <a:ext cx="4002120" cy="34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357B-86E2-40F1-9EF4-63714527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3280" cy="2606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523224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DF7-E271-4778-A707-960E392C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523224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5"/>
          <p:cNvSpPr/>
          <p:nvPr/>
        </p:nvSpPr>
        <p:spPr>
          <a:xfrm>
            <a:off x="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6"/>
          <p:cNvSpPr/>
          <p:nvPr/>
        </p:nvSpPr>
        <p:spPr>
          <a:xfrm>
            <a:off x="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3280" cy="2606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ample representative of all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apply only to testabl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tates with high inclusion rates at a disadvant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ime, what is the impact of changes in state inclusion and accommodation poli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EP does not permit all accommodations some states allow on their stat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sults valid for students using accommod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Header Placeholder 3"/>
          <p:cNvSpPr/>
          <p:nvPr/>
        </p:nvSpPr>
        <p:spPr>
          <a:xfrm>
            <a:off x="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523224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523224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176-7DED-43D3-88C2-BB5111441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031F-DE42-45BA-A09F-162C14B1F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5784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AD8F-B5A8-4050-9A3A-FF882D904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F917-C1DD-4877-AE07-D30DC0F99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AB08-00BF-4790-B3C7-89222C767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4D8D-E379-48B9-9E13-3409A8F73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7D31-D9D1-4CE2-8C36-027FDAB62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B787-C352-4330-B70F-F80A2F894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7A34-98DA-4776-AB5E-3DBC8DD80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12960"/>
            <a:ext cx="822636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988C-C7DB-491E-B6E7-2037A652A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35C6-B7D9-4F92-B941-9BBA00740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C0D2-4C65-40F0-A052-673C34431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FCAB-2A96-44E5-9474-4B5A1301B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5"/>
          <p:cNvGraphicFramePr/>
          <p:nvPr/>
        </p:nvGraphicFramePr>
        <p:xfrm>
          <a:off x="457200" y="5791320"/>
          <a:ext cx="2971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91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721-1750-4018-8466-115C950B2B4D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ent Developments in Inclusion Practices in the National Assessment of Education Progress (NAEP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nold A. Gold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Center for Educ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Education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5638680" y="5943600"/>
            <a:ext cx="3200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6060"/>
                </a:solidFill>
                <a:latin typeface="Arial"/>
              </a:rPr>
              <a:t>DISCLAIMER: Opinions expressed herein do not necessarily represent the official positions of the U.S. Department of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search to Increase Inclusion (1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n range of NAEP tes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test booklets: adapt NAEP questions to make more accessible to lower-abilit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-and-skills appropriate questions: develop new questions that allow lower-ability students to demonstrate what they know and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esting: route students to questions they are likely to be able to answer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ECE-97AC-49DC-9AEC-89D97E4F57D5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search to Increase Inclusion (2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and reading t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: give questions on which students are permitted to use calculators to students requiring them as an accommo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onduct experimental study on use of read-aloud accommodation on the reading test questions and answer options (but not the reading pa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B681-CDFF-4AFB-8A92-BCD469CFB6C5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E086-C91E-400B-9461-4064AADABB22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240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EDUCATION SCIENCES REFORM ACT OF 2002, TITLE II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. 303, NATIONAL ASSESSMENT OF EDUCATIONAL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EP sh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random sampling process which is consistent with relevant, widely accepted professional assessment standard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produces data that are representative on a national and regional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on special groups, including, whenever feasible, information collected, cross tabulated, compared, and reported by race, ethnicity, socioeconomic status, gend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ility and limited English pro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AE8-9A77-48BE-991B-30901764B95A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Validity Issues for NAEP Inclus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iz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NAEP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bility of state results within year and ov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ing maximum accommodations without violating NAEP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ent Exclusion Rates in NAE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4175-8AB5-42DD-A0CD-FA49A8788287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hart 5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594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lusion of Identified SD &amp; ELL Stud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D83-A80A-47C0-ACE1-927BDF7CF25F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hart 3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594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9B7-709F-471D-90F6-2BAEA45E426B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231840" y="676440"/>
            <a:ext cx="86803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AEP Inclusion Procedures--Presen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ticipation in NAEP follows how student participated in state t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e “regular” state tes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 accommodations allowed by NAEP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require others, participate anyw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9A4-7A20-4F41-B131-D0C04A907827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AEP Inclusion Procedures--Futur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7616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—follow IEP/504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ccommodations permitted on N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quire others, encourage participation with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—include if in US schools 1 year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ccommodations permitted on N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quire others, encourage participation with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A5B-7B17-45F4-AD30-98CAC3C57A6F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porting Exclusion Rat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7616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 in reports an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excluded of all students (representativeness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excluded of identified students (opportunity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states that exclude over 5% of 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states that exclude over 15% of identified SDs or 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E98E-0F02-4F8D-AC19-9F50BCB8716F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17:33Z</dcterms:created>
  <dc:creator>Opt1m1st1c1</dc:creator>
  <dc:description/>
  <dc:language>en-US</dc:language>
  <cp:lastModifiedBy>Jdabrowski</cp:lastModifiedBy>
  <dcterms:modified xsi:type="dcterms:W3CDTF">2010-07-02T16:59:03Z</dcterms:modified>
  <cp:revision>83</cp:revision>
  <dc:subject/>
  <dc:title>Slide 1</dc:title>
</cp:coreProperties>
</file>