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0D6D-7E96-480B-935E-9458B3A57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37B0-2914-4F6A-95F5-70B8BA28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5C93-332F-47AA-A867-22912AABE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D596-62BD-4B41-B569-7433EF8D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A87F-A790-4878-8B24-BA85EBC0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E29-6FA9-4CD9-AE42-671755F6A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7E5C-9FB7-470A-9325-6E297C32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83F-BBD0-4433-8976-4858432F8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57CD-D833-4B48-AA00-ECD4DF42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C33C-087D-415C-842C-B9C5D37D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AD54-1902-4AD5-AC23-D5924EB10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5942-4F6A-4CF3-BDF6-CC3B2FDE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A39-D1EB-424E-8F81-20BB21A0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833-BA95-48D3-96A0-A401652A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10FA-9EA4-4F79-AC81-BDFBC6355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BF02-B827-45B2-89A9-F06B8E0F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7FB-3181-417C-8F86-F94FF061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78B-C162-4C06-B63A-71E8FA1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652-DA1A-42DD-BB2E-A145C493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60A-CCC8-479D-AF31-A600E362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2FFF-4211-4169-B781-81C3640C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10D6-4B4F-4CDD-977B-1EDF0F50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5BBF-0054-4022-89FA-DDF64C10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F8C0-DB7C-4BE2-8439-2BAF17D5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C8E-A884-494B-9157-17E7FC81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20D3-59BC-44E4-BD54-0461B827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5A9-7E8A-4638-87F2-BF359A2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EBC-F368-4788-B317-15B1FA4A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C9E6-C90D-411D-B16B-A1E09FF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F9C9-A9AD-4057-A0F0-04D5DFBF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1349-AA08-4FAA-8D83-A86CB74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8AD7-4D0A-425B-A887-17DC9583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A57F-3438-4296-9C35-F3AE0E49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65A5-A0FD-4D05-8799-B756ACCA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4946-53DE-404E-BFBD-21084E2F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D9F4-D55F-457E-A331-3394F922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1EED-3339-45B4-9A7F-5AA7E41C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0837-81A7-4D42-8BD8-6D87F284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049-87B9-479C-BBF3-CD1F10E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32AB-E7AD-4351-B5C5-031CA31C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7E0D-E935-42A9-83D6-2A0B601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6C4B-ECD8-4F56-B449-8F7C31C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DF7D-1A0B-4644-9878-78FE9FD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0F12-DCE8-4BF2-B15E-B1439901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AAD8-4D0C-4F0A-9C4A-E7562887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0D20-2C3A-4FE6-87A4-E463963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C22-21CF-407A-BA2A-9085D62D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E30-4424-4F55-89A0-057ABD2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20C-F66F-4D41-A9BE-89B1A12B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77F-22B5-4829-8E63-E65D558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FBE-7B4B-4DA3-8491-0E50DFBB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1FA-6398-4695-9D6A-F3BD496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ullseyeLt"/>
          <p:cNvPicPr/>
          <p:nvPr/>
        </p:nvPicPr>
        <p:blipFill>
          <a:blip r:embed="rId2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D3C1-5076-4ECC-8EE8-D6ADF34F3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97000" y="6324480"/>
            <a:ext cx="8472240" cy="381240"/>
            <a:chOff x="297000" y="6324480"/>
            <a:chExt cx="8472240" cy="381240"/>
          </a:xfrm>
        </p:grpSpPr>
        <p:pic>
          <p:nvPicPr>
            <p:cNvPr id="7" name="Picture 9" descr="ncre%20logo%20top"/>
            <p:cNvPicPr/>
            <p:nvPr/>
          </p:nvPicPr>
          <p:blipFill>
            <a:blip r:embed="rId3"/>
            <a:srcRect l="0" t="0" r="49052" b="40050"/>
            <a:stretch/>
          </p:blipFill>
          <p:spPr>
            <a:xfrm>
              <a:off x="5797440" y="6324480"/>
              <a:ext cx="29718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Line 10"/>
            <p:cNvSpPr/>
            <p:nvPr/>
          </p:nvSpPr>
          <p:spPr>
            <a:xfrm>
              <a:off x="297000" y="640080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97000" y="647388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97000" y="654696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97000" y="662004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c4ff"/>
            </a:gs>
            <a:gs pos="100000">
              <a:srgbClr val="5b83a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4DD3-F10A-4040-8283-911FC7558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BullseyeDark"/>
          <p:cNvPicPr/>
          <p:nvPr/>
        </p:nvPicPr>
        <p:blipFill>
          <a:blip r:embed="rId2"/>
          <a:stretch/>
        </p:blipFill>
        <p:spPr>
          <a:xfrm>
            <a:off x="323856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CEB9-F98C-4587-ADE2-8D62EDE65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rcres.org/TRI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Targeted Reading Interventio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tilizing Web-Based Observational Technology to Foster Professional Developme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y Hedric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ynne Vernon-Feag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nie Ginsber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iversity of North Carolina at Chapel Hi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31120" y="3048120"/>
            <a:ext cx="70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geting instructional match in every interaction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0" y="3429000"/>
            <a:ext cx="74674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ample and Site by Ye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772400" cy="31147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w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hr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ou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i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xas and New Mexic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ache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0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2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43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2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6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1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47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ample and Site by Yea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1981080"/>
          <a:ext cx="7772400" cy="31147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w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Thr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ou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Osaka"/>
                        </a:rPr>
                        <a:t>Year F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i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xas and New Mexic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North Carolina and Nebras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Teache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0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2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43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8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2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364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216 K &amp;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147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Osaka"/>
                        </a:rPr>
                        <a:t> Gra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"/>
          <p:cNvSpPr/>
          <p:nvPr/>
        </p:nvSpPr>
        <p:spPr>
          <a:xfrm>
            <a:off x="4572000" y="1676520"/>
            <a:ext cx="4191120" cy="3809880"/>
          </a:xfrm>
          <a:prstGeom prst="rect">
            <a:avLst/>
          </a:prstGeom>
          <a:noFill/>
          <a:ln w="3168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0BE3-A5FB-4964-968A-3874A08F4C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earch Desig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ools were pair matched on free and reduced lunch, % minority, school size, and Reading First sta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ools were then randomly assigned to experimental or control condi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thin each classroo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focal children were randomly selected from those children identified by the teacher as struggling learners (i.e., below expectations for literacy ski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07424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non-focal children were randomly selected from those children identified by the teacher as progressing typically (i.e., meeting or exceeding expectations for literacy skill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0" name="Picture 4" descr="ncre%20logo%20top"/>
          <p:cNvPicPr/>
          <p:nvPr/>
        </p:nvPicPr>
        <p:blipFill>
          <a:blip r:embed="rId1"/>
          <a:srcRect l="0" t="0" r="49052" b="40050"/>
          <a:stretch/>
        </p:blipFill>
        <p:spPr>
          <a:xfrm>
            <a:off x="5797440" y="6324480"/>
            <a:ext cx="2971800" cy="38124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297000" y="640080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97000" y="647388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97000" y="654696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97000" y="6620040"/>
            <a:ext cx="54259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8810640" y="638820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8810640" y="646596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8810640" y="653400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8810640" y="6613560"/>
            <a:ext cx="27144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echnology to Facilitate Consultation Delivery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ofessional Development for Experimental Teache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162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ining begins with multi-day summer institute at UNC-Chapel Hi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ing school year, work one-on-one every day with a struggling reader and up to 5 across the course of the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aborative consultation bi-weekly with UNC literacy consultant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via webc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problem solving and diagnostic thinking to equip teachers with needed instructional tools in bi-weekly team meeting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via webc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Webcam for Team Meeting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3" name="Content Placeholder 5" descr="1919(2).JPEG"/>
          <p:cNvPicPr/>
          <p:nvPr/>
        </p:nvPicPr>
        <p:blipFill>
          <a:blip r:embed="rId1"/>
          <a:stretch/>
        </p:blipFill>
        <p:spPr>
          <a:xfrm>
            <a:off x="1905120" y="1747800"/>
            <a:ext cx="57290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Webcam for TRI Sess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6" descr="Photo_102407_002"/>
          <p:cNvPicPr/>
          <p:nvPr/>
        </p:nvPicPr>
        <p:blipFill>
          <a:blip r:embed="rId1"/>
          <a:stretch/>
        </p:blipFill>
        <p:spPr>
          <a:xfrm>
            <a:off x="88920" y="1981080"/>
            <a:ext cx="4476600" cy="3581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Photo_102407_004"/>
          <p:cNvPicPr/>
          <p:nvPr/>
        </p:nvPicPr>
        <p:blipFill>
          <a:blip r:embed="rId2"/>
          <a:stretch/>
        </p:blipFill>
        <p:spPr>
          <a:xfrm>
            <a:off x="4635360" y="1994040"/>
            <a:ext cx="44452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E2AB-AC06-4A6E-8CC3-91BA478AD0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3" descr="IMG_24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5" descr="jeane in office 2.jpg"/>
          <p:cNvPicPr/>
          <p:nvPr/>
        </p:nvPicPr>
        <p:blipFill>
          <a:blip r:embed="rId1"/>
          <a:stretch/>
        </p:blipFill>
        <p:spPr>
          <a:xfrm>
            <a:off x="4267080" y="2209680"/>
            <a:ext cx="4648320" cy="3714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Oval 7"/>
          <p:cNvGrpSpPr/>
          <p:nvPr/>
        </p:nvGrpSpPr>
        <p:grpSpPr>
          <a:xfrm>
            <a:off x="5248440" y="3114720"/>
            <a:ext cx="933120" cy="860400"/>
            <a:chOff x="5248440" y="3114720"/>
            <a:chExt cx="933120" cy="860400"/>
          </a:xfrm>
        </p:grpSpPr>
        <p:pic>
          <p:nvPicPr>
            <p:cNvPr id="203" name="Oval 7" descr=""/>
            <p:cNvPicPr/>
            <p:nvPr/>
          </p:nvPicPr>
          <p:blipFill>
            <a:blip r:embed="rId2"/>
            <a:stretch/>
          </p:blipFill>
          <p:spPr>
            <a:xfrm>
              <a:off x="5248440" y="3114720"/>
              <a:ext cx="9331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445000" y="3300480"/>
              <a:ext cx="5400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traight Connector 9"/>
          <p:cNvSpPr/>
          <p:nvPr/>
        </p:nvSpPr>
        <p:spPr>
          <a:xfrm flipH="1" flipV="1">
            <a:off x="4267080" y="2666520"/>
            <a:ext cx="1067040" cy="876600"/>
          </a:xfrm>
          <a:prstGeom prst="line">
            <a:avLst/>
          </a:prstGeom>
          <a:ln w="381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jeaneichat.jpg"/>
          <p:cNvPicPr/>
          <p:nvPr/>
        </p:nvPicPr>
        <p:blipFill>
          <a:blip r:embed="rId3"/>
          <a:stretch/>
        </p:blipFill>
        <p:spPr>
          <a:xfrm>
            <a:off x="380880" y="304920"/>
            <a:ext cx="3810240" cy="289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jeaneichat.jpg"/>
          <p:cNvPicPr/>
          <p:nvPr/>
        </p:nvPicPr>
        <p:blipFill>
          <a:blip r:embed="rId4"/>
          <a:stretch/>
        </p:blipFill>
        <p:spPr>
          <a:xfrm rot="21060000">
            <a:off x="5486040" y="3428640"/>
            <a:ext cx="4572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I Se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2631960" y="114300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Re-Reading for Flu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2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654280" y="236232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Word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8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666880" y="358128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Guided Oral Rea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5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 rot="5411400">
            <a:off x="5598000" y="2783520"/>
            <a:ext cx="1452600" cy="5486400"/>
          </a:xfrm>
          <a:custGeom>
            <a:avLst/>
            <a:gdLst>
              <a:gd name="textAreaLeft" fmla="*/ 0 w 1452600"/>
              <a:gd name="textAreaRight" fmla="*/ 1245240 w 1452600"/>
              <a:gd name="textAreaTop" fmla="*/ 3634920 h 5486400"/>
              <a:gd name="textAreaBottom" fmla="*/ 5486760 h 5486400"/>
            </a:gdLst>
            <a:ahLst/>
            <a:rect l="textAreaLeft" t="textAreaTop" r="textAreaRight" b="textAreaBottom"/>
            <a:pathLst>
              <a:path w="21600" h="21600">
                <a:moveTo>
                  <a:pt x="15390" y="0"/>
                </a:moveTo>
                <a:lnTo>
                  <a:pt x="9180" y="7200"/>
                </a:lnTo>
                <a:lnTo>
                  <a:pt x="12266" y="7200"/>
                </a:lnTo>
                <a:lnTo>
                  <a:pt x="12266" y="14311"/>
                </a:lnTo>
                <a:lnTo>
                  <a:pt x="0" y="14311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8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743200" y="5653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Semibold"/>
              </a:rPr>
              <a:t>TRI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TRI Team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irsten Kainz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g Burchina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 Woo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anne Gunt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ndy Peter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ris Padgett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ndra Garc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manda Bo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om Legget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eve Amend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elley May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son Ro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ate Gallag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m Wint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na Harris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nnifer Bauc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lly Meeh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id Ada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09480" y="5334120"/>
            <a:ext cx="79250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Funded by IES as part of the National Research Center on Rural Education Support --NRCRES -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ea typeface="Arial"/>
                <a:hlinkClick r:id="rId1"/>
              </a:rPr>
              <a:t>www.nrcres.org/TRI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RI:  Primary Word Work Strateg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Segmenting Wor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Change One Sou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Read, Write, &amp; S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ocket Phra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380880" y="2971800"/>
            <a:ext cx="3975120" cy="774720"/>
          </a:xfrm>
          <a:prstGeom prst="roundRect">
            <a:avLst>
              <a:gd name="adj" fmla="val 16667"/>
            </a:avLst>
          </a:prstGeom>
          <a:solidFill>
            <a:srgbClr val="6012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Word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Baskerville Semibold"/>
              </a:rPr>
              <a:t>(~8+ minu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4495680" y="1905120"/>
            <a:ext cx="1219320" cy="3124080"/>
          </a:xfrm>
          <a:custGeom>
            <a:avLst/>
            <a:gdLst>
              <a:gd name="textAreaLeft" fmla="*/ 779040 w 1219320"/>
              <a:gd name="textAreaRight" fmla="*/ 1219680 w 12193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Change One Sound close up"/>
          <p:cNvPicPr/>
          <p:nvPr/>
        </p:nvPicPr>
        <p:blipFill>
          <a:blip r:embed="rId1"/>
          <a:srcRect l="15396" t="14472" r="0" b="11737"/>
          <a:stretch/>
        </p:blipFill>
        <p:spPr>
          <a:xfrm>
            <a:off x="1676520" y="4343400"/>
            <a:ext cx="30477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Session Vide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Utility of Technolog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llows for observation of teacher-student interaction in the TRI se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pportunities for coach-teacher dialogue post-se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ntinued discussions via email and text-ch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echnology to Facilitate Teacher-Student Observat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bservational Data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ole Class Observations: focus on teacher context and teacher behaviors  - methods of instruction, instructional focus, use of questions, reinforcement, relationship characterist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llenge with webcam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-on-One Observations: focus on specific instructional strategies and behaviors – methods of instruction, use of questions, reinforcement, relationship characterist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tility of webcam techn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ne-on-One Observat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ll teachers, both experimental and control, participated in a guided oral reading session with three randomly selected focal childr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otal observation time was 5 minutes, divided into 10 30-second block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bservations of behaviors/practices were coded on a presence/absence basi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bservation Vide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ndividualized Instruction Cod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iteracy Focu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describe the specific literacy skills introduced, reinforced, or emphasized by the teacher (e.g., listening to text, vocabulary, phonological awareness, comprehens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acher Strategi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describe specific instructional methods employed by the teacher (e.g., modeling, coaching/scaffolding, redirec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ehavio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describe the affect and quality of interactions between the dyad (e.g., teacher engagement, child negative affect, shared positive affec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Content Placeholder 6"/>
          <p:cNvGraphicFramePr/>
          <p:nvPr/>
        </p:nvGraphicFramePr>
        <p:xfrm>
          <a:off x="231840" y="638280"/>
          <a:ext cx="868356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638280"/>
                    <a:ext cx="868356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ool capabilities: technology support, bandwidth, security firewa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cher facility with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thical considerations: privacy, consent, use of video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st-effective and more scal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ss invasi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cher autonom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deo record of observation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e of Technology for Professional Development and Classroom Observ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rease in the use of technology (e.g., on-line discussion boards, email correspondence, webcam technology, on-line consultation)  as a tool for providing access to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professional development resourc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Gentry, Denton, &amp; Kurtz, 2008; Pianta, Mashburn, Downer, Hamre, &amp; Justice, 2008;Russell, Kleiman, Carey, &amp; Douglas, 2009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ortance of classroom observations for myriad purposes, including teacher training and empirical studies of education and child development (Pianta &amp; Hamre, 2009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chnology can be used to foster teacher professional development and to carry out classroom observations for research purpos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Various considerations and improvements needed for more widespread use of such technological innov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5" descr="MS boy &amp; board RWS 003720[1]"/>
          <p:cNvPicPr/>
          <p:nvPr/>
        </p:nvPicPr>
        <p:blipFill>
          <a:blip r:embed="rId1"/>
          <a:stretch/>
        </p:blipFill>
        <p:spPr>
          <a:xfrm>
            <a:off x="2286000" y="2057400"/>
            <a:ext cx="4724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TRI Framework and Research Desig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chnology to Facilitate Consultation Deliver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chnology to Facilitate Teacher-Student Observ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allenges and Benefit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General Framework of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argeted Reading Intervent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llaborative consultation for K-1 teachers’ professional learn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rving struggling K-1 student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nsive, diagnostic reading instruc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ail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n by the classroom teac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e-on-on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mall group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apid reading grow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297000" y="6324480"/>
            <a:ext cx="8472240" cy="381240"/>
            <a:chOff x="297000" y="6324480"/>
            <a:chExt cx="8472240" cy="381240"/>
          </a:xfrm>
        </p:grpSpPr>
        <p:pic>
          <p:nvPicPr>
            <p:cNvPr id="153" name="Picture 5" descr="ncre%20logo%20top"/>
            <p:cNvPicPr/>
            <p:nvPr/>
          </p:nvPicPr>
          <p:blipFill>
            <a:blip r:embed="rId1"/>
            <a:srcRect l="0" t="0" r="49052" b="40050"/>
            <a:stretch/>
          </p:blipFill>
          <p:spPr>
            <a:xfrm>
              <a:off x="5797440" y="6324480"/>
              <a:ext cx="29718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Line 6"/>
            <p:cNvSpPr/>
            <p:nvPr/>
          </p:nvSpPr>
          <p:spPr>
            <a:xfrm>
              <a:off x="297000" y="640080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"/>
            <p:cNvSpPr/>
            <p:nvPr/>
          </p:nvSpPr>
          <p:spPr>
            <a:xfrm>
              <a:off x="297000" y="647388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"/>
            <p:cNvSpPr/>
            <p:nvPr/>
          </p:nvSpPr>
          <p:spPr>
            <a:xfrm>
              <a:off x="297000" y="654696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9"/>
            <p:cNvSpPr/>
            <p:nvPr/>
          </p:nvSpPr>
          <p:spPr>
            <a:xfrm>
              <a:off x="297000" y="6620040"/>
              <a:ext cx="542592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4" descr="jeaneichat.jpg"/>
          <p:cNvPicPr/>
          <p:nvPr/>
        </p:nvPicPr>
        <p:blipFill>
          <a:blip r:embed="rId2"/>
          <a:stretch/>
        </p:blipFill>
        <p:spPr>
          <a:xfrm>
            <a:off x="4572000" y="2286000"/>
            <a:ext cx="43894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Transactional  Model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0" name="Content Placeholder 4" descr="Theory of Change Model Revised Lynne November.gif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Transactional  Model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Content Placeholder 4" descr="Theory of Change Model Revised Lynne November.gif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87656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 rot="18900000">
            <a:off x="1074600" y="2332080"/>
            <a:ext cx="3810240" cy="1600200"/>
          </a:xfrm>
          <a:prstGeom prst="ellipse">
            <a:avLst/>
          </a:pr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RI Transactional  Model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7" name="Content Placeholder 4" descr="Theory of Change Model Revised Lynne November.gif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487692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 rot="1920000">
            <a:off x="1353960" y="3325320"/>
            <a:ext cx="3810240" cy="1600200"/>
          </a:xfrm>
          <a:prstGeom prst="ellipse">
            <a:avLst/>
          </a:pr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esearch: A Series of Randomized Control Trials in Rural School Distric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1: Piloting a one semester TRI intervention kindergarten and first gr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2:  Two semester TRI intervention in kindergarten and first gra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3: Two semester TRI intervention in Texas and New Mexico in kindergarten and first grad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sing distance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4: Four semester TRI intervention in Nebraska and North Carolina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sing distance techn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nd, Melanie (Contractor)</dc:creator>
  <dc:description/>
  <dc:language>en-US</dc:language>
  <cp:lastModifiedBy>Authorised User</cp:lastModifiedBy>
  <dcterms:modified xsi:type="dcterms:W3CDTF">2010-05-25T16:50:13Z</dcterms:modified>
  <cp:revision>202</cp:revision>
  <dc:subject/>
  <dc:title>Targeted Reading Intervention</dc:title>
</cp:coreProperties>
</file>