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4FF-5D40-4E57-B69E-CDDEF0C2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AF35-3D01-4811-A750-7B15762F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3A1E-125A-4B56-93EF-462DEB4D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FDB7-C6D4-4BE8-8E75-AF1FFA84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981-7677-479E-B987-A37F14C00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F4F9-769D-4A31-921A-740BA3B0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795A-62C3-413B-8BC1-6DD85578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603-850A-4D22-B7E7-14144F5D2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44B-5594-4942-9580-4085EABA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3A2-F757-4DFE-AD7C-01EF642D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2838-2B75-405B-99CB-816BE066A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FBB-3FE3-4499-B8AB-CE6D13C8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EBC7-B903-4F88-9F8A-5136C50C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0FE-087F-40CD-9641-4BA6A5E5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EE52-4528-4A0C-B8E2-91B96197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148-DC1F-4FDD-8778-01A030A2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7D0-8CCC-43FF-8D0A-874DC02C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8B5-E5C4-4B73-AC85-14EFA6E3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BD0-6930-4A42-94FA-4B73CA60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3ED-4466-4621-8D12-D384D254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3E3F-EF33-43AC-865E-3B43347A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A8BD-80B3-42CE-BE0F-ED0825AC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8F2B-D6C2-406C-8E2D-FCC5BF11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539-DFCA-49A2-B43E-9389E98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E3D1-44A4-4903-B962-F432F50D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F45D-83FC-47F0-B599-7C6916A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AEBE-9D13-43F0-AC13-32CB0659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178-C1EC-43F4-831D-F5AC0B5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AF27-0BAC-4B7C-8820-44959F4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1A86-4031-4E2B-B1E6-A027A15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F4B0-C0F6-4106-871A-5725F4DB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D394-813E-4F75-BD80-E9EB1D0A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4174-F42D-4034-9BA6-316363BD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6141-E6F1-413E-B3A1-601E3309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C04B-DA8C-4235-87F3-546787DC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48E4-C687-4498-B72D-59B4D079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482B-F8DE-42E3-971D-2AC44D8D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B4D0-9785-4164-B06C-50F0E3D9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B5C-C573-4648-BFDD-DBE2E8A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4602-0885-43DD-88C7-9F37B169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4154-39B8-4C0F-BC0D-6C70982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2446-4D56-465A-9E5B-C341FEF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F76B-54FE-4756-9A98-EB03557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8C64-F45B-4C8F-95CA-9521625C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F9B9-F288-4BE9-A7ED-B202BDF4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0CF8-B2EF-41E5-A45D-7C53878A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1E5-23DB-47C5-B8BB-CA7EAD1F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A90-B880-49EA-A323-8DC262E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727-BB37-4BD1-86AA-B62AE1E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DD0-007E-48A6-9AEF-906686B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A14-6EE9-4DA6-9121-BFC65AB0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62A-4F38-461F-B392-AEE5049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ullseyeLt"/>
          <p:cNvPicPr/>
          <p:nvPr/>
        </p:nvPicPr>
        <p:blipFill>
          <a:blip r:embed="rId2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710-8E66-421F-812E-1AC323ADC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97000" y="6324480"/>
            <a:ext cx="8472240" cy="381240"/>
            <a:chOff x="297000" y="6324480"/>
            <a:chExt cx="8472240" cy="381240"/>
          </a:xfrm>
        </p:grpSpPr>
        <p:pic>
          <p:nvPicPr>
            <p:cNvPr id="7" name="Picture 9" descr="ncre%20logo%20top"/>
            <p:cNvPicPr/>
            <p:nvPr/>
          </p:nvPicPr>
          <p:blipFill>
            <a:blip r:embed="rId3"/>
            <a:srcRect l="0" t="0" r="49052" b="40050"/>
            <a:stretch/>
          </p:blipFill>
          <p:spPr>
            <a:xfrm>
              <a:off x="5797440" y="6324480"/>
              <a:ext cx="29718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Line 10"/>
            <p:cNvSpPr/>
            <p:nvPr/>
          </p:nvSpPr>
          <p:spPr>
            <a:xfrm>
              <a:off x="297000" y="640080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97000" y="647388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97000" y="654696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97000" y="662004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c4ff"/>
            </a:gs>
            <a:gs pos="100000">
              <a:srgbClr val="5b83a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E37B-47F0-4AEB-82E3-12CEA5BA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BullseyeDark"/>
          <p:cNvPicPr/>
          <p:nvPr/>
        </p:nvPicPr>
        <p:blipFill>
          <a:blip r:embed="rId2"/>
          <a:stretch/>
        </p:blipFill>
        <p:spPr>
          <a:xfrm>
            <a:off x="323856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09A-9D33-42A7-A03F-ADBA06688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rcres.org/TRI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Targeted Reading Interventio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tilizing Web-Based Observational Technology to Foster Professional Developme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y Hedric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ynne Vernon-Feag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nie Ginsber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iversity of North Carolina at Chapel Hi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31120" y="3048120"/>
            <a:ext cx="70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geting instructional match in every interaction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0" y="3429000"/>
            <a:ext cx="74674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ample and Site by Ye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772400" cy="31147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w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hr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ou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i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xas and New Mexic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ache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0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2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43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2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6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1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47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ample and Site by Ye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1981080"/>
          <a:ext cx="7772400" cy="31147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w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hr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ou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i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xas and New Mexic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ache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0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2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43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2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6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1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47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"/>
          <p:cNvSpPr/>
          <p:nvPr/>
        </p:nvSpPr>
        <p:spPr>
          <a:xfrm>
            <a:off x="4572000" y="1676520"/>
            <a:ext cx="4191120" cy="3809880"/>
          </a:xfrm>
          <a:prstGeom prst="rect">
            <a:avLst/>
          </a:prstGeom>
          <a:noFill/>
          <a:ln w="3168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F81-69D2-45AD-9558-04151EB881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earch Desig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ools were pair matched on free and reduced lunch, % minority, school size, and Reading First sta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ools were then randomly assigned to experimental or control condi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in each classroo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focal children were randomly selected from those children identified by the teacher as struggling learners (i.e., below expectations for literacy ski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non-focal children were randomly selected from those children identified by the teacher as progressing typically (i.e., meeting or exceeding expectations for literacy ski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0" name="Picture 4" descr="ncre%20logo%20top"/>
          <p:cNvPicPr/>
          <p:nvPr/>
        </p:nvPicPr>
        <p:blipFill>
          <a:blip r:embed="rId1"/>
          <a:srcRect l="0" t="0" r="49052" b="40050"/>
          <a:stretch/>
        </p:blipFill>
        <p:spPr>
          <a:xfrm>
            <a:off x="5797440" y="6324480"/>
            <a:ext cx="2971800" cy="38124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297000" y="640080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97000" y="647388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97000" y="654696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97000" y="662004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8810640" y="638820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8810640" y="646596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8810640" y="653400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8810640" y="661356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echnology to Facilitate Consultation Delivery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ofessional Development for Experimental Teache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162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ining begins with multi-day summer institute at UNC-Chapel Hi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ing school year, work one-on-one every day with a struggling reader and up to 5 across the course of the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aborative consultation bi-weekly with UNC literacy consultant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via webc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problem solving and diagnostic thinking to equip teachers with needed instructional tools in bi-weekly team meeting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via webc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Webcam for Team Meeting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3" name="Content Placeholder 5" descr="1919(2).JPEG"/>
          <p:cNvPicPr/>
          <p:nvPr/>
        </p:nvPicPr>
        <p:blipFill>
          <a:blip r:embed="rId1"/>
          <a:stretch/>
        </p:blipFill>
        <p:spPr>
          <a:xfrm>
            <a:off x="1905120" y="1747800"/>
            <a:ext cx="57290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Webcam for TRI Sess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6" descr="Photo_102407_002"/>
          <p:cNvPicPr/>
          <p:nvPr/>
        </p:nvPicPr>
        <p:blipFill>
          <a:blip r:embed="rId1"/>
          <a:stretch/>
        </p:blipFill>
        <p:spPr>
          <a:xfrm>
            <a:off x="88920" y="1981080"/>
            <a:ext cx="4476600" cy="3581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Photo_102407_004"/>
          <p:cNvPicPr/>
          <p:nvPr/>
        </p:nvPicPr>
        <p:blipFill>
          <a:blip r:embed="rId2"/>
          <a:stretch/>
        </p:blipFill>
        <p:spPr>
          <a:xfrm>
            <a:off x="4635360" y="1994040"/>
            <a:ext cx="44452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8CC-8398-4FBB-9A2F-A8C352027F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3" descr="IMG_24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5" descr="jeane in office 2.jpg"/>
          <p:cNvPicPr/>
          <p:nvPr/>
        </p:nvPicPr>
        <p:blipFill>
          <a:blip r:embed="rId1"/>
          <a:stretch/>
        </p:blipFill>
        <p:spPr>
          <a:xfrm>
            <a:off x="4267080" y="2209680"/>
            <a:ext cx="4648320" cy="3714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Oval 7"/>
          <p:cNvGrpSpPr/>
          <p:nvPr/>
        </p:nvGrpSpPr>
        <p:grpSpPr>
          <a:xfrm>
            <a:off x="5248440" y="3114720"/>
            <a:ext cx="933120" cy="860400"/>
            <a:chOff x="5248440" y="3114720"/>
            <a:chExt cx="933120" cy="860400"/>
          </a:xfrm>
        </p:grpSpPr>
        <p:pic>
          <p:nvPicPr>
            <p:cNvPr id="203" name="Oval 7" descr=""/>
            <p:cNvPicPr/>
            <p:nvPr/>
          </p:nvPicPr>
          <p:blipFill>
            <a:blip r:embed="rId2"/>
            <a:stretch/>
          </p:blipFill>
          <p:spPr>
            <a:xfrm>
              <a:off x="5248440" y="3114720"/>
              <a:ext cx="9331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445000" y="3300480"/>
              <a:ext cx="5400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traight Connector 9"/>
          <p:cNvSpPr/>
          <p:nvPr/>
        </p:nvSpPr>
        <p:spPr>
          <a:xfrm flipH="1" flipV="1">
            <a:off x="4267080" y="2666520"/>
            <a:ext cx="1067040" cy="876600"/>
          </a:xfrm>
          <a:prstGeom prst="line">
            <a:avLst/>
          </a:prstGeom>
          <a:ln w="381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jeaneichat.jpg"/>
          <p:cNvPicPr/>
          <p:nvPr/>
        </p:nvPicPr>
        <p:blipFill>
          <a:blip r:embed="rId3"/>
          <a:stretch/>
        </p:blipFill>
        <p:spPr>
          <a:xfrm>
            <a:off x="380880" y="304920"/>
            <a:ext cx="3810240" cy="289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jeaneichat.jpg"/>
          <p:cNvPicPr/>
          <p:nvPr/>
        </p:nvPicPr>
        <p:blipFill>
          <a:blip r:embed="rId4"/>
          <a:stretch/>
        </p:blipFill>
        <p:spPr>
          <a:xfrm rot="21060000">
            <a:off x="5486040" y="3428640"/>
            <a:ext cx="4572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I Se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2631960" y="114300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Re-Reading for Fl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2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654280" y="236232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Word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8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666880" y="358128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Guided Oral Rea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5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 rot="5411400">
            <a:off x="5598000" y="2783520"/>
            <a:ext cx="1452600" cy="5486400"/>
          </a:xfrm>
          <a:custGeom>
            <a:avLst/>
            <a:gdLst>
              <a:gd name="textAreaLeft" fmla="*/ 0 w 1452600"/>
              <a:gd name="textAreaRight" fmla="*/ 1245240 w 1452600"/>
              <a:gd name="textAreaTop" fmla="*/ 3634920 h 5486400"/>
              <a:gd name="textAreaBottom" fmla="*/ 5486760 h 5486400"/>
            </a:gdLst>
            <a:ahLst/>
            <a:rect l="textAreaLeft" t="textAreaTop" r="textAreaRight" b="textAreaBottom"/>
            <a:pathLst>
              <a:path w="21600" h="21600">
                <a:moveTo>
                  <a:pt x="15390" y="0"/>
                </a:moveTo>
                <a:lnTo>
                  <a:pt x="9180" y="7200"/>
                </a:lnTo>
                <a:lnTo>
                  <a:pt x="12266" y="7200"/>
                </a:lnTo>
                <a:lnTo>
                  <a:pt x="12266" y="14311"/>
                </a:lnTo>
                <a:lnTo>
                  <a:pt x="0" y="14311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8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743200" y="5653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Semibold"/>
              </a:rPr>
              <a:t>TRI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TRI Team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irsten Kainz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g Burchina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 Woo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anne Gunt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ndy Peter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ris Padgett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ndra Garc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manda Bo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om Legget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eve Amend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elley May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son Ro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ate Gallag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m Wint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na Harris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nnifer Bauc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lly Meeh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id Ada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09480" y="5334120"/>
            <a:ext cx="79250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Funded by IES as part of the National Research Center on Rural Education Support --NRCRES -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ea typeface="Arial"/>
                <a:hlinkClick r:id="rId1"/>
              </a:rPr>
              <a:t>www.nrcres.org/TRI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RI:  Primary Word Work Strateg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Segmenting Wor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Change One Sou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Read, Write, &amp; S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ocket Phra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380880" y="297180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Word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~8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4495680" y="1905120"/>
            <a:ext cx="1219320" cy="3124080"/>
          </a:xfrm>
          <a:custGeom>
            <a:avLst/>
            <a:gdLst>
              <a:gd name="textAreaLeft" fmla="*/ 779040 w 1219320"/>
              <a:gd name="textAreaRight" fmla="*/ 1219680 w 12193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Change One Sound close up"/>
          <p:cNvPicPr/>
          <p:nvPr/>
        </p:nvPicPr>
        <p:blipFill>
          <a:blip r:embed="rId1"/>
          <a:srcRect l="15396" t="14472" r="0" b="11737"/>
          <a:stretch/>
        </p:blipFill>
        <p:spPr>
          <a:xfrm>
            <a:off x="1676520" y="4343400"/>
            <a:ext cx="30477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Session Vide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Utility of Technolog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llows for observation of teacher-student interaction in the TRI se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pportunities for coach-teacher dialogue post-se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ntinued discussions via email and text-ch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echnology to Facilitate Teacher-Student Observat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bservational Data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ole Class Observations: focus on teacher context and teacher behaviors  - methods of instruction, instructional focus, use of questions, reinforcement, relationship characterist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llenge with webcam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-on-One Observations: focus on specific instructional strategies and behaviors – methods of instruction, use of questions, reinforcement, relationship characterist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tility of webcam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ne-on-One Observat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ll teachers, both experimental and control, participated in a guided oral reading session with three randomly selected focal childr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otal observation time was 5 minutes, divided into 10 30-second block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bservations of behaviors/practices were coded on a presence/absence basi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bservation Vide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ndividualized Instruction Cod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iteracy Focu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describe the specific literacy skills introduced, reinforced, or emphasized by the teacher (e.g., listening to text, vocabulary, phonological awareness, comprehens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acher Strategi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describe specific instructional methods employed by the teacher (e.g., modeling, coaching/scaffolding, redirec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ehavio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describe the affect and quality of interactions between the dyad (e.g., teacher engagement, child negative affect, shared positive affec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Content Placeholder 6"/>
          <p:cNvGraphicFramePr/>
          <p:nvPr/>
        </p:nvGraphicFramePr>
        <p:xfrm>
          <a:off x="231840" y="638280"/>
          <a:ext cx="868356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638280"/>
                    <a:ext cx="868356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ool capabilities: technology support, bandwidth, security firewa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cher facility with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thical considerations: privacy, consent, use of video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st-effective and more scal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ss invasi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cher autonom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deo record of observation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e of Technology for Professional Development and Classroom Observ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rease in the use of technology (e.g., on-line discussion boards, email correspondence, webcam technology, on-line consultation)  as a tool for providing access to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professional development resourc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Gentry, Denton, &amp; Kurtz, 2008; Pianta, Mashburn, Downer, Hamre, &amp; Justice, 2008;Russell, Kleiman, Carey, &amp; Douglas, 2009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ortance of classroom observations for myriad purposes, including teacher training and empirical studies of education and child development (Pianta &amp; Hamre, 2009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chnology can be used to foster teacher professional development and to carry out classroom observations for research purpos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Various considerations and improvements needed for more widespread use of such technological innov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5" descr="MS boy &amp; board RWS 003720[1]"/>
          <p:cNvPicPr/>
          <p:nvPr/>
        </p:nvPicPr>
        <p:blipFill>
          <a:blip r:embed="rId1"/>
          <a:stretch/>
        </p:blipFill>
        <p:spPr>
          <a:xfrm>
            <a:off x="2286000" y="2057400"/>
            <a:ext cx="4724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TRI Framework and Research Desig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chnology to Facilitate Consultation Deliver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chnology to Facilitate Teacher-Student Observ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allenges and Benefit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General Framework of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argeted Reading Intervent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llaborative consultation for K-1 teachers’ professional lear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rving struggling K-1 student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nsive, diagnostic reading instruc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il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n by the classroom teac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e-on-on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mall group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apid reading grow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297000" y="6324480"/>
            <a:ext cx="8472240" cy="381240"/>
            <a:chOff x="297000" y="6324480"/>
            <a:chExt cx="8472240" cy="381240"/>
          </a:xfrm>
        </p:grpSpPr>
        <p:pic>
          <p:nvPicPr>
            <p:cNvPr id="153" name="Picture 5" descr="ncre%20logo%20top"/>
            <p:cNvPicPr/>
            <p:nvPr/>
          </p:nvPicPr>
          <p:blipFill>
            <a:blip r:embed="rId1"/>
            <a:srcRect l="0" t="0" r="49052" b="40050"/>
            <a:stretch/>
          </p:blipFill>
          <p:spPr>
            <a:xfrm>
              <a:off x="5797440" y="6324480"/>
              <a:ext cx="29718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Line 6"/>
            <p:cNvSpPr/>
            <p:nvPr/>
          </p:nvSpPr>
          <p:spPr>
            <a:xfrm>
              <a:off x="297000" y="640080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"/>
            <p:cNvSpPr/>
            <p:nvPr/>
          </p:nvSpPr>
          <p:spPr>
            <a:xfrm>
              <a:off x="297000" y="647388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"/>
            <p:cNvSpPr/>
            <p:nvPr/>
          </p:nvSpPr>
          <p:spPr>
            <a:xfrm>
              <a:off x="297000" y="654696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9"/>
            <p:cNvSpPr/>
            <p:nvPr/>
          </p:nvSpPr>
          <p:spPr>
            <a:xfrm>
              <a:off x="297000" y="662004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4" descr="jeaneichat.jpg"/>
          <p:cNvPicPr/>
          <p:nvPr/>
        </p:nvPicPr>
        <p:blipFill>
          <a:blip r:embed="rId2"/>
          <a:stretch/>
        </p:blipFill>
        <p:spPr>
          <a:xfrm>
            <a:off x="4572000" y="2286000"/>
            <a:ext cx="43894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Transactional  Model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0" name="Content Placeholder 4" descr="Theory of Change Model Revised Lynne November.gif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Transactional  Model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Content Placeholder 4" descr="Theory of Change Model Revised Lynne November.gif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87656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 rot="18900000">
            <a:off x="1074600" y="2332080"/>
            <a:ext cx="3810240" cy="1600200"/>
          </a:xfrm>
          <a:prstGeom prst="ellipse">
            <a:avLst/>
          </a:pr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Transactional  Model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7" name="Content Placeholder 4" descr="Theory of Change Model Revised Lynne November.gif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487692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 rot="1920000">
            <a:off x="1353960" y="3325320"/>
            <a:ext cx="3810240" cy="1600200"/>
          </a:xfrm>
          <a:prstGeom prst="ellipse">
            <a:avLst/>
          </a:pr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esearch: A Series of Randomized Control Trials in Rural School Distric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1: Piloting a one semester TRI intervention kindergarten and first gr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2:  Two semester TRI intervention in kindergarten and first gr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3: Two semester TRI intervention in Texas and New Mexico in kindergarten and first grad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sing distance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4: Four semester TRI intervention in Nebraska and North Carolina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sing distance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nd, Melanie (Contractor)</dc:creator>
  <dc:description/>
  <dc:language>en-US</dc:language>
  <cp:lastModifiedBy>Authorised User</cp:lastModifiedBy>
  <dcterms:modified xsi:type="dcterms:W3CDTF">2010-05-25T16:50:13Z</dcterms:modified>
  <cp:revision>202</cp:revision>
  <dc:subject/>
  <dc:title>Targeted Reading Intervention</dc:title>
</cp:coreProperties>
</file>