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6C8AE-51D4-4E5C-966D-7CF5F16588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am here to give a little bit of the framing around this session. By way of introduction, I’m someone who has been using video for the past 8 years or so, trying to understand the relationship between teacher knowledge, teaching, and student outcomes. Do so in mathematics, so apologize to the science/reading people in the audi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Heather Hill, providing a conceptual overview of the issuesto consider in studying classrooms using technology. For example,what are the needs that are addressed by using technology incapturing classroom instruction? How does the use of technologyaddress methodological concerns? How are she and her colleaguesusing technology in their current work?</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D25EE-EF44-4542-B702-F6B7AF14FF6A}"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BF543-3864-4A77-BBDF-8159F15BA868}"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Cooley and Leinhardt’s “technology” would not be considered technology tod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I’m taking for granted the arguments for using observational methods over survey or artifactual meth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how each addresses methodological concerns. Can watch yourself/open your own practice to outside interpretation; compare international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under the last bullet point that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79E51-E0CA-4E2B-A507-F6270FEDA1AC}"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CH is part of local comparison group. </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3F847-EBA2-4B54-BE27-BC11B08B134A}"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63824-005D-4E45-978F-D690F918BD18}"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a second time from about half-way through, after the Tutu episode.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E99AC-DC8D-4007-9A6C-AD440D1EEA98}"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jective in the sense that those watching the tape or giving feedback can be removed from the teacher’s immediate environment. Analysis can proceed w/o blinders. </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DEAC5-1EF2-401C-B793-53B8D75769A8}"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I’m not sure I believe this, but some people do, so here goes…</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ABFEF-9F8B-4CDB-8E61-D6EAEEFF519E}"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34527-AA02-43F6-A2C4-C73F4E897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7D56-EF14-4B32-AD21-ECF63B7FF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F0C42-AAE7-42CA-850C-05C348FD7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8F276-7A19-431D-AD05-1C7480774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E9052-EA07-4FCD-886A-9E6682267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B610A-2E07-45F4-B69F-0ADF4019E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B9204-A31C-4529-9EAD-3B9D07965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A6EA8-14B8-41B6-8403-120AC1A6B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56FEC-D436-483E-9922-DD90383B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72F5B-D478-4EC1-A96B-22CF53CD3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1599F-D8C6-472C-8582-5434F4CB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6C413-ADE3-4E2C-8C91-BAE7B8FD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6420-74C1-43A8-9EEF-6A7FD06F4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705F-C415-4949-BF0B-024F0E082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EE5A6-AB2A-4083-BE85-D3738FA61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DCA6F-95A9-4568-9D04-55852DFA7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40279-3A48-4B61-BC56-F5F8EBAE9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0745-970F-4CDA-8C4D-00E9211C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187F4-FBD1-44B8-9192-176B2C5C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7B19-D220-48FA-8214-D5715803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8DFA0-C1D4-4C98-BCD5-39C4BB9D8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95664-3FBF-431E-8BF4-743AF65B3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069B5-34D0-4317-A9AC-6DFF2C61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DAB4-7F93-4D71-B44C-B6F456950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7E677-C232-4B56-839B-C1F0C110AC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11" name="Picture 13" descr="APPROVED LOGOTYPE"/>
          <p:cNvPicPr/>
          <p:nvPr/>
        </p:nvPicPr>
        <p:blipFill>
          <a:blip r:embed="rId2"/>
          <a:stretch/>
        </p:blipFill>
        <p:spPr>
          <a:xfrm>
            <a:off x="338040" y="117360"/>
            <a:ext cx="3165480" cy="24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grpSp>
        <p:nvGrpSpPr>
          <p:cNvPr id="49" name="Group 8"/>
          <p:cNvGrpSpPr/>
          <p:nvPr/>
        </p:nvGrpSpPr>
        <p:grpSpPr>
          <a:xfrm>
            <a:off x="635040" y="533520"/>
            <a:ext cx="8077320" cy="304560"/>
            <a:chOff x="635040" y="533520"/>
            <a:chExt cx="8077320" cy="304560"/>
          </a:xfrm>
        </p:grpSpPr>
        <p:sp>
          <p:nvSpPr>
            <p:cNvPr id="50"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1"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2" name="Picture 16" descr="APPROVED LOGOTYPE"/>
          <p:cNvPicPr/>
          <p:nvPr/>
        </p:nvPicPr>
        <p:blipFill>
          <a:blip r:embed="rId2"/>
          <a:stretch/>
        </p:blipFill>
        <p:spPr>
          <a:xfrm>
            <a:off x="338040" y="117360"/>
            <a:ext cx="3165480" cy="244440"/>
          </a:xfrm>
          <a:prstGeom prst="rect">
            <a:avLst/>
          </a:prstGeom>
          <a:ln w="0">
            <a:noFill/>
          </a:ln>
        </p:spPr>
      </p:pic>
      <p:sp>
        <p:nvSpPr>
          <p:cNvPr id="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55"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7"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C4AC2-CCF1-438C-BDFC-90C4CF0684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Observing Classrooms Using Technology</a:t>
            </a:r>
            <a:endParaRPr b="0" lang="en-US" sz="4800" spc="-1" strike="noStrike">
              <a:solidFill>
                <a:srgbClr val="330033"/>
              </a:solidFill>
              <a:latin typeface="Times New Roman"/>
            </a:endParaRPr>
          </a:p>
        </p:txBody>
      </p:sp>
      <p:sp>
        <p:nvSpPr>
          <p:cNvPr id="102"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her C. Hill</a:t>
            </a:r>
            <a:endParaRPr b="0" lang="en-US" sz="2800" spc="-1" strike="noStrike">
              <a:solidFill>
                <a:srgbClr val="000000"/>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vard Graduate School of Educatio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allenges to this vision</a:t>
            </a:r>
            <a:endParaRPr b="0" lang="en-US" sz="4200" spc="-1" strike="noStrike">
              <a:solidFill>
                <a:srgbClr val="330033"/>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fontScale="86000"/>
          </a:bodyPr>
          <a:p>
            <a:pPr marL="294840" indent="-294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a cheap but high-quality way to capture teaching</a:t>
            </a:r>
            <a:endParaRPr b="0" lang="en-US" sz="28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Graciano lesson: $800</a:t>
            </a:r>
            <a:endParaRPr b="0" lang="en-US" sz="26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o scale this proposal, need captures at about $150/lesson</a:t>
            </a:r>
            <a:endParaRPr b="0" lang="en-US" sz="26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Need good-quality audio, also board capture</a:t>
            </a:r>
            <a:endParaRPr b="0" lang="en-US" sz="2600" spc="-1" strike="noStrike">
              <a:solidFill>
                <a:srgbClr val="000000"/>
              </a:solidFill>
              <a:latin typeface="Garamond"/>
            </a:endParaRPr>
          </a:p>
          <a:p>
            <a:pPr marL="294840" indent="-294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capacity to handle/process video</a:t>
            </a:r>
            <a:endParaRPr b="0" lang="en-US" sz="28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s it comes in</a:t>
            </a:r>
            <a:endParaRPr b="0" lang="en-US" sz="26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s it is coded by objective raters (capacity)</a:t>
            </a:r>
            <a:endParaRPr b="0" lang="en-US" sz="2600" spc="-1" strike="noStrike">
              <a:solidFill>
                <a:srgbClr val="000000"/>
              </a:solidFill>
              <a:latin typeface="Garamond"/>
            </a:endParaRPr>
          </a:p>
          <a:p>
            <a:pPr marL="294840" indent="-294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wrap-around” data (teacher interviews, artifacts such as textbook materia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allenges to this vision</a:t>
            </a:r>
            <a:endParaRPr b="0" lang="en-US" sz="4200" spc="-1" strike="noStrike">
              <a:solidFill>
                <a:srgbClr val="330033"/>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fontScale="84000"/>
          </a:bodyPr>
          <a:p>
            <a:pPr marL="288000" indent="-2880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studies that show what video cannot capture </a:t>
            </a:r>
            <a:endParaRPr b="0" lang="en-US" sz="28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What does live observation afford that videotape does not?</a:t>
            </a:r>
            <a:endParaRPr b="0" lang="en-US" sz="26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re we penalizing some teachers unfairly?</a:t>
            </a:r>
            <a:endParaRPr b="0" lang="en-US" sz="2600" spc="-1" strike="noStrike">
              <a:solidFill>
                <a:srgbClr val="000000"/>
              </a:solidFill>
              <a:latin typeface="Garamond"/>
            </a:endParaRPr>
          </a:p>
          <a:p>
            <a:pPr marL="288000" indent="-2880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struments (!)</a:t>
            </a:r>
            <a:endParaRPr b="0" lang="en-US" sz="28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QI, CLASS, PLATO, need others….</a:t>
            </a:r>
            <a:endParaRPr b="0" lang="en-US" sz="2600" spc="-1" strike="noStrike">
              <a:solidFill>
                <a:srgbClr val="000000"/>
              </a:solidFill>
              <a:latin typeface="Garamond"/>
            </a:endParaRPr>
          </a:p>
          <a:p>
            <a:pPr lvl="2" marL="960120" indent="-19188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Generalizability studies to determine teacher reliability, number of lessons required, best rater configurations…</a:t>
            </a:r>
            <a:endParaRPr b="0" lang="en-US" sz="2300" spc="-1" strike="noStrike">
              <a:solidFill>
                <a:srgbClr val="000000"/>
              </a:solidFill>
              <a:latin typeface="Garamond"/>
            </a:endParaRPr>
          </a:p>
          <a:p>
            <a:pPr marL="288000" indent="-2880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plementation</a:t>
            </a:r>
            <a:endParaRPr b="0" lang="en-US" sz="28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How do you use this with real teachers, real principals, real HR department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Capacity to Support… (2010)</a:t>
            </a:r>
            <a:endParaRPr b="0" lang="en-US" sz="4200" spc="-1" strike="noStrike">
              <a:solidFill>
                <a:srgbClr val="33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ts of research projects experimenting with “homemade” solutions (Flips, laptops, iPhones) </a:t>
            </a:r>
            <a:endParaRPr b="0" lang="en-US" sz="2800" spc="-1" strike="noStrike">
              <a:solidFill>
                <a:srgbClr val="000000"/>
              </a:solidFill>
              <a:latin typeface="Garamond"/>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anies like thereNow, Teachscape have made inroads into cheap, remote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ying this at home…issues</a:t>
            </a:r>
            <a:endParaRPr b="0" lang="en-US" sz="4200" spc="-1" strike="noStrike">
              <a:solidFill>
                <a:srgbClr val="33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fontScale="97000"/>
          </a:bodyPr>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perator vs. no operator camera</a:t>
            </a:r>
            <a:endParaRPr b="0" lang="en-US" sz="2800" spc="-1" strike="noStrike">
              <a:solidFill>
                <a:srgbClr val="000000"/>
              </a:solidFill>
              <a:latin typeface="Garamond"/>
            </a:endParaRPr>
          </a:p>
          <a:p>
            <a:pPr lvl="1" marL="720720" indent="-27720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rmer gives you much more flexibility, but is more expensive</a:t>
            </a:r>
            <a:endParaRPr b="0" lang="en-US" sz="26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evel of video detail required for the type of information you wish to gather</a:t>
            </a:r>
            <a:endParaRPr b="0" lang="en-US" sz="2800" spc="-1" strike="noStrike">
              <a:solidFill>
                <a:srgbClr val="000000"/>
              </a:solidFill>
              <a:latin typeface="Garamond"/>
            </a:endParaRPr>
          </a:p>
          <a:p>
            <a:pPr lvl="1" marL="720720" indent="-27720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Do you need penstroke board capture? Do you need shots of student reactions? Just the teacher? </a:t>
            </a:r>
            <a:endParaRPr b="0" lang="en-US" sz="26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ne vs. two camera solutions</a:t>
            </a:r>
            <a:endParaRPr b="0" lang="en-US" sz="28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Make or Break: Audio </a:t>
            </a:r>
            <a:endParaRPr b="0" lang="en-US" sz="28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s</a:t>
            </a:r>
            <a:endParaRPr b="0" lang="en-US" sz="4200" spc="-1" strike="noStrike">
              <a:solidFill>
                <a:srgbClr val="330033"/>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this technology’s time? </a:t>
            </a:r>
            <a:r>
              <a:rPr b="0" lang="en-US" sz="2800" spc="-1" strike="noStrike">
                <a:solidFill>
                  <a:srgbClr val="000000"/>
                </a:solidFill>
                <a:latin typeface="Garamond"/>
              </a:rPr>
              <a:t>	</a:t>
            </a:r>
            <a:endParaRPr b="0" lang="en-US" sz="28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ertainly for small- &amp; moderate-scale research projects, professional development</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600" spc="-1" strike="noStrike">
                <a:solidFill>
                  <a:srgbClr val="000000"/>
                </a:solidFill>
                <a:latin typeface="Garamond"/>
              </a:rPr>
              <a:t>For evaluation? Hard to tell</a:t>
            </a:r>
            <a:endParaRPr b="0" lang="en-US" sz="26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History of reforms being “eaten by the system”</a:t>
            </a:r>
            <a:endParaRPr b="0" lang="en-US" sz="23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ut strong need for better identification and accountability</a:t>
            </a:r>
            <a:endParaRPr b="0" lang="en-US" sz="2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y use technology to capture classroom instruction?</a:t>
            </a:r>
            <a:endParaRPr b="0" lang="en-US" sz="4200" spc="-1" strike="noStrike">
              <a:solidFill>
                <a:srgbClr val="330033"/>
              </a:solidFill>
              <a:latin typeface="Times New Roman"/>
            </a:endParaRPr>
          </a:p>
        </p:txBody>
      </p:sp>
      <p:sp>
        <p:nvSpPr>
          <p:cNvPr id="104" name=""/>
          <p:cNvSpPr txBox="1"/>
          <p:nvPr/>
        </p:nvSpPr>
        <p:spPr>
          <a:xfrm>
            <a:off x="914400" y="1599840"/>
            <a:ext cx="7772400" cy="4530600"/>
          </a:xfrm>
          <a:prstGeom prst="rect">
            <a:avLst/>
          </a:prstGeom>
          <a:noFill/>
          <a:ln w="0">
            <a:noFill/>
          </a:ln>
        </p:spPr>
        <p:txBody>
          <a:bodyPr anchor="t">
            <a:normAutofit fontScale="91000"/>
          </a:bodyPr>
          <a:p>
            <a:pPr marL="312120" indent="-3121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fine “technology”…</a:t>
            </a:r>
            <a:endParaRPr b="0" lang="en-US" sz="2800" spc="-1" strike="noStrike">
              <a:solidFill>
                <a:srgbClr val="000000"/>
              </a:solidFill>
              <a:latin typeface="Garamond"/>
            </a:endParaRPr>
          </a:p>
          <a:p>
            <a:pPr lvl="1" marL="676080" indent="-2599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1970s, Cooley and Leinhardt videotaped classrooms for the Instructional Dimensions Study</a:t>
            </a:r>
            <a:endParaRPr b="0" lang="en-US" sz="2600" spc="-1" strike="noStrike">
              <a:solidFill>
                <a:srgbClr val="000000"/>
              </a:solidFill>
              <a:latin typeface="Garamond"/>
            </a:endParaRPr>
          </a:p>
          <a:p>
            <a:pPr lvl="1" marL="676080" indent="-2599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nce then, many uses of recorded classroom observations to enrich / enlighten</a:t>
            </a:r>
            <a:endParaRPr b="0" lang="en-US" sz="26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Deborah Loewenberg Ball / Magdalene Lampert’s self-study of mathematics teaching</a:t>
            </a:r>
            <a:endParaRPr b="0" lang="en-US" sz="23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IMSS video study (Stigler and Hiebert)</a:t>
            </a:r>
            <a:endParaRPr b="0" lang="en-US" sz="23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Video clubs (Sherin and colleagues); direct feedback on teaching (CLASS My Teaching Partner)</a:t>
            </a:r>
            <a:endParaRPr b="0" lang="en-US" sz="23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0)</a:t>
            </a:r>
            <a:endParaRPr b="0" lang="en-US" sz="4200" spc="-1" strike="noStrike">
              <a:solidFill>
                <a:srgbClr val="330033"/>
              </a:solidFill>
              <a:latin typeface="Times New Roman"/>
            </a:endParaRPr>
          </a:p>
        </p:txBody>
      </p:sp>
      <p:sp>
        <p:nvSpPr>
          <p:cNvPr id="10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understand instruction:</a:t>
            </a:r>
            <a:endParaRPr b="0" lang="en-US" sz="28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nternational comparisons</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t>
            </a:r>
            <a:r>
              <a:rPr b="0" lang="en-US" sz="2600" spc="-1" strike="noStrike">
                <a:solidFill>
                  <a:srgbClr val="000000"/>
                </a:solidFill>
                <a:latin typeface="Garamond"/>
              </a:rPr>
              <a:t>Local” comparisons</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Re-watching enables fine-grained analysis of what occurs in math classrooms</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packing instruction</a:t>
            </a:r>
            <a:endParaRPr b="0" lang="en-US" sz="4200" spc="-1" strike="noStrike">
              <a:solidFill>
                <a:srgbClr val="330033"/>
              </a:solidFill>
              <a:latin typeface="Times New Roman"/>
            </a:endParaRPr>
          </a:p>
        </p:txBody>
      </p:sp>
      <p:sp>
        <p:nvSpPr>
          <p:cNvPr id="108" name=""/>
          <p:cNvSpPr txBox="1"/>
          <p:nvPr/>
        </p:nvSpPr>
        <p:spPr>
          <a:xfrm>
            <a:off x="914400" y="1599840"/>
            <a:ext cx="7772400" cy="4530600"/>
          </a:xfrm>
          <a:prstGeom prst="rect">
            <a:avLst/>
          </a:prstGeom>
          <a:noFill/>
          <a:ln w="0">
            <a:noFill/>
          </a:ln>
        </p:spPr>
        <p:txBody>
          <a:bodyPr anchor="t">
            <a:normAutofit fontScale="90000"/>
          </a:bodyPr>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raciano</a:t>
            </a:r>
            <a:endParaRPr b="0" lang="en-US" sz="28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8</a:t>
            </a:r>
            <a:r>
              <a:rPr b="0" lang="en-US" sz="2600" spc="-1" strike="noStrike" baseline="30000">
                <a:solidFill>
                  <a:srgbClr val="000000"/>
                </a:solidFill>
                <a:latin typeface="Garamond"/>
              </a:rPr>
              <a:t>th</a:t>
            </a:r>
            <a:r>
              <a:rPr b="0" lang="en-US" sz="2600" spc="-1" strike="noStrike">
                <a:solidFill>
                  <a:srgbClr val="000000"/>
                </a:solidFill>
                <a:latin typeface="Garamond"/>
              </a:rPr>
              <a:t> grade</a:t>
            </a:r>
            <a:endParaRPr b="0" lang="en-US" sz="26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tudents are supposed to find and interpret the slope of the line</a:t>
            </a:r>
            <a:endParaRPr b="0" lang="en-US" sz="26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Going over homework</a:t>
            </a:r>
            <a:endParaRPr b="0" lang="en-US" sz="26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Problem: Phone company charges $0.25 per minute. Graphthe cost per minute, find the slope of the line</a:t>
            </a:r>
            <a:endParaRPr b="0" lang="en-US" sz="2600" spc="-1" strike="noStrike">
              <a:solidFill>
                <a:srgbClr val="000000"/>
              </a:solidFill>
              <a:latin typeface="Garamond"/>
            </a:endParaRPr>
          </a:p>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estion: What do you “see” upon watching the tape once? What would you want to know if you saw it again?</a:t>
            </a:r>
            <a:endParaRPr b="0" lang="en-US" sz="2800" spc="-1" strike="noStrike">
              <a:solidFill>
                <a:srgbClr val="000000"/>
              </a:solidFill>
              <a:latin typeface="Garamond"/>
            </a:endParaRPr>
          </a:p>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ciano</a:t>
            </a:r>
            <a:endParaRPr b="0" lang="en-US" sz="4200" spc="-1" strike="noStrike">
              <a:solidFill>
                <a:srgbClr val="330033"/>
              </a:solidFill>
              <a:latin typeface="Times New Roman"/>
            </a:endParaRPr>
          </a:p>
        </p:txBody>
      </p:sp>
      <p:pic>
        <p:nvPicPr>
          <p:cNvPr id="110" name="Graciano_slope.mov" descr=""/>
          <p:cNvPicPr/>
          <p:nvPr/>
        </p:nvPicPr>
        <p:blipFill>
          <a:blip r:embed="rId1"/>
          <a:stretch/>
        </p:blipFill>
        <p:spPr>
          <a:xfrm>
            <a:off x="1401840" y="1420920"/>
            <a:ext cx="6797520" cy="453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ciano</a:t>
            </a:r>
            <a:endParaRPr b="0" lang="en-US" sz="4200" spc="-1" strike="noStrike">
              <a:solidFill>
                <a:srgbClr val="330033"/>
              </a:solidFill>
              <a:latin typeface="Times New Roman"/>
            </a:endParaRPr>
          </a:p>
        </p:txBody>
      </p:sp>
      <p:sp>
        <p:nvSpPr>
          <p:cNvPr id="11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hat did you see?</a:t>
            </a:r>
            <a:endParaRPr b="0" lang="en-US" sz="2800" spc="-1" strike="noStrike">
              <a:solidFill>
                <a:srgbClr val="000000"/>
              </a:solidFill>
              <a:latin typeface="Garamond"/>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o you want to see it agai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0)</a:t>
            </a:r>
            <a:endParaRPr b="0" lang="en-US" sz="4200" spc="-1" strike="noStrike">
              <a:solidFill>
                <a:srgbClr val="330033"/>
              </a:solidFill>
              <a:latin typeface="Times New Roman"/>
            </a:endParaRPr>
          </a:p>
        </p:txBody>
      </p:sp>
      <p:sp>
        <p:nvSpPr>
          <p:cNvPr id="114" name=""/>
          <p:cNvSpPr txBox="1"/>
          <p:nvPr/>
        </p:nvSpPr>
        <p:spPr>
          <a:xfrm>
            <a:off x="914400" y="1599840"/>
            <a:ext cx="7772400" cy="4530600"/>
          </a:xfrm>
          <a:prstGeom prst="rect">
            <a:avLst/>
          </a:prstGeom>
          <a:noFill/>
          <a:ln w="0">
            <a:noFill/>
          </a:ln>
        </p:spPr>
        <p:txBody>
          <a:bodyPr anchor="t">
            <a:normAutofit fontScale="88000"/>
          </a:bodyPr>
          <a:p>
            <a:pPr marL="301680" indent="-3016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understand:</a:t>
            </a:r>
            <a:endParaRPr b="0" lang="en-US" sz="28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nternational comparisons</a:t>
            </a:r>
            <a:endParaRPr b="0" lang="en-US" sz="26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t>
            </a:r>
            <a:r>
              <a:rPr b="0" lang="en-US" sz="2600" spc="-1" strike="noStrike">
                <a:solidFill>
                  <a:srgbClr val="000000"/>
                </a:solidFill>
                <a:latin typeface="Garamond"/>
              </a:rPr>
              <a:t>Local” comparisons</a:t>
            </a:r>
            <a:endParaRPr b="0" lang="en-US" sz="26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Re-watching enables fine-grained analysis of what occurs in math classrooms</a:t>
            </a:r>
            <a:endParaRPr b="0" lang="en-US" sz="2600" spc="-1" strike="noStrike">
              <a:solidFill>
                <a:srgbClr val="000000"/>
              </a:solidFill>
              <a:latin typeface="Garamond"/>
            </a:endParaRPr>
          </a:p>
          <a:p>
            <a:pPr marL="301680" indent="-3016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improve:</a:t>
            </a:r>
            <a:endParaRPr b="0" lang="en-US" sz="28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ake teachers “out of the moment” to reflect on their own teaching</a:t>
            </a:r>
            <a:endParaRPr b="0" lang="en-US" sz="26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Provide direct feedback to teachers for improvement</a:t>
            </a:r>
            <a:endParaRPr b="0" lang="en-US" sz="2600" spc="-1" strike="noStrike">
              <a:solidFill>
                <a:srgbClr val="000000"/>
              </a:solidFill>
              <a:latin typeface="Garamond"/>
            </a:endParaRPr>
          </a:p>
          <a:p>
            <a:pPr marL="301680" indent="-3016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jor advantage: “Objective”</a:t>
            </a:r>
            <a:endParaRPr b="0" lang="en-US" sz="28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1?</a:t>
            </a:r>
            <a:endParaRPr b="0" lang="en-US" sz="4200" spc="-1" strike="noStrike">
              <a:solidFill>
                <a:srgbClr val="330033"/>
              </a:solidFill>
              <a:latin typeface="Times New Roman"/>
            </a:endParaRPr>
          </a:p>
        </p:txBody>
      </p:sp>
      <p:sp>
        <p:nvSpPr>
          <p:cNvPr id="116" name=""/>
          <p:cNvSpPr txBox="1"/>
          <p:nvPr/>
        </p:nvSpPr>
        <p:spPr>
          <a:xfrm>
            <a:off x="914400" y="1599840"/>
            <a:ext cx="7772400" cy="4530600"/>
          </a:xfrm>
          <a:prstGeom prst="rect">
            <a:avLst/>
          </a:prstGeom>
          <a:noFill/>
          <a:ln w="0">
            <a:noFill/>
          </a:ln>
        </p:spPr>
        <p:txBody>
          <a:bodyPr anchor="t">
            <a:normAutofit fontScale="89000"/>
          </a:bodyPr>
          <a:p>
            <a:pPr marL="305280" indent="-3052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monitor, evaluate and reward?</a:t>
            </a:r>
            <a:endParaRPr b="0" lang="en-US" sz="2800" spc="-1" strike="noStrike">
              <a:solidFill>
                <a:srgbClr val="000000"/>
              </a:solidFill>
              <a:latin typeface="Garamond"/>
            </a:endParaRPr>
          </a:p>
          <a:p>
            <a:pPr lvl="1" marL="660960" indent="-2541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Existing system of teacher evaluation is very, very broken</a:t>
            </a:r>
            <a:endParaRPr b="0" lang="en-US" sz="26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Most evaluations not done by content experts</a:t>
            </a:r>
            <a:endParaRPr b="0" lang="en-US" sz="23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Most teachers get positive evaluations (97% in Boston and LA)</a:t>
            </a:r>
            <a:endParaRPr b="0" lang="en-US" sz="23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Anecdotal evidence that many principals do not even observe teachers, or observe for very long</a:t>
            </a:r>
            <a:endParaRPr b="0" lang="en-US" sz="2300" spc="-1" strike="noStrike">
              <a:solidFill>
                <a:srgbClr val="000000"/>
              </a:solidFill>
              <a:latin typeface="Garamond"/>
            </a:endParaRPr>
          </a:p>
          <a:p>
            <a:pPr lvl="1" marL="660960" indent="-2541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Yet we know from our studies and others that mathematics instruction in the U.S. is of variable quality</a:t>
            </a:r>
            <a:endParaRPr b="0" lang="en-US" sz="26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Some very, very poor</a:t>
            </a:r>
            <a:endParaRPr b="0" lang="en-US" sz="2300" spc="-1" strike="noStrike">
              <a:solidFill>
                <a:srgbClr val="000000"/>
              </a:solidFill>
              <a:latin typeface="Garamond"/>
            </a:endParaRPr>
          </a:p>
          <a:p>
            <a:pPr lvl="1" marL="660960" indent="-2541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1?</a:t>
            </a:r>
            <a:endParaRPr b="0" lang="en-US" sz="4200" spc="-1" strike="noStrike">
              <a:solidFill>
                <a:srgbClr val="330033"/>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posal: Use technology to monitor performance of beginning teachers of mathematics</a:t>
            </a:r>
            <a:endParaRPr b="0" lang="en-US" sz="28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Use information to…</a:t>
            </a:r>
            <a:endParaRPr b="0" lang="en-US" sz="26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Counsel some out of teaching, or teaching mathematics</a:t>
            </a:r>
            <a:endParaRPr b="0" lang="en-US" sz="23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Funnel teachers to professional development specifically targeted to weaknesses</a:t>
            </a:r>
            <a:endParaRPr b="0" lang="en-US" sz="23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dentify outstanding teachers for leadership/specialist positions</a:t>
            </a:r>
            <a:endParaRPr b="0" lang="en-US" sz="23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2:46:36Z</dcterms:created>
  <dc:creator>Heather Hill</dc:creator>
  <dc:description/>
  <dc:language>en-US</dc:language>
  <cp:lastModifiedBy>IES</cp:lastModifiedBy>
  <dcterms:modified xsi:type="dcterms:W3CDTF">2010-06-14T16:32:00Z</dcterms:modified>
  <cp:revision>40</cp:revision>
  <dc:subject/>
  <dc:title>Observing Classrooms Using Technology</dc:title>
</cp:coreProperties>
</file>