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A102-C738-4683-82CD-C9060B79B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5C88-3594-48E3-B952-7B49F73F1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4872-1615-4B1D-B03A-D180A86EC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2182-8201-4D51-89C1-8AE78A1D2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F902-4937-4BDC-AEC3-004C9E50C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ED12-4638-4D3A-B1BB-E9FE9AFAB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AEEF-38A0-4BA2-BFB8-A34981DBE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8139-309D-48FD-B486-B76B6EEBD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22B8-8812-4ABF-AAE6-A1BBE6C17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325C-A2BF-4511-9D9E-7999B4F86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837A-AB9E-4AB2-91C5-AB95EED6F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DE92-C5E2-44EB-BC39-452C66B58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B06C-2574-453B-AE3F-5C50BD3D0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FE0C-DBC9-4EA4-B356-9F04AEA33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4F0D-9036-40EF-8928-17FEBF36C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2D3E-8B58-47CD-8310-82AF51CFE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578F-7FEB-4E4A-B9D0-AB67AA796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79C2-26BA-4E8D-970F-FF51AE215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0259-837F-4C6B-A3FB-14614AEA9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9646-9DFF-49EC-AC99-8BF617F66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6615-F33A-4D73-8215-7EA67A476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DA8C-CF19-42D6-A704-67BC96DB1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DAA4-FB58-49C7-9843-4C32280A0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D229-2450-48A6-9026-96B4EB9FF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A0F7-491C-4B33-A04D-4016193E2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742F-5C83-4B23-B475-5E1B0C895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42A5-5552-4967-BE38-C7D410120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7B28-EBD3-4458-AFA0-6527E2550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B01C-8956-465C-B3E5-47B07FE72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34EB-5B0E-4D68-A9B7-EB57E61C6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83000-A027-4F37-88E7-7484BFCAC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AA1AC-FD3C-4982-9A7B-CBA643AD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25431-5471-4F01-9D6B-B8D23B8CA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1BBFC-FDC2-47D4-A338-0D030905C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408AE-A3A2-4AA4-BC0F-7C3811810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C1E9B-7279-4B06-8900-CCEFDD134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7C2B7-A2AA-4B85-AB6A-749248FF4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3324C-E138-40FE-8468-A30331009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34E0D-42C8-48AF-9B1A-79E91CD56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7355C-62F6-4D69-8158-C02970B9F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F5FBF-449C-4DAA-AD35-82BCB8368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54264-3A4F-4C2F-AAF0-D507141E5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D5670-EA91-4CF2-826E-2D5B9BF7C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A7444-E6BE-45C0-8332-E5C6BC39C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6639E-9AAD-4B10-9635-913515EC3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B1F04-DDDC-404A-A799-CD4DA8C53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8B8EB-FF7C-4A56-A647-C01404262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14858-7E73-45B7-8132-5C1116727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79DF-8C08-45E1-9854-4312D9C0F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AEE6C-0212-497C-AD64-A9AFA88D7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CCB19-3692-44EB-83E2-D41E8887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7E41F-5E04-41E8-AE2F-1B7329050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41485-68CF-4CED-84D7-CE1F55E91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0B249-C330-4692-A2BB-2BF56415C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0F31-E799-44A3-A97B-F2837A921D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7D07-8B1D-40FA-B22B-398EA0ECCF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99072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The Importance of Cognitive Functions in a Response-to-Treatment Paradigm for Writing</a:t>
            </a:r>
            <a:endParaRPr b="0" lang="en-US" sz="44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R. Hooper, Lara-Jean Costa, Matthew McBee, Kathleen Anderson, Donna C. Yerby, &amp; Sean Knuth</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North Carolina-Chapel Hill</a:t>
            </a:r>
            <a:endParaRPr b="0" lang="en-US" sz="2400" spc="-1" strike="noStrike">
              <a:solidFill>
                <a:srgbClr val="000000"/>
              </a:solidFill>
              <a:latin typeface="Arial"/>
            </a:endParaRPr>
          </a:p>
        </p:txBody>
      </p:sp>
      <p:sp>
        <p:nvSpPr>
          <p:cNvPr id="106" name="Text Box 4"/>
          <p:cNvSpPr/>
          <p:nvPr/>
        </p:nvSpPr>
        <p:spPr>
          <a:xfrm>
            <a:off x="1402200" y="6202440"/>
            <a:ext cx="6865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33"/>
                </a:solidFill>
                <a:latin typeface="Arial"/>
              </a:rPr>
              <a:t>This project was conducted with support from the Institute for Educational Science (</a:t>
            </a:r>
            <a:r>
              <a:rPr b="0" lang="en-US" sz="1200" spc="-1" strike="noStrike">
                <a:solidFill>
                  <a:srgbClr val="000000"/>
                </a:solidFill>
                <a:latin typeface="Arial"/>
              </a:rPr>
              <a:t>R305H06004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asure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a:t>
            </a:r>
            <a:r>
              <a:rPr b="0" lang="en-US" sz="2400" spc="-1" strike="noStrike">
                <a:solidFill>
                  <a:srgbClr val="000000"/>
                </a:solidFill>
                <a:latin typeface="Arial"/>
              </a:rPr>
              <a:t>WIAT-II Written Expression Subtest served as the primary outcome measure.</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grades 1 and 2, the Written Expression subtest consists of three tasks: timed alphabet writing, written word fluency, and sentence combining.</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grade 3, the student is asked to write a paragraph in accordance with a specific writing prompt.</a:t>
            </a:r>
            <a:endParaRPr b="0" lang="en-US" sz="22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AT-II Spelling Subtest includes items to demonstrate knowledge of written letters, letter groups, and word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AT-II Written Expression Subtest was administered to the entire sample each fall, and at the beginning and ending of the treatment trial to the designated At-Risk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cedures</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724280"/>
          </a:xfrm>
          <a:prstGeom prst="rect">
            <a:avLst/>
          </a:prstGeom>
          <a:noFill/>
          <a:ln w="0">
            <a:noFill/>
          </a:ln>
        </p:spPr>
        <p:txBody>
          <a:bodyPr anchor="t">
            <a:normAutofit/>
          </a:bodyPr>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hensive assessments were conducted in the fall of first, second, and third grade.</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entions were conducted via small groups (i.e., 3 to 6 students) between January and May of the second grade.</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entions comprised use of the PAL Lesson Plans #4 and #7 (Abbott &amp; Berninger, 2003).</a:t>
            </a:r>
            <a:endParaRPr b="0" lang="en-US" sz="22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d on development of alphabetic principle at the subword and word levels, and aspects of text genera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alized treatment protocol that is commercially available.</a:t>
            </a:r>
            <a:endParaRPr b="0" lang="en-US" sz="20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twice a week for 12 weeks at 25 minutes per session.</a:t>
            </a:r>
            <a:endParaRPr b="0" lang="en-US" sz="22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 fidelity rate for the second grade interven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 attended at least 75% of the ses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cedures</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ssigned to the no treatment at-risk group and the typical group received written language instruction via the regular classroom setting in a Business-As-Usual model.</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se students, their instruction in written language followed a state-wide standard course of study.</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skills were immersed in daily classroom activities, with little in the way of direct instruction for written express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ata Analyses</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ddress the question of treatment effects, a multilevel growth model or mixed linear model was fit to the WIAT-II scores for the three groups.</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was conceptualized as a continuous variable indexing grade as the time of assessment.</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treatment participants were measured at three time points. Treatment participants were measured at the same three time points with two additional administrations being conducted during second grade (pre and post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ata Analyses</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amine the question pertaining to cognitive moderators, we included latent variables for fine-motor, language and attention/executive functions, and these latent variables were employed in the multilevel growth model using only the at-risk grou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nalyses tested the hypothesis that the treatment effect was moderated by fine-motor, attention/executive functions, and/or language.</a:t>
            </a:r>
            <a:endParaRPr b="0" lang="en-US" sz="20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amine the question pertaining to level of function, we subdivided the groups using latent class analysis, and the derived subgroups were employed in the multilevel growth model.</a:t>
            </a:r>
            <a:endParaRPr b="0" lang="en-US" sz="24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nalyses tested the hypothesis that the treatment effect would be different for cognitive sub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 1: Findings</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ree of the groups demonstrated growth in their writing skills over time for both the linear and curvilinear trajectori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contrasts between the three groups are examined, the treatment effect was significant only on the quadratic component of the slope (B Estimate = 1.18, p &lt; .006).</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dratic component represents an acceleration parameter, indicating that the treatment induced acceleration in the rate of writing skill acquisition for treated participant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wth rate for the treated group following treatment begins to accelerate such that by the start of third grade the growth rate for the treated group has significantly exceeded the rate for the untreated at-risk group (B Estimate = 2.79, p &lt; .003).</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 sizes were sm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5" name="Chart 1" descr=""/>
          <p:cNvPicPr/>
          <p:nvPr/>
        </p:nvPicPr>
        <p:blipFill>
          <a:blip r:embed="rId1"/>
          <a:stretch/>
        </p:blipFill>
        <p:spPr>
          <a:xfrm>
            <a:off x="762120" y="380880"/>
            <a:ext cx="784836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 1: Findings</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curriculum-based measures for the Treatment Group, we also found evidence for significant progress in:</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Organization as determined by (A) sentence structure and (B) the T-Unit scoring for the total number of words correctly sequenced.</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umber of varied vocabulary words used.</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umber of words spelled correctly.</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otal number of words written.</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all holistic sco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85" descr="Plot of pred1 * time"/>
          <p:cNvPicPr/>
          <p:nvPr/>
        </p:nvPicPr>
        <p:blipFill>
          <a:blip r:embed="rId1"/>
          <a:stretch/>
        </p:blipFill>
        <p:spPr>
          <a:xfrm>
            <a:off x="228600" y="990720"/>
            <a:ext cx="8686800" cy="5715000"/>
          </a:xfrm>
          <a:prstGeom prst="rect">
            <a:avLst/>
          </a:prstGeom>
          <a:ln w="0">
            <a:noFill/>
          </a:ln>
        </p:spPr>
      </p:pic>
      <p:sp>
        <p:nvSpPr>
          <p:cNvPr id="139" name="Text Box 5"/>
          <p:cNvSpPr/>
          <p:nvPr/>
        </p:nvSpPr>
        <p:spPr>
          <a:xfrm>
            <a:off x="838080" y="493560"/>
            <a:ext cx="7407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Varied Vocabulary Words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94" descr="Plot of pred1 * time"/>
          <p:cNvPicPr/>
          <p:nvPr/>
        </p:nvPicPr>
        <p:blipFill>
          <a:blip r:embed="rId1"/>
          <a:stretch/>
        </p:blipFill>
        <p:spPr>
          <a:xfrm>
            <a:off x="152280" y="1066680"/>
            <a:ext cx="8839440" cy="5639040"/>
          </a:xfrm>
          <a:prstGeom prst="rect">
            <a:avLst/>
          </a:prstGeom>
          <a:ln w="0">
            <a:noFill/>
          </a:ln>
        </p:spPr>
      </p:pic>
      <p:sp>
        <p:nvSpPr>
          <p:cNvPr id="141" name="Text Box 5"/>
          <p:cNvSpPr/>
          <p:nvPr/>
        </p:nvSpPr>
        <p:spPr>
          <a:xfrm>
            <a:off x="1152360" y="569880"/>
            <a:ext cx="669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Words Spelled Cor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troduction</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gnitive origins of written language view it as a problem-solving process whereby authors attempt to produce their declarative knowledg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more challenging for preschoolers and early elementary school children as they are just beginning to learn to writ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only beginning to develop evidence-based intervention approaches for written expression for students at-risk for such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91" descr="Plot of pred1 * time"/>
          <p:cNvPicPr/>
          <p:nvPr/>
        </p:nvPicPr>
        <p:blipFill>
          <a:blip r:embed="rId1"/>
          <a:stretch/>
        </p:blipFill>
        <p:spPr>
          <a:xfrm>
            <a:off x="152280" y="990720"/>
            <a:ext cx="8686800" cy="5673600"/>
          </a:xfrm>
          <a:prstGeom prst="rect">
            <a:avLst/>
          </a:prstGeom>
          <a:ln w="0">
            <a:noFill/>
          </a:ln>
        </p:spPr>
      </p:pic>
      <p:sp>
        <p:nvSpPr>
          <p:cNvPr id="143" name="Text Box 7"/>
          <p:cNvSpPr/>
          <p:nvPr/>
        </p:nvSpPr>
        <p:spPr>
          <a:xfrm>
            <a:off x="762120" y="493560"/>
            <a:ext cx="7543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Words Written Across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 2: Findings</a:t>
            </a:r>
            <a:endParaRPr b="0" lang="en-US" sz="42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interactions between the treatment group were examined, both the attention/executive function and language moderators approached significance.</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was no interaction between treatment group and fine-motor speed.</a:t>
            </a:r>
            <a:endParaRPr b="0" lang="en-US" sz="22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anguage, this was seen in both the linear (B = -1.42, p &lt; .10) and quadratic (B = -1.95, p &lt; .06) growth curve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tention/executive functions it was noted largely for the linear growth function (B = 1.20, p &lt; .08).</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findings suggest that the moderating effects of different cognitive functions cannot be ruled-out as contributors to the response-to-intervention eff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46" name="Group 2"/>
          <p:cNvGrpSpPr/>
          <p:nvPr/>
        </p:nvGrpSpPr>
        <p:grpSpPr>
          <a:xfrm>
            <a:off x="1219320" y="1371600"/>
            <a:ext cx="6660720" cy="4459320"/>
            <a:chOff x="1219320" y="1371600"/>
            <a:chExt cx="6660720" cy="4459320"/>
          </a:xfrm>
        </p:grpSpPr>
        <p:graphicFrame>
          <p:nvGraphicFramePr>
            <p:cNvPr id="147" name="Object 3"/>
            <p:cNvGraphicFramePr/>
            <p:nvPr/>
          </p:nvGraphicFramePr>
          <p:xfrm>
            <a:off x="1784160" y="1371600"/>
            <a:ext cx="6095880" cy="4067280"/>
          </p:xfrm>
          <a:graphic>
            <a:graphicData uri="http://schemas.openxmlformats.org/presentationml/2006/ole">
              <p:oleObj r:id="rId1" spid="">
                <p:embed/>
                <p:pic>
                  <p:nvPicPr>
                    <p:cNvPr id="148" name="Object 3" descr=""/>
                    <p:cNvPicPr/>
                    <p:nvPr/>
                  </p:nvPicPr>
                  <p:blipFill>
                    <a:blip r:embed="rId2"/>
                    <a:stretch/>
                  </p:blipFill>
                  <p:spPr>
                    <a:xfrm>
                      <a:off x="1784160" y="1371600"/>
                      <a:ext cx="6095880" cy="4067280"/>
                    </a:xfrm>
                    <a:prstGeom prst="rect">
                      <a:avLst/>
                    </a:prstGeom>
                    <a:ln w="0">
                      <a:noFill/>
                    </a:ln>
                  </p:spPr>
                </p:pic>
              </p:oleObj>
            </a:graphicData>
          </a:graphic>
        </p:graphicFrame>
        <p:sp>
          <p:nvSpPr>
            <p:cNvPr id="149" name="Text Box 4"/>
            <p:cNvSpPr/>
            <p:nvPr/>
          </p:nvSpPr>
          <p:spPr>
            <a:xfrm>
              <a:off x="3049920" y="546264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Time Points</a:t>
              </a:r>
              <a:endParaRPr b="0" lang="en-US" sz="1800" spc="-1" strike="noStrike">
                <a:solidFill>
                  <a:srgbClr val="000000"/>
                </a:solidFill>
                <a:latin typeface="Arial"/>
              </a:endParaRPr>
            </a:p>
          </p:txBody>
        </p:sp>
        <p:sp>
          <p:nvSpPr>
            <p:cNvPr id="150" name="Text Box 5"/>
            <p:cNvSpPr/>
            <p:nvPr/>
          </p:nvSpPr>
          <p:spPr>
            <a:xfrm rot="16200000">
              <a:off x="71640" y="2909160"/>
              <a:ext cx="2937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AT-II Written Expr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cores</a:t>
              </a:r>
              <a:endParaRPr b="0" lang="en-US" sz="1800" spc="-1" strike="noStrike">
                <a:solidFill>
                  <a:srgbClr val="000000"/>
                </a:solidFill>
                <a:latin typeface="Arial"/>
              </a:endParaRPr>
            </a:p>
          </p:txBody>
        </p:sp>
      </p:grpSp>
      <p:sp>
        <p:nvSpPr>
          <p:cNvPr id="151" name="Text Box 6"/>
          <p:cNvSpPr/>
          <p:nvPr/>
        </p:nvSpPr>
        <p:spPr>
          <a:xfrm>
            <a:off x="1135080" y="563400"/>
            <a:ext cx="680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ating Effects of EFs on Treatment</a:t>
            </a:r>
            <a:endParaRPr b="0" lang="en-US" sz="3200" spc="-1" strike="noStrike">
              <a:solidFill>
                <a:srgbClr val="000000"/>
              </a:solidFill>
              <a:latin typeface="Arial"/>
            </a:endParaRPr>
          </a:p>
        </p:txBody>
      </p:sp>
      <p:sp>
        <p:nvSpPr>
          <p:cNvPr id="152" name="Text Box 7"/>
          <p:cNvSpPr/>
          <p:nvPr/>
        </p:nvSpPr>
        <p:spPr>
          <a:xfrm>
            <a:off x="2668320" y="190512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lt; .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 3: Findings</a:t>
            </a: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struct the latent class groupings, we employed the three latent variables from our measurement model (Fine-Motor, Attention/Executive Functions, Language), and included the additional variables of WASI IQ, receptive vocabulary, phonological processing for the available 138 stud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vealed two latent classe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fic Deficit Group (n = 90), with average probability of class membership of .93.</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g Group (n = 58), with average probability of class membership of .93.</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 3: Findings</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7772400" cy="487692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our latent class groupings, the analysis is now based on five groups:</a:t>
            </a:r>
            <a:endParaRPr b="0" lang="en-US" sz="16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ypically Developing (TD)</a:t>
            </a:r>
            <a:endParaRPr b="0" lang="en-US" sz="15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ific-Deficit Untreated</a:t>
            </a:r>
            <a:endParaRPr b="0" lang="en-US" sz="15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ific-Deficit Treated</a:t>
            </a:r>
            <a:endParaRPr b="0" lang="en-US" sz="15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g Untreated</a:t>
            </a:r>
            <a:endParaRPr b="0" lang="en-US" sz="15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g Treated</a:t>
            </a:r>
            <a:endParaRPr b="0" lang="en-US" sz="15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indicated that there was significant change over time on the WIAT-II Written Expression for all five group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we focused on the treatment effects within the two latent classes, significant treatment effects were observed within both the Specific-Deficit and Low-g classe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pecific-Deficit Class, the treatment significantly affects only the quadratic component of the trajectory (B = 1.28, p &lt; .02), although the linear component of the growth trajectory approached significance in the expected direction (B = 0.73, p &lt; .10).</a:t>
            </a:r>
            <a:endParaRPr b="0" lang="en-US" sz="16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each instance, the students in the treatment group showed a steeper slope than the untreated students following the intervention.</a:t>
            </a:r>
            <a:endParaRPr b="0" lang="en-US" sz="15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Low-g Class, the treatment positively and significantly affects both the linear component (B = 1.54, p &lt; .01) and the quadratic component (B = 2.08, p &lt; .002).</a:t>
            </a:r>
            <a:endParaRPr b="0" lang="en-US" sz="16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Low-g treated group showed a faster rate of gain on the WIAT-II Written Expression score following the intervention.</a:t>
            </a:r>
            <a:endParaRPr b="0" lang="en-US" sz="15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Chart 2" descr=""/>
          <p:cNvPicPr/>
          <p:nvPr/>
        </p:nvPicPr>
        <p:blipFill>
          <a:blip r:embed="rId1"/>
          <a:stretch/>
        </p:blipFill>
        <p:spPr>
          <a:xfrm>
            <a:off x="304920" y="304920"/>
            <a:ext cx="8458200" cy="624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s</a:t>
            </a: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84872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is study provides modest support for the PAL Lesson Plans in the treatment of young elementary school children at-risk for problems in written expression.</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his change follows only 10 hours of intervention.</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he rate of growth for the treatment group was superior to the other two groups following intervention.</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is study also examined possible moderator effects on educational treatment for students at-risk for writing disorders.</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Both language and attention/executive functions approached significance such that lower scores influenced overall performanc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s</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specific cognitive moderators, when latent class groupings of students were derived, a differential rate of change also was noted.  These differences were seen in:</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ith skill deficits in writing, but showing relatively intact language and attention/executive function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ith overall lower functio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autions and Considerations</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RTI model and associated curriculum based measures likely are not enough for many children to succeed with treatmen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such as executive functions and other cognitive abilities, need to be considered and factored into the intervention paradig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indings suggest the need for more detailed assessments of many children prior to beginning an RTI paradigm so as to facilitate the effectiveness of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0033"/>
                </a:solidFill>
                <a:latin typeface="Times New Roman"/>
              </a:rPr>
              <a:t>Questions?</a:t>
            </a:r>
            <a:br>
              <a:rPr sz="5100"/>
            </a:br>
            <a:br>
              <a:rPr sz="3800"/>
            </a:br>
            <a:r>
              <a:rPr b="0" lang="en-US" sz="3800" spc="-1" strike="noStrike">
                <a:solidFill>
                  <a:srgbClr val="330033"/>
                </a:solidFill>
                <a:latin typeface="Times New Roman"/>
              </a:rPr>
              <a:t>Email Address:</a:t>
            </a:r>
            <a:br>
              <a:rPr sz="3800"/>
            </a:br>
            <a:r>
              <a:rPr b="0" lang="en-US" sz="3800" spc="-1" strike="noStrike">
                <a:solidFill>
                  <a:srgbClr val="330033"/>
                </a:solidFill>
                <a:latin typeface="Times New Roman"/>
              </a:rPr>
              <a:t>Stephen.Hooper@cdl.unc.edu</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gnitive Influences in Writing</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600200"/>
            <a:ext cx="7772400" cy="495288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irical efforts have demonstrated various relationships between the development of written expression and selected cognitive abilities including:</a:t>
            </a:r>
            <a:endParaRPr b="0" lang="en-US" sz="20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e-Motor (e.g., Graham &amp; Harris, 2005)</a:t>
            </a:r>
            <a:endParaRPr b="0" lang="en-US" sz="1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Functions (e.g., Hooper et al., 2002)</a:t>
            </a:r>
            <a:endParaRPr b="0" lang="en-US" sz="1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Memory (e.g., Swanson &amp; Berninger, 1996)</a:t>
            </a:r>
            <a:endParaRPr b="0" lang="en-US" sz="1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guistic skills (e.g., Berninger et al., 1992).</a:t>
            </a:r>
            <a:endParaRPr b="0" lang="en-US" sz="18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language subtyping efforts have demonstrated valid clusters based on cognitive abilities (e.g., Wakely et al., 2006).</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n together, these findings suggest that underlying cognitive processes may strengthen or undermine a student’s ability to produce a quality written product, and implicate these cognitive factors as potential moderators in RTI paradigm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tle research to date has been devoted to examining the influence of various cognitive functions on response-to-interventions in written langu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riting Skills Development Project</a:t>
            </a:r>
            <a:endParaRPr b="0" lang="en-US" sz="38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itudinal study funded by the Institute for Educational Science to:</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ine the cognitive underpinnings for the development of written expressio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ine the co-morbidity that is present in children at-risk for writing problem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ine the response to an evidence-based intervention for children at-risk for writing problem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search Questions</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show improvement in the writing of at-risk writers using an evidence-based approach to writ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specific cognitive variables have any influence on response to treat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selected cognitive subgroups perform differently in their response to trea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articipants</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205 students ascertained from a single school district in NC (stratified across 7 elementary schools and associated classroom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sion/Exclusion criteria:</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lish-speak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cipation in kindergarte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lk of education in the regular curriculum</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articipants</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ological Ag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Grade = 6.54 year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Grade = 7.54 year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Grade = 8.54 year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e: 75.1% Caucasia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57.1% Ma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al Education: 75% with at least H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Q = 96.78 (13.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articipants</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rade participants were screened with respect to their writing skills using the WIAT-II Written Expression sc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sulted in 138 students deemed at-risk for a written language disorder (i.e., &lt; 25</a:t>
            </a:r>
            <a:r>
              <a:rPr b="0" lang="en-US" sz="2400" spc="-1" strike="noStrike" baseline="30000">
                <a:solidFill>
                  <a:srgbClr val="000000"/>
                </a:solidFill>
                <a:latin typeface="Arial"/>
              </a:rPr>
              <a:t>th</a:t>
            </a:r>
            <a:r>
              <a:rPr b="0" lang="en-US" sz="2400" spc="-1" strike="noStrike">
                <a:solidFill>
                  <a:srgbClr val="000000"/>
                </a:solidFill>
                <a:latin typeface="Arial"/>
              </a:rPr>
              <a:t> percentile), and 67 students not at-risk for writing problem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ot at-risk students were selected randomly at the school and classroom levels.</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deemed at-risk were randomly assigned into treatment (n = 68) versus no-treatment (n = 70)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asure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gnitive measures included measures of language and attention/executive functions derived from confirmatory factor analysis procedure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a:t>
            </a:r>
            <a:endParaRPr b="0" lang="en-US" sz="16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L Finger Sense Succession-Dominant Hand</a:t>
            </a:r>
            <a:endParaRPr b="0" lang="en-US" sz="15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L Finger Sense Succession-Nondominant Hand</a:t>
            </a:r>
            <a:endParaRPr b="0" lang="en-US" sz="15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 Elision</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 Letters</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 Word Choice</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Executive Functions </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bal working memory</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working memory</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J-III Planning</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J-III Verbal Retrieval</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gil Errors of Omission</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gil Errors of Commi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20:46:59Z</dcterms:created>
  <dc:creator>Stephen Hooper</dc:creator>
  <dc:description/>
  <dc:language>en-US</dc:language>
  <cp:lastModifiedBy>Jdabrowski</cp:lastModifiedBy>
  <dcterms:modified xsi:type="dcterms:W3CDTF">2010-07-02T15:36:32Z</dcterms:modified>
  <cp:revision>29</cp:revision>
  <dc:subject/>
  <dc:title>The Importance of Executive Functions in a Response-to-Treatment Paradigm</dc:title>
</cp:coreProperties>
</file>