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D3D-7994-4045-B9E7-1048792A5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facilitate selection of interventions for practitioners and help them prioritize interventions that student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F74E-6E56-49E3-B85C-00350E5BA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 related activities-Social Worker-”Steps for child to be successful, attendance, depress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78C-9422-4938-BE0C-76138E311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activities our Center is engaged 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A9C-7594-458C-BA13-CA132BEDF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rom Training Log and observation integrity lead to a booster session and problem solving to refine intervention. Facilitator and teacher decide to try in-vivo feedback to increase pra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42D-DA1A-4F2B-B608-929998ACD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Education, Mental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8BE7-49D7-47C7-ABD7-B2B42B81B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entionist-who in school is best suited to deliver inter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6516-141C-406F-B26A-4D5B8012B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4C6-D527-449D-8F57-6593E6821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00B-B41E-48EB-85CF-7E5605DD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A6D-ACFC-4FB7-A969-BE43062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B15-8BA6-4480-9651-28EFAFA6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F41-0522-4AA7-9451-FBB254D6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47D-9C03-49E2-9EDD-F8EB21AF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8AC-752F-4B08-B866-6497419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5A3-9544-4087-8707-9E14466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206-1DBC-4BA8-BB77-35751D6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BD9-9DAA-4956-9694-219A1FD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F41-0018-45C2-9C0B-3C283E8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B66-5398-4174-890E-CB3A07FF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180-7B05-4BBC-8D26-E8355BB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4C96-C369-4464-B63F-D9736FB2B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nter for Adolescent Research in the Schools (C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with Secondary Age Students with Emotional and Behavioral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ee Kern, Steve Evans, and Tim Lew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ars_logo_lg.jpg"/>
          <p:cNvPicPr/>
          <p:nvPr/>
        </p:nvPicPr>
        <p:blipFill>
          <a:blip r:embed="rId1"/>
          <a:stretch/>
        </p:blipFill>
        <p:spPr>
          <a:xfrm>
            <a:off x="3200400" y="508788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ty Development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edback from Initial Meeting: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mong students with E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ing to Mental Health needs (e.g., de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s we have tried don’t have long-term effec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don’t know how to access community mental health services, so students don’t get intervention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tudents don’t have MH coverage for outside servic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oo many barriers to students trying to access mental health servic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ars_logo_lg.jpg"/>
          <p:cNvPicPr/>
          <p:nvPr/>
        </p:nvPicPr>
        <p:blipFill>
          <a:blip r:embed="rId1"/>
          <a:stretch/>
        </p:blipFill>
        <p:spPr>
          <a:xfrm>
            <a:off x="6400800" y="5562720"/>
            <a:ext cx="205740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ining Mental Health 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ntal Health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, affordable for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2578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ention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-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d at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iped Right Arrow 9"/>
          <p:cNvSpPr/>
          <p:nvPr/>
        </p:nvSpPr>
        <p:spPr>
          <a:xfrm>
            <a:off x="3886200" y="3809880"/>
            <a:ext cx="1295280" cy="457200"/>
          </a:xfrm>
          <a:custGeom>
            <a:avLst/>
            <a:gdLst>
              <a:gd name="textAreaLeft" fmla="*/ 71280 w 1295280"/>
              <a:gd name="textAreaRight" fmla="*/ 118116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1295400" h="457200">
                <a:moveTo>
                  <a:pt x="0" y="114300"/>
                </a:moveTo>
                <a:lnTo>
                  <a:pt x="14288" y="114300"/>
                </a:lnTo>
                <a:lnTo>
                  <a:pt x="14288" y="342900"/>
                </a:lnTo>
                <a:lnTo>
                  <a:pt x="0" y="342900"/>
                </a:lnTo>
                <a:close/>
                <a:moveTo>
                  <a:pt x="28575" y="114300"/>
                </a:moveTo>
                <a:lnTo>
                  <a:pt x="57150" y="114300"/>
                </a:lnTo>
                <a:lnTo>
                  <a:pt x="57150" y="342900"/>
                </a:lnTo>
                <a:lnTo>
                  <a:pt x="28575" y="342900"/>
                </a:lnTo>
                <a:close/>
                <a:moveTo>
                  <a:pt x="71437" y="114300"/>
                </a:moveTo>
                <a:lnTo>
                  <a:pt x="1066800" y="114300"/>
                </a:lnTo>
                <a:lnTo>
                  <a:pt x="1066800" y="0"/>
                </a:lnTo>
                <a:lnTo>
                  <a:pt x="1295400" y="228600"/>
                </a:lnTo>
                <a:lnTo>
                  <a:pt x="1066800" y="457200"/>
                </a:lnTo>
                <a:lnTo>
                  <a:pt x="1066800" y="342900"/>
                </a:lnTo>
                <a:lnTo>
                  <a:pt x="71437" y="3429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iped Right Arrow 10"/>
          <p:cNvSpPr/>
          <p:nvPr/>
        </p:nvSpPr>
        <p:spPr>
          <a:xfrm>
            <a:off x="3962520" y="2514600"/>
            <a:ext cx="1295280" cy="457200"/>
          </a:xfrm>
          <a:custGeom>
            <a:avLst/>
            <a:gdLst>
              <a:gd name="textAreaLeft" fmla="*/ 71280 w 1295280"/>
              <a:gd name="textAreaRight" fmla="*/ 118116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1295400" h="457200">
                <a:moveTo>
                  <a:pt x="0" y="114300"/>
                </a:moveTo>
                <a:lnTo>
                  <a:pt x="14288" y="114300"/>
                </a:lnTo>
                <a:lnTo>
                  <a:pt x="14288" y="342900"/>
                </a:lnTo>
                <a:lnTo>
                  <a:pt x="0" y="342900"/>
                </a:lnTo>
                <a:close/>
                <a:moveTo>
                  <a:pt x="28575" y="114300"/>
                </a:moveTo>
                <a:lnTo>
                  <a:pt x="57150" y="114300"/>
                </a:lnTo>
                <a:lnTo>
                  <a:pt x="57150" y="342900"/>
                </a:lnTo>
                <a:lnTo>
                  <a:pt x="28575" y="342900"/>
                </a:lnTo>
                <a:close/>
                <a:moveTo>
                  <a:pt x="71437" y="114300"/>
                </a:moveTo>
                <a:lnTo>
                  <a:pt x="1066800" y="114300"/>
                </a:lnTo>
                <a:lnTo>
                  <a:pt x="1066800" y="0"/>
                </a:lnTo>
                <a:lnTo>
                  <a:pt x="1295400" y="228600"/>
                </a:lnTo>
                <a:lnTo>
                  <a:pt x="1066800" y="457200"/>
                </a:lnTo>
                <a:lnTo>
                  <a:pt x="1066800" y="342900"/>
                </a:lnTo>
                <a:lnTo>
                  <a:pt x="71437" y="3429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test assessment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classroom-bas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student mental health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data prior to implementation regarding acceptability and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mapping: Who is best positioned to implement interv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pEd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 interven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ars_logo_lg.jpg"/>
          <p:cNvPicPr/>
          <p:nvPr/>
        </p:nvPicPr>
        <p:blipFill>
          <a:blip r:embed="rId1"/>
          <a:stretch/>
        </p:blipFill>
        <p:spPr>
          <a:xfrm>
            <a:off x="5943600" y="502920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1"/>
          <p:cNvSpPr/>
          <p:nvPr/>
        </p:nvSpPr>
        <p:spPr>
          <a:xfrm>
            <a:off x="1447920" y="3352680"/>
            <a:ext cx="4856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2438280" y="3352680"/>
            <a:ext cx="486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3"/>
          <p:cNvSpPr/>
          <p:nvPr/>
        </p:nvSpPr>
        <p:spPr>
          <a:xfrm>
            <a:off x="2362320" y="1523880"/>
            <a:ext cx="1542960" cy="2324160"/>
          </a:xfrm>
          <a:prstGeom prst="diamond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show signs of withdrawal, irritability, negativity or sad mood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2514600" y="152280"/>
            <a:ext cx="4133880" cy="3812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ing Mental Health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76320" y="3124080"/>
            <a:ext cx="1143000" cy="7732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2 Obtain relevant school records to assess impairment (e.g., office referra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"/>
          <p:cNvSpPr/>
          <p:nvPr/>
        </p:nvSpPr>
        <p:spPr>
          <a:xfrm>
            <a:off x="1219320" y="1066680"/>
            <a:ext cx="76176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Given the Information Gathered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1600200" y="4038480"/>
            <a:ext cx="876240" cy="1368720"/>
          </a:xfrm>
          <a:prstGeom prst="rect">
            <a:avLst/>
          </a:prstGeom>
          <a:solidFill>
            <a:srgbClr val="fb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1 The C.A.T. Proj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6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 or Individ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2666880" y="4038480"/>
            <a:ext cx="876600" cy="1371600"/>
          </a:xfrm>
          <a:prstGeom prst="rect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1 Coping with Stress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5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 or Individu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9"/>
          <p:cNvSpPr/>
          <p:nvPr/>
        </p:nvSpPr>
        <p:spPr>
          <a:xfrm>
            <a:off x="1371600" y="1447920"/>
            <a:ext cx="1380960" cy="2295360"/>
          </a:xfrm>
          <a:prstGeom prst="diamond">
            <a:avLst/>
          </a:prstGeom>
          <a:solidFill>
            <a:srgbClr val="fb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show signs of anxiety or worry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809880" y="4038480"/>
            <a:ext cx="952560" cy="1368720"/>
          </a:xfrm>
          <a:prstGeom prst="rect">
            <a:avLst/>
          </a:prstGeom>
          <a:solidFill>
            <a:srgbClr val="c4bc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4.1 Interpersonal Skills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8 thirty minute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1"/>
          <p:cNvSpPr/>
          <p:nvPr/>
        </p:nvSpPr>
        <p:spPr>
          <a:xfrm>
            <a:off x="4876920" y="4038480"/>
            <a:ext cx="1295280" cy="1371600"/>
          </a:xfrm>
          <a:prstGeom prst="rect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.1 Referral to Special Education Teacher for classroom management or Teacher-Student communication concerns, and/or the development of an FBA/B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2"/>
          <p:cNvSpPr/>
          <p:nvPr/>
        </p:nvSpPr>
        <p:spPr>
          <a:xfrm>
            <a:off x="6400800" y="1371600"/>
            <a:ext cx="895320" cy="66672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riorit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terv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3"/>
          <p:cNvSpPr/>
          <p:nvPr/>
        </p:nvSpPr>
        <p:spPr>
          <a:xfrm>
            <a:off x="6400800" y="2133720"/>
            <a:ext cx="1295280" cy="78084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1 PRIORITY: Rank problems based on how much they are impairing school &amp; academic funct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400800" y="2971800"/>
            <a:ext cx="1295280" cy="68580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2 FEASIBILITY: Indicate whether each of the interventions can be feasibly provi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5"/>
          <p:cNvSpPr/>
          <p:nvPr/>
        </p:nvSpPr>
        <p:spPr>
          <a:xfrm>
            <a:off x="6400800" y="3733920"/>
            <a:ext cx="1295280" cy="76176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3 ACCEPTABILITY:  Indicate whether the student, teachers and/or parents are willing to particip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76320" y="3981600"/>
            <a:ext cx="1143000" cy="5428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3 Conduct 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7772400" y="1600200"/>
            <a:ext cx="895320" cy="7812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mplement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8"/>
          <p:cNvSpPr/>
          <p:nvPr/>
        </p:nvSpPr>
        <p:spPr>
          <a:xfrm>
            <a:off x="4876920" y="5562720"/>
            <a:ext cx="1276200" cy="384120"/>
          </a:xfrm>
          <a:prstGeom prst="rect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.2 De-Escalation Techniq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6400800" y="4572000"/>
            <a:ext cx="1295280" cy="89532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4 Record list of interventions that are feasible and acceptable in order or priority ran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60"/>
          <p:cNvCxnSpPr/>
          <p:nvPr/>
        </p:nvCxnSpPr>
        <p:spPr>
          <a:xfrm>
            <a:off x="1828440" y="3352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61"/>
          <p:cNvSpPr/>
          <p:nvPr/>
        </p:nvSpPr>
        <p:spPr>
          <a:xfrm>
            <a:off x="3733920" y="3352680"/>
            <a:ext cx="4856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62"/>
          <p:cNvCxnSpPr/>
          <p:nvPr/>
        </p:nvCxnSpPr>
        <p:spPr>
          <a:xfrm flipH="1">
            <a:off x="2817000" y="3354480"/>
            <a:ext cx="3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3"/>
          <p:cNvCxnSpPr/>
          <p:nvPr/>
        </p:nvCxnSpPr>
        <p:spPr>
          <a:xfrm>
            <a:off x="4037400" y="3352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64"/>
          <p:cNvSpPr/>
          <p:nvPr/>
        </p:nvSpPr>
        <p:spPr>
          <a:xfrm>
            <a:off x="4876920" y="3276720"/>
            <a:ext cx="48564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5"/>
          <p:cNvCxnSpPr/>
          <p:nvPr/>
        </p:nvCxnSpPr>
        <p:spPr>
          <a:xfrm flipH="1">
            <a:off x="5179320" y="327816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6"/>
          <p:cNvCxnSpPr/>
          <p:nvPr/>
        </p:nvCxnSpPr>
        <p:spPr>
          <a:xfrm>
            <a:off x="2285640" y="182844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7"/>
          <p:cNvCxnSpPr/>
          <p:nvPr/>
        </p:nvCxnSpPr>
        <p:spPr>
          <a:xfrm>
            <a:off x="3352320" y="1828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"/>
          <p:cNvCxnSpPr/>
          <p:nvPr/>
        </p:nvCxnSpPr>
        <p:spPr>
          <a:xfrm>
            <a:off x="4571640" y="1828440"/>
            <a:ext cx="69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9"/>
          <p:cNvCxnSpPr/>
          <p:nvPr/>
        </p:nvCxnSpPr>
        <p:spPr>
          <a:xfrm>
            <a:off x="1218960" y="1828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70"/>
          <p:cNvCxnSpPr/>
          <p:nvPr/>
        </p:nvCxnSpPr>
        <p:spPr>
          <a:xfrm>
            <a:off x="5790960" y="1828440"/>
            <a:ext cx="60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71"/>
          <p:cNvCxnSpPr/>
          <p:nvPr/>
        </p:nvCxnSpPr>
        <p:spPr>
          <a:xfrm>
            <a:off x="7315200" y="18288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72"/>
          <p:cNvSpPr/>
          <p:nvPr/>
        </p:nvSpPr>
        <p:spPr>
          <a:xfrm>
            <a:off x="76320" y="4621320"/>
            <a:ext cx="1143000" cy="39996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4 Consult with CARS MH consul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3"/>
          <p:cNvSpPr/>
          <p:nvPr/>
        </p:nvSpPr>
        <p:spPr>
          <a:xfrm>
            <a:off x="1523880" y="6095880"/>
            <a:ext cx="4876920" cy="324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"/>
              </a:rPr>
              <a:t>Family Interventions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76320" y="1066680"/>
            <a:ext cx="1152360" cy="88452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5"/>
          <p:cNvSpPr/>
          <p:nvPr/>
        </p:nvSpPr>
        <p:spPr>
          <a:xfrm>
            <a:off x="76320" y="2057400"/>
            <a:ext cx="1143000" cy="9730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1 Gather teacher, parent and self report of difficulties related to impairment at 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6"/>
          <p:cNvSpPr/>
          <p:nvPr/>
        </p:nvSpPr>
        <p:spPr>
          <a:xfrm>
            <a:off x="4724280" y="1447920"/>
            <a:ext cx="1562400" cy="2334960"/>
          </a:xfrm>
          <a:prstGeom prst="diamond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disrupt class, argue, or display other difficult to manage behavior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7772400" y="2514600"/>
            <a:ext cx="895320" cy="13716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7.1 Begin with the   feasible intervention with the highest clinical priority and proceed through entire interv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8"/>
          <p:cNvSpPr/>
          <p:nvPr/>
        </p:nvSpPr>
        <p:spPr>
          <a:xfrm>
            <a:off x="3581280" y="1523880"/>
            <a:ext cx="1524240" cy="2333880"/>
          </a:xfrm>
          <a:prstGeom prst="diamond">
            <a:avLst/>
          </a:prstGeom>
          <a:solidFill>
            <a:srgbClr val="c4bc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Does student show signs of poor social skills, frequent conflict or poor problem solving skill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79"/>
          <p:cNvCxnSpPr/>
          <p:nvPr/>
        </p:nvCxnSpPr>
        <p:spPr>
          <a:xfrm flipH="1">
            <a:off x="2055600" y="5411520"/>
            <a:ext cx="3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80"/>
          <p:cNvCxnSpPr/>
          <p:nvPr/>
        </p:nvCxnSpPr>
        <p:spPr>
          <a:xfrm flipH="1">
            <a:off x="3123360" y="5411520"/>
            <a:ext cx="25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1"/>
          <p:cNvCxnSpPr/>
          <p:nvPr/>
        </p:nvCxnSpPr>
        <p:spPr>
          <a:xfrm flipH="1">
            <a:off x="4264920" y="541152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82"/>
          <p:cNvCxnSpPr/>
          <p:nvPr/>
        </p:nvCxnSpPr>
        <p:spPr>
          <a:xfrm flipH="1">
            <a:off x="5484600" y="5945040"/>
            <a:ext cx="36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83"/>
          <p:cNvCxnSpPr/>
          <p:nvPr/>
        </p:nvCxnSpPr>
        <p:spPr>
          <a:xfrm flipH="1">
            <a:off x="5486040" y="541152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84"/>
          <p:cNvSpPr/>
          <p:nvPr/>
        </p:nvSpPr>
        <p:spPr>
          <a:xfrm>
            <a:off x="1828800" y="762120"/>
            <a:ext cx="4343400" cy="495360"/>
          </a:xfrm>
          <a:custGeom>
            <a:avLst/>
            <a:gdLst>
              <a:gd name="textAreaLeft" fmla="*/ 0 w 4343400"/>
              <a:gd name="textAreaRight" fmla="*/ 4343400 w 4343400"/>
              <a:gd name="textAreaTop" fmla="*/ 64080 h 495360"/>
              <a:gd name="textAreaBottom" fmla="*/ 43128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 – 5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7"/>
          <p:cNvSpPr/>
          <p:nvPr/>
        </p:nvSpPr>
        <p:spPr>
          <a:xfrm>
            <a:off x="7772400" y="4038480"/>
            <a:ext cx="895320" cy="13716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7.2 Measure outcomes and use data to inform modifications to interven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tal Heal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ata: Feasibility and Acceptabilit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5" descr="MH2.jpg"/>
          <p:cNvPicPr/>
          <p:nvPr/>
        </p:nvPicPr>
        <p:blipFill>
          <a:blip r:embed="rId1"/>
          <a:stretch/>
        </p:blipFill>
        <p:spPr>
          <a:xfrm>
            <a:off x="228600" y="2141640"/>
            <a:ext cx="4525920" cy="349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H3.jpg"/>
          <p:cNvPicPr/>
          <p:nvPr/>
        </p:nvPicPr>
        <p:blipFill>
          <a:blip r:embed="rId2"/>
          <a:stretch/>
        </p:blipFill>
        <p:spPr>
          <a:xfrm>
            <a:off x="5105520" y="1600200"/>
            <a:ext cx="3504960" cy="4535640"/>
          </a:xfrm>
          <a:prstGeom prst="rect">
            <a:avLst/>
          </a:prstGeom>
          <a:ln w="0">
            <a:noFill/>
          </a:ln>
        </p:spPr>
      </p:pic>
      <p:sp>
        <p:nvSpPr>
          <p:cNvPr id="140" name="Oval 4"/>
          <p:cNvSpPr/>
          <p:nvPr/>
        </p:nvSpPr>
        <p:spPr>
          <a:xfrm>
            <a:off x="3048120" y="3962520"/>
            <a:ext cx="380880" cy="304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733920" y="3962520"/>
            <a:ext cx="380880" cy="304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6934320" y="2514600"/>
            <a:ext cx="14475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6858000" y="4572000"/>
            <a:ext cx="144792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ap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498600"/>
          <a:ext cx="8229600" cy="605448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666880"/>
                <a:gridCol w="160020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ment of School Services Interview: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 M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ant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Curr &amp; Ins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Support 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Psych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.D.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Group Counseling: Peer Confl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nsultation w/Par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ior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man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Social Skills Knitting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Coordin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Hom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5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tion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Social Skills Knitting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Open Office 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ition Speci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Health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Support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rs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oc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6" name="Oval 4"/>
          <p:cNvSpPr/>
          <p:nvPr/>
        </p:nvSpPr>
        <p:spPr>
          <a:xfrm>
            <a:off x="7010280" y="15238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7010280" y="19810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7086600" y="251460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7010280" y="30481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7086600" y="365760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7086600" y="39625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7086600" y="46483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7086600" y="51814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086600" y="57913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7086600" y="62485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Mapp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2073240"/>
          <a:ext cx="7696080" cy="1584360"/>
        </p:xfrm>
        <a:graphic>
          <a:graphicData uri="http://schemas.openxmlformats.org/drawingml/2006/table">
            <a:tbl>
              <a:tblPr/>
              <a:tblGrid>
                <a:gridCol w="2743200"/>
                <a:gridCol w="495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TIME SPENT (EXCLUDES “AS NEEDED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 Couns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-56+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Couns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ent Related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6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APP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Are you aware of any staff or resources at the school which might be utilized to a greater degree to implement mental health interventions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1935000"/>
          <a:ext cx="7467480" cy="4389480"/>
        </p:xfrm>
        <a:graphic>
          <a:graphicData uri="http://schemas.openxmlformats.org/drawingml/2006/table">
            <a:tbl>
              <a:tblPr/>
              <a:tblGrid>
                <a:gridCol w="2722680"/>
                <a:gridCol w="47448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Availab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ant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r Snyder, 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Psych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Intervention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ior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, ESL A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man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Other Counsel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Coordin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r Sny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tion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to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ition Speci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, Graduation Coach,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ase I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mplementation and Feed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training on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behavior, student behavior, classroom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fide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l feedback from school staff, students,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sions needed to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of training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mount and type of coac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-site weekly CARS team meeting calls (Class, M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status of intervention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implementation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variations made to inter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asing Positive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equent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tes of nega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 Integr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7960" y="16462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ention Refin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 acceptable, feasible, easy to underst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remembering to provide posi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 7"/>
          <p:cNvSpPr/>
          <p:nvPr/>
        </p:nvSpPr>
        <p:spPr>
          <a:xfrm>
            <a:off x="2895480" y="1600200"/>
            <a:ext cx="13716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overview of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 of intervention development and refine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ars_logo_lg.jpg"/>
          <p:cNvPicPr/>
          <p:nvPr/>
        </p:nvPicPr>
        <p:blipFill>
          <a:blip r:embed="rId1"/>
          <a:stretch/>
        </p:blipFill>
        <p:spPr>
          <a:xfrm>
            <a:off x="6095880" y="5105520"/>
            <a:ext cx="2667240" cy="14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ntent Placeholder 3" descr="training log.jpg"/>
          <p:cNvPicPr/>
          <p:nvPr/>
        </p:nvPicPr>
        <p:blipFill>
          <a:blip r:embed="rId1"/>
          <a:stretch/>
        </p:blipFill>
        <p:spPr>
          <a:xfrm>
            <a:off x="304920" y="914400"/>
            <a:ext cx="8602560" cy="5729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7" name="TextBox 4"/>
          <p:cNvSpPr/>
          <p:nvPr/>
        </p:nvSpPr>
        <p:spPr>
          <a:xfrm>
            <a:off x="6400800" y="19810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419720" y="40384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ms that it is difficult to both teach, naturally deliver pra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41972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requested an opportunity to observe CARS facilitators model the intervention proced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cag205\Local Settings\Temporary Internet Files\Content.IE5\QMYM0B5G\MC900016659[1].wmf"/>
          <p:cNvPicPr/>
          <p:nvPr/>
        </p:nvPicPr>
        <p:blipFill>
          <a:blip r:embed="rId2"/>
          <a:stretch/>
        </p:blipFill>
        <p:spPr>
          <a:xfrm rot="5937000">
            <a:off x="2817000" y="4034520"/>
            <a:ext cx="1012680" cy="1014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ag205\Local Settings\Temporary Internet Files\Content.IE5\QMYM0B5G\MC900016659[1].wmf"/>
          <p:cNvPicPr/>
          <p:nvPr/>
        </p:nvPicPr>
        <p:blipFill>
          <a:blip r:embed="rId3"/>
          <a:stretch/>
        </p:blipFill>
        <p:spPr>
          <a:xfrm rot="5937000">
            <a:off x="2817000" y="5482080"/>
            <a:ext cx="1013040" cy="1014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2133720" y="228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ining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3" descr="Coaching Form 1.jpg"/>
          <p:cNvPicPr/>
          <p:nvPr/>
        </p:nvPicPr>
        <p:blipFill>
          <a:blip r:embed="rId1"/>
          <a:stretch/>
        </p:blipFill>
        <p:spPr>
          <a:xfrm>
            <a:off x="1676520" y="152280"/>
            <a:ext cx="4329000" cy="334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oaching Form 2.jpg"/>
          <p:cNvPicPr/>
          <p:nvPr/>
        </p:nvPicPr>
        <p:blipFill>
          <a:blip r:embed="rId2"/>
          <a:stretch/>
        </p:blipFill>
        <p:spPr>
          <a:xfrm>
            <a:off x="1676520" y="3352680"/>
            <a:ext cx="4343400" cy="3355920"/>
          </a:xfrm>
          <a:prstGeom prst="rect">
            <a:avLst/>
          </a:prstGeom>
          <a:ln w="0">
            <a:noFill/>
          </a:ln>
        </p:spPr>
      </p:pic>
      <p:sp>
        <p:nvSpPr>
          <p:cNvPr id="175" name="Right Arrow 6"/>
          <p:cNvSpPr/>
          <p:nvPr/>
        </p:nvSpPr>
        <p:spPr>
          <a:xfrm>
            <a:off x="6095880" y="1828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6858000" y="15238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did not meet integr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us 8"/>
          <p:cNvSpPr/>
          <p:nvPr/>
        </p:nvSpPr>
        <p:spPr>
          <a:xfrm>
            <a:off x="7010280" y="2438280"/>
            <a:ext cx="533520" cy="457200"/>
          </a:xfrm>
          <a:custGeom>
            <a:avLst/>
            <a:gdLst>
              <a:gd name="textAreaLeft" fmla="*/ 70560 w 533520"/>
              <a:gd name="textAreaRight" fmla="*/ 462960 w 53352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781680" y="28954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 from Training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qual 10"/>
          <p:cNvSpPr/>
          <p:nvPr/>
        </p:nvSpPr>
        <p:spPr>
          <a:xfrm>
            <a:off x="6934320" y="3505320"/>
            <a:ext cx="914400" cy="457200"/>
          </a:xfrm>
          <a:custGeom>
            <a:avLst/>
            <a:gdLst>
              <a:gd name="textAreaLeft" fmla="*/ 120960 w 914400"/>
              <a:gd name="textAreaRight" fmla="*/ 793440 w 91440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914400" h="457200">
                <a:moveTo>
                  <a:pt x="121204" y="94183"/>
                </a:moveTo>
                <a:lnTo>
                  <a:pt x="793196" y="94183"/>
                </a:lnTo>
                <a:lnTo>
                  <a:pt x="793196" y="201717"/>
                </a:lnTo>
                <a:lnTo>
                  <a:pt x="121204" y="201717"/>
                </a:lnTo>
                <a:close/>
                <a:moveTo>
                  <a:pt x="121204" y="255483"/>
                </a:moveTo>
                <a:lnTo>
                  <a:pt x="793196" y="255483"/>
                </a:lnTo>
                <a:lnTo>
                  <a:pt x="793196" y="363017"/>
                </a:lnTo>
                <a:lnTo>
                  <a:pt x="121204" y="36301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Arrow 11"/>
          <p:cNvSpPr/>
          <p:nvPr/>
        </p:nvSpPr>
        <p:spPr>
          <a:xfrm>
            <a:off x="6095880" y="42670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6858000" y="41148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Solving Process: Modeling and In-Vivo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-Based Refine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 and post-intervention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measures reflect change from beginning to end of academic ye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measures are most sensitive to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RF-Tea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Teacher SIRF 1.jpg"/>
          <p:cNvPicPr/>
          <p:nvPr/>
        </p:nvPicPr>
        <p:blipFill>
          <a:blip r:embed="rId1"/>
          <a:stretch/>
        </p:blipFill>
        <p:spPr>
          <a:xfrm>
            <a:off x="304920" y="1219320"/>
            <a:ext cx="3944880" cy="5105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Teacher SIRF 3.jpg"/>
          <p:cNvPicPr/>
          <p:nvPr/>
        </p:nvPicPr>
        <p:blipFill>
          <a:blip r:embed="rId2"/>
          <a:stretch/>
        </p:blipFill>
        <p:spPr>
          <a:xfrm>
            <a:off x="4495680" y="1219320"/>
            <a:ext cx="39625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Teacher SIRF 1.jpg"/>
          <p:cNvPicPr/>
          <p:nvPr/>
        </p:nvPicPr>
        <p:blipFill>
          <a:blip r:embed="rId1"/>
          <a:stretch/>
        </p:blipFill>
        <p:spPr>
          <a:xfrm>
            <a:off x="304920" y="1219320"/>
            <a:ext cx="3944880" cy="510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Teacher SIRF 3.jpg"/>
          <p:cNvPicPr/>
          <p:nvPr/>
        </p:nvPicPr>
        <p:blipFill>
          <a:blip r:embed="rId2"/>
          <a:stretch/>
        </p:blipFill>
        <p:spPr>
          <a:xfrm>
            <a:off x="4495680" y="1219320"/>
            <a:ext cx="3962520" cy="5127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RF-Tea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752480" y="2133720"/>
            <a:ext cx="5715000" cy="161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tudent performance consist of a higher percentage of : on-task behavior, students remaining in their area, decrease in swearing, more positive interactions and an increase in followed teacher prom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V: Further Refinement Based on Expanded and More Divergent S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86524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three additional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on of more diverse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pecial education servic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er for Adolescent Research in the Sch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79820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for five years by Institute of Education Sciences (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: secondary age students with intensive social, emotional, and behavior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ars_logo_lg.jpg"/>
          <p:cNvPicPr/>
          <p:nvPr/>
        </p:nvPicPr>
        <p:blipFill>
          <a:blip r:embed="rId1"/>
          <a:stretch/>
        </p:blipFill>
        <p:spPr>
          <a:xfrm>
            <a:off x="5715000" y="502920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Collaborators/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 Kern, Ph.D., Principal Investigator, Lehigh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ven Evans, Ph.D., Co-Principal Investigator, Ohio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 Lewis, Ph.D., Co-Principal Investigator, University of Misso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orah Kamps, Ph.D., Juniper Gardens Children’s Project, University of Kan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l Paternite, Ph.D., Miami University of Oh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y Scott, Ph.D., University of Louisvi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 Weist, Ph.D., University of Mary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s Mehta, Ph.D., TIMES, University of Houston (design/statistical consultation, data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ard Stevenson, Ph.D., Zewelanji Serpell, Ph.D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layne Hayling, Ph.D., Consul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ars_logo_lg.jpg"/>
          <p:cNvPicPr/>
          <p:nvPr/>
        </p:nvPicPr>
        <p:blipFill>
          <a:blip r:embed="rId1"/>
          <a:stretch/>
        </p:blipFill>
        <p:spPr>
          <a:xfrm>
            <a:off x="6934320" y="5486400"/>
            <a:ext cx="20365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CARS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jor Stu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1-2: Develop and refine intervention package with small sample of students (n=38, 3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 3: Evaluate and refine intervention package with larger sample of students (n= 60, 6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4-5: Evaluate efficacy of intervention with large sample of students (n=530, 6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lement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1-5: Conduct supplemental research studies in core areas relevant to students with emotional and behavioral probl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ars_logo_lg.jpg"/>
          <p:cNvPicPr/>
          <p:nvPr/>
        </p:nvPicPr>
        <p:blipFill>
          <a:blip r:embed="rId1"/>
          <a:stretch/>
        </p:blipFill>
        <p:spPr>
          <a:xfrm>
            <a:off x="6553080" y="5662440"/>
            <a:ext cx="20368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s of Intervention Development and Refinement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676160"/>
            <a:ext cx="71625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proximal and distal measures to assess intervention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interventi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integrity o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raining/c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essary for high 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ars_logo_lg.jpg"/>
          <p:cNvPicPr/>
          <p:nvPr/>
        </p:nvPicPr>
        <p:blipFill>
          <a:blip r:embed="rId1"/>
          <a:stretch/>
        </p:blipFill>
        <p:spPr>
          <a:xfrm>
            <a:off x="6095880" y="5087880"/>
            <a:ext cx="26672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ntervention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d core needs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ed potentially effective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ture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d interventions developed by CARS research team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with different populations or age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 time talking to and observing school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ed input from local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Developmen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ars_logo_lg.jpg"/>
          <p:cNvPicPr/>
          <p:nvPr/>
        </p:nvPicPr>
        <p:blipFill>
          <a:blip r:embed="rId1"/>
          <a:stretch/>
        </p:blipFill>
        <p:spPr>
          <a:xfrm>
            <a:off x="6954840" y="5638680"/>
            <a:ext cx="1884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755640" y="1212840"/>
            <a:ext cx="7480440" cy="4005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"/>
          <p:cNvGrpSpPr/>
          <p:nvPr/>
        </p:nvGrpSpPr>
        <p:grpSpPr>
          <a:xfrm>
            <a:off x="788040" y="187920"/>
            <a:ext cx="7212600" cy="6365160"/>
            <a:chOff x="788040" y="187920"/>
            <a:chExt cx="7212600" cy="6365160"/>
          </a:xfrm>
        </p:grpSpPr>
        <p:sp>
          <p:nvSpPr>
            <p:cNvPr id="71" name="AutoShape 3"/>
            <p:cNvSpPr/>
            <p:nvPr/>
          </p:nvSpPr>
          <p:spPr>
            <a:xfrm>
              <a:off x="6337080" y="1589760"/>
              <a:ext cx="1663560" cy="117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ilding Child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914400" y="1482120"/>
              <a:ext cx="1663560" cy="117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hancing School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584520" y="5259600"/>
              <a:ext cx="1744920" cy="129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creasing Family and Community Sup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rc 6"/>
            <p:cNvSpPr/>
            <p:nvPr/>
          </p:nvSpPr>
          <p:spPr>
            <a:xfrm flipV="1" rot="2797200">
              <a:off x="1103040" y="2915280"/>
              <a:ext cx="3453120" cy="2355480"/>
            </a:xfrm>
            <a:custGeom>
              <a:avLst/>
              <a:gdLst>
                <a:gd name="textAreaLeft" fmla="*/ 0 w 3453120"/>
                <a:gd name="textAreaRight" fmla="*/ 3453480 w 3453120"/>
                <a:gd name="textAreaTop" fmla="*/ -360 h 2355480"/>
                <a:gd name="textAreaBottom" fmla="*/ 2355480 h 2355480"/>
              </a:gdLst>
              <a:ahLst/>
              <a:rect l="textAreaLeft" t="textAreaTop" r="textAreaRight" b="textAreaBottom"/>
              <a:pathLst>
                <a:path fill="none" w="29279" h="21600">
                  <a:moveTo>
                    <a:pt x="0" y="12257"/>
                  </a:moveTo>
                  <a:cubicBezTo>
                    <a:pt x="3594" y="4765"/>
                    <a:pt x="11166" y="-1"/>
                    <a:pt x="19475" y="0"/>
                  </a:cubicBezTo>
                  <a:cubicBezTo>
                    <a:pt x="22882" y="0"/>
                    <a:pt x="26242" y="806"/>
                    <a:pt x="29278" y="2353"/>
                  </a:cubicBezTo>
                </a:path>
                <a:path stroke="0" w="29279" h="21600">
                  <a:moveTo>
                    <a:pt x="0" y="12257"/>
                  </a:moveTo>
                  <a:cubicBezTo>
                    <a:pt x="3594" y="4765"/>
                    <a:pt x="11166" y="-1"/>
                    <a:pt x="19475" y="0"/>
                  </a:cubicBezTo>
                  <a:cubicBezTo>
                    <a:pt x="22882" y="0"/>
                    <a:pt x="26242" y="806"/>
                    <a:pt x="29278" y="2353"/>
                  </a:cubicBezTo>
                  <a:lnTo>
                    <a:pt x="19475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rc 7"/>
            <p:cNvSpPr/>
            <p:nvPr/>
          </p:nvSpPr>
          <p:spPr>
            <a:xfrm flipH="1" rot="6199200">
              <a:off x="4424040" y="3198240"/>
              <a:ext cx="3489840" cy="2257920"/>
            </a:xfrm>
            <a:custGeom>
              <a:avLst/>
              <a:gdLst>
                <a:gd name="textAreaLeft" fmla="*/ 360 w 3489840"/>
                <a:gd name="textAreaRight" fmla="*/ 3490560 w 3489840"/>
                <a:gd name="textAreaTop" fmla="*/ 0 h 2257920"/>
                <a:gd name="textAreaBottom" fmla="*/ 2258280 h 2257920"/>
              </a:gdLst>
              <a:ahLst/>
              <a:rect l="textAreaLeft" t="textAreaTop" r="textAreaRight" b="textAreaBottom"/>
              <a:pathLst>
                <a:path fill="none" w="29594" h="21600">
                  <a:moveTo>
                    <a:pt x="0" y="12944"/>
                  </a:moveTo>
                  <a:cubicBezTo>
                    <a:pt x="3439" y="5081"/>
                    <a:pt x="11207" y="-1"/>
                    <a:pt x="19790" y="0"/>
                  </a:cubicBezTo>
                  <a:cubicBezTo>
                    <a:pt x="23197" y="0"/>
                    <a:pt x="26557" y="806"/>
                    <a:pt x="29593" y="2353"/>
                  </a:cubicBezTo>
                </a:path>
                <a:path stroke="0" w="29594" h="21600">
                  <a:moveTo>
                    <a:pt x="0" y="12944"/>
                  </a:moveTo>
                  <a:cubicBezTo>
                    <a:pt x="3439" y="5081"/>
                    <a:pt x="11207" y="-1"/>
                    <a:pt x="19790" y="0"/>
                  </a:cubicBezTo>
                  <a:cubicBezTo>
                    <a:pt x="23197" y="0"/>
                    <a:pt x="26557" y="806"/>
                    <a:pt x="29593" y="2353"/>
                  </a:cubicBezTo>
                  <a:lnTo>
                    <a:pt x="1979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8"/>
            <p:cNvSpPr/>
            <p:nvPr/>
          </p:nvSpPr>
          <p:spPr>
            <a:xfrm flipH="1" rot="20968200">
              <a:off x="2577600" y="533520"/>
              <a:ext cx="3956400" cy="1882080"/>
            </a:xfrm>
            <a:custGeom>
              <a:avLst/>
              <a:gdLst>
                <a:gd name="textAreaLeft" fmla="*/ 0 w 3956400"/>
                <a:gd name="textAreaRight" fmla="*/ 3956400 w 3956400"/>
                <a:gd name="textAreaTop" fmla="*/ 0 h 1882080"/>
                <a:gd name="textAreaBottom" fmla="*/ 1882440 h 1882080"/>
              </a:gdLst>
              <a:ahLst/>
              <a:rect l="textAreaLeft" t="textAreaTop" r="textAreaRight" b="textAreaBottom"/>
              <a:pathLst>
                <a:path fill="none" w="35101" h="21600">
                  <a:moveTo>
                    <a:pt x="0" y="14731"/>
                  </a:moveTo>
                  <a:cubicBezTo>
                    <a:pt x="2952" y="5930"/>
                    <a:pt x="11196" y="-1"/>
                    <a:pt x="20479" y="0"/>
                  </a:cubicBezTo>
                  <a:cubicBezTo>
                    <a:pt x="25895" y="0"/>
                    <a:pt x="31114" y="2035"/>
                    <a:pt x="35101" y="5701"/>
                  </a:cubicBezTo>
                </a:path>
                <a:path stroke="0" w="35101" h="21600">
                  <a:moveTo>
                    <a:pt x="0" y="14731"/>
                  </a:moveTo>
                  <a:cubicBezTo>
                    <a:pt x="2952" y="5930"/>
                    <a:pt x="11196" y="-1"/>
                    <a:pt x="20479" y="0"/>
                  </a:cubicBezTo>
                  <a:cubicBezTo>
                    <a:pt x="25895" y="0"/>
                    <a:pt x="31114" y="2035"/>
                    <a:pt x="35101" y="5701"/>
                  </a:cubicBezTo>
                  <a:lnTo>
                    <a:pt x="20479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1"/>
          <p:cNvSpPr/>
          <p:nvPr/>
        </p:nvSpPr>
        <p:spPr>
          <a:xfrm>
            <a:off x="4572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cars_logo_lg.jpg"/>
          <p:cNvPicPr/>
          <p:nvPr/>
        </p:nvPicPr>
        <p:blipFill>
          <a:blip r:embed="rId2"/>
          <a:stretch/>
        </p:blipFill>
        <p:spPr>
          <a:xfrm>
            <a:off x="6858000" y="5486400"/>
            <a:ext cx="20368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ase I: Community Development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atives from a variety of stakeholder group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, administrators, teachers, school psychologists, behavior specialists, counselors, parents, social workers, mental health wor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information to assist with intervention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sing issues of secondary students with EB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entions they believe are essential and/or effectiv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secondary EBD stud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continue yearly mee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5:50:45Z</dcterms:created>
  <dc:creator>lek6</dc:creator>
  <dc:description/>
  <dc:language>en-US</dc:language>
  <cp:lastModifiedBy>Jdabrowski</cp:lastModifiedBy>
  <dcterms:modified xsi:type="dcterms:W3CDTF">2010-07-02T15:33:51Z</dcterms:modified>
  <cp:revision>461</cp:revision>
  <dc:subject/>
  <dc:title>Slide 1</dc:title>
</cp:coreProperties>
</file>