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22"/>
          </p:nvPr>
        </p:nvSpPr>
        <p:spPr>
          <a:xfrm>
            <a:off x="526572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Img"/>
          </p:nvPr>
        </p:nvSpPr>
        <p:spPr>
          <a:xfrm>
            <a:off x="2895120" y="525240"/>
            <a:ext cx="3505320" cy="263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20b01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820b01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body"/>
          </p:nvPr>
        </p:nvSpPr>
        <p:spPr>
          <a:xfrm>
            <a:off x="929880" y="3328560"/>
            <a:ext cx="743580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ftr" idx="23"/>
          </p:nvPr>
        </p:nvSpPr>
        <p:spPr>
          <a:xfrm>
            <a:off x="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 type="sldNum" idx="24"/>
          </p:nvPr>
        </p:nvSpPr>
        <p:spPr>
          <a:xfrm>
            <a:off x="526572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D8A1-6CA8-4F61-A218-5D66BD3AB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3052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29880" y="3328560"/>
            <a:ext cx="743580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CD2D-9419-4D67-A931-1536B7426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3052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29880" y="3328560"/>
            <a:ext cx="743580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12EB-7D35-458E-8F2C-E0E3A8AA5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305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29880" y="3328560"/>
            <a:ext cx="743580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7537-03B1-42AA-8C83-44EC39DA5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D116-D474-4204-BFAC-1E5BF44A2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3052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9880" y="3328560"/>
            <a:ext cx="743580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3052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29880" y="3328560"/>
            <a:ext cx="743580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100D-97EC-4CC8-B366-0970A25FB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3052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29880" y="3328560"/>
            <a:ext cx="743580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D71A-8FBD-47C1-A0C2-83CB37738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3052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29880" y="3328560"/>
            <a:ext cx="743580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2C8C-7CBC-4D98-A9E5-E1069298E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3052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29880" y="3328560"/>
            <a:ext cx="743580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D281-942C-472B-8897-7E5E32FF4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305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29880" y="3328560"/>
            <a:ext cx="743580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5E6B-27C7-4DDA-9641-15AAFA959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3052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29880" y="3328560"/>
            <a:ext cx="743580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E790-CC04-4605-AFA1-7DDD4C60C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305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29880" y="3328560"/>
            <a:ext cx="743580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AD4A-7860-40A6-85DA-DB4DAEA0F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305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29880" y="3328560"/>
            <a:ext cx="743580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592B-0EEA-475D-B828-CE255590E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305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29880" y="3328560"/>
            <a:ext cx="743580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D445-A012-45F2-9263-91C1D44DB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305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29880" y="3328560"/>
            <a:ext cx="743580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CE5C-B5B2-49C7-BE33-6A92E9830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305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29880" y="3328560"/>
            <a:ext cx="743580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F618-3A80-400D-8D40-8CB7AA3D8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F02A-3512-45BA-8FCF-A8AD0BCB1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305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29880" y="3328560"/>
            <a:ext cx="743580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iven block appears twice, in 2/14 or 1/7 of the s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E0C71-FC97-41D3-9363-8CF914290F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7200" y="39960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61E34-C053-4819-8FC9-BBBA8E3231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0996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F0A01-0B32-4483-82FA-0DA4ABA3C3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5988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256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4720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5988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256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F27B0-7700-45DC-ABCB-5073760550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3D45D-B3DD-4825-A664-EFC2CD83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47200" y="1369800"/>
            <a:ext cx="831852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BA8B4-EC1D-4ADC-B3E6-9B10FF1D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831852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9D72F-5882-4969-9FBD-59BE0952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43130-86C3-4921-904D-21474E7A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E47C5-9FB6-4E2D-9AC2-D32177CA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7160" y="154080"/>
            <a:ext cx="758664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F4E39-34F8-44C4-974A-1E0930C4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EE88E-3836-4AFB-B9A2-E6C365B3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47200" y="1369800"/>
            <a:ext cx="831852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0E355-F460-4770-9AFB-D550BC9FC3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0996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A3BA2-83C8-480E-AAFF-0F57627D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AF626-8FE1-4E5C-B596-CB0174C0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7200" y="39960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761FA-867A-4B69-B08A-7D67513C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0996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C3AD3-5EC4-4A5B-B69E-2489FB57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5988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7256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720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5988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7256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1C381-6E26-4EC1-8BC3-4D24738FD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9163-05DA-4D8A-8043-EBC5FA2914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47200" y="1369800"/>
            <a:ext cx="831852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01A6-6ADF-43A8-831C-D3349BE09A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831852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45C0-2C8A-4AFB-80D9-C47D06C1094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E29B-8074-4921-A073-26F82C529A1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3463-183D-45FD-83B8-3D89CB89C0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831852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64C41-3B51-40CD-B555-61BD660B62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27160" y="154080"/>
            <a:ext cx="758664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251D-64F7-4A88-92B7-BC3C35E112F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23B2-6B62-4481-A6CE-344AB13AA4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80996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BD4A-F668-459C-BA52-B959FCDC354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1BFC-223E-4E7D-BA17-79781CCA7B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7200" y="39960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934D-93B6-4FCD-9CF3-2D72F4FE6AA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80996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408A-2BE7-4584-BA7A-66F2AF60DF9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5988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7256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4720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5988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17256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1F0F-4B64-487C-BDA9-A7C0949C58D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2B924-AF8B-4D0A-B0E7-B408AE73D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47200" y="1369800"/>
            <a:ext cx="831852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A2988-3174-4097-B35C-7BE0865C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831852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E7C18-D743-4C80-9243-3FF3E699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AB981-F04D-42C1-AF83-4963E802184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29AD2-A074-4B34-BC04-1A05C6C0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1B7C3-2AAA-4730-B4F7-5CD1E443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27160" y="154080"/>
            <a:ext cx="758664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137E6-8AD0-4CEA-810C-3C009B33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E6CD0-E3AD-4285-BB47-7040BDBD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80996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76388-7EE4-458F-A0E5-66040ABF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E92FE-DE3C-4857-B49C-A25B5BD1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47200" y="39960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EEA15-4EAF-4578-9625-5F47824F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80996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0234E-55FB-4ADE-BFA1-659538D2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5988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17256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4720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5988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17256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297CE-E321-4E58-ABED-32760F4B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AFBD5-A905-4474-8780-B4E531CB2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5BDE9-6160-47C4-9577-62E470B1A89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47200" y="1369800"/>
            <a:ext cx="831852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50714-4313-476B-B3E2-BFEE78CD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831852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BF185-94A5-46EF-B0F7-A909896A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FAE4C-2DB4-4DB8-84A4-D5C02646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BF874-234B-42A6-B4BD-A782BCDE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27160" y="154080"/>
            <a:ext cx="758664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25A2D-D58F-4815-B83E-F7BB3515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B4D4C-4959-45DB-9590-79398A44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80996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9B690-0243-406A-9C77-A6B332EF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C14C6-8882-4D0B-96A3-DA6B1405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47200" y="39960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C7F13-1F17-434D-B08E-E8631293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80996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D28AA-E357-4BA3-BB6B-BBDFCCA1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7160" y="154080"/>
            <a:ext cx="758664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77AE0-2CAE-44D8-9936-7FCAA78D08A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35988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17256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4720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35988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17256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EACCE-DD43-40EF-BAD3-B69C1B4A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E78C9-D260-41CF-A917-13C98727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547200" y="1369800"/>
            <a:ext cx="831852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0C4B4-60AC-4C01-8407-0E9B565D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831852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3E88E-929F-4707-9BA5-27CE41F8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5C07A-CE56-4340-9DEF-AD39C247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8874F-4EB4-4C28-BAE7-5A7EC9B6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227160" y="154080"/>
            <a:ext cx="758664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0F881-1790-44D3-9979-525351DE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FBEDD-BD87-4EB3-8C69-E0EBAAF9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80996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1629A-D45A-4545-A07B-9149B058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994EA-8DC0-4061-ABFE-A314AFA6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6C66F-ECEA-4A64-98D3-FDE8B8CCBE6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47200" y="39960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75F5E-AA6A-49DE-BAE7-5206FA2C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80996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0092E-2BFF-49C8-A828-6A7E2512F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5988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7256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4720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5988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7256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3A8B9-A09B-4ACC-98B8-99EE1F67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9D06E-11DF-4078-9900-AAB785EB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547200" y="1369800"/>
            <a:ext cx="831852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4AFBC-F897-46DB-9128-66460F39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831852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7FDA5-5A28-4741-BA34-906ACE05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55916-B8D1-4DD4-83FE-B8790570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84AF3-E3CE-4087-8DD9-119FB766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227160" y="154080"/>
            <a:ext cx="758664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DC28F-8915-46D0-8847-1E5F0B48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46D83-F123-4881-8520-585C4BB4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0996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73B24-59AF-4EB8-9227-5D96EC2AC3F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80996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AB591-0555-4B3B-A378-24EADD63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AA384-1543-4F17-8D42-8E80417B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47200" y="39960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574EF-48B0-4586-A8D2-085F9753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80996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DCBAF-7086-4C8B-A6A7-8C082892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5988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7256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54720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5988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17256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8832B-5771-4A8C-9D13-A42B1BD4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1C504-C24E-463C-A9D7-D136C056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547200" y="1369800"/>
            <a:ext cx="831852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A652C-6274-4FE5-8D6D-E552DC74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831852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84320-3D97-4512-9480-22B14D66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B6A17-7759-4968-9AEA-09DD2278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01247-C85D-4E87-BD58-04023984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606E3-D30F-41A2-B219-20E35B724BC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227160" y="154080"/>
            <a:ext cx="758664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BA01D-6E33-4E58-938A-2A754F8E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A645B-501C-45C3-92CB-66A1962C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80996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8C93B-AEED-4901-B218-C3867A97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D7F2E-C123-496C-9A84-C3179A8C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47200" y="39960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FA16F-C113-4A5C-BEC2-2657E2E7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80996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5A2C0-9EA8-437C-8F3C-E39A24897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5988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7256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4720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5988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17256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0769A-FD4E-4876-A84D-A7198EFC9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naep_ppt_secondary_page_maroon"/>
          <p:cNvPicPr/>
          <p:nvPr/>
        </p:nvPicPr>
        <p:blipFill>
          <a:blip r:embed="rId2"/>
          <a:stretch/>
        </p:blipFill>
        <p:spPr>
          <a:xfrm>
            <a:off x="6480" y="0"/>
            <a:ext cx="9131040" cy="6531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reme background"/>
          <p:cNvPicPr/>
          <p:nvPr/>
        </p:nvPicPr>
        <p:blipFill>
          <a:blip r:embed="rId3"/>
          <a:stretch/>
        </p:blipFill>
        <p:spPr>
          <a:xfrm>
            <a:off x="0" y="647712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2" name="Text Box 4"/>
          <p:cNvSpPr/>
          <p:nvPr/>
        </p:nvSpPr>
        <p:spPr>
          <a:xfrm>
            <a:off x="227160" y="154080"/>
            <a:ext cx="7542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84320" y="2467080"/>
            <a:ext cx="8775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20b01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820b0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4798800"/>
            <a:ext cx="82263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20b01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820b01"/>
              </a:solidFill>
              <a:latin typeface="Arial"/>
            </a:endParaRPr>
          </a:p>
          <a:p>
            <a:pPr lvl="1" marL="102600" indent="-102600" algn="ctr">
              <a:spcBef>
                <a:spcPts val="901"/>
              </a:spcBef>
              <a:buClr>
                <a:srgbClr val="820b01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20b01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820b01"/>
              </a:solidFill>
              <a:latin typeface="Arial"/>
            </a:endParaRPr>
          </a:p>
          <a:p>
            <a:pPr lvl="2" marL="102600" indent="-102600" algn="ctr">
              <a:spcBef>
                <a:spcPts val="901"/>
              </a:spcBef>
              <a:buClr>
                <a:srgbClr val="820b01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20b01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820b01"/>
              </a:solidFill>
              <a:latin typeface="Arial"/>
            </a:endParaRPr>
          </a:p>
          <a:p>
            <a:pPr lvl="3" marL="102600" indent="-102600" algn="ctr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20b01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820b01"/>
              </a:solidFill>
              <a:latin typeface="Arial"/>
            </a:endParaRPr>
          </a:p>
          <a:p>
            <a:pPr lvl="4" marL="102600" indent="-102600" algn="ctr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20b01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820b01"/>
              </a:solidFill>
              <a:latin typeface="Arial"/>
            </a:endParaRPr>
          </a:p>
          <a:p>
            <a:pPr lvl="5" marL="102600" indent="-102600" algn="ctr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20b01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820b01"/>
              </a:solidFill>
              <a:latin typeface="Arial"/>
            </a:endParaRPr>
          </a:p>
          <a:p>
            <a:pPr lvl="6" marL="102600" indent="-102600" algn="ctr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20b01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820b01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06440" y="6307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0b01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20b01"/>
                </a:solidFill>
                <a:latin typeface="Times New Roman"/>
              </a:rPr>
              <a:t>NCES/AD/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677000" y="630720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0b0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77B1-6390-448C-B66B-F4B3ACB33779}" type="slidenum">
              <a:rPr b="0" lang="en-US" sz="1400" spc="-1" strike="noStrike">
                <a:solidFill>
                  <a:srgbClr val="820b0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NAEPslidepage"/>
          <p:cNvPicPr/>
          <p:nvPr/>
        </p:nvPicPr>
        <p:blipFill>
          <a:blip r:embed="rId2"/>
          <a:stretch/>
        </p:blipFill>
        <p:spPr>
          <a:xfrm>
            <a:off x="0" y="-17640"/>
            <a:ext cx="9144000" cy="6894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7160" y="154080"/>
            <a:ext cx="75866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47200" y="1369800"/>
            <a:ext cx="831852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124080" y="639720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0b01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20b01"/>
                </a:solidFill>
                <a:latin typeface="Times New Roman"/>
              </a:rPr>
              <a:t>NCES/AD/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7676640" y="6397200"/>
            <a:ext cx="1279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0b01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3428-A715-4F98-A560-F84D9EFB3376}" type="slidenum">
              <a:rPr b="0" lang="en-US" sz="1400" spc="-1" strike="noStrike">
                <a:solidFill>
                  <a:srgbClr val="820b0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5"/>
          </p:nvPr>
        </p:nvSpPr>
        <p:spPr>
          <a:xfrm>
            <a:off x="456840" y="63972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0b01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12CD-8BAA-401C-96A1-413C7F555A4E}" type="datetime">
              <a:rPr b="0" lang="en-US" sz="1400" spc="-1" strike="noStrike">
                <a:solidFill>
                  <a:srgbClr val="820b01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2651-15C5-4A5E-83C5-0E22FC8F2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2"/>
          <a:stretch/>
        </p:blipFill>
        <p:spPr>
          <a:xfrm>
            <a:off x="0" y="152280"/>
            <a:ext cx="9145440" cy="75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Object 8"/>
          <p:cNvGraphicFramePr/>
          <p:nvPr/>
        </p:nvGraphicFramePr>
        <p:xfrm>
          <a:off x="457200" y="5791320"/>
          <a:ext cx="2971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791320"/>
                    <a:ext cx="2971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4e824a"/>
              </a:gs>
              <a:gs pos="100000">
                <a:srgbClr val="7ea690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6FE9-FC0E-4991-8136-54C1E466FD77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NCES/AD/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4A20-6A6A-4A1D-A4DD-88A09B20442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649A-B234-4A39-BD12-ABB6B64D58F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NCES/AD/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E580-4134-49C4-B24B-9935AF4905F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0" y="0"/>
            <a:ext cx="9144000" cy="2971800"/>
          </a:xfrm>
          <a:prstGeom prst="rect">
            <a:avLst/>
          </a:prstGeom>
          <a:gradFill rotWithShape="0">
            <a:gsLst>
              <a:gs pos="0">
                <a:srgbClr val="4e824a"/>
              </a:gs>
              <a:gs pos="100000">
                <a:srgbClr val="7ea690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6849-2898-4BC6-ABEC-F6D5E9A0E34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NCES/AD/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9F50-1FE5-4F71-80B4-06DC6321C78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4e824a"/>
              </a:gs>
              <a:gs pos="100000">
                <a:srgbClr val="7ea690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4848-C71E-4ECA-841A-E6A49125BF40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NCES/AD/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F9A4-6721-4D43-90CA-2CF37FD4C8E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0" y="0"/>
            <a:ext cx="9144000" cy="2971800"/>
          </a:xfrm>
          <a:prstGeom prst="rect">
            <a:avLst/>
          </a:prstGeom>
          <a:gradFill rotWithShape="0">
            <a:gsLst>
              <a:gs pos="0">
                <a:srgbClr val="4e824a"/>
              </a:gs>
              <a:gs pos="100000">
                <a:srgbClr val="7ea690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0" y="0"/>
            <a:ext cx="380880" cy="6473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8"/>
          <p:cNvSpPr/>
          <p:nvPr/>
        </p:nvSpPr>
        <p:spPr>
          <a:xfrm>
            <a:off x="380880" y="380880"/>
            <a:ext cx="381240" cy="6477120"/>
          </a:xfrm>
          <a:prstGeom prst="rect">
            <a:avLst/>
          </a:prstGeom>
          <a:solidFill>
            <a:srgbClr val="f9b277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D2E0-D13C-48C2-9ABA-E9B5C6BCEC9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NCES/AD/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5B06-7283-41A5-93D7-D0CBDAFFCC4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2590560"/>
            <a:ext cx="80773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20b01"/>
                </a:solidFill>
                <a:latin typeface="Cambria"/>
              </a:rPr>
              <a:t>Design of the 2011 NAEP-TIMSS Linking Study </a:t>
            </a:r>
            <a:endParaRPr b="0" lang="en-US" sz="5400" spc="-1" strike="noStrike">
              <a:solidFill>
                <a:srgbClr val="820b01"/>
              </a:solidFill>
              <a:latin typeface="Arial"/>
            </a:endParaRPr>
          </a:p>
        </p:txBody>
      </p:sp>
      <p:sp>
        <p:nvSpPr>
          <p:cNvPr id="346" name="Rectangle 13"/>
          <p:cNvSpPr/>
          <p:nvPr/>
        </p:nvSpPr>
        <p:spPr>
          <a:xfrm>
            <a:off x="129528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20b01"/>
                </a:solidFill>
                <a:latin typeface="Cambria"/>
              </a:rPr>
              <a:t>Andrew Kolst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20b01"/>
                </a:solidFill>
                <a:latin typeface="Cambria"/>
              </a:rPr>
              <a:t>Senior Technical Advisor to the Assessment 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20b01"/>
                </a:solidFill>
                <a:latin typeface="Cambria"/>
              </a:rPr>
              <a:t>National Center for Education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600" y="15552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king study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2193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61880" indent="-4618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minister braided booklets in both testing window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39800" indent="-339840">
              <a:spcBef>
                <a:spcPts val="3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NAEP in Winter (January to March, 2011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739800" indent="-339840">
              <a:spcBef>
                <a:spcPts val="3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IMSS in Spring (April to June, 2011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4618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lect national samples independent of the main NAEP and TIMSS samp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39800" indent="-339840">
              <a:spcBef>
                <a:spcPts val="3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0,000 students in NAEP in Winter (half science, half math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739800" indent="-339840">
              <a:spcBef>
                <a:spcPts val="3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7,500 students in TIMSS in Spring (half science, half math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4618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llect the data using NAEP field staff in winter and TIMSS field staff in spring (Westat is the contractor for both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4618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ore the items using the same scoring staff with the same training and QC procedures that NAEP and TIMSS u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7677000" y="6397560"/>
            <a:ext cx="127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A89A-9B49-47E1-A9EC-FC372116A961}" type="slidenum">
              <a:rPr b="0" lang="en-US" sz="1400" spc="-1" strike="noStrike">
                <a:solidFill>
                  <a:srgbClr val="820b0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"/>
          <p:cNvGraphicFramePr/>
          <p:nvPr/>
        </p:nvGraphicFramePr>
        <p:xfrm>
          <a:off x="152280" y="1295280"/>
          <a:ext cx="8839440" cy="6575400"/>
        </p:xfrm>
        <a:graphic>
          <a:graphicData uri="http://schemas.openxmlformats.org/drawingml/2006/table">
            <a:tbl>
              <a:tblPr/>
              <a:tblGrid>
                <a:gridCol w="1027080"/>
                <a:gridCol w="285840"/>
                <a:gridCol w="74520"/>
                <a:gridCol w="285840"/>
                <a:gridCol w="74520"/>
                <a:gridCol w="285840"/>
                <a:gridCol w="74520"/>
                <a:gridCol w="285840"/>
                <a:gridCol w="74520"/>
                <a:gridCol w="174960"/>
                <a:gridCol w="172800"/>
                <a:gridCol w="74520"/>
                <a:gridCol w="285840"/>
                <a:gridCol w="74520"/>
                <a:gridCol w="285840"/>
                <a:gridCol w="74520"/>
                <a:gridCol w="285840"/>
                <a:gridCol w="74520"/>
                <a:gridCol w="285840"/>
                <a:gridCol w="100080"/>
                <a:gridCol w="74520"/>
                <a:gridCol w="136800"/>
                <a:gridCol w="136440"/>
                <a:gridCol w="74520"/>
                <a:gridCol w="285840"/>
                <a:gridCol w="74520"/>
                <a:gridCol w="285840"/>
                <a:gridCol w="74520"/>
                <a:gridCol w="285840"/>
                <a:gridCol w="74520"/>
                <a:gridCol w="285840"/>
                <a:gridCol w="74520"/>
                <a:gridCol w="174600"/>
                <a:gridCol w="173160"/>
                <a:gridCol w="74520"/>
                <a:gridCol w="285840"/>
                <a:gridCol w="82440"/>
                <a:gridCol w="285840"/>
                <a:gridCol w="84240"/>
                <a:gridCol w="285480"/>
                <a:gridCol w="82800"/>
                <a:gridCol w="285480"/>
                <a:gridCol w="82800"/>
                <a:gridCol w="285480"/>
                <a:gridCol w="149400"/>
                <a:gridCol w="285840"/>
              </a:tblGrid>
              <a:tr h="364680"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5"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oklet Designs for NAEP-TIMSS Linking Stud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800"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7360">
                <a:tc rowSpan="2"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tique Olive"/>
                        </a:rPr>
                        <a:t>NAEP wind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first b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8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second b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BQ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Univers Condense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BQ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Univers Condensed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800"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4400"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8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first b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9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second b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BQ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Univers Condense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BQ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Univers Condensed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800"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3680">
                <a:tc rowSpan="2"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tique Olive"/>
                        </a:rPr>
                        <a:t>TIMSS wind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first b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gridSpan="7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second b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B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8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third b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gridSpan="7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fourth b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B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0800"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8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first b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7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second b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B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8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third b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gridSpan="7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fourth b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B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0440"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4040"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Assessment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0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Lege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NAEP bloc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8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TIMSS bloc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572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7160" y="154080"/>
            <a:ext cx="758664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let designs for braided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677000" y="6397560"/>
            <a:ext cx="127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0337-3B52-4C7A-BC18-1FC6991484E0}" type="slidenum">
              <a:rPr b="0" lang="en-US" sz="1400" spc="-1" strike="noStrike">
                <a:solidFill>
                  <a:srgbClr val="820b0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5"/>
          <p:cNvSpPr/>
          <p:nvPr/>
        </p:nvSpPr>
        <p:spPr>
          <a:xfrm>
            <a:off x="5791320" y="22860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EP-window booklets contain either science or mathematics blocks, but not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6"/>
          <p:cNvSpPr/>
          <p:nvPr/>
        </p:nvSpPr>
        <p:spPr>
          <a:xfrm>
            <a:off x="3581280" y="5257800"/>
            <a:ext cx="49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SS-window booklets contain bo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ience and mathematics TIMSS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SS-window booklets contain three blocks of science or math, plus one block of NAE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13"/>
          <p:cNvSpPr/>
          <p:nvPr/>
        </p:nvSpPr>
        <p:spPr>
          <a:xfrm>
            <a:off x="228600" y="14479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booklet configurations in the TIMSS wind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2514600" y="3505320"/>
          <a:ext cx="6324480" cy="685800"/>
        </p:xfrm>
        <a:graphic>
          <a:graphicData uri="http://schemas.openxmlformats.org/drawingml/2006/table">
            <a:tbl>
              <a:tblPr/>
              <a:tblGrid>
                <a:gridCol w="568440"/>
                <a:gridCol w="1438200"/>
                <a:gridCol w="1440000"/>
                <a:gridCol w="1438200"/>
                <a:gridCol w="1439640"/>
              </a:tblGrid>
              <a:tr h="685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SS M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EP M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SS S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0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SS M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ddd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2490840" y="5638680"/>
          <a:ext cx="6348240" cy="685800"/>
        </p:xfrm>
        <a:graphic>
          <a:graphicData uri="http://schemas.openxmlformats.org/drawingml/2006/table">
            <a:tbl>
              <a:tblPr/>
              <a:tblGrid>
                <a:gridCol w="569880"/>
                <a:gridCol w="1444680"/>
                <a:gridCol w="1444680"/>
                <a:gridCol w="1444320"/>
                <a:gridCol w="1444680"/>
              </a:tblGrid>
              <a:tr h="685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SS S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0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EP S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SS S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0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SS M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dddc"/>
                    </a:solidFill>
                  </a:tcPr>
                </a:tc>
              </a:tr>
            </a:tbl>
          </a:graphicData>
        </a:graphic>
      </p:graphicFrame>
      <p:sp>
        <p:nvSpPr>
          <p:cNvPr id="389" name="TextBox 8"/>
          <p:cNvSpPr/>
          <p:nvPr/>
        </p:nvSpPr>
        <p:spPr>
          <a:xfrm>
            <a:off x="533520" y="36687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9"/>
          <p:cNvSpPr/>
          <p:nvPr/>
        </p:nvSpPr>
        <p:spPr>
          <a:xfrm>
            <a:off x="609480" y="5802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Straight Arrow Connector 11"/>
          <p:cNvCxnSpPr/>
          <p:nvPr/>
        </p:nvCxnSpPr>
        <p:spPr>
          <a:xfrm flipH="1">
            <a:off x="3809160" y="2743200"/>
            <a:ext cx="839160" cy="9151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92" name="Straight Arrow Connector 14"/>
          <p:cNvCxnSpPr/>
          <p:nvPr/>
        </p:nvCxnSpPr>
        <p:spPr>
          <a:xfrm>
            <a:off x="6705720" y="2666880"/>
            <a:ext cx="1219680" cy="991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93" name="TextBox 17"/>
          <p:cNvSpPr/>
          <p:nvPr/>
        </p:nvSpPr>
        <p:spPr>
          <a:xfrm>
            <a:off x="4572000" y="23623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IMSS Math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21"/>
          <p:cNvSpPr/>
          <p:nvPr/>
        </p:nvSpPr>
        <p:spPr>
          <a:xfrm>
            <a:off x="4724280" y="28195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NAEP Math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Straight Arrow Connector 22"/>
          <p:cNvCxnSpPr>
            <a:stCxn id="394" idx="2"/>
          </p:cNvCxnSpPr>
          <p:nvPr/>
        </p:nvCxnSpPr>
        <p:spPr>
          <a:xfrm flipH="1">
            <a:off x="5333760" y="3188880"/>
            <a:ext cx="381600" cy="469080"/>
          </a:xfrm>
          <a:prstGeom prst="straightConnector1">
            <a:avLst/>
          </a:prstGeom>
          <a:ln w="25560">
            <a:solidFill>
              <a:srgbClr val="6b6bcf"/>
            </a:solidFill>
            <a:miter/>
            <a:tailEnd len="med" type="arrow" w="med"/>
          </a:ln>
        </p:spPr>
      </p:cxnSp>
      <p:sp>
        <p:nvSpPr>
          <p:cNvPr id="396" name="TextBox 32"/>
          <p:cNvSpPr/>
          <p:nvPr/>
        </p:nvSpPr>
        <p:spPr>
          <a:xfrm>
            <a:off x="6781680" y="2057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TIMSS Science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Straight Arrow Connector 33"/>
          <p:cNvCxnSpPr/>
          <p:nvPr/>
        </p:nvCxnSpPr>
        <p:spPr>
          <a:xfrm flipH="1">
            <a:off x="6857640" y="2437920"/>
            <a:ext cx="915120" cy="1220040"/>
          </a:xfrm>
          <a:prstGeom prst="straightConnector1">
            <a:avLst/>
          </a:prstGeom>
          <a:ln w="25560">
            <a:solidFill>
              <a:srgbClr val="9900cc"/>
            </a:solidFill>
            <a:miter/>
            <a:tailEnd len="med" type="arrow" w="med"/>
          </a:ln>
        </p:spPr>
      </p:cxnSp>
      <p:sp>
        <p:nvSpPr>
          <p:cNvPr id="398" name="TextBox 36"/>
          <p:cNvSpPr/>
          <p:nvPr/>
        </p:nvSpPr>
        <p:spPr>
          <a:xfrm>
            <a:off x="411480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TIMSS Science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Straight Arrow Connector 37"/>
          <p:cNvCxnSpPr/>
          <p:nvPr/>
        </p:nvCxnSpPr>
        <p:spPr>
          <a:xfrm flipH="1">
            <a:off x="3428280" y="4876920"/>
            <a:ext cx="762840" cy="915120"/>
          </a:xfrm>
          <a:prstGeom prst="straightConnector1">
            <a:avLst/>
          </a:prstGeom>
          <a:ln w="25560">
            <a:solidFill>
              <a:srgbClr val="9900cc"/>
            </a:solidFill>
            <a:miter/>
            <a:tailEnd len="med" type="arrow" w="med"/>
          </a:ln>
        </p:spPr>
      </p:cxnSp>
      <p:cxnSp>
        <p:nvCxnSpPr>
          <p:cNvPr id="400" name="Straight Arrow Connector 41"/>
          <p:cNvCxnSpPr/>
          <p:nvPr/>
        </p:nvCxnSpPr>
        <p:spPr>
          <a:xfrm>
            <a:off x="6629400" y="4800240"/>
            <a:ext cx="457920" cy="1067400"/>
          </a:xfrm>
          <a:prstGeom prst="straightConnector1">
            <a:avLst/>
          </a:prstGeom>
          <a:ln w="25560">
            <a:solidFill>
              <a:srgbClr val="9900cc"/>
            </a:solidFill>
            <a:miter/>
            <a:tailEnd len="med" type="arrow" w="med"/>
          </a:ln>
        </p:spPr>
      </p:cxnSp>
      <p:sp>
        <p:nvSpPr>
          <p:cNvPr id="401" name="TextBox 43"/>
          <p:cNvSpPr/>
          <p:nvPr/>
        </p:nvSpPr>
        <p:spPr>
          <a:xfrm>
            <a:off x="7010280" y="46594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IMSS Math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2" name="Straight Arrow Connector 44"/>
          <p:cNvCxnSpPr/>
          <p:nvPr/>
        </p:nvCxnSpPr>
        <p:spPr>
          <a:xfrm flipH="1">
            <a:off x="8076600" y="5028840"/>
            <a:ext cx="229320" cy="7628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03" name="TextBox 46"/>
          <p:cNvSpPr/>
          <p:nvPr/>
        </p:nvSpPr>
        <p:spPr>
          <a:xfrm>
            <a:off x="4267080" y="5029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NAEP Science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4" name="Straight Arrow Connector 50"/>
          <p:cNvCxnSpPr/>
          <p:nvPr/>
        </p:nvCxnSpPr>
        <p:spPr>
          <a:xfrm flipH="1">
            <a:off x="5256000" y="5335560"/>
            <a:ext cx="3600" cy="457920"/>
          </a:xfrm>
          <a:prstGeom prst="straightConnector1">
            <a:avLst/>
          </a:prstGeom>
          <a:ln w="25560">
            <a:solidFill>
              <a:srgbClr val="6b6bcf"/>
            </a:solidFill>
            <a:miter/>
            <a:tailEnd len="med" type="arrow" w="med"/>
          </a:ln>
        </p:spPr>
      </p:cxnSp>
      <p:sp>
        <p:nvSpPr>
          <p:cNvPr id="405" name="Title 1"/>
          <p:cNvSpPr/>
          <p:nvPr/>
        </p:nvSpPr>
        <p:spPr>
          <a:xfrm>
            <a:off x="227160" y="154080"/>
            <a:ext cx="7586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ck composition of braided book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25"/>
          <p:cNvSpPr/>
          <p:nvPr/>
        </p:nvSpPr>
        <p:spPr>
          <a:xfrm>
            <a:off x="7677000" y="6397560"/>
            <a:ext cx="127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7247-5A99-4DDB-B76C-C3FA62B19977}" type="slidenum">
              <a:rPr b="0" lang="en-US" sz="1400" spc="-1" strike="noStrike">
                <a:solidFill>
                  <a:srgbClr val="820b0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7160" y="154080"/>
            <a:ext cx="758664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IMSS at the stat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47560" y="1370160"/>
            <a:ext cx="791064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ed as a validity check on the NAEP projection methodolog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ered as part of regular, national TIM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ded by NCES, not by stat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 states volunteered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states will particip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, MN, AL, CA, CT, IN, CO, &amp; N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677000" y="6397560"/>
            <a:ext cx="127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8CBA-8538-49DD-BBF9-55A772EA7FCE}" type="slidenum">
              <a:rPr b="0" lang="en-US" sz="1400" spc="-1" strike="noStrike">
                <a:solidFill>
                  <a:srgbClr val="820b0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7160" y="154080"/>
            <a:ext cx="758664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AEP at the stat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547560" y="1369800"/>
            <a:ext cx="791064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ate-level grade 8 mathematics assessment was already planne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tates have volunteered to participate in the new 2011 NAEP science assess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 will not be a regular NAEP state-level assessment with full reporting (no urban district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raided linking samples are national only, with a very small sample in any given st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7677000" y="6397560"/>
            <a:ext cx="127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7568-ECA6-4C56-BDCB-676B4388BA9C}" type="slidenum">
              <a:rPr b="0" lang="en-US" sz="1400" spc="-1" strike="noStrike">
                <a:solidFill>
                  <a:srgbClr val="820b0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7160" y="154080"/>
            <a:ext cx="758664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imeline for NAEP-TIMSS lin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761760" y="1370160"/>
            <a:ext cx="754380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lease of the national and state TIMSS results is scheduled for  December 201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inking results will be reported a few months after the main TIMSS relea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8728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872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7677000" y="6397560"/>
            <a:ext cx="127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2456-ADF3-49C2-AE9A-5F9820C60249}" type="slidenum">
              <a:rPr b="0" lang="en-US" sz="1400" spc="-1" strike="noStrike">
                <a:solidFill>
                  <a:srgbClr val="820b0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7160" y="154080"/>
            <a:ext cx="758664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Benefits of the proposed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85440" y="1523880"/>
            <a:ext cx="7467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287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s interference with the conduct of regular operational assess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87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a NAEP-TIMSS link through common items taken by the same stud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87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s the amount of growth during the period from winter to sp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states with international benchmarks in science and mathematics at grade 8, without the cost of conducting TIMSS at the stat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677000" y="6397560"/>
            <a:ext cx="127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764F-CD48-4683-BC03-D53840C3F081}" type="slidenum">
              <a:rPr b="0" lang="en-US" sz="1400" spc="-1" strike="noStrike">
                <a:solidFill>
                  <a:srgbClr val="820b0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4"/>
          <p:cNvSpPr/>
          <p:nvPr/>
        </p:nvSpPr>
        <p:spPr>
          <a:xfrm>
            <a:off x="380880" y="49528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tates and school districts, to project TIMSS mathematics and science scores from performance on NAEP (without the cost of participating in TIM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8"/>
          <p:cNvSpPr/>
          <p:nvPr/>
        </p:nvSpPr>
        <p:spPr>
          <a:xfrm>
            <a:off x="7677000" y="6397560"/>
            <a:ext cx="127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ECD0-E3CA-4A5B-80B8-A8B0B7E7C08D}" type="slidenum">
              <a:rPr b="0" lang="en-US" sz="1400" spc="-1" strike="noStrike">
                <a:solidFill>
                  <a:srgbClr val="820b0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228600" y="152280"/>
            <a:ext cx="7696080" cy="581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study in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Diagram 6" descr=""/>
          <p:cNvPicPr/>
          <p:nvPr/>
        </p:nvPicPr>
        <p:blipFill>
          <a:blip r:embed="rId1"/>
          <a:stretch/>
        </p:blipFill>
        <p:spPr>
          <a:xfrm>
            <a:off x="225360" y="987480"/>
            <a:ext cx="86328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7160" y="154080"/>
            <a:ext cx="758664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revious NAEP / TIMSS linkings -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2680" indent="-112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son’s statistical linkage to 1996 state NA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349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tudents took both NAEP and TIMSS assess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349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SS-equivalent mathematics and science scores predicted from NAEP state scores using “statistical moderation” (matching score distribu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349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d with TIMSS in Minnesota and Colorado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1840" indent="-349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ctual grade 8 means for Minnesota fell within the confidence interv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1840" indent="-349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ctual grade 4 means for both Colorado and Minnesota were higher than the predicted m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3492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7677000" y="6397560"/>
            <a:ext cx="127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848C-6DEF-4C43-9C48-52B8C1265CCB}" type="slidenum">
              <a:rPr b="0" lang="en-US" sz="1400" spc="-1" strike="noStrike">
                <a:solidFill>
                  <a:srgbClr val="820b0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7160" y="154080"/>
            <a:ext cx="758664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revious NAEP / TIMSS linkings -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2680" indent="-112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son and Cohen’s projection linkage to 2000 grade 8 state NAEP mathematics and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349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nking sample of students was assessed by NAEP in the winter of 2000 and again by TIMSS in the spring of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349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SS-equivalent mathematics and science scores predicted from NAEP state scores using “statistical projection” (estimating the average relationship between a student’s score on NAEP and on TIMSS and applying that relationship to state NAEP sco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349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d with grade 8 TIMSS in twelve states in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1840" indent="-349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erformance differed: the actual grade 8 means generally fell above the confidence intervals for the predicted m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349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TIMSS score projections were publi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349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7677000" y="6397560"/>
            <a:ext cx="127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1872-2FF6-4726-B9F7-3CCF5325E65C}" type="slidenum">
              <a:rPr b="0" lang="en-US" sz="1400" spc="-1" strike="noStrike">
                <a:solidFill>
                  <a:srgbClr val="820b0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7160" y="154080"/>
            <a:ext cx="758664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revious NAEP / TIMSS linkings -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2680" indent="-112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lip’s statistical mode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age in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349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grade 8 TIMSS-equivalent scores of NAEP  achievement level cut scores projected using “statistical moderation” (no student took both assessm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349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national distributions of NAEP 2000 mathematics and science scores matched to U.S. score distributions 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1840" indent="-34920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SS 1999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1840" indent="-34920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SS 2003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349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Estimated percentage of basic, proficient, and advanced students in each country that participated in the 1999 TIMSS and 2003 TIMSS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3492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677000" y="6397560"/>
            <a:ext cx="127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61B1-B6FC-452E-8EE4-F5C6D19367EB}" type="slidenum">
              <a:rPr b="0" lang="en-US" sz="1400" spc="-1" strike="noStrike">
                <a:solidFill>
                  <a:srgbClr val="820b0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7160" y="154080"/>
            <a:ext cx="758664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mproving on previous linking design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04920" y="13712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2680" indent="-112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he current linking study diff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NAEP and TIMSS in 2011, the same year this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linking samples of students; no student assessed in both winter and 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booklet designs; one looks like NAEP in the winter and the other looks like TIMSS in the 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ed TIMSS mathematics and science scores predicted from NAEP state scores using “statistical projection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984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stimating the average relationship between a student’s score on NAEP and on TIMSS and applying that relationship to state NAEP sco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d with grade 8 TIMSS in eight states in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4572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7677000" y="6397560"/>
            <a:ext cx="127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1CB1-2D77-4B6F-82FD-0FD4095AB727}" type="slidenum">
              <a:rPr b="0" lang="en-US" sz="1400" spc="-1" strike="noStrike">
                <a:solidFill>
                  <a:srgbClr val="820b0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7160" y="154080"/>
            <a:ext cx="758664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mponents in linking NAEP &amp; TIM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47200" y="1370160"/>
            <a:ext cx="831852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EP state-level science and mathematics data needed as a basis for projecting TIMSS mathematics and science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first time in NAEP history, all 50 states volunteered to participate in a voluntary state NA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SS state-level grade 8 data needed to check the validity of the linking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ing samples of students will provide responses to items from both assessments; needed to estimate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tudents will take NAEP in the winter and TIMSS in the spring, to avoid the decline in scores found in the previous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7677000" y="6397560"/>
            <a:ext cx="127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89D7-E085-4445-88B7-407596E70ED0}" type="slidenum">
              <a:rPr b="0" lang="en-US" sz="1400" spc="-1" strike="noStrike">
                <a:solidFill>
                  <a:srgbClr val="820b0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7160" y="154080"/>
            <a:ext cx="758664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let designs for NAEP &amp; TIM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677000" y="6397560"/>
            <a:ext cx="127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DBEB-70E8-4D8A-9C76-9C410C43EC34}" type="slidenum">
              <a:rPr b="0" lang="en-US" sz="1400" spc="-1" strike="noStrike">
                <a:solidFill>
                  <a:srgbClr val="820b0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52280" y="1523880"/>
          <a:ext cx="8763120" cy="4762800"/>
        </p:xfrm>
        <a:graphic>
          <a:graphicData uri="http://schemas.openxmlformats.org/drawingml/2006/table">
            <a:tbl>
              <a:tblPr/>
              <a:tblGrid>
                <a:gridCol w="1341720"/>
                <a:gridCol w="257040"/>
                <a:gridCol w="68400"/>
                <a:gridCol w="257040"/>
                <a:gridCol w="66600"/>
                <a:gridCol w="257400"/>
                <a:gridCol w="66600"/>
                <a:gridCol w="257040"/>
                <a:gridCol w="74520"/>
                <a:gridCol w="163800"/>
                <a:gridCol w="164880"/>
                <a:gridCol w="74520"/>
                <a:gridCol w="257400"/>
                <a:gridCol w="74520"/>
                <a:gridCol w="257040"/>
                <a:gridCol w="74880"/>
                <a:gridCol w="257040"/>
                <a:gridCol w="74520"/>
                <a:gridCol w="257400"/>
                <a:gridCol w="73080"/>
                <a:gridCol w="164880"/>
                <a:gridCol w="163440"/>
                <a:gridCol w="74880"/>
                <a:gridCol w="257040"/>
                <a:gridCol w="74520"/>
                <a:gridCol w="257400"/>
                <a:gridCol w="74520"/>
                <a:gridCol w="257040"/>
                <a:gridCol w="74520"/>
                <a:gridCol w="257400"/>
                <a:gridCol w="74520"/>
                <a:gridCol w="163440"/>
                <a:gridCol w="165240"/>
                <a:gridCol w="73080"/>
                <a:gridCol w="258840"/>
                <a:gridCol w="72720"/>
                <a:gridCol w="257400"/>
                <a:gridCol w="74520"/>
                <a:gridCol w="257040"/>
                <a:gridCol w="74880"/>
                <a:gridCol w="257040"/>
                <a:gridCol w="74520"/>
                <a:gridCol w="257400"/>
                <a:gridCol w="74520"/>
                <a:gridCol w="596880"/>
              </a:tblGrid>
              <a:tr h="618120">
                <a:tc gridSpan="8"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tique Olive"/>
                        </a:rPr>
                        <a:t>Main study bookl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9640"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3680"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tique Olive"/>
                        </a:rPr>
                        <a:t>NAEP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0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first b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0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second b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BQ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Univers Condense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BQ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Univers Condensed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tique Olive"/>
                        </a:rPr>
                        <a:t>TIMS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8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first b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gridSpan="7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second b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B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8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third b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gridSpan="7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fourth b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B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B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79640"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4280"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Assessment tim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9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…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1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Lege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NAEP bloc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9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TIMSS bloc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2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TextBox 4"/>
          <p:cNvSpPr/>
          <p:nvPr/>
        </p:nvSpPr>
        <p:spPr>
          <a:xfrm>
            <a:off x="4038480" y="4495680"/>
            <a:ext cx="449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EP booklets contain either science or mathematics, but not b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SS blocks contain both science and mathematics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31"/>
          <p:cNvSpPr/>
          <p:nvPr/>
        </p:nvSpPr>
        <p:spPr>
          <a:xfrm>
            <a:off x="990720" y="1828800"/>
            <a:ext cx="487656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33"/>
          <p:cNvSpPr/>
          <p:nvPr/>
        </p:nvSpPr>
        <p:spPr>
          <a:xfrm>
            <a:off x="1219320" y="3124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 &amp;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eft Arrow 9"/>
          <p:cNvSpPr/>
          <p:nvPr/>
        </p:nvSpPr>
        <p:spPr>
          <a:xfrm>
            <a:off x="5715000" y="6019920"/>
            <a:ext cx="914400" cy="152280"/>
          </a:xfrm>
          <a:prstGeom prst="leftArrow">
            <a:avLst>
              <a:gd name="adj1" fmla="val 50000"/>
              <a:gd name="adj2" fmla="val 5003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0"/>
          <p:cNvSpPr/>
          <p:nvPr/>
        </p:nvSpPr>
        <p:spPr>
          <a:xfrm>
            <a:off x="6629400" y="4419720"/>
            <a:ext cx="2133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of the 14 booklets includes two blocks of  mathematics and two blocks of science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43200" y="1828800"/>
          <a:ext cx="2895480" cy="4419720"/>
        </p:xfrm>
        <a:graphic>
          <a:graphicData uri="http://schemas.openxmlformats.org/drawingml/2006/table">
            <a:tbl>
              <a:tblPr/>
              <a:tblGrid>
                <a:gridCol w="652320"/>
                <a:gridCol w="560520"/>
                <a:gridCol w="561960"/>
                <a:gridCol w="560520"/>
                <a:gridCol w="560160"/>
              </a:tblGrid>
              <a:tr h="316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9360">
                      <a:solidFill>
                        <a:srgbClr val="ff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9360">
                      <a:solidFill>
                        <a:srgbClr val="ff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316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3157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3157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3157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3142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3157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</a:tr>
            </a:tbl>
          </a:graphicData>
        </a:graphic>
      </p:graphicFrame>
      <p:sp>
        <p:nvSpPr>
          <p:cNvPr id="375" name="TextBox 12"/>
          <p:cNvSpPr/>
          <p:nvPr/>
        </p:nvSpPr>
        <p:spPr>
          <a:xfrm>
            <a:off x="6629400" y="18288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block appears in two bookl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7160" y="154080"/>
            <a:ext cx="758664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SS assessment bookl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Slide Number Placeholder 15"/>
          <p:cNvSpPr/>
          <p:nvPr/>
        </p:nvSpPr>
        <p:spPr>
          <a:xfrm>
            <a:off x="7677000" y="6397560"/>
            <a:ext cx="127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F505-FC84-43BD-9809-221D50D475EA}" type="slidenum">
              <a:rPr b="0" lang="en-US" sz="1400" spc="-1" strike="noStrike">
                <a:solidFill>
                  <a:srgbClr val="820b0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9:09:44Z</dcterms:created>
  <dc:creator>Authorised User</dc:creator>
  <dc:description/>
  <dc:language>en-US</dc:language>
  <cp:lastModifiedBy>Authorised User</cp:lastModifiedBy>
  <dcterms:modified xsi:type="dcterms:W3CDTF">2010-07-07T14:27:13Z</dcterms:modified>
  <cp:revision>908</cp:revision>
  <dc:subject/>
  <dc:title>Slide 1</dc:title>
</cp:coreProperties>
</file>