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22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2895120" y="525240"/>
            <a:ext cx="3505320" cy="263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20b01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820b01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3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24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80B7-3FFA-4E84-A07B-C679D0EB7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D223-6716-4F80-AEB1-257F00221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F078-8533-4F9A-AF2F-01D7900F4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5580-A5C1-43AF-A669-7905D699C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E54F-D4FD-48D4-9D75-DF8E35A2D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3DDD-D0F7-485D-9199-723052BC1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4CBE-FC20-4FF0-BFFF-573DE938E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85D9-6DDB-4A39-8031-9999C2BFB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3AA6-8434-41B8-902D-F5395D448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912E-B4FA-4D8E-B1B6-95E235E7B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FF61-32BD-4E95-936C-BE82924FF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24B0-D8CA-46E5-8C2E-24E61F376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DCC6-4233-4C51-ADD2-36D7F044C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EDED-8F6C-4C38-A008-6F1E5D2A1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77B5-8B91-4DEA-86AD-357A599C3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E59C-821C-4F04-92EF-9A31DA779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C1FD-548A-48C7-857B-9CA1EE326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305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iven block appears twice, in 2/14 or 1/7 of th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C4468-8EDC-4B51-9DA4-5B7BDA924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4219C-4E12-4515-9E06-F7167218E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F72F4-440C-4C79-9B6A-83186EC6F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988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256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720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5988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256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234C7-00F3-4E07-9163-78A870514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1A5EF-1BDA-4B6A-8416-FE38EEA5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85F39-80EF-4739-8323-A4F210DE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1C2C8-30EF-40A2-A167-52EC2017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C6BF6-70AE-4637-8587-A237B477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8907C-37FB-475C-890A-FEF9F5F2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7160" y="154080"/>
            <a:ext cx="758664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C6BA1-7A37-445D-9B6C-8C30FD1E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C6F53-97C6-4280-8284-B1FB425C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FEE97-C06B-4E40-A64F-A3E81C5D7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1EE58-0CF3-4CC7-86F3-0DDD3A3B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92C87-99C0-4167-9596-8D3AFFB3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C93E8-51C1-4A8D-A612-0F81A2E1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81B81-6301-4C69-BCD4-42CB34ED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5988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256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720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5988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256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432D0-E6C4-4A28-B9D4-A7E3FE69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5716-4A35-4697-AD28-80B9C36F64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7FA7-1CC0-4017-84E9-87A22BC2B1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1567-85EA-4E87-A41F-803C189886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374B-C162-425F-B311-8C1AB9CA88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0892-CDF8-420D-84D2-0058B4C114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BBA6E-6FC8-4D66-99A6-28C75D59AA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27160" y="154080"/>
            <a:ext cx="758664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E730-E977-43F8-8E64-E16B6083C7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A798-C1EB-476F-B2E4-4053593ABC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71FE-29A0-471C-BFB4-FC46BF33D5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5CDF-17EE-4A07-A3E7-00C6339E02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6DAC-DADC-4BCB-9668-AAFCC343DC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EA67-1635-42EA-B10B-42072A8F4F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5988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7256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4720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5988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7256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4FB7-08A5-43F5-96AE-955ABE5FE5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197F7-ADAF-4940-A3BC-23E8592E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7C74A-02D6-4F05-A4C6-3F2EB7F9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33131-2828-482D-AF01-6296A312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7A652-9842-4D04-BED1-CC2481C2055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76D0-996F-49CD-9E23-A34A6C79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AA17D-B398-4125-8ADE-0B86FE4C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27160" y="154080"/>
            <a:ext cx="758664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1C600-D98E-46B8-A7B8-F0BAA76A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B2A06-BD8E-4766-A2D9-FB483470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8D65A-AF5D-4381-9016-7C78B17C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1A06F-1450-4452-8F91-FE9FFDB3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E6A68-BFDA-4339-AF05-06DF8D5F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1F2F5-424B-4447-AB42-8F4CB1D3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5988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7256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4720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5988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17256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BCFD4-25D6-4E8E-8556-48E93700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50103-CBB7-4887-AB11-22DA5920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1F746-8EE8-42C5-BBB3-0C38A6AA3EA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41000-1C2A-419B-828E-8BEF8D6E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AD07E-A8C2-41AB-A4FC-E38409E7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794EF-E281-429B-8FEB-62C55D0A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BF211-A33F-4D12-B931-1A441047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27160" y="154080"/>
            <a:ext cx="758664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028FB-CED3-42AD-B5A7-88E20B3F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D0E86-9138-4725-9488-101FBE13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A1E84-478D-45B7-BBB2-4468F71A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DDD32-438C-480A-BEFB-576E27AC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7C862-897F-4CF2-A15F-B51024DF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5988F-8A2B-4087-9F96-ECF72BB9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7160" y="154080"/>
            <a:ext cx="758664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F39B1-0F1C-4D1A-902E-BFA2D99089A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5988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7256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4720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5988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7256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8BAFC-AEBF-4650-9E6A-438BD42C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F8B98-8F02-44C5-8985-B0E2AF9B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B7E5D-7D12-4E7E-B037-6120FEA2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11758-B501-4D28-8A29-47B7B611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EBECB-836E-42EF-81B2-4CF950BD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1D8A2-6E76-4973-90CF-88F0DCF2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27160" y="154080"/>
            <a:ext cx="758664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0E1B8-0155-4D68-A492-089E2B70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7E49E-37DA-4D4B-88B1-9ED969EA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1D355-B3EA-436C-B2D6-935E4D4D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FE158-5234-49B0-B45E-76B61B49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173D2-8A51-4901-A375-2E7D0AB7B4E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68022-612B-4AAA-8FE7-293AD9AC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CAF82-0A0A-49F5-B626-79556EE7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5988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7256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4720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5988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7256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52B26-FBAF-4F61-B8AD-89EB9255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EA084-5778-4A54-962B-49C5914A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57A3A-4A20-4D78-BFEC-EA024F37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3ACDD-7715-404E-93A0-88728CF9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FA9A4-1EB4-4370-9A51-4EED7546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11AF0-4725-4AE1-8B4E-6FC7DBB8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227160" y="154080"/>
            <a:ext cx="758664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3CD8A-EC5E-4F43-A906-0D463A59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05A7C-016B-4C13-942A-1F6BDFF5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4828A-9533-4CE9-8D69-34B78B13D67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D1360-40A3-4165-B2A2-F1DCB7E3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6ED37-3B5F-4C52-B2CD-71F99DC4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6FE0C-5F56-4D20-B99C-C72DFA86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3F4AF-E6DA-4448-8813-26F50004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5988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7256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4720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5988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7256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E2E57-E923-49F3-B691-F813A588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F01AB-C13D-4284-AA2D-750FEB20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7ABED-6ABF-4293-87C9-504897DA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900B4-A68C-45A2-8C39-42643533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2CCF4-B31C-44EB-A966-3EBF28A8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4E123-2C69-4313-BD14-9BA35262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FD443-EDAD-40DB-BFDE-14804FB98C5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227160" y="154080"/>
            <a:ext cx="758664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8506C-F078-43FF-97DB-F4FB5CDC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999BE-24B2-4609-8A5D-B0A9D2B4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0BFDE-B78A-4884-8426-044D2004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62E5D-0DCE-4661-AE41-BB2EB21B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47200" y="3996000"/>
            <a:ext cx="83185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FF01E-67AE-4D14-9185-E58B17E2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09960" y="13698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4720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809960" y="3996000"/>
            <a:ext cx="4059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EFACE-004F-41BE-866E-49D5AA60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7160" y="139320"/>
            <a:ext cx="7586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4720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5988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72560" y="13698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4720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5988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172560" y="3996000"/>
            <a:ext cx="2678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93142-371E-4624-A3CE-64FA0612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naep_ppt_secondary_page_maroon"/>
          <p:cNvPicPr/>
          <p:nvPr/>
        </p:nvPicPr>
        <p:blipFill>
          <a:blip r:embed="rId2"/>
          <a:stretch/>
        </p:blipFill>
        <p:spPr>
          <a:xfrm>
            <a:off x="6480" y="0"/>
            <a:ext cx="9131040" cy="6531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reme background"/>
          <p:cNvPicPr/>
          <p:nvPr/>
        </p:nvPicPr>
        <p:blipFill>
          <a:blip r:embed="rId3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227160" y="154080"/>
            <a:ext cx="7542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4320" y="2467080"/>
            <a:ext cx="8775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20b0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820b0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4798800"/>
            <a:ext cx="82263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20b01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820b01"/>
              </a:solidFill>
              <a:latin typeface="Arial"/>
            </a:endParaRPr>
          </a:p>
          <a:p>
            <a:pPr lvl="1" marL="102600" indent="-102600" algn="ctr">
              <a:spcBef>
                <a:spcPts val="901"/>
              </a:spcBef>
              <a:buClr>
                <a:srgbClr val="820b01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20b01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820b01"/>
              </a:solidFill>
              <a:latin typeface="Arial"/>
            </a:endParaRPr>
          </a:p>
          <a:p>
            <a:pPr lvl="2" marL="102600" indent="-102600" algn="ctr">
              <a:spcBef>
                <a:spcPts val="901"/>
              </a:spcBef>
              <a:buClr>
                <a:srgbClr val="820b01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20b01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820b01"/>
              </a:solidFill>
              <a:latin typeface="Arial"/>
            </a:endParaRPr>
          </a:p>
          <a:p>
            <a:pPr lvl="3" marL="102600" indent="-102600" algn="ctr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20b01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820b01"/>
              </a:solidFill>
              <a:latin typeface="Arial"/>
            </a:endParaRPr>
          </a:p>
          <a:p>
            <a:pPr lvl="4" marL="102600" indent="-102600" algn="ctr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20b01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820b01"/>
              </a:solidFill>
              <a:latin typeface="Arial"/>
            </a:endParaRPr>
          </a:p>
          <a:p>
            <a:pPr lvl="5" marL="102600" indent="-102600" algn="ctr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20b01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820b01"/>
              </a:solidFill>
              <a:latin typeface="Arial"/>
            </a:endParaRPr>
          </a:p>
          <a:p>
            <a:pPr lvl="6" marL="102600" indent="-102600" algn="ctr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20b01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820b01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06440" y="6307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0b01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NCES/AD/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677000" y="630720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0b0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1A5D-3EFF-4D1F-91AA-ACA25009E0CD}" type="slidenum">
              <a:rPr b="0" lang="en-US" sz="1400" spc="-1" strike="noStrike">
                <a:solidFill>
                  <a:srgbClr val="820b0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NAEPslidepage"/>
          <p:cNvPicPr/>
          <p:nvPr/>
        </p:nvPicPr>
        <p:blipFill>
          <a:blip r:embed="rId2"/>
          <a:stretch/>
        </p:blipFill>
        <p:spPr>
          <a:xfrm>
            <a:off x="0" y="-17640"/>
            <a:ext cx="9144000" cy="6894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47200" y="1369800"/>
            <a:ext cx="83185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9720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0b01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NCES/AD/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7676640" y="6397200"/>
            <a:ext cx="1279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0b01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20F1-E7D1-47F0-A05B-23C570C63BE3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5"/>
          </p:nvPr>
        </p:nvSpPr>
        <p:spPr>
          <a:xfrm>
            <a:off x="456840" y="63972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0b01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20CA-9742-47E7-9470-39FAAD2F1EF7}" type="datetime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1544-1F5B-4404-A381-E6E6F00A7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2"/>
          <a:stretch/>
        </p:blipFill>
        <p:spPr>
          <a:xfrm>
            <a:off x="0" y="152280"/>
            <a:ext cx="9145440" cy="75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Object 8"/>
          <p:cNvGraphicFramePr/>
          <p:nvPr/>
        </p:nvGraphicFramePr>
        <p:xfrm>
          <a:off x="457200" y="5791320"/>
          <a:ext cx="2971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791320"/>
                    <a:ext cx="2971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4e824a"/>
              </a:gs>
              <a:gs pos="100000">
                <a:srgbClr val="7ea69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DD34-8201-4856-922C-81A004176CB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NCES/AD/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38AB-5571-4181-861A-3A4D314C9E2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D896-FD13-45D7-AFD9-1326008CDD6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NCES/AD/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9764-F3F0-4D86-8593-BCD5AF802A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4000" cy="2971800"/>
          </a:xfrm>
          <a:prstGeom prst="rect">
            <a:avLst/>
          </a:prstGeom>
          <a:gradFill rotWithShape="0">
            <a:gsLst>
              <a:gs pos="0">
                <a:srgbClr val="4e824a"/>
              </a:gs>
              <a:gs pos="100000">
                <a:srgbClr val="7ea69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75A7-785B-4D75-9111-EDE2A4272E4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NCES/AD/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8614-2400-48A2-945C-DEE13D1921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4e824a"/>
              </a:gs>
              <a:gs pos="100000">
                <a:srgbClr val="7ea69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051C-300B-48ED-94FA-9FDAE77E003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NCES/AD/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7017-6C0F-4BF8-88BE-F432394FDA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0" y="0"/>
            <a:ext cx="9144000" cy="2971800"/>
          </a:xfrm>
          <a:prstGeom prst="rect">
            <a:avLst/>
          </a:prstGeom>
          <a:gradFill rotWithShape="0">
            <a:gsLst>
              <a:gs pos="0">
                <a:srgbClr val="4e824a"/>
              </a:gs>
              <a:gs pos="100000">
                <a:srgbClr val="7ea69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0" y="0"/>
            <a:ext cx="380880" cy="6473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380880" y="380880"/>
            <a:ext cx="381240" cy="6477120"/>
          </a:xfrm>
          <a:prstGeom prst="rect">
            <a:avLst/>
          </a:prstGeom>
          <a:solidFill>
            <a:srgbClr val="f9b277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2670-76B3-4B1A-A691-C5253972386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NCES/AD/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F4FB-6565-4BE6-B91E-7978D80577D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20b01"/>
                </a:solidFill>
                <a:latin typeface="Cambria"/>
              </a:rPr>
              <a:t>Design of the 2011 NAEP-TIMSS Linking Study </a:t>
            </a:r>
            <a:endParaRPr b="0" lang="en-US" sz="5400" spc="-1" strike="noStrike">
              <a:solidFill>
                <a:srgbClr val="820b01"/>
              </a:solidFill>
              <a:latin typeface="Arial"/>
            </a:endParaRPr>
          </a:p>
        </p:txBody>
      </p:sp>
      <p:sp>
        <p:nvSpPr>
          <p:cNvPr id="346" name="Rectangle 13"/>
          <p:cNvSpPr/>
          <p:nvPr/>
        </p:nvSpPr>
        <p:spPr>
          <a:xfrm>
            <a:off x="129528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0b01"/>
                </a:solidFill>
                <a:latin typeface="Cambria"/>
              </a:rPr>
              <a:t>Andrew Kolst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20b01"/>
                </a:solidFill>
                <a:latin typeface="Cambria"/>
              </a:rPr>
              <a:t>Senior Technical Advisor to the Assessment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20b01"/>
                </a:solidFill>
                <a:latin typeface="Cambria"/>
              </a:rPr>
              <a:t>National Center for Educatio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15552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king stud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2193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61880" indent="-4618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minister braided booklets in both testing window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39800" indent="-339840">
              <a:spcBef>
                <a:spcPts val="3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AEP in Winter (January to March, 2011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739800" indent="-339840">
              <a:spcBef>
                <a:spcPts val="3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IMSS in Spring (April to June, 2011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4618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ect national samples independent of the main NAEP and TIMSS samp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39800" indent="-339840">
              <a:spcBef>
                <a:spcPts val="3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0,000 students in NAEP in Winter (half science, half math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739800" indent="-339840">
              <a:spcBef>
                <a:spcPts val="3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7,500 students in TIMSS in Spring (half science, half math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4618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llect the data using NAEP field staff in winter and TIMSS field staff in spring (Westat is the contractor for both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4618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ore the items using the same scoring staff with the same training and QC procedures that NAEP and TIMSS u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952A-F26A-44F0-BD7D-4F771E476E23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152280" y="1295280"/>
          <a:ext cx="8839440" cy="6575400"/>
        </p:xfrm>
        <a:graphic>
          <a:graphicData uri="http://schemas.openxmlformats.org/drawingml/2006/table">
            <a:tbl>
              <a:tblPr/>
              <a:tblGrid>
                <a:gridCol w="1027080"/>
                <a:gridCol w="285840"/>
                <a:gridCol w="74520"/>
                <a:gridCol w="285840"/>
                <a:gridCol w="74520"/>
                <a:gridCol w="285840"/>
                <a:gridCol w="74520"/>
                <a:gridCol w="285840"/>
                <a:gridCol w="74520"/>
                <a:gridCol w="174960"/>
                <a:gridCol w="172800"/>
                <a:gridCol w="74520"/>
                <a:gridCol w="285840"/>
                <a:gridCol w="74520"/>
                <a:gridCol w="285840"/>
                <a:gridCol w="74520"/>
                <a:gridCol w="285840"/>
                <a:gridCol w="74520"/>
                <a:gridCol w="285840"/>
                <a:gridCol w="100080"/>
                <a:gridCol w="74520"/>
                <a:gridCol w="136800"/>
                <a:gridCol w="136440"/>
                <a:gridCol w="74520"/>
                <a:gridCol w="285840"/>
                <a:gridCol w="74520"/>
                <a:gridCol w="285840"/>
                <a:gridCol w="74520"/>
                <a:gridCol w="285840"/>
                <a:gridCol w="74520"/>
                <a:gridCol w="285840"/>
                <a:gridCol w="74520"/>
                <a:gridCol w="174600"/>
                <a:gridCol w="173160"/>
                <a:gridCol w="74520"/>
                <a:gridCol w="285840"/>
                <a:gridCol w="82440"/>
                <a:gridCol w="285840"/>
                <a:gridCol w="84240"/>
                <a:gridCol w="285480"/>
                <a:gridCol w="82800"/>
                <a:gridCol w="285480"/>
                <a:gridCol w="82800"/>
                <a:gridCol w="285480"/>
                <a:gridCol w="149400"/>
                <a:gridCol w="285840"/>
              </a:tblGrid>
              <a:tr h="36468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5"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let Designs for NAEP-TIMSS Linking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360">
                <a:tc rowSpan="2"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tique Olive"/>
                        </a:rPr>
                        <a:t>NAEP wind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first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second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Q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Univers Condense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Q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Univers Condense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440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first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second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Q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Univers Condense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Q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Univers Condense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3680">
                <a:tc rowSpan="2"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tique Olive"/>
                        </a:rPr>
                        <a:t>TIMSS wind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first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second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third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fourth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080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first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second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third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fourth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044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404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Assessment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0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Lege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NAEP bloc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TIMSS bloc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7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let designs for braided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753A-11A6-49A8-86B9-DF39C77FB6AB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5"/>
          <p:cNvSpPr/>
          <p:nvPr/>
        </p:nvSpPr>
        <p:spPr>
          <a:xfrm>
            <a:off x="5791320" y="22860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EP-window booklets contain either science or mathematics blocks, but not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3581280" y="525780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SS-window booklets contain bo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and mathematics TIMSS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SS-window booklets contain three blocks of science or math, plus one block of NAE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13"/>
          <p:cNvSpPr/>
          <p:nvPr/>
        </p:nvSpPr>
        <p:spPr>
          <a:xfrm>
            <a:off x="228600" y="1447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booklet configurations in the TIMSS wind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514600" y="3505320"/>
          <a:ext cx="6324480" cy="685800"/>
        </p:xfrm>
        <a:graphic>
          <a:graphicData uri="http://schemas.openxmlformats.org/drawingml/2006/table">
            <a:tbl>
              <a:tblPr/>
              <a:tblGrid>
                <a:gridCol w="568440"/>
                <a:gridCol w="1438200"/>
                <a:gridCol w="1440000"/>
                <a:gridCol w="1438200"/>
                <a:gridCol w="1439640"/>
              </a:tblGrid>
              <a:tr h="685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SS M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EP M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SS 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SS M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dd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2490840" y="5638680"/>
          <a:ext cx="6348240" cy="685800"/>
        </p:xfrm>
        <a:graphic>
          <a:graphicData uri="http://schemas.openxmlformats.org/drawingml/2006/table">
            <a:tbl>
              <a:tblPr/>
              <a:tblGrid>
                <a:gridCol w="569880"/>
                <a:gridCol w="1444680"/>
                <a:gridCol w="1444680"/>
                <a:gridCol w="1444320"/>
                <a:gridCol w="1444680"/>
              </a:tblGrid>
              <a:tr h="685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SS S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EP S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SS S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SS M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ddc"/>
                    </a:solidFill>
                  </a:tcPr>
                </a:tc>
              </a:tr>
            </a:tbl>
          </a:graphicData>
        </a:graphic>
      </p:graphicFrame>
      <p:sp>
        <p:nvSpPr>
          <p:cNvPr id="389" name="TextBox 8"/>
          <p:cNvSpPr/>
          <p:nvPr/>
        </p:nvSpPr>
        <p:spPr>
          <a:xfrm>
            <a:off x="533520" y="36687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9"/>
          <p:cNvSpPr/>
          <p:nvPr/>
        </p:nvSpPr>
        <p:spPr>
          <a:xfrm>
            <a:off x="609480" y="5802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Straight Arrow Connector 11"/>
          <p:cNvCxnSpPr/>
          <p:nvPr/>
        </p:nvCxnSpPr>
        <p:spPr>
          <a:xfrm flipH="1">
            <a:off x="3809160" y="2743200"/>
            <a:ext cx="839160" cy="915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2" name="Straight Arrow Connector 14"/>
          <p:cNvCxnSpPr/>
          <p:nvPr/>
        </p:nvCxnSpPr>
        <p:spPr>
          <a:xfrm>
            <a:off x="6705720" y="2666880"/>
            <a:ext cx="1219680" cy="99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93" name="TextBox 17"/>
          <p:cNvSpPr/>
          <p:nvPr/>
        </p:nvSpPr>
        <p:spPr>
          <a:xfrm>
            <a:off x="4572000" y="23623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IMSS Math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1"/>
          <p:cNvSpPr/>
          <p:nvPr/>
        </p:nvSpPr>
        <p:spPr>
          <a:xfrm>
            <a:off x="4724280" y="2819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NAEP Math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22"/>
          <p:cNvCxnSpPr>
            <a:stCxn id="394" idx="2"/>
          </p:cNvCxnSpPr>
          <p:nvPr/>
        </p:nvCxnSpPr>
        <p:spPr>
          <a:xfrm flipH="1">
            <a:off x="5333760" y="3188880"/>
            <a:ext cx="381600" cy="469080"/>
          </a:xfrm>
          <a:prstGeom prst="straightConnector1">
            <a:avLst/>
          </a:prstGeom>
          <a:ln w="25560">
            <a:solidFill>
              <a:srgbClr val="6b6bcf"/>
            </a:solidFill>
            <a:miter/>
            <a:tailEnd len="med" type="arrow" w="med"/>
          </a:ln>
        </p:spPr>
      </p:cxnSp>
      <p:sp>
        <p:nvSpPr>
          <p:cNvPr id="396" name="TextBox 32"/>
          <p:cNvSpPr/>
          <p:nvPr/>
        </p:nvSpPr>
        <p:spPr>
          <a:xfrm>
            <a:off x="6781680" y="2057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TIMSS Scienc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Straight Arrow Connector 33"/>
          <p:cNvCxnSpPr/>
          <p:nvPr/>
        </p:nvCxnSpPr>
        <p:spPr>
          <a:xfrm flipH="1">
            <a:off x="6857640" y="2437920"/>
            <a:ext cx="915120" cy="1220040"/>
          </a:xfrm>
          <a:prstGeom prst="straightConnector1">
            <a:avLst/>
          </a:prstGeom>
          <a:ln w="25560">
            <a:solidFill>
              <a:srgbClr val="9900cc"/>
            </a:solidFill>
            <a:miter/>
            <a:tailEnd len="med" type="arrow" w="med"/>
          </a:ln>
        </p:spPr>
      </p:cxnSp>
      <p:sp>
        <p:nvSpPr>
          <p:cNvPr id="398" name="TextBox 36"/>
          <p:cNvSpPr/>
          <p:nvPr/>
        </p:nvSpPr>
        <p:spPr>
          <a:xfrm>
            <a:off x="411480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TIMSS Science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Straight Arrow Connector 37"/>
          <p:cNvCxnSpPr/>
          <p:nvPr/>
        </p:nvCxnSpPr>
        <p:spPr>
          <a:xfrm flipH="1">
            <a:off x="3428280" y="4876920"/>
            <a:ext cx="762840" cy="915120"/>
          </a:xfrm>
          <a:prstGeom prst="straightConnector1">
            <a:avLst/>
          </a:prstGeom>
          <a:ln w="25560">
            <a:solidFill>
              <a:srgbClr val="9900cc"/>
            </a:solidFill>
            <a:miter/>
            <a:tailEnd len="med" type="arrow" w="med"/>
          </a:ln>
        </p:spPr>
      </p:cxnSp>
      <p:cxnSp>
        <p:nvCxnSpPr>
          <p:cNvPr id="400" name="Straight Arrow Connector 41"/>
          <p:cNvCxnSpPr/>
          <p:nvPr/>
        </p:nvCxnSpPr>
        <p:spPr>
          <a:xfrm>
            <a:off x="6629400" y="4800240"/>
            <a:ext cx="457920" cy="1067400"/>
          </a:xfrm>
          <a:prstGeom prst="straightConnector1">
            <a:avLst/>
          </a:prstGeom>
          <a:ln w="25560">
            <a:solidFill>
              <a:srgbClr val="9900cc"/>
            </a:solidFill>
            <a:miter/>
            <a:tailEnd len="med" type="arrow" w="med"/>
          </a:ln>
        </p:spPr>
      </p:cxnSp>
      <p:sp>
        <p:nvSpPr>
          <p:cNvPr id="401" name="TextBox 43"/>
          <p:cNvSpPr/>
          <p:nvPr/>
        </p:nvSpPr>
        <p:spPr>
          <a:xfrm>
            <a:off x="7010280" y="4659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IMSS Math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Straight Arrow Connector 44"/>
          <p:cNvCxnSpPr/>
          <p:nvPr/>
        </p:nvCxnSpPr>
        <p:spPr>
          <a:xfrm flipH="1">
            <a:off x="8076600" y="5028840"/>
            <a:ext cx="229320" cy="762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03" name="TextBox 46"/>
          <p:cNvSpPr/>
          <p:nvPr/>
        </p:nvSpPr>
        <p:spPr>
          <a:xfrm>
            <a:off x="4267080" y="5029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NAEP Scienc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Straight Arrow Connector 50"/>
          <p:cNvCxnSpPr/>
          <p:nvPr/>
        </p:nvCxnSpPr>
        <p:spPr>
          <a:xfrm flipH="1">
            <a:off x="5256000" y="5335560"/>
            <a:ext cx="3600" cy="457920"/>
          </a:xfrm>
          <a:prstGeom prst="straightConnector1">
            <a:avLst/>
          </a:prstGeom>
          <a:ln w="25560">
            <a:solidFill>
              <a:srgbClr val="6b6bcf"/>
            </a:solidFill>
            <a:miter/>
            <a:tailEnd len="med" type="arrow" w="med"/>
          </a:ln>
        </p:spPr>
      </p:cxnSp>
      <p:sp>
        <p:nvSpPr>
          <p:cNvPr id="405" name="Title 1"/>
          <p:cNvSpPr/>
          <p:nvPr/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 composition of braided book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25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9174-A1CC-420A-9C12-6D5E7A461A0D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IMSS at the stat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47560" y="1370160"/>
            <a:ext cx="791064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ed as a validity check on the NAEP projection methodolog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ered as part of regular, national TIM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ded by NCES, not by stat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 states volunteered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states will particip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, MN, AL, CA, CT, IN, CO, &amp; N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477E-F854-4BEF-A617-39485E4C62B9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AEP at the stat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47560" y="1369800"/>
            <a:ext cx="7910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e-level grade 8 mathematics assessment was already planne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tates have volunteered to participate in the new 2011 NAEP science assess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will not be a regular NAEP state-level assessment with full reporting (no urban distric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raided linking samples are national only, with a very small sample in any given st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D8AB-10F4-4777-B04C-9AA5BBEC8A56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imeline for NAEP-TIMSS l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761760" y="1370160"/>
            <a:ext cx="754380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ease of the national and state TIMSS results is scheduled for  December 20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nking results will be reported a few months after the main TIMSS rele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872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872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4988-D612-4D82-ADE1-A7C2BDB129FD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Benefits of the proposed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85440" y="1523880"/>
            <a:ext cx="7467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287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s interference with the conduct of regular operational assess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87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 NAEP-TIMSS link through common items taken by the same 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87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s the amount of growth during the period from winter to sp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states with international benchmarks in science and mathematics at grade 8, without the cost of conducting TIMSS at the stat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2CEA-0312-4270-81DC-8C045555D378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4"/>
          <p:cNvSpPr/>
          <p:nvPr/>
        </p:nvSpPr>
        <p:spPr>
          <a:xfrm>
            <a:off x="380880" y="4952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tates and school districts, to project TIMSS mathematics and science scores from performance on NAEP (without the cost of participating in TIM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8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75C0-6AAE-438C-93A8-956C9464CC5D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228600" y="152280"/>
            <a:ext cx="76960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study in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Diagram 6" descr=""/>
          <p:cNvPicPr/>
          <p:nvPr/>
        </p:nvPicPr>
        <p:blipFill>
          <a:blip r:embed="rId1"/>
          <a:stretch/>
        </p:blipFill>
        <p:spPr>
          <a:xfrm>
            <a:off x="225360" y="987480"/>
            <a:ext cx="86328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revious NAEP / TIMSS linkings -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2680" indent="-112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son’s statistical linkage to 1996 state NA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tudents took both NAEP and TIMSS assess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SS-equivalent mathematics and science scores predicted from NAEP state scores using “statistical moderation” (matching score distribu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d with TIMSS in Minnesota and Colorado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1840" indent="-349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tual grade 8 means for Minnesota fell within the confidence interv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1840" indent="-349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tual grade 4 means for both Colorado and Minnesota were higher than the predicted m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B951-23E0-4308-9C88-B4A369716D74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revious NAEP / TIMSS linkings -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2680" indent="-112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son and Cohen’s projection linkage to 2000 grade 8 state NAEP mathematics and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nking sample of students was assessed by NAEP in the winter of 2000 and again by TIMSS in the spring of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SS-equivalent mathematics and science scores predicted from NAEP state scores using “statistical projection” (estimating the average relationship between a student’s score on NAEP and on TIMSS and applying that relationship to state NAEP sco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d with grade 8 TIMSS in twelve states in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1840" indent="-349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erformance differed: the actual grade 8 means generally fell above the confidence intervals for the predicted m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TIMSS score projections were pu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550B-3213-40A6-A090-661EE5DD627E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revious NAEP / TIMSS linkings -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2680" indent="-112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lip’s statistical mod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age in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grade 8 TIMSS-equivalent scores of NAEP  achievement level cut scores projected using “statistical moderation” (no student took both assess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national distributions of NAEP 2000 mathematics and science scores matched to U.S. score distributions 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1840" indent="-34920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SS 1999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1840" indent="-34920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SS 2003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Estimated percentage of basic, proficient, and advanced students in each country that participated in the 1999 TIMSS and 2003 TIMSS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92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45E7-921C-426D-AC09-42B821DD4C8B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mproving on previous linking design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2680" indent="-112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he current linking study dif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NAEP and TIMSS in 2011, the same year thi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linking samples of students; no student assessed in both winter and 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booklet designs; one looks like NAEP in the winter and the other looks like TIMSS in the 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ed TIMSS mathematics and science scores predicted from NAEP state scores using “statistical projectio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984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stimating the average relationship between a student’s score on NAEP and on TIMSS and applying that relationship to state NAEP sc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d with grade 8 TIMSS in eight states in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4572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E05A-1D9E-4EA8-B243-DB92139D4E85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mponents in linking NAEP &amp; TIM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47200" y="1370160"/>
            <a:ext cx="831852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EP state-level science and mathematics data needed as a basis for projecting TIMSS mathematics and science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first time in NAEP history, all 50 states volunteered to participate in a voluntary state NA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SS state-level grade 8 data needed to check the validity of the linking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ing samples of students will provide responses to items from both assessments; needed to estimate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tudents will take NAEP in the winter and TIMSS in the spring, to avoid the decline in scores found in the previous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3D2C-A6CA-4DCE-A6C9-7FE8DD35AA17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let designs for NAEP &amp; TIM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40F5-5924-4C31-B978-F8A7199703F6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52280" y="1523880"/>
          <a:ext cx="8763120" cy="4762800"/>
        </p:xfrm>
        <a:graphic>
          <a:graphicData uri="http://schemas.openxmlformats.org/drawingml/2006/table">
            <a:tbl>
              <a:tblPr/>
              <a:tblGrid>
                <a:gridCol w="1341720"/>
                <a:gridCol w="257040"/>
                <a:gridCol w="68400"/>
                <a:gridCol w="257040"/>
                <a:gridCol w="66600"/>
                <a:gridCol w="257400"/>
                <a:gridCol w="66600"/>
                <a:gridCol w="257040"/>
                <a:gridCol w="74520"/>
                <a:gridCol w="163800"/>
                <a:gridCol w="164880"/>
                <a:gridCol w="74520"/>
                <a:gridCol w="257400"/>
                <a:gridCol w="74520"/>
                <a:gridCol w="257040"/>
                <a:gridCol w="74880"/>
                <a:gridCol w="257040"/>
                <a:gridCol w="74520"/>
                <a:gridCol w="257400"/>
                <a:gridCol w="73080"/>
                <a:gridCol w="164880"/>
                <a:gridCol w="163440"/>
                <a:gridCol w="74880"/>
                <a:gridCol w="257040"/>
                <a:gridCol w="74520"/>
                <a:gridCol w="257400"/>
                <a:gridCol w="74520"/>
                <a:gridCol w="257040"/>
                <a:gridCol w="74520"/>
                <a:gridCol w="257400"/>
                <a:gridCol w="74520"/>
                <a:gridCol w="163440"/>
                <a:gridCol w="165240"/>
                <a:gridCol w="73080"/>
                <a:gridCol w="258840"/>
                <a:gridCol w="72720"/>
                <a:gridCol w="257400"/>
                <a:gridCol w="74520"/>
                <a:gridCol w="257040"/>
                <a:gridCol w="74880"/>
                <a:gridCol w="257040"/>
                <a:gridCol w="74520"/>
                <a:gridCol w="257400"/>
                <a:gridCol w="74520"/>
                <a:gridCol w="596880"/>
              </a:tblGrid>
              <a:tr h="618120">
                <a:tc gridSpan="8"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tique Olive"/>
                        </a:rPr>
                        <a:t>Main study bookl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640"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tique Olive"/>
                        </a:rPr>
                        <a:t>NAE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first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second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Q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Univers Condense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Q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Univers Condense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tique Olive"/>
                        </a:rPr>
                        <a:t>TIMS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first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7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second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third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7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fourth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B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79640"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4280"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Assessment ti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…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1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Lege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NAEP bloc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TIMSS bloc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2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Univers Condensed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TextBox 4"/>
          <p:cNvSpPr/>
          <p:nvPr/>
        </p:nvSpPr>
        <p:spPr>
          <a:xfrm>
            <a:off x="4038480" y="4495680"/>
            <a:ext cx="44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EP booklets contain either science or mathematics, but not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SS blocks contain both science and mathematics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1"/>
          <p:cNvSpPr/>
          <p:nvPr/>
        </p:nvSpPr>
        <p:spPr>
          <a:xfrm>
            <a:off x="990720" y="1828800"/>
            <a:ext cx="48765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33"/>
          <p:cNvSpPr/>
          <p:nvPr/>
        </p:nvSpPr>
        <p:spPr>
          <a:xfrm>
            <a:off x="1219320" y="3124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 &amp;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eft Arrow 9"/>
          <p:cNvSpPr/>
          <p:nvPr/>
        </p:nvSpPr>
        <p:spPr>
          <a:xfrm>
            <a:off x="5715000" y="6019920"/>
            <a:ext cx="914400" cy="152280"/>
          </a:xfrm>
          <a:prstGeom prst="leftArrow">
            <a:avLst>
              <a:gd name="adj1" fmla="val 50000"/>
              <a:gd name="adj2" fmla="val 5003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0"/>
          <p:cNvSpPr/>
          <p:nvPr/>
        </p:nvSpPr>
        <p:spPr>
          <a:xfrm>
            <a:off x="6629400" y="4419720"/>
            <a:ext cx="2133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of the 14 booklets includes two blocks of  mathematics and two blocks of science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43200" y="1828800"/>
          <a:ext cx="2895480" cy="4419720"/>
        </p:xfrm>
        <a:graphic>
          <a:graphicData uri="http://schemas.openxmlformats.org/drawingml/2006/table">
            <a:tbl>
              <a:tblPr/>
              <a:tblGrid>
                <a:gridCol w="652320"/>
                <a:gridCol w="560520"/>
                <a:gridCol w="561960"/>
                <a:gridCol w="560520"/>
                <a:gridCol w="560160"/>
              </a:tblGrid>
              <a:tr h="31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936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9360">
                      <a:solidFill>
                        <a:srgbClr val="ff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1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15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15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15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14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15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</a:tr>
            </a:tbl>
          </a:graphicData>
        </a:graphic>
      </p:graphicFrame>
      <p:sp>
        <p:nvSpPr>
          <p:cNvPr id="375" name="TextBox 12"/>
          <p:cNvSpPr/>
          <p:nvPr/>
        </p:nvSpPr>
        <p:spPr>
          <a:xfrm>
            <a:off x="6629400" y="18288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block appears in two book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7160" y="154080"/>
            <a:ext cx="7586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SS assessment book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Slide Number Placeholder 15"/>
          <p:cNvSpPr/>
          <p:nvPr/>
        </p:nvSpPr>
        <p:spPr>
          <a:xfrm>
            <a:off x="7677000" y="6397560"/>
            <a:ext cx="12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5C8B-A46A-44F2-8F0B-D9CE6C91ED62}" type="slidenum">
              <a:rPr b="0" lang="en-US" sz="1400" spc="-1" strike="noStrike">
                <a:solidFill>
                  <a:srgbClr val="820b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9:09:44Z</dcterms:created>
  <dc:creator>Authorised User</dc:creator>
  <dc:description/>
  <dc:language>en-US</dc:language>
  <cp:lastModifiedBy>Authorised User</cp:lastModifiedBy>
  <dcterms:modified xsi:type="dcterms:W3CDTF">2010-07-07T14:27:13Z</dcterms:modified>
  <cp:revision>908</cp:revision>
  <dc:subject/>
  <dc:title>Slide 1</dc:title>
</cp:coreProperties>
</file>