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3F4F-C41E-4F59-A175-D38A4149A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EBBF-5621-4543-8E8C-D9B48A4BA1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B668-258F-46FD-8BA0-ACC4BBC302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40 minute test, 35 minute survey, 10 minute set-up and break-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est students in math for 40 minutes… then have just 35 minutes to question them on all sorts of th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Missing data were not random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Lower-achiev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udents with language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807A-CF5F-4D7E-A9ED-B7F083E6BE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Randomize presentation of 3 survey sections so students have equal chances of facing each set of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Incomplete surveys started again where left off at end of math assessment, starting where students broke off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BD0-7389-41FA-BAB9-E740182967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More than ever, parents very reluctant to particip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More difficult to reach par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ell phones more prom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Busy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sk SSNs?  Why ask all these ques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20C-FEC7-451F-8847-1314C9E66E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mplement complex parent incentiv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Applied to non-respondent parents by mid-M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Incentives differed by type of non-response, e.g., for refusal conversions, hard-to-reach parents (15 or more calls), and dead-end trace cases </a:t>
            </a:r>
            <a:r>
              <a:rPr b="0" lang="en-US" sz="2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$20 vs. $10 vs. 0…. $20 wins every time by 6-7% points…. $0 and $10 not that much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modes to make sure everyone gets every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Online (1/3) or CATI 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omplete (30 minutes), abbreviated (10-15 minutes), or brief, two-page hard-copy versions (5 min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4184-311D-4A10-B35E-FA09FF050A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Moderate-Risk level prohibited HSLS from advertising study within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eachers not aware of study and prohibited students from leaving class to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Lack of awareness meant doubts of HSLS legi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alls from concerned parents verifying U.S. Department of Education’s connection to HS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98EB-D701-40BA-839D-838E878DCB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Explain to schools the enhanced security procedures designed and implemented to protect P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Task School Coordinator to inform teachers as often as possible about HSLS and U.S. Department of Education aff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C9C4-F345-4F01-B0E3-8E727AF76C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10 states to merge state data with HSLS data into state representative data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Combine strengths of SLDS and HS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(CA, TX, FL, GA, MI, NC, OH, PA, TN, 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ata sharing of this nature is a new fron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ata sharing agreement and protocol requires layers of legal approvals at both the state level and the feder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Compete with grant competitions for state staf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elayed reward:  Benefit to states more tangible once national HSLS data released (states will be able to better visualize how marrying the data will benefit their 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FC69-CB05-49C9-B391-4FE7D4BA11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Use SLDS connections between data community and SLDS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Attend every/any conference where state representatives present and make case for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rong, rich state representative datasets to address questions of development across the high school years toward job and college preparation and 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areful to show no federal entitlement to or expectations about stat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great care in how we handle the data with state per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FCF-F7C2-42E3-8CA6-D0C8D9833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70E8-7723-4F5A-B22F-44F750A213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chedule allows  us to learn how plans vary over the course of high school and how decisions in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impact students’ high school trajector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 up with students in the spring of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, we’ll see how  planning and decision-making in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may/may not link to subsequ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these decisions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ener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but specifically… What turns students onto math and science… Teachers?  Parents?  Classroom experiences?  Own personal interest and motivation?  What sustains their interest and persist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er reliance on administrative data – that’s the future of data – how what we do in longitudinal studies can be carried over to the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8623-B05A-4B65-8576-1715C31642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he old – bring in the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:  800 high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nd exciting:  We started with a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cohort in the fall of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Past NCES-sponsored longitudinal studies began with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1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. 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’s a big transition year for most kids and the critical grade in determining high school traje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in the past, we’re surveying students, parents, school administrators, teachers… NEW?  School counse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assessment – not new.  But NEW??  Focus on algebra – math experts  very excited abou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 language/knowledge, skills, representations, problem-solv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ation of all subsequent math, new civil right, II screener for colle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ath test spans entire high school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subject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A2AF-8CA0-4B7A-A5E9-E179005B5A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Collection began in Sept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hanges in staffing over summer created instability in school appro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Restart entire recruit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udent rosters un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Used to sample and recruit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Reduced time to gather logistical information at start of new school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Difficult to fit in HS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1C51-AD0A-4131-9FA3-18A211106D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ay in contact with schools through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Remind schools about HSLS once approval sec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C paid honorarium for effort – with incentives for more student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Prompt SC to submit lists ASAP and to report changes frequently, a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omplete as much work as possible at con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1127-54B7-4703-8CA7-A9926DC079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ot seen in previou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First study in post-NCLB 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Economy – Budget cuts to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CLB exhaustion I – Why bother with “unofficial” te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CLB exhaustion II – Los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ompeting studies – Other research offers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o incentives – No tangible benefit to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073E-3894-468B-A42B-5913371BFE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Whichever approach, timing, location worked for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Multiple sessions, split sessions, labs and lap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cruitment is local: 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Task local HSLS contractors to persuade nearby schools – To shrink federal ‘top-down’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 based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on above/average/below assessment performance – some tangible benefit to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364-47B9-44EE-8143-98EBB7D76B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chool computer labs --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For efficiency in cost and ti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Warned that this approach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School computers subject to tracking software and possible threats to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istrict and school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Students unfamiliar with computer-based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Staff set up computers – Sufficiently ski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7384-22F1-4C30-BB6D-06EFC07267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Bootable </a:t>
            </a:r>
            <a:r>
              <a:rPr b="0" i="1" lang="en-US" sz="1200" spc="-1" strike="noStrike">
                <a:solidFill>
                  <a:srgbClr val="969696"/>
                </a:solidFill>
                <a:latin typeface="Arial"/>
              </a:rPr>
              <a:t>Sojourn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 CD / flash drive with own Linux-based O/S bypasses school computer O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69696"/>
                </a:solidFill>
                <a:latin typeface="Arial"/>
              </a:rPr>
              <a:t>Sojourn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 creates direct, secure link to NCES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IT coordinator can help break down firewalls – IN ADV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Pre-address set-up questions and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Tinker with Sojourn to ensure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Line 33"/>
          <p:cNvSpPr/>
          <p:nvPr/>
        </p:nvSpPr>
        <p:spPr>
          <a:xfrm>
            <a:off x="457200" y="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" name="Picture 34" descr=""/>
          <p:cNvPicPr/>
          <p:nvPr/>
        </p:nvPicPr>
        <p:blipFill>
          <a:blip r:embed="rId2"/>
          <a:srcRect l="1824" t="0" r="4186" b="6470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3" descr=""/>
          <p:cNvPicPr/>
          <p:nvPr/>
        </p:nvPicPr>
        <p:blipFill>
          <a:blip r:embed="rId2"/>
          <a:srcRect l="0" t="14690" r="827" b="5479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Laura.LoGerfo@ed.gov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3" descr=""/>
          <p:cNvPicPr/>
          <p:nvPr/>
        </p:nvPicPr>
        <p:blipFill>
          <a:blip r:embed="rId1"/>
          <a:srcRect l="0" t="14690" r="827" b="5479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2438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of the New Era of Longitudinal Studies: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erspective from HSLS</a:t>
            </a:r>
            <a:endParaRPr b="0" lang="en-US" sz="2800" spc="-1" strike="noStrike">
              <a:solidFill>
                <a:srgbClr val="ffff00"/>
              </a:solidFill>
              <a:latin typeface="Lucida Sans"/>
            </a:endParaRPr>
          </a:p>
        </p:txBody>
      </p:sp>
      <p:pic>
        <p:nvPicPr>
          <p:cNvPr id="469" name="Picture 4" descr="meddoeseal"/>
          <p:cNvPicPr/>
          <p:nvPr/>
        </p:nvPicPr>
        <p:blipFill>
          <a:blip r:embed="rId2"/>
          <a:stretch/>
        </p:blipFill>
        <p:spPr>
          <a:xfrm>
            <a:off x="2209680" y="565776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NCES_logo_whiteOnly"/>
          <p:cNvPicPr/>
          <p:nvPr/>
        </p:nvPicPr>
        <p:blipFill>
          <a:blip r:embed="rId3"/>
          <a:stretch/>
        </p:blipFill>
        <p:spPr>
          <a:xfrm>
            <a:off x="3581280" y="5705640"/>
            <a:ext cx="3276720" cy="1025280"/>
          </a:xfrm>
          <a:prstGeom prst="rect">
            <a:avLst/>
          </a:prstGeom>
          <a:ln w="0">
            <a:noFill/>
          </a:ln>
        </p:spPr>
      </p:pic>
      <p:sp>
        <p:nvSpPr>
          <p:cNvPr id="471" name="Line 10"/>
          <p:cNvSpPr/>
          <p:nvPr/>
        </p:nvSpPr>
        <p:spPr>
          <a:xfrm>
            <a:off x="1219320" y="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2057400" y="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7848720" y="20574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828800" y="4038480"/>
            <a:ext cx="5334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a LoGerf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9, 2010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75" name="Picture 16" descr=""/>
          <p:cNvPicPr/>
          <p:nvPr/>
        </p:nvPicPr>
        <p:blipFill>
          <a:blip r:embed="rId4"/>
          <a:stretch/>
        </p:blipFill>
        <p:spPr>
          <a:xfrm>
            <a:off x="7010280" y="28440"/>
            <a:ext cx="20322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84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4:  Incomplete Student Surveys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LS, students did not complete all survey question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data were not randomly distribute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tightly constraine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84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Incomplete Student Surveys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presentation of 3 survey section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survey to collect contact informatio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surveys presented agai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% of students completed entire surve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5: Parent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47560" y="1295280"/>
            <a:ext cx="8367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ow parent response rat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ifficult to reach parents 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questioned purpose of Government surve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entiv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Parent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 and persever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complex parent incentive experimen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parents multiple modes of participatio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6: Data Security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ore reluctant than ever to provide PII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-Risk level prohibited HSLS from advertising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Data Security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ce and perseveranc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procedur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 U.S. Department of Education involvemen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curity issues also emerge with stat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7: State Reluctance (Kinda)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10 states to merge state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haring of this nature is a new frontier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state and federal legal requirements and approval process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staff tim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rewar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State Reluctance (Kinda)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 and persever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state and federal SLDS staff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esence known, repeatedl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ntangible benefit more tangibl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!  Confidentiality!  Security!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52056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or Later):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Laura.LoGerfo@ed.gov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2-502-7402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s of HSLS:09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47560" y="1523520"/>
            <a:ext cx="82425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students’ trajectories from the beginning of high school to postsecondary education and/or the workplace and beyon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udents make decisions about and prepare for secondary and postsecondary courses, majors, career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what factors influence students’ persistence in STEM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SLS:09 Overview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0640" y="1318680"/>
            <a:ext cx="8142480" cy="538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4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0+ public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0 Catholic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70 other private high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21,000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of students have parent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have school counselor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% have school administrator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have math or science teacher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7775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1:  Fall Data Collection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27764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ime among secondary longitudinal studi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ing unstable during summer and fall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osters unstable in early fall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ime to set logistic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face busy fall schedules 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5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Fall Data Collection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4360" y="127764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school recruitmen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st knowledgeable staff to work as School Coordinator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school staff for info frequentl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interruption, maximize suppor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7623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2:  School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ow school response rat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cited barriers to participation: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LB exhaustion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studies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/burden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7623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School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5964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 and persever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burden on school staff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and be very flexibl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loca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ck on school doors – Show up!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chool repor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8423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3:  Computer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chool computer lab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ght with perilous problems to securit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technology requirements / resourc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miliarity with computer-based testing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84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Computer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15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jour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IT coordinator in advanc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aturals at computer-based testing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simply respond Y/N to questions for set-up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-up laptops offered to reluctant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1:28:51Z</dcterms:created>
  <dc:creator>Grover J. Whitehurst</dc:creator>
  <dc:description/>
  <dc:language>en-US</dc:language>
  <cp:lastModifiedBy>Jdabrowski</cp:lastModifiedBy>
  <dcterms:modified xsi:type="dcterms:W3CDTF">2010-07-02T16:10:47Z</dcterms:modified>
  <cp:revision>447</cp:revision>
  <dc:subject/>
  <dc:title>Evidence-based Education</dc:title>
</cp:coreProperties>
</file>