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192B-C26F-48F5-9AB1-4F208798D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DB0F-45FF-45A5-8793-C0CC6948C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8D43-1889-4551-8E0D-6A94E6170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&gt; Explain setting! Then strate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- COMPARE “SIMILAR” STUDENTS IS THE K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– DON’T DROP NON-COMPLETERS – BIAS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– Limitation: students on the margin of the cutoff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aramond"/>
              </a:rPr>
              <a:t>Retesting: </a:t>
            </a:r>
            <a:r>
              <a:rPr b="0" lang="en-US" sz="800" spc="-1" strike="noStrike">
                <a:solidFill>
                  <a:srgbClr val="000000"/>
                </a:solidFill>
                <a:latin typeface="Garamond"/>
                <a:ea typeface="Times New Roman"/>
              </a:rPr>
              <a:t>some students may be permitted to take the  placement exam multiple times to pass out of the cours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aramond"/>
              </a:rPr>
              <a:t>Problem A:</a:t>
            </a:r>
            <a:r>
              <a:rPr b="0" lang="en-US" sz="1500" spc="-1" strike="noStrike">
                <a:solidFill>
                  <a:srgbClr val="000000"/>
                </a:solidFill>
                <a:latin typeface="Garamond"/>
              </a:rPr>
              <a:t> Re-taking might invalidates the key identifying assumption behind the RD design (i.e. students around the cutoff ar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Garamond"/>
              </a:rPr>
              <a:t>similar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500" spc="-1" strike="noStrike">
                <a:solidFill>
                  <a:srgbClr val="000000"/>
                </a:solidFill>
                <a:latin typeface="Garamond"/>
              </a:rPr>
              <a:t>). Results will be subject to selection bias.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aramond"/>
                <a:ea typeface="SimSun"/>
              </a:rPr>
              <a:t>Problem B</a:t>
            </a:r>
            <a:r>
              <a:rPr b="0" lang="en-US" sz="1500" spc="-1" strike="noStrike">
                <a:solidFill>
                  <a:srgbClr val="000000"/>
                </a:solidFill>
                <a:latin typeface="Garamond"/>
                <a:ea typeface="SimSun"/>
              </a:rPr>
              <a:t>: No information on a student’s multiple test attempts; only the score used for placement is includ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aramond"/>
                <a:ea typeface="Times New Roman"/>
              </a:rPr>
              <a:t>Solution-Intuition</a:t>
            </a:r>
            <a:r>
              <a:rPr b="0" lang="en-US" sz="1500" spc="-1" strike="noStrike">
                <a:solidFill>
                  <a:srgbClr val="000000"/>
                </a:solidFill>
                <a:latin typeface="Garamond"/>
                <a:ea typeface="Times New Roman"/>
              </a:rPr>
              <a:t>: Identify colleges where retesting is allowed, and drop them from the sampl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ntion cutoff – cutoff used for credit score applica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’ll use this exogenous force to solve the selection problem and predict outcomes, and not to look at the place of the cutoff – talk about this l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C820-05BB-43B7-83CA-470D42A0F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F408-C26C-47C5-9072-58286E3B8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11BB-D6D2-4178-9784-CD50317D3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B6E6-3915-4343-B0C0-2F19C1895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1C30D62-6A28-4F76-9F7A-6B55D748BE1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3915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3915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7" descr="smallicon2"/>
          <p:cNvPicPr/>
          <p:nvPr/>
        </p:nvPicPr>
        <p:blipFill>
          <a:blip r:embed="rId2"/>
          <a:stretch/>
        </p:blipFill>
        <p:spPr>
          <a:xfrm>
            <a:off x="76320" y="6010200"/>
            <a:ext cx="688680" cy="77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2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" name="Picture 23" descr="abr_header3"/>
          <p:cNvPicPr/>
          <p:nvPr/>
        </p:nvPicPr>
        <p:blipFill>
          <a:blip r:embed="rId2"/>
          <a:stretch/>
        </p:blipFill>
        <p:spPr>
          <a:xfrm>
            <a:off x="152280" y="5791320"/>
            <a:ext cx="8610840" cy="873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3505320" y="4647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268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Georgia"/>
              </a:rPr>
              <a:t>Does Remediation Help All Students?</a:t>
            </a:r>
            <a:br>
              <a:rPr sz="4200"/>
            </a:br>
            <a:br>
              <a:rPr sz="600"/>
            </a:br>
            <a:r>
              <a:rPr b="1" i="1" lang="en-US" sz="3400" spc="-1" strike="noStrike">
                <a:solidFill>
                  <a:srgbClr val="333399"/>
                </a:solidFill>
                <a:latin typeface="Georgia"/>
              </a:rPr>
              <a:t>How the Effects of Postsecondary Developmental Courses Vary by Background and Ability</a:t>
            </a:r>
            <a:r>
              <a:rPr b="0" lang="en-US" sz="4400" spc="-1" strike="noStrike">
                <a:solidFill>
                  <a:srgbClr val="333399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7760" y="3352680"/>
            <a:ext cx="60195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dget Terry Lo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gela Boatm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vard Graduate School of Edu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S Confer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D #1: Effects of Recommendation to 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velop. Algebra II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–vs–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66ff"/>
                </a:solidFill>
                <a:latin typeface="Times New Roman"/>
              </a:rPr>
              <a:t>College-Level Math</a:t>
            </a:r>
            <a:endParaRPr b="0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04920" y="95868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Credits Accumulated Over Three Yea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Object 9"/>
          <p:cNvGraphicFramePr/>
          <p:nvPr/>
        </p:nvGraphicFramePr>
        <p:xfrm>
          <a:off x="0" y="1447920"/>
          <a:ext cx="8278920" cy="492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827892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AutoShape 12"/>
          <p:cNvSpPr/>
          <p:nvPr/>
        </p:nvSpPr>
        <p:spPr>
          <a:xfrm>
            <a:off x="7924680" y="220968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8153280" y="2057400"/>
            <a:ext cx="990720" cy="87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Diff in College Cred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429000" y="1600200"/>
            <a:ext cx="2666880" cy="66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Not much Difference in Total Credi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853400" cy="58672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D #1: Effects of Recommendation to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velop. Algebra II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–vs–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66ff"/>
                </a:solidFill>
                <a:latin typeface="Times New Roman"/>
              </a:rPr>
              <a:t>College-Level Math</a:t>
            </a:r>
            <a:endParaRPr b="0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4419720" y="2971800"/>
            <a:ext cx="990360" cy="16765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Line 11"/>
          <p:cNvSpPr/>
          <p:nvPr/>
        </p:nvSpPr>
        <p:spPr>
          <a:xfrm flipV="1">
            <a:off x="4952880" y="152352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5257800" y="4343400"/>
            <a:ext cx="2819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Palatino Linotype"/>
              </a:rPr>
              <a:t>Negative Effects in Cumulative College Cred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Straight Connector 42"/>
          <p:cNvSpPr/>
          <p:nvPr/>
        </p:nvSpPr>
        <p:spPr>
          <a:xfrm flipV="1">
            <a:off x="4343400" y="441936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Palatino Linotype"/>
              </a:rPr>
              <a:t>RD #3:</a:t>
            </a:r>
            <a:r>
              <a:rPr b="1" lang="en-US" sz="3000" spc="-1" strike="noStrike">
                <a:solidFill>
                  <a:srgbClr val="333399"/>
                </a:solidFill>
                <a:latin typeface="Palatino Linotype"/>
              </a:rPr>
              <a:t> </a:t>
            </a:r>
            <a:r>
              <a:rPr b="1" lang="en-US" sz="3000" spc="-1" strike="noStrike">
                <a:solidFill>
                  <a:srgbClr val="ff3399"/>
                </a:solidFill>
                <a:latin typeface="Palatino Linotype"/>
              </a:rPr>
              <a:t>Remedial Arithmetic </a:t>
            </a:r>
            <a:r>
              <a:rPr b="1" lang="en-US" sz="3000" spc="-1" strike="noStrike">
                <a:solidFill>
                  <a:srgbClr val="000000"/>
                </a:solidFill>
                <a:latin typeface="Palatino Linotype"/>
              </a:rPr>
              <a:t>vs.</a:t>
            </a:r>
            <a:r>
              <a:rPr b="1" lang="en-US" sz="3000" spc="-1" strike="noStrike">
                <a:solidFill>
                  <a:srgbClr val="333399"/>
                </a:solidFill>
                <a:latin typeface="Palatino Linotype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Palatino Linotype"/>
              </a:rPr>
              <a:t>Develop Algebra I</a:t>
            </a:r>
            <a:endParaRPr b="0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533520" y="1752480"/>
            <a:ext cx="1904760" cy="51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SS Arithmetic t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33520" y="1143000"/>
            <a:ext cx="1904760" cy="51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SS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II t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2438280" y="1447920"/>
            <a:ext cx="30492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2514600" y="2057400"/>
            <a:ext cx="297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5715000" y="609480"/>
            <a:ext cx="0" cy="1600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2895480" y="1295280"/>
            <a:ext cx="5932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3048120" y="609480"/>
            <a:ext cx="11430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4419720" y="609480"/>
            <a:ext cx="1143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. Alg I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5867280" y="685800"/>
            <a:ext cx="1143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33"/>
                </a:solidFill>
                <a:latin typeface="Arial"/>
              </a:rPr>
              <a:t>Devel. Alg 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7238880" y="685800"/>
            <a:ext cx="12956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99"/>
                </a:solidFill>
                <a:latin typeface="Arial"/>
              </a:rPr>
              <a:t>Rem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99"/>
                </a:solidFill>
                <a:latin typeface="Arial"/>
              </a:rPr>
              <a:t>Ari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7162920" y="1828800"/>
            <a:ext cx="1371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Score 0-2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5638680" y="1828800"/>
            <a:ext cx="1524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Score 30-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5638680" y="1371600"/>
            <a:ext cx="1524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 0-2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4191120" y="1371600"/>
            <a:ext cx="1523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 28-4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2743200" y="1371600"/>
            <a:ext cx="1752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 50-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9"/>
          <p:cNvSpPr/>
          <p:nvPr/>
        </p:nvSpPr>
        <p:spPr>
          <a:xfrm>
            <a:off x="7162920" y="609480"/>
            <a:ext cx="0" cy="1676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20"/>
          <p:cNvSpPr/>
          <p:nvPr/>
        </p:nvSpPr>
        <p:spPr>
          <a:xfrm>
            <a:off x="4267080" y="609480"/>
            <a:ext cx="0" cy="1524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21"/>
          <p:cNvSpPr/>
          <p:nvPr/>
        </p:nvSpPr>
        <p:spPr>
          <a:xfrm>
            <a:off x="5715000" y="1752480"/>
            <a:ext cx="2971800" cy="457200"/>
          </a:xfrm>
          <a:prstGeom prst="rect">
            <a:avLst/>
          </a:prstGeom>
          <a:noFill/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23"/>
          <p:cNvSpPr/>
          <p:nvPr/>
        </p:nvSpPr>
        <p:spPr>
          <a:xfrm>
            <a:off x="5715000" y="609480"/>
            <a:ext cx="2895480" cy="160020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9" name="Object 31"/>
          <p:cNvGraphicFramePr/>
          <p:nvPr/>
        </p:nvGraphicFramePr>
        <p:xfrm>
          <a:off x="533520" y="2262240"/>
          <a:ext cx="8610480" cy="459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62240"/>
                    <a:ext cx="8610480" cy="45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Rectangle 23"/>
          <p:cNvSpPr/>
          <p:nvPr/>
        </p:nvSpPr>
        <p:spPr>
          <a:xfrm>
            <a:off x="4800600" y="3124080"/>
            <a:ext cx="13716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5"/>
          <p:cNvSpPr/>
          <p:nvPr/>
        </p:nvSpPr>
        <p:spPr>
          <a:xfrm>
            <a:off x="4800600" y="4343400"/>
            <a:ext cx="13716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eorgia"/>
              </a:rPr>
              <a:t>Math Developmental/Remedial Education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685800" y="685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Total College Credits Completed after 3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5" name="Object 28"/>
          <p:cNvGraphicFramePr/>
          <p:nvPr/>
        </p:nvGraphicFramePr>
        <p:xfrm>
          <a:off x="196920" y="1254240"/>
          <a:ext cx="8762760" cy="551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1254240"/>
                    <a:ext cx="8762760" cy="55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30"/>
          <p:cNvSpPr/>
          <p:nvPr/>
        </p:nvSpPr>
        <p:spPr>
          <a:xfrm>
            <a:off x="6477120" y="2057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aller in Magnitu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23"/>
          <p:cNvSpPr/>
          <p:nvPr/>
        </p:nvSpPr>
        <p:spPr>
          <a:xfrm>
            <a:off x="2286000" y="2362320"/>
            <a:ext cx="6172200" cy="609480"/>
          </a:xfrm>
          <a:prstGeom prst="rect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23"/>
          <p:cNvSpPr/>
          <p:nvPr/>
        </p:nvSpPr>
        <p:spPr>
          <a:xfrm>
            <a:off x="2438280" y="5029200"/>
            <a:ext cx="3505320" cy="609480"/>
          </a:xfrm>
          <a:prstGeom prst="rect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23"/>
          <p:cNvSpPr/>
          <p:nvPr/>
        </p:nvSpPr>
        <p:spPr>
          <a:xfrm>
            <a:off x="7010280" y="3733920"/>
            <a:ext cx="1371600" cy="609480"/>
          </a:xfrm>
          <a:prstGeom prst="rect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eorgia"/>
              </a:rPr>
              <a:t>College-Level vs. Developmental vs. Remedial Writing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2" name="Rectangle 65"/>
          <p:cNvSpPr/>
          <p:nvPr/>
        </p:nvSpPr>
        <p:spPr>
          <a:xfrm>
            <a:off x="304920" y="3276720"/>
            <a:ext cx="8534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Georgia"/>
              </a:rPr>
              <a:t>RD #2: Develop. vs. Remedial Writing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3" name="Object 66"/>
          <p:cNvGraphicFramePr/>
          <p:nvPr/>
        </p:nvGraphicFramePr>
        <p:xfrm>
          <a:off x="0" y="3746520"/>
          <a:ext cx="9261360" cy="311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4" name="Object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46520"/>
                    <a:ext cx="9261360" cy="31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Line 68"/>
          <p:cNvSpPr/>
          <p:nvPr/>
        </p:nvSpPr>
        <p:spPr>
          <a:xfrm flipV="1">
            <a:off x="7315200" y="2362320"/>
            <a:ext cx="0" cy="761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3352680" y="914400"/>
            <a:ext cx="19051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4952880" y="990720"/>
            <a:ext cx="25146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al Writ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7086600" y="990720"/>
            <a:ext cx="1828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edial Writ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3505320" y="1676520"/>
            <a:ext cx="5410080" cy="457200"/>
          </a:xfrm>
          <a:prstGeom prst="rect">
            <a:avLst/>
          </a:prstGeom>
          <a:noFill/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505320" y="1752480"/>
            <a:ext cx="1752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 68-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7467480" y="1752480"/>
            <a:ext cx="1371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 0-2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5486400" y="1752480"/>
            <a:ext cx="1752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 28-6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295280" y="1600200"/>
            <a:ext cx="1905120" cy="51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SS English t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Text Box 4" descr=""/>
          <p:cNvPicPr/>
          <p:nvPr/>
        </p:nvPicPr>
        <p:blipFill>
          <a:blip r:embed="rId3"/>
          <a:stretch/>
        </p:blipFill>
        <p:spPr>
          <a:xfrm>
            <a:off x="433440" y="1584360"/>
            <a:ext cx="590400" cy="1708200"/>
          </a:xfrm>
          <a:prstGeom prst="rect">
            <a:avLst/>
          </a:prstGeom>
          <a:ln w="0">
            <a:noFill/>
          </a:ln>
        </p:spPr>
      </p:pic>
      <p:sp>
        <p:nvSpPr>
          <p:cNvPr id="255" name="Line 6"/>
          <p:cNvSpPr/>
          <p:nvPr/>
        </p:nvSpPr>
        <p:spPr>
          <a:xfrm>
            <a:off x="3200400" y="1905120"/>
            <a:ext cx="380880" cy="14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6"/>
          <p:cNvSpPr/>
          <p:nvPr/>
        </p:nvSpPr>
        <p:spPr>
          <a:xfrm>
            <a:off x="990720" y="1905120"/>
            <a:ext cx="30456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990720" y="2666880"/>
            <a:ext cx="35812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Line 20"/>
          <p:cNvSpPr/>
          <p:nvPr/>
        </p:nvSpPr>
        <p:spPr>
          <a:xfrm>
            <a:off x="5181480" y="1066680"/>
            <a:ext cx="0" cy="1905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7315200" y="1066680"/>
            <a:ext cx="0" cy="1295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23"/>
          <p:cNvSpPr/>
          <p:nvPr/>
        </p:nvSpPr>
        <p:spPr>
          <a:xfrm>
            <a:off x="5181480" y="990720"/>
            <a:ext cx="3733920" cy="121896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7848720" y="4495680"/>
            <a:ext cx="121896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4343400" y="5943600"/>
            <a:ext cx="220968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4343400" y="4495680"/>
            <a:ext cx="220968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Georgia"/>
              </a:rPr>
              <a:t>Grade in first college-level course</a:t>
            </a:r>
            <a:endParaRPr b="0" lang="en-US" sz="3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65" name="Object 4"/>
          <p:cNvGraphicFramePr/>
          <p:nvPr/>
        </p:nvGraphicFramePr>
        <p:xfrm>
          <a:off x="90360" y="841320"/>
          <a:ext cx="8961480" cy="49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841320"/>
                    <a:ext cx="8961480" cy="49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4"/>
          <p:cNvSpPr/>
          <p:nvPr/>
        </p:nvSpPr>
        <p:spPr>
          <a:xfrm>
            <a:off x="7620120" y="2666880"/>
            <a:ext cx="121896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095880" y="3657600"/>
            <a:ext cx="152424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7620120" y="4648320"/>
            <a:ext cx="121896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990720" y="5715000"/>
            <a:ext cx="754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Not causal analysis, but interesting estimates…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5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Georgia"/>
              </a:rPr>
              <a:t>Summary of Tennessee Results</a:t>
            </a:r>
            <a:endParaRPr b="0" lang="en-US" sz="3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457200" y="914400"/>
            <a:ext cx="8381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erally negative effects if placed in a lower math class, but the size of the effect is </a:t>
            </a:r>
            <a:r>
              <a:rPr b="1" lang="en-US" sz="2800" spc="-1" strike="noStrike">
                <a:solidFill>
                  <a:srgbClr val="333399"/>
                </a:solidFill>
                <a:latin typeface="Palatino Linotype"/>
              </a:rPr>
              <a:t>smaller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farther down the test score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imilar effects found for Developmental and Remedial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Writing, the effects are </a:t>
            </a:r>
            <a:r>
              <a:rPr b="1" lang="en-US" sz="2800" spc="-1" strike="noStrike">
                <a:solidFill>
                  <a:srgbClr val="333399"/>
                </a:solidFill>
                <a:latin typeface="Palatino Linotype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t the college/developmental threshold but </a:t>
            </a:r>
            <a:r>
              <a:rPr b="1" lang="en-US" sz="2800" spc="-1" strike="noStrike">
                <a:solidFill>
                  <a:srgbClr val="333399"/>
                </a:solidFill>
                <a:latin typeface="Palatino Linotype"/>
              </a:rPr>
              <a:t>positiv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t the developmental/remedial thresh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Palatino Linotype"/>
              </a:rPr>
              <a:t>Positiv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effects on first college-level grade (though these results are not caus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838080" y="228600"/>
            <a:ext cx="7469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Implications and Remaining Ques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609480" y="1219320"/>
            <a:ext cx="8077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medial and Developmental courses do not affect all types of students equally (by background, ability level, or college leve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at is the best way to offer remediation? Characteristics of strong remedial program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at are the effects of limitations states impose on remedial course-taking (e.g., only at CCs, time limits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arly Placement Testing – a preventative measur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762120" y="228600"/>
            <a:ext cx="7468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609480" y="1219320"/>
            <a:ext cx="8305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f. Bridget Terry Long, Ph.D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rvard Graduate School of Education, NCPR, and NB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ngbr@gse.harvard.edu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gela Boatman, Doctoral Candida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rvard Graduate School of Educa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gela_boatman@mail.harvard.edu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eorgia"/>
              </a:rPr>
              <a:t>Florida Remediation Studie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320040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evelopmental courses at the community colle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ll schools use the same placement instrument and have the same cutoff for plac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490680" y="4419720"/>
            <a:ext cx="8348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Florida Administrative Dataset: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ample: All first-time, degree-seeking CC students who began in Fall 1997, 1998, 1999, or 2000 (over 100,000 record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28600" y="344520"/>
            <a:ext cx="88390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Georgia"/>
              </a:rPr>
              <a:t>Remedial and Developmental          Postsecondary Cours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57200" y="99072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Lack of academic prep is a significant barrier to success 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Nationally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approx.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40%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of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alatino Linotype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year students are placed into college remediation (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55-60%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t CC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How should this problem be addres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914400" y="5791320"/>
            <a:ext cx="80773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an Carlos Calcagno and B.T. Long – "The Impact of Postsecondary Remediation Using a Regression Discontinuity Approach: Addressing Endogenous Sorting &amp; Noncompliance“ and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Does Remediation Help All Students? The Heterogeneous Effects of Postsecondary Developmental Course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52280" y="763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eorgia"/>
              </a:rPr>
              <a:t>Regression Discontinuity: </a:t>
            </a:r>
            <a:r>
              <a:rPr b="1" i="1" lang="en-US" sz="3200" spc="-1" strike="noStrike">
                <a:solidFill>
                  <a:srgbClr val="333399"/>
                </a:solidFill>
                <a:latin typeface="Georgia"/>
              </a:rPr>
              <a:t>The Intu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143000" y="716760"/>
            <a:ext cx="6781680" cy="34092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600" rIns="48600" tIns="24120" bIns="2412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Palatino Linotype"/>
              </a:rPr>
              <a:t>Beth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1" lang="en-US" sz="2400" spc="-1" strike="noStrike">
                <a:solidFill>
                  <a:srgbClr val="33cc33"/>
                </a:solidFill>
                <a:latin typeface="Palatino Linotype"/>
              </a:rPr>
              <a:t>Becky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are observationally simi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1676520" y="4238640"/>
            <a:ext cx="5800320" cy="2466720"/>
            <a:chOff x="1676520" y="4238640"/>
            <a:chExt cx="5800320" cy="2466720"/>
          </a:xfrm>
        </p:grpSpPr>
        <p:sp>
          <p:nvSpPr>
            <p:cNvPr id="99" name="Rectangle 5"/>
            <p:cNvSpPr/>
            <p:nvPr/>
          </p:nvSpPr>
          <p:spPr>
            <a:xfrm>
              <a:off x="1676520" y="6227280"/>
              <a:ext cx="5800320" cy="47808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120" bIns="24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29b"/>
                  </a:solidFill>
                  <a:latin typeface="Palatino Linotype"/>
                </a:rPr>
                <a:t>Compare the outcomes of Beth &amp; Beck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Line 6"/>
            <p:cNvSpPr/>
            <p:nvPr/>
          </p:nvSpPr>
          <p:spPr>
            <a:xfrm>
              <a:off x="4564800" y="4238640"/>
              <a:ext cx="1440" cy="173916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1" name="Group 7"/>
          <p:cNvGrpSpPr/>
          <p:nvPr/>
        </p:nvGrpSpPr>
        <p:grpSpPr>
          <a:xfrm>
            <a:off x="1384200" y="1143000"/>
            <a:ext cx="6235560" cy="945720"/>
            <a:chOff x="1384200" y="1143000"/>
            <a:chExt cx="6235560" cy="945720"/>
          </a:xfrm>
        </p:grpSpPr>
        <p:sp>
          <p:nvSpPr>
            <p:cNvPr id="102" name="Rectangle 8"/>
            <p:cNvSpPr/>
            <p:nvPr/>
          </p:nvSpPr>
          <p:spPr>
            <a:xfrm>
              <a:off x="1384200" y="1504440"/>
              <a:ext cx="6235560" cy="58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8600" rIns="48600" tIns="24120" bIns="2412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Palatino Linotype"/>
                </a:rPr>
                <a:t>Beth</a:t>
              </a:r>
              <a:r>
                <a:rPr b="1" lang="en-US" sz="2200" spc="-1" strike="noStrike">
                  <a:solidFill>
                    <a:srgbClr val="000000"/>
                  </a:solidFill>
                  <a:latin typeface="Palatino Linotype"/>
                </a:rPr>
                <a:t> and </a:t>
              </a:r>
              <a:r>
                <a:rPr b="1" lang="en-US" sz="2200" spc="-1" strike="noStrike">
                  <a:solidFill>
                    <a:srgbClr val="33cc33"/>
                  </a:solidFill>
                  <a:latin typeface="Palatino Linotype"/>
                </a:rPr>
                <a:t>Becky</a:t>
              </a:r>
              <a:r>
                <a:rPr b="1" lang="en-US" sz="2200" spc="-1" strike="noStrike">
                  <a:solidFill>
                    <a:srgbClr val="000000"/>
                  </a:solidFill>
                  <a:latin typeface="Palatino Linotype"/>
                </a:rPr>
                <a:t> both take the College Placement Test (CPT)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Line 9"/>
            <p:cNvSpPr/>
            <p:nvPr/>
          </p:nvSpPr>
          <p:spPr>
            <a:xfrm>
              <a:off x="4495680" y="1143000"/>
              <a:ext cx="0" cy="2934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4" name="Group 10"/>
          <p:cNvGrpSpPr/>
          <p:nvPr/>
        </p:nvGrpSpPr>
        <p:grpSpPr>
          <a:xfrm>
            <a:off x="1839960" y="2139840"/>
            <a:ext cx="5540040" cy="1207800"/>
            <a:chOff x="1839960" y="2139840"/>
            <a:chExt cx="5540040" cy="1207800"/>
          </a:xfrm>
        </p:grpSpPr>
        <p:sp>
          <p:nvSpPr>
            <p:cNvPr id="105" name="Line 11"/>
            <p:cNvSpPr/>
            <p:nvPr/>
          </p:nvSpPr>
          <p:spPr>
            <a:xfrm flipH="1">
              <a:off x="3581280" y="2139840"/>
              <a:ext cx="533520" cy="29376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1839960" y="2495520"/>
              <a:ext cx="2412720" cy="85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8600" rIns="48600" tIns="24120" bIns="2412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Palatino Linotype"/>
                </a:rPr>
                <a:t>Beth</a:t>
              </a:r>
              <a:r>
                <a:rPr b="1" lang="en-US" sz="2200" spc="-1" strike="noStrike">
                  <a:solidFill>
                    <a:srgbClr val="000000"/>
                  </a:solidFill>
                  <a:latin typeface="Palatino Linotype"/>
                </a:rPr>
                <a:t> scores </a:t>
              </a:r>
              <a:r>
                <a:rPr b="1" lang="en-US" sz="2200" spc="-1" strike="noStrike">
                  <a:solidFill>
                    <a:srgbClr val="3333cc"/>
                  </a:solidFill>
                  <a:latin typeface="Palatino Linotype"/>
                </a:rPr>
                <a:t>just above</a:t>
              </a:r>
              <a:r>
                <a:rPr b="1" lang="en-US" sz="2200" spc="-1" strike="noStrike">
                  <a:solidFill>
                    <a:srgbClr val="000000"/>
                  </a:solidFill>
                  <a:latin typeface="Palatino Linotype"/>
                </a:rPr>
                <a:t> the cut-off score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Text Box 13"/>
            <p:cNvSpPr/>
            <p:nvPr/>
          </p:nvSpPr>
          <p:spPr>
            <a:xfrm>
              <a:off x="4859280" y="2495520"/>
              <a:ext cx="2520720" cy="85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8600" rIns="48600" tIns="24120" bIns="2412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cc33"/>
                  </a:solidFill>
                  <a:latin typeface="Palatino Linotype"/>
                </a:rPr>
                <a:t>Becky</a:t>
              </a:r>
              <a:r>
                <a:rPr b="1" lang="en-US" sz="2200" spc="-1" strike="noStrike">
                  <a:solidFill>
                    <a:srgbClr val="000000"/>
                  </a:solidFill>
                  <a:latin typeface="Palatino Linotype"/>
                </a:rPr>
                <a:t> scores </a:t>
              </a:r>
              <a:r>
                <a:rPr b="1" lang="en-US" sz="2200" spc="-1" strike="noStrike">
                  <a:solidFill>
                    <a:srgbClr val="3333cc"/>
                  </a:solidFill>
                  <a:latin typeface="Palatino Linotype"/>
                </a:rPr>
                <a:t>just below</a:t>
              </a:r>
              <a:r>
                <a:rPr b="1" lang="en-US" sz="2200" spc="-1" strike="noStrike">
                  <a:solidFill>
                    <a:srgbClr val="000000"/>
                  </a:solidFill>
                  <a:latin typeface="Palatino Linotype"/>
                </a:rPr>
                <a:t> the cut-off score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Line 14"/>
            <p:cNvSpPr/>
            <p:nvPr/>
          </p:nvSpPr>
          <p:spPr>
            <a:xfrm>
              <a:off x="5181480" y="2139840"/>
              <a:ext cx="380880" cy="34308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9" name="Group 15"/>
          <p:cNvGrpSpPr/>
          <p:nvPr/>
        </p:nvGrpSpPr>
        <p:grpSpPr>
          <a:xfrm>
            <a:off x="609480" y="3352680"/>
            <a:ext cx="8076960" cy="660240"/>
            <a:chOff x="609480" y="3352680"/>
            <a:chExt cx="8076960" cy="660240"/>
          </a:xfrm>
        </p:grpSpPr>
        <p:sp>
          <p:nvSpPr>
            <p:cNvPr id="110" name="Rectangle 16"/>
            <p:cNvSpPr/>
            <p:nvPr/>
          </p:nvSpPr>
          <p:spPr>
            <a:xfrm>
              <a:off x="609480" y="3657600"/>
              <a:ext cx="3687480" cy="35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120" bIns="2412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Palatino Linotype"/>
                </a:rPr>
                <a:t>Beth</a:t>
              </a:r>
              <a:r>
                <a:rPr b="1" lang="en-US" sz="2200" spc="-1" strike="noStrike">
                  <a:solidFill>
                    <a:srgbClr val="000000"/>
                  </a:solidFill>
                  <a:latin typeface="Palatino Linotype"/>
                </a:rPr>
                <a:t> to college-level courses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Rectangle 17"/>
            <p:cNvSpPr/>
            <p:nvPr/>
          </p:nvSpPr>
          <p:spPr>
            <a:xfrm>
              <a:off x="4998960" y="3657600"/>
              <a:ext cx="3687480" cy="35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120" bIns="2412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cc33"/>
                  </a:solidFill>
                  <a:latin typeface="Palatino Linotype"/>
                </a:rPr>
                <a:t>Becky</a:t>
              </a:r>
              <a:r>
                <a:rPr b="1" lang="en-US" sz="2200" spc="-1" strike="noStrike">
                  <a:solidFill>
                    <a:srgbClr val="000000"/>
                  </a:solidFill>
                  <a:latin typeface="Palatino Linotype"/>
                </a:rPr>
                <a:t> to remediation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Line 18"/>
            <p:cNvSpPr/>
            <p:nvPr/>
          </p:nvSpPr>
          <p:spPr>
            <a:xfrm>
              <a:off x="2804400" y="3352680"/>
              <a:ext cx="0" cy="2286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Line 19"/>
            <p:cNvSpPr/>
            <p:nvPr/>
          </p:nvSpPr>
          <p:spPr>
            <a:xfrm>
              <a:off x="6491880" y="3352680"/>
              <a:ext cx="0" cy="2286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4" name="Text Box 20"/>
          <p:cNvSpPr/>
          <p:nvPr/>
        </p:nvSpPr>
        <p:spPr>
          <a:xfrm>
            <a:off x="762120" y="5181480"/>
            <a:ext cx="3124080" cy="89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Palatino Linotype"/>
              </a:rPr>
              <a:t>Endogenous Sorting</a:t>
            </a:r>
            <a:r>
              <a:rPr b="1" lang="en-US" sz="2200" spc="-1" strike="noStrike">
                <a:solidFill>
                  <a:srgbClr val="3333cc"/>
                </a:solidFill>
                <a:latin typeface="Palatino Linotype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Palatino Linotype"/>
              </a:rPr>
              <a:t>Beth</a:t>
            </a:r>
            <a:r>
              <a:rPr b="1" lang="en-US" sz="2200" spc="-1" strike="noStrike">
                <a:solidFill>
                  <a:srgbClr val="3333cc"/>
                </a:solidFill>
                <a:latin typeface="Palatino Linotype"/>
              </a:rPr>
              <a:t> retests to place out of remedi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685800" y="4191120"/>
            <a:ext cx="3124080" cy="89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Palatino Linotype"/>
              </a:rPr>
              <a:t>Crossover</a:t>
            </a:r>
            <a:r>
              <a:rPr b="1" lang="en-US" sz="2200" spc="-1" strike="noStrike">
                <a:solidFill>
                  <a:srgbClr val="3333cc"/>
                </a:solidFill>
                <a:latin typeface="Palatino Linotype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Palatino Linotype"/>
              </a:rPr>
              <a:t>Beth</a:t>
            </a:r>
            <a:r>
              <a:rPr b="1" lang="en-US" sz="2200" spc="-1" strike="noStrike">
                <a:solidFill>
                  <a:srgbClr val="3333cc"/>
                </a:solidFill>
                <a:latin typeface="Palatino Linotype"/>
              </a:rPr>
              <a:t> takes remediation anyw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5257800" y="4191120"/>
            <a:ext cx="3048120" cy="89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Palatino Linotype"/>
              </a:rPr>
              <a:t>No Show</a:t>
            </a:r>
            <a:r>
              <a:rPr b="1" lang="en-US" sz="2200" spc="-1" strike="noStrike">
                <a:solidFill>
                  <a:srgbClr val="3333cc"/>
                </a:solidFill>
                <a:latin typeface="Palatino Linotype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cc33"/>
                </a:solidFill>
                <a:latin typeface="Palatino Linotype"/>
              </a:rPr>
              <a:t>Becky</a:t>
            </a:r>
            <a:r>
              <a:rPr b="1" lang="en-US" sz="2200" spc="-1" strike="noStrike">
                <a:solidFill>
                  <a:srgbClr val="3333cc"/>
                </a:solidFill>
                <a:latin typeface="Palatino Linotype"/>
              </a:rPr>
              <a:t> never enrolls in remedi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371600" y="5479920"/>
            <a:ext cx="67816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latino Linotype"/>
                <a:ea typeface="Times New Roman"/>
              </a:rPr>
              <a:t>Negative Effects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on Passing First College-Level Cou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rcRect l="1787" t="6838" r="65255" b="51293"/>
          <a:stretch/>
        </p:blipFill>
        <p:spPr>
          <a:xfrm>
            <a:off x="2057400" y="1219320"/>
            <a:ext cx="4419720" cy="4105080"/>
          </a:xfrm>
          <a:prstGeom prst="rect">
            <a:avLst/>
          </a:prstGeom>
          <a:ln w="0">
            <a:noFill/>
          </a:ln>
        </p:spPr>
      </p:pic>
      <p:sp>
        <p:nvSpPr>
          <p:cNvPr id="119" name="Oval 4"/>
          <p:cNvSpPr/>
          <p:nvPr/>
        </p:nvSpPr>
        <p:spPr>
          <a:xfrm>
            <a:off x="4267080" y="1828800"/>
            <a:ext cx="990720" cy="838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819520" y="3656160"/>
            <a:ext cx="17524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Placed in Developmental Rea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800600" y="3657600"/>
            <a:ext cx="14479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Placed in College Leve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28600" y="122400"/>
            <a:ext cx="85345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Georgia"/>
                <a:ea typeface="Times New Roman"/>
              </a:rPr>
              <a:t>Passing the First College-Level Course</a:t>
            </a:r>
            <a:r>
              <a:rPr b="1" lang="en-US" sz="3000" spc="-1" strike="noStrike">
                <a:solidFill>
                  <a:srgbClr val="003366"/>
                </a:solidFill>
                <a:latin typeface="Georgia"/>
                <a:ea typeface="Times New Roman"/>
              </a:rPr>
              <a:t> by Reading CPT Score at the Discontinuity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295280" y="5791320"/>
            <a:ext cx="7086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latino Linotype"/>
                <a:ea typeface="Times New Roman"/>
              </a:rPr>
              <a:t>Positive Effects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on Total Credits 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rcRect l="66146" t="6838" r="0" b="51293"/>
          <a:stretch/>
        </p:blipFill>
        <p:spPr>
          <a:xfrm>
            <a:off x="2133720" y="1219320"/>
            <a:ext cx="4724280" cy="4275000"/>
          </a:xfrm>
          <a:prstGeom prst="rect">
            <a:avLst/>
          </a:prstGeom>
          <a:ln w="0">
            <a:noFill/>
          </a:ln>
        </p:spPr>
      </p:pic>
      <p:sp>
        <p:nvSpPr>
          <p:cNvPr id="125" name="Oval 4"/>
          <p:cNvSpPr/>
          <p:nvPr/>
        </p:nvSpPr>
        <p:spPr>
          <a:xfrm>
            <a:off x="4343400" y="2666880"/>
            <a:ext cx="990720" cy="99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09480" y="152280"/>
            <a:ext cx="80010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Georgia"/>
                <a:ea typeface="Times New Roman"/>
              </a:rPr>
              <a:t>Total Credits Earned</a:t>
            </a:r>
            <a:r>
              <a:rPr b="1" lang="en-US" sz="3000" spc="-1" strike="noStrike">
                <a:solidFill>
                  <a:srgbClr val="003366"/>
                </a:solidFill>
                <a:latin typeface="Georgia"/>
                <a:ea typeface="Times New Roman"/>
              </a:rPr>
              <a:t> by Reading CPT Score at the Discontinuity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895480" y="4040280"/>
            <a:ext cx="17528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Placed in Developmental Rea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4876920" y="4041720"/>
            <a:ext cx="14475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Placed in College Leve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Florida Remediation Studi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609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alatino Linotype"/>
              </a:rPr>
              <a:t>Being assigned to a developmental course appears to increase total credits completed for students on the margin of passing out of the requirement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alatino Linotype"/>
              </a:rPr>
              <a:t>Does not increase the completion of college-level credits or eventual degree completion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Palatino Linotype"/>
              </a:rPr>
              <a:t>Remediation might promote early persistence but does not necessarily help students </a:t>
            </a:r>
            <a:r>
              <a:rPr b="0" i="1" lang="en-US" sz="2500" spc="-1" strike="noStrike">
                <a:solidFill>
                  <a:srgbClr val="000000"/>
                </a:solidFill>
                <a:latin typeface="Palatino Linotype"/>
              </a:rPr>
              <a:t>on the margin of passing the cutoff</a:t>
            </a:r>
            <a:r>
              <a:rPr b="0" lang="en-US" sz="2500" spc="-1" strike="noStrike">
                <a:solidFill>
                  <a:srgbClr val="000000"/>
                </a:solidFill>
                <a:latin typeface="Palatino Linotype"/>
              </a:rPr>
              <a:t> to make long-term progres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533520" y="4038480"/>
            <a:ext cx="86104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69372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What about students of different backgrounds?</a:t>
            </a:r>
            <a:r>
              <a:rPr b="1" i="1" lang="en-US" sz="26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Palatino Linotype"/>
              </a:rPr>
              <a:t>The effects were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69372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ＭＳ Ｐゴシック"/>
              </a:rPr>
              <a:t>More positive for female (compared to male), older (compared to younger), and LEP (compared to non-LE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69372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ＭＳ Ｐゴシック"/>
              </a:rPr>
              <a:t>More negative for low-income student (compared to non-Pell-eligib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74600"/>
            <a:ext cx="815328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Georgia"/>
              </a:rPr>
              <a:t>Does remediation work for students with </a:t>
            </a:r>
            <a:r>
              <a:rPr b="1" i="1" lang="en-US" sz="3400" spc="-1" strike="noStrike">
                <a:solidFill>
                  <a:srgbClr val="333399"/>
                </a:solidFill>
                <a:latin typeface="Georgia"/>
              </a:rPr>
              <a:t>far less</a:t>
            </a:r>
            <a:r>
              <a:rPr b="1" lang="en-US" sz="3400" spc="-1" strike="noStrike">
                <a:solidFill>
                  <a:srgbClr val="333399"/>
                </a:solidFill>
                <a:latin typeface="Georgia"/>
              </a:rPr>
              <a:t> preparation?</a:t>
            </a:r>
            <a:endParaRPr b="0" lang="en-US" sz="3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buClr>
                <a:srgbClr val="3333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Past studies (FL, OH, TX) focus on students on the </a:t>
            </a:r>
            <a:r>
              <a:rPr b="0" i="1" lang="en-US" sz="2600" spc="-1" strike="noStrike">
                <a:solidFill>
                  <a:srgbClr val="000000"/>
                </a:solidFill>
                <a:latin typeface="Palatino Linotype"/>
              </a:rPr>
              <a:t>margin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 of needing remediation -- they do not investigate the effects of remediation on students who are </a:t>
            </a:r>
            <a:r>
              <a:rPr b="1" lang="en-US" sz="2600" spc="-1" strike="noStrike">
                <a:solidFill>
                  <a:srgbClr val="000000"/>
                </a:solidFill>
                <a:latin typeface="Palatino Linotype"/>
              </a:rPr>
              <a:t>extremely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 under-prepared (i.e. don’t have an appropriate control grou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57200" y="3048120"/>
            <a:ext cx="8077320" cy="32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Georgia"/>
                <a:ea typeface="Times New Roman"/>
              </a:rPr>
              <a:t>The Tennessee Case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326"/>
              </a:spcBef>
              <a:buClr>
                <a:srgbClr val="3333cc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Multiple cutoffs and changes in placement policy over tim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Investigate effects of different levels of remediation using multiple RD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301"/>
              </a:spcBef>
              <a:buClr>
                <a:srgbClr val="3333cc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Palatino Linotype"/>
              </a:rPr>
              <a:t>Sample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:  Fulltime students  under 21 who began at a TN public college or university in the fall of 2000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914400" y="5861160"/>
            <a:ext cx="822960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Palatino Linotype"/>
              </a:rPr>
              <a:t>“</a:t>
            </a:r>
            <a:r>
              <a:rPr b="0" lang="en-US" sz="2200" spc="-1" strike="noStrike">
                <a:solidFill>
                  <a:srgbClr val="333399"/>
                </a:solidFill>
                <a:latin typeface="Palatino Linotype"/>
              </a:rPr>
              <a:t>Does Remediation Work for All Students? How Remedial and Developmental Courses Affect Students With Different Levels of Academic Preparation” – A. Boatman and B.T. Lo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457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66"/>
                </a:solidFill>
                <a:latin typeface="Georgia"/>
              </a:rPr>
              <a:t>Remediation in Tennessee</a:t>
            </a:r>
            <a:endParaRPr b="0" lang="en-US" sz="3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762120" y="1066680"/>
            <a:ext cx="213336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Times New Roman"/>
              </a:rPr>
              <a:t>ACT/SAT score determines which placement exam (if any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00400" y="3200400"/>
            <a:ext cx="243828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w Cen MT"/>
                <a:ea typeface="Times New Roman"/>
              </a:rPr>
              <a:t>Take COMPASS Arithmetic ex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581280" y="1676520"/>
            <a:ext cx="21337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w Cen MT"/>
                <a:ea typeface="Times New Roman"/>
              </a:rPr>
              <a:t>Take COMPASS Algebra ex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6"/>
          <p:cNvSpPr/>
          <p:nvPr/>
        </p:nvSpPr>
        <p:spPr>
          <a:xfrm flipV="1">
            <a:off x="2743200" y="2133360"/>
            <a:ext cx="914400" cy="2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2666880" y="2590920"/>
            <a:ext cx="762120" cy="58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8"/>
          <p:cNvSpPr/>
          <p:nvPr/>
        </p:nvSpPr>
        <p:spPr>
          <a:xfrm flipV="1">
            <a:off x="2743200" y="637920"/>
            <a:ext cx="358128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248520" y="2286000"/>
            <a:ext cx="236196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w Cen MT"/>
                <a:ea typeface="Times New Roman"/>
              </a:rPr>
              <a:t>Take Developmental Algebra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6400800" y="152280"/>
            <a:ext cx="21337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w Cen MT"/>
                <a:ea typeface="Times New Roman"/>
              </a:rPr>
              <a:t>Go to College-level cour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6324480" y="3429000"/>
            <a:ext cx="23623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w Cen MT"/>
                <a:ea typeface="Times New Roman"/>
              </a:rPr>
              <a:t>Take Remedial Arithme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Line 12"/>
          <p:cNvSpPr/>
          <p:nvPr/>
        </p:nvSpPr>
        <p:spPr>
          <a:xfrm flipV="1">
            <a:off x="5562720" y="1676520"/>
            <a:ext cx="914400" cy="333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13"/>
          <p:cNvSpPr/>
          <p:nvPr/>
        </p:nvSpPr>
        <p:spPr>
          <a:xfrm flipV="1">
            <a:off x="5562720" y="866520"/>
            <a:ext cx="1066680" cy="1143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14"/>
          <p:cNvSpPr/>
          <p:nvPr/>
        </p:nvSpPr>
        <p:spPr>
          <a:xfrm>
            <a:off x="5562720" y="2009880"/>
            <a:ext cx="914400" cy="790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5486400" y="3610080"/>
            <a:ext cx="990720" cy="199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16"/>
          <p:cNvSpPr/>
          <p:nvPr/>
        </p:nvSpPr>
        <p:spPr>
          <a:xfrm flipV="1">
            <a:off x="5486400" y="3000240"/>
            <a:ext cx="914400" cy="6098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6248520" y="1143000"/>
            <a:ext cx="236196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w Cen MT"/>
                <a:ea typeface="Times New Roman"/>
              </a:rPr>
              <a:t>Take Developmental Algebra 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762120" y="6111720"/>
            <a:ext cx="1904760" cy="51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SS Arithmetic t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838080" y="5349960"/>
            <a:ext cx="1752840" cy="5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SS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II t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21"/>
          <p:cNvSpPr/>
          <p:nvPr/>
        </p:nvSpPr>
        <p:spPr>
          <a:xfrm>
            <a:off x="2590920" y="5654520"/>
            <a:ext cx="398520" cy="18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2666880" y="6340320"/>
            <a:ext cx="31244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23"/>
          <p:cNvSpPr/>
          <p:nvPr/>
        </p:nvSpPr>
        <p:spPr>
          <a:xfrm>
            <a:off x="5867280" y="4664160"/>
            <a:ext cx="0" cy="2041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24"/>
          <p:cNvSpPr/>
          <p:nvPr/>
        </p:nvSpPr>
        <p:spPr>
          <a:xfrm>
            <a:off x="2971800" y="542592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25"/>
          <p:cNvSpPr/>
          <p:nvPr/>
        </p:nvSpPr>
        <p:spPr>
          <a:xfrm>
            <a:off x="3352680" y="4664160"/>
            <a:ext cx="11430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olle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4648320" y="4664160"/>
            <a:ext cx="1143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Devel. Alg I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27"/>
          <p:cNvSpPr/>
          <p:nvPr/>
        </p:nvSpPr>
        <p:spPr>
          <a:xfrm>
            <a:off x="6019920" y="4664160"/>
            <a:ext cx="1143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33"/>
                </a:solidFill>
                <a:latin typeface="Arial"/>
              </a:rPr>
              <a:t>Devel. Alg 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7391520" y="4664160"/>
            <a:ext cx="12952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Rem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Ari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29"/>
          <p:cNvSpPr/>
          <p:nvPr/>
        </p:nvSpPr>
        <p:spPr>
          <a:xfrm>
            <a:off x="7315200" y="6111720"/>
            <a:ext cx="1371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Score 0-2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30"/>
          <p:cNvSpPr/>
          <p:nvPr/>
        </p:nvSpPr>
        <p:spPr>
          <a:xfrm>
            <a:off x="5791320" y="6111720"/>
            <a:ext cx="1676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Score 30-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5867280" y="5502240"/>
            <a:ext cx="1524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Score 0-2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32"/>
          <p:cNvSpPr/>
          <p:nvPr/>
        </p:nvSpPr>
        <p:spPr>
          <a:xfrm>
            <a:off x="4419720" y="5502240"/>
            <a:ext cx="1523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core 28-4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33"/>
          <p:cNvSpPr/>
          <p:nvPr/>
        </p:nvSpPr>
        <p:spPr>
          <a:xfrm>
            <a:off x="2971800" y="5502240"/>
            <a:ext cx="1752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ore 50-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34"/>
          <p:cNvSpPr/>
          <p:nvPr/>
        </p:nvSpPr>
        <p:spPr>
          <a:xfrm>
            <a:off x="7391520" y="4664160"/>
            <a:ext cx="0" cy="1965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35"/>
          <p:cNvSpPr/>
          <p:nvPr/>
        </p:nvSpPr>
        <p:spPr>
          <a:xfrm>
            <a:off x="4495680" y="4664160"/>
            <a:ext cx="0" cy="1965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2971800" y="5425920"/>
            <a:ext cx="4343400" cy="457200"/>
          </a:xfrm>
          <a:prstGeom prst="rect">
            <a:avLst/>
          </a:prstGeom>
          <a:noFill/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5867280" y="6035760"/>
            <a:ext cx="2819520" cy="487440"/>
          </a:xfrm>
          <a:prstGeom prst="rect">
            <a:avLst/>
          </a:prstGeom>
          <a:noFill/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Palatino Linotype"/>
              </a:rPr>
              <a:t>RD #1:</a:t>
            </a:r>
            <a:r>
              <a:rPr b="1" lang="en-US" sz="3000" spc="-1" strike="noStrike">
                <a:solidFill>
                  <a:srgbClr val="333399"/>
                </a:solidFill>
                <a:latin typeface="Palatino Linotype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Palatino Linotype"/>
              </a:rPr>
              <a:t>Developmental Algebra II</a:t>
            </a:r>
            <a:r>
              <a:rPr b="1" lang="en-US" sz="3000" spc="-1" strike="noStrike">
                <a:solidFill>
                  <a:srgbClr val="333399"/>
                </a:solidFill>
                <a:latin typeface="Palatino Linotype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Palatino Linotype"/>
              </a:rPr>
              <a:t>vs.</a:t>
            </a:r>
            <a:r>
              <a:rPr b="1" lang="en-US" sz="3000" spc="-1" strike="noStrike">
                <a:solidFill>
                  <a:srgbClr val="333399"/>
                </a:solidFill>
                <a:latin typeface="Palatino Linotype"/>
              </a:rPr>
              <a:t> </a:t>
            </a:r>
            <a:r>
              <a:rPr b="1" lang="en-US" sz="3000" spc="-1" strike="noStrike">
                <a:solidFill>
                  <a:srgbClr val="0066ff"/>
                </a:solidFill>
                <a:latin typeface="Palatino Linotype"/>
              </a:rPr>
              <a:t>College-level </a:t>
            </a:r>
            <a:endParaRPr b="0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52280" y="1752480"/>
            <a:ext cx="1905120" cy="51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ASS Arithmetic te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52280" y="1143000"/>
            <a:ext cx="1905120" cy="51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ASS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II te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Line 6"/>
          <p:cNvSpPr/>
          <p:nvPr/>
        </p:nvSpPr>
        <p:spPr>
          <a:xfrm>
            <a:off x="2057400" y="1523880"/>
            <a:ext cx="380880" cy="18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Line 7"/>
          <p:cNvSpPr/>
          <p:nvPr/>
        </p:nvSpPr>
        <p:spPr>
          <a:xfrm>
            <a:off x="2057400" y="1905120"/>
            <a:ext cx="327672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Line 8"/>
          <p:cNvSpPr/>
          <p:nvPr/>
        </p:nvSpPr>
        <p:spPr>
          <a:xfrm>
            <a:off x="5410080" y="762120"/>
            <a:ext cx="0" cy="14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2362320" y="1219320"/>
            <a:ext cx="5932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2514600" y="609480"/>
            <a:ext cx="13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Colle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4191120" y="609480"/>
            <a:ext cx="1143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vel. Alg 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5638680" y="609480"/>
            <a:ext cx="1143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. Alg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7010280" y="609480"/>
            <a:ext cx="129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6934320" y="1730520"/>
            <a:ext cx="1371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 0-2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5334120" y="1730520"/>
            <a:ext cx="1676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 30-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5410080" y="1295280"/>
            <a:ext cx="1524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 0-2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3886200" y="1295280"/>
            <a:ext cx="1523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ore 28-4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2362320" y="1295280"/>
            <a:ext cx="1752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Score 50-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19"/>
          <p:cNvSpPr/>
          <p:nvPr/>
        </p:nvSpPr>
        <p:spPr>
          <a:xfrm>
            <a:off x="6934320" y="762120"/>
            <a:ext cx="0" cy="1371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0"/>
          <p:cNvSpPr/>
          <p:nvPr/>
        </p:nvSpPr>
        <p:spPr>
          <a:xfrm>
            <a:off x="3962520" y="762120"/>
            <a:ext cx="0" cy="1371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9" name="Object 32"/>
          <p:cNvGraphicFramePr/>
          <p:nvPr/>
        </p:nvGraphicFramePr>
        <p:xfrm>
          <a:off x="431640" y="2293920"/>
          <a:ext cx="8331480" cy="46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2293920"/>
                    <a:ext cx="8331480" cy="46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23"/>
          <p:cNvSpPr/>
          <p:nvPr/>
        </p:nvSpPr>
        <p:spPr>
          <a:xfrm>
            <a:off x="2438280" y="609480"/>
            <a:ext cx="2971800" cy="106704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4572000" y="3200400"/>
            <a:ext cx="13716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24"/>
          <p:cNvSpPr/>
          <p:nvPr/>
        </p:nvSpPr>
        <p:spPr>
          <a:xfrm>
            <a:off x="4495680" y="5562720"/>
            <a:ext cx="13716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25"/>
          <p:cNvSpPr/>
          <p:nvPr/>
        </p:nvSpPr>
        <p:spPr>
          <a:xfrm>
            <a:off x="6705720" y="3200400"/>
            <a:ext cx="129528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26"/>
          <p:cNvSpPr/>
          <p:nvPr/>
        </p:nvSpPr>
        <p:spPr>
          <a:xfrm>
            <a:off x="6629400" y="5562720"/>
            <a:ext cx="129528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9:02:09Z</dcterms:created>
  <dc:creator>American Institutes for Research</dc:creator>
  <dc:description/>
  <dc:language>en-US</dc:language>
  <cp:lastModifiedBy>Authorised User</cp:lastModifiedBy>
  <dcterms:modified xsi:type="dcterms:W3CDTF">2010-07-06T12:57:00Z</dcterms:modified>
  <cp:revision>126</cp:revision>
  <dc:subject/>
  <dc:title>Higher Education Outcomes and Temporal Dependence</dc:title>
</cp:coreProperties>
</file>