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DD54-3550-450E-BC32-A0729456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DC5-B04E-4207-A1B9-C4EB6A8E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F5CD-80A4-4A6F-B1F0-73510862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&gt; Explain setting! Then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COMPARE “SIMILAR” STUDENTS IS THE 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– DON’T DROP NON-COMPLETERS – BIAS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– Limitation: students on the margin of the cutoff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testing: 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  <a:ea typeface="Times New Roman"/>
              </a:rPr>
              <a:t>some students may be permitted to take the  placement exam multiple times to pass out of the cours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Problem A: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 Re-taking might invalidates the key identifying assumption behind the RD design (i.e. students around the cutoff a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simil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). Results will be subject to selection bias.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SimSun"/>
              </a:rPr>
              <a:t>Problem B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  <a:ea typeface="SimSun"/>
              </a:rPr>
              <a:t>: No information on a student’s multiple test attempts; only the score used for placement is inclu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Times New Roman"/>
              </a:rPr>
              <a:t>Solution-Intuition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  <a:ea typeface="Times New Roman"/>
              </a:rPr>
              <a:t>: Identify colleges where retesting is allowed, and drop them from the samp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ion cutoff – cutoff used for credit score applic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’ll use this exogenous force to solve the selection problem and predict outcomes, and not to look at the place of the cutoff – talk about this l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D960-C564-4A9A-9820-866297BE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912E-0600-4DE5-AB33-F3E12FAC1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917-6989-48C1-840B-4B8EF333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734-ACC1-480B-9A02-F346986A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FD1546-AF9D-400A-96C1-65E579A0B9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eorgia"/>
              </a:rPr>
              <a:t>Does Remediation Help All Students?</a:t>
            </a:r>
            <a:br>
              <a:rPr sz="4200"/>
            </a:br>
            <a:br>
              <a:rPr sz="600"/>
            </a:br>
            <a:r>
              <a:rPr b="1" i="1" lang="en-US" sz="3400" spc="-1" strike="noStrike">
                <a:solidFill>
                  <a:srgbClr val="333399"/>
                </a:solidFill>
                <a:latin typeface="Georgia"/>
              </a:rPr>
              <a:t>How the Effects of Postsecondary Developmental Courses Vary by Background and Ability</a:t>
            </a: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7760" y="3352680"/>
            <a:ext cx="60195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et Terry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gela Boat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vard Graduate School of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S Con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 #1: Effects of Recommendation to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velop. Algebra II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vs–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College-Level Mat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586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Credits Accumulated Over Three Yea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9"/>
          <p:cNvGraphicFramePr/>
          <p:nvPr/>
        </p:nvGraphicFramePr>
        <p:xfrm>
          <a:off x="0" y="1447920"/>
          <a:ext cx="82789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278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12"/>
          <p:cNvSpPr/>
          <p:nvPr/>
        </p:nvSpPr>
        <p:spPr>
          <a:xfrm>
            <a:off x="7924680" y="22096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153280" y="2057400"/>
            <a:ext cx="990720" cy="87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iff in College Cred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429000" y="1600200"/>
            <a:ext cx="2666880" cy="66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Not much Difference in Total Cred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53400" cy="58672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D #1: Effects of Recommendation to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velop. Algebra II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vs–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College-Level Math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4419720" y="2971800"/>
            <a:ext cx="990360" cy="16765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4952880" y="15235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257800" y="4343400"/>
            <a:ext cx="281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Palatino Linotype"/>
              </a:rPr>
              <a:t>Negative Effects in Cumulative College Cred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42"/>
          <p:cNvSpPr/>
          <p:nvPr/>
        </p:nvSpPr>
        <p:spPr>
          <a:xfrm flipV="1">
            <a:off x="43434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RD #3: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ff3399"/>
                </a:solidFill>
                <a:latin typeface="Palatino Linotype"/>
              </a:rPr>
              <a:t>Remedial Arithmetic 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vs.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Palatino Linotype"/>
              </a:rPr>
              <a:t>Develop Algebra I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3520" y="114300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438280" y="1447920"/>
            <a:ext cx="30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2514600" y="2057400"/>
            <a:ext cx="297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715000" y="609480"/>
            <a:ext cx="0" cy="160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895480" y="1295280"/>
            <a:ext cx="593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048120" y="609480"/>
            <a:ext cx="1143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419720" y="60948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. Alg 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867280" y="68580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Arial"/>
              </a:rPr>
              <a:t>Devel. Alg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7238880" y="685800"/>
            <a:ext cx="1295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Arial"/>
              </a:rPr>
              <a:t>Rem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Arial"/>
              </a:rPr>
              <a:t>Ari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7162920" y="182880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5638680" y="182880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Score 30-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5638680" y="137160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4191120" y="137160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2743200" y="137160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7162920" y="609480"/>
            <a:ext cx="0" cy="1676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4267080" y="609480"/>
            <a:ext cx="0" cy="1524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715000" y="1752480"/>
            <a:ext cx="297180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715000" y="609480"/>
            <a:ext cx="2895480" cy="160020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31"/>
          <p:cNvGraphicFramePr/>
          <p:nvPr/>
        </p:nvGraphicFramePr>
        <p:xfrm>
          <a:off x="533520" y="2262240"/>
          <a:ext cx="861048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62240"/>
                    <a:ext cx="86104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23"/>
          <p:cNvSpPr/>
          <p:nvPr/>
        </p:nvSpPr>
        <p:spPr>
          <a:xfrm>
            <a:off x="4800600" y="312408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4800600" y="434340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Math Developmental/Remedial Educatio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Total College Credits Completed after 3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Object 28"/>
          <p:cNvGraphicFramePr/>
          <p:nvPr/>
        </p:nvGraphicFramePr>
        <p:xfrm>
          <a:off x="196920" y="1254240"/>
          <a:ext cx="8762760" cy="551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254240"/>
                    <a:ext cx="876276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30"/>
          <p:cNvSpPr/>
          <p:nvPr/>
        </p:nvSpPr>
        <p:spPr>
          <a:xfrm>
            <a:off x="6477120" y="2057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in Magnitu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2286000" y="2362320"/>
            <a:ext cx="617220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2438280" y="5029200"/>
            <a:ext cx="350532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7010280" y="3733920"/>
            <a:ext cx="1371600" cy="60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College-Level vs. Developmental vs. Remedial Writ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Rectangle 65"/>
          <p:cNvSpPr/>
          <p:nvPr/>
        </p:nvSpPr>
        <p:spPr>
          <a:xfrm>
            <a:off x="304920" y="3276720"/>
            <a:ext cx="8534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Georgia"/>
              </a:rPr>
              <a:t>RD #2: Develop. vs. Remedial Wri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66"/>
          <p:cNvGraphicFramePr/>
          <p:nvPr/>
        </p:nvGraphicFramePr>
        <p:xfrm>
          <a:off x="0" y="3746520"/>
          <a:ext cx="9261360" cy="31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46520"/>
                    <a:ext cx="92613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68"/>
          <p:cNvSpPr/>
          <p:nvPr/>
        </p:nvSpPr>
        <p:spPr>
          <a:xfrm flipV="1">
            <a:off x="7315200" y="2362320"/>
            <a:ext cx="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352680" y="914400"/>
            <a:ext cx="1905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4952880" y="990720"/>
            <a:ext cx="25146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al Wri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7086600" y="990720"/>
            <a:ext cx="1828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edial Wri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3505320" y="1676520"/>
            <a:ext cx="541008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505320" y="17524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68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7467480" y="175248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5486400" y="17524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28-6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295280" y="160020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English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Text Box 4" descr=""/>
          <p:cNvPicPr/>
          <p:nvPr/>
        </p:nvPicPr>
        <p:blipFill>
          <a:blip r:embed="rId3"/>
          <a:stretch/>
        </p:blipFill>
        <p:spPr>
          <a:xfrm>
            <a:off x="433440" y="1584360"/>
            <a:ext cx="590400" cy="1708200"/>
          </a:xfrm>
          <a:prstGeom prst="rect">
            <a:avLst/>
          </a:prstGeom>
          <a:ln w="0">
            <a:noFill/>
          </a:ln>
        </p:spPr>
      </p:pic>
      <p:sp>
        <p:nvSpPr>
          <p:cNvPr id="255" name="Line 6"/>
          <p:cNvSpPr/>
          <p:nvPr/>
        </p:nvSpPr>
        <p:spPr>
          <a:xfrm>
            <a:off x="3200400" y="1905120"/>
            <a:ext cx="380880" cy="14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990720" y="1905120"/>
            <a:ext cx="3045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990720" y="2666880"/>
            <a:ext cx="3581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5181480" y="1066680"/>
            <a:ext cx="0" cy="190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7315200" y="1066680"/>
            <a:ext cx="0" cy="129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5181480" y="990720"/>
            <a:ext cx="3733920" cy="121896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7848720" y="4495680"/>
            <a:ext cx="12189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343400" y="5943600"/>
            <a:ext cx="22096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343400" y="4495680"/>
            <a:ext cx="220968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Grade in first college-level course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90360" y="841320"/>
          <a:ext cx="8961480" cy="49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841320"/>
                    <a:ext cx="89614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4"/>
          <p:cNvSpPr/>
          <p:nvPr/>
        </p:nvSpPr>
        <p:spPr>
          <a:xfrm>
            <a:off x="7620120" y="2666880"/>
            <a:ext cx="121896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5880" y="3657600"/>
            <a:ext cx="15242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7620120" y="4648320"/>
            <a:ext cx="12189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990720" y="57150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Not causal analysis, but interesting estimate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Summary of Tennessee Results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9144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ly negative effects if placed in a lower math class, but the size of the effect is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rther down the test scor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milar effects found for Developmental and Remedial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Writing, the effects are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t the college/developmental threshold but </a:t>
            </a: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t the developmental/remedial thresh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Palatino Linotype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ffects on first college-level grade (though these results are not caus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838080" y="228600"/>
            <a:ext cx="746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Implications and Remaining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medial and Developmental courses do not affect all types of students equally (by background, ability level, or college lev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the best way to offer remediation? Characteristics of strong remedial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are the effects of limitations states impose on remedial course-taking (e.g., only at CCs, time limit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Placement Testing – a preventative measu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762120" y="228600"/>
            <a:ext cx="746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09480" y="12193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f. Bridget Terry Long, Ph.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vard Graduate School of Education, NCPR, and NB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ngbr@gse.harvard.e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gela Boatman, Doctoral Candi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vard Graduate School of Educ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gela_boatman@mail.harvard.ed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Florida Remediation Studi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velopmental courses at the community col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ll schools use the same placement instrument and have the same cutoff for plac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90680" y="4419720"/>
            <a:ext cx="834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lorida Administrative Dataset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ample: All first-time, degree-seeking CC students who began in Fall 1997, 1998, 1999, or 2000 (over 100,000 recor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344520"/>
            <a:ext cx="8839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Remedial and Developmental          Postsecondary Cour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99072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ck of academic prep is a significant barrier to success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ationally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pprox.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year students are placed into college remediation (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55-60%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t C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How should this problem be addres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14400" y="5791320"/>
            <a:ext cx="80773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an Carlos Calcagno and B.T. Long – "The Impact of Postsecondary Remediation Using a Regression Discontinuity Approach: Addressing Endogenous Sorting &amp; Noncompliance“ and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Does Remediation Help All Students? The Heterogeneous Effects of Postsecondary Developmental Course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2280" y="763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eorgia"/>
              </a:rPr>
              <a:t>Regression Discontinuity: </a:t>
            </a:r>
            <a:r>
              <a:rPr b="1" i="1" lang="en-US" sz="3200" spc="-1" strike="noStrike">
                <a:solidFill>
                  <a:srgbClr val="333399"/>
                </a:solidFill>
                <a:latin typeface="Georgia"/>
              </a:rPr>
              <a:t>The Intu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716760"/>
            <a:ext cx="6781680" cy="34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600" rIns="48600" tIns="24120" bIns="2412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400" spc="-1" strike="noStrike">
                <a:solidFill>
                  <a:srgbClr val="33cc33"/>
                </a:solidFill>
                <a:latin typeface="Palatino Linotype"/>
              </a:rPr>
              <a:t>Becky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are observationally simi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1676520" y="4238640"/>
            <a:ext cx="5800320" cy="2466720"/>
            <a:chOff x="1676520" y="4238640"/>
            <a:chExt cx="5800320" cy="2466720"/>
          </a:xfrm>
        </p:grpSpPr>
        <p:sp>
          <p:nvSpPr>
            <p:cNvPr id="99" name="Rectangle 5"/>
            <p:cNvSpPr/>
            <p:nvPr/>
          </p:nvSpPr>
          <p:spPr>
            <a:xfrm>
              <a:off x="1676520" y="6227280"/>
              <a:ext cx="5800320" cy="47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29b"/>
                  </a:solidFill>
                  <a:latin typeface="Palatino Linotype"/>
                </a:rPr>
                <a:t>Compare the outcomes of Beth &amp; Beck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4564800" y="4238640"/>
              <a:ext cx="1440" cy="17391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384200" y="1143000"/>
            <a:ext cx="6235560" cy="945720"/>
            <a:chOff x="1384200" y="1143000"/>
            <a:chExt cx="6235560" cy="945720"/>
          </a:xfrm>
        </p:grpSpPr>
        <p:sp>
          <p:nvSpPr>
            <p:cNvPr id="102" name="Rectangle 8"/>
            <p:cNvSpPr/>
            <p:nvPr/>
          </p:nvSpPr>
          <p:spPr>
            <a:xfrm>
              <a:off x="1384200" y="1504440"/>
              <a:ext cx="6235560" cy="58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and </a:t>
              </a: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both take the College Placement Test (CPT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4495680" y="1143000"/>
              <a:ext cx="0" cy="293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1839960" y="2139840"/>
            <a:ext cx="5540040" cy="1207800"/>
            <a:chOff x="1839960" y="2139840"/>
            <a:chExt cx="5540040" cy="1207800"/>
          </a:xfrm>
        </p:grpSpPr>
        <p:sp>
          <p:nvSpPr>
            <p:cNvPr id="105" name="Line 11"/>
            <p:cNvSpPr/>
            <p:nvPr/>
          </p:nvSpPr>
          <p:spPr>
            <a:xfrm flipH="1">
              <a:off x="3581280" y="2139840"/>
              <a:ext cx="533520" cy="2937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1839960" y="2495520"/>
              <a:ext cx="241272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scores </a:t>
              </a:r>
              <a:r>
                <a:rPr b="1" lang="en-US" sz="2200" spc="-1" strike="noStrike">
                  <a:solidFill>
                    <a:srgbClr val="3333cc"/>
                  </a:solidFill>
                  <a:latin typeface="Palatino Linotype"/>
                </a:rPr>
                <a:t>just above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he cut-off score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859280" y="2495520"/>
              <a:ext cx="252072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scores </a:t>
              </a:r>
              <a:r>
                <a:rPr b="1" lang="en-US" sz="2200" spc="-1" strike="noStrike">
                  <a:solidFill>
                    <a:srgbClr val="3333cc"/>
                  </a:solidFill>
                  <a:latin typeface="Palatino Linotype"/>
                </a:rPr>
                <a:t>just below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he cut-off score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>
              <a:off x="5181480" y="2139840"/>
              <a:ext cx="380880" cy="34308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609480" y="3352680"/>
            <a:ext cx="8076960" cy="660240"/>
            <a:chOff x="609480" y="3352680"/>
            <a:chExt cx="8076960" cy="660240"/>
          </a:xfrm>
        </p:grpSpPr>
        <p:sp>
          <p:nvSpPr>
            <p:cNvPr id="110" name="Rectangle 16"/>
            <p:cNvSpPr/>
            <p:nvPr/>
          </p:nvSpPr>
          <p:spPr>
            <a:xfrm>
              <a:off x="609480" y="3657600"/>
              <a:ext cx="36874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Palatino Linotype"/>
                </a:rPr>
                <a:t>Beth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o college-level courses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4998960" y="3657600"/>
              <a:ext cx="36874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Palatino Linotype"/>
                </a:rPr>
                <a:t>Becky</a:t>
              </a:r>
              <a:r>
                <a:rPr b="1" lang="en-US" sz="2200" spc="-1" strike="noStrike">
                  <a:solidFill>
                    <a:srgbClr val="000000"/>
                  </a:solidFill>
                  <a:latin typeface="Palatino Linotype"/>
                </a:rPr>
                <a:t> to remediatio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2804400" y="3352680"/>
              <a:ext cx="0" cy="2286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>
              <a:off x="6491880" y="3352680"/>
              <a:ext cx="0" cy="2286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Text Box 20"/>
          <p:cNvSpPr/>
          <p:nvPr/>
        </p:nvSpPr>
        <p:spPr>
          <a:xfrm>
            <a:off x="762120" y="5181480"/>
            <a:ext cx="312408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Endogenous Sorting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retests to place out of remedi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85800" y="4191120"/>
            <a:ext cx="312408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Crossover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Palatino Linotype"/>
              </a:rPr>
              <a:t>Beth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takes remediation anyw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5257800" y="4191120"/>
            <a:ext cx="3048120" cy="8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Palatino Linotype"/>
              </a:rPr>
              <a:t>No Show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Palatino Linotype"/>
              </a:rPr>
              <a:t>Becky</a:t>
            </a:r>
            <a:r>
              <a:rPr b="1" lang="en-US" sz="2200" spc="-1" strike="noStrike">
                <a:solidFill>
                  <a:srgbClr val="3333cc"/>
                </a:solidFill>
                <a:latin typeface="Palatino Linotype"/>
              </a:rPr>
              <a:t> never enrolls in remedi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5479920"/>
            <a:ext cx="6781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Negative Effect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on Passing First College-Level Cou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1787" t="6838" r="65255" b="51293"/>
          <a:stretch/>
        </p:blipFill>
        <p:spPr>
          <a:xfrm>
            <a:off x="2057400" y="1219320"/>
            <a:ext cx="4419720" cy="410508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4267080" y="1828800"/>
            <a:ext cx="9907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819520" y="3656160"/>
            <a:ext cx="17524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Developmental Rea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3657600"/>
            <a:ext cx="1447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College Leve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8600" y="122400"/>
            <a:ext cx="8534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Passing the First College-Level Course</a:t>
            </a: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 by Reading CPT Score at the Discontinu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95280" y="5791320"/>
            <a:ext cx="7086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Positive Effect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on Total Credits 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66146" t="6838" r="0" b="51293"/>
          <a:stretch/>
        </p:blipFill>
        <p:spPr>
          <a:xfrm>
            <a:off x="2133720" y="1219320"/>
            <a:ext cx="4724280" cy="427500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4343400" y="2666880"/>
            <a:ext cx="99072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9480" y="152280"/>
            <a:ext cx="8001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Times New Roman"/>
              </a:rPr>
              <a:t>Total Credits Earned</a:t>
            </a: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 by Reading CPT Score at the Discontinu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895480" y="4040280"/>
            <a:ext cx="17528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Developmental Rea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876920" y="4041720"/>
            <a:ext cx="14475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laced in College Leve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Florida Remediation Stud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Being assigned to a developmental course appears to increase total credits completed for students on the margin of passing out of the requir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Does not increase the completion of college-level credits or eventual degree completio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Remediation might promote early persistence but does not necessarily help students </a:t>
            </a:r>
            <a:r>
              <a:rPr b="0" i="1" lang="en-US" sz="2500" spc="-1" strike="noStrike">
                <a:solidFill>
                  <a:srgbClr val="000000"/>
                </a:solidFill>
                <a:latin typeface="Palatino Linotype"/>
              </a:rPr>
              <a:t>on the margin of passing the cutoff</a:t>
            </a:r>
            <a:r>
              <a:rPr b="0" lang="en-US" sz="2500" spc="-1" strike="noStrike">
                <a:solidFill>
                  <a:srgbClr val="000000"/>
                </a:solidFill>
                <a:latin typeface="Palatino Linotype"/>
              </a:rPr>
              <a:t> to make long-term progres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33520" y="40384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What about students of different backgrounds?</a:t>
            </a:r>
            <a:r>
              <a:rPr b="1" i="1" lang="en-US" sz="26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The effects wer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More positive for female (compared to male), older (compared to younger), and LEP (compared to non-LE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69372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More negative for low-income student (compared to non-Pell-elig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74600"/>
            <a:ext cx="815328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Does remediation work for students with </a:t>
            </a:r>
            <a:r>
              <a:rPr b="1" i="1" lang="en-US" sz="3400" spc="-1" strike="noStrike">
                <a:solidFill>
                  <a:srgbClr val="333399"/>
                </a:solidFill>
                <a:latin typeface="Georgia"/>
              </a:rPr>
              <a:t>far less</a:t>
            </a:r>
            <a:r>
              <a:rPr b="1" lang="en-US" sz="3400" spc="-1" strike="noStrike">
                <a:solidFill>
                  <a:srgbClr val="333399"/>
                </a:solidFill>
                <a:latin typeface="Georgia"/>
              </a:rPr>
              <a:t> preparation?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3333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ast studies (FL, OH, TX) focus on students on the </a:t>
            </a:r>
            <a:r>
              <a:rPr b="0" i="1" lang="en-US" sz="2600" spc="-1" strike="noStrike">
                <a:solidFill>
                  <a:srgbClr val="000000"/>
                </a:solidFill>
                <a:latin typeface="Palatino Linotype"/>
              </a:rPr>
              <a:t>margin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of needing remediation -- they do not investigate the effects of remediation on students who are </a:t>
            </a:r>
            <a:r>
              <a:rPr b="1" lang="en-US" sz="2600" spc="-1" strike="noStrike">
                <a:solidFill>
                  <a:srgbClr val="000000"/>
                </a:solidFill>
                <a:latin typeface="Palatino Linotype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under-prepared (i.e. don’t have an appropriate control gro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3048120"/>
            <a:ext cx="807732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eorgia"/>
                <a:ea typeface="Times New Roman"/>
              </a:rPr>
              <a:t>The Tennessee Cas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326"/>
              </a:spcBef>
              <a:buClr>
                <a:srgbClr val="3333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ultiple cutoffs and changes in placement policy over tim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Investigate effects of different levels of remediation using multiple R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301"/>
              </a:spcBef>
              <a:buClr>
                <a:srgbClr val="3333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alatino Linotype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:  Fulltime students  under 21 who began at a TN public college or university in the fall of 200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14400" y="5861160"/>
            <a:ext cx="82296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Palatino Linotype"/>
              </a:rPr>
              <a:t>“</a:t>
            </a:r>
            <a:r>
              <a:rPr b="0" lang="en-US" sz="2200" spc="-1" strike="noStrike">
                <a:solidFill>
                  <a:srgbClr val="333399"/>
                </a:solidFill>
                <a:latin typeface="Palatino Linotype"/>
              </a:rPr>
              <a:t>Does Remediation Work for All Students? How Remedial and Developmental Courses Affect Students With Different Levels of Academic Preparation” – A. Boatman and B.T.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Georgia"/>
              </a:rPr>
              <a:t>Remediation in Tennessee</a:t>
            </a:r>
            <a:endParaRPr b="0" lang="en-US" sz="3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066680"/>
            <a:ext cx="2133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Times New Roman"/>
              </a:rPr>
              <a:t>ACT/SAT score determines which placement exam (if any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00400" y="3200400"/>
            <a:ext cx="24382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w Cen MT"/>
                <a:ea typeface="Times New Roman"/>
              </a:rPr>
              <a:t>Take COMPASS Arithmetic ex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581280" y="1676520"/>
            <a:ext cx="2133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w Cen MT"/>
                <a:ea typeface="Times New Roman"/>
              </a:rPr>
              <a:t>Take COMPASS Algebra ex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2743200" y="2133360"/>
            <a:ext cx="914400" cy="2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666880" y="2590920"/>
            <a:ext cx="76212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2743200" y="637920"/>
            <a:ext cx="358128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248520" y="2286000"/>
            <a:ext cx="23619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w Cen MT"/>
                <a:ea typeface="Times New Roman"/>
              </a:rPr>
              <a:t>Take Developmental Algebra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400800" y="152280"/>
            <a:ext cx="213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w Cen MT"/>
                <a:ea typeface="Times New Roman"/>
              </a:rPr>
              <a:t>Go to College-level 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324480" y="3429000"/>
            <a:ext cx="23623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w Cen MT"/>
                <a:ea typeface="Times New Roman"/>
              </a:rPr>
              <a:t>Take Remedial Arithme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5562720" y="1676520"/>
            <a:ext cx="914400" cy="3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13"/>
          <p:cNvSpPr/>
          <p:nvPr/>
        </p:nvSpPr>
        <p:spPr>
          <a:xfrm flipV="1">
            <a:off x="5562720" y="866520"/>
            <a:ext cx="10666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5562720" y="2009880"/>
            <a:ext cx="914400" cy="790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5486400" y="3610080"/>
            <a:ext cx="990720" cy="199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5486400" y="3000240"/>
            <a:ext cx="91440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248520" y="1143000"/>
            <a:ext cx="23619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  <a:ea typeface="Times New Roman"/>
              </a:rPr>
              <a:t>Take Developmental Algebra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762120" y="6111720"/>
            <a:ext cx="190476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838080" y="5349960"/>
            <a:ext cx="17528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2590920" y="5654520"/>
            <a:ext cx="398520" cy="1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2666880" y="6340320"/>
            <a:ext cx="31244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5867280" y="4664160"/>
            <a:ext cx="0" cy="2041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2971800" y="542592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352680" y="4664160"/>
            <a:ext cx="1143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lle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4648320" y="466416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evel. Alg I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6019920" y="4664160"/>
            <a:ext cx="1143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Devel. Alg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7391520" y="4664160"/>
            <a:ext cx="129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Rem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Ari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7315200" y="611172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791320" y="6111720"/>
            <a:ext cx="167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core 3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5867280" y="550224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4419720" y="550224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2971800" y="550224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7391520" y="4664160"/>
            <a:ext cx="0" cy="1965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4495680" y="4664160"/>
            <a:ext cx="0" cy="1965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2971800" y="5425920"/>
            <a:ext cx="4343400" cy="45720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67280" y="6035760"/>
            <a:ext cx="2819520" cy="48744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RD #1: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Palatino Linotype"/>
              </a:rPr>
              <a:t>Developmental Algebra II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vs.</a:t>
            </a:r>
            <a:r>
              <a:rPr b="1" lang="en-US" sz="3000" spc="-1" strike="noStrike">
                <a:solidFill>
                  <a:srgbClr val="333399"/>
                </a:solidFill>
                <a:latin typeface="Palatino Linotype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Palatino Linotype"/>
              </a:rPr>
              <a:t>College-level </a:t>
            </a:r>
            <a:endParaRPr b="0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52280" y="175248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Arithmetic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2280" y="1143000"/>
            <a:ext cx="1905120" cy="5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ASS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II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2057400" y="1523880"/>
            <a:ext cx="380880" cy="1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2057400" y="1905120"/>
            <a:ext cx="32767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410080" y="7621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2362320" y="1219320"/>
            <a:ext cx="593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514600" y="60948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191120" y="609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vel. Alg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638680" y="609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. Alg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010280" y="609480"/>
            <a:ext cx="12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6934320" y="1730520"/>
            <a:ext cx="137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334120" y="1730520"/>
            <a:ext cx="167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3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410080" y="1295280"/>
            <a:ext cx="1524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0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886200" y="1295280"/>
            <a:ext cx="152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ore 2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2362320" y="1295280"/>
            <a:ext cx="1752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core 50-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6934320" y="76212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3962520" y="76212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32"/>
          <p:cNvGraphicFramePr/>
          <p:nvPr/>
        </p:nvGraphicFramePr>
        <p:xfrm>
          <a:off x="431640" y="2293920"/>
          <a:ext cx="8331480" cy="46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293920"/>
                    <a:ext cx="83314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3"/>
          <p:cNvSpPr/>
          <p:nvPr/>
        </p:nvSpPr>
        <p:spPr>
          <a:xfrm>
            <a:off x="2438280" y="609480"/>
            <a:ext cx="2971800" cy="106704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2000" y="320040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4495680" y="5562720"/>
            <a:ext cx="13716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705720" y="3200400"/>
            <a:ext cx="12952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6629400" y="5562720"/>
            <a:ext cx="12952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9:02:09Z</dcterms:created>
  <dc:creator>American Institutes for Research</dc:creator>
  <dc:description/>
  <dc:language>en-US</dc:language>
  <cp:lastModifiedBy>Authorised User</cp:lastModifiedBy>
  <dcterms:modified xsi:type="dcterms:W3CDTF">2010-07-06T12:57:00Z</dcterms:modified>
  <cp:revision>126</cp:revision>
  <dc:subject/>
  <dc:title>Higher Education Outcomes and Temporal Dependence</dc:title>
</cp:coreProperties>
</file>