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1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47ECB-4534-47F2-AAC4-97C40BF56F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05C07-3DFA-453C-9B54-85C44AA118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Slide Number Placeholder 3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EBDE1-5857-4AE2-8FBC-8BC1BA92F4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B4A7D-01D9-4B51-A028-C1CC09B3C0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037040"/>
            <a:ext cx="77724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0370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0370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228564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228564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03704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03704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03704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990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0370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0370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037040"/>
            <a:ext cx="77724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2856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51560" indent="-2102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472040" indent="-2102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1892520" indent="-21024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1892520" indent="-21024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1892520" indent="-21024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Picture 9" descr=""/>
          <p:cNvPicPr/>
          <p:nvPr/>
        </p:nvPicPr>
        <p:blipFill>
          <a:blip r:embed="rId2"/>
          <a:stretch/>
        </p:blipFill>
        <p:spPr>
          <a:xfrm>
            <a:off x="0" y="152280"/>
            <a:ext cx="9145440" cy="75888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4" descr=""/>
          <p:cNvPicPr/>
          <p:nvPr/>
        </p:nvPicPr>
        <p:blipFill>
          <a:blip r:embed="rId3"/>
          <a:stretch/>
        </p:blipFill>
        <p:spPr>
          <a:xfrm>
            <a:off x="457200" y="5867280"/>
            <a:ext cx="2819520" cy="685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371600"/>
            <a:ext cx="830592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Tahoma"/>
              </a:rPr>
              <a:t>Moving from Development to Efficacy &amp; </a:t>
            </a:r>
            <a:br>
              <a:rPr sz="3100"/>
            </a:br>
            <a:r>
              <a:rPr b="1" lang="en-US" sz="3100" spc="-1" strike="noStrike">
                <a:solidFill>
                  <a:srgbClr val="000000"/>
                </a:solidFill>
                <a:latin typeface="Tahoma"/>
              </a:rPr>
              <a:t>Intervention Fidelity Topics</a:t>
            </a:r>
            <a:endParaRPr b="1" lang="en-US" sz="3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52280" y="3657600"/>
            <a:ext cx="8686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National Center for Special Education Research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Grantee Meeting: June 28, 20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ahoma"/>
              </a:rPr>
              <a:t>Efficacy:  Measures</a:t>
            </a:r>
            <a:endParaRPr b="1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ess feas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ess impa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 include measures of broad educational interest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aligned and gener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 sensitive to change in performance caused by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v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 assess proximal and distal outco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 include mediators and moderat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ess fide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ahoma"/>
              </a:rPr>
              <a:t>Efficacy: Fidelity of Implementation</a:t>
            </a:r>
            <a:endParaRPr b="1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cription of the intervention should include how it will be implem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ing and measuring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uss how capture core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 and validity of measures; coding of qualitative meas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fidelity study will be implem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tors and moderators of fide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f fidelity data in impact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-360" y="76212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ahoma"/>
              </a:rPr>
              <a:t>Efficacy: Describing the Comparison Group</a:t>
            </a:r>
            <a:endParaRPr b="1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if comparison group received similar treat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all approach and/or key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fidelity study for the comparison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s, reliability &amp; valid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ten “business as usual” (define) or alternative treat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ain impac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contamination if this is a poss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ahoma"/>
              </a:rPr>
              <a:t>Efficacy: Mediating and Moderating 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Tahoma"/>
              </a:rPr>
              <a:t>Variables</a:t>
            </a:r>
            <a:endParaRPr b="1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cribed in your theory of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 how to meas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cribe method and process to collect and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asure in both treatment and comparison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Efficacy: Detailed Data Analysis</a:t>
            </a:r>
            <a:br>
              <a:rPr sz="3000"/>
            </a:b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orough description of data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in analysis,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b-analyses including mediators and moderators (fidelity levels, subgroup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w mode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dress common statistical issues: clustering of units, missing data, attrition bi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ualitative data analyses – often not describ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w that analysis fits with design and addresses research ques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conclusions drawn from res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ahoma"/>
              </a:rPr>
              <a:t>Personnel </a:t>
            </a:r>
            <a:endParaRPr b="1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men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b05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Tahoma"/>
              </a:rPr>
              <a:t>Developer plays primary ro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b05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Tahoma"/>
              </a:rPr>
              <a:t>Methodological and statistical expertise represented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tise needed in working with schools (or other study settings) and with pop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domain expert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b05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Tahoma"/>
              </a:rPr>
              <a:t>Developer role is promi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b05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Tahoma"/>
              </a:rPr>
              <a:t>Methodological and statistical expertise promi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tise needed in working with schools (or other study settings) and with pop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domain expe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ahoma"/>
              </a:rPr>
              <a:t>Resources</a:t>
            </a:r>
            <a:endParaRPr b="1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685800" y="22856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both Development and Efficacy grant applications, there need to be resources sufficient to support research activities, and provide access to settings in which research will be condu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ahoma"/>
              </a:rPr>
              <a:t>Objectives</a:t>
            </a:r>
            <a:r>
              <a:rPr b="1" lang="en-US" sz="3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1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52352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y develop interv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ather data on the </a:t>
            </a:r>
            <a:r>
              <a:rPr b="0" lang="en-US" sz="2400" spc="-1" strike="noStrike">
                <a:solidFill>
                  <a:srgbClr val="00b050"/>
                </a:solidFill>
                <a:latin typeface="Tahoma"/>
              </a:rPr>
              <a:t>feasibility of implementing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interv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pilot data on the </a:t>
            </a:r>
            <a:r>
              <a:rPr b="0" lang="en-US" sz="2400" spc="-1" strike="noStrike">
                <a:solidFill>
                  <a:srgbClr val="00b050"/>
                </a:solidFill>
                <a:latin typeface="Tahoma"/>
              </a:rPr>
              <a:t>promis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 the intervention for generating desired outco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 the </a:t>
            </a:r>
            <a:r>
              <a:rPr b="0" lang="en-US" sz="2400" spc="-1" strike="noStrike">
                <a:solidFill>
                  <a:srgbClr val="00b050"/>
                </a:solidFill>
                <a:latin typeface="Tahoma"/>
              </a:rPr>
              <a:t>strength or potency of the impact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the interv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 the </a:t>
            </a:r>
            <a:r>
              <a:rPr b="0" lang="en-US" sz="2400" spc="-1" strike="noStrike">
                <a:solidFill>
                  <a:srgbClr val="00b050"/>
                </a:solidFill>
                <a:latin typeface="Tahoma"/>
              </a:rPr>
              <a:t>degree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which the intervention can be feasibly or practically implem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ess </a:t>
            </a:r>
            <a:r>
              <a:rPr b="0" lang="en-US" sz="2400" spc="-1" strike="noStrike">
                <a:solidFill>
                  <a:srgbClr val="008000"/>
                </a:solidFill>
                <a:latin typeface="Tahoma"/>
              </a:rPr>
              <a:t>implementation fide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ahoma"/>
              </a:rPr>
              <a:t>Grant application components</a:t>
            </a:r>
            <a:endParaRPr b="1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685800" y="22856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ific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arch P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so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ahoma"/>
              </a:rPr>
              <a:t>Significance</a:t>
            </a:r>
            <a:r>
              <a:rPr b="1" lang="en-US" sz="3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1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99"/>
              </a:spcBef>
              <a:buClr>
                <a:srgbClr val="00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ahoma"/>
              </a:rPr>
              <a:t>Context for the Interv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499"/>
              </a:spcBef>
              <a:buClr>
                <a:srgbClr val="00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ahoma"/>
              </a:rPr>
              <a:t>Detailed Description of the Intervention to be develop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ory of chan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oretical and empirical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actical Import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tionale for why this grant should be fun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ahoma"/>
              </a:rPr>
              <a:t>Detailed description of developed interv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ory of Chan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ahoma"/>
              </a:rPr>
              <a:t>Justification for evaluating the interv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 Practical Import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 Rationale for grant fun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ahoma"/>
              </a:rPr>
              <a:t>Research Plan</a:t>
            </a:r>
            <a:r>
              <a:rPr b="1" lang="en-US" sz="3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1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mple and set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008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ahoma"/>
              </a:rPr>
              <a:t>Iterative development pro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008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ahoma"/>
              </a:rPr>
              <a:t>Feasibility of implemen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008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ahoma"/>
              </a:rPr>
              <a:t>Pilot stu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008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ahoma"/>
              </a:rPr>
              <a:t>Meas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1640" y="121896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1640" y="1904760"/>
            <a:ext cx="4041720" cy="395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76920" indent="-376920">
              <a:spcBef>
                <a:spcPts val="499"/>
              </a:spcBef>
              <a:buClr>
                <a:srgbClr val="008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ahoma"/>
              </a:rPr>
              <a:t>Research ques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76920" indent="-376920">
              <a:spcBef>
                <a:spcPts val="499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ample and set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76920" indent="-376920">
              <a:spcBef>
                <a:spcPts val="499"/>
              </a:spcBef>
              <a:buClr>
                <a:srgbClr val="008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ahoma"/>
              </a:rPr>
              <a:t>Detailed research desig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76920" indent="-376920">
              <a:spcBef>
                <a:spcPts val="499"/>
              </a:spcBef>
              <a:buClr>
                <a:srgbClr val="008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ahoma"/>
              </a:rPr>
              <a:t>Power Analy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76920" indent="-376920">
              <a:spcBef>
                <a:spcPts val="499"/>
              </a:spcBef>
              <a:buClr>
                <a:srgbClr val="008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ahoma"/>
              </a:rPr>
              <a:t>Measu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76920" indent="-376920">
              <a:spcBef>
                <a:spcPts val="499"/>
              </a:spcBef>
              <a:buClr>
                <a:srgbClr val="008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ahoma"/>
              </a:rPr>
              <a:t>Fidelity of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76920" indent="-376920">
              <a:spcBef>
                <a:spcPts val="499"/>
              </a:spcBef>
              <a:buClr>
                <a:srgbClr val="008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ahoma"/>
              </a:rPr>
              <a:t>Description of Comparison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76920" indent="-376920">
              <a:spcBef>
                <a:spcPts val="499"/>
              </a:spcBef>
              <a:buClr>
                <a:srgbClr val="008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ahoma"/>
              </a:rPr>
              <a:t>Mediating and Moderation Variab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76920" indent="-376920">
              <a:spcBef>
                <a:spcPts val="499"/>
              </a:spcBef>
              <a:buClr>
                <a:srgbClr val="008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ahoma"/>
              </a:rPr>
              <a:t>Data Analy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76920" indent="-376920">
              <a:spcBef>
                <a:spcPts val="499"/>
              </a:spcBef>
              <a:buClr>
                <a:srgbClr val="00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76920" indent="-3769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76920" indent="-3769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76920" indent="-3769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ahoma"/>
              </a:rPr>
              <a:t>Efficacy:  Research Questions</a:t>
            </a:r>
            <a:endParaRPr b="1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ear and conc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em from Significance s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te to design and method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onto analysis section (e.g., if subgroups are of inter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ahoma"/>
              </a:rPr>
              <a:t>Efficacy: Sample Issues</a:t>
            </a:r>
            <a:endParaRPr b="1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w that sample size is large enough to rule out that a finding of no impact is due to lack of pow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from education settings for what you are planning to do (e.g., RCT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fficient assurance that you can recruit the necessary number of participa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icacy:  Rigorous Research Desig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CT fav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- Unit of randomization and justif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- Procedures for assignmen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ong quasi-experiment - why RCT not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- How it reduces or models selection bia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- RDD, IV, strong match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- Discuss threats to internal validity that remain and how this will effect conclusions draw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ahoma"/>
              </a:rPr>
              <a:t>Efficacy: Power Analysis</a:t>
            </a:r>
            <a:endParaRPr b="1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and justify all values used in calculating pow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ethod used to calculate pow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clustering/nesting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viewers should be able to reproduce your resul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2T12:14:21Z</dcterms:created>
  <dc:creator>phoebe.cottingham</dc:creator>
  <dc:description/>
  <dc:language>en-US</dc:language>
  <cp:lastModifiedBy>Authorised User</cp:lastModifiedBy>
  <cp:lastPrinted>2006-09-17T19:55:25Z</cp:lastPrinted>
  <dcterms:modified xsi:type="dcterms:W3CDTF">2010-07-15T19:22:38Z</dcterms:modified>
  <cp:revision>227</cp:revision>
  <dc:subject/>
  <dc:title>PowerPoint Presentation</dc:title>
</cp:coreProperties>
</file>