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41BF-9AA2-4C85-B35F-DC48DE03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547-CF13-4F0D-B17E-91124BF8C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CA4-53D4-4BF1-B396-E755169C2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8A0A-4CE5-4B67-BAE9-06044018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28195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Moving from Development to Efficacy &amp;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Intervention Fidelity Topics</a:t>
            </a:r>
            <a:endParaRPr b="1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ional Center for Special Education Resear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ntee Meeting: June 28,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 Measur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fea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nclude measures of broad educational intere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ligned and gene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ensitive to change in performance caused b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ssess proximal and dist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nclude mediators and mod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Fidelity of Implementation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of the intervention should include how it will be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ing and measuring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how capture cor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and validity of measures; coding of qualitative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fidelity study will be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tors and moderators of fide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fidelity data in impac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Describing the Comparison Group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comparison group received simila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approach and/or key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delity study for the compariso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s, reliability &amp;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“business as usual” (define) or alternative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impa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contamination if this is a pos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fficacy: Mediating and Modera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d in your theory of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 how to 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method and process to collect and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 in both treatment and compariso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icacy: Detailed Data Analysis</a:t>
            </a:r>
            <a:br>
              <a:rPr sz="3000"/>
            </a:b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rough description of 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analysi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-analyses including mediators and moderators (fidelity levels, sub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 common statistical issues: clustering of units, missing data, attrition b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 data analyses – often not describ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at analysis fits with design and addresses research 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onclusions drawn from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ersonnel 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Developer plays primary r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Methodological and statistical expertise represen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ise needed in working with schools (or other study settings) and with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omain exper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Developer role is promi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Methodological and statistical expertise promi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ise needed in working with schools (or other study settings) and with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omain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both Development and Efficacy grant applications, there need to be resources sufficient to support research activities, and provide access to settings in which research will be cond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Objectives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y develop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data on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feasibility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pilot data on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promi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intervention for generating desired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strength or potency of the impa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hich the intervention can be feasibly or practically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implementation 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Grant application component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ignificance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ntext for the Inter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tailed Description of the Intervention to be devel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etical and empirica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al Impor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ionale for why this grant should be fu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tailed description of developed inter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Justification for evaluating the inter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actical Impor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ationale for grant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search Plan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 and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Iterative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easibility of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ilot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9047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Research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and se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tailed research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Power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idelity of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scription of Comparison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Mediating and Moderation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 Research Ques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and con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m from Significance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e to design and 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onto analysis section (e.g., if subgroups are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Sample Issu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that sample size is large enough to rule out that a finding of no impact is due to lack of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from education settings for what you are planning to do (e.g., R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fficient assurance that you can recruit the necessary number of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acy:  Rigorous Research 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CT fav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Unit of randomization and justif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Procedures for assign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quasi-experiment - why RCT not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How it reduces or models selection b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RDD, IV, strong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cuss threats to internal validity that remain and how this will effect conclusions draw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Power Analysi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d justify all values used in calcula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ethod used to calculate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clustering/nes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ers should be able to reproduce your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4:21Z</dcterms:created>
  <dc:creator>phoebe.cottingham</dc:creator>
  <dc:description/>
  <dc:language>en-US</dc:language>
  <cp:lastModifiedBy>Authorised User</cp:lastModifiedBy>
  <cp:lastPrinted>2006-09-17T19:55:25Z</cp:lastPrinted>
  <dcterms:modified xsi:type="dcterms:W3CDTF">2010-07-15T19:22:38Z</dcterms:modified>
  <cp:revision>227</cp:revision>
  <dc:subject/>
  <dc:title>PowerPoint Presentation</dc:title>
</cp:coreProperties>
</file>