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DA16-5C48-4A8D-B6B5-9A22F8073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DC91-8869-424D-8D5A-3EEE2DAF0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interface - 2-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ality (Interaction design) – control of variables, control of data production, control of p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2D12-6001-4FE2-8ABF-01D78E891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in simulation development used expository text similar to text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4295-F872-4BA8-A211-2F19EC377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s - are arbitrary for meaning rely on social co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ns – physical resemblance to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25C5-3F14-4839-BC14-722F2D7F1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s - are arbitrary for meaning rely on social co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ns – physical resemblance to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4A38-A191-42FE-8AB0-1DC180E60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exas, 305 high school students and 48 junior high school students used two simulations (Kinetic Theory I; Gas Laws) on two separate days as part of their chemistry class. A between groups multivariate analyses of variance was performed.  Again, there was a significant interaction between representational format and prior knowledg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, 54) = 2.94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.04; Wilks’ Lamda = .86; partial eta squared = .14. There was also a significant interaction between instructional format and executive functions on the combined posttest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, 54)= 3.53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.02; Wilks’ Lamda = .84; partial eta squared = .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A56B-E895-4FEE-ADAB-310954D12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exas, 305 high school students and 48 junior high school students used two simulations (Kinetic Theory I; Gas Laws) on two separate days as part of their chemistry class. A between groups multivariate analyses of variance was performed.  Again, there was a significant interaction between representational format and prior knowledg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, 54) = 2.94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.04; Wilks’ Lamda = .86; partial eta squared = .14. There was also a significant interaction between instructional format and executive functions on the combined posttest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, 54)= 3.53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.02; Wilks’ Lamda = .84; partial eta squared = .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A0E0-A29D-480A-909F-22500AC2F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BCA1-31D9-409A-B05B-95580820C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o Kyung Chang conducted the visualization analysis of this eyetrack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7D87-E932-464F-9BFF-9FAF3ACE7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284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1936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B1A-8A8D-4E01-B372-C5C5E0BA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F2E-4B1C-4226-90EC-072082CF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58E-C3C5-4AF0-A5B7-3410FA9B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2B4-A42F-452D-A9EF-A0E7FF56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2D1-0AC2-4DA7-B1AE-BA4571D4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352-2CE8-42F3-BC73-49345FBE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E9B2-9B79-4F3D-9899-96C7CAA2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5EF1-3CB7-4CDB-85A4-E65ACD8A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BDF-60F5-4E55-B507-5D0E4410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A4B-82DC-4340-91E2-4D820744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89B-C75B-4415-B4D2-7ACD7B20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32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4284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936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278-ADB0-4606-92CE-6D49D0C4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32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4284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1936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27AB-7730-4CEA-9DD6-3393FBC2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1EAF-DB6F-4A9E-A9FC-19291C34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3C95-8159-4DE8-B894-EBF3226C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B626-7A7D-4C3D-B4E5-50A3E466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B234-5454-4957-94BF-12235ABA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A8FA-BC50-4B29-A830-8B7AE24E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867A-C219-4CFC-8F04-11734A07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489A-ADBF-41F3-9761-7F7735F7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6E50-C17C-4AB4-9A99-73B8DB30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BD94-B79E-4A9E-9606-F7A7C620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D012-9BE3-495B-B709-C472CE18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6B91-B9C4-48FE-82D5-CDB0708E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F3B0C-9823-4D59-96E1-D856BBFE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5A3F9-0A93-4659-9BC5-33ADDF1B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36F50-11E6-4D18-B136-90F8227C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6EBFF-FA9A-4119-8210-25593219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1AA26-4343-4259-860B-FB03DADE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8D5DD-9554-4DDF-8BAD-8F749150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1568-DEC8-4E29-A4BC-1E044E2B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6825C-2CF3-4A49-B885-7FE05B33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9F491-5615-4BE9-9630-0774C1EC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DBA2-9B99-463E-92C3-FDFE21B6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39703-7188-475B-BC9B-45AF3CE6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06632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64284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1936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0CCF9-A400-491A-98A3-D0BBC5DB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7C530-3E85-4CED-9AC8-6D38C325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9055C-9FCC-4D36-8516-E9CCED34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0C1F8-3C1E-469A-ACA3-EB02879B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6D9B1-C212-4FE1-8516-33284220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4C20C-639E-4AAA-A678-8AAF3572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938F1-66E1-4703-A8D7-697B9C1B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F4884-5714-4DD0-BE82-350C71E9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FD50E-90D4-4F40-851F-031494EE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FEA49-9AE9-4132-8897-A1A39D63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F31C4-5720-4425-B537-DF1F3E4E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D588D-91DF-4121-A9B5-65A18FB4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06632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64284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21936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9B63C-034C-41EE-B375-80916E7D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630F8-2F9E-4D81-8605-9D150A68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B0E07-B223-488B-98E0-0EB61096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34DAB-9F37-401D-9324-A61AB468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7BF90-A105-4E3A-9CAD-CF00108C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C8364-E77A-4279-9D51-585453DF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D7392-6F32-4B72-9234-61E23E96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E01C9-3DB2-42F8-80DF-231C91AD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496CB-581A-448C-9F29-B20FC375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FC5E9-643C-4A60-A9D4-DF0B0CD7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8DCA4-EF48-418B-8C5F-98932DC3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16E5B-80DA-4422-82A3-4881F60C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06632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64284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1936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9CE28-5876-49F3-B59D-AD26EF10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457200" y="5943600"/>
            <a:ext cx="8686800" cy="380880"/>
          </a:xfrm>
          <a:prstGeom prst="rect">
            <a:avLst/>
          </a:prstGeom>
          <a:solidFill>
            <a:srgbClr val="cfd5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457200" y="838080"/>
            <a:ext cx="8686800" cy="381240"/>
          </a:xfrm>
          <a:prstGeom prst="rect">
            <a:avLst/>
          </a:prstGeom>
          <a:solidFill>
            <a:srgbClr val="6820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2" name="Picture 17" descr="nyusteinhardt"/>
          <p:cNvPicPr/>
          <p:nvPr/>
        </p:nvPicPr>
        <p:blipFill>
          <a:blip r:embed="rId2"/>
          <a:stretch/>
        </p:blipFill>
        <p:spPr>
          <a:xfrm>
            <a:off x="0" y="6059520"/>
            <a:ext cx="9144000" cy="7984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8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cfd5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820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820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820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6" name="Picture 9" descr="logo_new.tif"/>
          <p:cNvPicPr/>
          <p:nvPr/>
        </p:nvPicPr>
        <p:blipFill>
          <a:blip r:embed="rId3"/>
          <a:stretch/>
        </p:blipFill>
        <p:spPr>
          <a:xfrm>
            <a:off x="7238880" y="6031080"/>
            <a:ext cx="1517760" cy="6746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4"/>
          <a:stretch/>
        </p:blipFill>
        <p:spPr>
          <a:xfrm>
            <a:off x="8001000" y="0"/>
            <a:ext cx="12574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ABD2-B82E-4B97-ABAE-EA062D784C1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logo_new.tif"/>
          <p:cNvPicPr/>
          <p:nvPr/>
        </p:nvPicPr>
        <p:blipFill>
          <a:blip r:embed="rId2"/>
          <a:stretch/>
        </p:blipFill>
        <p:spPr>
          <a:xfrm>
            <a:off x="7238880" y="6031080"/>
            <a:ext cx="151776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457200" y="5943600"/>
            <a:ext cx="8686800" cy="152280"/>
          </a:xfrm>
          <a:prstGeom prst="rect">
            <a:avLst/>
          </a:prstGeom>
          <a:solidFill>
            <a:srgbClr val="cfd5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457200" y="1066680"/>
            <a:ext cx="8686800" cy="152640"/>
          </a:xfrm>
          <a:prstGeom prst="rect">
            <a:avLst/>
          </a:prstGeom>
          <a:solidFill>
            <a:srgbClr val="6820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90" name="Picture 9" descr="nyusteinhardt"/>
          <p:cNvPicPr/>
          <p:nvPr/>
        </p:nvPicPr>
        <p:blipFill>
          <a:blip r:embed="rId2"/>
          <a:stretch/>
        </p:blipFill>
        <p:spPr>
          <a:xfrm>
            <a:off x="0" y="6059520"/>
            <a:ext cx="9144000" cy="798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cfd5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92" name="Picture 14" descr="logo_new.tif"/>
          <p:cNvPicPr/>
          <p:nvPr/>
        </p:nvPicPr>
        <p:blipFill>
          <a:blip r:embed="rId3"/>
          <a:stretch/>
        </p:blipFill>
        <p:spPr>
          <a:xfrm>
            <a:off x="7238880" y="6031080"/>
            <a:ext cx="1517760" cy="674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"/>
          <p:cNvPicPr/>
          <p:nvPr/>
        </p:nvPicPr>
        <p:blipFill>
          <a:blip r:embed="rId4"/>
          <a:stretch/>
        </p:blipFill>
        <p:spPr>
          <a:xfrm>
            <a:off x="7886880" y="0"/>
            <a:ext cx="1257120" cy="1181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820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820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820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33" name="Rounded Rectangle 11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57200" y="5943600"/>
            <a:ext cx="8686800" cy="152280"/>
          </a:xfrm>
          <a:prstGeom prst="rect">
            <a:avLst/>
          </a:prstGeom>
          <a:solidFill>
            <a:srgbClr val="cfd5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138" name="Picture 18" descr="logo_new.tif"/>
          <p:cNvPicPr/>
          <p:nvPr/>
        </p:nvPicPr>
        <p:blipFill>
          <a:blip r:embed="rId3"/>
          <a:stretch/>
        </p:blipFill>
        <p:spPr>
          <a:xfrm>
            <a:off x="7238880" y="6031080"/>
            <a:ext cx="1517760" cy="674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9311-2A18-42CB-9A90-432A0430DD1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grpSp>
        <p:nvGrpSpPr>
          <p:cNvPr id="181" name="Rounded Rectangle 11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82" name="Rounded Rectangle 11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682069"/>
                </a:solidFill>
                <a:latin typeface="Arial"/>
              </a:endParaRPr>
            </a:p>
          </p:txBody>
        </p:sp>
      </p:grpSp>
      <p:sp>
        <p:nvSpPr>
          <p:cNvPr id="184" name="Rectangle 14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BEC9-FA43-40C7-BD6F-FC7C2CAD1D2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230" name="Picture 9" descr="logo_new.tif"/>
          <p:cNvPicPr/>
          <p:nvPr/>
        </p:nvPicPr>
        <p:blipFill>
          <a:blip r:embed="rId2"/>
          <a:stretch/>
        </p:blipFill>
        <p:spPr>
          <a:xfrm>
            <a:off x="7238880" y="6031080"/>
            <a:ext cx="1517760" cy="6746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32" name="Rounded Rectangle 11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8214-3168-4A46-9407-0E0307FC960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7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276" name="Picture 9" descr="logo_new.tif"/>
          <p:cNvPicPr/>
          <p:nvPr/>
        </p:nvPicPr>
        <p:blipFill>
          <a:blip r:embed="rId2"/>
          <a:stretch/>
        </p:blipFill>
        <p:spPr>
          <a:xfrm>
            <a:off x="7238880" y="6031080"/>
            <a:ext cx="1517760" cy="67464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BA58-7ADD-40A5-B562-6FF8EC7F3A0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reate.alt.ed.nyu.edu/molecules/idealgaslaws.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2069"/>
                </a:solidFill>
                <a:latin typeface="Arial"/>
              </a:rPr>
              <a:t>Suggestions from the Field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Catherine Milne and Jan Plas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with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Bruce Homer, Trace Jordan, Ruth Schwartz, Elizabeth Hayward, Yoo Kyung Chang, Yan Wang, Florrie Ng, Dixie Ching, Mubina Khan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Representation and Interaction Design for Effective High School Chemistry Simulations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Phenomenon and Model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600200"/>
            <a:ext cx="3733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2069"/>
                </a:solidFill>
                <a:latin typeface="Arial"/>
              </a:rPr>
              <a:t>Integrating representations</a:t>
            </a:r>
            <a:endParaRPr b="0" lang="en-US" sz="28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Using a narrative to make connections between phenomenon, model, and graph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Using a narrative to provide a context for asking  </a:t>
            </a:r>
            <a:r>
              <a:rPr b="0" i="1" lang="en-US" sz="2400" spc="-1" strike="noStrike">
                <a:solidFill>
                  <a:srgbClr val="682069"/>
                </a:solidFill>
                <a:latin typeface="Arial"/>
              </a:rPr>
              <a:t>why 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952880" y="1600200"/>
            <a:ext cx="3733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4210200" y="1219320"/>
            <a:ext cx="5010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82069"/>
                </a:solidFill>
                <a:latin typeface="Arial"/>
              </a:rPr>
              <a:t>Model (Explanatory Framework) and </a:t>
            </a:r>
            <a:br>
              <a:rPr sz="2900"/>
            </a:br>
            <a:r>
              <a:rPr b="0" lang="en-US" sz="2900" spc="-1" strike="noStrike">
                <a:solidFill>
                  <a:srgbClr val="682069"/>
                </a:solidFill>
                <a:latin typeface="Arial"/>
              </a:rPr>
              <a:t>Graph (Symbolic Representation)</a:t>
            </a:r>
            <a:endParaRPr b="0" lang="en-US" sz="29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66320" y="13716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85d00"/>
                </a:solidFill>
                <a:uFillTx/>
                <a:latin typeface="Arial"/>
                <a:hlinkClick r:id="rId1"/>
              </a:rPr>
              <a:t>http://create.alt.ed.nyu.edu/molecules/idealgaslaws.htm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1219320" y="1828800"/>
            <a:ext cx="63799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Exploring Connection Between Phenomenon and Model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Pilot Study – narrative, expository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8206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Process data showed that narrative group spent more time adjusting variables and resetting graph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8206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Narrative showed potential for supporting transfer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Further Scaffolding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Narrative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Exploring different types of narrative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Allowing students to choose different introductory narratives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Including ‘game-like’ elements in the narratives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Visua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What is the precise nature of visual scaffolds that should be included?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Meta-cognitive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Scaffolding learners to generalize rules, draw conclusions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Representation and Interaction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4618080" y="500040"/>
            <a:ext cx="1839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The challenge of representation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2069"/>
                </a:solidFill>
                <a:latin typeface="Arial"/>
              </a:rPr>
              <a:t>Designing interactivity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Designing Interactivity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09120" y="12949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Icons        vs. symbols – reduce cognitive load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  Worked-out vs. Exploratory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64" name="TextBox 3"/>
          <p:cNvSpPr/>
          <p:nvPr/>
        </p:nvSpPr>
        <p:spPr>
          <a:xfrm>
            <a:off x="4618080" y="500040"/>
            <a:ext cx="1839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1905120" y="1339920"/>
            <a:ext cx="380880" cy="361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2" descr="Molecules&amp;MInds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Designing Interactivity: Studies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066320" y="12189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Experimental studies: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Low prior knowledge learners had better learning outcomes (</a:t>
            </a:r>
            <a:r>
              <a:rPr b="0" i="1" lang="en-US" sz="2000" spc="-1" strike="noStrike">
                <a:solidFill>
                  <a:srgbClr val="682069"/>
                </a:solidFill>
                <a:latin typeface="Arial"/>
              </a:rPr>
              <a:t>recall, comprehension, transfer)</a:t>
            </a:r>
            <a:r>
              <a:rPr b="1" lang="en-US" sz="2000" spc="-1" strike="noStrike">
                <a:solidFill>
                  <a:srgbClr val="682069"/>
                </a:solidFill>
                <a:latin typeface="Arial"/>
              </a:rPr>
              <a:t>with icons</a:t>
            </a: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, while high prior knowledge learners had better learning outcomes </a:t>
            </a:r>
            <a:r>
              <a:rPr b="1" lang="en-US" sz="2000" spc="-1" strike="noStrike">
                <a:solidFill>
                  <a:srgbClr val="682069"/>
                </a:solidFill>
                <a:latin typeface="Arial"/>
              </a:rPr>
              <a:t>without icons</a:t>
            </a: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 (Homer &amp; Plass, 2010). 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With low executive function there was no significant difference between </a:t>
            </a:r>
            <a:r>
              <a:rPr b="1" lang="en-US" sz="2000" spc="-1" strike="noStrike">
                <a:solidFill>
                  <a:srgbClr val="682069"/>
                </a:solidFill>
                <a:latin typeface="Arial"/>
              </a:rPr>
              <a:t>worked-out </a:t>
            </a: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682069"/>
                </a:solidFill>
                <a:latin typeface="Arial"/>
              </a:rPr>
              <a:t>exploratory,</a:t>
            </a: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 but with high executive function there was a significant difference between the two interaction formats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Designing Interactivity: Studies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66320" y="12189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Efficacy study: Curriculum integration of simulations with lesson plan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Cluster analysis: students scoring poorly on the pre-test and much better on the post-test, were 2.5 times more likely to be from the treatment (with simulations) group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Representation and Interaction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2069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Challenges – </a:t>
            </a: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Understanding interaction between learners </a:t>
            </a:r>
            <a:br>
              <a:rPr sz="2000"/>
            </a:b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and simulation design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To what extent are specific design features used by the learners?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Do students really look at the graph or do they ignore it?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Do students connect graph and simulation? What can we do to support them to interrogate graphs and develop a generalized understanding using theory and relationships between variables that they can apply to different contexts?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Do students notice icons and understand their meaning?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Method of investigation: 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Think-aloud protocols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Eye tracking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Model-based Inquiry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142640" y="1752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Science is about addressing </a:t>
            </a:r>
            <a:r>
              <a:rPr b="0" i="1" lang="en-US" sz="2400" spc="-1" strike="noStrike">
                <a:solidFill>
                  <a:srgbClr val="682069"/>
                </a:solidFill>
                <a:latin typeface="Arial"/>
              </a:rPr>
              <a:t>why 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Explanations of scientific phenomena require an understanding of </a:t>
            </a:r>
            <a:r>
              <a:rPr b="0" i="1" lang="en-US" sz="2400" spc="-1" strike="noStrike">
                <a:solidFill>
                  <a:srgbClr val="682069"/>
                </a:solidFill>
                <a:latin typeface="Arial"/>
              </a:rPr>
              <a:t>why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Simplistic approaches to scientific inquiry focus on descriptive correlations: </a:t>
            </a:r>
            <a:r>
              <a:rPr b="0" i="1" lang="en-US" sz="2400" spc="-1" strike="noStrike">
                <a:solidFill>
                  <a:srgbClr val="682069"/>
                </a:solidFill>
                <a:latin typeface="Arial"/>
              </a:rPr>
              <a:t>what 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questions rather than </a:t>
            </a:r>
            <a:r>
              <a:rPr b="0" i="1" lang="en-US" sz="2400" spc="-1" strike="noStrike">
                <a:solidFill>
                  <a:srgbClr val="682069"/>
                </a:solidFill>
                <a:latin typeface="Arial"/>
              </a:rPr>
              <a:t>why 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82069"/>
                </a:solidFill>
                <a:latin typeface="Arial"/>
              </a:rPr>
              <a:t>What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 questions require recall of information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82069"/>
                </a:solidFill>
                <a:latin typeface="Arial"/>
              </a:rPr>
              <a:t>Why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 questions require models; theorie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1"/>
          <a:srcRect l="0" t="17356" r="2013" b="0"/>
          <a:stretch/>
        </p:blipFill>
        <p:spPr>
          <a:xfrm>
            <a:off x="0" y="1219320"/>
            <a:ext cx="9253440" cy="54864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411120" y="-254160"/>
            <a:ext cx="324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Eye Tracker Data </a:t>
            </a: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152280" y="3016080"/>
            <a:ext cx="8839440" cy="1618560"/>
          </a:xfrm>
          <a:prstGeom prst="rect">
            <a:avLst/>
          </a:prstGeom>
          <a:solidFill>
            <a:srgbClr val="e4e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82069"/>
                </a:solidFill>
                <a:latin typeface="Arial"/>
              </a:rPr>
              <a:t>When subjects looked at graphs longer and more often, they had higher post-test scores. This was true regardless of their pre-test score, meaning regardless of the subjects level of prior knowledge, more frequent and longer visual reference to the graph helped them learn better. </a:t>
            </a:r>
            <a:endParaRPr b="1" lang="en-US" sz="2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Challenges – </a:t>
            </a: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Understanding which features better  support  learners’ interactions with levels of representation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To what extent would additional features promote learning (compared to cost involved)?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Design your own simulation?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Integration of authentic data sets?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Collaboration tools?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Portfolio/research notebook feature?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Manipulation of graph / fitting of curves representing different relations of variables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Always keeping in the forefront of our thinking the question of the educational purpose served by any intervention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Challenges – </a:t>
            </a: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Rethinking the interaction between learning and assessment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066320" y="12952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How can simulation-based learning best be studied?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Measuring engagement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Assessing learning process using process data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Assessing learning outcomes – beyond knowledge post tests 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2069"/>
                </a:solidFill>
                <a:latin typeface="Arial"/>
              </a:rPr>
              <a:t>Graph comprehension</a:t>
            </a:r>
            <a:endParaRPr b="0" lang="en-US" sz="16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2069"/>
                </a:solidFill>
                <a:latin typeface="Arial"/>
              </a:rPr>
              <a:t>Metacognitive Strategies / Self-regulation of learning</a:t>
            </a:r>
            <a:endParaRPr b="0" lang="en-US" sz="16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2069"/>
                </a:solidFill>
                <a:latin typeface="Arial"/>
              </a:rPr>
              <a:t>Knowledge about models</a:t>
            </a:r>
            <a:endParaRPr b="0" lang="en-US" sz="16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2069"/>
                </a:solidFill>
                <a:latin typeface="Arial"/>
              </a:rPr>
              <a:t>Knowledge about scientific inquiry process</a:t>
            </a:r>
            <a:endParaRPr b="0" lang="en-US" sz="16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2069"/>
                </a:solidFill>
                <a:latin typeface="Arial"/>
              </a:rPr>
              <a:t>Integration of assessment and learning e.g. assessment as learning</a:t>
            </a:r>
            <a:endParaRPr b="0" lang="en-US" sz="16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Model-based Inquiry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42640" y="1752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Models give students an explanatory framework for their observation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Models provide a generative environment for the development of new idea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2069"/>
                </a:solidFill>
                <a:latin typeface="Arial"/>
              </a:rPr>
              <a:t>Multimedia model-based simulations 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offer a strategy for incorporating models into science learning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Representation and Interaction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Designing a simulation requires numerous decision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Choice of explanatory framework (model)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Selecting phenomena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Supporting narratives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Approach to symbolism (e.g., graphs; text)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Design of interactive features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These decisions have an impact on design, development, and evaluation of simulation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Representation and Interaction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2069"/>
                </a:solidFill>
                <a:latin typeface="Arial"/>
              </a:rPr>
              <a:t>The challenge of representation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Designing interactivity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The Challenge of Representations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66320" y="15998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5972040" cy="3551040"/>
          </a:xfrm>
          <a:prstGeom prst="rect">
            <a:avLst/>
          </a:prstGeom>
          <a:ln w="0">
            <a:noFill/>
          </a:ln>
        </p:spPr>
      </p:pic>
      <p:sp>
        <p:nvSpPr>
          <p:cNvPr id="341" name="TextBox 5"/>
          <p:cNvSpPr/>
          <p:nvPr/>
        </p:nvSpPr>
        <p:spPr>
          <a:xfrm>
            <a:off x="1143000" y="49528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Beginning science learners versus experts</a:t>
            </a:r>
            <a:endParaRPr b="1" lang="en-US" sz="2400" spc="-1" strike="noStrike">
              <a:solidFill>
                <a:srgbClr val="6820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Value of models</a:t>
            </a:r>
            <a:endParaRPr b="1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42" name="Action Button: Custom 6">
            <a:hlinkClick r:id="" action="ppaction://hlinkshowjump?jump=nextslide"/>
          </p:cNvPr>
          <p:cNvSpPr/>
          <p:nvPr/>
        </p:nvSpPr>
        <p:spPr>
          <a:xfrm>
            <a:off x="1676520" y="3505320"/>
            <a:ext cx="1752480" cy="457200"/>
          </a:xfrm>
          <a:custGeom>
            <a:avLst/>
            <a:gdLst>
              <a:gd name="textAreaLeft" fmla="*/ 29520 w 1752480"/>
              <a:gd name="textAreaRight" fmla="*/ 1722960 w 1752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81346" y="1400"/>
                </a:lnTo>
                <a:lnTo>
                  <a:pt x="1400" y="140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81346" y="20200"/>
                </a:lnTo>
                <a:lnTo>
                  <a:pt x="81346" y="140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46" y="2020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The Challenge of Representations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2069"/>
                </a:solidFill>
                <a:latin typeface="Arial"/>
              </a:rPr>
              <a:t>Simulation design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Our Simulation Design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Simulation design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Explanatory Framework (model)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Symbolic representation (graphs and text)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Phenomenon (narrative)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2:13:29Z</dcterms:created>
  <dc:creator>Younmin</dc:creator>
  <dc:description/>
  <dc:language>en-US</dc:language>
  <cp:lastModifiedBy>IES</cp:lastModifiedBy>
  <dcterms:modified xsi:type="dcterms:W3CDTF">2010-06-14T16:33:05Z</dcterms:modified>
  <cp:revision>103</cp:revision>
  <dc:subject/>
  <dc:title>Slide 1</dc:title>
</cp:coreProperties>
</file>