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68AC-38C6-4FF4-B052-ABFCCF465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0135-7FF4-46B2-9982-8184CB68A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interface - 2-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ality (Interaction design) – control of variables, control of data production, control of p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D74E-F858-4551-A081-6B855897E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in simulation development used expository text similar to text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EF6B-9BA2-452C-912B-FF787FF1A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s - are arbitrary for meaning rely on social co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ns – physical resemblance to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9C0F-E38D-41F5-BA3C-F812C7B2C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s - are arbitrary for meaning rely on social co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ns – physical resemblance to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39C6-33C7-46DC-8978-F1AF90D84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exas, 305 high school students and 48 junior high school students used two simulations (Kinetic Theory I; Gas Laws) on two separate days as part of their chemistry class. A between groups multivariate analyses of variance was performed.  Again, there was a significant interaction between representational format and prior knowledg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, 54) = 2.94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.04; Wilks’ Lamda = .86; partial eta squared = .14. There was also a significant interaction between instructional format and executive functions on the combined posttest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, 54)= 3.53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.02; Wilks’ Lamda = .84; partial eta squared = .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D2D7-89C3-420B-BE98-5E73E3374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exas, 305 high school students and 48 junior high school students used two simulations (Kinetic Theory I; Gas Laws) on two separate days as part of their chemistry class. A between groups multivariate analyses of variance was performed.  Again, there was a significant interaction between representational format and prior knowledg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, 54) = 2.94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.04; Wilks’ Lamda = .86; partial eta squared = .14. There was also a significant interaction between instructional format and executive functions on the combined posttest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, 54)= 3.53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.02; Wilks’ Lamda = .84; partial eta squared = .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3C95-4834-4751-80FB-EE7864D49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568E-12EA-4CBB-8B7C-33839E8E3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o Kyung Chang conducted the visualization analysis of this eyetrack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2E76-32C5-4580-838A-9A6466925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284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1936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711-47DC-4806-B7CF-2EE4DD24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AEB-9DA2-4E05-94BE-8FEB1268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F56-2AFD-416D-87BE-BBB02B9C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909-05FA-43D8-A67F-7FFAF200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FF2-0504-47EC-9E47-F3A7A15B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50D-3923-43EA-88DF-11D81A4E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E3B8-049C-4CEB-BD3F-AD07961C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EAF-C09B-4F56-BAD3-A00CD8B5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2EC-8753-4051-BD34-7602CA5C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4D4-C9BE-4CED-830E-CE601978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E915-A467-41AA-87D9-28BABFE5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32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4284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936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B375-9288-4A98-B922-71F5EDD2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32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4284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1936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85B8-5CE3-45F8-B61F-DE9F5699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C054-620E-46CD-80EF-FCAE25D1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239F-3C3B-466A-A4D2-2FCBF460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39F1-AB6B-441C-A8A5-11B30113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8924-1AE8-4E64-B328-4F5EA153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5217-1752-44C2-9902-E07CF431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27B8-D20E-4488-A14D-45C5782B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37F4-2ABC-466D-AA90-A1F4041B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0B3E-4732-4F74-A2AF-88DBB781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C173-7DB8-40EE-AC0A-6767E90D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A6AC-B2A0-49D9-A0B1-C4B628EC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6505-1364-447E-865E-D3F0498D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6B503-7CBD-4C7A-8696-B11F3127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2B5F8-DFBE-444C-9669-D30B91CE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DDE3A-23B6-4FCC-B230-1C5E829C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8E783-B06A-4397-9583-9893BAE6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BAA43-4E54-42F5-89BF-174CA8DA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22342-002C-48B7-B89F-4FEAF7C2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0B2B0-CCB1-4851-BA75-13DF28CE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7111F-48A2-4573-B254-C05906F2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0FBED-D737-4CB2-AD0D-217576CE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77EE4-917F-46E3-877A-73DD0F68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D2120-49D4-4253-B0FF-C8D4CFC6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06632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64284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1936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1074A-D1D2-44DC-AA4E-330E0E64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FBA32-0024-4E4E-A5E3-8D91C9F7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D550E-0ACA-4311-9DB9-DDD67044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D6A84-FCB5-4130-94C3-3EFE4ACB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31940-7AC9-4E9C-AC47-72F493B8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93ECC-4598-4974-98A3-3B5CA00D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C5012-F858-4CCF-84D9-50E29279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63593-0FDF-4613-8B0E-3C0515BF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7FF75-CB99-4F5A-8F33-4C1DC5F2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5E642-689F-4D28-859D-D7BC1EFA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4A5DA-ED94-42E6-A21D-E39A6266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F6C58-444C-4988-9DA9-B9D2D90B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06632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64284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21936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58496-D583-40F0-A134-150517B2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BFFC7-B658-4322-A9B4-6A02B769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2588F-5BDE-4541-A55E-AB2B08F5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9114C-9F70-4032-830D-FFC00B41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32F6F-C171-4CE3-862C-294A5E77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1D01F-57F1-47C0-9264-154A7212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F4769-08BA-4FCC-B2D6-53DC3D80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848FC-2514-4668-B838-4AC00635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96C4C-0B53-48B4-BDC5-6B317024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F9C2C-F948-4BF9-83C8-B2284C65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02442-2A34-4A27-882D-8F58B8D6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71240" y="370944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C4C58-EF5A-4850-A8A6-8DE4F5CD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64284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19360" y="160020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06632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64284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19360" y="370944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ED7ED-DC42-4602-810C-D692F0E5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1240" y="160020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370944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457200" y="5943600"/>
            <a:ext cx="8686800" cy="380880"/>
          </a:xfrm>
          <a:prstGeom prst="rect">
            <a:avLst/>
          </a:prstGeom>
          <a:solidFill>
            <a:srgbClr val="cfd5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457200" y="838080"/>
            <a:ext cx="8686800" cy="381240"/>
          </a:xfrm>
          <a:prstGeom prst="rect">
            <a:avLst/>
          </a:prstGeom>
          <a:solidFill>
            <a:srgbClr val="6820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2" name="Picture 17" descr="nyusteinhardt"/>
          <p:cNvPicPr/>
          <p:nvPr/>
        </p:nvPicPr>
        <p:blipFill>
          <a:blip r:embed="rId2"/>
          <a:stretch/>
        </p:blipFill>
        <p:spPr>
          <a:xfrm>
            <a:off x="0" y="6059520"/>
            <a:ext cx="9144000" cy="7984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8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cfd5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820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820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820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6" name="Picture 9" descr="logo_new.tif"/>
          <p:cNvPicPr/>
          <p:nvPr/>
        </p:nvPicPr>
        <p:blipFill>
          <a:blip r:embed="rId3"/>
          <a:stretch/>
        </p:blipFill>
        <p:spPr>
          <a:xfrm>
            <a:off x="7238880" y="6031080"/>
            <a:ext cx="1517760" cy="6746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4"/>
          <a:stretch/>
        </p:blipFill>
        <p:spPr>
          <a:xfrm>
            <a:off x="8001000" y="0"/>
            <a:ext cx="12574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7F68-12BB-440F-84D1-756E3291AF6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logo_new.tif"/>
          <p:cNvPicPr/>
          <p:nvPr/>
        </p:nvPicPr>
        <p:blipFill>
          <a:blip r:embed="rId2"/>
          <a:stretch/>
        </p:blipFill>
        <p:spPr>
          <a:xfrm>
            <a:off x="7238880" y="6031080"/>
            <a:ext cx="151776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457200" y="5943600"/>
            <a:ext cx="8686800" cy="152280"/>
          </a:xfrm>
          <a:prstGeom prst="rect">
            <a:avLst/>
          </a:prstGeom>
          <a:solidFill>
            <a:srgbClr val="cfd5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457200" y="1066680"/>
            <a:ext cx="8686800" cy="152640"/>
          </a:xfrm>
          <a:prstGeom prst="rect">
            <a:avLst/>
          </a:prstGeom>
          <a:solidFill>
            <a:srgbClr val="6820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90" name="Picture 9" descr="nyusteinhardt"/>
          <p:cNvPicPr/>
          <p:nvPr/>
        </p:nvPicPr>
        <p:blipFill>
          <a:blip r:embed="rId2"/>
          <a:stretch/>
        </p:blipFill>
        <p:spPr>
          <a:xfrm>
            <a:off x="0" y="6059520"/>
            <a:ext cx="9144000" cy="798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cfd5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92" name="Picture 14" descr="logo_new.tif"/>
          <p:cNvPicPr/>
          <p:nvPr/>
        </p:nvPicPr>
        <p:blipFill>
          <a:blip r:embed="rId3"/>
          <a:stretch/>
        </p:blipFill>
        <p:spPr>
          <a:xfrm>
            <a:off x="7238880" y="6031080"/>
            <a:ext cx="1517760" cy="674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"/>
          <p:cNvPicPr/>
          <p:nvPr/>
        </p:nvPicPr>
        <p:blipFill>
          <a:blip r:embed="rId4"/>
          <a:stretch/>
        </p:blipFill>
        <p:spPr>
          <a:xfrm>
            <a:off x="7886880" y="0"/>
            <a:ext cx="1257120" cy="1181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820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820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820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33" name="Rounded Rectangle 11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57200" y="5943600"/>
            <a:ext cx="8686800" cy="152280"/>
          </a:xfrm>
          <a:prstGeom prst="rect">
            <a:avLst/>
          </a:prstGeom>
          <a:solidFill>
            <a:srgbClr val="cfd5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138" name="Picture 18" descr="logo_new.tif"/>
          <p:cNvPicPr/>
          <p:nvPr/>
        </p:nvPicPr>
        <p:blipFill>
          <a:blip r:embed="rId3"/>
          <a:stretch/>
        </p:blipFill>
        <p:spPr>
          <a:xfrm>
            <a:off x="7238880" y="6031080"/>
            <a:ext cx="1517760" cy="674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E315-772D-4063-98A1-A1DC48FE0C5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grpSp>
        <p:nvGrpSpPr>
          <p:cNvPr id="181" name="Rounded Rectangle 11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82" name="Rounded Rectangle 11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682069"/>
                </a:solidFill>
                <a:latin typeface="Arial"/>
              </a:endParaRPr>
            </a:p>
          </p:txBody>
        </p:sp>
      </p:grpSp>
      <p:sp>
        <p:nvSpPr>
          <p:cNvPr id="184" name="Rectangle 14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E3C0-1682-47E3-AF56-E4359F08D40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230" name="Picture 9" descr="logo_new.tif"/>
          <p:cNvPicPr/>
          <p:nvPr/>
        </p:nvPicPr>
        <p:blipFill>
          <a:blip r:embed="rId2"/>
          <a:stretch/>
        </p:blipFill>
        <p:spPr>
          <a:xfrm>
            <a:off x="7238880" y="6031080"/>
            <a:ext cx="1517760" cy="6746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32" name="Rounded Rectangle 11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ABE6-DAD1-4A98-A6A0-F16E603D16E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7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276" name="Picture 9" descr="logo_new.tif"/>
          <p:cNvPicPr/>
          <p:nvPr/>
        </p:nvPicPr>
        <p:blipFill>
          <a:blip r:embed="rId2"/>
          <a:stretch/>
        </p:blipFill>
        <p:spPr>
          <a:xfrm>
            <a:off x="7238880" y="6031080"/>
            <a:ext cx="1517760" cy="67464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1C25-4C34-4A4E-8F9E-1065823292C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reate.alt.ed.nyu.edu/molecules/idealgaslaws.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2069"/>
                </a:solidFill>
                <a:latin typeface="Arial"/>
              </a:rPr>
              <a:t>Suggestions from the Field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Catherine Milne and Jan Plas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with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Bruce Homer, Trace Jordan, Ruth Schwartz, Elizabeth Hayward, Yoo Kyung Chang, Yan Wang, Florrie Ng, Dixie Ching, Mubina Khan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Representation and Interaction Design for Effective High School Chemistry Simulations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Phenomenon and Model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600200"/>
            <a:ext cx="3733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2069"/>
                </a:solidFill>
                <a:latin typeface="Arial"/>
              </a:rPr>
              <a:t>Integrating representations</a:t>
            </a:r>
            <a:endParaRPr b="0" lang="en-US" sz="28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Using a narrative to make connections between phenomenon, model, and graph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Using a narrative to provide a context for asking  </a:t>
            </a:r>
            <a:r>
              <a:rPr b="0" i="1" lang="en-US" sz="2400" spc="-1" strike="noStrike">
                <a:solidFill>
                  <a:srgbClr val="682069"/>
                </a:solidFill>
                <a:latin typeface="Arial"/>
              </a:rPr>
              <a:t>why 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952880" y="1600200"/>
            <a:ext cx="3733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4210200" y="1219320"/>
            <a:ext cx="5010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82069"/>
                </a:solidFill>
                <a:latin typeface="Arial"/>
              </a:rPr>
              <a:t>Model (Explanatory Framework) and </a:t>
            </a:r>
            <a:br>
              <a:rPr sz="2900"/>
            </a:br>
            <a:r>
              <a:rPr b="0" lang="en-US" sz="2900" spc="-1" strike="noStrike">
                <a:solidFill>
                  <a:srgbClr val="682069"/>
                </a:solidFill>
                <a:latin typeface="Arial"/>
              </a:rPr>
              <a:t>Graph (Symbolic Representation)</a:t>
            </a:r>
            <a:endParaRPr b="0" lang="en-US" sz="29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66320" y="13716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85d00"/>
                </a:solidFill>
                <a:uFillTx/>
                <a:latin typeface="Arial"/>
                <a:hlinkClick r:id="rId1"/>
              </a:rPr>
              <a:t>http://create.alt.ed.nyu.edu/molecules/idealgaslaws.htm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1219320" y="1828800"/>
            <a:ext cx="63799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Exploring Connection Between Phenomenon and Model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Pilot Study – narrative, expository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8206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Process data showed that narrative group spent more time adjusting variables and resetting graph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8206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Narrative showed potential for supporting transfer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Further Scaffolding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Narrative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Exploring different types of narrative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Allowing students to choose different introductory narratives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Including ‘game-like’ elements in the narratives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Visual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What is the precise nature of visual scaffolds that should be included?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Meta-cognitive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Scaffolding learners to generalize rules, draw conclusions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Representation and Interaction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4618080" y="500040"/>
            <a:ext cx="1839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The challenge of representation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2069"/>
                </a:solidFill>
                <a:latin typeface="Arial"/>
              </a:rPr>
              <a:t>Designing interactivity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Designing Interactivity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09120" y="12949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Icons        vs. symbols – reduce cognitive load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  Worked-out vs. Exploratory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64" name="TextBox 3"/>
          <p:cNvSpPr/>
          <p:nvPr/>
        </p:nvSpPr>
        <p:spPr>
          <a:xfrm>
            <a:off x="4618080" y="500040"/>
            <a:ext cx="1839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1905120" y="1339920"/>
            <a:ext cx="380880" cy="361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2" descr="Molecules&amp;MInds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Designing Interactivity: Studies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066320" y="12189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Experimental studies: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Low prior knowledge learners had better learning outcomes (</a:t>
            </a:r>
            <a:r>
              <a:rPr b="0" i="1" lang="en-US" sz="2000" spc="-1" strike="noStrike">
                <a:solidFill>
                  <a:srgbClr val="682069"/>
                </a:solidFill>
                <a:latin typeface="Arial"/>
              </a:rPr>
              <a:t>recall, comprehension, transfer)</a:t>
            </a:r>
            <a:r>
              <a:rPr b="1" lang="en-US" sz="2000" spc="-1" strike="noStrike">
                <a:solidFill>
                  <a:srgbClr val="682069"/>
                </a:solidFill>
                <a:latin typeface="Arial"/>
              </a:rPr>
              <a:t>with icons</a:t>
            </a: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, while high prior knowledge learners had better learning outcomes </a:t>
            </a:r>
            <a:r>
              <a:rPr b="1" lang="en-US" sz="2000" spc="-1" strike="noStrike">
                <a:solidFill>
                  <a:srgbClr val="682069"/>
                </a:solidFill>
                <a:latin typeface="Arial"/>
              </a:rPr>
              <a:t>without icons</a:t>
            </a: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 (Homer &amp; Plass, 2010). 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With low executive function there was no significant difference between </a:t>
            </a:r>
            <a:r>
              <a:rPr b="1" lang="en-US" sz="2000" spc="-1" strike="noStrike">
                <a:solidFill>
                  <a:srgbClr val="682069"/>
                </a:solidFill>
                <a:latin typeface="Arial"/>
              </a:rPr>
              <a:t>worked-out </a:t>
            </a: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682069"/>
                </a:solidFill>
                <a:latin typeface="Arial"/>
              </a:rPr>
              <a:t>exploratory,</a:t>
            </a: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 but with high executive function there was a significant difference between the two interaction formats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Designing Interactivity: Studies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66320" y="12189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Efficacy study: Curriculum integration of simulations with lesson plan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Cluster analysis: students scoring poorly on the pre-test and much better on the post-test, were 2.5 times more likely to be from the treatment (with simulations) group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Representation and Interaction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2069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Challenges – </a:t>
            </a: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Understanding interaction between learners </a:t>
            </a:r>
            <a:br>
              <a:rPr sz="2000"/>
            </a:b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and simulation design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To what extent are specific design features used by the learners?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Do students really look at the graph or do they ignore it?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Do students connect graph and simulation? What can we do to support them to interrogate graphs and develop a generalized understanding using theory and relationships between variables that they can apply to different contexts?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Do students notice icons and understand their meaning?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Method of investigation: 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Think-aloud protocols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Eye tracking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Model-based Inquiry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142640" y="1752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Science is about addressing </a:t>
            </a:r>
            <a:r>
              <a:rPr b="0" i="1" lang="en-US" sz="2400" spc="-1" strike="noStrike">
                <a:solidFill>
                  <a:srgbClr val="682069"/>
                </a:solidFill>
                <a:latin typeface="Arial"/>
              </a:rPr>
              <a:t>why 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Explanations of scientific phenomena require an understanding of </a:t>
            </a:r>
            <a:r>
              <a:rPr b="0" i="1" lang="en-US" sz="2400" spc="-1" strike="noStrike">
                <a:solidFill>
                  <a:srgbClr val="682069"/>
                </a:solidFill>
                <a:latin typeface="Arial"/>
              </a:rPr>
              <a:t>why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Simplistic approaches to scientific inquiry focus on descriptive correlations: </a:t>
            </a:r>
            <a:r>
              <a:rPr b="0" i="1" lang="en-US" sz="2400" spc="-1" strike="noStrike">
                <a:solidFill>
                  <a:srgbClr val="682069"/>
                </a:solidFill>
                <a:latin typeface="Arial"/>
              </a:rPr>
              <a:t>what 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questions rather than </a:t>
            </a:r>
            <a:r>
              <a:rPr b="0" i="1" lang="en-US" sz="2400" spc="-1" strike="noStrike">
                <a:solidFill>
                  <a:srgbClr val="682069"/>
                </a:solidFill>
                <a:latin typeface="Arial"/>
              </a:rPr>
              <a:t>why 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82069"/>
                </a:solidFill>
                <a:latin typeface="Arial"/>
              </a:rPr>
              <a:t>What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 questions require recall of information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82069"/>
                </a:solidFill>
                <a:latin typeface="Arial"/>
              </a:rPr>
              <a:t>Why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 questions require models; theorie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1"/>
          <a:srcRect l="0" t="17356" r="2013" b="0"/>
          <a:stretch/>
        </p:blipFill>
        <p:spPr>
          <a:xfrm>
            <a:off x="0" y="1219320"/>
            <a:ext cx="9253440" cy="54864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411120" y="-254160"/>
            <a:ext cx="324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Eye Tracker Data </a:t>
            </a: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152280" y="3016080"/>
            <a:ext cx="8839440" cy="1618560"/>
          </a:xfrm>
          <a:prstGeom prst="rect">
            <a:avLst/>
          </a:prstGeom>
          <a:solidFill>
            <a:srgbClr val="e4e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82069"/>
                </a:solidFill>
                <a:latin typeface="Arial"/>
              </a:rPr>
              <a:t>When subjects looked at graphs longer and more often, they had higher post-test scores. This was true regardless of their pre-test score, meaning regardless of the subjects level of prior knowledge, more frequent and longer visual reference to the graph helped them learn better. </a:t>
            </a:r>
            <a:endParaRPr b="1" lang="en-US" sz="2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Challenges – </a:t>
            </a: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Understanding which features better  support  learners’ interactions with levels of representation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To what extent would additional features promote learning (compared to cost involved)?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Design your own simulation?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Integration of authentic data sets?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Collaboration tools?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Portfolio/research notebook feature?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Manipulation of graph / fitting of curves representing different relations of variables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Always keeping in the forefront of our thinking the question of the educational purpose served by any intervention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Challenges – </a:t>
            </a: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Rethinking the interaction between learning and assessment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066320" y="12952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How can simulation-based learning best be studied?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Measuring engagement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Assessing learning process using process data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Assessing learning outcomes – beyond knowledge post tests 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2069"/>
                </a:solidFill>
                <a:latin typeface="Arial"/>
              </a:rPr>
              <a:t>Graph comprehension</a:t>
            </a:r>
            <a:endParaRPr b="0" lang="en-US" sz="16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2069"/>
                </a:solidFill>
                <a:latin typeface="Arial"/>
              </a:rPr>
              <a:t>Metacognitive Strategies / Self-regulation of learning</a:t>
            </a:r>
            <a:endParaRPr b="0" lang="en-US" sz="16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2069"/>
                </a:solidFill>
                <a:latin typeface="Arial"/>
              </a:rPr>
              <a:t>Knowledge about models</a:t>
            </a:r>
            <a:endParaRPr b="0" lang="en-US" sz="16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2069"/>
                </a:solidFill>
                <a:latin typeface="Arial"/>
              </a:rPr>
              <a:t>Knowledge about scientific inquiry process</a:t>
            </a:r>
            <a:endParaRPr b="0" lang="en-US" sz="16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2069"/>
                </a:solidFill>
                <a:latin typeface="Arial"/>
              </a:rPr>
              <a:t>Integration of assessment and learning e.g. assessment as learning</a:t>
            </a:r>
            <a:endParaRPr b="0" lang="en-US" sz="16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Model-based Inquiry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42640" y="1752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Models give students an explanatory framework for their observation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Models provide a generative environment for the development of new idea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2069"/>
                </a:solidFill>
                <a:latin typeface="Arial"/>
              </a:rPr>
              <a:t>Multimedia model-based simulations </a:t>
            </a: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offer a strategy for incorporating models into science learning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Representation and Interaction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Designing a simulation requires numerous decision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Choice of explanatory framework (model)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Selecting phenomena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Supporting narratives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Approach to symbolism (e.g., graphs; text)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2069"/>
                </a:solidFill>
                <a:latin typeface="Arial"/>
              </a:rPr>
              <a:t>Design of interactive features</a:t>
            </a: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These decisions have an impact on design, development, and evaluation of simulation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Representation and Interaction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2069"/>
                </a:solidFill>
                <a:latin typeface="Arial"/>
              </a:rPr>
              <a:t>The challenge of representations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Designing interactivity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The Challenge of Representations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66320" y="15998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5972040" cy="3551040"/>
          </a:xfrm>
          <a:prstGeom prst="rect">
            <a:avLst/>
          </a:prstGeom>
          <a:ln w="0">
            <a:noFill/>
          </a:ln>
        </p:spPr>
      </p:pic>
      <p:sp>
        <p:nvSpPr>
          <p:cNvPr id="341" name="TextBox 5"/>
          <p:cNvSpPr/>
          <p:nvPr/>
        </p:nvSpPr>
        <p:spPr>
          <a:xfrm>
            <a:off x="1143000" y="49528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Beginning science learners versus experts</a:t>
            </a:r>
            <a:endParaRPr b="1" lang="en-US" sz="2400" spc="-1" strike="noStrike">
              <a:solidFill>
                <a:srgbClr val="6820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Value of models</a:t>
            </a:r>
            <a:endParaRPr b="1" lang="en-US" sz="24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42" name="Action Button: Custom 6">
            <a:hlinkClick r:id="" action="ppaction://hlinkshowjump?jump=nextslide"/>
          </p:cNvPr>
          <p:cNvSpPr/>
          <p:nvPr/>
        </p:nvSpPr>
        <p:spPr>
          <a:xfrm>
            <a:off x="1676520" y="3505320"/>
            <a:ext cx="1752480" cy="457200"/>
          </a:xfrm>
          <a:custGeom>
            <a:avLst/>
            <a:gdLst>
              <a:gd name="textAreaLeft" fmla="*/ 29520 w 1752480"/>
              <a:gd name="textAreaRight" fmla="*/ 1722960 w 1752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81346" y="1400"/>
                </a:lnTo>
                <a:lnTo>
                  <a:pt x="1400" y="140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81346" y="20200"/>
                </a:lnTo>
                <a:lnTo>
                  <a:pt x="81346" y="140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46" y="2020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The Challenge of Representations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2069"/>
                </a:solidFill>
                <a:latin typeface="Arial"/>
              </a:rPr>
              <a:t>Simulation design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Our Simulation Design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2069"/>
                </a:solidFill>
                <a:latin typeface="Arial"/>
              </a:rPr>
              <a:t>Simulation design</a:t>
            </a:r>
            <a:endParaRPr b="0" lang="en-US" sz="3000" spc="-1" strike="noStrike">
              <a:solidFill>
                <a:srgbClr val="682069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Explanatory Framework (model)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Symbolic representation (graphs and text)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2069"/>
                </a:solidFill>
                <a:latin typeface="Arial"/>
              </a:rPr>
              <a:t>Phenomenon (narrative)</a:t>
            </a: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820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2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820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2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2:13:29Z</dcterms:created>
  <dc:creator>Younmin</dc:creator>
  <dc:description/>
  <dc:language>en-US</dc:language>
  <cp:lastModifiedBy>IES</cp:lastModifiedBy>
  <dcterms:modified xsi:type="dcterms:W3CDTF">2010-06-14T16:33:05Z</dcterms:modified>
  <cp:revision>103</cp:revision>
  <dc:subject/>
  <dc:title>Slide 1</dc:title>
</cp:coreProperties>
</file>