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4A2-B30F-4A4E-9980-6CE075C4D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74E0-629E-409C-B01D-6E74EFED8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F308-B708-4DA4-AD0C-1DF58C207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2215-DF42-4304-8D7A-E3C0792D5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880F-3A33-4B11-B836-B5E67E26A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ake every day, 4 years, and an entering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class stays together all the way to grad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echanism of the program is that AVID really pushes its students to take honors and AP, even though many students enrolled in AVID would not typically do 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4D68-762E-415F-818A-1023A600A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1 decision is made by the National AVID Office AND the AVID district office in C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recently, AVID has primarily been implemented in suburban schools that have had a high percentages of students who attend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S is using AVID model very differently than it has been traditionally implemented, by implementing on a such large scale and within a single district AND in high schools that have had a strong history of colleg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our Analysis Today is BOTH a test of the performance of AVID student in CPS AND a test of the AVID model in urban schools that do not have large numbers of high achieving students or strong histories of college-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7BCE-10A5-4D69-8954-F04CFFAE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an- All AVID starters, compare program droppers to non-droppers (3 yrs vs 1 year, same time to grad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hool by school comparison-accountability ratings, AP exam taking, advanced coursework, graduation. Comparison school more disadvant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Research and Demonstration Corporation- 2005 and 06 cohorts of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rs -small schools, lower generaliz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125D-AD1C-4FB9-8852-3DCA188ED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6F08-27E8-4668-9495-0F8DF81E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67CC-E255-4002-95EB-8043001D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5569B-1214-4D64-9E56-40B5CE7C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3AFE9-9EC8-4D5E-BD63-7992F328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F80F0-F8AA-4C8C-83AC-5F3F5735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D4712-BA6C-4B4A-B4BC-3DEC8424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014DA-A96E-43A3-8E9E-4DFDFB92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23BB7-54FA-4411-B150-269A30C8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CBCB5-C592-422A-89E0-2CA3DC1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A7B18-CB41-4A9D-833A-DCC2ABE3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43161-1589-4AE0-9709-E36FBBA9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B6230-55D8-4CA8-8E1C-D80AD141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4B179-1B13-441F-A3F3-F285F51F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F2D25-8410-4049-A426-783F2A37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F4AEF-6CB0-47D3-AF91-7591138B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969DC-BC49-450C-B463-20E43BF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57AA7-4CEB-42C2-A6FA-4519A17D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CC9E3-96DE-4D6A-9D9A-2B9FBAC3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65DFD-8E48-4874-8B38-D0B57250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2230E-D434-4947-9E6D-3CF1DE7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9711B-D752-43A5-9F1E-4EB0E8E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A5B31-0BDF-4BF5-BC20-9D4BA43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C12E0-9C3B-43CF-80DF-BB2E485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B8731-D6B6-4DC7-95A0-2BC22ACB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446E7-220D-4DEC-A598-00554088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BF152-6A88-4E67-A390-FD238704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rban PP Slide Bod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66320" y="6019560"/>
            <a:ext cx="7620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rban PP Slide Bod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1066320" y="5943240"/>
            <a:ext cx="7620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Urban PP Slide 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3049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5409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7057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5513-6A49-47D1-8E86-84E9A4C74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Urban PP Slide Bac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6"/>
          </p:nvPr>
        </p:nvSpPr>
        <p:spPr>
          <a:xfrm>
            <a:off x="6857640" y="5028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7"/>
          </p:nvPr>
        </p:nvSpPr>
        <p:spPr>
          <a:xfrm>
            <a:off x="38098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8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A79A-E50F-403D-97F7-900486A5E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valuating the Impact of the Advancement Via Individual Determination Program on Ninth-Grade Students' Learning and Stud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y Nagaoka, Melissa Roderick, and Melanie La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9,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IES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ling with 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pensity scor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probability for treatment based on measur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: Only matching on measured characteristics (test scores, demographic characteristics, fixed effects for elementary school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rvey respons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of students in 14 AVID schools is divided into deciles based on propensity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ling with 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imulated Propensity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ost comparison of treatment constructed by simulating a comparison group of students who have a high propensity for AVID in the pre-AVID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propensity model coefficient weights and simulate probability for AVID in students before AVID was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groups: pre, post-period AVID, post-period not in 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 and post non-AVID should be similar once we control for background characteristics and cohort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is divided into deciles based on propensity scores with same cut points for pre and post co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GPA for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rade AVID and Non-AVID stude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AVID cohorts 2003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of having a B or better GP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rade AVID and Non-AVID stude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AVID cohorts 2003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Content Placeholder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track and absences for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rade AVID and Non-AVID stude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AVID cohorts 2003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 on-track r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Content Placeholder 6" descr=""/>
          <p:cNvPicPr/>
          <p:nvPr/>
        </p:nvPicPr>
        <p:blipFill>
          <a:blip r:embed="rId1"/>
          <a:stretch/>
        </p:blipFill>
        <p:spPr>
          <a:xfrm>
            <a:off x="507960" y="2225520"/>
            <a:ext cx="3938760" cy="3849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s absent per semester in 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Content Placeholder 7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38383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553440" cy="638496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7"/>
          <p:cNvCxnSpPr/>
          <p:nvPr/>
        </p:nvCxnSpPr>
        <p:spPr>
          <a:xfrm flipH="1">
            <a:off x="3885840" y="2514600"/>
            <a:ext cx="2160" cy="916560"/>
          </a:xfrm>
          <a:prstGeom prst="straightConnector1">
            <a:avLst/>
          </a:prstGeom>
          <a:ln w="76320">
            <a:solidFill>
              <a:srgbClr val="262673"/>
            </a:solidFill>
            <a:miter/>
            <a:tailEnd len="med" type="arrow" w="med"/>
          </a:ln>
        </p:spPr>
      </p:cxnSp>
      <p:sp>
        <p:nvSpPr>
          <p:cNvPr id="205" name="TextBox 11"/>
          <p:cNvSpPr/>
          <p:nvPr/>
        </p:nvSpPr>
        <p:spPr>
          <a:xfrm>
            <a:off x="1981080" y="632448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nsworth &amp; Easton (2007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matters for staying on-track and graduation from high school in Chicago Public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outcomes for Post-AVID cohorts 2003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ecil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ecile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ecile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ecile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 3.0+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B in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1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B in 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Abs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t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outcomes for Post-AVID cohorts 2003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" y="1676520"/>
          <a:ext cx="8763120" cy="3468600"/>
        </p:xfrm>
        <a:graphic>
          <a:graphicData uri="http://schemas.openxmlformats.org/drawingml/2006/table">
            <a:tbl>
              <a:tblPr/>
              <a:tblGrid>
                <a:gridCol w="846000"/>
                <a:gridCol w="809640"/>
                <a:gridCol w="993960"/>
                <a:gridCol w="1149120"/>
                <a:gridCol w="951120"/>
                <a:gridCol w="1047600"/>
                <a:gridCol w="993960"/>
                <a:gridCol w="1076400"/>
                <a:gridCol w="895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ability of  B or Better Core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ish 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  B or Better (E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 B or Better (Mat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-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sp>
        <p:nvSpPr>
          <p:cNvPr id="210" name="Rectangle 4"/>
          <p:cNvSpPr/>
          <p:nvPr/>
        </p:nvSpPr>
        <p:spPr>
          <a:xfrm>
            <a:off x="2895480" y="1219320"/>
            <a:ext cx="2133720" cy="3962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952880" y="1447920"/>
            <a:ext cx="2133720" cy="3962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ed Propensity Scores</a:t>
            </a:r>
            <a:br>
              <a:rPr sz="5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outcomes for Pre-AVID cohorts (2001 and 2002) and Post-AVID cohorts (2003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8600" y="1676520"/>
          <a:ext cx="8763120" cy="3468600"/>
        </p:xfrm>
        <a:graphic>
          <a:graphicData uri="http://schemas.openxmlformats.org/drawingml/2006/table">
            <a:tbl>
              <a:tblPr/>
              <a:tblGrid>
                <a:gridCol w="846000"/>
                <a:gridCol w="809640"/>
                <a:gridCol w="993960"/>
                <a:gridCol w="1149120"/>
                <a:gridCol w="951120"/>
                <a:gridCol w="1047600"/>
                <a:gridCol w="993960"/>
                <a:gridCol w="1076400"/>
                <a:gridCol w="895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ability of  B or Better Core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ish 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  B or Better (E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 B or Better (Mat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-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3"/>
          <p:cNvSpPr/>
          <p:nvPr/>
        </p:nvSpPr>
        <p:spPr>
          <a:xfrm>
            <a:off x="2209680" y="1676520"/>
            <a:ext cx="2133720" cy="373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981080" y="1371600"/>
            <a:ext cx="2133720" cy="396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191120" y="1600200"/>
            <a:ext cx="2133360" cy="396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72bfc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ed Propensity Scores</a:t>
            </a:r>
            <a:br>
              <a:rPr sz="9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outcomes for Pre-AVID cohorts (2001 and 2002) and Post-AVID cohorts (2003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600200"/>
          <a:ext cx="8229600" cy="4581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l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le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le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le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 3.0+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B in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B in 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Abs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*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t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V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in 1980 in San Diego,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AVID office was created to provide standards and oversight in implementation and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2010 school year: nearly 4,500 schools in 45 st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D in the Chicago Public Schools (CP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a larger initiative to improve student preparation for and access to postsecondary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mplemented in CPS in 2003-2004 in 8 high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to 42 high schools by 2007-2008 and 59 high schools currently, including 2 all-AVID high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study habits for Post-AVID cohorts 2003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do you agree with the follow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et time aside to do my homework and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ry to do well on my schoolwork even when it isn’t interesting to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need to study I don’t go out with my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lways study for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Content Placeholder 8" descr=""/>
          <p:cNvPicPr/>
          <p:nvPr/>
        </p:nvPicPr>
        <p:blipFill>
          <a:blip r:embed="rId1"/>
          <a:stretch/>
        </p:blipFill>
        <p:spPr>
          <a:xfrm>
            <a:off x="4695840" y="1676520"/>
            <a:ext cx="39402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skill and social outcomes for Post-AVID cohorts 2003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752480"/>
          <a:ext cx="8229600" cy="3962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e of belonging in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1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9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y ha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ortance of high school for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7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er support for academic achie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-student tr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8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academic skill and social outcomes for Post-AVID cohorts 2003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Content Placeholder 5" descr=""/>
          <p:cNvPicPr/>
          <p:nvPr/>
        </p:nvPicPr>
        <p:blipFill>
          <a:blip r:embed="rId1"/>
          <a:stretch/>
        </p:blipFill>
        <p:spPr>
          <a:xfrm>
            <a:off x="507960" y="1650960"/>
            <a:ext cx="812808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D is clearly doing a good job of selecting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D students are performing poorly i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GPA is &lt;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trong Effects may be linked to differences between CPS and other AVID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Achieving” may mean differe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study skills may not translate to large urban distri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ID focuses on improving student skills without changing what is happening in the classro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VID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&amp;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-based program, provides academic and soc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improve the preparation and college access of middle-achiev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VID Elective Class- “How to be a stude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iculum around Supports &amp; Skill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– organizational, note-taking, writing, critical thinking skills, and questio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– peer support, teacher guidance, college adv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VID Sit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Coordinator/Teacher; AVID Administrator; English, math, science, social studies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ID in the Chicago Public Schools (C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a larger initiative to improve student preparation for and access to postsecondary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mplemented in CPS in 2003-2004 in 8 high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to 42 high schools by 2007-2008 and 59 high schools currently, including 2 all-AVID high sch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on 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positiv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ikely to be enrolled in college (Mehan, et al., 199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with AVID have higher graduation rates, advanced course-taking (Watt, et al.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o not address selection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DC British Columbia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ize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urban, non-minority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nd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rtium on Chicago School Research data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S school records, including high school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nial survey of CPS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time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rs in 14 CPS AVID high schools, not in special education, enrolled in both fall and spring seme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,357 students in pre-AVID cohorts (2002 and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,031 students in post-AVID cohorts (2005 to 2008), 2,521 AVID students and 11,510 non-AVID stud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% female and 49% male, 68 % African-American, 23% Latino, 10%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VID students doing better than other students on critical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outcomes that predict high school and college gradua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se differences due to selection effec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Outc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critical for HS graduation and college enroll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year success strongly linked to HS graduation (Allensworth and Easton,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GPA benchmark critical (Roderick, Nagaoka and Allensworth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AVID have an impact 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outc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9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&amp; Skill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</a:rPr>
              <a:t>Academic: study ha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upports: peer support, sense of belonging, teacher-student trust, teacher support,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ulative weighted GPA and probability of 3.0 or higher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GPA and probability of B or better (English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 GPA and probability of B or better (Algebra or geome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7:20:55Z</dcterms:created>
  <dc:creator>Adams</dc:creator>
  <dc:description/>
  <dc:language>en-US</dc:language>
  <cp:lastModifiedBy>Jdabrowski</cp:lastModifiedBy>
  <dcterms:modified xsi:type="dcterms:W3CDTF">2010-07-02T17:00:02Z</dcterms:modified>
  <cp:revision>85</cp:revision>
  <dc:subject/>
  <dc:title>Slide 1</dc:title>
</cp:coreProperties>
</file>