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9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7EFE-83AA-45AF-9D72-A0B6BC3C9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1169-2F7A-40C3-BBC4-58734BD82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05EE-1E31-4391-BEC8-427C4EE2F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CBF8-AB4F-4BB3-8ED6-1CA128BF9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16FE-65E8-4D84-A3CC-DA2051080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take every day, 4 years, and an entering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class stays together all the way to grad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mechanism of the program is that AVID really pushes its students to take honors and AP, even though many students enrolled in AVID would not typically do 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07F0-B1A1-4B52-A04F-AA5447E8B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1 decision is made by the National AVID Office AND the AVID district office in C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recently, AVID has primarily been implemented in suburban schools that have had a high percentages of students who attend colle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S is using AVID model very differently than it has been traditionally implemented, by implementing on a such large scale and within a single district AND in high schools that have had a strong history of college 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our Analysis Today is BOTH a test of the performance of AVID student in CPS AND a test of the AVID model in urban schools that do not have large numbers of high achieving students or strong histories of college-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C47A-014E-4DAD-8BC5-CDDBD4A2E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han- All AVID starters, compare program droppers to non-droppers (3 yrs vs 1 year, same time to gradu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chool by school comparison-accountability ratings, AP exam taking, advanced coursework, graduation. Comparison school more disadvant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Research and Demonstration Corporation- 2005 and 06 cohorts of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rs -small schools, lower generaliz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D8A2-B700-429D-8BF1-910BCD81C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DC96-317B-4B2B-9C93-ECA8FA855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FFD0-ADC8-4F00-AF0A-C499D2EF9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972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8972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84988-8214-41E8-ACF6-F24F08DD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A44CE-DF14-4417-B661-956C9558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C5DA2-CF76-4903-80B7-2939E0FD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5C314-C5E8-4915-B21E-2FEF57BB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BBCC9-9489-4FF1-A8F9-8C6B37FF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D1D8F-62DB-445A-A73F-5A70011F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48699-7AD6-4E75-BB4D-1A347424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ADADA-DEE8-4239-AFA4-93148CB8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13184-4B0A-4EE4-B6C2-6C57A12A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78972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5DE88-5A3B-457E-A349-5633D256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18688-B701-4BB2-A9D4-A82CA960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0473A-9822-4C4C-AA24-1D0CFAAB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C5018-D6E1-4E67-A6DC-A945A0E2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A182B-A8CC-4E78-85E5-9A1E3CF5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682D05-30C7-4392-88D1-17FCD66B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31061-DE71-44AE-8A49-2F987C84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AABAD-02A5-4B4A-951B-5DC5ECFD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7B403-1BC1-417F-A820-FD95833F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B101D-51F8-4C53-8B33-40D19A21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CC916-0037-4E55-96FC-BF3F1D35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9AACBC-37D8-43B1-B8B9-1696AF44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78972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20BC3-3823-4607-BAA0-19443361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B946D-E3B4-430F-82F4-8B3523B1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789720"/>
            <a:ext cx="264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AD395-8ECA-46CE-AE17-086EA9CF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972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9720"/>
            <a:ext cx="8229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Urban PP Slide Bod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066320" y="6019560"/>
            <a:ext cx="7620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rban PP Slide Bod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1066320" y="5943240"/>
            <a:ext cx="76201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Urban PP Slide Ma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304920" y="5409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54097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705720" y="5409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258B-D81A-4ADC-91D2-6D18BBFAD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Urban PP Slide Bac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6"/>
          </p:nvPr>
        </p:nvSpPr>
        <p:spPr>
          <a:xfrm>
            <a:off x="6857640" y="5028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7"/>
          </p:nvPr>
        </p:nvSpPr>
        <p:spPr>
          <a:xfrm>
            <a:off x="38098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8"/>
          </p:nvPr>
        </p:nvSpPr>
        <p:spPr>
          <a:xfrm>
            <a:off x="6857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D346-683C-4E7E-8ED8-2F3D31DF5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valuating the Impact of the Advancement Via Individual Determination Program on Ninth-Grade Students' Learning and Stud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ny Nagaoka, Melissa Roderick, and Melanie La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9,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 IES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ling with Selection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pensity score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probability for treatment based on measure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backs: Only matching on measured characteristics (test scores, demographic characteristics, fixed effects for elementary school,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rvey respons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of students in 14 AVID schools is divided into deciles based on propensity 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ling with Selection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Simulated Propensity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post comparison of treatment constructed by simulating a comparison group of students who have a high propensity for AVID in the pre-AVID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propensity model coefficient weights and simulate probability for AVID in students before AVID was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groups: pre, post-period AVID, post-period not in AV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 and post non-AVID should be similar once we control for background characteristics and cohort eff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is divided into deciles based on propensity scores with same cut points for pre and post coh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erage GPA for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grade AVID and Non-AVID student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AVID cohorts 2003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Content Placeholder 3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25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of having a B or better GP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grade AVID and Non-AVID student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AVID cohorts 2003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Content Placeholder 3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25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-track and absences for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grade AVID and Non-AVID student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AVID cohorts 2003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ade on-track r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Content Placeholder 6" descr=""/>
          <p:cNvPicPr/>
          <p:nvPr/>
        </p:nvPicPr>
        <p:blipFill>
          <a:blip r:embed="rId1"/>
          <a:stretch/>
        </p:blipFill>
        <p:spPr>
          <a:xfrm>
            <a:off x="507960" y="2225520"/>
            <a:ext cx="3938760" cy="3849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ys absent per semester in 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Content Placeholder 7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383832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553440" cy="6384960"/>
          </a:xfrm>
          <a:prstGeom prst="rect">
            <a:avLst/>
          </a:prstGeom>
          <a:ln w="0">
            <a:noFill/>
          </a:ln>
        </p:spPr>
      </p:pic>
      <p:cxnSp>
        <p:nvCxnSpPr>
          <p:cNvPr id="204" name="Straight Arrow Connector 7"/>
          <p:cNvCxnSpPr/>
          <p:nvPr/>
        </p:nvCxnSpPr>
        <p:spPr>
          <a:xfrm flipH="1">
            <a:off x="3885840" y="2514600"/>
            <a:ext cx="2160" cy="916560"/>
          </a:xfrm>
          <a:prstGeom prst="straightConnector1">
            <a:avLst/>
          </a:prstGeom>
          <a:ln w="76320">
            <a:solidFill>
              <a:srgbClr val="262673"/>
            </a:solidFill>
            <a:miter/>
            <a:tailEnd len="med" type="arrow" w="med"/>
          </a:ln>
        </p:spPr>
      </p:cxnSp>
      <p:sp>
        <p:nvSpPr>
          <p:cNvPr id="205" name="TextBox 11"/>
          <p:cNvSpPr/>
          <p:nvPr/>
        </p:nvSpPr>
        <p:spPr>
          <a:xfrm>
            <a:off x="1981080" y="6324480"/>
            <a:ext cx="716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nsworth &amp; Easton (2007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hat matters for staying on-track and graduation from high school in Chicago Public 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nsity Score Match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de academic outcomes for Post-AVID cohorts 2003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600200"/>
          <a:ext cx="8229600" cy="46432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Decile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Decile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Decile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Decile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e 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 of  3.0+ 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0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 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 of B in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8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1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 of B in 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 Abs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tr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nsity Score Match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de academic outcomes for Post-AVID cohorts 2003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28600" y="1676520"/>
          <a:ext cx="8763120" cy="3468600"/>
        </p:xfrm>
        <a:graphic>
          <a:graphicData uri="http://schemas.openxmlformats.org/drawingml/2006/table">
            <a:tbl>
              <a:tblPr/>
              <a:tblGrid>
                <a:gridCol w="846000"/>
                <a:gridCol w="809640"/>
                <a:gridCol w="993960"/>
                <a:gridCol w="1149120"/>
                <a:gridCol w="951120"/>
                <a:gridCol w="1047600"/>
                <a:gridCol w="993960"/>
                <a:gridCol w="1076400"/>
                <a:gridCol w="895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 G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ability of  B or Better Core G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ish  G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  B or Better (E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 G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 B or Better (Mat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-T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1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0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8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2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sp>
        <p:nvSpPr>
          <p:cNvPr id="210" name="Rectangle 4"/>
          <p:cNvSpPr/>
          <p:nvPr/>
        </p:nvSpPr>
        <p:spPr>
          <a:xfrm>
            <a:off x="2895480" y="1219320"/>
            <a:ext cx="2133720" cy="3962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952880" y="1447920"/>
            <a:ext cx="2133720" cy="3962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ed Propensity Scores</a:t>
            </a:r>
            <a:br>
              <a:rPr sz="5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de academic outcomes for Pre-AVID cohorts (2001 and 2002) and Post-AVID cohorts (2003-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28600" y="1676520"/>
          <a:ext cx="8763120" cy="3468600"/>
        </p:xfrm>
        <a:graphic>
          <a:graphicData uri="http://schemas.openxmlformats.org/drawingml/2006/table">
            <a:tbl>
              <a:tblPr/>
              <a:tblGrid>
                <a:gridCol w="846000"/>
                <a:gridCol w="809640"/>
                <a:gridCol w="993960"/>
                <a:gridCol w="1149120"/>
                <a:gridCol w="951120"/>
                <a:gridCol w="1047600"/>
                <a:gridCol w="993960"/>
                <a:gridCol w="1076400"/>
                <a:gridCol w="895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 G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ability of  B or Better Core G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ish  G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  B or Better (E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 G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 B or Better (Mat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-T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3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ntique Olive"/>
                          <a:ea typeface="Times New Roman"/>
                        </a:rPr>
                        <a:t>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2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14" name="Rectangle 3"/>
          <p:cNvSpPr/>
          <p:nvPr/>
        </p:nvSpPr>
        <p:spPr>
          <a:xfrm>
            <a:off x="2209680" y="1676520"/>
            <a:ext cx="2133720" cy="3733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981080" y="1371600"/>
            <a:ext cx="2133720" cy="3962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191120" y="1600200"/>
            <a:ext cx="2133360" cy="3962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72bfc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ed Propensity Scores</a:t>
            </a:r>
            <a:br>
              <a:rPr sz="9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de academic outcomes for Pre-AVID cohorts (2001 and 2002) and Post-AVID cohorts (2003-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57200" y="1600200"/>
          <a:ext cx="8229600" cy="45813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le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le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le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le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e 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 of  3.0+ 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ntique Olive"/>
                          <a:ea typeface="Times New Roman"/>
                        </a:rPr>
                        <a:t>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 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 of B in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 of B in 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 Abs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2*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3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tr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AV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in 1980 in San Diego,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AVID office was created to provide standards and oversight in implementation and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-2010 school year: nearly 4,500 schools in 45 st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ID in the Chicago Public Schools (CP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a larger initiative to improve student preparation for and access to postsecondary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implemented in CPS in 2003-2004 in 8 high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d to 42 high schools by 2007-2008 and 59 high schools currently, including 2 all-AVID high schoo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rade study habits for Post-AVID cohorts 2003-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676520"/>
            <a:ext cx="40402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uch do you agree with the follow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set time aside to do my homework and st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try to do well on my schoolwork even when it isn’t interesting to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need to study I don’t go out with my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lways study for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Content Placeholder 8" descr=""/>
          <p:cNvPicPr/>
          <p:nvPr/>
        </p:nvPicPr>
        <p:blipFill>
          <a:blip r:embed="rId1"/>
          <a:stretch/>
        </p:blipFill>
        <p:spPr>
          <a:xfrm>
            <a:off x="4695840" y="1676520"/>
            <a:ext cx="394020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nsity Score Match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de academic skill and social outcomes for Post-AVID cohorts 2003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752480"/>
          <a:ext cx="8229600" cy="3962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le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e of belonging in sch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1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9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4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3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y ha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6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ortance of high school for the fu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67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4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er support for academic achie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cher-student tru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cher sup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2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81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nsity Score Match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academic skill and social outcomes for Post-AVID cohorts 2003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Content Placeholder 5" descr=""/>
          <p:cNvPicPr/>
          <p:nvPr/>
        </p:nvPicPr>
        <p:blipFill>
          <a:blip r:embed="rId1"/>
          <a:stretch/>
        </p:blipFill>
        <p:spPr>
          <a:xfrm>
            <a:off x="507960" y="1650960"/>
            <a:ext cx="812808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ID is clearly doing a good job of selecting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ID students are performing poorly in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GPA is &lt;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Strong Effects may be linked to differences between CPS and other AVID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Achieving” may mean different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study skills may not translate to large urban distri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ID focuses on improving student skills without changing what is happening in the classro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VID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&amp;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-based program, provides academic and soci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to improve the preparation and college access of middle-achieving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VID Elective Class- “How to be a studen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iculum around Supports &amp; Skill Buil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ademic – organizational, note-taking, writing, critical thinking skills, and question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– peer support, teacher guidance, college adv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VID Site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 Coordinator/Teacher; AVID Administrator; English, math, science, social studies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ID in the Chicago Public Schools (C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a larger initiative to improve student preparation for and access to postsecondary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implemented in CPS in 2003-2004 in 8 high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ed to 42 high schools by 2007-2008 and 59 high schools currently, including 2 all-AVID high sch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 on 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positive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likely to be enrolled in college (Mehan, et al., 1996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s with AVID have higher graduation rates, advanced course-taking (Watt, et al.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do not address selection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DC British Columbia Stu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ized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urban, non-minority distr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and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rtium on Chicago School Research data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S school records, including high school tran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ennial survey of CPS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-time 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ders in 14 CPS AVID high schools, not in special education, enrolled in both fall and spring seme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,357 students in pre-AVID cohorts (2002 and 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,031 students in post-AVID cohorts (2005 to 2008), 2,521 AVID students and 11,510 non-AVID stud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% female and 49% male, 68 % African-American, 23% Latino, 10% 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AVID students doing better than other students on critical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outcomes that predict high school and college graduatio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se differences due to selection effec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rade Outco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 critical for HS graduation and college enroll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man year success strongly linked to HS graduation (Allensworth and Easton,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GPA benchmark critical (Roderick, Nagaoka and Allensworth,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es AVID have an impact 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rade outco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9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s &amp; Skill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62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73"/>
                </a:solidFill>
                <a:latin typeface="Arial"/>
              </a:rPr>
              <a:t>Academic: study ha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supports: peer support, sense of belonging, teacher-student trust, teacher support,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ulative weighted GPA and probability of 3.0 or higher G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GPA and probability of B or better (English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 GPA and probability of B or better (Algebra or geome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7:20:55Z</dcterms:created>
  <dc:creator>Adams</dc:creator>
  <dc:description/>
  <dc:language>en-US</dc:language>
  <cp:lastModifiedBy>Jdabrowski</cp:lastModifiedBy>
  <dcterms:modified xsi:type="dcterms:W3CDTF">2010-07-02T17:00:02Z</dcterms:modified>
  <cp:revision>85</cp:revision>
  <dc:subject/>
  <dc:title>Slide 1</dc:title>
</cp:coreProperties>
</file>