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8404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211C-3F39-4B8D-AE8C-1160442039BE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D442-4084-4B07-B2E3-5EC8F0D00D3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1840-CCD2-4686-9B80-38098A1E1C1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felt it was important to tell them why we were studying FO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370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370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370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370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"/>
          <p:cNvPicPr/>
          <p:nvPr/>
        </p:nvPicPr>
        <p:blipFill>
          <a:blip r:embed="rId2"/>
          <a:stretch/>
        </p:blipFill>
        <p:spPr>
          <a:xfrm>
            <a:off x="0" y="152280"/>
            <a:ext cx="9145440" cy="75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" name="Object 6"/>
          <p:cNvGraphicFramePr/>
          <p:nvPr/>
        </p:nvGraphicFramePr>
        <p:xfrm>
          <a:off x="304920" y="5791320"/>
          <a:ext cx="3352680" cy="81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5791320"/>
                    <a:ext cx="335268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2000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Laying the Foundation for Scaling Up During Development </a:t>
            </a:r>
            <a:br>
              <a:rPr sz="3600"/>
            </a:br>
            <a:br>
              <a:rPr sz="1800"/>
            </a:b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533160" y="182844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  <a:ea typeface="Times New Roman"/>
              </a:rPr>
              <a:t>External valid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– fidelity in effectiveness studies helps to generalize results and provides “adequate documentation and guidelines for replication projects adopting a given model” </a:t>
            </a:r>
            <a:r>
              <a:rPr b="0" lang="en-US" sz="2600" spc="-1" strike="noStrike">
                <a:solidFill>
                  <a:srgbClr val="b2b2b2"/>
                </a:solidFill>
                <a:latin typeface="Arial"/>
                <a:ea typeface="Times New Roman"/>
              </a:rPr>
              <a:t>(Mowbray et al, 2003; Bybee, 2003; Raudenbush, 2003)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Role of developer and researcher is minimiz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Focus is not on monitoring and controlling levels of fidelity; instead, variations in fidelity are measured in a natural setting and accounted for in outcom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685800" y="99072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Arial Narrow"/>
              </a:rPr>
              <a:t>Definition: Scale-up Studi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Arial Narrow"/>
              </a:rPr>
              <a:t>O’Donnell (2008): Steps in Measuring Fidelity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art with curriculum profile or analysis; review program materials and consult with developer. Determine the intervention’s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program the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What does it mean to teach it with fide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developer’s and past implementers’ input, outline critical components of intervention divided by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struc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adherence, du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and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proce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quality of delivery, program differentiation, participant responsive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and outline range of variations for acceptable 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657600" y="6119640"/>
            <a:ext cx="5486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O’Donnell, C. L. (2008).Defining, conceptualizing, and measuring fidelity of implementation and its relationship to outcomes in K–12 curriculum intervention research.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Review of Educational Research, 78, 33–8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Arial Narrow"/>
              </a:rPr>
              <a:t>O’Donnell (2008): Steps in Measuring Fidelity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 checklists and other instruments to measure implementation of components (in most cases unit of analysis is the classroom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llect multi-dimensional data in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bo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treatment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comparison cond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questionnaires, classroom observations, self-report, student artifacts, interviews. Self-report data typically yields higher levels of fidelity than observed in the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djust outcomes if fidelity falls outside acceptable ran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3505320" y="5791320"/>
            <a:ext cx="5638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O’Donnell, C. L. (2008).Defining, conceptualizing, and measuring fidelity of implementation and its relationship to outcomes in K–12 curriculum intervention research.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Review of Educational Research, 78, 33–8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Arial Narrow"/>
              </a:rPr>
              <a:t>Know when &amp; how to use fidelity data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velop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Use fidelity results to inform revisions. Decide now what components are required to deliver the intervention as intended when implemented at sca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ffica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Monitor fidelity and relate it to outcomes to gain confidence that outcomes are due to the program (internal validity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pl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Determine if levels of fidelity and program results under a specific structure replicate under other organizational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cale-up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implementation conditions, tools, and processes needed to reproduce positive effects under routine practice on a larg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ca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ternal validity). Are methods for establishing high fidelity financially fea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Narrow"/>
              </a:rPr>
              <a:t>Bottom Line: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If the intervention can be implemented with adequate fidelity under conditions of routine practice and yield positive results, scale it up.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791320" cy="397044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4343400" y="63244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O’Donnell, 200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Arial Narrow"/>
              </a:rPr>
              <a:t> </a:t>
            </a:r>
            <a:r>
              <a:rPr b="1" lang="en-US" sz="3400" spc="-1" strike="noStrike">
                <a:solidFill>
                  <a:srgbClr val="006600"/>
                </a:solidFill>
                <a:latin typeface="Arial Narrow"/>
              </a:rPr>
              <a:t>Definition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idelity of implementation 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extent to which a program (including its content and process) is implemented as designe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w it is implemented (by the teache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w it is received (by the students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w long it takes to implement (duration); an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t looks like when it is implemented (qualit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" dur="1" fill="hold"/>
                                  <p:tgtEl>
                                    <p:spTgt spid="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32" dur="1" fill="hold"/>
                                  <p:tgtEl>
                                    <p:spTgt spid="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33" dur="1" fill="hold"/>
                                  <p:tgtEl>
                                    <p:spTgt spid="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34" dur="1" fill="hold"/>
                                  <p:tgtEl>
                                    <p:spTgt spid="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35" dur="1" fill="hold"/>
                                  <p:tgtEl>
                                    <p:spTgt spid="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36" dur="1" fill="hold"/>
                                  <p:tgtEl>
                                    <p:spTgt spid="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Arial Narrow"/>
              </a:rPr>
              <a:t>Motivation: What problems exist?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achers have difficulty teaching with fidelity when creativity, variability, and local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adapt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encoura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rs often fail to identify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ritical compon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n interven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ers often fail 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easu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ther components are delivered as intend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75248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are the 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</a:rPr>
              <a:t>critical component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the program? If the teacher skips part of the program, why does that happen, and what effect will it have on outcom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program </a:t>
            </a:r>
            <a:r>
              <a:rPr b="0" i="1" lang="en-US" sz="2600" spc="-1" strike="noStrike">
                <a:solidFill>
                  <a:srgbClr val="0070c0"/>
                </a:solidFill>
                <a:latin typeface="Arial"/>
              </a:rPr>
              <a:t>feasi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practical) for a teacher to use? Is it </a:t>
            </a:r>
            <a:r>
              <a:rPr b="0" i="1" lang="en-US" sz="2600" spc="-1" strike="noStrike">
                <a:solidFill>
                  <a:srgbClr val="0070c0"/>
                </a:solidFill>
                <a:latin typeface="Arial"/>
              </a:rPr>
              <a:t>usa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are the program goals clear)? If not, what changes should I make to the program? What programmatic support must be adde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</a:rPr>
              <a:t>ancillary component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ar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the program (e.g., professional development) and must be scaled-up with i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228240" y="9144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Arial Narrow"/>
              </a:rPr>
              <a:t>What questions about fidelity of implementation are asked during Development studies?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" dur="1" fill="hold"/>
                                  <p:tgtEl>
                                    <p:spTgt spid="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Arial Narrow"/>
              </a:rPr>
              <a:t>What questions about fidelity of implementation are asked during Efficacy studies?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ll is the program being implemented in comparison with the original program desig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what extent does the delivery of the intervention adhere to the program model originally develope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" dur="1" fill="hold"/>
                                  <p:tgtEl>
                                    <p:spTgt spid="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09120" y="20574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ow can effective programs be scaled up across many sites (i.e., if implementation is a moving target, generalizability of research may be imperiled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ow can we gain confidence that the observed student outcomes can be attributed to the progr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n we gauge the wide range of fidelity with which an intervention might be implemen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209680" y="6324480"/>
            <a:ext cx="739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nch, O’Donnell, Ruiz-Primo, Lee, &amp; Songer, 20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Arial Narrow"/>
              </a:rPr>
              <a:t>What questions about fidelity of implementation are asked during Scale-up studies?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4" dur="1" fill="hold"/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Arial Narrow"/>
              </a:rPr>
              <a:t>Definition: Efficacy Study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Efficac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first stage of program research following development . Efficacy is defined as “the ability of an intervention to produce the desired beneficial effect in expert hands and under ideal circumstances” (RCTs) </a:t>
            </a:r>
            <a:r>
              <a:rPr b="0" lang="en-US" sz="2800" spc="-1" strike="noStrike">
                <a:solidFill>
                  <a:srgbClr val="b2b2b2"/>
                </a:solidFill>
                <a:latin typeface="Arial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b2b2b2"/>
                </a:solidFill>
                <a:latin typeface="Arial"/>
                <a:ea typeface="Times New Roman"/>
              </a:rPr>
              <a:t>Dorland’s Illustrated Medical Dictionary</a:t>
            </a:r>
            <a:r>
              <a:rPr b="0" lang="en-US" sz="2800" spc="-1" strike="noStrike">
                <a:solidFill>
                  <a:srgbClr val="b2b2b2"/>
                </a:solidFill>
                <a:latin typeface="Arial"/>
                <a:ea typeface="Times New Roman"/>
              </a:rPr>
              <a:t>, 1994, p. 53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ailure to achieve desired outcomes in an efficacy study "give[s] evidence of theory failure, not implementation failure" </a:t>
            </a:r>
            <a:r>
              <a:rPr b="0" lang="en-US" sz="2800" spc="-1" strike="noStrike">
                <a:solidFill>
                  <a:srgbClr val="b2b2b2"/>
                </a:solidFill>
                <a:latin typeface="Arial"/>
                <a:ea typeface="Times New Roman"/>
              </a:rPr>
              <a:t>(Raudenbush, 2003, p. 4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83818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Internal valid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 determines that the program will result in successful achievement of the instructional objectives, provided the program is “delivered effectively as designed”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Times New Roman"/>
              </a:rPr>
              <a:t>(Gagne et al., 2005, p. 354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fficacy entails continuously monitoring and improving implementation to ensure the program is implemented with fidelity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Times New Roman"/>
              </a:rPr>
              <a:t>(Resnick et al., 200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novations succeed or fail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Times New Roman"/>
              </a:rPr>
              <a:t>(Dusenbury et al</a:t>
            </a:r>
            <a:r>
              <a:rPr b="0" i="1" lang="en-US" sz="2400" spc="-1" strike="noStrike">
                <a:solidFill>
                  <a:srgbClr val="b2b2b2"/>
                </a:solidFill>
                <a:latin typeface="Arial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Times New Roman"/>
              </a:rPr>
              <a:t>, 2003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lps determine which features of program are essential and require high fidelity, and which may be adapted or deleted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Times New Roman"/>
              </a:rPr>
              <a:t>(Mowbray et al., 200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Arial Narrow"/>
              </a:rPr>
              <a:t>Definition: Efficacy Studie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33520" y="1752120"/>
            <a:ext cx="80769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ventions with demonstrated benefit in efficac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udies are then transferred into effectiveness stud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iveness study is not simply a replication of an efficacy study with more subjects and more diverse outcome measures conducted in a naturalistic setting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Times New Roman"/>
              </a:rPr>
              <a:t>(Hohmann &amp; Shear, 2002).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Effectivenes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defined as “the ability of an intervention to produce the desired beneficial effect in actual use”  under routine conditions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Times New Roman"/>
              </a:rPr>
              <a:t>(Dorland, 1994, p. 531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er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diating and moderating factors can be identified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Times New Roman"/>
              </a:rPr>
              <a:t>(Aron et al., 1997; Mihalic, 2002; Raudenbush, 2003; Summerfelt &amp; Meltzer, 1998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Arial Narrow"/>
              </a:rPr>
              <a:t>Definition: Scale-up Study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5T21:28:51Z</dcterms:created>
  <dc:creator>Lauer, Kristen</dc:creator>
  <dc:description/>
  <dc:language>en-US</dc:language>
  <cp:lastModifiedBy>Jdabrowski</cp:lastModifiedBy>
  <dcterms:modified xsi:type="dcterms:W3CDTF">2010-07-02T16:11:42Z</dcterms:modified>
  <cp:revision>507</cp:revision>
  <dc:subject/>
  <dc:title>Early Childhood Activities</dc:title>
</cp:coreProperties>
</file>