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CD90-4F5B-4142-8C0C-10524C7F187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16CC-6942-4146-8024-F3D7F0168D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808C-8A7D-4D6E-956B-76D6ACF5A9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felt it was important to tell them why we were studying FO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0" y="152280"/>
            <a:ext cx="9145440" cy="75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6"/>
          <p:cNvGraphicFramePr/>
          <p:nvPr/>
        </p:nvGraphicFramePr>
        <p:xfrm>
          <a:off x="304920" y="5791320"/>
          <a:ext cx="335268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791320"/>
                    <a:ext cx="33526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200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ying the Foundation for Scaling Up During Development </a:t>
            </a:r>
            <a:br>
              <a:rPr sz="3600"/>
            </a:br>
            <a:br>
              <a:rPr sz="18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  <a:ea typeface="Times New Roman"/>
              </a:rPr>
              <a:t>External valid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fidelity in effectiveness studies helps to generalize results and provides “adequate documentation and guidelines for replication projects adopting a given model” </a:t>
            </a:r>
            <a:r>
              <a:rPr b="0" lang="en-US" sz="2600" spc="-1" strike="noStrike">
                <a:solidFill>
                  <a:srgbClr val="b2b2b2"/>
                </a:solidFill>
                <a:latin typeface="Arial"/>
                <a:ea typeface="Times New Roman"/>
              </a:rPr>
              <a:t>(Mowbray et al, 2003; Bybee, 2003; Raudenbush, 2003)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ole of developer and researcher is minimiz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ocus is not on monitoring and controlling levels of fidelity; instead, variations in fidelity are measured in a natural setting and accounted for in outcom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685800" y="9907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Definition: Scale-up Stud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O’Donnell (2008): Steps in Measuring Fidelit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rt with curriculum profile or analysis; review program materials and consult with developer. Determine the intervention’s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program the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What does it mean to teach it with fide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developer’s and past implementers’ input, outline critical components of intervention divided b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adherence, du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and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proc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quality of delivery, program differentiation, participant responsiv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and outline range of variations for acceptable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657600" y="6119640"/>
            <a:ext cx="548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’Donnell, C. L. (2008).Defining, conceptualizing, and measuring fidelity of implementation and its relationship to outcomes in K–12 curriculum intervention research.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Review of Educational Research, 78, 33–8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O’Donnell (2008): Steps in Measuring Fidelit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checklists and other instruments to measure implementation of components (in most cases unit of analysis is the classroom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llect multi-dimensional data in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treatment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comparison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questionnaires, classroom observations, self-report, student artifacts, interviews. Self-report data typically yields higher levels of fidelity than observed in the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 outcomes if fidelity falls outside acceptable r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3505320" y="5791320"/>
            <a:ext cx="563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’Donnell, C. L. (2008).Defining, conceptualizing, and measuring fidelity of implementation and its relationship to outcomes in K–12 curriculum intervention research.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Review of Educational Research, 78, 33–8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 Narrow"/>
              </a:rPr>
              <a:t>Know when &amp; how to use fidelity data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Use fidelity results to inform revisions. Decide now what components are required to deliver the intervention as intended when implemented at sc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fic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Monitor fidelity and relate it to outcomes to gain confidence that outcomes are due to the program (internal validit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Determine if levels of fidelity and program results under a specific structure replicate under other organizational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ale-up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implementation conditions, tools, and processes needed to reproduce positive effects under routine practice on a larg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ternal validity). Are methods for establishing high fidelity financially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Narrow"/>
              </a:rPr>
              <a:t>Bottom Line: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If the intervention can be implemented with adequate fidelity under conditions of routine practice and yield positive results, scale it up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791320" cy="3970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4343400" y="63244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O’Donnell, 200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Defini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delity of implementatio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xtent to which a program (including its content and process) is implemented as design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it is implemented (by the teach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it is received (by the student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long it takes to implement (duration); an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t looks like when it is implemented (qual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" dur="1" fill="hold"/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32" dur="1" fill="hold"/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33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34" dur="1" fill="hold"/>
                                  <p:tgtEl>
                                    <p:spTgt spid="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35" dur="1" fill="hold"/>
                                  <p:tgtEl>
                                    <p:spTgt spid="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36" dur="1" fill="hold"/>
                                  <p:tgtEl>
                                    <p:spTgt spid="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Motivation: What problems exist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s have difficulty teaching with fidelity when creativity, variability, and loc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adap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encour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rs often fail to identify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itical compon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interven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ers often fail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asu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components are delivered as inten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</a:rPr>
              <a:t>critical componen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the program? If the teacher skips part of the program, why does that happen, and what effect will it have on outcom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program </a:t>
            </a:r>
            <a:r>
              <a:rPr b="0" i="1" lang="en-US" sz="2600" spc="-1" strike="noStrike">
                <a:solidFill>
                  <a:srgbClr val="0070c0"/>
                </a:solidFill>
                <a:latin typeface="Arial"/>
              </a:rPr>
              <a:t>feasi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practical) for a teacher to use? Is it </a:t>
            </a:r>
            <a:r>
              <a:rPr b="0" i="1" lang="en-US" sz="2600" spc="-1" strike="noStrike">
                <a:solidFill>
                  <a:srgbClr val="0070c0"/>
                </a:solidFill>
                <a:latin typeface="Arial"/>
              </a:rPr>
              <a:t>us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are the program goals clear)? If not, what changes should I make to the program? What programmatic support must be add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</a:rPr>
              <a:t>ancillary componen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 program (e.g., professional development) and must be scaled-up with 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28240" y="9144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What questions about fidelity of implementation are asked during Development studies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What questions about fidelity of implementation are asked during Efficacy studies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ll is the program being implemented in comparison with the original program des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extent does the delivery of the intervention adhere to the program model originally develop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120" y="20574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effective programs be scaled up across many sites (i.e., if implementation is a moving target, generalizability of research may be imperile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we gain confidence that the observed student outcomes can be attributed to the pro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we gauge the wide range of fidelity with which an intervention might be implemen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209680" y="632448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ch, O’Donnell, Ruiz-Primo, Lee, &amp; Songer, 2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What questions about fidelity of implementation are asked during Scale-up studies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Definition: Efficacy Stud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Efficac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first stage of program research following development . Efficacy is defined as “the ability of an intervention to produce the desired beneficial effect in expert hands and under ideal circumstances” (RCTs)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b2b2b2"/>
                </a:solidFill>
                <a:latin typeface="Arial"/>
                <a:ea typeface="Times New Roman"/>
              </a:rPr>
              <a:t>Dorland’s Illustrated Medical Dictionary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  <a:ea typeface="Times New Roman"/>
              </a:rPr>
              <a:t>, 1994, p. 53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achieve desired outcomes in an efficacy study "give[s] evidence of theory failure, not implementation failure"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  <a:ea typeface="Times New Roman"/>
              </a:rPr>
              <a:t>(Raudenbush, 2003, p. 4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81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Internal valid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determines that the program will result in successful achievement of the instructional objectives, provided the program is “delivered effectively as designed”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(Gagne et al., 2005, p. 354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ficacy entails continuously monitoring and improving implementation to ensure the program is implemented with fidelity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(Resnick et al., 200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tions succeed or fail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(Dusenbury et al</a:t>
            </a:r>
            <a:r>
              <a:rPr b="0" i="1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, 2003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lps determine which features of program are essential and require high fidelity, and which may be adapted or deleted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(Mowbray et al., 200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Definition: Efficacy Studi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entions with demonstrated benefit in efficac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udies are then transferred into effectiveness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ness study is not simply a replication of an efficacy study with more subjects and more diverse outcome measures conducted in a naturalistic setting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(Hohmann &amp; Shear, 2002).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Effectivenes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defined as “the ability of an intervention to produce the desired beneficial effect in actual use”  under routine conditions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(Dorland, 1994, p. 53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er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diating and moderating factors can be identified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(Aron et al., 1997; Mihalic, 2002; Raudenbush, 2003; Summerfelt &amp; Meltzer, 199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Definition: Scale-up Stud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5T21:28:51Z</dcterms:created>
  <dc:creator>Lauer, Kristen</dc:creator>
  <dc:description/>
  <dc:language>en-US</dc:language>
  <cp:lastModifiedBy>Jdabrowski</cp:lastModifiedBy>
  <dcterms:modified xsi:type="dcterms:W3CDTF">2010-07-02T16:11:42Z</dcterms:modified>
  <cp:revision>507</cp:revision>
  <dc:subject/>
  <dc:title>Early Childhood Activities</dc:title>
</cp:coreProperties>
</file>