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392D9-3A05-4C5F-947A-A088B03C3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4B25B-AD04-430F-BACB-3327A1C02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5EF12-55E0-407D-A3F9-371E0BF3A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81A52-8866-40F3-B2C8-17A8F4919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bound: H.S. = 1.3%; M.S. = .5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ut of School: H.S. = 4.2%; M.S. = 2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DC30B-1841-4DFB-9ED4-D12B49527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4BCC1-AD1B-4075-AF39-D320EF570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E0B34-BB1F-4B63-A27B-8165E81E3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32CE5-33E4-4C42-8842-7F842B07B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E6028-55CC-428A-ABC5-07AC253DE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025DE-2CEB-4663-AB7B-36F2E064B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F0D5C-39DD-4541-B906-7E0CF00FA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D8986-B341-4D39-A4EF-44EBF8C4D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7C3ED-43CD-4BB6-BB63-A0002AD7A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994DC-53DA-4816-98E0-DB45AB091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94FBF-9625-49BD-8C9F-9C7D9290B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C9E00-F388-4984-818F-D91A79142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8031A-3F67-4975-BEB5-FD434157F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EEE2D-871E-47F0-8144-5C34080E4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BB1DF-E40C-4A80-A2C9-5E5EF313A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FFC7B-1719-4811-B274-3E2F14461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S. N=573 (56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N=452 (4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77753-407F-479E-8304-11F61CE7A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0D51E-D8F0-4ECA-B674-89D17E310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choo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73); Middle Schoo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S National Center for Education Statistics 2007-2008, average sizes: HS = 881, MS = 5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674); U (1089); S (1281); RS (1017); US (118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s &gt; R; S &gt; U, RS; US &gt; 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7C57E-1963-4F4D-81DD-3A2F42B3E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&gt; all other groups**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&gt; 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fferences % with IEP by HS (16%), MS (15.5%), Total (15.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1C1E9-C164-48D5-B924-9834BB4AC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our sample showing such elevated rates of 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estimation of respondents (teachers, not necessarily district-level personn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 are those professionals who are particularly concerned about ED students and work in schools with disproportionately high rates of students classified with 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fference by density (R 2.9%, U 3.8%, S 2.7%, RS 3.3%, US 3.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FE86-77E2-4F3A-BDC7-937F5272F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8E5-7E25-4505-AE2D-E4A105C7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3F6-E0B0-4807-A324-9985CEA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EF2-77DE-4323-9981-9C3CE76D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A0A-03C5-42AA-B344-1C5E6CED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73D-1D96-4DD5-81E0-4C0F0209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BCB-E535-483C-9955-4AECE07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60A-501A-4313-951F-6EA11A4A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ED4-6D67-4813-B20F-B2F9713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45B-AA41-469C-BC97-40F3DA3E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4F0-5BE4-4D9D-9EBA-276E530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3F5-A992-4999-A7AF-0DAA286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9F0-8360-4317-9FAB-D7B611C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3C556-6EAE-43D1-A6F2-106EC4D83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12560"/>
            <a:ext cx="9144000" cy="19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Georgia"/>
              </a:rPr>
              <a:t>Special Education Teachers’ Perspectives on Interventions for Adolescents with Emotional and Behavioral Disorders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2325240"/>
            <a:ext cx="7470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Georgia"/>
              </a:rPr>
              <a:t>Carl E. Paternite, Ph.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Georgia"/>
              </a:rPr>
              <a:t>Stephen P. Becker, M.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Center for School-Based Mental Health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iami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  <a:ea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 Annual IES Research Conference, June 30, 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ars_logo_med_109.jpg"/>
          <p:cNvPicPr/>
          <p:nvPr/>
        </p:nvPicPr>
        <p:blipFill>
          <a:blip r:embed="rId1"/>
          <a:stretch/>
        </p:blipFill>
        <p:spPr>
          <a:xfrm>
            <a:off x="2968560" y="4575240"/>
            <a:ext cx="3665520" cy="1233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39560" y="56149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00000"/>
                </a:solidFill>
                <a:latin typeface="Garamond"/>
              </a:rPr>
              <a:t>Center for Adolescent Research in Sch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900000"/>
                </a:solidFill>
                <a:latin typeface="Garamond"/>
              </a:rPr>
              <a:t>Moving Youth Toward Su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Social Maladjustment: Adherence to the Exclusionary Cla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hart 5" descr=""/>
          <p:cNvPicPr/>
          <p:nvPr/>
        </p:nvPicPr>
        <p:blipFill>
          <a:blip r:embed="rId1"/>
          <a:stretch/>
        </p:blipFill>
        <p:spPr>
          <a:xfrm>
            <a:off x="907920" y="1341360"/>
            <a:ext cx="74548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Educational Placement Set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pic>
        <p:nvPicPr>
          <p:cNvPr id="85" name="Chart 8" descr=""/>
          <p:cNvPicPr/>
          <p:nvPr/>
        </p:nvPicPr>
        <p:blipFill>
          <a:blip r:embed="rId2"/>
          <a:stretch/>
        </p:blipFill>
        <p:spPr>
          <a:xfrm>
            <a:off x="249120" y="1285920"/>
            <a:ext cx="8675640" cy="5237280"/>
          </a:xfrm>
          <a:prstGeom prst="rect">
            <a:avLst/>
          </a:prstGeom>
          <a:ln w="0">
            <a:noFill/>
          </a:ln>
        </p:spPr>
      </p:pic>
      <p:sp>
        <p:nvSpPr>
          <p:cNvPr id="86" name="Oval 6"/>
          <p:cNvSpPr/>
          <p:nvPr/>
        </p:nvSpPr>
        <p:spPr>
          <a:xfrm>
            <a:off x="4013280" y="1274760"/>
            <a:ext cx="11779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6"/>
          <p:cNvSpPr/>
          <p:nvPr/>
        </p:nvSpPr>
        <p:spPr>
          <a:xfrm>
            <a:off x="4013280" y="3552840"/>
            <a:ext cx="11779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83566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Significant Placement Differen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hart 6" descr=""/>
          <p:cNvPicPr/>
          <p:nvPr/>
        </p:nvPicPr>
        <p:blipFill>
          <a:blip r:embed="rId1"/>
          <a:stretch/>
        </p:blipFill>
        <p:spPr>
          <a:xfrm>
            <a:off x="4352760" y="1163520"/>
            <a:ext cx="4572000" cy="5256360"/>
          </a:xfrm>
          <a:prstGeom prst="rect">
            <a:avLst/>
          </a:prstGeom>
          <a:ln w="0">
            <a:noFill/>
          </a:ln>
        </p:spPr>
      </p:pic>
      <p:pic>
        <p:nvPicPr>
          <p:cNvPr id="90" name="Chart 7" descr=""/>
          <p:cNvPicPr/>
          <p:nvPr/>
        </p:nvPicPr>
        <p:blipFill>
          <a:blip r:embed="rId2"/>
          <a:stretch/>
        </p:blipFill>
        <p:spPr>
          <a:xfrm>
            <a:off x="281160" y="1414440"/>
            <a:ext cx="4297320" cy="5005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458640" y="781200"/>
            <a:ext cx="3687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Between High Schools and Middle School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1973160" y="326880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Elbow Connector 13"/>
          <p:cNvCxnSpPr/>
          <p:nvPr/>
        </p:nvCxnSpPr>
        <p:spPr>
          <a:xfrm flipH="1" rot="10800000">
            <a:off x="1395000" y="3637800"/>
            <a:ext cx="2066040" cy="551520"/>
          </a:xfrm>
          <a:prstGeom prst="bentConnector3">
            <a:avLst>
              <a:gd name="adj1" fmla="val -1097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4" name="Elbow Connector 26"/>
          <p:cNvCxnSpPr/>
          <p:nvPr/>
        </p:nvCxnSpPr>
        <p:spPr>
          <a:xfrm flipH="1" rot="16200000">
            <a:off x="2900160" y="4200840"/>
            <a:ext cx="1145160" cy="1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5" name="Elbow Connector 41"/>
          <p:cNvCxnSpPr/>
          <p:nvPr/>
        </p:nvCxnSpPr>
        <p:spPr>
          <a:xfrm flipH="1" rot="10800000">
            <a:off x="5984640" y="1167840"/>
            <a:ext cx="1850040" cy="524160"/>
          </a:xfrm>
          <a:prstGeom prst="bentConnector3">
            <a:avLst>
              <a:gd name="adj1" fmla="val -467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6" name="Elbow Connector 44"/>
          <p:cNvCxnSpPr/>
          <p:nvPr/>
        </p:nvCxnSpPr>
        <p:spPr>
          <a:xfrm rot="5400000">
            <a:off x="6783480" y="2218320"/>
            <a:ext cx="2100960" cy="1080"/>
          </a:xfrm>
          <a:prstGeom prst="bentConnector3">
            <a:avLst>
              <a:gd name="adj1" fmla="val 49991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97" name="TextBox 48"/>
          <p:cNvSpPr/>
          <p:nvPr/>
        </p:nvSpPr>
        <p:spPr>
          <a:xfrm>
            <a:off x="6346800" y="116856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78364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Often Do Various Persons 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Initiate ED Evaluations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396720" y="2265480"/>
            <a:ext cx="146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tu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 flipV="1">
            <a:off x="887040" y="2711160"/>
            <a:ext cx="24444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887400" y="4008600"/>
            <a:ext cx="146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Nur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17"/>
          <p:cNvSpPr/>
          <p:nvPr/>
        </p:nvSpPr>
        <p:spPr>
          <a:xfrm flipH="1">
            <a:off x="1620360" y="3473280"/>
            <a:ext cx="244440" cy="53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887400" y="1557360"/>
            <a:ext cx="3733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ental Health Provi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803160" y="4983120"/>
            <a:ext cx="220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ocial Work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23"/>
          <p:cNvSpPr/>
          <p:nvPr/>
        </p:nvSpPr>
        <p:spPr>
          <a:xfrm flipH="1">
            <a:off x="1905120" y="3435480"/>
            <a:ext cx="1216080" cy="15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24"/>
          <p:cNvSpPr/>
          <p:nvPr/>
        </p:nvSpPr>
        <p:spPr>
          <a:xfrm>
            <a:off x="2355840" y="2003400"/>
            <a:ext cx="765360" cy="143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4"/>
          <p:cNvSpPr/>
          <p:nvPr/>
        </p:nvSpPr>
        <p:spPr>
          <a:xfrm>
            <a:off x="1620720" y="5783400"/>
            <a:ext cx="33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pecial Ed. Coordina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6"/>
          <p:cNvSpPr/>
          <p:nvPr/>
        </p:nvSpPr>
        <p:spPr>
          <a:xfrm flipH="1">
            <a:off x="3304800" y="3473280"/>
            <a:ext cx="428760" cy="231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3519360" y="4689360"/>
            <a:ext cx="220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arent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4192560" y="3475080"/>
            <a:ext cx="144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121200" y="2109960"/>
            <a:ext cx="322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sychologi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51"/>
          <p:cNvSpPr/>
          <p:nvPr/>
        </p:nvSpPr>
        <p:spPr>
          <a:xfrm>
            <a:off x="4191840" y="2556000"/>
            <a:ext cx="152280" cy="9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4"/>
          <p:cNvSpPr/>
          <p:nvPr/>
        </p:nvSpPr>
        <p:spPr>
          <a:xfrm>
            <a:off x="4038480" y="5337000"/>
            <a:ext cx="33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rincipal/Administra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55"/>
          <p:cNvSpPr/>
          <p:nvPr/>
        </p:nvSpPr>
        <p:spPr>
          <a:xfrm>
            <a:off x="4621320" y="3475080"/>
            <a:ext cx="1100160" cy="186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8"/>
          <p:cNvSpPr/>
          <p:nvPr/>
        </p:nvSpPr>
        <p:spPr>
          <a:xfrm>
            <a:off x="4390920" y="1333440"/>
            <a:ext cx="178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Counsel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9"/>
          <p:cNvSpPr/>
          <p:nvPr/>
        </p:nvSpPr>
        <p:spPr>
          <a:xfrm flipH="1">
            <a:off x="4987440" y="1779480"/>
            <a:ext cx="29556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3"/>
          <p:cNvSpPr/>
          <p:nvPr/>
        </p:nvSpPr>
        <p:spPr>
          <a:xfrm>
            <a:off x="5721480" y="1819440"/>
            <a:ext cx="284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pecial Ed. Teach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4"/>
          <p:cNvSpPr/>
          <p:nvPr/>
        </p:nvSpPr>
        <p:spPr>
          <a:xfrm flipH="1">
            <a:off x="5204880" y="2265480"/>
            <a:ext cx="1033560" cy="11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7"/>
          <p:cNvSpPr/>
          <p:nvPr/>
        </p:nvSpPr>
        <p:spPr>
          <a:xfrm>
            <a:off x="6173640" y="4238640"/>
            <a:ext cx="2840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Classroom Teach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68"/>
          <p:cNvSpPr/>
          <p:nvPr/>
        </p:nvSpPr>
        <p:spPr>
          <a:xfrm flipH="1" flipV="1">
            <a:off x="5955840" y="3474720"/>
            <a:ext cx="668520" cy="76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5956200" y="3852720"/>
            <a:ext cx="305748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0" y="2003400"/>
            <a:ext cx="1957320" cy="952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160200" y="34750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Ne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7"/>
          <p:cNvSpPr/>
          <p:nvPr/>
        </p:nvSpPr>
        <p:spPr>
          <a:xfrm>
            <a:off x="6977160" y="3473280"/>
            <a:ext cx="19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Alw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305160" y="4483080"/>
            <a:ext cx="1774800" cy="85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78364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Active a Role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is Played in Placement Decision-Mak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173320" y="3862440"/>
            <a:ext cx="1466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tu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4"/>
          <p:cNvSpPr/>
          <p:nvPr/>
        </p:nvSpPr>
        <p:spPr>
          <a:xfrm flipH="1">
            <a:off x="3487320" y="3475080"/>
            <a:ext cx="444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824040" y="5099040"/>
            <a:ext cx="3733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ental Health Provi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3487680" y="1557360"/>
            <a:ext cx="2203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Counselor/Social Work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24"/>
          <p:cNvSpPr/>
          <p:nvPr/>
        </p:nvSpPr>
        <p:spPr>
          <a:xfrm flipV="1">
            <a:off x="3242520" y="3457440"/>
            <a:ext cx="1514520" cy="164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2"/>
          <p:cNvSpPr/>
          <p:nvPr/>
        </p:nvSpPr>
        <p:spPr>
          <a:xfrm>
            <a:off x="6151680" y="1557360"/>
            <a:ext cx="2201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arent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43"/>
          <p:cNvSpPr/>
          <p:nvPr/>
        </p:nvSpPr>
        <p:spPr>
          <a:xfrm flipH="1" flipV="1">
            <a:off x="6670440" y="2003400"/>
            <a:ext cx="306360" cy="14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50"/>
          <p:cNvSpPr/>
          <p:nvPr/>
        </p:nvSpPr>
        <p:spPr>
          <a:xfrm>
            <a:off x="6977160" y="2092320"/>
            <a:ext cx="1949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sychologi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51"/>
          <p:cNvSpPr/>
          <p:nvPr/>
        </p:nvSpPr>
        <p:spPr>
          <a:xfrm>
            <a:off x="7252560" y="2538360"/>
            <a:ext cx="152280" cy="9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4"/>
          <p:cNvSpPr/>
          <p:nvPr/>
        </p:nvSpPr>
        <p:spPr>
          <a:xfrm>
            <a:off x="4557600" y="4454640"/>
            <a:ext cx="211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Administra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55"/>
          <p:cNvSpPr/>
          <p:nvPr/>
        </p:nvSpPr>
        <p:spPr>
          <a:xfrm flipH="1">
            <a:off x="6009840" y="3475080"/>
            <a:ext cx="660600" cy="9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5283360" y="2265480"/>
            <a:ext cx="1123920" cy="11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67"/>
          <p:cNvSpPr/>
          <p:nvPr/>
        </p:nvSpPr>
        <p:spPr>
          <a:xfrm>
            <a:off x="6637320" y="5337000"/>
            <a:ext cx="1716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Teacher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68"/>
          <p:cNvSpPr/>
          <p:nvPr/>
        </p:nvSpPr>
        <p:spPr>
          <a:xfrm flipV="1">
            <a:off x="7252560" y="3475080"/>
            <a:ext cx="291960" cy="186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792760" y="5099040"/>
            <a:ext cx="305928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05120" y="3608280"/>
            <a:ext cx="1957320" cy="952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220680" y="3608280"/>
            <a:ext cx="120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No Active R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7"/>
          <p:cNvSpPr/>
          <p:nvPr/>
        </p:nvSpPr>
        <p:spPr>
          <a:xfrm>
            <a:off x="7545240" y="3608280"/>
            <a:ext cx="13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Very Active R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20" descr=""/>
          <p:cNvPicPr/>
          <p:nvPr/>
        </p:nvPicPr>
        <p:blipFill>
          <a:blip r:embed="rId1"/>
          <a:stretch/>
        </p:blipFill>
        <p:spPr>
          <a:xfrm>
            <a:off x="4584600" y="895320"/>
            <a:ext cx="4583160" cy="5505480"/>
          </a:xfrm>
          <a:prstGeom prst="rect">
            <a:avLst/>
          </a:prstGeom>
          <a:ln w="0">
            <a:noFill/>
          </a:ln>
        </p:spPr>
      </p:pic>
      <p:pic>
        <p:nvPicPr>
          <p:cNvPr id="160" name="Chart 23" descr=""/>
          <p:cNvPicPr/>
          <p:nvPr/>
        </p:nvPicPr>
        <p:blipFill>
          <a:blip r:embed="rId2"/>
          <a:stretch/>
        </p:blipFill>
        <p:spPr>
          <a:xfrm>
            <a:off x="438120" y="895320"/>
            <a:ext cx="4584600" cy="5505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36240"/>
            <a:ext cx="8481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Elbow Connector 9"/>
          <p:cNvCxnSpPr/>
          <p:nvPr/>
        </p:nvCxnSpPr>
        <p:spPr>
          <a:xfrm flipH="1" rot="10800000">
            <a:off x="1668240" y="3901320"/>
            <a:ext cx="2095920" cy="413640"/>
          </a:xfrm>
          <a:prstGeom prst="bentConnector3">
            <a:avLst>
              <a:gd name="adj1" fmla="val -3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63" name="Elbow Connector 10"/>
          <p:cNvCxnSpPr/>
          <p:nvPr/>
        </p:nvCxnSpPr>
        <p:spPr>
          <a:xfrm rot="5400000">
            <a:off x="3262320" y="4386600"/>
            <a:ext cx="1010520" cy="90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64" name="TextBox 11"/>
          <p:cNvSpPr/>
          <p:nvPr/>
        </p:nvSpPr>
        <p:spPr>
          <a:xfrm>
            <a:off x="2001960" y="345600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6516720" y="77796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Elbow Connector 16"/>
          <p:cNvCxnSpPr/>
          <p:nvPr/>
        </p:nvCxnSpPr>
        <p:spPr>
          <a:xfrm flipV="1">
            <a:off x="6138360" y="1207440"/>
            <a:ext cx="1940760" cy="246600"/>
          </a:xfrm>
          <a:prstGeom prst="bentConnector3">
            <a:avLst>
              <a:gd name="adj1" fmla="val 113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67" name="Elbow Connector 22"/>
          <p:cNvCxnSpPr/>
          <p:nvPr/>
        </p:nvCxnSpPr>
        <p:spPr>
          <a:xfrm rot="5400000">
            <a:off x="7274160" y="2012040"/>
            <a:ext cx="16074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19" descr=""/>
          <p:cNvPicPr/>
          <p:nvPr/>
        </p:nvPicPr>
        <p:blipFill>
          <a:blip r:embed="rId1"/>
          <a:stretch/>
        </p:blipFill>
        <p:spPr>
          <a:xfrm>
            <a:off x="4565520" y="1463760"/>
            <a:ext cx="4584960" cy="4943520"/>
          </a:xfrm>
          <a:prstGeom prst="rect">
            <a:avLst/>
          </a:prstGeom>
          <a:ln w="0">
            <a:noFill/>
          </a:ln>
        </p:spPr>
      </p:pic>
      <p:pic>
        <p:nvPicPr>
          <p:cNvPr id="169" name="Chart 21" descr=""/>
          <p:cNvPicPr/>
          <p:nvPr/>
        </p:nvPicPr>
        <p:blipFill>
          <a:blip r:embed="rId2"/>
          <a:stretch/>
        </p:blipFill>
        <p:spPr>
          <a:xfrm>
            <a:off x="-6480" y="1463760"/>
            <a:ext cx="4584960" cy="494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840" y="126720"/>
            <a:ext cx="875196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Teacher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Elbow Connector 9"/>
          <p:cNvCxnSpPr/>
          <p:nvPr/>
        </p:nvCxnSpPr>
        <p:spPr>
          <a:xfrm flipH="1" rot="10800000">
            <a:off x="1252080" y="2126520"/>
            <a:ext cx="2067840" cy="591120"/>
          </a:xfrm>
          <a:prstGeom prst="bentConnector3">
            <a:avLst>
              <a:gd name="adj1" fmla="val -36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72" name="TextBox 11"/>
          <p:cNvSpPr/>
          <p:nvPr/>
        </p:nvSpPr>
        <p:spPr>
          <a:xfrm>
            <a:off x="1542960" y="2128680"/>
            <a:ext cx="14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6299280" y="127008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Elbow Connector 16"/>
          <p:cNvCxnSpPr/>
          <p:nvPr/>
        </p:nvCxnSpPr>
        <p:spPr>
          <a:xfrm flipV="1">
            <a:off x="6105600" y="1269360"/>
            <a:ext cx="1869120" cy="857880"/>
          </a:xfrm>
          <a:prstGeom prst="bentConnector3">
            <a:avLst>
              <a:gd name="adj1" fmla="val 886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75" name="Elbow Connector 22"/>
          <p:cNvCxnSpPr/>
          <p:nvPr/>
        </p:nvCxnSpPr>
        <p:spPr>
          <a:xfrm flipH="1" rot="16200000">
            <a:off x="7667640" y="1575360"/>
            <a:ext cx="612000" cy="1080"/>
          </a:xfrm>
          <a:prstGeom prst="bentConnector3">
            <a:avLst>
              <a:gd name="adj1" fmla="val 4997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76" name="Elbow Connector 25"/>
          <p:cNvCxnSpPr/>
          <p:nvPr/>
        </p:nvCxnSpPr>
        <p:spPr>
          <a:xfrm rot="5400000">
            <a:off x="3240360" y="2207160"/>
            <a:ext cx="159480" cy="2160"/>
          </a:xfrm>
          <a:prstGeom prst="bentConnector3">
            <a:avLst>
              <a:gd name="adj1" fmla="val 166063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hart 10" descr=""/>
          <p:cNvPicPr/>
          <p:nvPr/>
        </p:nvPicPr>
        <p:blipFill>
          <a:blip r:embed="rId1"/>
          <a:stretch/>
        </p:blipFill>
        <p:spPr>
          <a:xfrm>
            <a:off x="4389480" y="1163520"/>
            <a:ext cx="4583160" cy="5243760"/>
          </a:xfrm>
          <a:prstGeom prst="rect">
            <a:avLst/>
          </a:prstGeom>
          <a:ln w="0">
            <a:noFill/>
          </a:ln>
        </p:spPr>
      </p:pic>
      <p:pic>
        <p:nvPicPr>
          <p:cNvPr id="178" name="Chart 12" descr=""/>
          <p:cNvPicPr/>
          <p:nvPr/>
        </p:nvPicPr>
        <p:blipFill>
          <a:blip r:embed="rId2"/>
          <a:stretch/>
        </p:blipFill>
        <p:spPr>
          <a:xfrm>
            <a:off x="384120" y="1163520"/>
            <a:ext cx="4194360" cy="5243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840" y="126720"/>
            <a:ext cx="875196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Elbow Connector 9"/>
          <p:cNvCxnSpPr/>
          <p:nvPr/>
        </p:nvCxnSpPr>
        <p:spPr>
          <a:xfrm flipH="1" rot="10800000">
            <a:off x="1542600" y="2423520"/>
            <a:ext cx="1855080" cy="591120"/>
          </a:xfrm>
          <a:prstGeom prst="bentConnector3">
            <a:avLst>
              <a:gd name="adj1" fmla="val -114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81" name="TextBox 11"/>
          <p:cNvSpPr/>
          <p:nvPr/>
        </p:nvSpPr>
        <p:spPr>
          <a:xfrm>
            <a:off x="1738440" y="199224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6680160" y="1562040"/>
            <a:ext cx="74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Elbow Connector 25"/>
          <p:cNvCxnSpPr/>
          <p:nvPr/>
        </p:nvCxnSpPr>
        <p:spPr>
          <a:xfrm flipV="1" rot="16200000">
            <a:off x="2926800" y="2893320"/>
            <a:ext cx="9421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6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  <a:ea typeface="Georgia"/>
              </a:rPr>
              <a:t>Who makes the final placement decision when there is a disagreement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74640" y="1600200"/>
          <a:ext cx="5923080" cy="4871880"/>
        </p:xfrm>
        <a:graphic>
          <a:graphicData uri="http://schemas.openxmlformats.org/drawingml/2006/table">
            <a:tbl>
              <a:tblPr/>
              <a:tblGrid>
                <a:gridCol w="3627720"/>
                <a:gridCol w="229536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himself/hersel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 mental health provi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(e.g., judge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 psychologi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: Team decis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(s)/family memb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rato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  <a:ea typeface="Georgia"/>
              </a:rPr>
              <a:t>How Relevant are Each of the  Following Factors for ED Eligibility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514520"/>
          <a:ext cx="8229600" cy="5079960"/>
        </p:xfrm>
        <a:graphic>
          <a:graphicData uri="http://schemas.openxmlformats.org/drawingml/2006/table">
            <a:tbl>
              <a:tblPr/>
              <a:tblGrid>
                <a:gridCol w="2511360"/>
                <a:gridCol w="627120"/>
                <a:gridCol w="657360"/>
                <a:gridCol w="3825720"/>
                <a:gridCol w="608040"/>
              </a:tblGrid>
              <a:tr h="41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ed Diagn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atic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Tardiness, Absences, Tru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x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ruptive Classroom 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 or O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gressive Behaviors toward Ad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polar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gressive Behaviors toward Pe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izophr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Parental Advocacy or Re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demic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Q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ment Test S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es on Report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Box 6"/>
          <p:cNvSpPr/>
          <p:nvPr/>
        </p:nvSpPr>
        <p:spPr>
          <a:xfrm>
            <a:off x="6059520" y="5262480"/>
            <a:ext cx="26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ot relevant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releva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920" y="1802880"/>
            <a:ext cx="862956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Examine issues related to the identification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educational placement, and intervention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for middle/high school age students with Emot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Disturbance (ED), from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perspective of educ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who work with students with emotional/behavior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proble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Including factors related to placement of students 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highly restrictive educational settin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Well are Domains Addressed for Students with 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Chart 2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474040" cy="52484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222120" y="5792760"/>
            <a:ext cx="287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very poorly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w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4080" y="2743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  <a:ea typeface="Georgia"/>
              </a:rPr>
              <a:t>How Often are Various Factors Used in Determining Degree of Restrictivenes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237960" y="1633680"/>
            <a:ext cx="8656920" cy="4863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244440" y="5776920"/>
            <a:ext cx="287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ever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alw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840" y="474480"/>
            <a:ext cx="8675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Factors Determining Restrictiveness: Differences between High Schools and Middle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420840" y="2054160"/>
            <a:ext cx="8474040" cy="4608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04840" y="2057400"/>
            <a:ext cx="9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4359240" y="3273480"/>
            <a:ext cx="9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6815160" y="2905200"/>
            <a:ext cx="9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214200" y="6270480"/>
            <a:ext cx="31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ever, 5 = oft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00" y="274320"/>
            <a:ext cx="86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Importance of factors in considering a specific highly restrictive plac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Chart 3" descr=""/>
          <p:cNvPicPr/>
          <p:nvPr/>
        </p:nvPicPr>
        <p:blipFill>
          <a:blip r:embed="rId1"/>
          <a:stretch/>
        </p:blipFill>
        <p:spPr>
          <a:xfrm>
            <a:off x="450720" y="1663560"/>
            <a:ext cx="8444160" cy="4919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98360" y="5797440"/>
            <a:ext cx="287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ot important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importa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seriously are various alternative placements consider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Chart 5" descr=""/>
          <p:cNvPicPr/>
          <p:nvPr/>
        </p:nvPicPr>
        <p:blipFill>
          <a:blip r:embed="rId1"/>
          <a:stretch/>
        </p:blipFill>
        <p:spPr>
          <a:xfrm>
            <a:off x="262080" y="1590840"/>
            <a:ext cx="8632800" cy="5022720"/>
          </a:xfrm>
          <a:prstGeom prst="rect">
            <a:avLst/>
          </a:prstGeom>
          <a:ln w="0">
            <a:noFill/>
          </a:ln>
        </p:spPr>
      </p:pic>
      <p:sp>
        <p:nvSpPr>
          <p:cNvPr id="206" name="Oval 7"/>
          <p:cNvSpPr/>
          <p:nvPr/>
        </p:nvSpPr>
        <p:spPr>
          <a:xfrm>
            <a:off x="6492960" y="2309760"/>
            <a:ext cx="960480" cy="89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8086680" y="5186520"/>
            <a:ext cx="960480" cy="896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124760" y="4483080"/>
            <a:ext cx="961920" cy="89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7200" y="5748480"/>
            <a:ext cx="287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ot seriously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serious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Restrictive Placement Options: Differences between High Schools and Middle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Chart 3" descr=""/>
          <p:cNvPicPr/>
          <p:nvPr/>
        </p:nvPicPr>
        <p:blipFill>
          <a:blip r:embed="rId1"/>
          <a:stretch/>
        </p:blipFill>
        <p:spPr>
          <a:xfrm>
            <a:off x="450720" y="1805040"/>
            <a:ext cx="8431200" cy="4808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1820880" y="205740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4452840" y="3100320"/>
            <a:ext cx="12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7159680" y="273204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6742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For students in restrictive alternative placements, how much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contact</a:t>
            </a:r>
            <a:r>
              <a:rPr b="0" i="1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 is there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between alternative placement teachers/staff and teachers/staff in your schoo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2"/>
          <p:cNvSpPr/>
          <p:nvPr/>
        </p:nvSpPr>
        <p:spPr>
          <a:xfrm>
            <a:off x="2371680" y="4689360"/>
            <a:ext cx="50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= 2.3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(S.D. = 1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traight Connector 43"/>
          <p:cNvSpPr/>
          <p:nvPr/>
        </p:nvSpPr>
        <p:spPr>
          <a:xfrm flipH="1">
            <a:off x="3487680" y="3475080"/>
            <a:ext cx="7063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230040" y="3475080"/>
            <a:ext cx="13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7666200" y="3475080"/>
            <a:ext cx="125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ily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For students in restrictive alternative placements, what is the extent of involvement of teachers/staff in your school in </a:t>
            </a:r>
            <a:r>
              <a:rPr b="1" i="1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monitoring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students’ continued succes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2"/>
          <p:cNvSpPr/>
          <p:nvPr/>
        </p:nvSpPr>
        <p:spPr>
          <a:xfrm>
            <a:off x="2371680" y="468936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= 2.3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(S.D. = 1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43"/>
          <p:cNvSpPr/>
          <p:nvPr/>
        </p:nvSpPr>
        <p:spPr>
          <a:xfrm flipH="1">
            <a:off x="3487320" y="3473280"/>
            <a:ext cx="903240" cy="121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230040" y="3475080"/>
            <a:ext cx="13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t In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6"/>
          <p:cNvSpPr/>
          <p:nvPr/>
        </p:nvSpPr>
        <p:spPr>
          <a:xfrm>
            <a:off x="7175520" y="3475080"/>
            <a:ext cx="17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remely In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Are Placements Viewed as Permanent or Temporar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Chart 4" descr=""/>
          <p:cNvPicPr/>
          <p:nvPr/>
        </p:nvPicPr>
        <p:blipFill>
          <a:blip r:embed="rId1"/>
          <a:stretch/>
        </p:blipFill>
        <p:spPr>
          <a:xfrm>
            <a:off x="244440" y="1695600"/>
            <a:ext cx="86504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What percentage of students actually return to your school from restrictive alternative placement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3" descr=""/>
          <p:cNvPicPr/>
          <p:nvPr/>
        </p:nvPicPr>
        <p:blipFill>
          <a:blip r:embed="rId1"/>
          <a:stretch/>
        </p:blipFill>
        <p:spPr>
          <a:xfrm>
            <a:off x="450720" y="1755720"/>
            <a:ext cx="8444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Prior Relevant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920" y="1802880"/>
            <a:ext cx="862956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orse, W.C., Cutler, R.L., &amp; Fink, A.H. (1964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Public school classes for the emotionally handicapped: A research analys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. Washington, DC: Council for Exceptional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Grosenick, J.K., George, M.P., &amp; George, N.L. (1987). A profile of school programs for the behaviorally handicapped: Twenty years after Morse, Cutler, and Fink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Behavioral Disord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12(3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, 159-16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eorgia"/>
                <a:ea typeface="Georgia"/>
              </a:rPr>
              <a:t>When students return to your school, how often are they monitored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444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What is the importance of various outcomes in judging placement effectiveness for students with 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Chart 4" descr=""/>
          <p:cNvPicPr/>
          <p:nvPr/>
        </p:nvPicPr>
        <p:blipFill>
          <a:blip r:embed="rId1"/>
          <a:stretch/>
        </p:blipFill>
        <p:spPr>
          <a:xfrm>
            <a:off x="225360" y="1414440"/>
            <a:ext cx="8686800" cy="519912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6972480" y="1565280"/>
            <a:ext cx="961920" cy="896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7605720" y="2911320"/>
            <a:ext cx="960480" cy="89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7605720" y="4437000"/>
            <a:ext cx="960480" cy="89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Effectiveness of Placement Outcomes: Differences between High Schools and Middle School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hart 3" descr=""/>
          <p:cNvPicPr/>
          <p:nvPr/>
        </p:nvPicPr>
        <p:blipFill>
          <a:blip r:embed="rId1"/>
          <a:stretch/>
        </p:blipFill>
        <p:spPr>
          <a:xfrm>
            <a:off x="231840" y="1695600"/>
            <a:ext cx="8650080" cy="4917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1820880" y="180828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4314960" y="236232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7023240" y="199224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Discussion Questions and Follow-up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Examination of response vari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Teacher, student, and school profile/cluster analyses to examine ED identification, educational placement, and intervention service practices in more dep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Understanding of, adherence to, and implications of social maladjustment ex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Perspectives/practices/roles of middle vs. high school teachers; Differences in educational experiences for middle vs. high school students with 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Identification threshold issues: externalizing/international problems and academic defic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Permanence of highly restrictive placement assignm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Qualitativ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Next Stud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994040"/>
            <a:ext cx="914400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National survey of district level directors of special education servi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Key informant interview study with </a:t>
            </a:r>
            <a:r>
              <a:rPr b="0" i="1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front line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educators and decision mak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391760"/>
            <a:ext cx="914400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A national online confidential survey with educators who work with middle/high school age students with 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With assistance of Market Data Retrieval (MDR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Education Universe 2009/2010 data base (n=9,119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Participants recruited through both e-mail (n=6,26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and postal mail (n=2,85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Initial contact and two follow-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Gift card drawings as incentive for particip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9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48960"/>
            <a:ext cx="9144000" cy="59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1246 respondents from 47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Participation r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orgia"/>
              </a:rPr>
              <a:t>5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(of those who opened correspond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% (of those contac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Current preliminary analy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1025 respondents working in high school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(N=573) or middle schools (N=452); Exclud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those in K-12 building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97% working directly with students classified with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Respondents by Population Den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60280" y="1417680"/>
            <a:ext cx="869004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School Enrollment by Ty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4373640" y="1527120"/>
            <a:ext cx="117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.0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Elbow Connector 4"/>
          <p:cNvCxnSpPr/>
          <p:nvPr/>
        </p:nvCxnSpPr>
        <p:spPr>
          <a:xfrm flipH="1" rot="10800000">
            <a:off x="3001680" y="1483560"/>
            <a:ext cx="3605760" cy="475560"/>
          </a:xfrm>
          <a:prstGeom prst="bentConnector3">
            <a:avLst>
              <a:gd name="adj1" fmla="val -49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6" name="Elbow Connector 6"/>
          <p:cNvCxnSpPr/>
          <p:nvPr/>
        </p:nvCxnSpPr>
        <p:spPr>
          <a:xfrm rot="5400000">
            <a:off x="5645880" y="2444400"/>
            <a:ext cx="1923120" cy="2520"/>
          </a:xfrm>
          <a:prstGeom prst="bentConnector3">
            <a:avLst>
              <a:gd name="adj1" fmla="val 4999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67" name="TextBox 15"/>
          <p:cNvSpPr/>
          <p:nvPr/>
        </p:nvSpPr>
        <p:spPr>
          <a:xfrm>
            <a:off x="244440" y="6410160"/>
            <a:ext cx="73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ean school enrollment for full sample =1045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(S.D. = 63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16000"/>
            <a:ext cx="87249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Georgia"/>
              </a:rPr>
              <a:t>% of Students with an IEP by Density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pic>
        <p:nvPicPr>
          <p:cNvPr id="70" name="Chart 3" descr=""/>
          <p:cNvPicPr/>
          <p:nvPr/>
        </p:nvPicPr>
        <p:blipFill>
          <a:blip r:embed="rId2"/>
          <a:stretch/>
        </p:blipFill>
        <p:spPr>
          <a:xfrm>
            <a:off x="450720" y="1663560"/>
            <a:ext cx="8242560" cy="4756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10960" y="622620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tal sample M = 16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.D. = 8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hart 7" descr=""/>
          <p:cNvPicPr/>
          <p:nvPr/>
        </p:nvPicPr>
        <p:blipFill>
          <a:blip r:embed="rId3"/>
          <a:stretch/>
        </p:blipFill>
        <p:spPr>
          <a:xfrm>
            <a:off x="450720" y="1652760"/>
            <a:ext cx="8242560" cy="4760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217520" y="1085760"/>
            <a:ext cx="33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&gt; all other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&gt; 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Percent of Students Classified with 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pic>
        <p:nvPicPr>
          <p:cNvPr id="76" name="Chart 3" descr=""/>
          <p:cNvPicPr/>
          <p:nvPr/>
        </p:nvPicPr>
        <p:blipFill>
          <a:blip r:embed="rId2"/>
          <a:stretch/>
        </p:blipFill>
        <p:spPr>
          <a:xfrm>
            <a:off x="450720" y="1663560"/>
            <a:ext cx="8242560" cy="4756320"/>
          </a:xfrm>
          <a:prstGeom prst="rect">
            <a:avLst/>
          </a:prstGeom>
          <a:ln w="0">
            <a:noFill/>
          </a:ln>
        </p:spPr>
      </p:pic>
      <p:pic>
        <p:nvPicPr>
          <p:cNvPr id="77" name="Chart 8" descr=""/>
          <p:cNvPicPr/>
          <p:nvPr/>
        </p:nvPicPr>
        <p:blipFill>
          <a:blip r:embed="rId3"/>
          <a:stretch/>
        </p:blipFill>
        <p:spPr>
          <a:xfrm>
            <a:off x="749160" y="1268280"/>
            <a:ext cx="7944120" cy="5151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423120" y="1274760"/>
            <a:ext cx="117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.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Elbow Connector 7"/>
          <p:cNvCxnSpPr/>
          <p:nvPr/>
        </p:nvCxnSpPr>
        <p:spPr>
          <a:xfrm flipH="1" rot="10800000">
            <a:off x="5874840" y="1274040"/>
            <a:ext cx="1913760" cy="143640"/>
          </a:xfrm>
          <a:prstGeom prst="bentConnector3">
            <a:avLst>
              <a:gd name="adj1" fmla="val -376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0" name="Elbow Connector 9"/>
          <p:cNvCxnSpPr/>
          <p:nvPr/>
        </p:nvCxnSpPr>
        <p:spPr>
          <a:xfrm rot="5400000">
            <a:off x="7300080" y="1762200"/>
            <a:ext cx="974160" cy="2160"/>
          </a:xfrm>
          <a:prstGeom prst="bentConnector3">
            <a:avLst>
              <a:gd name="adj1" fmla="val 49981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1:38:50Z</dcterms:created>
  <dc:creator>Stephen Becker</dc:creator>
  <dc:description/>
  <dc:language>en-US</dc:language>
  <cp:lastModifiedBy>Authorised User</cp:lastModifiedBy>
  <cp:lastPrinted>2010-06-14T20:08:13Z</cp:lastPrinted>
  <dcterms:modified xsi:type="dcterms:W3CDTF">2010-07-06T12:58:15Z</dcterms:modified>
  <cp:revision>320</cp:revision>
  <dc:subject/>
  <dc:title>“From the cradle to the grave”: Clinical work within a developmental psychopathology framework</dc:title>
</cp:coreProperties>
</file>