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6D56-A7D6-41C5-BE1F-A1D0D30AD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DC38-74BC-477C-BAEC-3DA420C792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47F3-7367-4628-9F9C-6FB750D1A0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789D-16BB-4398-A554-CC3A369B7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507D-D6F1-430B-8C80-35446D2E144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C214F-B82C-472E-B580-0D51ABA40D6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D16A4-1A1B-499C-8B19-C4DC4089FE1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0C86C-CD39-4B93-B117-766B6BAC1BD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C0120-D8C7-42DE-B15A-1E86EE05DAD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DF8D0-0DAE-413B-9338-366B7E1D989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58F22-718A-4FA0-A836-BB7A2D61342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A9E8C-28F5-4F4A-B6CC-4BAD94E095E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8ECCA-A350-4CD2-BEA9-199BC217396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EA9B7-E038-4AED-AC59-86B1BA3A99A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60248-6A4E-4177-B1B4-D81B2907EA4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D62B-7C4F-4F52-8998-BD46AB97D2E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EC11-5EAE-4FEF-8259-C332A75F910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AFF6-E1FB-4AF8-9896-55B85200C68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4F6A2-525B-4BFE-BA45-EE1FC123F68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F1655-D000-4C13-9CB6-7B01B71DE04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DC1AE-4223-408D-BBC0-0A3C4173AAD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8732-734C-4A1A-8C14-E04A02149F1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1A47C-E1D4-4B65-B7F3-A93201A738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C1F44-6DFB-48F3-A0F3-BC122AB07AC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30A30-024C-4335-98DA-6B8CCFC1644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6283E-7ABD-40A1-BF4A-38A22DD4726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86CF2-DE14-4F47-BA73-669B772F12D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C738-18EF-4439-8260-992AF8529F4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FFD97-6F6E-42CD-9D6E-89DFE32D284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CDEE-3319-4831-9862-ECE6D764D7D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11609-6D76-4A85-B460-BD63F3E4DA7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36762-6006-4BB1-99B3-5158200B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F9B11-51DF-4B0B-A2DD-FE21CD7B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E4C40-4D13-4913-9DC4-423C535D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A560-3324-44BD-A1B5-9AEEBF64A3F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B992-BF6D-4DD9-93ED-780E6BB9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6FE69-F200-4CF1-834C-9A592C67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42A3-C56A-4549-9C14-FE1B850B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5862E-59F4-459C-BAE5-D7471381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D36D2-E1C8-4315-A398-995A7CEC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0BAC0-F6A5-4941-8A2D-81190EED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2BBE-BCAC-4C6E-90E0-142F7ECA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CF98F-190B-4886-A11C-74B7F845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6814D-C6A4-4E82-8148-7F4FB78E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FD6A-C339-4103-AC77-7B6B657977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51F02-E949-4C85-AC43-F9CB1A6F59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4343-CB71-4908-9CE7-2BFE991BA0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9CC6-79D2-4F6B-9F98-F07F6621B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80763-D7FE-4050-9BF9-ED7E7B76F4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7DF63-71F6-4E49-BA9B-8B067FE7CC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CB515-BDB0-44FE-92FD-E110D4E520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1B70-43CE-4FDE-864D-8CC13D4245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22439-8A5F-4123-8F93-F2F81135AE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3FA-A65D-4A9E-B193-61CAFDF8F7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FA0-3984-4C54-A66B-57B7478CFA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D12-9D37-4CC1-8082-CFB596E689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00F-984B-4351-8A5C-00479D0C1B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D13-BD42-4548-BA38-580B12BBA8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378C-89B4-41A8-84A9-01CEC9E53D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58B-6498-4BBE-8543-A5470F939B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F97-8C12-4414-A7DF-C7EB3B6A92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B86-9858-47BE-9A25-6D4E31385B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7BA-C6BC-492E-893C-5A0F4B27DE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B9B-A8F0-4CB7-83DE-1CAD32BEF6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A5E-60F9-4050-AD49-9EF0656A01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8D8-B4C9-4494-AD0C-0DC58846A9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D130E-55C1-49F6-B63A-597A25D4BE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8C6B8-2785-4ACA-96E0-F96B1F74BA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ADF5C-96CA-4929-91F4-9857CDB85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3D9D-75FD-4EDE-A63F-4FC97D6F71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5E9EB-4508-46B4-AF55-7F8C3A404B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8BEB0-01EE-4EB9-A4DB-7918DE600E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A44CA-0EFF-4535-9D49-E910597327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FA640-4BB7-4D74-A57B-BA22317949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81076-D6E2-496D-ADE5-ACDC244590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82963-0A0B-4C83-ABCB-8AEA80E727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63765-CD2D-4759-A6CD-D4699AB7B7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DC022-B9A5-4ECF-A38D-F0BDC43F87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A9C59-CF3A-4175-9F32-4694A11D78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226C85-56C0-48E6-99F3-4FC904C1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7589-5885-40B2-AE20-BD7EA32B8A2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D8F8F8-4563-4C61-8FFA-C4D2F220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0445DF-BB63-4030-A6C9-E5D3B9AB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FFF032-BE54-4927-A059-56402966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4A3863-33C6-4BF8-A6F0-A716C922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8B14AC-A4CC-4CDF-BE0C-DD0767D3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76C1B3-07B5-4FE3-92BD-92E5C1C6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3373F7-15C3-4FB5-9C84-73944870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5435AE-E32B-4CF9-BFF7-5BB1A77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F4484E-98A8-41CC-AC3D-CB154860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737385-C77E-4BC2-BB45-5F421D16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C857-EF95-4365-9479-5544E346BF2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54CE60-21E0-43A0-9439-51B975DD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2F9D-7826-416B-8D75-791EA15A4C2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ACAC-B617-4863-BB92-FA9DEAB1159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7983-ADAF-4C86-901B-060FE3AAA7E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6E111-7DD6-42AB-B6B6-BCEDE14ED33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A3132-FCC0-461F-BA3C-7C67A2814D5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59D05-47B2-4C68-AEB1-2FF0A5670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07960" y="1646280"/>
            <a:ext cx="81662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63640" indent="-406440">
              <a:spcBef>
                <a:spcPts val="649"/>
              </a:spcBef>
              <a:buClr>
                <a:srgbClr val="f8bc12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206360" indent="-228600">
              <a:spcBef>
                <a:spcPts val="64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52280" y="6296040"/>
            <a:ext cx="1554480" cy="511200"/>
            <a:chOff x="152280" y="6296040"/>
            <a:chExt cx="1554480" cy="511200"/>
          </a:xfrm>
        </p:grpSpPr>
        <p:pic>
          <p:nvPicPr>
            <p:cNvPr id="4" name="Picture 6" descr="logotypedark2"/>
            <p:cNvPicPr/>
            <p:nvPr/>
          </p:nvPicPr>
          <p:blipFill>
            <a:blip r:embed="rId3"/>
            <a:stretch/>
          </p:blipFill>
          <p:spPr>
            <a:xfrm>
              <a:off x="15228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7"/>
            <p:cNvSpPr/>
            <p:nvPr/>
          </p:nvSpPr>
          <p:spPr>
            <a:xfrm>
              <a:off x="144072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Text Box 8"/>
            <p:cNvSpPr/>
            <p:nvPr/>
          </p:nvSpPr>
          <p:spPr>
            <a:xfrm>
              <a:off x="144072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451560"/>
            <a:ext cx="213372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1C06-5440-4E45-9CCB-FA0CDB04E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152280" y="6296040"/>
            <a:ext cx="1554480" cy="511200"/>
            <a:chOff x="152280" y="6296040"/>
            <a:chExt cx="1554480" cy="511200"/>
          </a:xfrm>
        </p:grpSpPr>
        <p:pic>
          <p:nvPicPr>
            <p:cNvPr id="403" name="Picture 6" descr="logotypedark2"/>
            <p:cNvPicPr/>
            <p:nvPr/>
          </p:nvPicPr>
          <p:blipFill>
            <a:blip r:embed="rId3"/>
            <a:stretch/>
          </p:blipFill>
          <p:spPr>
            <a:xfrm>
              <a:off x="15228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7"/>
            <p:cNvSpPr/>
            <p:nvPr/>
          </p:nvSpPr>
          <p:spPr>
            <a:xfrm>
              <a:off x="144072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8"/>
            <p:cNvSpPr/>
            <p:nvPr/>
          </p:nvSpPr>
          <p:spPr>
            <a:xfrm>
              <a:off x="144072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Rectangle 9"/>
          <p:cNvSpPr/>
          <p:nvPr/>
        </p:nvSpPr>
        <p:spPr>
          <a:xfrm>
            <a:off x="0" y="609480"/>
            <a:ext cx="9144000" cy="3200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9bde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152280" y="6194520"/>
            <a:ext cx="1557720" cy="511200"/>
            <a:chOff x="152280" y="6194520"/>
            <a:chExt cx="1557720" cy="511200"/>
          </a:xfrm>
        </p:grpSpPr>
        <p:pic>
          <p:nvPicPr>
            <p:cNvPr id="408" name="Picture 4" descr="logotypedark2"/>
            <p:cNvPicPr/>
            <p:nvPr/>
          </p:nvPicPr>
          <p:blipFill>
            <a:blip r:embed="rId4"/>
            <a:stretch/>
          </p:blipFill>
          <p:spPr>
            <a:xfrm>
              <a:off x="152280" y="619452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5"/>
            <p:cNvSpPr/>
            <p:nvPr/>
          </p:nvSpPr>
          <p:spPr>
            <a:xfrm>
              <a:off x="1443960" y="6391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6"/>
            <p:cNvSpPr/>
            <p:nvPr/>
          </p:nvSpPr>
          <p:spPr>
            <a:xfrm>
              <a:off x="1443960" y="6391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507960" y="1646280"/>
            <a:ext cx="81662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63640" indent="-406440">
              <a:spcBef>
                <a:spcPts val="649"/>
              </a:spcBef>
              <a:buClr>
                <a:srgbClr val="f8bc12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206360" indent="-228600">
              <a:spcBef>
                <a:spcPts val="64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Group 10"/>
          <p:cNvGrpSpPr/>
          <p:nvPr/>
        </p:nvGrpSpPr>
        <p:grpSpPr>
          <a:xfrm>
            <a:off x="165240" y="6296040"/>
            <a:ext cx="1554480" cy="511200"/>
            <a:chOff x="165240" y="6296040"/>
            <a:chExt cx="1554480" cy="511200"/>
          </a:xfrm>
        </p:grpSpPr>
        <p:pic>
          <p:nvPicPr>
            <p:cNvPr id="451" name="Picture 11" descr="logotypedark2"/>
            <p:cNvPicPr/>
            <p:nvPr/>
          </p:nvPicPr>
          <p:blipFill>
            <a:blip r:embed="rId3"/>
            <a:stretch/>
          </p:blipFill>
          <p:spPr>
            <a:xfrm>
              <a:off x="16524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Text Box 12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Rectangle 9"/>
          <p:cNvSpPr/>
          <p:nvPr/>
        </p:nvSpPr>
        <p:spPr>
          <a:xfrm>
            <a:off x="0" y="861840"/>
            <a:ext cx="9144000" cy="4764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9bde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152280" y="6194520"/>
            <a:ext cx="1557720" cy="511200"/>
            <a:chOff x="152280" y="6194520"/>
            <a:chExt cx="1557720" cy="511200"/>
          </a:xfrm>
        </p:grpSpPr>
        <p:pic>
          <p:nvPicPr>
            <p:cNvPr id="456" name="Picture 5" descr="logotypedark2"/>
            <p:cNvPicPr/>
            <p:nvPr/>
          </p:nvPicPr>
          <p:blipFill>
            <a:blip r:embed="rId4"/>
            <a:stretch/>
          </p:blipFill>
          <p:spPr>
            <a:xfrm>
              <a:off x="152280" y="619452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6"/>
            <p:cNvSpPr/>
            <p:nvPr/>
          </p:nvSpPr>
          <p:spPr>
            <a:xfrm>
              <a:off x="1443960" y="6391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1443960" y="6391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662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7ddd6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37720" indent="-394200" algn="ctr">
              <a:spcBef>
                <a:spcPts val="799"/>
              </a:spcBef>
              <a:buClr>
                <a:srgbClr val="f8bc1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221400" algn="ctr">
              <a:spcBef>
                <a:spcPts val="79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 algn="ctr">
              <a:spcBef>
                <a:spcPts val="79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 algn="ctr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-254160" y="228240"/>
            <a:ext cx="89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10"/>
          <p:cNvGrpSpPr/>
          <p:nvPr/>
        </p:nvGrpSpPr>
        <p:grpSpPr>
          <a:xfrm>
            <a:off x="165240" y="6296040"/>
            <a:ext cx="1554480" cy="511200"/>
            <a:chOff x="165240" y="6296040"/>
            <a:chExt cx="1554480" cy="511200"/>
          </a:xfrm>
        </p:grpSpPr>
        <p:pic>
          <p:nvPicPr>
            <p:cNvPr id="499" name="Picture 11" descr="logotypedark2"/>
            <p:cNvPicPr/>
            <p:nvPr/>
          </p:nvPicPr>
          <p:blipFill>
            <a:blip r:embed="rId3"/>
            <a:stretch/>
          </p:blipFill>
          <p:spPr>
            <a:xfrm>
              <a:off x="16524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12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13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9"/>
          <p:cNvSpPr/>
          <p:nvPr/>
        </p:nvSpPr>
        <p:spPr>
          <a:xfrm>
            <a:off x="0" y="609480"/>
            <a:ext cx="9144000" cy="3200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9bde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662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7ddd6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37720" indent="-394200" algn="ctr">
              <a:spcBef>
                <a:spcPts val="799"/>
              </a:spcBef>
              <a:buClr>
                <a:srgbClr val="f8bc1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221400" algn="ctr">
              <a:spcBef>
                <a:spcPts val="79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 algn="ctr">
              <a:spcBef>
                <a:spcPts val="79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 algn="ctr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-254160" y="228240"/>
            <a:ext cx="89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Group 10"/>
          <p:cNvGrpSpPr/>
          <p:nvPr/>
        </p:nvGrpSpPr>
        <p:grpSpPr>
          <a:xfrm>
            <a:off x="165240" y="6296040"/>
            <a:ext cx="1554480" cy="511200"/>
            <a:chOff x="165240" y="6296040"/>
            <a:chExt cx="1554480" cy="511200"/>
          </a:xfrm>
        </p:grpSpPr>
        <p:pic>
          <p:nvPicPr>
            <p:cNvPr id="543" name="Picture 11" descr="logotypedark2"/>
            <p:cNvPicPr/>
            <p:nvPr/>
          </p:nvPicPr>
          <p:blipFill>
            <a:blip r:embed="rId3"/>
            <a:stretch/>
          </p:blipFill>
          <p:spPr>
            <a:xfrm>
              <a:off x="16524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12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3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662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7ddd6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37720" indent="-394200" algn="ctr">
              <a:spcBef>
                <a:spcPts val="799"/>
              </a:spcBef>
              <a:buClr>
                <a:srgbClr val="f8bc1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221400" algn="ctr">
              <a:spcBef>
                <a:spcPts val="79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 algn="ctr">
              <a:spcBef>
                <a:spcPts val="79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 algn="ctr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-254160" y="228240"/>
            <a:ext cx="89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9"/>
          </p:nvPr>
        </p:nvSpPr>
        <p:spPr>
          <a:xfrm>
            <a:off x="6552720" y="6451560"/>
            <a:ext cx="213372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D9C4-13C5-4A34-8E5F-F8075468F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298C-7F39-4DD3-B5AD-62039E97B1D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3EAA-2D95-44AA-AD85-507DD2DE30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662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7ddd6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37720" indent="-394200" algn="ctr">
              <a:spcBef>
                <a:spcPts val="799"/>
              </a:spcBef>
              <a:buClr>
                <a:srgbClr val="f8bc1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221400" algn="ctr">
              <a:spcBef>
                <a:spcPts val="79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 algn="ctr">
              <a:spcBef>
                <a:spcPts val="79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 algn="ctr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-254160" y="228240"/>
            <a:ext cx="89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165240" y="6296040"/>
            <a:ext cx="1554480" cy="511200"/>
            <a:chOff x="165240" y="6296040"/>
            <a:chExt cx="1554480" cy="511200"/>
          </a:xfrm>
        </p:grpSpPr>
        <p:pic>
          <p:nvPicPr>
            <p:cNvPr id="48" name="Picture 11" descr="logotypedark2"/>
            <p:cNvPicPr/>
            <p:nvPr/>
          </p:nvPicPr>
          <p:blipFill>
            <a:blip r:embed="rId3"/>
            <a:stretch/>
          </p:blipFill>
          <p:spPr>
            <a:xfrm>
              <a:off x="16524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2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Text Box 13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566040" y="6451560"/>
            <a:ext cx="213336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024A-1FAB-444B-BCAB-2536BF445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507960" y="1646280"/>
            <a:ext cx="81662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63640" indent="-406440">
              <a:spcBef>
                <a:spcPts val="649"/>
              </a:spcBef>
              <a:buClr>
                <a:srgbClr val="f8bc12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206360" indent="-228600">
              <a:spcBef>
                <a:spcPts val="64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152280" y="6296040"/>
            <a:ext cx="1554480" cy="511200"/>
            <a:chOff x="152280" y="6296040"/>
            <a:chExt cx="1554480" cy="511200"/>
          </a:xfrm>
        </p:grpSpPr>
        <p:pic>
          <p:nvPicPr>
            <p:cNvPr id="92" name="Picture 6" descr="logotypedark2"/>
            <p:cNvPicPr/>
            <p:nvPr/>
          </p:nvPicPr>
          <p:blipFill>
            <a:blip r:embed="rId3"/>
            <a:stretch/>
          </p:blipFill>
          <p:spPr>
            <a:xfrm>
              <a:off x="15228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/>
            <p:cNvSpPr/>
            <p:nvPr/>
          </p:nvSpPr>
          <p:spPr>
            <a:xfrm>
              <a:off x="144072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144072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6552720" y="6451560"/>
            <a:ext cx="213372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4B59-6526-464F-A7A6-07FE5CB9A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662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7ddd6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37720" indent="-394200" algn="ctr">
              <a:spcBef>
                <a:spcPts val="799"/>
              </a:spcBef>
              <a:buClr>
                <a:srgbClr val="f8bc1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221400" algn="ctr">
              <a:spcBef>
                <a:spcPts val="79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 algn="ctr">
              <a:spcBef>
                <a:spcPts val="79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 algn="ctr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-254160" y="228240"/>
            <a:ext cx="89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165240" y="6296040"/>
            <a:ext cx="1554480" cy="511200"/>
            <a:chOff x="165240" y="6296040"/>
            <a:chExt cx="1554480" cy="511200"/>
          </a:xfrm>
        </p:grpSpPr>
        <p:pic>
          <p:nvPicPr>
            <p:cNvPr id="136" name="Picture 11" descr="logotypedark2"/>
            <p:cNvPicPr/>
            <p:nvPr/>
          </p:nvPicPr>
          <p:blipFill>
            <a:blip r:embed="rId3"/>
            <a:stretch/>
          </p:blipFill>
          <p:spPr>
            <a:xfrm>
              <a:off x="16524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2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3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3"/>
          <p:cNvSpPr>
            <a:spLocks noGrp="1"/>
          </p:cNvSpPr>
          <p:nvPr>
            <p:ph type="sldNum" idx="4"/>
          </p:nvPr>
        </p:nvSpPr>
        <p:spPr>
          <a:xfrm>
            <a:off x="6566040" y="6451560"/>
            <a:ext cx="213336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168B-02CE-45AE-91C1-21D03B36C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9401-7F59-4A4A-8882-DF91CC43AB4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1ADF-F4B8-4C14-ACD0-1EFD2E0BE7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52280" y="6296040"/>
            <a:ext cx="1554480" cy="511200"/>
            <a:chOff x="152280" y="6296040"/>
            <a:chExt cx="1554480" cy="511200"/>
          </a:xfrm>
        </p:grpSpPr>
        <p:pic>
          <p:nvPicPr>
            <p:cNvPr id="219" name="Picture 6" descr="logotypedark2"/>
            <p:cNvPicPr/>
            <p:nvPr/>
          </p:nvPicPr>
          <p:blipFill>
            <a:blip r:embed="rId3"/>
            <a:stretch/>
          </p:blipFill>
          <p:spPr>
            <a:xfrm>
              <a:off x="15228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7"/>
            <p:cNvSpPr/>
            <p:nvPr/>
          </p:nvSpPr>
          <p:spPr>
            <a:xfrm>
              <a:off x="144072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144072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Rectangle 9"/>
          <p:cNvSpPr/>
          <p:nvPr/>
        </p:nvSpPr>
        <p:spPr>
          <a:xfrm>
            <a:off x="0" y="609480"/>
            <a:ext cx="9144000" cy="3200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9bde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152280" y="6194520"/>
            <a:ext cx="1557720" cy="511200"/>
            <a:chOff x="152280" y="6194520"/>
            <a:chExt cx="1557720" cy="511200"/>
          </a:xfrm>
        </p:grpSpPr>
        <p:pic>
          <p:nvPicPr>
            <p:cNvPr id="224" name="Picture 4" descr="logotypedark2"/>
            <p:cNvPicPr/>
            <p:nvPr/>
          </p:nvPicPr>
          <p:blipFill>
            <a:blip r:embed="rId4"/>
            <a:stretch/>
          </p:blipFill>
          <p:spPr>
            <a:xfrm>
              <a:off x="152280" y="619452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5"/>
            <p:cNvSpPr/>
            <p:nvPr/>
          </p:nvSpPr>
          <p:spPr>
            <a:xfrm>
              <a:off x="1443960" y="6391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6"/>
            <p:cNvSpPr/>
            <p:nvPr/>
          </p:nvSpPr>
          <p:spPr>
            <a:xfrm>
              <a:off x="1443960" y="6391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507960" y="1646280"/>
            <a:ext cx="81662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63640" indent="-406440">
              <a:spcBef>
                <a:spcPts val="649"/>
              </a:spcBef>
              <a:buClr>
                <a:srgbClr val="f8bc12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206360" indent="-228600">
              <a:spcBef>
                <a:spcPts val="64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10"/>
          <p:cNvGrpSpPr/>
          <p:nvPr/>
        </p:nvGrpSpPr>
        <p:grpSpPr>
          <a:xfrm>
            <a:off x="165240" y="6296040"/>
            <a:ext cx="1554480" cy="511200"/>
            <a:chOff x="165240" y="6296040"/>
            <a:chExt cx="1554480" cy="511200"/>
          </a:xfrm>
        </p:grpSpPr>
        <p:pic>
          <p:nvPicPr>
            <p:cNvPr id="267" name="Picture 11" descr="logotypedark2"/>
            <p:cNvPicPr/>
            <p:nvPr/>
          </p:nvPicPr>
          <p:blipFill>
            <a:blip r:embed="rId3"/>
            <a:stretch/>
          </p:blipFill>
          <p:spPr>
            <a:xfrm>
              <a:off x="16524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12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3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Rectangle 9"/>
          <p:cNvSpPr/>
          <p:nvPr/>
        </p:nvSpPr>
        <p:spPr>
          <a:xfrm>
            <a:off x="0" y="861840"/>
            <a:ext cx="9144000" cy="4764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9bde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152280" y="6194520"/>
            <a:ext cx="1557720" cy="511200"/>
            <a:chOff x="152280" y="6194520"/>
            <a:chExt cx="1557720" cy="511200"/>
          </a:xfrm>
        </p:grpSpPr>
        <p:pic>
          <p:nvPicPr>
            <p:cNvPr id="272" name="Picture 5" descr="logotypedark2"/>
            <p:cNvPicPr/>
            <p:nvPr/>
          </p:nvPicPr>
          <p:blipFill>
            <a:blip r:embed="rId4"/>
            <a:stretch/>
          </p:blipFill>
          <p:spPr>
            <a:xfrm>
              <a:off x="152280" y="619452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6"/>
            <p:cNvSpPr/>
            <p:nvPr/>
          </p:nvSpPr>
          <p:spPr>
            <a:xfrm>
              <a:off x="1443960" y="6391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443960" y="6391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662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7ddd6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37720" indent="-394200" algn="ctr">
              <a:spcBef>
                <a:spcPts val="799"/>
              </a:spcBef>
              <a:buClr>
                <a:srgbClr val="f8bc1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221400" algn="ctr">
              <a:spcBef>
                <a:spcPts val="79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 algn="ctr">
              <a:spcBef>
                <a:spcPts val="79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 algn="ctr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-254160" y="228240"/>
            <a:ext cx="89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10"/>
          <p:cNvGrpSpPr/>
          <p:nvPr/>
        </p:nvGrpSpPr>
        <p:grpSpPr>
          <a:xfrm>
            <a:off x="165240" y="6296040"/>
            <a:ext cx="1554480" cy="511200"/>
            <a:chOff x="165240" y="6296040"/>
            <a:chExt cx="1554480" cy="511200"/>
          </a:xfrm>
        </p:grpSpPr>
        <p:pic>
          <p:nvPicPr>
            <p:cNvPr id="315" name="Picture 11" descr="logotypedark2"/>
            <p:cNvPicPr/>
            <p:nvPr/>
          </p:nvPicPr>
          <p:blipFill>
            <a:blip r:embed="rId3"/>
            <a:stretch/>
          </p:blipFill>
          <p:spPr>
            <a:xfrm>
              <a:off x="16524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12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13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Rectangle 9"/>
          <p:cNvSpPr/>
          <p:nvPr/>
        </p:nvSpPr>
        <p:spPr>
          <a:xfrm>
            <a:off x="0" y="609480"/>
            <a:ext cx="9144000" cy="3200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9bde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662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7ddd6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37720" indent="-394200" algn="ctr">
              <a:spcBef>
                <a:spcPts val="799"/>
              </a:spcBef>
              <a:buClr>
                <a:srgbClr val="f8bc1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221400" algn="ctr">
              <a:spcBef>
                <a:spcPts val="79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 algn="ctr">
              <a:spcBef>
                <a:spcPts val="79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 algn="ctr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-254160" y="228240"/>
            <a:ext cx="89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Group 10"/>
          <p:cNvGrpSpPr/>
          <p:nvPr/>
        </p:nvGrpSpPr>
        <p:grpSpPr>
          <a:xfrm>
            <a:off x="165240" y="6296040"/>
            <a:ext cx="1554480" cy="511200"/>
            <a:chOff x="165240" y="6296040"/>
            <a:chExt cx="1554480" cy="511200"/>
          </a:xfrm>
        </p:grpSpPr>
        <p:pic>
          <p:nvPicPr>
            <p:cNvPr id="359" name="Picture 11" descr="logotypedark2"/>
            <p:cNvPicPr/>
            <p:nvPr/>
          </p:nvPicPr>
          <p:blipFill>
            <a:blip r:embed="rId3"/>
            <a:stretch/>
          </p:blipFill>
          <p:spPr>
            <a:xfrm>
              <a:off x="16524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12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Text Box 13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662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7ddd6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37720" indent="-394200" algn="ctr">
              <a:spcBef>
                <a:spcPts val="799"/>
              </a:spcBef>
              <a:buClr>
                <a:srgbClr val="f8bc1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221400" algn="ctr">
              <a:spcBef>
                <a:spcPts val="79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 algn="ctr">
              <a:spcBef>
                <a:spcPts val="79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 algn="ctr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-254160" y="228240"/>
            <a:ext cx="89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8"/>
          </p:nvPr>
        </p:nvSpPr>
        <p:spPr>
          <a:xfrm>
            <a:off x="6552720" y="6451560"/>
            <a:ext cx="213372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ACD0-6504-4031-A13B-CDC63092A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munity Partnerships to Support Education Research fro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velopment through Implement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1066320" y="4190760"/>
            <a:ext cx="6782040" cy="2514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eanne Podus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erican Institutes for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Jane Gom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uston Independent School Distri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S Research Con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une 30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Picture 6" descr="C:\Documents and Settings\mmalouf\Desktop\HISD_Seal_web.jpg"/>
          <p:cNvPicPr/>
          <p:nvPr/>
        </p:nvPicPr>
        <p:blipFill>
          <a:blip r:embed="rId1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ods of Tr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1523880" y="1828440"/>
            <a:ext cx="64771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rtunity for cooperative and collaborativ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in and across the distr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external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6269-9857-494F-B1D0-00EBDDA30D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7" name="Picture 6" descr="C:\Documents and Settings\mmalouf\Desktop\HISD_Seal_web.jpg"/>
          <p:cNvPicPr/>
          <p:nvPr/>
        </p:nvPicPr>
        <p:blipFill>
          <a:blip r:embed="rId1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uctures to Suppo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earch and Sustaina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quires Multiple Leve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D has history of campus-level decision-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ral office provides direction and sup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ool District Board of Educ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 of broader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6" descr="C:\Documents and Settings\mmalouf\Desktop\HISD_Seal_web.jpg"/>
          <p:cNvPicPr/>
          <p:nvPr/>
        </p:nvPicPr>
        <p:blipFill>
          <a:blip r:embed="rId1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ools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ner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cipals of participating schools, central office staff, and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9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y to day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9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loop re feasibility, applicability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relevance of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6" descr="C:\Documents and Settings\mmalouf\Desktop\HISD_Seal_web.jpg"/>
          <p:cNvPicPr/>
          <p:nvPr/>
        </p:nvPicPr>
        <p:blipFill>
          <a:blip r:embed="rId1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8580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ing P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ef Academic Offic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mentary Curriculum &amp;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ly Childhood Educ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and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lingual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 Support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R sta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Picture 6" descr="C:\Documents and Settings\mmalouf\Desktop\HISD_Seal_web.jpg"/>
          <p:cNvPicPr/>
          <p:nvPr/>
        </p:nvPicPr>
        <p:blipFill>
          <a:blip r:embed="rId1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ck an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cused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 sol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ving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issues related to sustain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Picture 6" descr="C:\Documents and Settings\mmalouf\Desktop\HISD_Seal_web.jpg"/>
          <p:cNvPicPr/>
          <p:nvPr/>
        </p:nvPicPr>
        <p:blipFill>
          <a:blip r:embed="rId1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ivating Su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afe and Trusting Pres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ven Better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10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" descr="C:\Documents and Settings\mmalouf\Desktop\HISD_Seal_web.jpg"/>
          <p:cNvPicPr/>
          <p:nvPr/>
        </p:nvPicPr>
        <p:blipFill>
          <a:blip r:embed="rId2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85800" y="129528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R, Center for Integrating Education &amp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on Research in Sch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0 E Lombard St Suite 1020 Baltimore MD 212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poduska@air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10-347-855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ton Independent School Di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400 West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reet Houston TX 77092-85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gomez@houstonisd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13-556-68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6" name="Picture 10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" descr="C:\Documents and Settings\mmalouf\Desktop\HISD_Seal_web.jpg"/>
          <p:cNvPicPr/>
          <p:nvPr/>
        </p:nvPicPr>
        <p:blipFill>
          <a:blip r:embed="rId2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eas of Conside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61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entions and the support system for inter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idelity and sup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-level facto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omitrivich, Bradshaw, Poduska et al, 200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 Program, Teacher, Students, Classroom, Principal, School, Distri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ge of work—Type 2 Translational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ories of individual level change and of organizational change (systems change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10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4880" y="0"/>
            <a:ext cx="897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oretical Model &amp; Technical Steps in Building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unity and Institution Partner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ze the social/political contex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 the vision and understand the challenges and pri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mutual self-interests within and across the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t the research program interests into the vision of the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through trust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 ad hoc oversight from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od Behavior Game Professional Development Study Te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6840" y="1447920"/>
            <a:ext cx="3962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merican Institutes for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rincipal Investigator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ne Podus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tervention  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dith Litt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sie R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la F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ssessment and Analysis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ja Kur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rah Bard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ette Mo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y Cha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enter Coordinat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 Malou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343400" y="144756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ouston Independent School Distri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ore 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ef Academic Offi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mentary Curriculum &amp; Instr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rly Childhood Educ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arch and 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lingual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Support Servi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essional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University of South Flor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 Wa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University of Mi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ndricks Br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7"/>
          <p:cNvSpPr/>
          <p:nvPr/>
        </p:nvSpPr>
        <p:spPr>
          <a:xfrm>
            <a:off x="1066680" y="63244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o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305A09044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10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ims of the IES GBG PD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09120" y="1752120"/>
            <a:ext cx="80773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understand the professional development teachers need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, implement, and sustain the Good Behavior Game (GBG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ir classroom with fide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test the impact of GBG under various models of professional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xplore multi-level factors that influence teachers’ implementation of GBG and GBG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ssess the financial costs of delivering GBG under different models of professional develop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Picture 10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" descr="C:\Documents and Settings\mmalouf\Desktop\HISD_Seal_web.jpg"/>
          <p:cNvPicPr/>
          <p:nvPr/>
        </p:nvPicPr>
        <p:blipFill>
          <a:blip r:embed="rId2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Oval 5"/>
          <p:cNvSpPr/>
          <p:nvPr/>
        </p:nvSpPr>
        <p:spPr>
          <a:xfrm>
            <a:off x="3124080" y="2514600"/>
            <a:ext cx="2590920" cy="213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Oval 6"/>
          <p:cNvSpPr/>
          <p:nvPr/>
        </p:nvSpPr>
        <p:spPr>
          <a:xfrm>
            <a:off x="1371600" y="914400"/>
            <a:ext cx="6095880" cy="5029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Oval 7"/>
          <p:cNvSpPr/>
          <p:nvPr/>
        </p:nvSpPr>
        <p:spPr>
          <a:xfrm>
            <a:off x="1981080" y="1523880"/>
            <a:ext cx="4800600" cy="38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Oval 8"/>
          <p:cNvSpPr/>
          <p:nvPr/>
        </p:nvSpPr>
        <p:spPr>
          <a:xfrm>
            <a:off x="228600" y="304920"/>
            <a:ext cx="8534520" cy="647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10"/>
          <p:cNvSpPr/>
          <p:nvPr/>
        </p:nvSpPr>
        <p:spPr>
          <a:xfrm>
            <a:off x="3124080" y="1676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1859c"/>
                </a:solidFill>
                <a:uFillTx/>
                <a:latin typeface="Arial"/>
              </a:rPr>
              <a:t>Local 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1"/>
          <p:cNvSpPr/>
          <p:nvPr/>
        </p:nvSpPr>
        <p:spPr>
          <a:xfrm>
            <a:off x="3218040" y="1066680"/>
            <a:ext cx="24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1859c"/>
                </a:solidFill>
                <a:uFillTx/>
                <a:latin typeface="Arial"/>
              </a:rPr>
              <a:t>Stat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12"/>
          <p:cNvSpPr/>
          <p:nvPr/>
        </p:nvSpPr>
        <p:spPr>
          <a:xfrm>
            <a:off x="2971800" y="533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89af"/>
                </a:solidFill>
                <a:uFillTx/>
                <a:latin typeface="Arial"/>
              </a:rPr>
              <a:t>Federal &amp; National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15"/>
          <p:cNvSpPr/>
          <p:nvPr/>
        </p:nvSpPr>
        <p:spPr>
          <a:xfrm>
            <a:off x="487692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ity/County Commission for Child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17"/>
          <p:cNvSpPr/>
          <p:nvPr/>
        </p:nvSpPr>
        <p:spPr>
          <a:xfrm>
            <a:off x="6939000" y="257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23"/>
          <p:cNvSpPr/>
          <p:nvPr/>
        </p:nvSpPr>
        <p:spPr>
          <a:xfrm>
            <a:off x="5334120" y="1295280"/>
            <a:ext cx="1143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vernor’s Offi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24"/>
          <p:cNvSpPr/>
          <p:nvPr/>
        </p:nvSpPr>
        <p:spPr>
          <a:xfrm>
            <a:off x="5257800" y="5181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neral Assemb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28"/>
          <p:cNvSpPr/>
          <p:nvPr/>
        </p:nvSpPr>
        <p:spPr>
          <a:xfrm>
            <a:off x="3048120" y="5486400"/>
            <a:ext cx="18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e Dept of 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29"/>
          <p:cNvSpPr/>
          <p:nvPr/>
        </p:nvSpPr>
        <p:spPr>
          <a:xfrm>
            <a:off x="2438280" y="12952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ans: Schools of 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36"/>
          <p:cNvSpPr/>
          <p:nvPr/>
        </p:nvSpPr>
        <p:spPr>
          <a:xfrm>
            <a:off x="7391520" y="1981080"/>
            <a:ext cx="95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Teachers’ Unions: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F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, NE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41"/>
          <p:cNvSpPr/>
          <p:nvPr/>
        </p:nvSpPr>
        <p:spPr>
          <a:xfrm>
            <a:off x="7543800" y="3429000"/>
            <a:ext cx="955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Institutes of Health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IDA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NICHD. NIMH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42"/>
          <p:cNvSpPr/>
          <p:nvPr/>
        </p:nvSpPr>
        <p:spPr>
          <a:xfrm>
            <a:off x="6858000" y="5105520"/>
            <a:ext cx="9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MH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44"/>
          <p:cNvSpPr/>
          <p:nvPr/>
        </p:nvSpPr>
        <p:spPr>
          <a:xfrm>
            <a:off x="304920" y="281952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pt of ED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fe &amp; Drug Free Sch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fe Schools/ Healthy Stud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45"/>
          <p:cNvSpPr/>
          <p:nvPr/>
        </p:nvSpPr>
        <p:spPr>
          <a:xfrm>
            <a:off x="990720" y="4952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gisla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46"/>
          <p:cNvSpPr/>
          <p:nvPr/>
        </p:nvSpPr>
        <p:spPr>
          <a:xfrm>
            <a:off x="5410080" y="434340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strict Attorn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48"/>
          <p:cNvSpPr/>
          <p:nvPr/>
        </p:nvSpPr>
        <p:spPr>
          <a:xfrm>
            <a:off x="4800600" y="45720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dia: Houston Chron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49"/>
          <p:cNvSpPr/>
          <p:nvPr/>
        </p:nvSpPr>
        <p:spPr>
          <a:xfrm>
            <a:off x="2057400" y="281952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undations: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Simmons, Houston Endowment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Brown Fami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50"/>
          <p:cNvSpPr/>
          <p:nvPr/>
        </p:nvSpPr>
        <p:spPr>
          <a:xfrm>
            <a:off x="3581280" y="60199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Foundations: RWJ, WT Grant, Spencer, Annie E Casey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51"/>
          <p:cNvSpPr/>
          <p:nvPr/>
        </p:nvSpPr>
        <p:spPr>
          <a:xfrm>
            <a:off x="2438280" y="220968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Parents for Public Education; Pare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dvoc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52"/>
          <p:cNvSpPr/>
          <p:nvPr/>
        </p:nvSpPr>
        <p:spPr>
          <a:xfrm>
            <a:off x="3505320" y="4648320"/>
            <a:ext cx="144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sines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Greater Houston Partnership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54"/>
          <p:cNvSpPr/>
          <p:nvPr/>
        </p:nvSpPr>
        <p:spPr>
          <a:xfrm>
            <a:off x="2666880" y="4495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chools of ED: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U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56"/>
          <p:cNvSpPr/>
          <p:nvPr/>
        </p:nvSpPr>
        <p:spPr>
          <a:xfrm>
            <a:off x="2209680" y="38862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riminal and Juvenile Just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57"/>
          <p:cNvSpPr/>
          <p:nvPr/>
        </p:nvSpPr>
        <p:spPr>
          <a:xfrm>
            <a:off x="228600" y="18900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58"/>
          <p:cNvSpPr/>
          <p:nvPr/>
        </p:nvSpPr>
        <p:spPr>
          <a:xfrm>
            <a:off x="304920" y="34128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59"/>
          <p:cNvSpPr/>
          <p:nvPr/>
        </p:nvSpPr>
        <p:spPr>
          <a:xfrm>
            <a:off x="0" y="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pping the Social/Poli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ntext: </a:t>
            </a:r>
            <a:r>
              <a:rPr b="1" i="1" lang="en-US" sz="1800" spc="-1" strike="noStrike">
                <a:solidFill>
                  <a:srgbClr val="31859c"/>
                </a:solidFill>
                <a:latin typeface="Arial"/>
              </a:rPr>
              <a:t>Houston</a:t>
            </a:r>
            <a:r>
              <a:rPr b="1" lang="en-US" sz="1800" spc="-1" strike="noStrike">
                <a:solidFill>
                  <a:srgbClr val="3a96c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60"/>
          <p:cNvSpPr/>
          <p:nvPr/>
        </p:nvSpPr>
        <p:spPr>
          <a:xfrm>
            <a:off x="6986520" y="6611760"/>
            <a:ext cx="214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merican Institutes for Resear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61"/>
          <p:cNvSpPr/>
          <p:nvPr/>
        </p:nvSpPr>
        <p:spPr>
          <a:xfrm>
            <a:off x="3200400" y="2743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1859c"/>
                </a:solidFill>
                <a:uFillTx/>
                <a:latin typeface="Arial"/>
              </a:rPr>
              <a:t>School Distri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62"/>
          <p:cNvSpPr/>
          <p:nvPr/>
        </p:nvSpPr>
        <p:spPr>
          <a:xfrm>
            <a:off x="3276720" y="34290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eachers’ Un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65"/>
          <p:cNvSpPr/>
          <p:nvPr/>
        </p:nvSpPr>
        <p:spPr>
          <a:xfrm>
            <a:off x="4191120" y="320040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dependent School Distri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68"/>
          <p:cNvSpPr/>
          <p:nvPr/>
        </p:nvSpPr>
        <p:spPr>
          <a:xfrm>
            <a:off x="3657600" y="2057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ealth  &amp; Human Servic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64"/>
          <p:cNvSpPr/>
          <p:nvPr/>
        </p:nvSpPr>
        <p:spPr>
          <a:xfrm>
            <a:off x="3809880" y="38862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arris County Board of 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54"/>
          <p:cNvSpPr/>
          <p:nvPr/>
        </p:nvSpPr>
        <p:spPr>
          <a:xfrm>
            <a:off x="5638680" y="2666880"/>
            <a:ext cx="1524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ouse A+ Challenge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Project Grad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llaborative for Child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68"/>
          <p:cNvSpPr/>
          <p:nvPr/>
        </p:nvSpPr>
        <p:spPr>
          <a:xfrm>
            <a:off x="5791320" y="36576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A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29"/>
          <p:cNvSpPr/>
          <p:nvPr/>
        </p:nvSpPr>
        <p:spPr>
          <a:xfrm>
            <a:off x="152280" y="99072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cepto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erican Leadership For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68"/>
          <p:cNvSpPr/>
          <p:nvPr/>
        </p:nvSpPr>
        <p:spPr>
          <a:xfrm>
            <a:off x="5791320" y="388620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ntal Heal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60"/>
          <p:cNvSpPr/>
          <p:nvPr/>
        </p:nvSpPr>
        <p:spPr>
          <a:xfrm>
            <a:off x="6477120" y="639756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ort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DA R21 DA02437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2" name="Picture 10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tablishing Mutual Self-Intere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ports the Research Endeav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143000" y="1676520"/>
            <a:ext cx="69343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taining vision across changes of leadership in di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—three classrooms per school, random ass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ention—where to place the coa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itudinal follow-up of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s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delity and 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additional grants have been submitted buil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is work: one from AIR; one from HI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10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ton ISD Persp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837720" y="1752120"/>
            <a:ext cx="72392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ing if a body of proposed research supports the mission/vision of HIS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with District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BG PD Study address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40E3-B140-4B11-9C96-562A8B05D4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6" descr="C:\Documents and Settings\mmalouf\Desktop\HISD_Seal_web.jpg"/>
          <p:cNvPicPr/>
          <p:nvPr/>
        </p:nvPicPr>
        <p:blipFill>
          <a:blip r:embed="rId1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ims of IES GBG PD stud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understand the professional development teachers need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, implement, and sustain the Good Behavior Game (GBG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ir classroom with fide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test the impact of GBG under various models of professional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xplore multi-level factors that influence teachers’ implementation of GBG and GBG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ssess the financial costs of delivering GBG under different models of professional develop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Picture 6" descr="C:\Documents and Settings\mmalouf\Desktop\HISD_Seal_web.jpg"/>
          <p:cNvPicPr/>
          <p:nvPr/>
        </p:nvPicPr>
        <p:blipFill>
          <a:blip r:embed="rId1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0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5:39:20Z</dcterms:created>
  <dc:creator>Jeanne Poduska</dc:creator>
  <dc:description/>
  <dc:language>en-US</dc:language>
  <cp:lastModifiedBy>Jdabrowski</cp:lastModifiedBy>
  <dcterms:modified xsi:type="dcterms:W3CDTF">2010-07-02T16:12:09Z</dcterms:modified>
  <cp:revision>184</cp:revision>
  <dc:subject/>
  <dc:title>Good Behavior Game  Professional Development Study</dc:title>
</cp:coreProperties>
</file>