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1336-4C48-4794-AF84-CEC75C88B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3A92-76EA-4C0C-BE8A-9BAA811985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69D4-4F2C-40A1-ACA2-E0AB27793A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F3DA-2686-4BC9-98CE-F2D106D15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082E-2386-4D86-8E3A-442E6E3E4AA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E8FDD-1A64-40FA-B209-13FE25BF89F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B4A1D-9E45-4B5D-BDFF-D2FBCF59A5F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D9B3B-E38C-4102-A860-CE14E725CD8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E0B95-C551-4DAA-84B3-9A2787FFA60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2E087-9351-4275-A469-28E75E2E270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6FEB9-C41C-42D4-AA45-170132CB19B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EC84A-286E-402B-BDA0-49BE84F4C79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C371B-C91A-4CC1-BE55-D9B5E2D8082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B208B-5833-4826-9001-5D7F7024D62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08EE-884B-4ECC-AC6A-C5E147983D5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68CA-F4DA-4E2D-A3C4-AB9B2C86F8F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9E90-225A-4E2F-A952-72957FA68D7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724BD-6192-4BD2-A260-13EB3596C18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CACA4-6CC2-490E-AFC9-665795BC4BF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75C8-D207-4535-82BB-6E6A3A5BF9F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EFAE-C82A-4509-9566-DB1955B8676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6FC78-2B24-4674-8A4C-35B37DAE88E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61D7E-ADA4-40EA-9629-A5DA37CF5B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D6CB-FD13-4C2A-B11E-2B0C81013BE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14DA-58B6-4D1A-8640-084EDD1C298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367A-8EE8-49A8-BD1A-742E4907278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728FA-2FE1-42AE-9A57-2D35C8DF831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BDA5E-A44C-40E5-80F8-4FB61A054ED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A734-333E-481C-A17B-B4052014AD9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EED94-0BCA-47ED-A3E5-AB3EE66E349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9DFD-E3AA-4828-B0FC-B1733AE1015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3B168-9463-4001-BD2B-EFBA0E09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A61AA-2F88-4980-A4E1-77024857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67F71-2687-41A9-B479-7E984885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7F54-9E3F-40E6-BD71-C4F16FAF7C5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668E5-334F-459E-AB5F-6048A431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55286-53B7-4177-9CE2-5C186319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AD6AF-D6E6-4D8C-A829-FD070704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10069-F1CC-4323-AFC1-63465B6E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5BA38-D4B9-4330-9627-E26C1D6D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678D0-677A-4AB7-8258-FA60739D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7B564-1E81-4DC5-9D52-C651BABE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76870-2A6A-41A1-8DDC-F094C285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7A103-DBAE-4849-B00C-C557961E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B542F-847B-4087-968E-15DA731D38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73A8-F689-4D4A-8226-76467CDCF5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C56D-0EF4-42B1-9CC8-F4B84F4CDD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F698-BC06-4569-8D90-3DC76F90D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F3C7-5EED-486C-A1B4-B58F4CA9AD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2BEBF-B22B-4718-9D16-82585601D3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695B-BD90-44E7-8188-3318CF8192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92D8-7304-418D-949E-D8127487BD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93119-93AF-41D8-92E1-E49A807F79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A29-1393-49FD-B93B-AB6282C95C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597-C1FE-4436-B4F1-EFEBEC4D0A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310-663B-49AB-A1F6-E4FE28DB8E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A53-D1E5-441B-9E1D-03D4B60CBF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D0F-C169-4D03-B5D8-EA4AB07692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424A-192D-4D53-8E37-1B1A07AD5C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131-96A6-455F-B9F3-ECCA452F8C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CAE-E332-45CA-BF71-6768A454CE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FAE-86FE-4DD8-8ECD-81B87B3465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E5C-769A-4099-AA2E-37BCADEEB7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DEA-9993-4E81-989D-6F30A1E33B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F9E-3322-401F-9237-7E067BDB6F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5C0-FCFB-403F-9161-0C393D6462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D346E-639A-4405-9EDE-510394F78E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E2DAB-B837-4E94-B586-6A6909A2C7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AA903-5F59-40A3-B43B-C9353DA51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A21C-7B7F-4B0E-BCC0-C3E881574A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4234D-2B1A-4FF7-A11B-31E80D8AEC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B4A12-9277-4C0D-B110-2D94E7FB98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08CF4-93D9-403F-9A0C-F7794BF14F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54429-2E60-4CBE-852F-0D443CC111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2A7C8-75AE-4172-86D5-A2122C1A77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7BBF7-1586-419E-9C24-8E72CCF3DB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F314A-D718-42A3-928C-9AD8FC6BE4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24F81-1AE9-4699-9558-82AA65697F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DF7BA-8EE8-4C51-ACC9-67DD6AFBC6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7C60DC-2B60-482C-899A-5964795A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A30F-43B5-476D-B9A1-8FD8A2AA496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8DF7DE-E888-48B3-B766-F753191F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0B408F-4A72-4242-87E8-46466AFF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49C86C-0E34-483A-874C-E499A27A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CE8CC4-DB08-47B1-8671-D038F539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667F9-820D-44F0-807A-361EA74B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119CE3-4EF7-4A53-874C-75A04074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A23ABD-D2EA-4DC6-A79C-EA34D183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2BADC1-9505-4208-B2D6-BC21C166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5D8448-99DB-49C3-97CB-9F9E355D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930FB9-2935-42E5-BC76-2B8627CD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9478-2C5A-4C0A-A132-723A49187FB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5352C5-590B-4F5C-8C73-88A9A01F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F52A-80E3-44BE-B83E-577B607163D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4A42-E046-466A-A3F5-F8DE2898FF9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BA6D-3324-4363-9FFA-77911B2D67F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B2A93-88BD-4F26-A550-D6B155B547A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C75CC-1535-4C58-9A6E-0273C0FEEF5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15E06-F86C-496E-8195-3698F2359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07960" y="1646280"/>
            <a:ext cx="81662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63640" indent="-406440">
              <a:spcBef>
                <a:spcPts val="649"/>
              </a:spcBef>
              <a:buClr>
                <a:srgbClr val="f8bc12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206360" indent="-228600">
              <a:spcBef>
                <a:spcPts val="64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52280" y="6296040"/>
            <a:ext cx="1554480" cy="511200"/>
            <a:chOff x="152280" y="6296040"/>
            <a:chExt cx="1554480" cy="511200"/>
          </a:xfrm>
        </p:grpSpPr>
        <p:pic>
          <p:nvPicPr>
            <p:cNvPr id="4" name="Picture 6" descr="logotypedark2"/>
            <p:cNvPicPr/>
            <p:nvPr/>
          </p:nvPicPr>
          <p:blipFill>
            <a:blip r:embed="rId3"/>
            <a:stretch/>
          </p:blipFill>
          <p:spPr>
            <a:xfrm>
              <a:off x="15228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7"/>
            <p:cNvSpPr/>
            <p:nvPr/>
          </p:nvSpPr>
          <p:spPr>
            <a:xfrm>
              <a:off x="144072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Text Box 8"/>
            <p:cNvSpPr/>
            <p:nvPr/>
          </p:nvSpPr>
          <p:spPr>
            <a:xfrm>
              <a:off x="144072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451560"/>
            <a:ext cx="213372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D77F-A4D5-417E-99E7-D9AAD41B0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152280" y="6296040"/>
            <a:ext cx="1554480" cy="511200"/>
            <a:chOff x="152280" y="6296040"/>
            <a:chExt cx="1554480" cy="511200"/>
          </a:xfrm>
        </p:grpSpPr>
        <p:pic>
          <p:nvPicPr>
            <p:cNvPr id="403" name="Picture 6" descr="logotypedark2"/>
            <p:cNvPicPr/>
            <p:nvPr/>
          </p:nvPicPr>
          <p:blipFill>
            <a:blip r:embed="rId3"/>
            <a:stretch/>
          </p:blipFill>
          <p:spPr>
            <a:xfrm>
              <a:off x="15228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7"/>
            <p:cNvSpPr/>
            <p:nvPr/>
          </p:nvSpPr>
          <p:spPr>
            <a:xfrm>
              <a:off x="144072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8"/>
            <p:cNvSpPr/>
            <p:nvPr/>
          </p:nvSpPr>
          <p:spPr>
            <a:xfrm>
              <a:off x="144072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Rectangle 9"/>
          <p:cNvSpPr/>
          <p:nvPr/>
        </p:nvSpPr>
        <p:spPr>
          <a:xfrm>
            <a:off x="0" y="609480"/>
            <a:ext cx="9144000" cy="3200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9bde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152280" y="6194520"/>
            <a:ext cx="1557720" cy="511200"/>
            <a:chOff x="152280" y="6194520"/>
            <a:chExt cx="1557720" cy="511200"/>
          </a:xfrm>
        </p:grpSpPr>
        <p:pic>
          <p:nvPicPr>
            <p:cNvPr id="408" name="Picture 4" descr="logotypedark2"/>
            <p:cNvPicPr/>
            <p:nvPr/>
          </p:nvPicPr>
          <p:blipFill>
            <a:blip r:embed="rId4"/>
            <a:stretch/>
          </p:blipFill>
          <p:spPr>
            <a:xfrm>
              <a:off x="152280" y="619452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5"/>
            <p:cNvSpPr/>
            <p:nvPr/>
          </p:nvSpPr>
          <p:spPr>
            <a:xfrm>
              <a:off x="1443960" y="6391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6"/>
            <p:cNvSpPr/>
            <p:nvPr/>
          </p:nvSpPr>
          <p:spPr>
            <a:xfrm>
              <a:off x="1443960" y="6391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507960" y="1646280"/>
            <a:ext cx="81662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63640" indent="-406440">
              <a:spcBef>
                <a:spcPts val="649"/>
              </a:spcBef>
              <a:buClr>
                <a:srgbClr val="f8bc12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206360" indent="-228600">
              <a:spcBef>
                <a:spcPts val="64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Group 10"/>
          <p:cNvGrpSpPr/>
          <p:nvPr/>
        </p:nvGrpSpPr>
        <p:grpSpPr>
          <a:xfrm>
            <a:off x="165240" y="6296040"/>
            <a:ext cx="1554480" cy="511200"/>
            <a:chOff x="165240" y="6296040"/>
            <a:chExt cx="1554480" cy="511200"/>
          </a:xfrm>
        </p:grpSpPr>
        <p:pic>
          <p:nvPicPr>
            <p:cNvPr id="451" name="Picture 11" descr="logotypedark2"/>
            <p:cNvPicPr/>
            <p:nvPr/>
          </p:nvPicPr>
          <p:blipFill>
            <a:blip r:embed="rId3"/>
            <a:stretch/>
          </p:blipFill>
          <p:spPr>
            <a:xfrm>
              <a:off x="16524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Text Box 12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Rectangle 9"/>
          <p:cNvSpPr/>
          <p:nvPr/>
        </p:nvSpPr>
        <p:spPr>
          <a:xfrm>
            <a:off x="0" y="861840"/>
            <a:ext cx="9144000" cy="4764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9bde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152280" y="6194520"/>
            <a:ext cx="1557720" cy="511200"/>
            <a:chOff x="152280" y="6194520"/>
            <a:chExt cx="1557720" cy="511200"/>
          </a:xfrm>
        </p:grpSpPr>
        <p:pic>
          <p:nvPicPr>
            <p:cNvPr id="456" name="Picture 5" descr="logotypedark2"/>
            <p:cNvPicPr/>
            <p:nvPr/>
          </p:nvPicPr>
          <p:blipFill>
            <a:blip r:embed="rId4"/>
            <a:stretch/>
          </p:blipFill>
          <p:spPr>
            <a:xfrm>
              <a:off x="152280" y="619452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6"/>
            <p:cNvSpPr/>
            <p:nvPr/>
          </p:nvSpPr>
          <p:spPr>
            <a:xfrm>
              <a:off x="1443960" y="6391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1443960" y="6391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662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7ddd6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37720" indent="-394200" algn="ctr">
              <a:spcBef>
                <a:spcPts val="799"/>
              </a:spcBef>
              <a:buClr>
                <a:srgbClr val="f8bc1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221400" algn="ctr">
              <a:spcBef>
                <a:spcPts val="79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 algn="ctr">
              <a:spcBef>
                <a:spcPts val="79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 algn="ctr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-254160" y="228240"/>
            <a:ext cx="89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10"/>
          <p:cNvGrpSpPr/>
          <p:nvPr/>
        </p:nvGrpSpPr>
        <p:grpSpPr>
          <a:xfrm>
            <a:off x="165240" y="6296040"/>
            <a:ext cx="1554480" cy="511200"/>
            <a:chOff x="165240" y="6296040"/>
            <a:chExt cx="1554480" cy="511200"/>
          </a:xfrm>
        </p:grpSpPr>
        <p:pic>
          <p:nvPicPr>
            <p:cNvPr id="499" name="Picture 11" descr="logotypedark2"/>
            <p:cNvPicPr/>
            <p:nvPr/>
          </p:nvPicPr>
          <p:blipFill>
            <a:blip r:embed="rId3"/>
            <a:stretch/>
          </p:blipFill>
          <p:spPr>
            <a:xfrm>
              <a:off x="16524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12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13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9"/>
          <p:cNvSpPr/>
          <p:nvPr/>
        </p:nvSpPr>
        <p:spPr>
          <a:xfrm>
            <a:off x="0" y="609480"/>
            <a:ext cx="9144000" cy="3200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9bde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662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7ddd6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37720" indent="-394200" algn="ctr">
              <a:spcBef>
                <a:spcPts val="799"/>
              </a:spcBef>
              <a:buClr>
                <a:srgbClr val="f8bc1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221400" algn="ctr">
              <a:spcBef>
                <a:spcPts val="79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 algn="ctr">
              <a:spcBef>
                <a:spcPts val="79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 algn="ctr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-254160" y="228240"/>
            <a:ext cx="89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Group 10"/>
          <p:cNvGrpSpPr/>
          <p:nvPr/>
        </p:nvGrpSpPr>
        <p:grpSpPr>
          <a:xfrm>
            <a:off x="165240" y="6296040"/>
            <a:ext cx="1554480" cy="511200"/>
            <a:chOff x="165240" y="6296040"/>
            <a:chExt cx="1554480" cy="511200"/>
          </a:xfrm>
        </p:grpSpPr>
        <p:pic>
          <p:nvPicPr>
            <p:cNvPr id="543" name="Picture 11" descr="logotypedark2"/>
            <p:cNvPicPr/>
            <p:nvPr/>
          </p:nvPicPr>
          <p:blipFill>
            <a:blip r:embed="rId3"/>
            <a:stretch/>
          </p:blipFill>
          <p:spPr>
            <a:xfrm>
              <a:off x="16524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12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3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662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7ddd6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37720" indent="-394200" algn="ctr">
              <a:spcBef>
                <a:spcPts val="799"/>
              </a:spcBef>
              <a:buClr>
                <a:srgbClr val="f8bc1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221400" algn="ctr">
              <a:spcBef>
                <a:spcPts val="79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 algn="ctr">
              <a:spcBef>
                <a:spcPts val="79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 algn="ctr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-254160" y="228240"/>
            <a:ext cx="89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9"/>
          </p:nvPr>
        </p:nvSpPr>
        <p:spPr>
          <a:xfrm>
            <a:off x="6552720" y="6451560"/>
            <a:ext cx="213372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6DD1-5F51-42F5-A318-21515A3E2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10FC-24F7-4DCF-9EA3-8BD97BEBDBE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7D82-3893-4C45-AEFC-EA9D79B887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662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7ddd6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37720" indent="-394200" algn="ctr">
              <a:spcBef>
                <a:spcPts val="799"/>
              </a:spcBef>
              <a:buClr>
                <a:srgbClr val="f8bc1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221400" algn="ctr">
              <a:spcBef>
                <a:spcPts val="79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 algn="ctr">
              <a:spcBef>
                <a:spcPts val="79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 algn="ctr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-254160" y="228240"/>
            <a:ext cx="89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165240" y="6296040"/>
            <a:ext cx="1554480" cy="511200"/>
            <a:chOff x="165240" y="6296040"/>
            <a:chExt cx="1554480" cy="511200"/>
          </a:xfrm>
        </p:grpSpPr>
        <p:pic>
          <p:nvPicPr>
            <p:cNvPr id="48" name="Picture 11" descr="logotypedark2"/>
            <p:cNvPicPr/>
            <p:nvPr/>
          </p:nvPicPr>
          <p:blipFill>
            <a:blip r:embed="rId3"/>
            <a:stretch/>
          </p:blipFill>
          <p:spPr>
            <a:xfrm>
              <a:off x="16524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2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Text Box 13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566040" y="6451560"/>
            <a:ext cx="213336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262E-D261-4A59-BF4C-87C6EF8BB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507960" y="1646280"/>
            <a:ext cx="81662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63640" indent="-406440">
              <a:spcBef>
                <a:spcPts val="649"/>
              </a:spcBef>
              <a:buClr>
                <a:srgbClr val="f8bc12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206360" indent="-228600">
              <a:spcBef>
                <a:spcPts val="64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152280" y="6296040"/>
            <a:ext cx="1554480" cy="511200"/>
            <a:chOff x="152280" y="6296040"/>
            <a:chExt cx="1554480" cy="511200"/>
          </a:xfrm>
        </p:grpSpPr>
        <p:pic>
          <p:nvPicPr>
            <p:cNvPr id="92" name="Picture 6" descr="logotypedark2"/>
            <p:cNvPicPr/>
            <p:nvPr/>
          </p:nvPicPr>
          <p:blipFill>
            <a:blip r:embed="rId3"/>
            <a:stretch/>
          </p:blipFill>
          <p:spPr>
            <a:xfrm>
              <a:off x="15228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/>
            <p:cNvSpPr/>
            <p:nvPr/>
          </p:nvSpPr>
          <p:spPr>
            <a:xfrm>
              <a:off x="144072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144072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6552720" y="6451560"/>
            <a:ext cx="213372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0D3B-AEDC-4F59-B55C-CADC7D277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662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7ddd6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37720" indent="-394200" algn="ctr">
              <a:spcBef>
                <a:spcPts val="799"/>
              </a:spcBef>
              <a:buClr>
                <a:srgbClr val="f8bc1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221400" algn="ctr">
              <a:spcBef>
                <a:spcPts val="79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 algn="ctr">
              <a:spcBef>
                <a:spcPts val="79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 algn="ctr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-254160" y="228240"/>
            <a:ext cx="89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165240" y="6296040"/>
            <a:ext cx="1554480" cy="511200"/>
            <a:chOff x="165240" y="6296040"/>
            <a:chExt cx="1554480" cy="511200"/>
          </a:xfrm>
        </p:grpSpPr>
        <p:pic>
          <p:nvPicPr>
            <p:cNvPr id="136" name="Picture 11" descr="logotypedark2"/>
            <p:cNvPicPr/>
            <p:nvPr/>
          </p:nvPicPr>
          <p:blipFill>
            <a:blip r:embed="rId3"/>
            <a:stretch/>
          </p:blipFill>
          <p:spPr>
            <a:xfrm>
              <a:off x="16524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2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3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3"/>
          <p:cNvSpPr>
            <a:spLocks noGrp="1"/>
          </p:cNvSpPr>
          <p:nvPr>
            <p:ph type="sldNum" idx="4"/>
          </p:nvPr>
        </p:nvSpPr>
        <p:spPr>
          <a:xfrm>
            <a:off x="6566040" y="6451560"/>
            <a:ext cx="213336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9691-24C0-4238-A875-7D2886E71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0BF4-978B-4A4F-B484-DBF2935EC47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5DB8-634F-41B3-9755-133E45760C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52280" y="6296040"/>
            <a:ext cx="1554480" cy="511200"/>
            <a:chOff x="152280" y="6296040"/>
            <a:chExt cx="1554480" cy="511200"/>
          </a:xfrm>
        </p:grpSpPr>
        <p:pic>
          <p:nvPicPr>
            <p:cNvPr id="219" name="Picture 6" descr="logotypedark2"/>
            <p:cNvPicPr/>
            <p:nvPr/>
          </p:nvPicPr>
          <p:blipFill>
            <a:blip r:embed="rId3"/>
            <a:stretch/>
          </p:blipFill>
          <p:spPr>
            <a:xfrm>
              <a:off x="15228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7"/>
            <p:cNvSpPr/>
            <p:nvPr/>
          </p:nvSpPr>
          <p:spPr>
            <a:xfrm>
              <a:off x="144072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144072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Rectangle 9"/>
          <p:cNvSpPr/>
          <p:nvPr/>
        </p:nvSpPr>
        <p:spPr>
          <a:xfrm>
            <a:off x="0" y="609480"/>
            <a:ext cx="9144000" cy="3200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9bde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152280" y="6194520"/>
            <a:ext cx="1557720" cy="511200"/>
            <a:chOff x="152280" y="6194520"/>
            <a:chExt cx="1557720" cy="511200"/>
          </a:xfrm>
        </p:grpSpPr>
        <p:pic>
          <p:nvPicPr>
            <p:cNvPr id="224" name="Picture 4" descr="logotypedark2"/>
            <p:cNvPicPr/>
            <p:nvPr/>
          </p:nvPicPr>
          <p:blipFill>
            <a:blip r:embed="rId4"/>
            <a:stretch/>
          </p:blipFill>
          <p:spPr>
            <a:xfrm>
              <a:off x="152280" y="619452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5"/>
            <p:cNvSpPr/>
            <p:nvPr/>
          </p:nvSpPr>
          <p:spPr>
            <a:xfrm>
              <a:off x="1443960" y="6391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6"/>
            <p:cNvSpPr/>
            <p:nvPr/>
          </p:nvSpPr>
          <p:spPr>
            <a:xfrm>
              <a:off x="1443960" y="6391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507960" y="1646280"/>
            <a:ext cx="81662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63640" indent="-406440">
              <a:spcBef>
                <a:spcPts val="649"/>
              </a:spcBef>
              <a:buClr>
                <a:srgbClr val="f8bc12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206360" indent="-228600">
              <a:spcBef>
                <a:spcPts val="64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10"/>
          <p:cNvGrpSpPr/>
          <p:nvPr/>
        </p:nvGrpSpPr>
        <p:grpSpPr>
          <a:xfrm>
            <a:off x="165240" y="6296040"/>
            <a:ext cx="1554480" cy="511200"/>
            <a:chOff x="165240" y="6296040"/>
            <a:chExt cx="1554480" cy="511200"/>
          </a:xfrm>
        </p:grpSpPr>
        <p:pic>
          <p:nvPicPr>
            <p:cNvPr id="267" name="Picture 11" descr="logotypedark2"/>
            <p:cNvPicPr/>
            <p:nvPr/>
          </p:nvPicPr>
          <p:blipFill>
            <a:blip r:embed="rId3"/>
            <a:stretch/>
          </p:blipFill>
          <p:spPr>
            <a:xfrm>
              <a:off x="16524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12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3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Rectangle 9"/>
          <p:cNvSpPr/>
          <p:nvPr/>
        </p:nvSpPr>
        <p:spPr>
          <a:xfrm>
            <a:off x="0" y="861840"/>
            <a:ext cx="9144000" cy="4764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9bde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152280" y="6194520"/>
            <a:ext cx="1557720" cy="511200"/>
            <a:chOff x="152280" y="6194520"/>
            <a:chExt cx="1557720" cy="511200"/>
          </a:xfrm>
        </p:grpSpPr>
        <p:pic>
          <p:nvPicPr>
            <p:cNvPr id="272" name="Picture 5" descr="logotypedark2"/>
            <p:cNvPicPr/>
            <p:nvPr/>
          </p:nvPicPr>
          <p:blipFill>
            <a:blip r:embed="rId4"/>
            <a:stretch/>
          </p:blipFill>
          <p:spPr>
            <a:xfrm>
              <a:off x="152280" y="619452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6"/>
            <p:cNvSpPr/>
            <p:nvPr/>
          </p:nvSpPr>
          <p:spPr>
            <a:xfrm>
              <a:off x="1443960" y="6391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443960" y="6391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662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7ddd6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37720" indent="-394200" algn="ctr">
              <a:spcBef>
                <a:spcPts val="799"/>
              </a:spcBef>
              <a:buClr>
                <a:srgbClr val="f8bc1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221400" algn="ctr">
              <a:spcBef>
                <a:spcPts val="79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 algn="ctr">
              <a:spcBef>
                <a:spcPts val="79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 algn="ctr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-254160" y="228240"/>
            <a:ext cx="89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10"/>
          <p:cNvGrpSpPr/>
          <p:nvPr/>
        </p:nvGrpSpPr>
        <p:grpSpPr>
          <a:xfrm>
            <a:off x="165240" y="6296040"/>
            <a:ext cx="1554480" cy="511200"/>
            <a:chOff x="165240" y="6296040"/>
            <a:chExt cx="1554480" cy="511200"/>
          </a:xfrm>
        </p:grpSpPr>
        <p:pic>
          <p:nvPicPr>
            <p:cNvPr id="315" name="Picture 11" descr="logotypedark2"/>
            <p:cNvPicPr/>
            <p:nvPr/>
          </p:nvPicPr>
          <p:blipFill>
            <a:blip r:embed="rId3"/>
            <a:stretch/>
          </p:blipFill>
          <p:spPr>
            <a:xfrm>
              <a:off x="16524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12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13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Rectangle 9"/>
          <p:cNvSpPr/>
          <p:nvPr/>
        </p:nvSpPr>
        <p:spPr>
          <a:xfrm>
            <a:off x="0" y="609480"/>
            <a:ext cx="9144000" cy="3200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9bde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662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7ddd6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37720" indent="-394200" algn="ctr">
              <a:spcBef>
                <a:spcPts val="799"/>
              </a:spcBef>
              <a:buClr>
                <a:srgbClr val="f8bc1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221400" algn="ctr">
              <a:spcBef>
                <a:spcPts val="79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 algn="ctr">
              <a:spcBef>
                <a:spcPts val="79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 algn="ctr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-254160" y="228240"/>
            <a:ext cx="89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1231920"/>
            <a:ext cx="9144000" cy="76320"/>
          </a:xfrm>
          <a:prstGeom prst="rect">
            <a:avLst/>
          </a:prstGeom>
          <a:gradFill rotWithShape="0">
            <a:gsLst>
              <a:gs pos="0">
                <a:srgbClr val="ebf6ff"/>
              </a:gs>
              <a:gs pos="100000">
                <a:srgbClr val="4ec0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Group 10"/>
          <p:cNvGrpSpPr/>
          <p:nvPr/>
        </p:nvGrpSpPr>
        <p:grpSpPr>
          <a:xfrm>
            <a:off x="165240" y="6296040"/>
            <a:ext cx="1554480" cy="511200"/>
            <a:chOff x="165240" y="6296040"/>
            <a:chExt cx="1554480" cy="511200"/>
          </a:xfrm>
        </p:grpSpPr>
        <p:pic>
          <p:nvPicPr>
            <p:cNvPr id="359" name="Picture 11" descr="logotypedark2"/>
            <p:cNvPicPr/>
            <p:nvPr/>
          </p:nvPicPr>
          <p:blipFill>
            <a:blip r:embed="rId3"/>
            <a:stretch/>
          </p:blipFill>
          <p:spPr>
            <a:xfrm>
              <a:off x="165240" y="6296040"/>
              <a:ext cx="1371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12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Text Box 13"/>
            <p:cNvSpPr/>
            <p:nvPr/>
          </p:nvSpPr>
          <p:spPr>
            <a:xfrm>
              <a:off x="1453680" y="64929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8080"/>
                  </a:solidFill>
                  <a:latin typeface="Abadi MT Condensed Light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662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7ddd6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37720" indent="-394200" algn="ctr">
              <a:spcBef>
                <a:spcPts val="799"/>
              </a:spcBef>
              <a:buClr>
                <a:srgbClr val="f8bc1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221400" algn="ctr">
              <a:spcBef>
                <a:spcPts val="799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51960" indent="-221400" algn="ctr">
              <a:spcBef>
                <a:spcPts val="799"/>
              </a:spcBef>
              <a:buClr>
                <a:srgbClr val="e87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995480" indent="-221400" algn="ctr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995480" indent="-2214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-254160" y="228240"/>
            <a:ext cx="89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8"/>
          </p:nvPr>
        </p:nvSpPr>
        <p:spPr>
          <a:xfrm>
            <a:off x="6552720" y="6451560"/>
            <a:ext cx="213372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7792-0ABD-4CCF-A1FB-A801FAFCF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munity Partnerships to Support Education Research fro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velopment through Implement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1066320" y="4190760"/>
            <a:ext cx="6782040" cy="2514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eanne Podus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erican Institutes for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Jane Gom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uston Independent School Distri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S Research Con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une 30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Picture 6" descr="C:\Documents and Settings\mmalouf\Desktop\HISD_Seal_web.jpg"/>
          <p:cNvPicPr/>
          <p:nvPr/>
        </p:nvPicPr>
        <p:blipFill>
          <a:blip r:embed="rId1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ods of Tr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1523880" y="1828440"/>
            <a:ext cx="64771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rtunity for cooperative and collaborativ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in and across the distr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external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06D3-EEA1-47A9-B4C2-6873D0EC03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7" name="Picture 6" descr="C:\Documents and Settings\mmalouf\Desktop\HISD_Seal_web.jpg"/>
          <p:cNvPicPr/>
          <p:nvPr/>
        </p:nvPicPr>
        <p:blipFill>
          <a:blip r:embed="rId1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uctures to Suppo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earch and Sustaina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quires Multiple Leve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D has history of campus-level decision-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ral office provides direction and sup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ool District Board of Educ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 of broader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6" descr="C:\Documents and Settings\mmalouf\Desktop\HISD_Seal_web.jpg"/>
          <p:cNvPicPr/>
          <p:nvPr/>
        </p:nvPicPr>
        <p:blipFill>
          <a:blip r:embed="rId1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ools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ner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cipals of participating schools, central office staff, and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9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y to day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9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loop re feasibility, applicability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relevance of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6" descr="C:\Documents and Settings\mmalouf\Desktop\HISD_Seal_web.jpg"/>
          <p:cNvPicPr/>
          <p:nvPr/>
        </p:nvPicPr>
        <p:blipFill>
          <a:blip r:embed="rId1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8580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ing P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ef Academic Offic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mentary Curriculum &amp;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ly Childhood Educ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and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lingual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 Support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R sta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Picture 6" descr="C:\Documents and Settings\mmalouf\Desktop\HISD_Seal_web.jpg"/>
          <p:cNvPicPr/>
          <p:nvPr/>
        </p:nvPicPr>
        <p:blipFill>
          <a:blip r:embed="rId1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ck an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cused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 sol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ving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issues related to sustain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Picture 6" descr="C:\Documents and Settings\mmalouf\Desktop\HISD_Seal_web.jpg"/>
          <p:cNvPicPr/>
          <p:nvPr/>
        </p:nvPicPr>
        <p:blipFill>
          <a:blip r:embed="rId1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ivating Su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afe and Trusting Pres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ven Better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10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" descr="C:\Documents and Settings\mmalouf\Desktop\HISD_Seal_web.jpg"/>
          <p:cNvPicPr/>
          <p:nvPr/>
        </p:nvPicPr>
        <p:blipFill>
          <a:blip r:embed="rId2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85800" y="129528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R, Center for Integrating Education &amp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on Research in Sch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0 E Lombard St Suite 1020 Baltimore MD 212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poduska@air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10-347-855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ton Independent School Di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400 West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reet Houston TX 77092-85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gomez@houstonisd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13-556-68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6" name="Picture 10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" descr="C:\Documents and Settings\mmalouf\Desktop\HISD_Seal_web.jpg"/>
          <p:cNvPicPr/>
          <p:nvPr/>
        </p:nvPicPr>
        <p:blipFill>
          <a:blip r:embed="rId2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eas of Conside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61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entions and the support system for inter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idelity and sup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-level facto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omitrivich, Bradshaw, Poduska et al, 200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 Program, Teacher, Students, Classroom, Principal, School, Distri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ge of work—Type 2 Translational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ories of individual level change and of organizational change (systems change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10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4880" y="0"/>
            <a:ext cx="897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oretical Model &amp; Technical Steps in Building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unity and Institution Partner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ze the social/political contex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 the vision and understand the challenges and pri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mutual self-interests within and across the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t the research program interests into the vision of the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through trust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 ad hoc oversight from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od Behavior Game Professional Development Study Te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6840" y="1447920"/>
            <a:ext cx="3962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merican Institutes for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rincipal Investigator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ne Podus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tervention  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dith Litt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sie R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la F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ssessment and Analysis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ja Kur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rah Bard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ette Mo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y Cha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enter Coordinat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 Malou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343400" y="144756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ouston Independent School Distri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ore 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ef Academic Offi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mentary Curriculum &amp; Instr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rly Childhood Educ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arch and 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lingual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Support Servi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essional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University of South Flor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 Wa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University of Mi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ndricks Br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7"/>
          <p:cNvSpPr/>
          <p:nvPr/>
        </p:nvSpPr>
        <p:spPr>
          <a:xfrm>
            <a:off x="1066680" y="63244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o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305A09044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10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ims of the IES GBG PD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09120" y="1752120"/>
            <a:ext cx="80773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understand the professional development teachers need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, implement, and sustain the Good Behavior Game (GBG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ir classroom with fide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test the impact of GBG under various models of professional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xplore multi-level factors that influence teachers’ implementation of GBG and GBG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ssess the financial costs of delivering GBG under different models of professional develop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Picture 10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" descr="C:\Documents and Settings\mmalouf\Desktop\HISD_Seal_web.jpg"/>
          <p:cNvPicPr/>
          <p:nvPr/>
        </p:nvPicPr>
        <p:blipFill>
          <a:blip r:embed="rId2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Oval 5"/>
          <p:cNvSpPr/>
          <p:nvPr/>
        </p:nvSpPr>
        <p:spPr>
          <a:xfrm>
            <a:off x="3124080" y="2514600"/>
            <a:ext cx="2590920" cy="213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Oval 6"/>
          <p:cNvSpPr/>
          <p:nvPr/>
        </p:nvSpPr>
        <p:spPr>
          <a:xfrm>
            <a:off x="1371600" y="914400"/>
            <a:ext cx="6095880" cy="5029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Oval 7"/>
          <p:cNvSpPr/>
          <p:nvPr/>
        </p:nvSpPr>
        <p:spPr>
          <a:xfrm>
            <a:off x="1981080" y="1523880"/>
            <a:ext cx="4800600" cy="38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Oval 8"/>
          <p:cNvSpPr/>
          <p:nvPr/>
        </p:nvSpPr>
        <p:spPr>
          <a:xfrm>
            <a:off x="228600" y="304920"/>
            <a:ext cx="8534520" cy="647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10"/>
          <p:cNvSpPr/>
          <p:nvPr/>
        </p:nvSpPr>
        <p:spPr>
          <a:xfrm>
            <a:off x="3124080" y="1676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1859c"/>
                </a:solidFill>
                <a:uFillTx/>
                <a:latin typeface="Arial"/>
              </a:rPr>
              <a:t>Local 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1"/>
          <p:cNvSpPr/>
          <p:nvPr/>
        </p:nvSpPr>
        <p:spPr>
          <a:xfrm>
            <a:off x="3218040" y="1066680"/>
            <a:ext cx="24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1859c"/>
                </a:solidFill>
                <a:uFillTx/>
                <a:latin typeface="Arial"/>
              </a:rPr>
              <a:t>Stat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12"/>
          <p:cNvSpPr/>
          <p:nvPr/>
        </p:nvSpPr>
        <p:spPr>
          <a:xfrm>
            <a:off x="2971800" y="533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89af"/>
                </a:solidFill>
                <a:uFillTx/>
                <a:latin typeface="Arial"/>
              </a:rPr>
              <a:t>Federal &amp; National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15"/>
          <p:cNvSpPr/>
          <p:nvPr/>
        </p:nvSpPr>
        <p:spPr>
          <a:xfrm>
            <a:off x="487692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ity/County Commission for Child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17"/>
          <p:cNvSpPr/>
          <p:nvPr/>
        </p:nvSpPr>
        <p:spPr>
          <a:xfrm>
            <a:off x="6939000" y="257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23"/>
          <p:cNvSpPr/>
          <p:nvPr/>
        </p:nvSpPr>
        <p:spPr>
          <a:xfrm>
            <a:off x="5334120" y="1295280"/>
            <a:ext cx="1143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vernor’s Offi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24"/>
          <p:cNvSpPr/>
          <p:nvPr/>
        </p:nvSpPr>
        <p:spPr>
          <a:xfrm>
            <a:off x="5257800" y="5181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neral Assemb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28"/>
          <p:cNvSpPr/>
          <p:nvPr/>
        </p:nvSpPr>
        <p:spPr>
          <a:xfrm>
            <a:off x="3048120" y="5486400"/>
            <a:ext cx="18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e Dept of 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29"/>
          <p:cNvSpPr/>
          <p:nvPr/>
        </p:nvSpPr>
        <p:spPr>
          <a:xfrm>
            <a:off x="2438280" y="12952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ans: Schools of 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36"/>
          <p:cNvSpPr/>
          <p:nvPr/>
        </p:nvSpPr>
        <p:spPr>
          <a:xfrm>
            <a:off x="7391520" y="1981080"/>
            <a:ext cx="95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Teachers’ Unions: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F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, NE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41"/>
          <p:cNvSpPr/>
          <p:nvPr/>
        </p:nvSpPr>
        <p:spPr>
          <a:xfrm>
            <a:off x="7543800" y="3429000"/>
            <a:ext cx="955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Institutes of Health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IDA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NICHD. NIMH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42"/>
          <p:cNvSpPr/>
          <p:nvPr/>
        </p:nvSpPr>
        <p:spPr>
          <a:xfrm>
            <a:off x="6858000" y="5105520"/>
            <a:ext cx="9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MH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44"/>
          <p:cNvSpPr/>
          <p:nvPr/>
        </p:nvSpPr>
        <p:spPr>
          <a:xfrm>
            <a:off x="304920" y="281952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pt of ED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fe &amp; Drug Free Sch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fe Schools/ Healthy Stud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45"/>
          <p:cNvSpPr/>
          <p:nvPr/>
        </p:nvSpPr>
        <p:spPr>
          <a:xfrm>
            <a:off x="990720" y="4952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gisla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46"/>
          <p:cNvSpPr/>
          <p:nvPr/>
        </p:nvSpPr>
        <p:spPr>
          <a:xfrm>
            <a:off x="5410080" y="434340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strict Attorn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48"/>
          <p:cNvSpPr/>
          <p:nvPr/>
        </p:nvSpPr>
        <p:spPr>
          <a:xfrm>
            <a:off x="4800600" y="45720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dia: Houston Chron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49"/>
          <p:cNvSpPr/>
          <p:nvPr/>
        </p:nvSpPr>
        <p:spPr>
          <a:xfrm>
            <a:off x="2057400" y="281952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undations: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Simmons, Houston Endowment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Brown Fami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50"/>
          <p:cNvSpPr/>
          <p:nvPr/>
        </p:nvSpPr>
        <p:spPr>
          <a:xfrm>
            <a:off x="3581280" y="60199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Foundations: RWJ, WT Grant, Spencer, Annie E Casey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51"/>
          <p:cNvSpPr/>
          <p:nvPr/>
        </p:nvSpPr>
        <p:spPr>
          <a:xfrm>
            <a:off x="2438280" y="220968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Parents for Public Education; Pare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dvoc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52"/>
          <p:cNvSpPr/>
          <p:nvPr/>
        </p:nvSpPr>
        <p:spPr>
          <a:xfrm>
            <a:off x="3505320" y="4648320"/>
            <a:ext cx="144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sines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Greater Houston Partnership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54"/>
          <p:cNvSpPr/>
          <p:nvPr/>
        </p:nvSpPr>
        <p:spPr>
          <a:xfrm>
            <a:off x="2666880" y="4495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chools of ED: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U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56"/>
          <p:cNvSpPr/>
          <p:nvPr/>
        </p:nvSpPr>
        <p:spPr>
          <a:xfrm>
            <a:off x="2209680" y="38862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riminal and Juvenile Just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57"/>
          <p:cNvSpPr/>
          <p:nvPr/>
        </p:nvSpPr>
        <p:spPr>
          <a:xfrm>
            <a:off x="228600" y="18900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58"/>
          <p:cNvSpPr/>
          <p:nvPr/>
        </p:nvSpPr>
        <p:spPr>
          <a:xfrm>
            <a:off x="304920" y="34128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59"/>
          <p:cNvSpPr/>
          <p:nvPr/>
        </p:nvSpPr>
        <p:spPr>
          <a:xfrm>
            <a:off x="0" y="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pping the Social/Poli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ntext: </a:t>
            </a:r>
            <a:r>
              <a:rPr b="1" i="1" lang="en-US" sz="1800" spc="-1" strike="noStrike">
                <a:solidFill>
                  <a:srgbClr val="31859c"/>
                </a:solidFill>
                <a:latin typeface="Arial"/>
              </a:rPr>
              <a:t>Houston</a:t>
            </a:r>
            <a:r>
              <a:rPr b="1" lang="en-US" sz="1800" spc="-1" strike="noStrike">
                <a:solidFill>
                  <a:srgbClr val="3a96c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60"/>
          <p:cNvSpPr/>
          <p:nvPr/>
        </p:nvSpPr>
        <p:spPr>
          <a:xfrm>
            <a:off x="6986520" y="6611760"/>
            <a:ext cx="214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merican Institutes for Resear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61"/>
          <p:cNvSpPr/>
          <p:nvPr/>
        </p:nvSpPr>
        <p:spPr>
          <a:xfrm>
            <a:off x="3200400" y="2743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1859c"/>
                </a:solidFill>
                <a:uFillTx/>
                <a:latin typeface="Arial"/>
              </a:rPr>
              <a:t>School Distri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62"/>
          <p:cNvSpPr/>
          <p:nvPr/>
        </p:nvSpPr>
        <p:spPr>
          <a:xfrm>
            <a:off x="3276720" y="34290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eachers’ Un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65"/>
          <p:cNvSpPr/>
          <p:nvPr/>
        </p:nvSpPr>
        <p:spPr>
          <a:xfrm>
            <a:off x="4191120" y="320040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dependent School Distri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68"/>
          <p:cNvSpPr/>
          <p:nvPr/>
        </p:nvSpPr>
        <p:spPr>
          <a:xfrm>
            <a:off x="3657600" y="2057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ealth  &amp; Human Servic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64"/>
          <p:cNvSpPr/>
          <p:nvPr/>
        </p:nvSpPr>
        <p:spPr>
          <a:xfrm>
            <a:off x="3809880" y="38862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arris County Board of 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54"/>
          <p:cNvSpPr/>
          <p:nvPr/>
        </p:nvSpPr>
        <p:spPr>
          <a:xfrm>
            <a:off x="5638680" y="2666880"/>
            <a:ext cx="1524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ouse A+ Challenge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Project Grad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llaborative for Child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68"/>
          <p:cNvSpPr/>
          <p:nvPr/>
        </p:nvSpPr>
        <p:spPr>
          <a:xfrm>
            <a:off x="5791320" y="36576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A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29"/>
          <p:cNvSpPr/>
          <p:nvPr/>
        </p:nvSpPr>
        <p:spPr>
          <a:xfrm>
            <a:off x="152280" y="99072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cepto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erican Leadership For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68"/>
          <p:cNvSpPr/>
          <p:nvPr/>
        </p:nvSpPr>
        <p:spPr>
          <a:xfrm>
            <a:off x="5791320" y="388620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ntal Heal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60"/>
          <p:cNvSpPr/>
          <p:nvPr/>
        </p:nvSpPr>
        <p:spPr>
          <a:xfrm>
            <a:off x="6477120" y="639756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ort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DA R21 DA02437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2" name="Picture 10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tablishing Mutual Self-Intere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ports the Research Endeav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143000" y="1676520"/>
            <a:ext cx="69343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taining vision across changes of leadership in di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—three classrooms per school, random ass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ention—where to place the coa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itudinal follow-up of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s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delity and 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additional grants have been submitted buil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is work: one from AIR; one from HI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10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ton ISD Persp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837720" y="1752120"/>
            <a:ext cx="72392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ing if a body of proposed research supports the mission/vision of HIS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with District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BG PD Study address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E7E1-9A24-472F-936B-ECF12604D8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6" descr="C:\Documents and Settings\mmalouf\Desktop\HISD_Seal_web.jpg"/>
          <p:cNvPicPr/>
          <p:nvPr/>
        </p:nvPicPr>
        <p:blipFill>
          <a:blip r:embed="rId1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ims of IES GBG PD stud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understand the professional development teachers need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, implement, and sustain the Good Behavior Game (GBG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ir classroom with fide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test the impact of GBG under various models of professional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xplore multi-level factors that influence teachers’ implementation of GBG and GBG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ssess the financial costs of delivering GBG under different models of professional develop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Picture 6" descr="C:\Documents and Settings\mmalouf\Desktop\HISD_Seal_web.jpg"/>
          <p:cNvPicPr/>
          <p:nvPr/>
        </p:nvPicPr>
        <p:blipFill>
          <a:blip r:embed="rId1"/>
          <a:stretch/>
        </p:blipFill>
        <p:spPr>
          <a:xfrm>
            <a:off x="8153280" y="5867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0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5:39:20Z</dcterms:created>
  <dc:creator>Jeanne Poduska</dc:creator>
  <dc:description/>
  <dc:language>en-US</dc:language>
  <cp:lastModifiedBy>Jdabrowski</cp:lastModifiedBy>
  <dcterms:modified xsi:type="dcterms:W3CDTF">2010-07-02T16:12:09Z</dcterms:modified>
  <cp:revision>184</cp:revision>
  <dc:subject/>
  <dc:title>Good Behavior Game  Professional Development Study</dc:title>
</cp:coreProperties>
</file>