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5A23-6EAE-43E5-9D4E-DAD7B57E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5159-EBE0-4C45-B81F-060E6F3C3093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st-level goal of the research I’m going to describe today is to identify ways to suppor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E11-460B-4D17-9F31-7426F5F24CC1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0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1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3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7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534-9EAF-45EA-99F0-731DC940E26F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2EA5-93C7-4C1D-9D13-EB15E41D69D1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720E-4B4A-41F2-99F3-19C883B3866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6744-144B-4AE9-8EB1-C2983FE9EB12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B5B-2623-4723-A93F-185BCA7351E1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C277-4049-4A77-A9E6-A1774353C47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E8E-86F5-4A30-9B2C-FE86653E96F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-93% accuracy across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EA5-56A2-47C8-9C8F-072F678DD0FD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.5 letter grad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6B9-DC8E-46C1-AE27-A4F4F76208D3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72B3-4F47-4687-A575-CE09B7A7E5F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1:  very common kind of information we expect students to learn – core concepts, main theoretical assumptions, et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2:  goal of education is long-term lear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3:  in a typical college-level Introductory Psychology course, students assigned about one textbook chapter each week in a 15-16 week semester, and each of these chapters will contain many key terms (in one sample, anywhere from 17 to 78 key terms per chapter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4:  previous research (although none with key term definitions) has shown that retrieval practice is easy way to improve mem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RMF program to work, many different questions have to be worked out. For example, John talked about how to improve “M”. A central theme for today is HOW MUCH PRACTICE?  Enough to get durability (from one session to next, and for long-term), but no more than necessary for sake of efficiency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, a simple place to start is just to show that more is better—replicate effects of repeated practice shown in previous research, but with key term definition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TCH:  So, seems like it should be a simple matter to extend testing effects to key term definitions.  But what I’m actually going to tell you here is a story of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attles w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attles lo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o illustrate trickiness of what seems like simple step up from word pairs to key term definition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John told you yesterday, changes things with respect to metacognitive monitoring (easy for both computer and student to know if a one-word answer is correct; hard for both computer and student to know if conceptual sentence-length response is correct)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so turns out that things get trickier with respect to when and how self-testing/retrieval practice benefits memor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xample, one of initial studies was simple replication of robust effects distributed TR practic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7A51-BF48-4353-B1FB-5B84E8D274F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D01-18C7-49E8-BDF1-D35B70E4BF9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0E8D-2AB7-4653-9201-73A51B758F37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A32A-2EBE-45E9-B5E7-C75ECE1B7F6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vs. 3 significant on Day 3 and Day 8, not Da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43: p = 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ke up 1.7 of 2 extra trials from 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D85-15C8-40F4-BB69-94F8D2B9AEA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230 recall responses 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064-4690-40E8-A51F-09D498E0A0ED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Day 3, 8, Marginal Day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 Day 22,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on One Month and Four Month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1.1 trials across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B81-7DA0-4718-AA55-A44A202704D9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80A-232A-4734-A486-84B5AFAE078C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CB4-2002-4E16-B37B-B2794954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90C-3162-4D67-856F-EDA634D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D66-E6EE-44B4-BC9F-EBB626B5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7BC-7B83-4709-ACA8-F904C0A0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541-03F4-498E-BCC6-14759BF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E59-F61F-4B95-B949-3209A92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D1B-10C8-4C16-B6D5-4CB67E0D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7BD-9E56-41FC-9628-D85A0E04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779-9AA7-4AD2-94D0-638BFD9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12D-AE5E-40BE-A2D4-5336538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0E4-36C4-4EBE-A659-9D095A3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0E0-8B19-486F-AF7A-76ED689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6F49-FC25-4D4F-984A-0290397FA5E2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pporting Durable and Efficient Student Lear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14400" y="3017880"/>
            <a:ext cx="74674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Katherine Raws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 Unicode MS"/>
              </a:rPr>
              <a:t>Kent State University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81160" y="5295960"/>
            <a:ext cx="862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Research supported by the Institute of Education Sciences, U.S. Department of Education, through Grants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#R305H050038 and #R305A080316 to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Kent State University.  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The opinions expressed are those of the author and do not represent views 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f the Institute or the U.S. Department of Education.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73200" y="1238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180 students, 8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62040" y="1895400"/>
            <a:ext cx="823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: 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trieval practice until ~2 correct recalls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AG: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zer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re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ve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ther items between tria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62040" y="4103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3: relearning sessi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62040" y="5446800"/>
            <a:ext cx="81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0:  final cued recall test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riment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57360" y="47703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8: relearning sessi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6"/>
          <p:cNvGraphicFramePr/>
          <p:nvPr/>
        </p:nvGraphicFramePr>
        <p:xfrm>
          <a:off x="920880" y="482760"/>
          <a:ext cx="752796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82760"/>
                    <a:ext cx="75279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8"/>
          <p:cNvSpPr/>
          <p:nvPr/>
        </p:nvSpPr>
        <p:spPr>
          <a:xfrm>
            <a:off x="4091040" y="2303640"/>
            <a:ext cx="2203560" cy="32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159600" y="2165400"/>
            <a:ext cx="202860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15" name="Group 25"/>
          <p:cNvGrpSpPr/>
          <p:nvPr/>
        </p:nvGrpSpPr>
        <p:grpSpPr>
          <a:xfrm>
            <a:off x="2630520" y="1423800"/>
            <a:ext cx="1149480" cy="2563560"/>
            <a:chOff x="2630520" y="1423800"/>
            <a:chExt cx="1149480" cy="2563560"/>
          </a:xfrm>
        </p:grpSpPr>
        <p:sp>
          <p:nvSpPr>
            <p:cNvPr id="116" name="Line 21"/>
            <p:cNvSpPr/>
            <p:nvPr/>
          </p:nvSpPr>
          <p:spPr>
            <a:xfrm flipV="1">
              <a:off x="2630520" y="1423800"/>
              <a:ext cx="0" cy="256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 flipV="1">
              <a:off x="3398760" y="1434960"/>
              <a:ext cx="0" cy="180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97360" y="1434600"/>
              <a:ext cx="0" cy="205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3780000" y="1429920"/>
              <a:ext cx="0" cy="15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20" name="Group 29"/>
          <p:cNvGrpSpPr/>
          <p:nvPr/>
        </p:nvGrpSpPr>
        <p:grpSpPr>
          <a:xfrm>
            <a:off x="2390760" y="3049560"/>
            <a:ext cx="1617840" cy="1540080"/>
            <a:chOff x="2390760" y="3049560"/>
            <a:chExt cx="1617840" cy="1540080"/>
          </a:xfrm>
        </p:grpSpPr>
        <p:sp>
          <p:nvSpPr>
            <p:cNvPr id="121" name="Oval 27"/>
            <p:cNvSpPr/>
            <p:nvPr/>
          </p:nvSpPr>
          <p:spPr>
            <a:xfrm>
              <a:off x="2390760" y="4114800"/>
              <a:ext cx="514440" cy="47484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3494160" y="3049560"/>
              <a:ext cx="514440" cy="47484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5"/>
          <p:cNvGraphicFramePr/>
          <p:nvPr/>
        </p:nvGraphicFramePr>
        <p:xfrm>
          <a:off x="1008000" y="609480"/>
          <a:ext cx="7261200" cy="55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609480"/>
                    <a:ext cx="72612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3"/>
          <p:cNvSpPr/>
          <p:nvPr/>
        </p:nvSpPr>
        <p:spPr>
          <a:xfrm>
            <a:off x="4076640" y="2260440"/>
            <a:ext cx="2203560" cy="32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59600" y="2122560"/>
            <a:ext cx="185400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5"/>
          <p:cNvGraphicFramePr/>
          <p:nvPr/>
        </p:nvGraphicFramePr>
        <p:xfrm>
          <a:off x="1008000" y="581040"/>
          <a:ext cx="7337520" cy="565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581040"/>
                    <a:ext cx="733752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1523880" y="1233360"/>
            <a:ext cx="29052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4997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Knew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05320" y="246204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49600" y="316692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is bes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04920" y="3614760"/>
            <a:ext cx="8839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Now Know…</a:t>
            </a:r>
            <a:endParaRPr b="0" i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23760" y="5316480"/>
            <a:ext cx="7340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not always best?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840" y="166680"/>
            <a:ext cx="9018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lusions:  </a:t>
            </a:r>
            <a:br>
              <a:rPr sz="4400"/>
            </a:br>
            <a:r>
              <a:rPr b="0" lang="en-US" sz="4200" spc="-1" strike="noStrike">
                <a:solidFill>
                  <a:srgbClr val="ffffff"/>
                </a:solidFill>
                <a:latin typeface="Arial Unicode MS"/>
              </a:rPr>
              <a:t>Optimizing Durability and Efficiency</a:t>
            </a:r>
            <a:endParaRPr b="0" i="1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42680" y="4576680"/>
            <a:ext cx="68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increasingly les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74720" y="552600"/>
            <a:ext cx="7634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anks to our tireless team of research assistants who collected data from 645 participants and who hand-scored  more than 80,000 recall responses for just these three experiments alone!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Mike Applema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John Kozlik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Melissa Bishop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Korin Lee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ina Burk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Caitlin Metelko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Sean Burt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Rochelle O’Neil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an Molnar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Jill Peterson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Nicole Gonzalez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Danielle Roberto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Phil Grimaldi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Melissa Roderick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nya Hardwa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Sara Smith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Alison Ka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Katie Wissman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23840" y="262080"/>
          <a:ext cx="8896320" cy="63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262080"/>
                    <a:ext cx="889632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3"/>
          <p:cNvSpPr/>
          <p:nvPr/>
        </p:nvSpPr>
        <p:spPr>
          <a:xfrm>
            <a:off x="598320" y="5643720"/>
            <a:ext cx="788364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47920" y="374760"/>
            <a:ext cx="4835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lf-serving bias?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One Month “Booster Shot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1174680" y="1065240"/>
          <a:ext cx="693756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065240"/>
                    <a:ext cx="693756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"/>
          <p:cNvSpPr/>
          <p:nvPr/>
        </p:nvSpPr>
        <p:spPr>
          <a:xfrm>
            <a:off x="2629080" y="2295360"/>
            <a:ext cx="4989240" cy="30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831960" y="623880"/>
          <a:ext cx="742932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623880"/>
                    <a:ext cx="742932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"/>
          <p:cNvSpPr/>
          <p:nvPr/>
        </p:nvSpPr>
        <p:spPr>
          <a:xfrm>
            <a:off x="1198440" y="1387440"/>
            <a:ext cx="230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62160" y="1176480"/>
            <a:ext cx="570384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Retrieval-Monitoring-Feedback (RMF) Metho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177624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key term definitions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71600" y="26146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is durability important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371600" y="346716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is efficiency important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71600" y="430524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retrieval practice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27200" y="326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ercent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commission errors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judged to be worth no credit, partial credit, or full credi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46200" y="2433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None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	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 Part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	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Full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5560" y="33321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no definition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17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5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25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49440" y="4040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definition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4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3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14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42960" y="4811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idea units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7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20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2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Know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30800" y="127332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Retrieval practice + restudy is good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05320" y="196200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49600" y="266688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is bes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04920" y="331488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Don’t Know…</a:t>
            </a:r>
            <a:endParaRPr b="0" i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23760" y="4573440"/>
            <a:ext cx="6948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Optimal schedule for durability  and efficiency ?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2840" y="2266920"/>
            <a:ext cx="7020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What is the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Arial Unicode MS"/>
              </a:rPr>
              <a:t>availability heuristic</a:t>
            </a: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?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Judging the likelihood of an event based on how easy it is to think of real or imagined examples.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 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84280" y="3670200"/>
            <a:ext cx="855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:  Initial study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trieval practice (with restudy)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until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rect recal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Experiment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4280" y="1663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Short text with 8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84280" y="535932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3:  Final recall test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93640" y="108576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130 students in Introductory Psychology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176480" y="609480"/>
          <a:ext cx="67896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609480"/>
                    <a:ext cx="6789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Group 3"/>
          <p:cNvGrpSpPr/>
          <p:nvPr/>
        </p:nvGrpSpPr>
        <p:grpSpPr>
          <a:xfrm>
            <a:off x="2490840" y="1662120"/>
            <a:ext cx="3794040" cy="1838160"/>
            <a:chOff x="2490840" y="1662120"/>
            <a:chExt cx="3794040" cy="1838160"/>
          </a:xfrm>
        </p:grpSpPr>
        <p:sp>
          <p:nvSpPr>
            <p:cNvPr id="71" name="Oval 4"/>
            <p:cNvSpPr/>
            <p:nvPr/>
          </p:nvSpPr>
          <p:spPr>
            <a:xfrm>
              <a:off x="2490840" y="2695680"/>
              <a:ext cx="1135080" cy="80460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2" name="Oval 5"/>
            <p:cNvSpPr/>
            <p:nvPr/>
          </p:nvSpPr>
          <p:spPr>
            <a:xfrm>
              <a:off x="5149800" y="1662120"/>
              <a:ext cx="1135080" cy="80496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3" name="Rectangle 6"/>
          <p:cNvSpPr/>
          <p:nvPr/>
        </p:nvSpPr>
        <p:spPr>
          <a:xfrm>
            <a:off x="4037040" y="1608120"/>
            <a:ext cx="3568680" cy="32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5126040" y="1614600"/>
            <a:ext cx="2567160" cy="914400"/>
          </a:xfrm>
          <a:prstGeom prst="ellipse">
            <a:avLst/>
          </a:prstGeom>
          <a:noFill/>
          <a:ln w="57240">
            <a:solidFill>
              <a:srgbClr val="fd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0200" y="11736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Experiment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238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335 students, 16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4280" y="198756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Initial learning: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orrect recal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4280" y="27874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learning sessions: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4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84280" y="3613320"/>
            <a:ext cx="815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Criterion Test #1: 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one mont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after practice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77800" y="436896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Criterion Test #2: 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four months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after practice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1465200" y="4165560"/>
            <a:ext cx="1938240" cy="554040"/>
            <a:chOff x="1465200" y="4165560"/>
            <a:chExt cx="1938240" cy="554040"/>
          </a:xfrm>
        </p:grpSpPr>
        <p:sp>
          <p:nvSpPr>
            <p:cNvPr id="82" name="Oval 3"/>
            <p:cNvSpPr/>
            <p:nvPr/>
          </p:nvSpPr>
          <p:spPr>
            <a:xfrm>
              <a:off x="1465200" y="4165560"/>
              <a:ext cx="912960" cy="544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2.6 &gt; 2.1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" name="Oval 4"/>
            <p:cNvSpPr/>
            <p:nvPr/>
          </p:nvSpPr>
          <p:spPr>
            <a:xfrm>
              <a:off x="2490840" y="417528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2.3 &gt; 2.0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3516480" y="4168800"/>
            <a:ext cx="2947680" cy="554040"/>
            <a:chOff x="3516480" y="4168800"/>
            <a:chExt cx="2947680" cy="554040"/>
          </a:xfrm>
        </p:grpSpPr>
        <p:sp>
          <p:nvSpPr>
            <p:cNvPr id="85" name="Oval 6"/>
            <p:cNvSpPr/>
            <p:nvPr/>
          </p:nvSpPr>
          <p:spPr>
            <a:xfrm>
              <a:off x="3516480" y="416880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9 ~ 1.7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4541760" y="4178160"/>
              <a:ext cx="912960" cy="544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7 ~ 1.6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5551560" y="417204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5 ~ 1.5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aphicFrame>
        <p:nvGraphicFramePr>
          <p:cNvPr id="88" name="Object 9"/>
          <p:cNvGraphicFramePr/>
          <p:nvPr/>
        </p:nvGraphicFramePr>
        <p:xfrm>
          <a:off x="487440" y="671400"/>
          <a:ext cx="810720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71400"/>
                    <a:ext cx="81072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10"/>
          <p:cNvSpPr/>
          <p:nvPr/>
        </p:nvSpPr>
        <p:spPr>
          <a:xfrm>
            <a:off x="2428920" y="1558800"/>
            <a:ext cx="10699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511440" y="1568520"/>
            <a:ext cx="299412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593040" y="1562040"/>
            <a:ext cx="174780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1892160" y="1418760"/>
            <a:ext cx="279720" cy="1040040"/>
            <a:chOff x="1892160" y="1418760"/>
            <a:chExt cx="279720" cy="1040040"/>
          </a:xfrm>
        </p:grpSpPr>
        <p:sp>
          <p:nvSpPr>
            <p:cNvPr id="94" name="Line 14"/>
            <p:cNvSpPr/>
            <p:nvPr/>
          </p:nvSpPr>
          <p:spPr>
            <a:xfrm flipV="1">
              <a:off x="1892160" y="1418760"/>
              <a:ext cx="0" cy="104004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 flipV="1">
              <a:off x="2171880" y="1428840"/>
              <a:ext cx="0" cy="58248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2854440" y="1428840"/>
            <a:ext cx="279360" cy="1039680"/>
            <a:chOff x="2854440" y="1428840"/>
            <a:chExt cx="279360" cy="1039680"/>
          </a:xfrm>
        </p:grpSpPr>
        <p:sp>
          <p:nvSpPr>
            <p:cNvPr id="97" name="Line 17"/>
            <p:cNvSpPr/>
            <p:nvPr/>
          </p:nvSpPr>
          <p:spPr>
            <a:xfrm flipV="1">
              <a:off x="2854440" y="1428840"/>
              <a:ext cx="0" cy="103968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3133800" y="1438200"/>
              <a:ext cx="0" cy="82080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685800" y="700200"/>
          <a:ext cx="777240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0200"/>
                    <a:ext cx="777240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2595600" y="1239840"/>
            <a:ext cx="556092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792760" y="153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000"/>
                </a:solidFill>
                <a:latin typeface="Arial"/>
              </a:rPr>
              <a:t>Four Month Test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662040"/>
          <a:ext cx="7772400" cy="53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62040"/>
                    <a:ext cx="777240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4:34:59Z</dcterms:created>
  <dc:creator>Katherine Rawson</dc:creator>
  <dc:description/>
  <dc:language>en-US</dc:language>
  <cp:lastModifiedBy>Jdabrowski</cp:lastModifiedBy>
  <dcterms:modified xsi:type="dcterms:W3CDTF">2010-07-02T16:48:56Z</dcterms:modified>
  <cp:revision>216</cp:revision>
  <dc:subject/>
  <dc:title>Text Processing</dc:title>
</cp:coreProperties>
</file>