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767B-398D-45CC-8C0D-15D668A5C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7663-1D95-41E5-A524-72D492AA6C96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st-level goal of the research I’m going to describe today is to identify ways to suppor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04D3-A6D4-4688-835E-11A3A6E87247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I 0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I 1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I 3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I 7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FBC4-4F70-4AE8-B013-BE0225E1E880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CE78-0598-42FD-8B06-9D36EAD76115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732F-5059-4337-8730-84C9D039F9DA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4832-F951-42F6-9C9F-510562D7EC65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124D-63BD-4EEC-9BC1-7D15DD0CE957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0C51-5FF2-40BD-B5A5-F34138E2067F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2C40-94AE-4F68-BFBA-6E49B741BC19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-93% accuracy across s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AA4D-E847-408A-ABAD-74D70B3360E7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1.5 letter grad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1B7D-CEB1-4CF4-904B-4B4E8329D13A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008B-1B2B-4754-8B20-B600193852DC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1:  very common kind of information we expect students to learn – core concepts, main theoretical assumptions, etc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2:  goal of education is long-term lear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3:  in a typical college-level Introductory Psychology course, students assigned about one textbook chapter each week in a 15-16 week semester, and each of these chapters will contain many key terms (in one sample, anywhere from 17 to 78 key terms per chapter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4:  previous research (although none with key term definitions) has shown that retrieval practice is easy way to improve mem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RMF program to work, many different questions have to be worked out. For example, John talked about how to improve “M”. A central theme for today is HOW MUCH PRACTICE?  Enough to get durability (from one session to next, and for long-term), but no more than necessary for sake of efficiency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, a simple place to start is just to show that more is better—replicate effects of repeated practice shown in previous research, but with key term definition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TCH:  So, seems like it should be a simple matter to extend testing effects to key term definitions.  But what I’m actually going to tell you here is a story of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attles w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attles lo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to illustrate trickiness of what seems like simple step up from word pairs to key term definition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John told you yesterday, changes things with respect to metacognitive monitoring (easy for both computer and student to know if a one-word answer is correct; hard for both computer and student to know if conceptual sentence-length response is correct).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so turns out that things get trickier with respect to when and how self-testing/retrieval practice benefits memory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xample, one of initial studies was simple replication of robust effects distributed TR practice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32D0-5B26-4F85-837B-27E530B5EC9E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0C68-7074-4163-9CE6-C5CD10117900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60B0-94FC-488D-94A0-2011F577D3D4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F7ED-BB0C-42F1-94A5-5A983A7927A3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vs. 3 significant on Day 3 and Day 8, not Day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43: p = 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ake up 1.7 of 2 extra trials from 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F6C7-BDAE-421F-B5B7-269DBE9843C6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230 recall responses 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882B-22FC-4A11-9B2E-B4E2CA49E514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Day 3, 8, Marginal Day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 Day 22, 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on One Month and Four Month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1.1 trials across s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6204-56F7-4FCF-845F-222B4D56B574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27D1-9DF3-4CE4-80DD-DB8F5E1F96D8}" type="slidenum">
              <a:rPr b="0" lang="en-US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62E-0513-4B7E-B9E3-78697B3D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82D-4F61-404F-9047-39D91967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BC6-5FB3-49C1-8845-A2334F3F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3EC-E8F3-4856-B5FF-293538A9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99A-49D3-4DAC-92E0-0676515C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7ED-84DE-4784-B5E4-9E1F01DF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EE4-B7B4-4AD5-B607-BF997B93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51D-A5CD-485B-AC33-DEF50C98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BD5-910D-4415-847C-4EA3D41C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8EE-0CAB-470D-98BF-7C48C54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646-3DAD-478B-9333-1B96B296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6EE-DEDA-438D-BEAE-88473DA9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3E6F-62A1-4A7C-BFA1-967025A52856}" type="slidenum">
              <a:rPr b="0" lang="en-U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upporting Durable and Efficient Student Learn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14400" y="3017880"/>
            <a:ext cx="746748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Katherine Rawson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 Unicode MS"/>
              </a:rPr>
              <a:t>Kent State University</a:t>
            </a:r>
            <a:endParaRPr b="0" i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81160" y="5295960"/>
            <a:ext cx="8626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Research supported by the Institute of Education Sciences, U.S. Department of Education, through Grants</a:t>
            </a:r>
            <a:r>
              <a:rPr b="0" i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#R305H050038 and #R305A080316 to</a:t>
            </a:r>
            <a:r>
              <a:rPr b="0" i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Kent State University.  </a:t>
            </a:r>
            <a:endParaRPr b="0" i="1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The opinions expressed are those of the author and do not represent views </a:t>
            </a:r>
            <a:endParaRPr b="0" i="1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f the Institute or the U.S. Department of Education.</a:t>
            </a:r>
            <a:endParaRPr b="0" i="1" lang="en-US" sz="16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73200" y="1238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180 students, 8 key term definition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62040" y="1895400"/>
            <a:ext cx="8235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1:  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     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Retrieval practice until ~2 correct recalls 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LAG: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zero</a:t>
            </a: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n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re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even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other items between trial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62040" y="4103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3: relearning session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62040" y="5446800"/>
            <a:ext cx="81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10:  final cued recall test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riment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57360" y="477036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8: relearning session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16"/>
          <p:cNvGraphicFramePr/>
          <p:nvPr/>
        </p:nvGraphicFramePr>
        <p:xfrm>
          <a:off x="920880" y="482760"/>
          <a:ext cx="752796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82760"/>
                    <a:ext cx="752796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8"/>
          <p:cNvSpPr/>
          <p:nvPr/>
        </p:nvSpPr>
        <p:spPr>
          <a:xfrm>
            <a:off x="4091040" y="2303640"/>
            <a:ext cx="2203560" cy="32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6159600" y="2165400"/>
            <a:ext cx="2028600" cy="33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15" name="Group 25"/>
          <p:cNvGrpSpPr/>
          <p:nvPr/>
        </p:nvGrpSpPr>
        <p:grpSpPr>
          <a:xfrm>
            <a:off x="2630520" y="1423800"/>
            <a:ext cx="1149480" cy="2563560"/>
            <a:chOff x="2630520" y="1423800"/>
            <a:chExt cx="1149480" cy="2563560"/>
          </a:xfrm>
        </p:grpSpPr>
        <p:sp>
          <p:nvSpPr>
            <p:cNvPr id="116" name="Line 21"/>
            <p:cNvSpPr/>
            <p:nvPr/>
          </p:nvSpPr>
          <p:spPr>
            <a:xfrm flipV="1">
              <a:off x="2630520" y="1423800"/>
              <a:ext cx="0" cy="256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17" name="Line 22"/>
            <p:cNvSpPr/>
            <p:nvPr/>
          </p:nvSpPr>
          <p:spPr>
            <a:xfrm flipV="1">
              <a:off x="3398760" y="1434960"/>
              <a:ext cx="0" cy="180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97360" y="1434600"/>
              <a:ext cx="0" cy="205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 flipV="1">
              <a:off x="3780000" y="1429920"/>
              <a:ext cx="0" cy="1528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120" name="Group 29"/>
          <p:cNvGrpSpPr/>
          <p:nvPr/>
        </p:nvGrpSpPr>
        <p:grpSpPr>
          <a:xfrm>
            <a:off x="2390760" y="3049560"/>
            <a:ext cx="1617840" cy="1540080"/>
            <a:chOff x="2390760" y="3049560"/>
            <a:chExt cx="1617840" cy="1540080"/>
          </a:xfrm>
        </p:grpSpPr>
        <p:sp>
          <p:nvSpPr>
            <p:cNvPr id="121" name="Oval 27"/>
            <p:cNvSpPr/>
            <p:nvPr/>
          </p:nvSpPr>
          <p:spPr>
            <a:xfrm>
              <a:off x="2390760" y="4114800"/>
              <a:ext cx="514440" cy="474840"/>
            </a:xfrm>
            <a:prstGeom prst="ellipse">
              <a:avLst/>
            </a:prstGeom>
            <a:noFill/>
            <a:ln w="76320">
              <a:solidFill>
                <a:srgbClr val="fd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3494160" y="3049560"/>
              <a:ext cx="514440" cy="474840"/>
            </a:xfrm>
            <a:prstGeom prst="ellipse">
              <a:avLst/>
            </a:prstGeom>
            <a:noFill/>
            <a:ln w="76320">
              <a:solidFill>
                <a:srgbClr val="fd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5"/>
          <p:cNvGraphicFramePr/>
          <p:nvPr/>
        </p:nvGraphicFramePr>
        <p:xfrm>
          <a:off x="1008000" y="609480"/>
          <a:ext cx="7261200" cy="559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609480"/>
                    <a:ext cx="726120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3"/>
          <p:cNvSpPr/>
          <p:nvPr/>
        </p:nvSpPr>
        <p:spPr>
          <a:xfrm>
            <a:off x="4076640" y="2260440"/>
            <a:ext cx="2203560" cy="32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59600" y="2122560"/>
            <a:ext cx="1854000" cy="33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5"/>
          <p:cNvGraphicFramePr/>
          <p:nvPr/>
        </p:nvGraphicFramePr>
        <p:xfrm>
          <a:off x="1008000" y="581040"/>
          <a:ext cx="7337520" cy="565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581040"/>
                    <a:ext cx="733752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1523880" y="1233360"/>
            <a:ext cx="29052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14997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What We Knew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805320" y="2462040"/>
            <a:ext cx="32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More is better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49600" y="316692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Spaced practice is best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04920" y="3614760"/>
            <a:ext cx="8839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What We Now Know…</a:t>
            </a:r>
            <a:endParaRPr b="0" i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23760" y="5316480"/>
            <a:ext cx="7340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Spaced practice not always best?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2840" y="166680"/>
            <a:ext cx="90187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onclusions:  </a:t>
            </a:r>
            <a:br>
              <a:rPr sz="4400"/>
            </a:br>
            <a:r>
              <a:rPr b="0" lang="en-US" sz="4200" spc="-1" strike="noStrike">
                <a:solidFill>
                  <a:srgbClr val="ffffff"/>
                </a:solidFill>
                <a:latin typeface="Arial Unicode MS"/>
              </a:rPr>
              <a:t>Optimizing Durability and Efficiency</a:t>
            </a:r>
            <a:endParaRPr b="0" i="1" lang="en-US" sz="4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742680" y="4576680"/>
            <a:ext cx="68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More is increasingly less better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774720" y="552600"/>
            <a:ext cx="7634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hanks to our tireless team of research assistants who collected data from 645 participants and who hand-scored  more than 80,000 recall responses for just these three experiments alone!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Mike Appleman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John Kozlik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Melissa Bishop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Korin Lee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ina Burke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Caitlin Metelko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Sean Burton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Rochelle O’Neil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an Molnar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Jill Peterson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Nicole Gonzalez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Danielle Roberto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Phil Grimaldi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Melissa Roderick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onya Hardway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Sara Smith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Alison Kane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Katie Wissman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i="1" lang="en-US" sz="2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23840" y="262080"/>
          <a:ext cx="8896320" cy="63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262080"/>
                    <a:ext cx="889632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3"/>
          <p:cNvSpPr/>
          <p:nvPr/>
        </p:nvSpPr>
        <p:spPr>
          <a:xfrm>
            <a:off x="598320" y="5643720"/>
            <a:ext cx="7883640" cy="7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47920" y="374760"/>
            <a:ext cx="4835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lf-serving bias?</a:t>
            </a:r>
            <a:endParaRPr b="0" i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One Month “Booster Shot”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1174680" y="1065240"/>
          <a:ext cx="693756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1065240"/>
                    <a:ext cx="693756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"/>
          <p:cNvSpPr/>
          <p:nvPr/>
        </p:nvSpPr>
        <p:spPr>
          <a:xfrm>
            <a:off x="2629080" y="2295360"/>
            <a:ext cx="4989240" cy="30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831960" y="623880"/>
          <a:ext cx="742932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623880"/>
                    <a:ext cx="742932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3"/>
          <p:cNvSpPr/>
          <p:nvPr/>
        </p:nvSpPr>
        <p:spPr>
          <a:xfrm>
            <a:off x="1198440" y="1387440"/>
            <a:ext cx="230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62160" y="1176480"/>
            <a:ext cx="5703840" cy="410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Retrieval-Monitoring-Feedback (RMF) Method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600" y="177624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Why key term definitions?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371600" y="26146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Why is durability important?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371600" y="346716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Why is efficiency important?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71600" y="430524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Why retrieval practice?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727200" y="3268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ercent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Unicode MS"/>
              </a:rPr>
              <a:t>commission errors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 judged to be worth no credit, partial credit, or full credit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46200" y="24336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 Unicode MS"/>
              </a:rPr>
              <a:t>None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 Unicode MS"/>
              </a:rPr>
              <a:t>	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 Unicode MS"/>
              </a:rPr>
              <a:t> Part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 Unicode MS"/>
              </a:rPr>
              <a:t>	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 Unicode MS"/>
              </a:rPr>
              <a:t>Full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55560" y="33321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no definition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 17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58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25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49440" y="4040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definition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 48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38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14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42960" y="48117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idea units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 78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20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   2</a:t>
            </a: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	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What We Know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30800" y="1273320"/>
            <a:ext cx="77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Retrieval practice + restudy is good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05320" y="1962000"/>
            <a:ext cx="32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More is better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49600" y="266688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Spaced practice is best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04920" y="331488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What We Don’t Know…</a:t>
            </a:r>
            <a:endParaRPr b="0" i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923760" y="4573440"/>
            <a:ext cx="6948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Optimal schedule for durability  and efficiency ?</a:t>
            </a:r>
            <a:endParaRPr b="0" i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2840" y="2266920"/>
            <a:ext cx="7020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Unicode MS"/>
              </a:rPr>
              <a:t>What is the </a:t>
            </a:r>
            <a:r>
              <a:rPr b="0" i="1" lang="en-US" sz="2400" spc="-1" strike="noStrike" u="sng">
                <a:solidFill>
                  <a:srgbClr val="ffff99"/>
                </a:solidFill>
                <a:uFillTx/>
                <a:latin typeface="Arial Unicode MS"/>
              </a:rPr>
              <a:t>availability heuristic</a:t>
            </a:r>
            <a:r>
              <a:rPr b="0" lang="en-US" sz="2400" spc="-1" strike="noStrike">
                <a:solidFill>
                  <a:srgbClr val="ffff99"/>
                </a:solidFill>
                <a:latin typeface="Arial Unicode MS"/>
              </a:rPr>
              <a:t>?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Unicode MS"/>
              </a:rPr>
              <a:t>Judging the likelihood of an event based on how easy it is to think of real or imagined examples.</a:t>
            </a:r>
            <a:r>
              <a:rPr b="0" lang="en-US" sz="2800" spc="-1" strike="noStrike">
                <a:solidFill>
                  <a:srgbClr val="ffff99"/>
                </a:solidFill>
                <a:latin typeface="Arial Unicode MS"/>
              </a:rPr>
              <a:t> </a:t>
            </a:r>
            <a:endParaRPr b="0" i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84280" y="3670200"/>
            <a:ext cx="855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1:  Initial study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Retrieval practice (with restudy)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     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until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fd0303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d030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2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fd030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3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or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4</a:t>
            </a:r>
            <a:r>
              <a:rPr b="0" lang="en-US" sz="3200" spc="-1" strike="noStrike">
                <a:solidFill>
                  <a:srgbClr val="fd03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rrect recall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Experiment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4280" y="16635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Short text with 8 key term definition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84280" y="535932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Day 3:  Final recall test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93640" y="108576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130 students in Introductory Psychology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1176480" y="609480"/>
          <a:ext cx="67896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6480" y="609480"/>
                    <a:ext cx="6789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Group 3"/>
          <p:cNvGrpSpPr/>
          <p:nvPr/>
        </p:nvGrpSpPr>
        <p:grpSpPr>
          <a:xfrm>
            <a:off x="2490840" y="1662120"/>
            <a:ext cx="3794040" cy="1838160"/>
            <a:chOff x="2490840" y="1662120"/>
            <a:chExt cx="3794040" cy="1838160"/>
          </a:xfrm>
        </p:grpSpPr>
        <p:sp>
          <p:nvSpPr>
            <p:cNvPr id="71" name="Oval 4"/>
            <p:cNvSpPr/>
            <p:nvPr/>
          </p:nvSpPr>
          <p:spPr>
            <a:xfrm>
              <a:off x="2490840" y="2695680"/>
              <a:ext cx="1135080" cy="804600"/>
            </a:xfrm>
            <a:prstGeom prst="ellipse">
              <a:avLst/>
            </a:prstGeom>
            <a:noFill/>
            <a:ln w="76320">
              <a:solidFill>
                <a:srgbClr val="fd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72" name="Oval 5"/>
            <p:cNvSpPr/>
            <p:nvPr/>
          </p:nvSpPr>
          <p:spPr>
            <a:xfrm>
              <a:off x="5149800" y="1662120"/>
              <a:ext cx="1135080" cy="804960"/>
            </a:xfrm>
            <a:prstGeom prst="ellipse">
              <a:avLst/>
            </a:prstGeom>
            <a:noFill/>
            <a:ln w="76320">
              <a:solidFill>
                <a:srgbClr val="fd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73" name="Rectangle 6"/>
          <p:cNvSpPr/>
          <p:nvPr/>
        </p:nvSpPr>
        <p:spPr>
          <a:xfrm>
            <a:off x="4037040" y="1608120"/>
            <a:ext cx="3568680" cy="32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5126040" y="1614600"/>
            <a:ext cx="2567160" cy="914400"/>
          </a:xfrm>
          <a:prstGeom prst="ellipse">
            <a:avLst/>
          </a:prstGeom>
          <a:noFill/>
          <a:ln w="57240">
            <a:solidFill>
              <a:srgbClr val="fd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0200" y="11736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Experiment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12384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335 students, 16 key term definition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84280" y="1987560"/>
            <a:ext cx="80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Initial learning: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correct recalls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4280" y="27874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Relearning sessions: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1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2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3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4</a:t>
            </a:r>
            <a:r>
              <a:rPr b="1" lang="en-US" sz="3200" spc="-1" strike="noStrike">
                <a:solidFill>
                  <a:srgbClr val="fd0303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 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84280" y="3613320"/>
            <a:ext cx="815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Criterion Test #1: 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one month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after practice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77800" y="436896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Criterion Test #2:  </a:t>
            </a:r>
            <a:r>
              <a:rPr b="1" lang="en-US" sz="3200" spc="-1" strike="noStrike" u="sng">
                <a:solidFill>
                  <a:srgbClr val="fd0303"/>
                </a:solidFill>
                <a:uFillTx/>
                <a:latin typeface="Arial"/>
              </a:rPr>
              <a:t>four months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after practice </a:t>
            </a:r>
            <a:endParaRPr b="0" i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1465200" y="4165560"/>
            <a:ext cx="1938240" cy="554040"/>
            <a:chOff x="1465200" y="4165560"/>
            <a:chExt cx="1938240" cy="554040"/>
          </a:xfrm>
        </p:grpSpPr>
        <p:sp>
          <p:nvSpPr>
            <p:cNvPr id="82" name="Oval 3"/>
            <p:cNvSpPr/>
            <p:nvPr/>
          </p:nvSpPr>
          <p:spPr>
            <a:xfrm>
              <a:off x="1465200" y="4165560"/>
              <a:ext cx="912960" cy="544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000"/>
                  </a:solidFill>
                  <a:latin typeface="Arial"/>
                </a:rPr>
                <a:t>2.6 &gt; 2.1</a:t>
              </a:r>
              <a:endParaRPr b="0" i="1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3" name="Oval 4"/>
            <p:cNvSpPr/>
            <p:nvPr/>
          </p:nvSpPr>
          <p:spPr>
            <a:xfrm>
              <a:off x="2490840" y="4175280"/>
              <a:ext cx="912600" cy="544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000"/>
                  </a:solidFill>
                  <a:latin typeface="Arial"/>
                </a:rPr>
                <a:t>2.3 &gt; 2.0</a:t>
              </a:r>
              <a:endParaRPr b="0" i="1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84" name="Group 5"/>
          <p:cNvGrpSpPr/>
          <p:nvPr/>
        </p:nvGrpSpPr>
        <p:grpSpPr>
          <a:xfrm>
            <a:off x="3516480" y="4168800"/>
            <a:ext cx="2947680" cy="554040"/>
            <a:chOff x="3516480" y="4168800"/>
            <a:chExt cx="2947680" cy="554040"/>
          </a:xfrm>
        </p:grpSpPr>
        <p:sp>
          <p:nvSpPr>
            <p:cNvPr id="85" name="Oval 6"/>
            <p:cNvSpPr/>
            <p:nvPr/>
          </p:nvSpPr>
          <p:spPr>
            <a:xfrm>
              <a:off x="3516480" y="4168800"/>
              <a:ext cx="912600" cy="544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000"/>
                  </a:solidFill>
                  <a:latin typeface="Arial"/>
                </a:rPr>
                <a:t>1.9 ~ 1.7</a:t>
              </a:r>
              <a:endParaRPr b="0" i="1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4541760" y="4178160"/>
              <a:ext cx="912960" cy="544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000"/>
                  </a:solidFill>
                  <a:latin typeface="Arial"/>
                </a:rPr>
                <a:t>1.7 ~ 1.6</a:t>
              </a:r>
              <a:endParaRPr b="0" i="1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87" name="Oval 8"/>
            <p:cNvSpPr/>
            <p:nvPr/>
          </p:nvSpPr>
          <p:spPr>
            <a:xfrm>
              <a:off x="5551560" y="4172040"/>
              <a:ext cx="912600" cy="544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000"/>
                  </a:solidFill>
                  <a:latin typeface="Arial"/>
                </a:rPr>
                <a:t>1.5 ~ 1.5</a:t>
              </a:r>
              <a:endParaRPr b="0" i="1" lang="en-US" sz="16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aphicFrame>
        <p:nvGraphicFramePr>
          <p:cNvPr id="88" name="Object 9"/>
          <p:cNvGraphicFramePr/>
          <p:nvPr/>
        </p:nvGraphicFramePr>
        <p:xfrm>
          <a:off x="487440" y="671400"/>
          <a:ext cx="8107200" cy="48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71400"/>
                    <a:ext cx="810720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10"/>
          <p:cNvSpPr/>
          <p:nvPr/>
        </p:nvSpPr>
        <p:spPr>
          <a:xfrm>
            <a:off x="2428920" y="1558800"/>
            <a:ext cx="10699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3511440" y="1568520"/>
            <a:ext cx="299412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6593040" y="1562040"/>
            <a:ext cx="174780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93" name="Group 13"/>
          <p:cNvGrpSpPr/>
          <p:nvPr/>
        </p:nvGrpSpPr>
        <p:grpSpPr>
          <a:xfrm>
            <a:off x="1892160" y="1418760"/>
            <a:ext cx="279720" cy="1040040"/>
            <a:chOff x="1892160" y="1418760"/>
            <a:chExt cx="279720" cy="1040040"/>
          </a:xfrm>
        </p:grpSpPr>
        <p:sp>
          <p:nvSpPr>
            <p:cNvPr id="94" name="Line 14"/>
            <p:cNvSpPr/>
            <p:nvPr/>
          </p:nvSpPr>
          <p:spPr>
            <a:xfrm flipV="1">
              <a:off x="1892160" y="1418760"/>
              <a:ext cx="0" cy="1040040"/>
            </a:xfrm>
            <a:prstGeom prst="line">
              <a:avLst/>
            </a:prstGeom>
            <a:ln w="38160">
              <a:solidFill>
                <a:srgbClr val="fd0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5" name="Line 15"/>
            <p:cNvSpPr/>
            <p:nvPr/>
          </p:nvSpPr>
          <p:spPr>
            <a:xfrm flipV="1">
              <a:off x="2171880" y="1428840"/>
              <a:ext cx="0" cy="582480"/>
            </a:xfrm>
            <a:prstGeom prst="line">
              <a:avLst/>
            </a:prstGeom>
            <a:ln w="38160">
              <a:solidFill>
                <a:srgbClr val="fd0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2854440" y="1428840"/>
            <a:ext cx="279360" cy="1039680"/>
            <a:chOff x="2854440" y="1428840"/>
            <a:chExt cx="279360" cy="1039680"/>
          </a:xfrm>
        </p:grpSpPr>
        <p:sp>
          <p:nvSpPr>
            <p:cNvPr id="97" name="Line 17"/>
            <p:cNvSpPr/>
            <p:nvPr/>
          </p:nvSpPr>
          <p:spPr>
            <a:xfrm flipV="1">
              <a:off x="2854440" y="1428840"/>
              <a:ext cx="0" cy="1039680"/>
            </a:xfrm>
            <a:prstGeom prst="line">
              <a:avLst/>
            </a:prstGeom>
            <a:ln w="38160">
              <a:solidFill>
                <a:srgbClr val="fd0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3133800" y="1438200"/>
              <a:ext cx="0" cy="820800"/>
            </a:xfrm>
            <a:prstGeom prst="line">
              <a:avLst/>
            </a:prstGeom>
            <a:ln w="38160">
              <a:solidFill>
                <a:srgbClr val="fd0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685800" y="700200"/>
          <a:ext cx="7772400" cy="530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0200"/>
                    <a:ext cx="777240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2595600" y="1239840"/>
            <a:ext cx="556092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792760" y="153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000"/>
                </a:solidFill>
                <a:latin typeface="Arial"/>
              </a:rPr>
              <a:t>Four Month Test</a:t>
            </a: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85800" y="662040"/>
          <a:ext cx="7772400" cy="53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62040"/>
                    <a:ext cx="777240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4:34:59Z</dcterms:created>
  <dc:creator>Katherine Rawson</dc:creator>
  <dc:description/>
  <dc:language>en-US</dc:language>
  <cp:lastModifiedBy>Jdabrowski</cp:lastModifiedBy>
  <dcterms:modified xsi:type="dcterms:W3CDTF">2010-07-02T16:48:56Z</dcterms:modified>
  <cp:revision>216</cp:revision>
  <dc:subject/>
  <dc:title>Text Processing</dc:title>
</cp:coreProperties>
</file>