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409-12FF-4382-9AD9-9F5784C2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E91D-21C5-458C-A468-20E0347B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C5D-3DCE-4460-AA75-ABD71A8A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6F6-3059-40E0-A238-00F85695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69D1-2ABC-4A31-83A3-40DE6E06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0C0-E2DD-4CAD-AE92-89D00924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714-D08F-49F3-A4EB-A7308E19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61A-97CC-48B2-9B66-5D6C85A7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9941-E13D-4060-8C31-2EF89FD2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29FD-E182-4826-9B92-092508F7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DBAB-D526-4518-9BC5-BFAD19CF2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D00F-4F47-4AED-9D2A-F38F2BAA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A22-BCCC-4ACB-8196-2A324A04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4E52-6CEC-4DC2-9E2E-B8692D08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D1E0-CB9D-4215-BAB3-ADA1215D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52A-8521-45BE-A79A-29656592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47DE-AC9E-44F5-870A-2ED771D7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C612-1A7C-4BBC-94B0-025888886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F55-2C69-42AA-A88B-D39CA146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7C0-E948-4E81-9F79-949DF5FA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548-D1DD-4751-8BAC-029BDD13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609-D13B-4C49-A566-B853DA94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EC5-2125-4DA2-B85E-64B4952C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AC7D-004A-40F8-9CF2-BBB4036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F97A-1DBD-4A0E-A673-635FFDB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8DC9-5C2C-4CEA-84E4-48470820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52F2-3870-4447-A2F8-3EC0B44D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44CD-CE02-4113-BE7B-E71352F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FB49-82F7-43EF-BF4C-76B9466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BE0-77CA-41D1-9EE3-8C35107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C550-25C3-47CD-A0CB-51A04A6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8617-0921-48BB-BE1C-511DB0E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48AE-4562-4DF8-BBA5-5B764BB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F788-8CB8-4AF9-82AA-101F717B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2F2-9CD4-46A1-92EB-0BDD463D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832-437E-45FE-AF99-ECEE6A59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97B-2820-476F-95C4-3F20DE6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701-A2A9-4198-89BD-6206917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E2F-F362-4CC5-901A-F1C553DB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CA7-99B3-4ADD-951B-98A0336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FD8-C5AB-40CC-9CF2-9282574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FC2-7C3D-4F64-BDFA-57C5F19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Picture 10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2E9-192C-4D0B-9C36-6DD8322168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4D7D-5697-4BB8-A4A6-7B8D83AB0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We Making Progress Yet?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da A. Reddy, Ph.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tgers University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 Social Behaviors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tal Health Outcom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ool connectedness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erpersonal conflict in early secondary school are linked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creased mental health probl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ubstance u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later schoo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sence of both schoo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cial connectedness was associated with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wered ris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depressive symptoms in students (Bond et al., 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Behavior Game (GBG) universal prevention intervention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st gra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rooms predicted lower level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tisocial behavi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iddle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ellam &amp; Anthony, 199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BG intervention provided in 1-2 graders (n=1,196) significantly reduced the risk (50%)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rug abuse/dependence, smoking, and antisocial behavi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adolescent and young adult (Kellam et. al., 2008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e Presentations: Some Shared Ingredient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ehensive and rigorous programs of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hasis on student social behavior in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nt is the teacher (general education or special edu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nce on teacher accuracy and 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ools are brief, user friendly and easy to adminis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integrative assessment-intervention mod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is dynamic, fluid, and continuo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d in a three tiered RtI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hasis test scores (raw or scale score) used as a method for determining efficacy of interven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ing Individual Education Plans for Children with Attention-Deficit/Hyperactivity Disorder Using a Daily Report Card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order-specific to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HD representing a highly comorbid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is fluid for dail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receive immediate teacher feedback on their effor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used to develop positive student-teacher and student-parents interactions/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sters parent and teacher communication and partnershi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s linked to home-based 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ored for individual student needs – linked to IEP and 504 Plan goals – critical for buy i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es targeted behaviors within specific academic lessons (e.g., art, math, language arts, science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benchmarks of specific social behavior within co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C raw scores discriminate between treatment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and Validation of Progress Monitoring Tools for Social Behavior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s from Project VIABLE</a:t>
            </a: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610840" cy="472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BR - undergone significant development and investigation, until now there has been limited attention to the psychometric properties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ighly reliable and valid alternative to SDO, interviews, and behavior rating sca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mphasis on specific time, place (context) and intended rater for assessing the behavior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xcellent tool for IEP Goals and 504 Plans for K-12 grade student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errific tool for minimizing effects of rater inference and retrospective judgments about student social behavio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nsiderations for developing other DBR measures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ater bias; rater skill (erro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nsideration of base rates within contex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ording (molar/molecular, negative/positiv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Visual cu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ncho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General outcome or individualized targe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e gradients – first study to examine a single item scale compared three scale gradients (categories – 6, 10, 14)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afouleas et al. (2009) Educational and Psychological Measure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es that DBR are highly useful for measuring the effects of intervention on individua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room behavior proble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R-SIS: 2 part web-based training program – frame of reference and rater error (accura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R-BASIS:  web-based program for data entry, analysis, and graph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ing Change Sensitive Brief Behavior Rating Scales as Progress-Monitoring Tools for Social Behavior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72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 research on social skills (SSRS) serves as the spring board for the development of 4 brief behavior ratings scales for social skills, conduct, anxiety, and AD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 specificity - detect progress in specific area (skills) of social emotional func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hasis on change-sensitivity of constructs and ite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es that change sensitive item are identified by four data analytic metho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Odds ratio, Effect sizes, Paired and 2-sample T-test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effect from a mixed-factorial ANOVA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hasizes the assessment of both strength and problem behavi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le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ssessment approac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rticularly important in the area of 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go from here?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for measure development are endle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 a broad iterative test development and validation approach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ied model of validation (Messick, Cronbach) an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orously examine and valida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st ut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ty of test score(s) for informing decision making for intervention plans that improve students’ lives (meaningful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Utility Framework for Future Test Development and Validation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developing a test, one must first decide on the proposed interpretations and uses - and the assumptions embedded in the proposed interpretations and uses. The chosen interpretations and uses then provide guidance on how to proceed in developing the tes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Kane, 2008; pp. 77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est Development and Validation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specific construct(s) we intended to measure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intended purpose of the test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lude a strong consumer participatory model for test develo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"end game” go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 score utility (inference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can the test score(s)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eneraliz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o the function and process of the targeted social behavior in the classroom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can the test score(s) be used by the consumers to inform decision making for intervention plan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 stud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ool district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must go beyond student level assessment and focus on system level assessment and chang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go from here?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opt a Strong Program of External Valid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ability and usefulness of consu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fully examine consum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ende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nintended test score in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extraneous factors that impact test score utility (inferences) for the consum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st scores change with targeted practical school interventions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o test scores chan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mental validity over business as us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pragmatic factor (barriers) that may impede development and validation (e.g., time, cost, teacher sensitivity or bias towards constructs and items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5345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ogue wave smashed the bridge of the ship, destroying all the instruments except the speedomet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aptain announced to the badly shaken crew, "We have no idea where we are and we don't have a clue where we are going, but we do know we are making record time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Barriers for Future Measurement Development  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s’ perceptions of time, work, and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s’ perceived uti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ess monitoring instruments may not be sufficiently sensitive to monitor progress among high school students because of small growth rates in this age ran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ess monitoring tools must be validated for different age groups (e.g., secondary stu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ence of school staff buy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 personnel misunderstanding and ineffective use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Facilitators for Future Measurement Development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ted administrative leadership and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ct-wide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going profession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hesive team memb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 efficiency (e.g., clear operating standa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 agreement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ared vision regarding th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nomous tea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 psychologists serving as leaders, change agents, and consul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ncial resources committed to the c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tional restructuring – system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go from here?: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bout teacher behavior?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eachers do in the classroom influences stud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earning and behav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BG intervention with 570 2-3 graders -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educ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se of negative teacher remarks predicted improvements i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-task behavi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alking out behavi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student behavior mediated the impact of the intervention on the development of hyperactive and oppositional behavior (Leflot et al., 2010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e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ocial and emotional competence are key t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a classroom climate that is more conducive to learning and that promotes positive developmental outcomes among stud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Jennings &amp; Greenberg, 200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ers who interact with their students i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pportive wa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omote positive student social behavior (Wentzel, et al., 2010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blematic relationship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etween Kindergarten teachers and their students with behavior problems predict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cademic and behavior problem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rough eighth grade (Hamre &amp; Pianta, 200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s with ED are significantly influenced by teacher-student interactions (Sutherland et al., 2008; Reddy et al., 200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Measurement Development Projec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for preschool, elementary school, and middle and high school that inform supports and interv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that are dynamic and flexible for 6-12 grade - multiple teachers and the complexity of settings (classroom, hallway, study hall, lunch, after school activities such as clubs and spor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tailored for specific disorders and conditions - example Aspergers, Autism, and Anxiety/Dep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ef tools for teacher and student interactions (specific aspects of classroom and school clim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for teacher classroom practic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general and special education set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assess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f teachers' social emotional competency (e.g., anger management, efficacy, perceived risk of viol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that can link meaningful goals for IEPs and 504 pl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Measurement Projects - Opportunity for School Reform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2015 over 1/3 of the nation’s veteran teachers and school administrators (baby boomers) will be leaving the field of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hange in school personnel offer the nation tremendous opportunity for comprehensive school reform and innovation in teacher preparation and training across the 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is right for new progress monitor tools for  students and teach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Monitoring is All About Change and Change is Hard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02" name="Picture 4" descr="q"/>
          <p:cNvPicPr/>
          <p:nvPr/>
        </p:nvPicPr>
        <p:blipFill>
          <a:blip r:embed="rId1"/>
          <a:stretch/>
        </p:blipFill>
        <p:spPr>
          <a:xfrm>
            <a:off x="2133720" y="2362320"/>
            <a:ext cx="4910040" cy="3682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Progress Monitoring?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cientifically based practice that is used to assess students’ academic performance and evaluate the effectiveness of instruction”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ational Center on Students Progress Monito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mless and flexi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pproac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 that can be used across students of different age and skill levels, different settings and curricula, and across school years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allace et al., 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assessmen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cedu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determining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which students are benefiting from classroom instruction and for monitoring effectiveness of curricul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National Research Center on Learning Disabil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ical Context of Progress Monitoring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itional progress monitoring has been used to identify one’s relative position within a group rather than evaluating individual progress across time (Deno, 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arly practice was a means of establishing eligibility for certain classifications/programs (e.g., special education, gift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ly, progress monitoring was based on “mastery measurem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n-referenced tests used to assess the mastery of specific curriculum object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mastery of specific objectives (skills), the teacher would provide instruction and assess the skill tau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ethod of progress monitoring was reflected in common teaching practices (e.g., Wisconsin Instructional Design System, Precision Teach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Context of Progress Monitoring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s arose - mastery measurement's assumption that a series of short-term objectives directly leads to broad-based competence (false sense of progr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ed alternative ways of conceptualizing progress monito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riculum-Based Measurement (Deno, 198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s students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imultaneously integr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various skills required for competent yearend performance on weekly t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students learn the necessary components of the curriculum, their CBM score gradually incr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pe can be used to quantify rate of learning and gauge students’ responsiveness to an instructional program or OT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“inadequate” responsiveness is revealed, program can be re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LB (20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A (2004) – LD assessment  - removal of discrepancy criter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ent or “rebirth” of R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udent Social Behavior?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global constru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gene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in nature and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“Student Social Behavior” is Defined?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ool and interpersonal connectedness (attachments) (Bond et al., 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operation, assertion, self-control (Rutherford, DuPaul, &amp; Jitendra, 200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f and social awareness, responsible decision-making, self-management and relationship-management skills (Zins et al., 200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ysical and intellectual actions (e.g., hygiene, nutrition, physical activity, avoiding harmful substances, decision-making skills, creative thinking), social/emotional actions for managing oneself responsibly (e.g., self-control, time management), getting along with others (e.g., empathy, altruism, respect, conflict resolution), self-honesty, integrity, self-appraisal and continuous self-improvement (e.g., goal setting, problem solving, courage to try new things, persistence) (Snyder et al., 20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operation (i.e., puts work materials or school property away), Assertion (introduces him / herself to new people without being told), and Self-control (control temper in conflict situations with adults). Level of aggression towards peers, helpfulness with other children, interactions with peers, involvement or exclusion by peers, level of anxious-fearfulness, and hyperactivity-distractibility (Rimm-Kaufmann &amp; Chiu, 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wareness of self and others, positive attitudes and values, responsible decision making, social interaction skills (e.g. active listening, expressive communication, cooperation, negotiation, refusal, help seeking) (Payton et al., 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416800" y="675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 Social Behavior and Academic Outcom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mprehensive K-5 school-based program targeting student behavior and character was linked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ademic achiev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chool attend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disciplinary outcom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nyder et al.,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HD 1-4 grade students - Teacher rating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ading ga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ing academic interventions related to improvements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cial ski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 the SS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er-mediated math interventions produced improvements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th fluen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-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utherford, DuPaul, &amp; Jitendra, 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problem-solving skills are related to cognitive problem-solving skills (Ben-Avie, &amp; Ensign, 200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6:48:01Z</dcterms:created>
  <dc:creator>Liat Zilberstein</dc:creator>
  <dc:description/>
  <dc:language>en-US</dc:language>
  <cp:lastModifiedBy>Authorised User</cp:lastModifiedBy>
  <dcterms:modified xsi:type="dcterms:W3CDTF">2010-07-06T18:27:01Z</dcterms:modified>
  <cp:revision>408</cp:revision>
  <dc:subject/>
  <dc:title>IES Presentation </dc:title>
</cp:coreProperties>
</file>