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9602-17D2-4D19-82C8-495CE344C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4727-6A4D-4903-A9B6-E5B946B0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4039-E19B-4F11-A225-0D96C730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C178-C128-43DB-ABC6-76362B4CB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8471-FE91-4C5A-B0E0-C7BAB15D3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1A3A-A971-4118-99D1-8D7F54129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4AB5-53B0-4259-93CE-B4FCC374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937-3B96-40D6-BDAD-6EA6FE78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DE51-36C5-4457-A4B2-7C3286A09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29B-11AF-4B35-8E1C-C05395128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006D-C033-4DBD-A9E5-DF5B319F0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2C3-D3BE-481F-809F-4BAD77441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1BFC-BE94-4599-AB99-9F1084C87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EDC0-81E5-46ED-A3EA-826EF8348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C963-0D1A-4674-BC18-BDB0183E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4CFC-FEFF-4C68-8A5C-E15B546D4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2E3E-EFE0-46D5-9ABB-2E43BE2D6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217A-1BA0-4E0A-A545-9238B4782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F10-2B0E-41EA-AD03-A8A3A447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549-48D1-4F75-8A0F-C10A919F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0B2-0482-4A0C-9925-29B05D2C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DFE-8744-47F3-8D3C-9ABBF43B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BC4D-3683-462A-8AAB-67230D28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B0B5-4D78-4F43-A60E-18A6DF2B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2959-0E1D-4465-A029-35694646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41E9-CCCB-4136-82BE-2A8421B8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6C4-E564-4087-AB18-77616D84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D0C-136E-4FFB-949A-DAC256EA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9662-BA6D-42B7-99D7-1D012DB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2BE-9FC7-436A-836F-0AE89D5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3E6D-E583-413F-B044-9B83BC77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4F54-31D1-48A4-93A9-FE098705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3DEE-1D41-4366-98C7-65777AEB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BA4A-B51A-43DA-81C4-84CC4A9A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3050-6119-4D01-A810-CD35FB61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A54-F458-430D-BD00-0A927F5E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D12-25E2-4AEB-ACB3-D3AD2DE7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72C-4C72-497A-ABEB-11F0B4DF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C74-F8DB-408B-99E2-BA6FBEA9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1C9-A94E-4CC8-B834-01405B5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BEB-8102-4120-BC67-06549C73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C31-4AE9-4F08-BED1-85C4A06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Picture 10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7921-85B9-44F8-A967-7C58CFB0F1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3804-E1D7-4A7D-AF5E-7B9687CF25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We Making Progress Yet?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da A. Reddy, Ph.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tgers University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 Social Behaviors 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ntal Health Outcom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ool connectedness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erpersonal conflict in early secondary school are linked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creased mental health proble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ubstance u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later schoo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esence of both schoo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cial connectedness was associated with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wered ris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depressive symptoms in students (Bond et al., 20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Behavior Game (GBG) universal prevention intervention 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st gra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rooms predicted lower levels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tisocial behavi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iddle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ellam &amp; Anthony, 199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BG intervention provided in 1-2 graders (n=1,196) significantly reduced the risk (50%)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rug abuse/dependence, smoking, and antisocial behavi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adolescent and young adult (Kellam et. al., 2008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e Presentations: Some Shared Ingredient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rehensive and rigorous programs of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hasis on student social behavior in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nt is the teacher (general education or special edu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ance on teacher accuracy and co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ools are brief, user friendly and easy to adminis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integrative assessment-intervention mod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ment is dynamic, fluid, and continuo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d in a three tiered RtI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hasis test scores (raw or scale score) used as a method for determining efficacy of interven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ing Individual Education Plans for Children with Attention-Deficit/Hyperactivity Disorder Using a Daily Report Card</a:t>
            </a: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order-specific to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HD representing a highly comorbid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ment is fluid for daily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receive immediate teacher feedback on their effor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used to develop positive student-teacher and student-parents interactions/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sters parent and teacher communication and partnershi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es linked to home-based privile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ilored for individual student needs – linked to IEP and 504 Plan goals – critical for buy i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es targeted behaviors within specific academic lessons (e.g., art, math, language arts, science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benchmarks of specific social behavior within co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C raw scores discriminate between treatment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and Validation of Progress Monitoring Tools for Social Behavior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ons from Project VIABLE</a:t>
            </a:r>
            <a:br>
              <a:rPr sz="2400"/>
            </a:b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610840" cy="4724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BR - undergone significant development and investigation, until now there has been limited attention to the psychometric properties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ighly reliable and valid alternative to SDO, interviews, and behavior rating sca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mphasis on specific time, place (context) and intended rater for assessing the behavior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xcellent tool for IEP Goals and 504 Plans for K-12 grade student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errific tool for minimizing effects of rater inference and retrospective judgments about student social behavio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onsiderations for developing other DBR measures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ater bias; rater skill (erro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onsideration of base rates within context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ording (molar/molecular, negative/positiv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Visual cu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ncho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General outcome or individualized targe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e gradients – first study to examine a single item scale compared three scale gradients (categories – 6, 10, 14)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hafouleas et al. (2009) Educational and Psychological Measure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es that DBR are highly useful for measuring the effects of intervention on individua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assroom behavior proble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R-SIS: 2 part web-based training program – frame of reference and rater error (accurac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R-BASIS:  web-based program for data entry, analysis, and graph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ing Change Sensitive Brief Behavior Rating Scales as Progress-Monitoring Tools for Social Behavior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724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 research on social skills (SSRS) serves as the spring board for the development of 4 brief behavior ratings scales for social skills, conduct, anxiety, and AD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 specificity - detect progress in specific area (skills) of social emotional func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hasis on change-sensitivity of constructs and ite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es that change sensitive item are identified by four data analytic metho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Odds ratio, Effect sizes, Paired and 2-sample T-test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effect from a mixed-factorial ANOVA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hasizes the assessment of both strength and problem behavio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al le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ssessment approac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articularly important in the area of 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go from here?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for measure development are endles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 a broad iterative test development and validation approach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ied model of validation (Messick, Cronbach) an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orously examine and valida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st ut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ility of test score(s) for informing decision making for intervention plans that improve students’ lives (meaningful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Utility Framework for Future Test Development and Validation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developing a test, one must first decide on the proposed interpretations and uses - and the assumptions embedded in the proposed interpretations and uses. The chosen interpretations and uses then provide guidance on how to proceed in developing the tes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Kane, 2008; pp. 77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Test Development and Validation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the specific construct(s) we intended to measure?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the intended purpose of the test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lude a strong consumer participatory model for test develop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the "end game” goal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 score utility (inference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w can the test score(s)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eneraliz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o the function and process of the targeted social behavior in the classroom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w can the test score(s) be used by the consumers to inform decision making for intervention plan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 stud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ro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ool district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must go beyond student level assessment and focus on system level assessment and chang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go from here?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opt a Strong Program of External Valid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ptability and usefulness of consu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efully examine consum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ende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nintended test score in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extraneous factors that impact test score utility (inferences) for the consum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st scores change with targeted practical school interventions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o test scores chan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mental validity over business as us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pragmatic factor (barriers) that may impede development and validation (e.g., time, cost, teacher sensitivity or bias towards constructs and items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5345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ogue wave smashed the bridge of the ship, destroying all the instruments except the speedomet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aptain announced to the badly shaken crew, "We have no idea where we are and we don't have a clue where we are going, but we do know we are making record time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Barriers for Future Measurement Development  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s’ perceptions of time, work, and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s’ perceived util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ess monitoring instruments may not be sufficiently sensitive to monitor progress among high school students because of small growth rates in this age ran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ess monitoring tools must be validated for different age groups (e.g., secondary stu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ence of school staff buy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 personnel misunderstanding and ineffective use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Facilitators for Future Measurement Development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itted administrative leadership and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ct-wide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going profession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hesive team memb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m efficiency (e.g., clear operating standar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keholder agreement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ared vision regarding th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nomous teac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 psychologists serving as leaders, change agents, and consul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ncial resources committed to the c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tional restructuring – system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go from here?: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bout teacher behavior?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teachers do in the classroom influences stud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learning and behav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BG intervention with 570 2-3 graders -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reduc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se of negative teacher remarks predicted improvements in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-task behavio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alking out behavio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d student behavior mediated the impact of the intervention on the development of hyperactive and oppositional behavior (Leflot et al., 2010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ache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ocial and emotional competence are key t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ng a classroom climate that is more conducive to learning and that promotes positive developmental outcomes among stud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Jennings &amp; Greenberg, 2009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achers who interact with their students in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upportive wa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romote positive student social behavior (Wentzel, et al., 2010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blematic relationship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etween Kindergarten teachers and their students with behavior problems predict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cademic and behavior problem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rough eighth grade (Hamre &amp; Pianta, 2001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s with ED are significantly influenced by teacher-student interactions (Sutherland et al., 2008; Reddy et al., 2009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Measurement Development Projec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for preschool, elementary school, and middle and high school that inform supports and interven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that are dynamic and flexible for 6-12 grade - multiple teachers and the complexity of settings (classroom, hallway, study hall, lunch, after school activities such as clubs and spor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tailored for specific disorders and conditions - example Aspergers, Autism, and Anxiety/Depr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ef tools for teacher and student interactions (specific aspects of classroom and school clima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for teacher classroom practic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general and special education set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assess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f teachers' social emotional competency (e.g., anger management, efficacy, perceived risk of viol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ols that can link meaningful goals for IEPs and 504 pl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Measurement Projects - Opportunity for School Reform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2015 over 1/3 of the nation’s veteran teachers and school administrators (baby boomers) will be leaving the field of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hange in school personnel offer the nation tremendous opportunity for comprehensive school reform and innovation in teacher preparation and training across the 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is right for new progress monitor tools for  students and teach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Monitoring is All About Change and Change is Hard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02" name="Picture 4" descr="q"/>
          <p:cNvPicPr/>
          <p:nvPr/>
        </p:nvPicPr>
        <p:blipFill>
          <a:blip r:embed="rId1"/>
          <a:stretch/>
        </p:blipFill>
        <p:spPr>
          <a:xfrm>
            <a:off x="2133720" y="2362320"/>
            <a:ext cx="4910040" cy="3682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Progress Monitoring?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cientifically based practice that is used to assess students’ academic performance and evaluate the effectiveness of instruction”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ational Center on Students Progress Monito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mless and flexi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pproac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 that can be used across students of different age and skill levels, different settings and curricula, and across school years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allace et al., 20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t of assessmen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cedur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determining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xt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which students are benefiting from classroom instruction and for monitoring effectiveness of curricul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National Research Center on Learning Disabil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torical Context of Progress Monitoring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ditional progress monitoring has been used to identify one’s relative position within a group rather than evaluating individual progress across time (Deno, 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arly practice was a means of establishing eligibility for certain classifications/programs (e.g., special education, gift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ly, progress monitoring was based on “mastery measurem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on-referenced tests used to assess the mastery of specific curriculum objectiv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mastery of specific objectives (skills), the teacher would provide instruction and assess the skill tau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ethod of progress monitoring was reflected in common teaching practices (e.g., Wisconsin Instructional Design System, Precision Teach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 Context of Progress Monitoring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s arose - mastery measurement's assumption that a series of short-term objectives directly leads to broad-based competence (false sense of progr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ulted alternative ways of conceptualizing progress monito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riculum-Based Measurement (Deno, 198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s students to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imultaneously integr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various skills required for competent yearend performance on weekly t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students learn the necessary components of the curriculum, their CBM score gradually incre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ope can be used to quantify rate of learning and gauge students’ responsiveness to an instructional program or OT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n “inadequate” responsiveness is revealed, program can be re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LB (200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A (2004) – LD assessment  - removal of discrepancy criter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ent or “rebirth” of Rt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udent Social Behavior?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 global constru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erogeneo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in nature and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agre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“Student Social Behavior” is Defined?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ool and interpersonal connectedness (attachments) (Bond et al., 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operation, assertion, self-control (Rutherford, DuPaul, &amp; Jitendra, 200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f and social awareness, responsible decision-making, self-management and relationship-management skills (Zins et al., 200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ysical and intellectual actions (e.g., hygiene, nutrition, physical activity, avoiding harmful substances, decision-making skills, creative thinking), social/emotional actions for managing oneself responsibly (e.g., self-control, time management), getting along with others (e.g., empathy, altruism, respect, conflict resolution), self-honesty, integrity, self-appraisal and continuous self-improvement (e.g., goal setting, problem solving, courage to try new things, persistence) (Snyder et al., 20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operation (i.e., puts work materials or school property away), Assertion (introduces him / herself to new people without being told), and Self-control (control temper in conflict situations with adults). Level of aggression towards peers, helpfulness with other children, interactions with peers, involvement or exclusion by peers, level of anxious-fearfulness, and hyperactivity-distractibility (Rimm-Kaufmann &amp; Chiu, 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wareness of self and others, positive attitudes and values, responsible decision making, social interaction skills (e.g. active listening, expressive communication, cooperation, negotiation, refusal, help seeking) (Payton et al., 2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416800" y="675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 Social Behavior and Academic Outcom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mprehensive K-5 school-based program targeting student behavior and character was linked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cademic achiev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chool attend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itive disciplinary outcom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Snyder et al.,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HD 1-4 grade students - Teacher ratings of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ading ga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llowing academic interventions related to improvements 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cial ski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 the SS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er-mediated math interventions produced improvements 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ath fluenc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-contr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utherford, DuPaul, &amp; Jitendra, 200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problem-solving skills are related to cognitive problem-solving skills (Ben-Avie, &amp; Ensign, 200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6:48:01Z</dcterms:created>
  <dc:creator>Liat Zilberstein</dc:creator>
  <dc:description/>
  <dc:language>en-US</dc:language>
  <cp:lastModifiedBy>Authorised User</cp:lastModifiedBy>
  <dcterms:modified xsi:type="dcterms:W3CDTF">2010-07-06T18:27:01Z</dcterms:modified>
  <cp:revision>408</cp:revision>
  <dc:subject/>
  <dc:title>IES Presentation </dc:title>
</cp:coreProperties>
</file>