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18404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Click to move the slide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1"/>
          </p:nvPr>
        </p:nvSpPr>
        <p:spPr>
          <a:xfrm>
            <a:off x="3973320" y="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AB12D-70E3-410C-800B-02F72145F460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883116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C61E9-B34A-4E64-9A02-71B8EFC9041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1"/>
          <p:cNvSpPr/>
          <p:nvPr/>
        </p:nvSpPr>
        <p:spPr>
          <a:xfrm>
            <a:off x="3973680" y="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B7731-718C-47B6-927D-C954C9DE988C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13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3A448-7451-4D1A-ABCD-565A9D3D4C2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Date Placeholder 3"/>
          <p:cNvSpPr/>
          <p:nvPr/>
        </p:nvSpPr>
        <p:spPr>
          <a:xfrm>
            <a:off x="3973680" y="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E5E2D-0501-4D18-B1BC-AFE2DC77B317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Slide Number Placeholder 4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E05E9-310F-4DF2-A868-558F807D4E5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964FB-93A0-4CE7-8510-510786EE965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ummary spreadsheet is helpfu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Date Placeholder 3"/>
          <p:cNvSpPr/>
          <p:nvPr/>
        </p:nvSpPr>
        <p:spPr>
          <a:xfrm>
            <a:off x="3973680" y="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4CEC6-2ACB-40DF-B04D-BCB4A153FA85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Slide Number Placeholder 4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29FC9-213C-4C9A-85EB-1102660D7E9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quarter? performance agreements, annual/final reports, progress on establishing certificate in education sc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Date Placeholder 3"/>
          <p:cNvSpPr/>
          <p:nvPr/>
        </p:nvSpPr>
        <p:spPr>
          <a:xfrm>
            <a:off x="3973680" y="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45E52-1B62-4E0E-8C1F-57FA77029416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D8F98-20ED-463F-9320-30B20151985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370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370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2856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2856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370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370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370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370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2856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_x000c_DoEd bar.jpg                                                   00018978_x000f_Graphics Server                BFF25352:"/>
          <p:cNvPicPr/>
          <p:nvPr/>
        </p:nvPicPr>
        <p:blipFill>
          <a:blip r:embed="rId2"/>
          <a:stretch/>
        </p:blipFill>
        <p:spPr>
          <a:xfrm>
            <a:off x="0" y="152280"/>
            <a:ext cx="9145440" cy="758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" name="Object 6"/>
          <p:cNvGraphicFramePr/>
          <p:nvPr/>
        </p:nvGraphicFramePr>
        <p:xfrm>
          <a:off x="304920" y="5791320"/>
          <a:ext cx="3352680" cy="815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5791320"/>
                    <a:ext cx="3352680" cy="81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e-grants.ed.gov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16761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IES Statistical and Research Methodology in Education Grant Program (84.305D)</a:t>
            </a:r>
            <a:br>
              <a:rPr sz="3600"/>
            </a:b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2010 Program Meeting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Annual Reports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mit on e-grants under e-Administration t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e on the date indicated on your performance agree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/30/10 due date: if you started your project betwee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March and M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/31/11 due date: if you started your project May or l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Annual Reports: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ver She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ive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tion A – Project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tion B – Budget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tion C – Addition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Cover Sheet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on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ember to send/fax original signed cover sheet to the grants offi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ontyne Mi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or, Grants Admin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.S Department of Education/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55 New Jersey Ave.  Room 508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hington, DC  202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x: (202) 219-21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Executive Summary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to 3 P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light the project’s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he extent to which the expected outcomes and performance objectives were achie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what contributions the project has made to research, knowledge, practice and/or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Section A – Project Objectives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 Project Objective using objectives laid out in Part II Progress Assessment of your Performance Agre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objective per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gnore boxes “Performance Measur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l in Explanation of Progress section for each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Section A – Project Objectives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status of all steps taken toward completion of your objecti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details of what was done and how it was d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what was comple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any findings to d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Section A – Project Objectives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any work planned, but not undertaken (or completed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ach any relevant reports completed during the year, as well as related presentations and/or publ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Section B – Budget Information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 to show expenditures by category: planned and actual by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an explanation if you did not expend funds at expected rate during the reporting period. Describe how you will spend the carry-over funds during the next budget perio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any significant changes to your budget resulting from modification of project activ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any changes to your budget that affected your ability to achieve your objecti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Section C – Additional Information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changes you plan to make for next year that are consistent with scope and objecti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cipated changes to key personnel.  Attach curriculum vitae for proposed personn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any unanticipated outcomes or benefits from your pro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ach updated IRB and/or indirect costs information h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ach papers: please cite IES and Grant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Final Reports </a:t>
            </a:r>
            <a:br>
              <a:rPr sz="3400"/>
            </a:b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 90 days after the end of your grant a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st like the annual report but instead of summarizing yearly progress, summarizie the work of the entire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answer the final questions (1, 2, 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Goals of the Grant Program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research to advance education research methodologies and statistical analy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a wide range of methodological and statistical tools to be used by education researchers in conducting rigorous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Final Report Question 1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your results, draw conclusions about the success of the project and its impac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any unanticipated outcomes or benefits from your project and any barriers you may have encounte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Final Report Question 2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ould you recommend as advice to other educators that are interested in your projec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id your original ideas change as a result of conducting this proje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Final Report Question 3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pplicable, describe your plans for continuing the project (sustainability; capacity building) and/or disseminating the project resul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How to submit Administrative Changes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of institution - DU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s to key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of project dir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of certifying/authorizing represent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ost ex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Using e-grants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93" name="Picture 8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620120" cy="46479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9"/>
          <p:cNvSpPr/>
          <p:nvPr/>
        </p:nvSpPr>
        <p:spPr>
          <a:xfrm>
            <a:off x="6019920" y="601992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e-grants.ed.go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3" descr="Screenshot of administrative actions that grantees are able to request"/>
          <p:cNvPicPr/>
          <p:nvPr/>
        </p:nvPicPr>
        <p:blipFill>
          <a:blip r:embed="rId1"/>
          <a:stretch/>
        </p:blipFill>
        <p:spPr>
          <a:xfrm>
            <a:off x="2817720" y="1806480"/>
            <a:ext cx="3508560" cy="32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Current Portolio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22856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petition: June 26,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 grants awa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Competition: June 25,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 grants awa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Competition: June 24,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process just begi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Administrative Information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22856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rterly Cont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ing Performance Agre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-grants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ual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ministrative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Quarterly Contacts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22856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 officer will be in touch with you to discuss your grant at least once every three mon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Updating Performance Agreements</a:t>
            </a: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22856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s specific to your a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there been a change in the scope of 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Narrow"/>
              </a:rPr>
              <a:t>Annual and Final Reporting using the “E-grants” system</a:t>
            </a:r>
            <a:br>
              <a:rPr sz="2600"/>
            </a:b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http://e-grants.ed.gov/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ual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l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ministrative chang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in dates (request no-cost extens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in key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in PI or instit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2392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First Time Registration on E-Grants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800" spc="-1" strike="noStrike" u="sng">
                <a:solidFill>
                  <a:srgbClr val="009999"/>
                </a:solidFill>
                <a:uFillTx/>
                <a:latin typeface="Arial Narrow"/>
                <a:hlinkClick r:id="rId1"/>
              </a:rPr>
              <a:t>http://e-grants.ed.gov/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18284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ick on register ic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lect an e-Report module and click nex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vide the requested inform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me: same as on Grant Award Notification #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UNS: same as on GAN #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r e-Grants password will be sent to the e-mail address you provid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gin with username and passwor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wnload the E-grants user gu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5T21:28:51Z</dcterms:created>
  <dc:creator>Lauer, Kristen</dc:creator>
  <dc:description/>
  <dc:language>en-US</dc:language>
  <cp:lastModifiedBy>Authorised User</cp:lastModifiedBy>
  <dcterms:modified xsi:type="dcterms:W3CDTF">2010-07-06T13:40:25Z</dcterms:modified>
  <cp:revision>288</cp:revision>
  <dc:subject/>
  <dc:title>Early Childhood Activities</dc:title>
</cp:coreProperties>
</file>