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8404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1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454A-905D-45B8-BC7D-73EFDC30686C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2282-C059-4D41-8694-A9655DFCE62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1"/>
          <p:cNvSpPr/>
          <p:nvPr/>
        </p:nvSpPr>
        <p:spPr>
          <a:xfrm>
            <a:off x="3973680" y="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DDEB-1A77-4D76-8058-0DCE89FC976B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7C4E-3CF3-413A-AD36-7936589E9C9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Date Placeholder 3"/>
          <p:cNvSpPr/>
          <p:nvPr/>
        </p:nvSpPr>
        <p:spPr>
          <a:xfrm>
            <a:off x="3973680" y="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33C5-314F-4412-9828-E35A56CD0C31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4DB2-2E6A-4D82-BFDE-4C31D79BA3A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3FC0-78EC-4244-AA19-B40EA599FE5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mmary spreadsheet is help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Date Placeholder 3"/>
          <p:cNvSpPr/>
          <p:nvPr/>
        </p:nvSpPr>
        <p:spPr>
          <a:xfrm>
            <a:off x="3973680" y="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7FDD-3447-42DC-A595-EC84F3858677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A88A-4643-4010-82D8-30E14B76D99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quarter? performance agreements, annual/final reports, progress on establishing certificate in education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Date Placeholder 3"/>
          <p:cNvSpPr/>
          <p:nvPr/>
        </p:nvSpPr>
        <p:spPr>
          <a:xfrm>
            <a:off x="3973680" y="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41CC-93FE-425A-9095-B4D8CB5F666A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4A7A-BA8B-46E7-9814-8582E71FD1E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370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370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370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370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370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370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_x000c_DoEd bar.jpg                                                   00018978_x000f_Graphics Server                BFF25352:"/>
          <p:cNvPicPr/>
          <p:nvPr/>
        </p:nvPicPr>
        <p:blipFill>
          <a:blip r:embed="rId2"/>
          <a:stretch/>
        </p:blipFill>
        <p:spPr>
          <a:xfrm>
            <a:off x="0" y="152280"/>
            <a:ext cx="9145440" cy="75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" name="Object 6"/>
          <p:cNvGraphicFramePr/>
          <p:nvPr/>
        </p:nvGraphicFramePr>
        <p:xfrm>
          <a:off x="304920" y="5791320"/>
          <a:ext cx="3352680" cy="81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5791320"/>
                    <a:ext cx="3352680" cy="8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-grants.ed.gov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6761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IES Statistical and Research Methodology in Education Grant Program (84.305D)</a:t>
            </a: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2010 Program Meeting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Annual Report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t on e-grants under e-Administration 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on the date indicated on your performance agree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/30/10 due date: if you started your project betwe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March and M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/31/11 due date: if you started your project May or l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Annual Reports: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 She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ive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A – Project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B – Budget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C – Addition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Cover Sheet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 to send/fax original signed cover sheet to the grants offi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ontyne Mi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or, Grants Admin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.S Department of Education/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55 New Jersey Ave.  Room 508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hington, DC  20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x: (202) 219-21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Executive Summary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to 3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ight the project’s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extent to which the expected outcomes and performance objectives were achie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what contributions the project has made to research, knowledge, practice and/or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Section A – Project Objective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Project Objective using objectives laid out in Part II Progress Assessment of your Performance Agre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objective per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nore boxes “Performance Measu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in Explanation of Progress section for each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Section A – Project Objective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status of all steps taken toward completion of your objec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details of what was done and how it was d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what was comple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any findings to d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Section A – Project Objective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any work planned, but not undertaken (or completed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h any relevant reports completed during the year, as well as related presentations and/or pub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Section B – Budget Information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to show expenditures by category: planned and actual by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n explanation if you did not expend funds at expected rate during the reporting period. Describe how you will spend the carry-over funds during the next budget perio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any significant changes to your budget resulting from modification of project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any changes to your budget that affected your ability to achieve your object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Section C – Additional Information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changes you plan to make for next year that are consistent with scope and objec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cipated changes to key personnel.  Attach curriculum vitae for proposed personn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any unanticipated outcomes or benefits from your pro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h updated IRB and/or indirect costs information 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h papers: please cite IES and Grant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Final Reports </a:t>
            </a:r>
            <a:br>
              <a:rPr sz="3400"/>
            </a:b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90 days after the end of your grant a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like the annual report but instead of summarizing yearly progress, summarizie the work of the entir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answer the final questions (1, 2,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Goals of the Grant Program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research to advance education research methodologies and statistical analy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 wide range of methodological and statistical tools to be used by education researchers in conducting rigorous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Final Report Question 1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your results, draw conclusions about the success of the project and its impa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any unanticipated outcomes or benefits from your project and any barriers you may have encounte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Final Report Question 2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you recommend as advice to other educators that are interested in your projec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your original ideas change as a result of conducting this proj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Final Report Question 3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pplicable, describe your plans for continuing the project (sustainability; capacity building) and/or disseminating the project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How to submit Administrative Change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of institution - D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to key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of project dir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of certifying/authorizing represent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ost ex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Using e-grant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620120" cy="46479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9"/>
          <p:cNvSpPr/>
          <p:nvPr/>
        </p:nvSpPr>
        <p:spPr>
          <a:xfrm>
            <a:off x="6019920" y="601992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e-grants.ed.go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Screenshot of administrative actions that grantees are able to request"/>
          <p:cNvPicPr/>
          <p:nvPr/>
        </p:nvPicPr>
        <p:blipFill>
          <a:blip r:embed="rId1"/>
          <a:stretch/>
        </p:blipFill>
        <p:spPr>
          <a:xfrm>
            <a:off x="2817720" y="1806480"/>
            <a:ext cx="350856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Current Portolio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etition: June 26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 grants awa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Competition: June 25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grants awa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Competition: June 24,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process just begi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Administrative Information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rterly Cont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ing Performance Agre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grant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al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tive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Quarterly Contact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officer will be in touch with you to discuss your grant at least once every three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Updating Performance Agreements</a:t>
            </a: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 specific to your a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there been a change in the scope of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Annual and Final Reporting using the “E-grants” system</a:t>
            </a:r>
            <a:br>
              <a:rPr sz="2600"/>
            </a:b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http://e-grants.ed.gov/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tive chang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in dates (request no-cost extens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in key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in PI or in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2392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First Time Registration on E-Grants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800" spc="-1" strike="noStrike" u="sng">
                <a:solidFill>
                  <a:srgbClr val="009999"/>
                </a:solidFill>
                <a:uFillTx/>
                <a:latin typeface="Arial Narrow"/>
                <a:hlinkClick r:id="rId1"/>
              </a:rPr>
              <a:t>http://e-grants.ed.gov/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8284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ick on register ic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 an e-Report module and click nex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vide the requested inform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me: same as on Grant Award Notification #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UNS: same as on GAN #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r e-Grants password will be sent to the e-mail address you provi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gin with username and passwor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wnload the E-grants user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5T21:28:51Z</dcterms:created>
  <dc:creator>Lauer, Kristen</dc:creator>
  <dc:description/>
  <dc:language>en-US</dc:language>
  <cp:lastModifiedBy>Authorised User</cp:lastModifiedBy>
  <dcterms:modified xsi:type="dcterms:W3CDTF">2010-07-06T13:40:25Z</dcterms:modified>
  <cp:revision>288</cp:revision>
  <dc:subject/>
  <dc:title>Early Childhood Activities</dc:title>
</cp:coreProperties>
</file>