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3D7-F30F-49A7-A2B2-9E2C95FB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646-85D0-45E1-BB02-808BB157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5B8-193E-416F-BFFC-C61F238A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16D-388C-4709-BE07-55E08CBC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0DE-A0AF-4067-876F-427F09FB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2B91-8A36-49E7-8DC1-69AB4AC1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EA73-908F-4E8A-9494-BC35CBA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EA6C-B798-43D2-8287-2A5B0DB4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BCE1-E50E-4D05-9921-F26FC448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BC0C-F2FA-4F8B-BF12-215FA622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F485-5614-46FA-8F9D-E2ECC1D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82F-D1FA-4A6A-AFC6-898B6920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969D-1F88-49CF-B03E-16B5D06A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1D1C-567B-45EA-8802-3C2C6B2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3FA-2015-4D48-9C8A-AB353361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6557-2FBE-4228-B6FF-963EED5B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603B-C326-424B-BA8F-0181582F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BB8-1E72-4EC1-9EF3-DC1AB023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F4C-8CCD-4286-B213-7271EF76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2CB-4781-42FC-9111-A50A89E7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BB1-D65F-4BF0-B3F3-3C4A1A90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BA6-A874-4ACC-8173-16520DA5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FE3-355C-49F6-81E5-0D9E15A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7DC-99CA-4E3A-9347-09305E8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0196-6D6F-44AA-B3AD-E29AFA1055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CB6B-9D5C-4E92-877F-CDBF1846F1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The Policy Choices</a:t>
            </a:r>
            <a:br>
              <a:rPr sz="5400"/>
            </a:b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of Effective Principals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35053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vid Figlio, Northwestern U/N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 Sass, Florida State 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y 20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ample: Policies to Improve Low-Performing Student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ques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grade 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summer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before/after school tu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in-school supplemental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tu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Saturday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 other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 New Principals Affect School Policy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of nine policy domains (Z), regress absolute value of difference in policy in 2003/04 and 2001/02 at school k on a constant and an indicator for change in identity of principal 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209680" y="3886200"/>
                <a:ext cx="4008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Estimated Effect of Principal Change on Normalized Absolute Value of Policy Chan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Content Placeholder 8" descr=""/>
          <p:cNvPicPr/>
          <p:nvPr/>
        </p:nvPicPr>
        <p:blipFill>
          <a:blip r:embed="rId1"/>
          <a:stretch/>
        </p:blipFill>
        <p:spPr>
          <a:xfrm>
            <a:off x="304920" y="1596960"/>
            <a:ext cx="86929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 Simple Model of School Polic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ume current policy in school k with principal j is related to policy at school k in prior period, whether a change in school leadership has occurred 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and policy preferences of the new principal (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 x 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1066680" y="3962520"/>
                <a:ext cx="7162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Δ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ΔP</m:t>
                    </m:r>
                    <m:r>
                      <m:t xml:space="preserve">×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 Principals Bring their old Policies to New School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variable: school policy domain in 2003/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ht hand size variab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 policy domain in 2001/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rincipal since 2001/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on between new principal and new principal’s 2001/02 policy domain in their prior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 Principals Bring their Old Policies to New School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9680" y="1596960"/>
            <a:ext cx="90043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es New Principal Value Added Relate to School Policy Adoption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variable: school policy domain in 2003/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ht hand size variab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 policy domain in 2001/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rincipal since 2001/0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on between new principal and new principal’s 2001/02 value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 shows value-added from model with partial persistence and controls for teacher character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Does New Principal Value Added Relate to School Policy Adoption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139680" y="1444680"/>
            <a:ext cx="9004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early to draw any firm conclu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evidence suggests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principals do have an impact on school policies even in the short run (2 years or l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ost cases principals do not simply “port” their policies from one school to an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value added principals implement different new policies when they arrive at a new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d to favor policies directed toward improving low-performing students and low-performing teac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able research energy on measuring teacher (and now, principal) value ad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evidence of large variation in  principal effectiveness; unsurprisingly, easily measured characteristics aren’t particularly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little knowledge of what effective principals actually do, and whether these actions might be transfe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is Projec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rge measures of principal value added with rich survey data on instructional policies and practices in Flor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rvey data collected on three occasions for 80% of all Florida public schools; today’s first pass: 2001-02 and 2003-04 surveys of elementary school principa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nel nature of survey allows us to observe policy changes that come about with principal changes at a scho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search Ques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school policies change when the identity of the principal changes? What are the policy choices of effective principal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high value added principals “bring with them” different policy/practice choices from their prior schools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 the policy/practice choices of new principals in a school different for principals with high value added?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fining Principal Value Add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“value-added” model of student achievement, including principal-by-year fixed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period = 2000/01-2004/05 school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four models which vary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t of persistence in prior inpu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lete persistence (dependent variable is achievement gain) vs. partial persistence (dependent variable is current achievement level, lagged score as an explanatory variab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 vs. exclusion of controls for teacher characteri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exclude teacher characteristics, principal value-added measure includes average teacher qu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Correlation of Principal Value-Added Measures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76520"/>
          <a:ext cx="8229600" cy="4800600"/>
        </p:xfrm>
        <a:graphic>
          <a:graphicData uri="http://schemas.openxmlformats.org/drawingml/2006/table">
            <a:tbl>
              <a:tblPr/>
              <a:tblGrid>
                <a:gridCol w="1746360"/>
                <a:gridCol w="1744560"/>
                <a:gridCol w="1579680"/>
                <a:gridCol w="1579680"/>
                <a:gridCol w="157932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Partial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eacher Characteristics, Complete Per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chool Policies and Pract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vey asked 65 questions about instructional policies and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of a school budget constraint, and the fact that these are often variations of a theme, we combine these questions into dom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mains are weighted averages of individual policy responses, weighted by the variation in the question response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olicy and Practice Domai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to improve low-performing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gthening instructional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d class size for specific su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ing of curricu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of scheduling and class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to improve low-performing teac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incen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auton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: Scheduling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ques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 schedu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prep peri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 matter specialist tea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ing teachers into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-age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schedul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9:41:07Z</dcterms:created>
  <dc:creator>David Figlio</dc:creator>
  <dc:description/>
  <dc:language>en-US</dc:language>
  <cp:lastModifiedBy>Jdabrowski</cp:lastModifiedBy>
  <dcterms:modified xsi:type="dcterms:W3CDTF">2010-07-01T20:02:07Z</dcterms:modified>
  <cp:revision>39</cp:revision>
  <dc:subject/>
  <dc:title>The Policy Choices of Effective Principals</dc:title>
</cp:coreProperties>
</file>