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AA2-95DC-4ACC-A169-B1FDE900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1B1-B17C-4962-8F66-EC2E0AF5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237-31F6-4E56-BCA0-9AC8F769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956-FD5E-4845-8561-C0A497C9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C756-0E2C-49BE-967A-C47A6A9E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0BA5-69DC-4954-885D-DF629D94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AAEF-436E-4960-A543-B77F143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158-475E-4A32-95A9-6B75133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285-DCE1-4378-83BC-035B3ED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42B-DAC6-4719-B585-712D225B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E14-B152-48C9-B5DC-16F3BD5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444-7F75-401F-AF1C-E4576703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CD40-3A60-4572-9EBA-71A02C8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430-B1E2-4E76-97F8-F8B69E5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4D01-9FE6-4837-AFF3-658DDCA7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14BF-4A15-4C6E-A738-2A2F8A54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80FD-B907-4FDA-A518-C7D591EE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B34-2F4C-4188-A4AD-5D4BC49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6F-86BD-4931-8416-44BC3F4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8C8-220E-486E-BE3A-19A7F36A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5C2-B506-4545-949F-4D9AF7B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E24-183F-4DCB-9518-0C3B587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885-A248-40E3-B561-5B68468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A91-0A4D-40E9-BDA6-6CC17F1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C42-66CC-475F-A5A9-31F748611C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3532-26E3-4B9E-AF41-293000E73F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The Policy Choices</a:t>
            </a:r>
            <a:br>
              <a:rPr sz="5400"/>
            </a:b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of Effective Principals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35053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Figlio, Northwestern U/N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 Sass, Florida State 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ample: Policies to Improve Low-Performing Student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grade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summe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before/after school tu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in-school supplemental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tu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Saturday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other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New Principals Affect School Policy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of nine policy domains (Z), regress absolute value of difference in policy in 2003/04 and 2001/02 at school k on a constant and an indicator for change in identity of principal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209680" y="3886200"/>
                <a:ext cx="4008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Estimated Effect of Principal Change on Normalized Absolute Value of Policy Chan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Content Placeholder 8" descr=""/>
          <p:cNvPicPr/>
          <p:nvPr/>
        </p:nvPicPr>
        <p:blipFill>
          <a:blip r:embed="rId1"/>
          <a:stretch/>
        </p:blipFill>
        <p:spPr>
          <a:xfrm>
            <a:off x="304920" y="1596960"/>
            <a:ext cx="86929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 Simple Model of School Polic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ume current policy in school k with principal j is related to policy at school k in prior period, whether a change in school leadership has occurred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and policy preferences of the new principal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 x 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066680" y="3962520"/>
                <a:ext cx="7162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Δ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ΔP</m:t>
                    </m:r>
                    <m:r>
                      <m:t xml:space="preserve">×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Principals Bring their old Policies to New School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variable: school policy domain in 2003/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 hand size variab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policy domain in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 since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on between new principal and new principal’s 2001/02 policy domain in their prio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Principals Bring their Old Policies to New School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9680" y="1596960"/>
            <a:ext cx="9004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es New Principal Value Added Relate to School Policy Adoption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variable: school policy domain in 2003/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 hand size variab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policy domain in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 since 2001/0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on between new principal and new principal’s 2001/02 value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 shows value-added from model with partial persistence and controls for teacher characte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es New Principal Value Added Relate to School Policy Adoption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139680" y="1444680"/>
            <a:ext cx="9004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early to draw any firm con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evidence suggests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s do have an impact on school policies even in the short run (2 years or l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ost cases principals do not simply “port” their policies from one school to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value added principals implement different new policies when they arrive at a new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d to favor policies directed toward improving low-performing students and low-performing teac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able research energy on measuring teacher (and now, principal) value ad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vidence of large variation in  principal effectiveness; unsurprisingly, easily measured characteristics aren’t particularly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little knowledge of what effective principals actually do, and whether these actions might be transfe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is Proje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rge measures of principal value added with rich survey data on instructional policies and practices in Flor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rvey data collected on three occasions for 80% of all Florida public schools; today’s first pass: 2001-02 and 2003-04 surveys of elementary school princip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nel nature of survey allows us to observe policy changes that come about with principal changes at a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earch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school policies change when the identity of the principal changes? What are the policy choices of effective principal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high value added principals “bring with them” different policy/practice choices from their prior school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the policy/practice choices of new principals in a school different for principals with high value added?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ng Principal Value Ad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“value-added” model of student achievement, including principal-by-year fixe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period = 2000/01-2004/05 school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four models which vary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t of persistence in prior inpu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lete persistence (dependent variable is achievement gain) vs. partial persistence (dependent variable is current achievement level, lagged score as an explanatory variab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 vs. exclusion of controls for teacher character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exclude teacher characteristics, principal value-added measure includes average teacher qu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Correlation of Principal Value-Added Measures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76520"/>
          <a:ext cx="8229600" cy="4800600"/>
        </p:xfrm>
        <a:graphic>
          <a:graphicData uri="http://schemas.openxmlformats.org/drawingml/2006/table">
            <a:tbl>
              <a:tblPr/>
              <a:tblGrid>
                <a:gridCol w="1746360"/>
                <a:gridCol w="1744560"/>
                <a:gridCol w="1579680"/>
                <a:gridCol w="1579680"/>
                <a:gridCol w="157932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hool Policies and Pract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ey asked 65 questions about instructional policies and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of a school budget constraint, and the fact that these are often variations of a theme, we combine these questions into 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ains are weighted averages of individual policy responses, weighted by the variation in the question response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olicy and Practice Domai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to improve low-performing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gthening instructional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class size for specific su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ing of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of scheduling and class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to improve low-performing tea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incen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: Scheduling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 schedu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prep peri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 matter specialist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ing teachers into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-ag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schedul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41:07Z</dcterms:created>
  <dc:creator>David Figlio</dc:creator>
  <dc:description/>
  <dc:language>en-US</dc:language>
  <cp:lastModifiedBy>Jdabrowski</cp:lastModifiedBy>
  <dcterms:modified xsi:type="dcterms:W3CDTF">2010-07-01T20:02:07Z</dcterms:modified>
  <cp:revision>39</cp:revision>
  <dc:subject/>
  <dc:title>The Policy Choices of Effective Principals</dc:title>
</cp:coreProperties>
</file>