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E5D6-B9D3-4590-9AF3-A8E21C4C0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52D5-08E7-4D24-9421-B3C1B288F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4D6A-06DC-4358-B876-3BD0FB89C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634-9D89-4F68-9775-D2DCC3F2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95A-ADA1-4EAD-B8AD-37B9B285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678-E0C5-4233-87B0-1C0B50BE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693-39AA-4CF8-BAC9-89CBA60C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0816-F0C0-45EB-8CD7-417B0F44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33E5-0627-4784-95A3-A400B8E4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0CBD-F525-4E79-8E34-E741CF7B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C108-CBE0-4994-BC31-01AAD0D3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B8D7-EDA4-4964-8D99-21D63663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84F8-F17F-41C5-A3B7-A785731F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3AC0-F92B-4B88-AA8C-D9E634C7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AE6-DD9A-4A67-A82F-F5C7F7BB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BAEA-48E7-4C1D-9E2A-9A2A060C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3B50-8907-48E6-A1B1-768F6CA0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D083-383E-4226-BC3F-F9F07FC3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D674-D974-4310-94E1-CB5294EE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F622-3E27-437F-8467-90B521B9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1632-1A9F-431F-8BF0-566B7F4B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FF7F0-38D5-4F77-A637-C72F1F7A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5871-D26B-4D9C-9C22-16E02BA9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206E6-0DF3-4F54-B5A1-EE684C64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BEF79-15EE-4E62-99FC-0BB864B8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4B9-6DD4-4E9E-93B3-A12BFAA9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64A11-790D-4A12-9099-FEF0D4F8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D54A-13CC-4DCA-ABBE-3E0E1749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970DC-3AE6-4AD0-84E3-5A6CF4F1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44696-D8DF-4FF7-9C44-F17807A0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ED38-1F70-44F1-A250-7724BFB4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020EE-1DD8-4567-98B1-11C95C2B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4D543-3195-44B2-A2B2-4C521A47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9C5-80DA-45FD-B275-4DB3EB7E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D90-DC1D-46C2-A210-21585CC9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3BE-4881-4445-8B0B-DDD8230F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277-97DB-4223-8386-DFCA2A6E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BB2-CEFB-4F5B-AA65-816F4C62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E07-A49C-48DB-BBAC-F08EAB7A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C8CC-04C7-451A-AE57-557DCCEABD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D711-00B7-47AF-B262-CA3E44CE77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ADC9-762B-41EA-9770-4EA92183F9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Times New Roman"/>
              </a:rPr>
              <a:t>Special Education Teacher Quality and Student Achievemen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228240" y="3047760"/>
            <a:ext cx="70102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Fe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 R. S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. of Finance &amp; Ec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. of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 State Univer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ida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Chart 7" descr=""/>
          <p:cNvPicPr/>
          <p:nvPr/>
        </p:nvPicPr>
        <p:blipFill>
          <a:blip r:embed="rId1"/>
          <a:stretch/>
        </p:blipFill>
        <p:spPr>
          <a:xfrm>
            <a:off x="1828800" y="388620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Course Taking Patterns of Students with Disabilities in Reading by Grade Level, 2004/05 – Percent by Categor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4" name="Content Placeholder 5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200400" cy="2776680"/>
          </a:xfrm>
          <a:prstGeom prst="rect">
            <a:avLst/>
          </a:prstGeom>
          <a:ln w="0">
            <a:noFill/>
          </a:ln>
        </p:spPr>
      </p:pic>
      <p:pic>
        <p:nvPicPr>
          <p:cNvPr id="255" name="Chart 6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3200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Econometric Model and Estimation Strate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allenges for Value-Added Modeling of Students with Disa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rse Selection is Endogeno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udents with more significant disabilities more likely to be in special education cour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ing students in different settings is problematic if student ability is not completely accounte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Student Characteristics by Math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04920" y="1828800"/>
          <a:ext cx="8610480" cy="476712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hievement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 Disability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ed) Achie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2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ech/Lang. D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 Learning D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llectual D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D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otional D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D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Econometric Model and Estimation Strate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Address Dual Problems of Multiple Teachers and Endogenous Course Selection, Estimate Value-Added Models for Three Sub-samples of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udents taking one or more regular education courses in subject from a single teacher and no special education cour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udents taking one or more special education courses in subject from a single teacher and no regular education cour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udents taking one or more regular education courses in subject from a single teacher and one or more special education courses in subject from a single teac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Sample for Analy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Students in Florida Receiving Exceptional Education Services (Other Than Gifted) With at Least One Achievement Gain Sc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des 4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th and 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CAT-NRT Exam (Stanford Achievement Ex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0/01-2004/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ple restricted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udents with at most one regular ed. and one special ed. instructor in su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with a single “primary instructo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Teacher Experience on Student Achievement Gains by Math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828800"/>
          <a:ext cx="8610480" cy="461340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 and Experience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10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.8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50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97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.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38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.2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40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.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86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87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2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92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6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94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68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84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Teacher Experience on Student Achievement Gains by Reading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28600" y="1752480"/>
          <a:ext cx="8610480" cy="457380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 and Experience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64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.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68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3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9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07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.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36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.5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39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1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.4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60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Teacher Sp. Ed. PD on Student Achievement Gains by Math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52280" y="1905120"/>
          <a:ext cx="8685360" cy="4663800"/>
        </p:xfrm>
        <a:graphic>
          <a:graphicData uri="http://schemas.openxmlformats.org/drawingml/2006/table">
            <a:tbl>
              <a:tblPr/>
              <a:tblGrid>
                <a:gridCol w="3765600"/>
                <a:gridCol w="1639800"/>
                <a:gridCol w="1640160"/>
                <a:gridCol w="1639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 and Timing of Professional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 Ed. Teacher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- Year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indent="-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5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indent="-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3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8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- Year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7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2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5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Teacher Sp. Ed. PD on Student Achievement Gains by Reading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52280" y="1828800"/>
          <a:ext cx="8839440" cy="4684680"/>
        </p:xfrm>
        <a:graphic>
          <a:graphicData uri="http://schemas.openxmlformats.org/drawingml/2006/table">
            <a:tbl>
              <a:tblPr/>
              <a:tblGrid>
                <a:gridCol w="3919680"/>
                <a:gridCol w="1639800"/>
                <a:gridCol w="1639800"/>
                <a:gridCol w="164016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 and Timing of Professional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 Ed. Teacher                    - Year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5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2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7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3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.3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               - Year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2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3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3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Teacher Adv. Degrees on Student Achievement Gains by Math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2133720"/>
          <a:ext cx="8610480" cy="272088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ced De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01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.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ced De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03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0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7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Achievement of Students with Disabil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licy Relev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4 percent of public school students have dis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hievement gap between students with disabilities and their typical peers widens as they move into higher gr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3 percent of schools that do not meet AYP standards fail solely because they have not achieved standards set for their students with dis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Teacher Adv. Degrees on Student Achievement Gains by Reading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04920" y="2209680"/>
          <a:ext cx="8610480" cy="272124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ced De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ced De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28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8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Certification Status on Student Achievement Gains by Math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04920" y="2057400"/>
          <a:ext cx="8610480" cy="405432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 and Certification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essional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54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.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8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. Ed.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4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essional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8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03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7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. Ed.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66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Certification Status on Student Achievement Gains by Reading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28600" y="1981080"/>
          <a:ext cx="8610480" cy="405468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 and Certification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essional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75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21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. Ed.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8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49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8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essional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8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. Ed.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33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9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61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.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</a:t>
            </a:r>
            <a:r>
              <a:rPr b="1" lang="en-US" sz="3200" spc="-1" strike="noStrike">
                <a:solidFill>
                  <a:srgbClr val="330066"/>
                </a:solidFill>
                <a:latin typeface="Times New Roman"/>
              </a:rPr>
              <a:t>Exc. Child Ed. Credits</a:t>
            </a: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 on Student Achievement Gains by Math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04920" y="1981080"/>
          <a:ext cx="8610480" cy="405468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al Child Ed. Cred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83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2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BA – Special  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57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9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al Child Ed. Cred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06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BA – Special    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</a:t>
            </a:r>
            <a:r>
              <a:rPr b="1" lang="en-US" sz="3200" spc="-1" strike="noStrike">
                <a:solidFill>
                  <a:srgbClr val="330066"/>
                </a:solidFill>
                <a:latin typeface="Times New Roman"/>
              </a:rPr>
              <a:t>Exc. Child Ed. Credits</a:t>
            </a: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 on Student Achievement Gains by Reading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04920" y="1981080"/>
          <a:ext cx="8534160" cy="4054680"/>
        </p:xfrm>
        <a:graphic>
          <a:graphicData uri="http://schemas.openxmlformats.org/drawingml/2006/table">
            <a:tbl>
              <a:tblPr/>
              <a:tblGrid>
                <a:gridCol w="3097080"/>
                <a:gridCol w="1711440"/>
                <a:gridCol w="1861920"/>
                <a:gridCol w="186372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al Child Ed. Cred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BA – Special 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380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al Child Ed. Cred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29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BA – Special 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69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Summary of Finding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s to teacher experience generally smaller in special education courses, particularly in m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ttle evidence that professional development in special ed. makes teachers more eff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ssible exception – regular education reading cour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tainment of advanced degrees associated with higher value-added in m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rary to typical findings in general student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Summary of Finding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ecial education certification associated with greater learning gains of students in special education courses, particularly in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ther measures of pre-service preparation of teachers of special education courses, including hours of coursework and attainment of a bachelor’s degree in special education, also show positive correlation between with student achievement g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Prior Related Litera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acher Training and Student Achievement in the General Student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-service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llege Major/Coursework of Teach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s, Zau and Rice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aronson, et al. (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ris and Sass (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each for Amer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d, et al.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ne, Rockoff and Staiger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, Hannaway and Taylor (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Prior Related Litera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acher Training and Student Achievement in the General Student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-Service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ther “Alternative Certification” Progra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ss (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ine, et al. (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enerally Find no Advantage for Education Majors/Traditionally Prepared Teachers in Promoting Student Achiev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Prior Related Litera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acher Training and Student Achievement in the General Student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-Service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Jacob and Lefgren (2004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ogenously imposed professional development had no significant effects on teacher effectiveness in math 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arris and Sass (2008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nsistent evidence on effects of current and prior professional development course taking by teachers on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Prior Related Litera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ecial Education Teacher Training and Classroom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delar, Daunic and Reynolds (200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raduates of a traditional special education teacher preparation program scored higher on measures of classroom performance and principal ratings than teachers from alternative certification progra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ugaret, Scruggs and Mastropieri (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ditionally licensed special education teachers better than emergency licensed teachers on several dimensions, including planning and preparation, classroom environment and instruc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Econometric Model and Estimation Strate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ndard “Gain Score” Value-Added Model with Student Covari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lude indicators for deciles of prior achievement level to deal with non-linearities and floor eff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6"/>
              <p:cNvSpPr txBox="1"/>
              <p:nvPr/>
            </p:nvSpPr>
            <p:spPr>
              <a:xfrm>
                <a:off x="1017720" y="2895480"/>
                <a:ext cx="55069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jm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Rectangle 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Econometric Model and Estimation Strate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allenges for Value-Added Modeling of Students with Disa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termining Teacher(s) Responsible for Instr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udents may be taking both regular education and special education classes in a sub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udents can have multiple regular-education-course teachers and multiple special-education-course teach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Chart 9" descr=""/>
          <p:cNvPicPr/>
          <p:nvPr/>
        </p:nvPicPr>
        <p:blipFill>
          <a:blip r:embed="rId1"/>
          <a:stretch/>
        </p:blipFill>
        <p:spPr>
          <a:xfrm>
            <a:off x="1828800" y="388620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Course Taking Patterns of Students with Disabilities in Math by Grade Level, 2004/05 – Percent by Categor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0" name="Content Placeholder 5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200400" cy="2776680"/>
          </a:xfrm>
          <a:prstGeom prst="rect">
            <a:avLst/>
          </a:prstGeom>
          <a:ln w="0">
            <a:noFill/>
          </a:ln>
        </p:spPr>
      </p:pic>
      <p:pic>
        <p:nvPicPr>
          <p:cNvPr id="251" name="Chart 6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3200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3:05Z</dcterms:created>
  <dc:creator>College of Education</dc:creator>
  <dc:description/>
  <dc:language>en-US</dc:language>
  <cp:lastModifiedBy>Jdabrowski</cp:lastModifiedBy>
  <dcterms:modified xsi:type="dcterms:W3CDTF">2010-07-01T20:39:28Z</dcterms:modified>
  <cp:revision>67</cp:revision>
  <dc:subject/>
  <dc:title>The Effects of Teacher Training on Teacher Value-Added</dc:title>
</cp:coreProperties>
</file>