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FE0-F40F-436D-B294-711E948F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53B-798F-4ED6-910F-82C8F02DC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780-2F50-4B6B-8C1A-48E67411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A41-383F-4ED5-8F9E-E809DD28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FEF-E70C-4F92-9E80-BD358E2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F56-4A51-4C2F-9B8C-47422E0D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609-6E71-4F3B-910D-A575D30C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5162-32A5-40AF-9241-2D9B0DFB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D081-6791-4EA5-9D4E-3BEE2F4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0A4-EE4E-4281-B10F-B0E7DB1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2A1-1956-4763-877C-D1E39C33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DD4B-DC5A-4DE1-A343-7410DD1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B73F-D01C-4422-9031-755680C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7DA-149F-418B-927C-DACACB7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0CD-46A3-4CA1-81C6-345AC8F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E779-6E32-4CCA-8E98-8E78B74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F0A2-9BA8-4F18-B226-3E74A73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612-531B-448A-9081-B63AC14D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3739-53BE-4390-B1E2-DECB41BB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905A-F349-4EFB-99C2-25B42F9F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4AE5-1509-49C1-904C-9B580B7E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0C19-C448-4F9B-A998-67A2F027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9300-3DF2-4C01-B8B4-A4FD128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CCC3-F3B8-42D3-AF06-8825D07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3C94-4F26-4D96-A5B4-F30E9963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33D-904E-431A-9E3E-5E8BCCF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A900-A4F5-446C-ADBA-D416022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82D0-D88F-46FC-A2C5-3BF5228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4E07-BE73-4D0D-8207-9228A4F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6917-1763-43E0-A4E4-6A686333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B5D2-B143-476E-B999-4044339C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8BDA-63CE-4F1F-8F1C-314740ED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2083-9090-40B9-8FAB-267E3740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644-60A4-4E82-B063-9D7B9B9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646-AE16-478B-8E51-DD87422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C60-401B-49C5-8DED-C3D2ADD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040-1EC0-42A9-B0F8-DF3F297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048-F9B7-4FAB-AF2A-615B924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F59-9B7C-4EB7-B3DC-65804A2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3284-96FF-4429-AB12-406EF7D1C5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15A-D987-48F6-B68A-41F60A5D96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EA5-B20D-4656-A082-BFE4CCB892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Special Education Teacher Quality and Student Achievemen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28240" y="30477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Fe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R. S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Finance &amp; Ec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State Univer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hart 7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Course Taking Patterns of Students with Disabilities in Reading by Grade Level, 2004/05 – Percent by Catego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Content Placeholder 5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200400" cy="2776680"/>
          </a:xfrm>
          <a:prstGeom prst="rect">
            <a:avLst/>
          </a:prstGeom>
          <a:ln w="0">
            <a:noFill/>
          </a:ln>
        </p:spPr>
      </p:pic>
      <p:pic>
        <p:nvPicPr>
          <p:cNvPr id="255" name="Chart 6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llenges for Value-Added Modeling of Students with Dis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 Selection is Endogen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th more significant disabilities more likely to be in special education cour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ing students in different settings is problematic if student ability is not completely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Student Characteristic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1828800"/>
          <a:ext cx="8610480" cy="476712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ievement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Disability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ed)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ch/Lang.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Learning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lectu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otional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D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Address Dual Problems of Multiple Teachers and Endogenous Course Selection, Estimate Value-Added Models for Three Sub-samples of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regular education courses in subject from a single teacher and no special education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special education courses in subject from a single teacher and no regular education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taking one or more regular education courses in subject from a single teacher and one or more special education courses in subject from a single tea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ample for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Students in Florida Receiving Exceptional Education Services (Other Than Gifted) With at Least One Achievement Gain S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des 4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th an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CAT-NRT Exam (Stanford Achievement Ex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0/01-2004/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ple restricted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udents with at most one regular ed. and one special ed. instructor in su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with a single “primary instructo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Experience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828800"/>
          <a:ext cx="8610480" cy="461340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Experience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0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9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38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40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7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8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Experience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28600" y="1752480"/>
          <a:ext cx="8610480" cy="457380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Experience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4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8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3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7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36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4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Sp. Ed. PD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1905120"/>
          <a:ext cx="8685360" cy="4663800"/>
        </p:xfrm>
        <a:graphic>
          <a:graphicData uri="http://schemas.openxmlformats.org/drawingml/2006/table">
            <a:tbl>
              <a:tblPr/>
              <a:tblGrid>
                <a:gridCol w="3765600"/>
                <a:gridCol w="1639800"/>
                <a:gridCol w="1640160"/>
                <a:gridCol w="1639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Timing of Professional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 Ed. Teacher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Sp. Ed. PD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280" y="1828800"/>
          <a:ext cx="8839440" cy="4684680"/>
        </p:xfrm>
        <a:graphic>
          <a:graphicData uri="http://schemas.openxmlformats.org/drawingml/2006/table">
            <a:tbl>
              <a:tblPr/>
              <a:tblGrid>
                <a:gridCol w="3919680"/>
                <a:gridCol w="1639800"/>
                <a:gridCol w="1639800"/>
                <a:gridCol w="16401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Timing of Professional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 Ed. Teacher             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               - Year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Year t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Adv. Degrees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2133720"/>
          <a:ext cx="8610480" cy="27208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Achievement of Students with Dis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licy Relev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4 percent of public school students have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hievement gap between students with disabilities and their typical peers widens as they move into higher gr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percent of schools that do not meet AYP standards fail solely because they have not achieved standards set for their students with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Teacher Adv. Degrees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04920" y="2209680"/>
          <a:ext cx="8610480" cy="272124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ced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8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Certification Status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4920" y="2057400"/>
          <a:ext cx="8610480" cy="405432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Certifica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4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.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4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7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Certification Status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981080"/>
          <a:ext cx="8610480" cy="40546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 and Certification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75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1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4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8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sional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8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Ed. Ce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3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61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</a:rPr>
              <a:t>Exc. Child Ed. Credits</a:t>
            </a: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 on Student Achievement Gains by Math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04920" y="1981080"/>
          <a:ext cx="8610480" cy="4054680"/>
        </p:xfrm>
        <a:graphic>
          <a:graphicData uri="http://schemas.openxmlformats.org/drawingml/2006/table">
            <a:tbl>
              <a:tblPr/>
              <a:tblGrid>
                <a:gridCol w="3124080"/>
                <a:gridCol w="1727280"/>
                <a:gridCol w="1879560"/>
                <a:gridCol w="187956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83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5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9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6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  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Effects of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</a:rPr>
              <a:t>Exc. Child Ed. Credits</a:t>
            </a: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 on Student Achievement Gains by Reading Course Taking Pattern, 99/00-04/05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4920" y="1981080"/>
          <a:ext cx="8534160" cy="4054680"/>
        </p:xfrm>
        <a:graphic>
          <a:graphicData uri="http://schemas.openxmlformats.org/drawingml/2006/table">
            <a:tbl>
              <a:tblPr/>
              <a:tblGrid>
                <a:gridCol w="3097080"/>
                <a:gridCol w="1711440"/>
                <a:gridCol w="1861920"/>
                <a:gridCol w="18637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/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Reg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 Ed. and Sp. Ed. Cou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80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55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. Tea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al Child Ed. Cred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BA – Special 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ummary of Finding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s to teacher experience generally smaller in special education courses, particularly in m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ttle evidence that professional development in special ed. makes teachers more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exception – regular education reading cou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tainment of advanced degrees associated with higher value-added in m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ary to typical findings in general student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Summary of Finding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al education certification associated with greater learning gains of students in special education courses, particularly in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ther measures of pre-service preparation of teachers of special education courses, including hours of coursework and attainment of a bachelor’s degree in special education, also show positive correlation between with student achievement g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lege Major/Coursework of Tea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s, Zau and Rice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ronson, et al. (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and Sa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ach for Amer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yd, et al.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e, Rockoff and Staiger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, Hannaway and Taylor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“Alternative Certification” Progra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ine, et al. (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erally Find no Advantage for Education Majors/Traditionally Prepared Teachers in Promoting Student Achie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er Training and Student Achievement in the General Student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Jacob and Lefgren (200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ogenously imposed professional development had no significant effects on teacher effectiveness in math 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arris and Sass (2008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nsistent evidence on effects of current and prior professional development course taking by teachers on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Prior Related Litera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al Education Teacher Training and Classroom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delar, Daunic and Reynolds (200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duates of a traditional special education teacher preparation program scored higher on measures of classroom performance and principal ratings than teachers from alternative certification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ugaret, Scruggs and Mastropieri (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ditionally licensed special education teachers better than emergency licensed teachers on several dimensions, including planning and preparation, classroom environment an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ndard “Gain Score” Value-Added Model with Student Covari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indicators for deciles of prior achievement level to deal with non-linearities and floor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1017720" y="2895480"/>
                <a:ext cx="5506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j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Econometric Model and Estimation Strate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llenges for Value-Added Modeling of Students with Dis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rmining Teacher(s) Responsible for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may be taking both regular education and special education classes in a sub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can have multiple regular-education-course teachers and multiple special-education-course tea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Chart 9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Times New Roman"/>
              </a:rPr>
              <a:t>Course Taking Patterns of Students with Disabilities in Math by Grade Level, 2004/05 – Percent by Catego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Content Placeholder 5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200400" cy="2776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6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3:05Z</dcterms:created>
  <dc:creator>College of Education</dc:creator>
  <dc:description/>
  <dc:language>en-US</dc:language>
  <cp:lastModifiedBy>Jdabrowski</cp:lastModifiedBy>
  <dcterms:modified xsi:type="dcterms:W3CDTF">2010-07-01T20:39:28Z</dcterms:modified>
  <cp:revision>67</cp:revision>
  <dc:subject/>
  <dc:title>The Effects of Teacher Training on Teacher Value-Added</dc:title>
</cp:coreProperties>
</file>