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4F4-7D04-4F33-A5E7-C7AC8CE5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C8A-92DF-45B9-BC1E-20BF9AF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127-1E17-441C-87B3-28F347EA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8C2-3979-4F83-B090-6F99E0CD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6DC-1AB2-4227-96DA-A9EA291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72B-B6E2-4798-92CC-CC7471F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095-DB3D-481D-AFC0-EDEB84E8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4EA-597E-4A65-847A-3FBFACB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4A5-B18A-4234-BE0E-13B4F64A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0BC-D61B-4BE1-ABB4-584D9E7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8AD-2FE2-4310-AD3A-56C8B7B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85E-99D9-4AC3-84CE-B38DAEC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F67F6-BBD3-4E8F-B2E6-813B56EED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racterizing the Complexities of Bilingualism: Issues of homogeneity and heterogeneity in language and literacy among Spanish-speaking Latino/a school-age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47880"/>
            <a:ext cx="64008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Patrick Proctor, Boston Colle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Rebecca Silverman, University of Maryla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IES Annual Meet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June 30, 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047600" y="550800"/>
            <a:ext cx="98136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010280" y="70020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"/>
          <p:cNvPicPr/>
          <p:nvPr/>
        </p:nvPicPr>
        <p:blipFill>
          <a:blip r:embed="rId3"/>
          <a:stretch/>
        </p:blipFill>
        <p:spPr>
          <a:xfrm>
            <a:off x="2293920" y="28235160"/>
            <a:ext cx="9364680" cy="2865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"/>
          <p:cNvPicPr/>
          <p:nvPr/>
        </p:nvPicPr>
        <p:blipFill>
          <a:blip r:embed="rId4"/>
          <a:stretch/>
        </p:blipFill>
        <p:spPr>
          <a:xfrm>
            <a:off x="2446200" y="28387800"/>
            <a:ext cx="9364680" cy="286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5"/>
          <a:stretch/>
        </p:blipFill>
        <p:spPr>
          <a:xfrm>
            <a:off x="2598840" y="28540080"/>
            <a:ext cx="9364680" cy="286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"/>
          <p:cNvPicPr/>
          <p:nvPr/>
        </p:nvPicPr>
        <p:blipFill>
          <a:blip r:embed="rId6"/>
          <a:stretch/>
        </p:blipFill>
        <p:spPr>
          <a:xfrm>
            <a:off x="2751120" y="28692360"/>
            <a:ext cx="93646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What are we fin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240" y="1195200"/>
            <a:ext cx="866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Further disaggregating changes th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Bilinguals versus monolinguals, significant differences for vocabulary breadth and syntax.  Both groups significantly outperform ELLs on all measures (all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s &lt; .001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5" descr=""/>
          <p:cNvPicPr/>
          <p:nvPr/>
        </p:nvPicPr>
        <p:blipFill>
          <a:blip r:embed="rId1"/>
          <a:stretch/>
        </p:blipFill>
        <p:spPr>
          <a:xfrm>
            <a:off x="817560" y="2700360"/>
            <a:ext cx="76676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What are we find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77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The bilingual-monolingual distinction is crude.  Anglo monolinguals significantly outperform African American monolinguals on all measures, who perform comparably to non-ELL bilinguals.  Stable patterns by grad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hart 5" descr=""/>
          <p:cNvPicPr/>
          <p:nvPr/>
        </p:nvPicPr>
        <p:blipFill>
          <a:blip r:embed="rId1"/>
          <a:stretch/>
        </p:blipFill>
        <p:spPr>
          <a:xfrm>
            <a:off x="974880" y="2048040"/>
            <a:ext cx="74199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atterns in the English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Identical patterns across grade lev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Anglo students outperformed all groups on breadth, word classes, syntax, and compreh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African American and bilingual students performed comparably on breadth, word classes, syntax, and compreh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All groups significantly outperformed E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Bilinguals performed comparably to their Anglo counterparts on morphological awareness and word associations (a verbal reasoning task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Arguably the most metalinguistic measures deployed in the curren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reliminary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5748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Not all monolinguals are the same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Perhaps bilingualism is an equalizer for metalinguistic tasks once English proficiency reaches thres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Degrees of bilingualism (Haku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What is the threshold (Cumm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anel 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21956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w do bilingual children in U.S. schools vary i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files in Spanish and Englis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Spanish literacy among bilingual lear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Ecology of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Starting with language (breadth, semantics, synta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Moving into literacy (decoding, reading comprehension, morphological awaren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Many bilingual students spoke Spanish but did not read or writ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Decoding skill in Spanish was used as a gatekeeper for assessing Spanish reading and morphological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Garamond"/>
              </a:rPr>
              <a:t>Law of Diminishing Literacy Retur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Garamond"/>
              </a:rPr>
              <a:t>N of students taking Spanish assessments (n = 12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1139760" y="1847880"/>
            <a:ext cx="7016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grees of Domin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MLS-R Scaled Sc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grees of Domin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w Sc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Spanish-English Associations Among Language and Literacy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Spanish decoding correlated with Engl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Decoding (r = .575,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 &lt; .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All 3 reading measures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 = .361, .352, .296, al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yntax (r = .277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emantics (r = .216, p &lt; .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Vocabulary breadth (r = .215, p &lt; .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Spanish syntax was associated with Englis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yntax (r = .290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Reading (r = .304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Morphology (r = .282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Spanish semantics were associated with Englis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emantics (r = .239, p &lt; .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CLA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(Klah-va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omprehensi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inguistic </a:t>
            </a: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cquisition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ocabulary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nglish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reliminary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ELLs and non-ELLs show comparability on all Spanish measures except vocabulary breadth, which is low for both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Site (MD or MA) is non-predictive of Spanish language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Cross-lingual associ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Much research shows the links between Spanish and English decoding ski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Less research shows these links between Spanish and English syntact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Policy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60% of bilinguals in 3 MD schools are classified 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26% of bilinguals in 3 MA schools are classified 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  <a:ea typeface="Garamond"/>
              </a:rPr>
              <a:t>Yet the bilingual groups (including ELLs) are comparable across si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% of bilinguals in 3 MD schools have I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21% of bilinguals in 3 MA schools have I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Are developmental trajectories similar across monolinguals and bilingu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Do these trajectories depend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Degrees of bilingualism among the bilingual stud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Levels of language among monolingual stud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What is the relationship between classroom instruction and developmental trajectories of vocabulary and comprehen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Bilingual 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-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 student who speaks English plus another language and shows profiles ranging from emergent to full bilingual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: language minority learner, dual language 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English Language 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-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 bilingual learner who is classified by his or her school and district as being limited in English proficiency such that alternative instruction is requi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1"/>
          <a:stretch/>
        </p:blipFill>
        <p:spPr>
          <a:xfrm>
            <a:off x="2443320" y="170964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3289320" y="355284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9" descr=""/>
          <p:cNvPicPr/>
          <p:nvPr/>
        </p:nvPicPr>
        <p:blipFill>
          <a:blip r:embed="rId1"/>
          <a:stretch/>
        </p:blipFill>
        <p:spPr>
          <a:xfrm>
            <a:off x="682560" y="1042920"/>
            <a:ext cx="7961400" cy="5126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tic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5668920" y="5030640"/>
            <a:ext cx="1333440" cy="1130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27800" y="5029200"/>
            <a:ext cx="130824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g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1"/>
          <p:cNvSpPr/>
          <p:nvPr/>
        </p:nvSpPr>
        <p:spPr>
          <a:xfrm flipH="1">
            <a:off x="7532280" y="4419720"/>
            <a:ext cx="1800" cy="156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13"/>
          <p:cNvSpPr/>
          <p:nvPr/>
        </p:nvSpPr>
        <p:spPr>
          <a:xfrm>
            <a:off x="6561000" y="4570560"/>
            <a:ext cx="1677960" cy="6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5"/>
          <p:cNvSpPr/>
          <p:nvPr/>
        </p:nvSpPr>
        <p:spPr>
          <a:xfrm flipH="1">
            <a:off x="8238600" y="4576680"/>
            <a:ext cx="1800" cy="455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7"/>
          <p:cNvSpPr/>
          <p:nvPr/>
        </p:nvSpPr>
        <p:spPr>
          <a:xfrm flipH="1">
            <a:off x="6559560" y="4576680"/>
            <a:ext cx="1440" cy="453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2"/>
          <p:cNvSpPr/>
          <p:nvPr/>
        </p:nvSpPr>
        <p:spPr>
          <a:xfrm>
            <a:off x="2898720" y="1866960"/>
            <a:ext cx="21589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nglish and Spanish Language Constructs Under Stu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ocabulary breadth (Woodcock-Muñoz Picture Vocabula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mantic awareness (CELF Word Classes and Word Associ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yntactic awareness (CELF Formulated Senten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phological awareness (Extract the Base;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ading Comprehension (WMLS, TOSREC, Gates-MacGin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is the first year of a 2-year cohort-sequential design fol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 groups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raders) into thei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ears.  Data presented here reflect the first wave of English (F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9) and first wave of Spanish (Winter 2010) data coll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nel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re the similarities and differences in English vocabulary and comprehension between a sample of Spanish-English bilingual and English monolingua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and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w do bilingual children in U.S. schools vary in language profiles in Spanish and Englis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Who are Our Stud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Combined sample between one district in Maryland and one district in Massachusetts (n = 294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3 schools in MD, 3 in 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31% from MA (n = 89); 69% from MD (n = 20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44% Latino (n = 128), 35% African American (n = 102), 17% Anglo (n = 50), &lt;1% Asian (n = 2), 3% Other (n = 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128 Spanish-English bilinguals, 166 English monolinguals (purposively sampl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19 students (6.4%) are immigrants (parent repor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68 students (23%) are English language lea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105 students in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  <a:ea typeface="Garamond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grade (40% bilingual), 94 students in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  <a:ea typeface="Garamond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grade (49% bilingual), 94 students in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  <a:ea typeface="Garamond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grade (43% bilingu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Approximately 12% on I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anel 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21956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are the similarities and differences in English vocabulary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rehension between a sample of Spanish-English bilingual and English monolingual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rad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What are we fin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732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Bilinguals versus Monolinguals, all differences are significant (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s &lt; 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69960" y="2577960"/>
            <a:ext cx="80233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2:54:12Z</dcterms:created>
  <dc:creator>Patrick Proctor</dc:creator>
  <dc:description/>
  <dc:language>en-US</dc:language>
  <cp:lastModifiedBy>Authorised User</cp:lastModifiedBy>
  <dcterms:modified xsi:type="dcterms:W3CDTF">2010-07-06T12:59:51Z</dcterms:modified>
  <cp:revision>46</cp:revision>
  <dc:subject/>
  <dc:title>Characterizing the Complexities of Bilingualism: Issues of homogeneity and heterogeneity in language and literacy among Spanish-speaking Latino/a school-age children</dc:title>
</cp:coreProperties>
</file>