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DB5-B902-472E-84BD-442957F4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BF7-8780-4BB6-8387-08A0B29D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3E0-E94E-4538-8C75-C09B1147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E14-5805-4597-B2CA-9327140C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496B-EC8B-45E7-A9EE-D5825D06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6F64-0E93-4D67-8E34-B4C4A1A4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C665-F5AC-45CD-8BDC-8E3DECAB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6ABE-249D-458F-8FE4-B23C6CB6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E0A3-2E01-4556-A240-282097A0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0974-8C83-420D-A18C-2355E960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D5BA-2F6E-4423-866A-605EDBCC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C54-A6E8-4D5E-BB2F-A7A8CD33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F5EB-C490-4542-8CA6-22285157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5222-BDC6-4765-AC3F-BC43348A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A134-69E1-430B-85BF-169BF32B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608C-9965-40B3-A1AB-B206F87C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B5FA-550B-4858-8DD5-4D6F4C9B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628-4EED-4F3A-9A69-9E95DF76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6AD-4BAC-4A2F-BD80-42D35C68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919D-E3A8-4392-9A2B-CA16DFF1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AC2-7235-4B69-BFA7-E4DC7D3E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E24-87C8-4724-9D22-96002014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B7B-7B90-4FC0-9F8F-B68F595E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20D-3A9D-477A-B22A-DD4630E7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3899-4FA1-4B65-A0DB-F9CA503273C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5D5A-E207-44FF-BFCA-2E8376A7D2D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83808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Discus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76720" y="5486400"/>
            <a:ext cx="2741400" cy="1371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2438280"/>
            <a:ext cx="769608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aomi Steiner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mental-Behavioral Pediatr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steiner@tuftsmedicalcente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of Educational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une 29,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g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ttention development starts in infancy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s there a minimal age to start to train attention functions in children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What is going on developmentally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hildren with SLI have deficiencies in selective auditory atten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stalt: A deficit in one area associated with a deficit in anoth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lasticity: with improvement in speech and language do the auditory channels of attention also improve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ork using different angle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urtney Stevens: Indirect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each the parents how to support their children’s develop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eacher mediated interventions to support positive classroom behavior and learn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esiree Murray: CAT and CA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teve Hooper: support servic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Shortcomings of medication therapies for ADH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hort ter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elps students get their work done in the moment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oes not help learn how to focus long term or develop executive functions/ organization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Need for other techniques to teach children with attention issu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nclusion: ADHD affects learning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DHD is not a trivial diagnosi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e presentation is complicat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ultiple co-morbidit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ffects academic learn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tudents with ADHD may struggle in regular education activiti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sitive interventions early on and throughout their school carriers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Take home messag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mportance of research on how students with ADHD lear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neral education classroom: how to help students with ADHD adap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ndividualized interventions: identify what kind of specific and individualized interventions work best for students with ADH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The en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flicts of Interes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omi Stein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N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evant financial relationships to disclose or Conflicts Of Interests to resol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02240" y="0"/>
            <a:ext cx="2741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ttention </a:t>
            </a: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ttention skills are complex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fferent areas of the brain affect other area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ttention affects learn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arly attention problems in kindergarten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poor reading outcom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ttention is a developmental proc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rain plastic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Target Popul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1828800"/>
          <a:ext cx="8001000" cy="42530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Stud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Target Popul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o models of preschool training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l children in a Head Start classroom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uter attention training in 1</a:t>
                      </a:r>
                      <a:r>
                        <a:rPr b="0" lang="en-US" sz="26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grader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dents with inattentive symptom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onse-to-treatment paradigm in 2</a:t>
                      </a:r>
                      <a:r>
                        <a:rPr b="0" lang="en-US" sz="26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nd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grader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dents with executive function deficit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ttention training to preschool-aged children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Verdana"/>
              </a:rPr>
              <a:t>ALL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child-parent dyads in Head Sta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armless, cost-effective interven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pecifically in this generation (fast-paced information processing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ffecting attention in ways we do not yet fully understan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ffecting future ability to attend to lengthy academic assignmen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ttention deficit as a spectrum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ttention spectrum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nrolled children with attention symptoms as per Conners’ Teacher Ratings Inattentive Sca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hildren who scored at least 1.0 standard deviation above the sample mea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ubgroup analysis in children with 6 or more symptom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Executive Function in 2</a:t>
            </a:r>
            <a:r>
              <a:rPr b="0" lang="en-US" sz="3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graders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xecutive function affects in the complex process of writing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upport interventions: students with writing difficulties and executive function deficits issues will react differentl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Support service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hould we be thinking of attention issues for all students with academic difficulties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e role of assessment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Break down learning into smallest steps to identify the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true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eficit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g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828800"/>
          <a:ext cx="8001000" cy="40244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Stud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Ag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wo models of preschool training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school ag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uter attention training in 1</a:t>
                      </a:r>
                      <a:r>
                        <a:rPr b="0" lang="en-US" sz="26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grader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26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grader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onse-to-treatment paradigm in 2</a:t>
                      </a:r>
                      <a:r>
                        <a:rPr b="0" lang="en-US" sz="26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nd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grader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6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nd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grader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21:22:15Z</dcterms:created>
  <dc:creator>naomi steiner</dc:creator>
  <dc:description/>
  <dc:language>en-US</dc:language>
  <cp:lastModifiedBy>Tufts-NEMC</cp:lastModifiedBy>
  <dcterms:modified xsi:type="dcterms:W3CDTF">2010-07-01T17:00:55Z</dcterms:modified>
  <cp:revision>144</cp:revision>
  <dc:subject/>
  <dc:title>Bilingualism </dc:title>
</cp:coreProperties>
</file>