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9C7-F8EC-4963-ADFE-FC52C39C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F03-D24B-4E1E-A3FB-1F1986E6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8C1-1359-4419-81FE-76B0B73A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A62-B228-4185-B09A-7B44E74F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5CD2-85E2-41DC-BAB9-A44B89B7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04F5-947C-47EC-99BE-FFD72C59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E60D-B1F9-448E-ACFB-45EBABA8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F6C3-CBC5-4ADC-A7D7-72A825AF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4E6C-F1C2-4E7C-8D94-2D898CCF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24B4-23F9-42F1-AE5E-6EF39FB7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8773-0103-4AAA-8EDE-DF564644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530-4E29-4F28-96AA-1DE84D6E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D363-D90B-4B3F-AA70-A3FE857C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A2B6-A9A0-4FD3-A90D-9AD18EBC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58CD-B5E0-49A6-967E-7D646998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4D4E-A69F-47D7-8632-FF88CF99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20EE-E69F-4969-A29B-52B1CD1F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901-F613-4A03-8F58-97C9EFBC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EC7-9A5D-4C60-ABFE-364C0984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F99-758E-4E86-AD4F-D0781419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D6B-8ADD-4EAC-A332-3AB269C5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037-EE5D-4555-89B0-27B4B6A2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F89-FFA8-4756-A760-E42B70B1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16F-2D4F-4D70-842C-97C1DA0E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FF51-8EAD-4D3C-800D-EAD2DE9F170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ACBA-0995-4CF7-B41F-101E8C9EE04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83808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Discus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76720" y="5486400"/>
            <a:ext cx="2741400" cy="1371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2438280"/>
            <a:ext cx="769608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aomi Steiner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mental-Behavioral Pediatr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steiner@tuftsmedicalcente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of Educational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une 29,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g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ttention development starts in infancy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s there a minimal age to start to train attention functions in children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What is going on developmentally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hildren with SLI have deficiencies in selective auditory atten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stalt: A deficit in one area associated with a deficit in anoth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lasticity: with improvement in speech and language do the auditory channels of attention also improve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ork using different angle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urtney Stevens: Indirect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each the parents how to support their children’s develop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eacher mediated interventions to support positive classroom behavior and learn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esiree Murray: CAT and CA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teve Hooper: support servic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Shortcomings of medication therapies for ADH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hort ter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elps students get their work done in the moment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oes not help learn how to focus long term or develop executive functions/ organization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Need for other techniques to teach children with attention issu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nclusion: ADHD affects learning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DHD is not a trivial diagnosi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e presentation is complicat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ultiple co-morbidit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ffects academic learn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tudents with ADHD may struggle in regular education activiti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sitive interventions early on and throughout their school carriers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Take home messag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mportance of research on how students with ADHD lear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neral education classroom: how to help students with ADHD adap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ndividualized interventions: identify what kind of specific and individualized interventions work best for students with ADH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The en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flicts of Interes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omi Stein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N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evant financial relationships to disclose or Conflicts Of Interests to resol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02240" y="0"/>
            <a:ext cx="2741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ttention </a:t>
            </a: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ttention skills are complex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fferent areas of the brain affect other area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ttention affects learn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arly attention problems in kindergarten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poor reading outcom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ttention is a developmental proc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rain plastic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Target Popul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1828800"/>
          <a:ext cx="8001000" cy="42530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Stud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Target Popul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o models of preschool training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l children in a Head Start classroo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uter attention training in 1</a:t>
                      </a:r>
                      <a:r>
                        <a:rPr b="0" lang="en-US" sz="26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grader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dents with inattentive symptom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onse-to-treatment paradigm in 2</a:t>
                      </a:r>
                      <a:r>
                        <a:rPr b="0" lang="en-US" sz="26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nd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grader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dents with executive function deficit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ttention training to preschool-aged children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Verdana"/>
              </a:rPr>
              <a:t>ALL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child-parent dyads in Head Sta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armless, cost-effective interven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pecifically in this generation (fast-paced information processing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ffecting attention in ways we do not yet fully understan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ffecting future ability to attend to lengthy academic assignmen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ttention deficit as a spectrum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ttention spectrum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nrolled children with attention symptoms as per Conners’ Teacher Ratings Inattentive Sca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hildren who scored at least 1.0 standard deviation above the sample mea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ubgroup analysis in children with 6 or more symptom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Executive Function in 2</a:t>
            </a:r>
            <a:r>
              <a:rPr b="0" lang="en-US" sz="3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graders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xecutive function affects in the complex process of writing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upport interventions: students with writing difficulties and executive function deficits issues will react differentl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Support service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hould we be thinking of attention issues for all students with academic difficulties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e role of assessment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Break down learning into smallest steps to identify the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true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eficit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g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828800"/>
          <a:ext cx="8001000" cy="40244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Stud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Ag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o models of preschool training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chool ag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uter attention training in 1</a:t>
                      </a:r>
                      <a:r>
                        <a:rPr b="0" lang="en-US" sz="26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grader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26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grader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onse-to-treatment paradigm in 2</a:t>
                      </a:r>
                      <a:r>
                        <a:rPr b="0" lang="en-US" sz="26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nd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grader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6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nd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grader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21:22:15Z</dcterms:created>
  <dc:creator>naomi steiner</dc:creator>
  <dc:description/>
  <dc:language>en-US</dc:language>
  <cp:lastModifiedBy>Tufts-NEMC</cp:lastModifiedBy>
  <dcterms:modified xsi:type="dcterms:W3CDTF">2010-07-01T17:00:55Z</dcterms:modified>
  <cp:revision>144</cp:revision>
  <dc:subject/>
  <dc:title>Bilingualism </dc:title>
</cp:coreProperties>
</file>