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1A7E-9EF9-4DD9-9A22-B07AC40460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9813-873C-4B41-838C-4F6D22979EE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ility for year 1 ranged from  .68 to .9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3F0BB-E4CB-4A44-8FAF-643D08019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938F-EF22-4C22-B08A-803A1EAA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EC4D9-D99A-4096-900E-F29F1A7A0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1D97E-A481-48E5-99E6-EFD8B2176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FABDE-FE13-45FB-87A8-9FF3BB674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4670-152F-46DD-94D5-81F3668C5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05468-DAB4-4C1A-B3B5-4E5ADECCF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467F0-10DF-4C76-B006-1413E5AE4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8D49D-2D45-4371-93C2-010F86C25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2FAE4-A0BA-45EB-B938-D2D9A4C55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306EB-2457-4BC2-A6E4-D8AC6F5B5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4E08F-14B7-4FDF-AD21-16561F83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075E9-C2A6-4AC2-BB33-188DAB496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E19B-E304-452A-8904-4F2663953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F858B-0CAC-4725-8570-2F5A5C959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89A91-477B-45D5-A363-5FBFB5DEC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7536A-48F8-4102-BE40-472B91840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1CBA-45BE-4957-8A94-FED93A12D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5B258-20D7-43F2-9BA4-3C83E53E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BA54-D3ED-4861-92F3-484935C0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BFD9-E67C-4C08-A19E-AFF7E04F0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7B3C-9C6C-4EAF-930C-0E78F3B90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D46B-E64B-4D14-9EB6-46751279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1ED4-F1A4-4BF5-A974-88AF6F6D0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07E8-C50F-456F-B177-8DEF8E63E0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0FC5-8CC2-4A06-8EE1-9F7B3D2224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orking Memory, Attention, and Mathematical Problem Solving: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A longitudinal study of Grade 1 Children at Risk and Not at Risk for Serious Math Difficulties </a:t>
            </a: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 Lee Swans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iversity of California-Riversid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une, 201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38160" y="1568520"/>
          <a:ext cx="9093240" cy="3720960"/>
        </p:xfrm>
        <a:graphic>
          <a:graphicData uri="http://schemas.openxmlformats.org/drawingml/2006/table">
            <a:tbl>
              <a:tblPr/>
              <a:tblGrid>
                <a:gridCol w="1370520"/>
                <a:gridCol w="533160"/>
                <a:gridCol w="837360"/>
                <a:gridCol w="837360"/>
                <a:gridCol w="216000"/>
                <a:gridCol w="883440"/>
                <a:gridCol w="837360"/>
                <a:gridCol w="761760"/>
                <a:gridCol w="456840"/>
                <a:gridCol w="685440"/>
                <a:gridCol w="837360"/>
                <a:gridCol w="836640"/>
              </a:tblGrid>
              <a:tr h="579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Total Sample</a:t>
                      </a:r>
                      <a:endParaRPr b="0" lang="en-US" sz="1500" spc="-1" strike="noStrike">
                        <a:solidFill>
                          <a:srgbClr val="000000"/>
                        </a:solidFill>
                        <a:latin typeface="Verdana"/>
                      </a:endParaRPr>
                    </a:p>
                  </a:txBody>
                  <a:tcPr anchor="t"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Math     Disable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Average Achievers</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Variable</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    </a:t>
                      </a:r>
                      <a:r>
                        <a:rPr b="1" lang="en-US" sz="1500" spc="-1" strike="noStrike">
                          <a:solidFill>
                            <a:srgbClr val="000000"/>
                          </a:solidFill>
                          <a:latin typeface="Arial Unicode MS"/>
                          <a:ea typeface="Arial"/>
                        </a:rPr>
                        <a:t>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Mean</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SD</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Age (MOS)</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79.6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1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0.2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3.88</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79.34</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54</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Fluid</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Intelligence</a:t>
                      </a:r>
                      <a:endParaRPr b="0"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Raven) </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7.6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5.08</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1.4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4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10.6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5.39</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Computation (Math-WISC-III)</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6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0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5.1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3</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1.8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54</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Rapid Digit Naming (CTOPP)</a:t>
                      </a:r>
                      <a:endParaRPr b="0" lang="en-US" sz="15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2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9.8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2.06</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42</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7</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9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85</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0.51</a:t>
                      </a:r>
                      <a:endParaRPr b="0" lang="en-US" sz="15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1.80</a:t>
                      </a:r>
                      <a:endParaRPr b="0" lang="en-US" sz="15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ade 1 Classification Data</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atent Class Analysis</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anchor="t">
            <a:normAutofit fontScale="95000"/>
          </a:bodyPr>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  Because our classification criteria differ considerably from studies that focus primarily on calculation abilities, we determined the stability of our classification.</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  We performed a latent transitional class analysis on the two classification tasks (arithmetic subtest of WISC-III, digit naming speed from CTOPP) utilizing the SAS LTA (Latent Transitional Analysis) program (Lanza, Lemon, Schafter, &amp; Collins, 2008).</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 The latent transition probability that latent class membership was maintained at the next point in time (year 3) contingent on latent class membership at grade 1 was 1.00. The estimated probability that a child was assigned to the correct latent class at grade 3 based on the WISC-III was 1.0, whereas the estimated probably was .89 for the digit naming speed task.</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  Because the literature suggests that math disabilities and reading disabilities are comorbid, children meeting or not meeting SMD in grade 1 were further divided into subgroups of children yielding relatively low or high reading scores (&lt; or equal 35th percentile vs. &gt;  than the 35th   in word recognition on the WRAT-3). The latent transition probability for children with math disabilities-alone at grade 1 sharing both math and reading difficulties at grade 3 was .16.</a:t>
            </a:r>
            <a:endParaRPr b="0" lang="en-US" sz="1500" spc="-1" strike="noStrike">
              <a:solidFill>
                <a:srgbClr val="000000"/>
              </a:solidFill>
              <a:latin typeface="Verdana"/>
            </a:endParaRPr>
          </a:p>
          <a:p>
            <a:pPr marL="325800" indent="-3258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Point</a:t>
            </a:r>
            <a:r>
              <a:rPr b="0" lang="en-US" sz="1500" spc="-1" strike="noStrike">
                <a:solidFill>
                  <a:srgbClr val="000000"/>
                </a:solidFill>
                <a:latin typeface="Verdana"/>
              </a:rPr>
              <a:t>.  There does not appear to be support in this data set for the notion that children with SMD at grade 1 reflect children with late emerging reading difficulties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essments </a:t>
            </a:r>
            <a:br>
              <a:rPr sz="3600"/>
            </a:br>
            <a:r>
              <a:rPr b="0" lang="en-US" sz="3600" spc="-1" strike="noStrike">
                <a:solidFill>
                  <a:srgbClr val="006666"/>
                </a:solidFill>
                <a:latin typeface="Arial"/>
              </a:rPr>
              <a:t>Administered to Students Each Year (30 measures)</a:t>
            </a:r>
            <a:endParaRPr b="0" lang="en-US" sz="3600" spc="-1" strike="noStrike">
              <a:solidFill>
                <a:srgbClr val="006666"/>
              </a:solidFill>
              <a:latin typeface="Arial"/>
            </a:endParaRPr>
          </a:p>
        </p:txBody>
      </p:sp>
      <p:sp>
        <p:nvSpPr>
          <p:cNvPr id="120" name="PlaceHolder 2"/>
          <p:cNvSpPr>
            <a:spLocks noGrp="1"/>
          </p:cNvSpPr>
          <p:nvPr>
            <p:ph/>
          </p:nvPr>
        </p:nvSpPr>
        <p:spPr>
          <a:xfrm>
            <a:off x="457200" y="2057400"/>
            <a:ext cx="4035600" cy="4525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d problems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mponents of Word Problems</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mputation and Computation fluency skills (CBM)</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honological Awareness (Real word, Pseudo-word Efficiency from the TOWRE, Elision-CTOPP)</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Rapid naming speed from the CTOPP</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d attack,identification, and comprehension subtests (WRMT-R)</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nors Behavior Rating Scale</a:t>
            </a:r>
            <a:endParaRPr b="0" lang="en-US" sz="1600" spc="-1" strike="noStrike">
              <a:solidFill>
                <a:srgbClr val="000000"/>
              </a:solidFill>
              <a:latin typeface="Verdana"/>
            </a:endParaRPr>
          </a:p>
        </p:txBody>
      </p:sp>
      <p:sp>
        <p:nvSpPr>
          <p:cNvPr id="121" name="PlaceHolder 3"/>
          <p:cNvSpPr>
            <a:spLocks noGrp="1"/>
          </p:cNvSpPr>
          <p:nvPr>
            <p:ph/>
          </p:nvPr>
        </p:nvSpPr>
        <p:spPr>
          <a:xfrm>
            <a:off x="4571640" y="1676160"/>
            <a:ext cx="4019400" cy="4530600"/>
          </a:xfrm>
          <a:prstGeom prst="rect">
            <a:avLst/>
          </a:prstGeom>
          <a:noFill/>
          <a:ln w="0">
            <a:noFill/>
          </a:ln>
        </p:spPr>
        <p:txBody>
          <a:bodyPr anchor="t">
            <a:normAutofit/>
          </a:bodyPr>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Arithmetic (WRAT-3, WIAT)</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Raven Progressive Matrices Test (fluid Intelligence)</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Random Letter and Number Generation (inhibition)</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tery of STM and WM tasks</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luency (speed at naming words that with letter B and animals)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dating</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981080" y="609480"/>
            <a:ext cx="51768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mposite Scores</a:t>
            </a: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nowledge base=Calculation (WIAT, WRAT), Reading, Knowledge of Problem Solving Componen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trolled Attention=Random Generation, Fluency-inhibition—categorization and wor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stractibility =Connors Teacher Rating</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peed=rapid naming of letters and number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M-Forward Digit, Words, Nonword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isual-WM=Matrix, Mapping &amp; Direction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ecutive=Updating, Listening Span, Conceptual Span</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301680"/>
            <a:ext cx="8458200" cy="16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6666"/>
                </a:solidFill>
                <a:latin typeface="Arial"/>
              </a:rPr>
              <a:t> </a:t>
            </a:r>
            <a:r>
              <a:rPr b="0" lang="en-US" sz="3200" spc="-1" strike="noStrike">
                <a:solidFill>
                  <a:srgbClr val="006666"/>
                </a:solidFill>
                <a:latin typeface="Arial"/>
              </a:rPr>
              <a:t>Regression Model Predicting Grade 3 Problem Solving Accuracy from Grade 1 Latent Measures </a:t>
            </a:r>
            <a:br>
              <a:rPr sz="3200"/>
            </a:br>
            <a:endParaRPr b="0" lang="en-US" sz="3200" spc="-1" strike="noStrike">
              <a:solidFill>
                <a:srgbClr val="006666"/>
              </a:solidFill>
              <a:latin typeface="Arial"/>
            </a:endParaRPr>
          </a:p>
        </p:txBody>
      </p:sp>
      <p:sp>
        <p:nvSpPr>
          <p:cNvPr id="126" name="PlaceHolder 2"/>
          <p:cNvSpPr>
            <a:spLocks noGrp="1"/>
          </p:cNvSpPr>
          <p:nvPr>
            <p:ph/>
          </p:nvPr>
        </p:nvSpPr>
        <p:spPr>
          <a:xfrm>
            <a:off x="1369800" y="2055600"/>
            <a:ext cx="7313400" cy="38862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M only—Model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tention/inhibition measures -Model 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honological/Storage-Model 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 Reading-Ability-Model 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thematical Knowledge Base-Model 5</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457200" y="0"/>
          <a:ext cx="8001000" cy="5273640"/>
        </p:xfrm>
        <a:graphic>
          <a:graphicData uri="http://schemas.openxmlformats.org/drawingml/2006/table">
            <a:tbl>
              <a:tblPr/>
              <a:tblGrid>
                <a:gridCol w="2556000"/>
                <a:gridCol w="2030400"/>
                <a:gridCol w="1596960"/>
                <a:gridCol w="1817640"/>
              </a:tblGrid>
              <a:tr h="39852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Prediction of Problem Solving at Grade 3 from Grade 1 Latent Measures</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1</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B</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SE</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β</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0, F(3,96)=32.45,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0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1</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5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2-Atten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1, F(6,84)=13.75,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atten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0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0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4</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Random</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hibiti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4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9</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2.13***</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5</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09</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4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1</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8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Model 3-Reading/Naming Speed</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R</a:t>
                      </a:r>
                      <a:r>
                        <a:rPr b="0" lang="en-US" sz="1000" spc="-1" strike="noStrike" baseline="30000">
                          <a:solidFill>
                            <a:srgbClr val="000000"/>
                          </a:solidFill>
                          <a:latin typeface="Verdana"/>
                          <a:ea typeface="Times New Roman"/>
                        </a:rPr>
                        <a:t>2</a:t>
                      </a:r>
                      <a:r>
                        <a:rPr b="0" lang="en-US" sz="1000" spc="-1" strike="noStrike">
                          <a:solidFill>
                            <a:srgbClr val="000000"/>
                          </a:solidFill>
                          <a:latin typeface="Verdana"/>
                          <a:ea typeface="Times New Roman"/>
                        </a:rPr>
                        <a:t>=.55, F(5,94)=22.66, p &lt; .001</a:t>
                      </a:r>
                      <a:endParaRPr b="0" lang="en-US" sz="10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Reading </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3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Naming Speed</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a:t>
                      </a:r>
                      <a:r>
                        <a:rPr b="0" lang="en-US" sz="1000" spc="-1" strike="noStrike">
                          <a:solidFill>
                            <a:srgbClr val="000000"/>
                          </a:solidFill>
                          <a:latin typeface="Verdana"/>
                          <a:ea typeface="Arial"/>
                        </a:rPr>
                        <a:t>-.45**</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Phon.</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6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7</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78</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Visual</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57</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22</a:t>
                      </a:r>
                      <a:endParaRPr b="0" lang="en-US" sz="1000" spc="-1" strike="noStrike">
                        <a:solidFill>
                          <a:srgbClr val="000000"/>
                        </a:solidFill>
                        <a:latin typeface="Verdana"/>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M-Exec</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1.64***</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18</a:t>
                      </a:r>
                      <a:endParaRPr b="0" lang="en-US" sz="10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0.9</a:t>
                      </a:r>
                      <a:endParaRPr b="0" lang="en-US" sz="10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685800" y="533520"/>
          <a:ext cx="8153280" cy="5946480"/>
        </p:xfrm>
        <a:graphic>
          <a:graphicData uri="http://schemas.openxmlformats.org/drawingml/2006/table">
            <a:tbl>
              <a:tblPr/>
              <a:tblGrid>
                <a:gridCol w="4910040"/>
                <a:gridCol w="804960"/>
                <a:gridCol w="1143000"/>
                <a:gridCol w="1295280"/>
              </a:tblGrid>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odel 4-Phonological Processes</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B</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β</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t>
                      </a:r>
                      <a:r>
                        <a:rPr b="0" lang="en-US" sz="1500" spc="-1" strike="noStrike" baseline="30000">
                          <a:solidFill>
                            <a:srgbClr val="000000"/>
                          </a:solidFill>
                          <a:latin typeface="Times New Roman"/>
                          <a:ea typeface="Times New Roman"/>
                        </a:rPr>
                        <a:t>2</a:t>
                      </a:r>
                      <a:r>
                        <a:rPr b="0" lang="en-US" sz="1500" spc="-1" strike="noStrike">
                          <a:solidFill>
                            <a:srgbClr val="000000"/>
                          </a:solidFill>
                          <a:latin typeface="Times New Roman"/>
                          <a:ea typeface="Times New Roman"/>
                        </a:rPr>
                        <a:t>=.57, </a:t>
                      </a:r>
                      <a:r>
                        <a:rPr b="0" i="1" lang="en-US" sz="1500" spc="-1" strike="noStrike">
                          <a:solidFill>
                            <a:srgbClr val="000000"/>
                          </a:solidFill>
                          <a:latin typeface="Times New Roman"/>
                          <a:ea typeface="Times New Roman"/>
                        </a:rPr>
                        <a:t>F</a:t>
                      </a:r>
                      <a:r>
                        <a:rPr b="0" lang="en-US" sz="1500" spc="-1" strike="noStrike">
                          <a:solidFill>
                            <a:srgbClr val="000000"/>
                          </a:solidFill>
                          <a:latin typeface="Times New Roman"/>
                          <a:ea typeface="Times New Roman"/>
                        </a:rPr>
                        <a:t>(4,95)=31.67, p &lt; .0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ve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04</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2</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1</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honologic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5</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aming Speed</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Ph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7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Visu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Exec</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8</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odel 5-Knowledge Base</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t>
                      </a:r>
                      <a:r>
                        <a:rPr b="0" lang="en-US" sz="1500" spc="-1" strike="noStrike" baseline="30000">
                          <a:solidFill>
                            <a:srgbClr val="000000"/>
                          </a:solidFill>
                          <a:latin typeface="Times New Roman"/>
                          <a:ea typeface="Times New Roman"/>
                        </a:rPr>
                        <a:t>2</a:t>
                      </a:r>
                      <a:r>
                        <a:rPr b="0" lang="en-US" sz="1500" spc="-1" strike="noStrike">
                          <a:solidFill>
                            <a:srgbClr val="000000"/>
                          </a:solidFill>
                          <a:latin typeface="Times New Roman"/>
                          <a:ea typeface="Times New Roman"/>
                        </a:rPr>
                        <a:t>=.61, </a:t>
                      </a:r>
                      <a:r>
                        <a:rPr b="0" i="1" lang="en-US" sz="1500" spc="-1" strike="noStrike">
                          <a:solidFill>
                            <a:srgbClr val="000000"/>
                          </a:solidFill>
                          <a:latin typeface="Times New Roman"/>
                          <a:ea typeface="Times New Roman"/>
                        </a:rPr>
                        <a:t>F</a:t>
                      </a:r>
                      <a:r>
                        <a:rPr b="0" lang="en-US" sz="1500" spc="-1" strike="noStrike">
                          <a:solidFill>
                            <a:srgbClr val="000000"/>
                          </a:solidFill>
                          <a:latin typeface="Times New Roman"/>
                          <a:ea typeface="Times New Roman"/>
                        </a:rPr>
                        <a:t>(8,91)=18.07, p &lt; .0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alculation (Grade 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7</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ve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01</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2</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04</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eading</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5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r>
              <a:tr h="550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nhibiti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8**     </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2</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Naming Speed</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6**</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Phon.</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73**</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Visual</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5</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3</a:t>
                      </a:r>
                      <a:endParaRPr b="0" lang="en-US" sz="1500" spc="-1" strike="noStrike">
                        <a:solidFill>
                          <a:srgbClr val="000000"/>
                        </a:solidFill>
                        <a:latin typeface="Verdana"/>
                      </a:endParaRPr>
                    </a:p>
                  </a:txBody>
                  <a:tcPr anchor="b" marL="90000" marR="90000">
                    <a:lnL>
                      <a:noFill/>
                    </a:lnL>
                    <a:lnR>
                      <a:noFill/>
                    </a:lnR>
                    <a:lnT>
                      <a:noFill/>
                    </a:lnT>
                    <a:lnB>
                      <a:noFill/>
                    </a:lnB>
                    <a:noFill/>
                  </a:tcPr>
                </a:tc>
              </a:tr>
              <a:tr h="32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M-Exec</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74**</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a:t>
                      </a:r>
                      <a:endParaRPr b="0" lang="en-US" sz="15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95</a:t>
                      </a:r>
                      <a:endParaRPr b="0" lang="en-US" sz="15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erarchical Model of Growth</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ierarchical Linear Modeling---Focus on Growth and Random Effect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y points in the interpret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cepts centered at wave 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 Effects are related to wave 1 classroom instru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2"/>
          <p:cNvGraphicFramePr/>
          <p:nvPr/>
        </p:nvGraphicFramePr>
        <p:xfrm>
          <a:off x="609480" y="1219320"/>
          <a:ext cx="8153640" cy="5181480"/>
        </p:xfrm>
        <a:graphic>
          <a:graphicData uri="http://schemas.openxmlformats.org/presentationml/2006/ole">
            <p:oleObj progId="PowerPoint.Show.12" r:id="rId1" spid="">
              <p:embed/>
              <p:pic>
                <p:nvPicPr>
                  <p:cNvPr id="132" name="Object 2" descr=""/>
                  <p:cNvPicPr/>
                  <p:nvPr/>
                </p:nvPicPr>
                <p:blipFill>
                  <a:blip r:embed="rId2"/>
                  <a:stretch/>
                </p:blipFill>
                <p:spPr>
                  <a:xfrm>
                    <a:off x="609480" y="1219320"/>
                    <a:ext cx="815364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066320"/>
            <a:ext cx="8186760" cy="579132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r. Margaret Beebe-Frankenberger, Project Director </a:t>
            </a: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Bev Hedin Project Management-School Liaison </a:t>
            </a:r>
            <a:endParaRPr b="0" lang="en-US" sz="2100" spc="-1" strike="noStrike">
              <a:solidFill>
                <a:srgbClr val="000000"/>
              </a:solidFill>
              <a:latin typeface="Verdan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ctoral Students: Diana Dowds, Rebecca Gregg,  Georgia Doukas,James Lyons, Olga Jerman, Kelly Rosston,Xinhua Zheng, Krista Healy</a:t>
            </a:r>
            <a:endParaRPr b="0" lang="en-US" sz="21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unded by the U.S. Department of Education, Institute of Education Sciences/Cognition and Student Learning</a:t>
            </a: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0" name="PlaceHolder 2"/>
          <p:cNvSpPr>
            <a:spLocks noGrp="1"/>
          </p:cNvSpPr>
          <p:nvPr>
            <p:ph type="title"/>
          </p:nvPr>
        </p:nvSpPr>
        <p:spPr>
          <a:xfrm>
            <a:off x="685800" y="457200"/>
            <a:ext cx="777240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y Contributors</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380880" y="990720"/>
          <a:ext cx="8077320" cy="5319720"/>
        </p:xfrm>
        <a:graphic>
          <a:graphicData uri="http://schemas.openxmlformats.org/drawingml/2006/table">
            <a:tbl>
              <a:tblPr/>
              <a:tblGrid>
                <a:gridCol w="2249640"/>
                <a:gridCol w="336600"/>
                <a:gridCol w="614160"/>
                <a:gridCol w="182520"/>
                <a:gridCol w="351000"/>
                <a:gridCol w="200160"/>
                <a:gridCol w="714240"/>
                <a:gridCol w="1149480"/>
                <a:gridCol w="338040"/>
                <a:gridCol w="1941480"/>
              </a:tblGrid>
              <a:tr h="537480">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risk </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t at  Risk</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atio</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7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blem Solving</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0</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7</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1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6</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9</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4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89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5</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0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5</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20</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43</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5</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94</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89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9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ading</a:t>
                      </a: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82</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87</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7</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78</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5371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4" name="PlaceHolder 1"/>
          <p:cNvSpPr>
            <a:spLocks noGrp="1"/>
          </p:cNvSpPr>
          <p:nvPr>
            <p:ph type="title"/>
          </p:nvPr>
        </p:nvSpPr>
        <p:spPr>
          <a:xfrm>
            <a:off x="1504800" y="550440"/>
            <a:ext cx="686304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rowth Modeling: Results related to Fixed Effect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685800" y="1143000"/>
          <a:ext cx="7772400" cy="4476600"/>
        </p:xfrm>
        <a:graphic>
          <a:graphicData uri="http://schemas.openxmlformats.org/drawingml/2006/table">
            <a:tbl>
              <a:tblPr/>
              <a:tblGrid>
                <a:gridCol w="2217600"/>
                <a:gridCol w="322560"/>
                <a:gridCol w="812520"/>
                <a:gridCol w="533520"/>
                <a:gridCol w="838080"/>
                <a:gridCol w="876600"/>
                <a:gridCol w="322200"/>
                <a:gridCol w="1849320"/>
              </a:tblGrid>
              <a:tr h="607320">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risk SMD</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t at  Risk</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stimate</a:t>
                      </a:r>
                      <a:endParaRPr b="0" lang="en-US" sz="1300" spc="-1" strike="noStrike">
                        <a:solidFill>
                          <a:srgbClr val="000000"/>
                        </a:solidFill>
                        <a:latin typeface="Verdan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atio</a:t>
                      </a:r>
                      <a:endParaRPr b="0" lang="en-US" sz="1300" spc="-1" strike="noStrike">
                        <a:solidFill>
                          <a:srgbClr val="000000"/>
                        </a:solidFill>
                        <a:latin typeface="Verdana"/>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hon-loop (STM)</a:t>
                      </a:r>
                      <a:endParaRPr b="0" lang="en-US" sz="13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0</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3.84</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1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2</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1</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7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ketchpad</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6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89</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6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43</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5</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5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44*</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xecutive</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tercept</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6</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69</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4</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9.42</a:t>
                      </a:r>
                      <a:r>
                        <a:rPr b="0" lang="en-US" sz="1300" spc="-1" strike="noStrike" baseline="30000">
                          <a:solidFill>
                            <a:srgbClr val="000000"/>
                          </a:solidFill>
                          <a:latin typeface="Times New Roman"/>
                          <a:ea typeface="Times New Roman"/>
                        </a:rPr>
                        <a:t>***</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28</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3</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38</a:t>
                      </a:r>
                      <a:endParaRPr b="0" lang="en-US" sz="13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02</a:t>
                      </a:r>
                      <a:endParaRPr b="0" lang="en-US" sz="13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3.92*</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6" name="PlaceHolder 1"/>
          <p:cNvSpPr>
            <a:spLocks noGrp="1"/>
          </p:cNvSpPr>
          <p:nvPr>
            <p:ph type="title"/>
          </p:nvPr>
        </p:nvSpPr>
        <p:spPr>
          <a:xfrm>
            <a:off x="1369800" y="301320"/>
            <a:ext cx="73134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rowth Modeling: Results related to Fixed Effect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77520" y="550440"/>
            <a:ext cx="686268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th Modeling-Unconditional Means Model For Problem Solving Accuracy</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Unconditional Means Model</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Times New Roman"/>
              </a:rPr>
              <a:t>Random Effects</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Parameter</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Varianc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SE</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Intercep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2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7</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Growth</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Residual</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2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1" lang="en-US" sz="1500" spc="-1" strike="noStrike">
                <a:solidFill>
                  <a:srgbClr val="000000"/>
                </a:solidFill>
                <a:latin typeface="Arial Unicode MS"/>
                <a:ea typeface="Arial"/>
              </a:rPr>
              <a:t>Fit Statistics</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Devianc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00.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AIC</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12.6</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BIC</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729.7</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endParaRPr b="0" lang="en-US" sz="1500" spc="-1" strike="noStrike">
              <a:solidFill>
                <a:srgbClr val="000000"/>
              </a:solidFill>
              <a:latin typeface="Verdana"/>
            </a:endParaRPr>
          </a:p>
          <a:p>
            <a:pPr marL="343080" indent="-343080">
              <a:lnSpc>
                <a:spcPct val="100000"/>
              </a:lnSpc>
              <a:buClr>
                <a:srgbClr val="ffffff"/>
              </a:buClr>
              <a:buSzPct val="7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Times New Roman"/>
              </a:rPr>
              <a:t>Fixed Effects</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r>
              <a:rPr b="0" lang="en-US" sz="1500" spc="-1" strike="noStrike">
                <a:solidFill>
                  <a:srgbClr val="000000"/>
                </a:solidFill>
                <a:latin typeface="Arial Unicode MS"/>
                <a:ea typeface="Times New Roman"/>
              </a:rPr>
              <a:t>	</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Effec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Estimate</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SE</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Intercept</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1.04***</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6</a:t>
            </a:r>
            <a:endParaRPr b="0" lang="en-US" sz="1500" spc="-1" strike="noStrike">
              <a:solidFill>
                <a:srgbClr val="000000"/>
              </a:solidFill>
              <a:latin typeface="Verdana"/>
            </a:endParaRPr>
          </a:p>
          <a:p>
            <a:pPr marL="343080" indent="-343080">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en-US" sz="1500" spc="-1" strike="noStrike">
                <a:solidFill>
                  <a:srgbClr val="000000"/>
                </a:solidFill>
                <a:latin typeface="Arial Unicode MS"/>
              </a:rPr>
              <a:t>	</a:t>
            </a:r>
            <a:r>
              <a:rPr b="0" lang="en-US" sz="1500" spc="-1" strike="noStrike">
                <a:solidFill>
                  <a:srgbClr val="000000"/>
                </a:solidFill>
                <a:latin typeface="Arial Unicode MS"/>
                <a:ea typeface="Arial"/>
              </a:rPr>
              <a:t>Growth</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51***</a:t>
            </a:r>
            <a:r>
              <a:rPr b="0" lang="en-US" sz="1500" spc="-1" strike="noStrike">
                <a:solidFill>
                  <a:srgbClr val="000000"/>
                </a:solidFill>
                <a:latin typeface="Arial Unicode MS"/>
                <a:ea typeface="Arial"/>
              </a:rPr>
              <a:t>	</a:t>
            </a:r>
            <a:r>
              <a:rPr b="0" lang="en-US" sz="1500" spc="-1" strike="noStrike">
                <a:solidFill>
                  <a:srgbClr val="000000"/>
                </a:solidFill>
                <a:latin typeface="Arial Unicode MS"/>
                <a:ea typeface="Arial"/>
              </a:rPr>
              <a:t>0.03</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495360"/>
          <a:ext cx="8534160" cy="5176800"/>
        </p:xfrm>
        <a:graphic>
          <a:graphicData uri="http://schemas.openxmlformats.org/drawingml/2006/table">
            <a:tbl>
              <a:tblPr/>
              <a:tblGrid>
                <a:gridCol w="1873080"/>
                <a:gridCol w="1014480"/>
                <a:gridCol w="650880"/>
                <a:gridCol w="1015920"/>
                <a:gridCol w="855720"/>
                <a:gridCol w="627120"/>
                <a:gridCol w="1014480"/>
                <a:gridCol w="949320"/>
                <a:gridCol w="533160"/>
              </a:tblGrid>
              <a:tr h="3445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Unconditional Mean Model</a:t>
                      </a:r>
                      <a:endParaRPr b="0" lang="en-US" sz="1300" spc="-1" strike="noStrike">
                        <a:solidFill>
                          <a:srgbClr val="000000"/>
                        </a:solidFill>
                        <a:latin typeface="Verdana"/>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Conditional Means Model</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Reduced Means Model</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45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Fixed  Effects</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Estimate</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1.0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Growth</a:t>
                      </a:r>
                      <a:endParaRPr b="0" lang="en-US" sz="13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5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2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2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63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a:t>
                      </a:r>
                      <a:r>
                        <a:rPr b="0" lang="en-US" sz="1300" spc="-1" strike="noStrike">
                          <a:solidFill>
                            <a:srgbClr val="000000"/>
                          </a:solidFill>
                          <a:latin typeface="Times New Roman"/>
                          <a:ea typeface="Arial"/>
                        </a:rPr>
                        <a:t>.20**</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a:t>
                      </a:r>
                      <a:r>
                        <a:rPr b="0" lang="en-US" sz="1300" spc="-1" strike="noStrike">
                          <a:solidFill>
                            <a:srgbClr val="000000"/>
                          </a:solidFill>
                          <a:latin typeface="Times New Roman"/>
                          <a:ea typeface="Arial"/>
                        </a:rPr>
                        <a:t>.19**</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5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1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Growt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4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1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hibition</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2*</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63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peed</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9</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7</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Ph.</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a:t>
                      </a:r>
                      <a:endParaRPr b="0" lang="en-US" sz="1300" spc="-1" strike="noStrike">
                        <a:solidFill>
                          <a:srgbClr val="000000"/>
                        </a:solidFill>
                        <a:latin typeface="Verdana"/>
                      </a:endParaRPr>
                    </a:p>
                  </a:txBody>
                  <a:tcPr anchor="b" marL="90000" marR="90000">
                    <a:lnL w="5760">
                      <a:solidFill>
                        <a:srgbClr val="000000"/>
                      </a:solidFill>
                    </a:lnL>
                    <a:lnR>
                      <a:noFill/>
                    </a:lnR>
                    <a:lnT w="5760">
                      <a:solidFill>
                        <a:srgbClr val="000000"/>
                      </a:solidFill>
                    </a:lnT>
                    <a:lnB w="5760">
                      <a:solidFill>
                        <a:srgbClr val="000000"/>
                      </a:solidFill>
                    </a:lnB>
                    <a:noFill/>
                  </a:tcPr>
                </a:tc>
              </a:tr>
              <a:tr h="345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Vi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1*</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WM-Exec</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 .08*</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graphicFrame>
        <p:nvGraphicFramePr>
          <p:cNvPr id="141" name="Object 4"/>
          <p:cNvGraphicFramePr/>
          <p:nvPr/>
        </p:nvGraphicFramePr>
        <p:xfrm>
          <a:off x="533520" y="1676520"/>
          <a:ext cx="8458200" cy="4647960"/>
        </p:xfrm>
        <a:graphic>
          <a:graphicData uri="http://schemas.openxmlformats.org/presentationml/2006/ole">
            <p:oleObj progId="Excel.Sheet.12" r:id="rId1" spid="">
              <p:embed/>
              <p:pic>
                <p:nvPicPr>
                  <p:cNvPr id="142" name="Object 4" descr=""/>
                  <p:cNvPicPr/>
                  <p:nvPr/>
                </p:nvPicPr>
                <p:blipFill>
                  <a:blip r:embed="rId2"/>
                  <a:stretch/>
                </p:blipFill>
                <p:spPr>
                  <a:xfrm>
                    <a:off x="533520" y="1676520"/>
                    <a:ext cx="84582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graphicFrame>
        <p:nvGraphicFramePr>
          <p:cNvPr id="144" name=""/>
          <p:cNvGraphicFramePr/>
          <p:nvPr/>
        </p:nvGraphicFramePr>
        <p:xfrm>
          <a:off x="304920" y="1600200"/>
          <a:ext cx="8381880" cy="4270320"/>
        </p:xfrm>
        <a:graphic>
          <a:graphicData uri="http://schemas.openxmlformats.org/drawingml/2006/table">
            <a:tbl>
              <a:tblPr/>
              <a:tblGrid>
                <a:gridCol w="1062360"/>
                <a:gridCol w="227880"/>
                <a:gridCol w="683280"/>
                <a:gridCol w="216000"/>
                <a:gridCol w="729000"/>
                <a:gridCol w="910800"/>
                <a:gridCol w="181800"/>
                <a:gridCol w="729000"/>
                <a:gridCol w="181800"/>
                <a:gridCol w="729000"/>
                <a:gridCol w="910800"/>
                <a:gridCol w="181800"/>
                <a:gridCol w="729000"/>
                <a:gridCol w="181800"/>
                <a:gridCol w="727560"/>
              </a:tblGrid>
              <a:tr h="291960">
                <a:tc gridSpan="11">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Growth Modeling for Unconditional, Conditional and Reduced Model</a:t>
                      </a:r>
                      <a:endParaRPr b="0" lang="en-US" sz="13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nconditional Mean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onditional Means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duced Means Mode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9196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ea typeface="Times New Roman"/>
                        </a:rPr>
                        <a:t>Random Effect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Times New Roman"/>
                        </a:rPr>
                        <a:t>Parameter</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Var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SE</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7</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tercept</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1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5</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2</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lop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2</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5***</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3***</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sidual</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23***</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0.03</a:t>
                      </a:r>
                      <a:endParaRPr b="0" lang="en-US" sz="13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it Statistics</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00.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32.2</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viance</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35.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12.6</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64.2</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57.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29196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729.7</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606.4</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BIC</a:t>
                      </a:r>
                      <a:endParaRPr b="0" lang="en-US" sz="13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586.1</a:t>
                      </a:r>
                      <a:endParaRPr b="0" lang="en-US" sz="13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r h="474840">
                <a:tc gridSpan="2">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0000" marR="90000">
                    <a:lnL>
                      <a:noFill/>
                    </a:lnL>
                    <a:lnR>
                      <a:noFill/>
                    </a:lnR>
                    <a:lnT>
                      <a:noFill/>
                    </a:lnT>
                    <a:lnB>
                      <a:no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plained Variance</a:t>
            </a:r>
            <a:endParaRPr b="0" lang="en-US" sz="3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What is the reduction in random effects related to classroom on problem solving when individual differences in cognitive processes are taken into consideratio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Focus is on Explainable Varianc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Between Level of Performance Differences nested within Classroom (Intercep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blem solving  (.24-.15)/.24=38%</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i="1" lang="en-US" sz="2500" spc="-1" strike="noStrike">
                <a:solidFill>
                  <a:srgbClr val="000000"/>
                </a:solidFill>
                <a:latin typeface="Verdana"/>
              </a:rPr>
              <a:t>Between Growth Differences nested within Classroom (Slope) </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blem solving   (.06-.04)/.06=33%</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Solving--Intercept 1.0</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Solving-Slope .52</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M-Exec--Intercept .20</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M-Exec -slope -.08</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rpretation-</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0 estimates problem solving when predictors are set to zero</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ldren who differ by 1 point on WM-Exec</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ffer by .20 points on problem solving</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52 estimates growth for each testing session in Problem Solving</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parameter estimate of  -.08 related to the slope indicates that children who differed by 1.0 with respect to WM-Exec have growth rates that differ by -.08 (higher levels of WM yield smaller growth rates ?)</a:t>
            </a: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a:t>
            </a:r>
            <a:endParaRPr b="0" lang="en-US" sz="3600" spc="-1" strike="noStrike">
              <a:solidFill>
                <a:srgbClr val="006666"/>
              </a:solidFill>
              <a:latin typeface="Arial"/>
            </a:endParaRPr>
          </a:p>
        </p:txBody>
      </p:sp>
      <p:sp>
        <p:nvSpPr>
          <p:cNvPr id="1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 Ability group differences emerged across the majority of cognitive measures—</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classification criteria robust at final wave-classification holds on measures (wave 1 and 3)</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  Of the wave 1 cognitive predictors, WM, Inhibition and naming speed uniquely predicted Wave 3 problem solving Accuracy.</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3. Growth in Executive System of WM, naming speed, and Inhibition moderated Growth in Problem Solving Accurac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mmary Cont.</a:t>
            </a:r>
            <a:endParaRPr b="0" lang="en-US" sz="3600" spc="-1" strike="noStrike">
              <a:solidFill>
                <a:srgbClr val="006666"/>
              </a:solidFill>
              <a:latin typeface="Arial"/>
            </a:endParaRPr>
          </a:p>
        </p:txBody>
      </p:sp>
      <p:sp>
        <p:nvSpPr>
          <p:cNvPr id="1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Not merely a function of low order skills--- WM contributes unique variance to problem solving beyond the contribution of fluid intelligence, reading and computation skill, phonological processing,  STM, and processing speed.</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Not merely a function of specific executive activities identified in this study--- WM contributes to problem solving beyond measures of inhibition and activation of LTM (measures of math and reading skill)---processes related to executive processing.</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eneral  Significance: Mathematics and Learning Disabilities</a:t>
            </a:r>
            <a:endParaRPr b="0" lang="en-US" sz="32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Arial"/>
              </a:rPr>
              <a:t>Students at risk for mathematical disabilities are a large segment of the public school popul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Arial"/>
              </a:rPr>
              <a:t>There is a need to know the processes that underlie problem-solving difficulty in such a large populatio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aveats</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 Some measures not behaving as they do with adult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 Collinearity related to some measures (e.g., correlation between latent measures high—e.g., STM and WM-EX, .83, Phon. Awareness &amp; Reading .95)</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 Reconsidering Digit Naming classification criteria (naming speed for numbers may not be stable)</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Not instigating a direct intervention on WM (currently in progres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 Results are correlational---must be followed up with causal models</a:t>
            </a:r>
            <a:endParaRPr b="0" lang="en-US" sz="2100" spc="-1" strike="noStrike">
              <a:solidFill>
                <a:srgbClr val="000000"/>
              </a:solidFill>
              <a:latin typeface="Verdana"/>
            </a:endParaRPr>
          </a:p>
          <a:p>
            <a:pPr marL="335880" indent="-3358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7. Have not isolated the source of variance related to the WM residual.</a:t>
            </a:r>
            <a:endParaRPr b="0" lang="en-US" sz="2100" spc="-1" strike="noStrike">
              <a:solidFill>
                <a:srgbClr val="000000"/>
              </a:solidFill>
              <a:latin typeface="Verdana"/>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Previous studies as well as our own have shown that a significant proportion of the variance related to solution accuracy in word problems is related to WM, but the specific sources of variance and its relationship to growth have not been clearly identified.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ssumption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To comprehend and solve mathematical word problems one must be able to keep track of incoming information. This is necessary in order to understand words, phrases, sentences, and propositions that, in turn, are necessary to construct a coherent and meaningful interpretation of word problems. We assume that this keeping track of information draws upon WM. </a:t>
            </a:r>
            <a:endParaRPr b="0" lang="en-US" sz="2900" spc="-1" strike="noStrike">
              <a:solidFill>
                <a:srgbClr val="000000"/>
              </a:solidFill>
              <a:latin typeface="Verdana"/>
            </a:endParaRPr>
          </a:p>
          <a:p>
            <a:pPr marL="33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s</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anchor="t">
            <a:normAutofit fontScale="93000"/>
          </a:bodyPr>
          <a:p>
            <a:pPr marL="496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96080" indent="-496080">
              <a:lnSpc>
                <a:spcPct val="90000"/>
              </a:lnSpc>
              <a:spcBef>
                <a:spcPts val="62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Which components of WM (central executive, phonological loop, visual-spatial sketch pad) are most directly related to components of word problem solving (e.g., problem representation, solution planning, solution execution) ? </a:t>
            </a:r>
            <a:endParaRPr b="0" lang="en-US" sz="2500" spc="-1" strike="noStrike">
              <a:solidFill>
                <a:srgbClr val="000000"/>
              </a:solidFill>
              <a:latin typeface="Verdana"/>
            </a:endParaRPr>
          </a:p>
          <a:p>
            <a:pPr marL="496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96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 </a:t>
            </a:r>
            <a:r>
              <a:rPr b="0" lang="en-US" sz="2500" spc="-1" strike="noStrike">
                <a:solidFill>
                  <a:srgbClr val="000000"/>
                </a:solidFill>
                <a:latin typeface="Verdana"/>
                <a:ea typeface="Times New Roman"/>
              </a:rPr>
              <a:t>Specifically,we will determine whether growth in WM moderates growth in components of problem solving and how these relationships vary within and between ability groups.</a:t>
            </a:r>
            <a:endParaRPr b="0" lang="en-US" sz="2500" spc="-1" strike="noStrike">
              <a:solidFill>
                <a:srgbClr val="000000"/>
              </a:solidFill>
              <a:latin typeface="Verdana"/>
            </a:endParaRPr>
          </a:p>
          <a:p>
            <a:pPr marL="496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 2</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2. What cognitive mechanisms and academic skills underlie the relationship between WM and problem solving accuracy? </a:t>
            </a:r>
            <a:endParaRPr b="0" lang="en-US" sz="2600" spc="-1" strike="noStrike">
              <a:solidFill>
                <a:srgbClr val="000000"/>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Specifically, we explore the role of several processes (e.g., distractibility, controlled attention, phonological processing) and knowledge base (e.g., calculation, reading, knowledge of word problem solving components) in moderating growth in WM and word problem solving.</a:t>
            </a:r>
            <a:endParaRPr b="0" lang="en-US" sz="2600" spc="-1" strike="noStrike">
              <a:solidFill>
                <a:srgbClr val="000000"/>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search Question 3</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3. Does growth in WM have varying effects on word problem solving as a function of MD vs. Non MD group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ea typeface="Times New Roman"/>
              </a:rPr>
              <a:t>We explore if growth in problem solving is isolated to growth in specific components of W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e</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articipants were selected from both public and private schools from grades 1 -two groups were identified.</a:t>
            </a:r>
            <a:endParaRPr b="0" lang="en-US" sz="26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hildren who score above the 40</a:t>
            </a:r>
            <a:r>
              <a:rPr b="0" lang="en-US" sz="2100" spc="-1" strike="noStrike" baseline="30000">
                <a:solidFill>
                  <a:srgbClr val="000000"/>
                </a:solidFill>
                <a:latin typeface="Verdana"/>
                <a:ea typeface="Arial"/>
              </a:rPr>
              <a:t>th</a:t>
            </a:r>
            <a:r>
              <a:rPr b="0" lang="en-US" sz="2100" spc="-1" strike="noStrike">
                <a:solidFill>
                  <a:srgbClr val="000000"/>
                </a:solidFill>
                <a:latin typeface="Verdana"/>
                <a:ea typeface="Arial"/>
              </a:rPr>
              <a:t> percentile on standardized measures of mathematical problem---such children were not considered as at risk for math difficulties</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Arial"/>
              </a:rPr>
              <a:t>Children who score below the 25</a:t>
            </a:r>
            <a:r>
              <a:rPr b="0" lang="en-US" sz="2100" spc="-1" strike="noStrike" baseline="30000">
                <a:solidFill>
                  <a:srgbClr val="000000"/>
                </a:solidFill>
                <a:latin typeface="Verdana"/>
                <a:ea typeface="Arial"/>
              </a:rPr>
              <a:t>th</a:t>
            </a:r>
            <a:r>
              <a:rPr b="0" lang="en-US" sz="2100" spc="-1" strike="noStrike">
                <a:solidFill>
                  <a:srgbClr val="000000"/>
                </a:solidFill>
                <a:latin typeface="Verdana"/>
                <a:ea typeface="Arial"/>
              </a:rPr>
              <a:t> percentile (below a scale score of 8) on the measures of word problem solving and number naming speed were considered “at risk” and eligible for further screen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0:41:57Z</dcterms:created>
  <dc:creator>KATHLEEN M BOCIAN</dc:creator>
  <dc:description/>
  <dc:language>en-US</dc:language>
  <cp:lastModifiedBy>Jdabrowski</cp:lastModifiedBy>
  <dcterms:modified xsi:type="dcterms:W3CDTF">2010-07-02T16:28:16Z</dcterms:modified>
  <cp:revision>179</cp:revision>
  <dc:subject/>
  <dc:title>The Development of Math, Problems Solving, and Reading Skills  in Elementary Grades</dc:title>
</cp:coreProperties>
</file>