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7743B9-2362-43FE-B148-32B45C2C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76EE6C-E1B7-4482-A711-5657BC48F43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BFCA49-176B-4CB6-AF6F-95AF4D8297D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68623C-77A2-4DF1-8CF4-FF5C9E3C82B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F3037D-DA56-41B6-8D9F-B924D52BF1B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71D820-B979-44DD-A2A6-2C5EE219AAA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E981F6-4A8C-4DB1-B11D-4F6580EF7CB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8CA876-26F0-4E77-B157-B74763FF818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64218C-9205-45DA-8B7D-C43240CF6E5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BF2823-2F86-4569-9328-E5AB2E0AF75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E84-E0E4-4D4E-8B9E-FDF0C886CE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A8A97D-50ED-44A5-A597-727C980AA7D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660EC9-305A-4A17-8DFA-D674023FB72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BCB7BC-6018-49EC-844B-E1B429EB706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B39351-3911-47F7-9AA4-D8FD473DC31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EAB8CD-C2A4-4A68-9B2B-F7D1A0C8938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1F688E-75C9-4464-8D1B-65908A0F343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FB666B-CD56-4416-8603-45C6B0F6A99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7EE207-0F73-42EE-A72E-EC6961782E1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CBE77-3C56-43D6-8773-33D500F57C8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59CFE5-B0F0-4285-93C7-9288B5E6F4E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083-098A-4E4F-AB87-49ABEE13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387-AE5C-4900-997F-F81836E5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C87-D692-4970-97F5-E8ADCFDE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26E-BFD3-4DBE-99CA-BDE0407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4FE-D69D-4335-81EC-ED521783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72E-2EC3-4729-80E2-89CA375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A3C7-0089-404E-840B-35E9073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723-032F-4E30-B094-19377226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127C-F5F8-4025-B4DE-8003384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95C0-DE5C-47EB-AB51-BA8C4437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413D-EB48-4843-ACF4-EF11F19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E34-FFB9-497F-99B9-4001166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C43-F9F2-4BD3-B34C-52F3D8E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FE75-5E21-464E-86A3-292894D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CFB8-9A52-4383-87FF-6DA18CD7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0869-9FBC-437C-A317-86EF8C3B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AC8C-CB65-4229-A856-E51B86AC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C4E-8068-44EC-B70C-E7CDAFB0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343-A63E-4C91-B28A-1BDFD98A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CB7-D15B-4315-891B-98D3197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B10-9A44-423F-B50E-7ECE940D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A13-5684-4E1F-A153-641D097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C54-DBFD-4D92-BE7F-0DAFC26E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1B0-8966-40F9-BAFF-FBF027D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33FD-FB00-4393-A677-C7E8D012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ED9-04C3-4192-9E12-040D40543F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3716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eacher-Designed Incentive Pay in Texa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Presentation to the IES Research Conferenc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ori L. Taylo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Parts to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1 funds (75%) provide incentive awards for full-time teach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 2 funds (25%) provide incentive awards to other school personnel, or fund professional development, mentoring programs, new teacher induction, etceter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idelines for Part 1 Incen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 awards must be based 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ccess in improving student performance by objective measures, 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llaboration with faculty and staff that contributes to improving overall student performance at the camp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s can also be based 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achers’ on-going initiative, commitment, and professional involvement in activities that have a direct impact on student achievement,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signment to a hard-to-staff subject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1 incentives should be at least $3,000 and no more than $10,000 per teac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idelines for Part 2 Incen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2 funding may be given to any school  personn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did not receive Part 1 awar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contributed to improving student perform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o were not athletic coach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2 funding may also be used fo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fessional developm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gning bonu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acher mentoring progr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teacher induction progra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unding for feeder campu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other program that directly contributes to improving student perform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chool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Was Eligibl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G Schools in the top third with respect to the share of economically disadvantaged stud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81.3% for elementary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70.5% for all grade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65.4% for middle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t least 55.8% for high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EG schools in the top hal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udent Demographics, 2005-06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Object 5" descr=""/>
          <p:cNvPicPr/>
          <p:nvPr/>
        </p:nvPicPr>
        <p:blipFill>
          <a:blip r:embed="rId1"/>
          <a:stretch/>
        </p:blipFill>
        <p:spPr>
          <a:xfrm>
            <a:off x="225360" y="1314360"/>
            <a:ext cx="86536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Performance Criter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perform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ated Recognized or Exemplary, 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gh TAKS passing rates if it is a registered alternative education camp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improv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top quartile of Comparable Improvement for math and read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 tried for balance of high performing and high improving by grad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inding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Proposed Distribution of GEEG Teacher Awa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463680" y="1616040"/>
            <a:ext cx="822960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3520" y="649116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ource: GEEG applications submitted to TEA for 93 schools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Distribution of GEEG Awa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ONAL CENTER ON PERFORMANCE INCENTIV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resentation of Ongoing Research by th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ontent Placeholder 5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28600" y="1905120"/>
            <a:ext cx="861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Content Placeholder 5"/>
          <p:cNvSpPr/>
          <p:nvPr/>
        </p:nvSpPr>
        <p:spPr>
          <a:xfrm>
            <a:off x="380880" y="167652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Object 8" descr=""/>
          <p:cNvPicPr/>
          <p:nvPr/>
        </p:nvPicPr>
        <p:blipFill>
          <a:blip r:embed="rId1"/>
          <a:stretch/>
        </p:blipFill>
        <p:spPr>
          <a:xfrm>
            <a:off x="380880" y="1803240"/>
            <a:ext cx="8560080" cy="4699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istribution of TEEG Awa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eterminants of Individual Awa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teachers in GEEG and TEEG schools received an awa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ly-arrived teachers received significantly smaller aw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experience and educational attainment generally unrelated to teacher awar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in tested grades and subjects received larger aw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donic Model of Teacher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ce and gend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ars of exper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al attai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aching sta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ion sta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l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ing assig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et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CES CW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employment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fixed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acher Turnover in Tex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ividual Awards and Teacher 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are presumed to know by the end of the school year whether or not they will receive an award the following fall, and if so, how mu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who anticipate no award are much more likely to turno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robability of turnover falls as the size of the award increas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Impact of Individual GEEG Awards on Teacher Turno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Impact of GEEG on Student Performa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-stage analysis strate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rst stage estimates school effects by year from individual student da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EG and nonGEEG schoo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th and reading test score gai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thin-transformed d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stage estimates the impact of program characteristics on school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EG schools on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mpus fixed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udent demographics and school resou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s on GEEG Student Perform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ly insignificant differences in student outcomes across incentive structur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mall number of schools in the GEEG program and noise in the outcome measures could be masking significant eff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Impact of TEEG on Student Perform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wo estimation strateg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dividual student fixed effec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gression discontinuity analysi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evidence of systematic eff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h Gain Score for “Acceptable” CI Elementa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69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is Incentive Pay Interest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rit pay / Pay for performance is a popular school reform initiati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nver public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w York City public schoo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ston IS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ory suggests that well designed incentive pay programs could improve school effectivene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 schools were already high perform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s designed weak incentiv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evidence of impact on student performa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suming that award recipients were more effective in the classroom than non-recipients, GEEG and TEEG increased retention of teachers schools particularly wished to retai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Do We Know About Incentive Desig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ltiple prizes can be more effective than a single priz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man and Gelber (2006), Harbring and Irlenbusch (2003), Vandegrift et al. (2007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dual incentives more effective than group incen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reeman and Gelber(2006), Nalbantian and Schotter (1997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p incentives more effective in at least some sit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illemi (2008), Encinosa, Gaynor and Rebitzer (2007), Lavy (2004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p and individual incentives equally effec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uralidharan and Sundararaman (2006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centive Pay Plans in Texas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or’s Educator Excellence Grants Program (GEE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0 million per year in federal funding for high performing schools serving low income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-year commit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xas Educator Excellence Grant Program (TEE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00 million per year in state funding for high performing schools serving low income stud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trict Awards for Teaching Excellence (DAT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$147.5 million per year in state funding for any Texas district or independent charter school willing to provide matching fun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GEEG and TEE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gram Guidel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was voluntar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entive plans must be developed and approved by a school-based committee with significant teacher particip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t least 3 teachers must write letters of support for the pl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entive plans must be approved by both the district and the local school bo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EG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-competitive, three-year grants to 99 schoo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rd year of grants distributed fall 200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$60,000 to $220,000 per year, based on fall enrollments in 2004-0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verage award 5.1% of instructional payroll in 2005-0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wards range from 2.6% to 16.5% of instructional payrol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G Fund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n-competitive, one-year grants to 1,000+ schoo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ee Cycles of fun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1 eligibility based on 2004-0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2 eligibility based on 2005-0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ycle 3 eligibility based on 2006-0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$40,000 to $295,000 per year, based on fall enrollments in eligibility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1:59:16Z</dcterms:created>
  <dc:creator>lori taylor</dc:creator>
  <dc:description/>
  <dc:language>en-US</dc:language>
  <cp:lastModifiedBy>Authorised User</cp:lastModifiedBy>
  <dcterms:modified xsi:type="dcterms:W3CDTF">2010-07-06T12:59:30Z</dcterms:modified>
  <cp:revision>150</cp:revision>
  <dc:subject/>
  <dc:title>Pay for Performance in Texas: Evaluating the First Year of the GEEG Program</dc:title>
</cp:coreProperties>
</file>