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184A00-8378-44F8-A036-8072D371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827627-1B97-4B8A-B12C-61272B23C5C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D0A701-AF2E-48C2-B374-D9C29E64CFE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E4D7B2-4814-403F-BC47-9932B631D6D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4B8498-0450-4A27-AD43-5AEE7FA1E36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85141E-68A5-4779-99D2-2CEA0AF45A4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CCFAF9-6F27-488E-A147-3F2C5F0D597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A3B894-77A1-48D8-9954-5443726D17D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903B8D-A674-41C7-8684-ADB818476DA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12B7AD-A002-4F57-A126-7002A8A9635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7299-FE5D-46F2-AC23-4382FF1C6E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D127F-1A24-4B36-B1FB-5EEDE0AB56D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4D7CA5-A8C0-4019-B5B2-053AA028DC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592B59-7092-4A7A-A92A-4433F5FA554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638DB-59BE-40F7-B305-6848FDA2006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8C32E0-7F2C-456E-A1F2-333BF9965EB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BBEB83-9A28-4665-9A85-5F792B817D6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BA20E1-2B3A-4AC6-98FA-2552F1D542B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683069-ABB0-45D2-BB4E-AFD7CA45657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89BB8C-18BB-4CC5-B1AD-45F544BF3B8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FA634D-40BF-4F43-8EA6-2A631909D17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649-FA06-4BAA-ADD1-65EFE25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E15-19ED-40A9-BC28-F6D8180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113-5FB2-4DAE-B2D6-8E37C7F1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27F-8BB2-44E3-BE85-EDE0D3AF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ED93-31DC-4EE0-900D-2B792245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317F-4785-4D0C-BC93-7521670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633-BC35-4F32-9708-507E6E6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19C-4558-4082-890D-486593F7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D387-CB7F-4CB5-AE94-89F9C00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B47-BC92-4AB7-A524-857FEBDB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BE0E-22E4-46FE-88D5-2E856B0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F19-301A-4E2E-9AE1-D34989A8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282-B125-485F-A902-FDFDB60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556-4159-487F-9E52-78FA9AE9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66D3-C8A5-48CC-8B6D-7B10069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A9DF-155C-4C6A-9C4B-B5386057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0A99-D95C-42EF-AC5A-1F89113A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3A7-98CD-46C1-BD3B-912B568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D9D-CCC4-4378-BD22-83111E2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724-CB5B-4A7D-B08C-26F0855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46F-06EB-4B11-AF43-1F28DE53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2CC-0EDC-473F-9F51-2EF8A0D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198-1504-47D7-8F59-FC208DA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951-B53D-4E88-A370-F096E9BE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C60-4C60-42EF-B95D-EE0C83294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6083-30A8-432F-A4E3-269F8CE235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eacher-Designed Incentive Pay in Texa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Presentation to the IES Research Conferenc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ri L. Taylo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Parts to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1 funds (75%) provide incentive awards for full-time teach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2 funds (25%) provide incentive awards to other school personnel, or fund professional development, mentoring programs, new teacher induction, etceter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idelines for Part 1 Incen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 awards must be based 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ccess in improving student performance by objective measures, 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llaboration with faculty and staff that contributes to improving overall student performance at the camp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s can also be based 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achers’ on-going initiative, commitment, and professional involvement in activities that have a direct impact on student achievement,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signment to a hard-to-staff subject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s should be at least $3,000 and no more than $10,000 per teac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idelines for Part 2 Incen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2 funding may be given to any school  personn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did not receive Part 1 awar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contributed to improving student perform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ere not athletic coach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2 funding may also be used fo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fessional developm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gning bonu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acher mentoring progr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teacher induction progr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unding for feeder campu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other program that directly contributes to improving student perform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chool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Was Eligibl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G Schools in the top third with respect to the share of economically disadvantaged stud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81.3% for elementary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70.5% for all grade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65.4% for middle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55.8% for high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EG schools in the top hal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udent Demographics, 2005-06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Object 5" descr=""/>
          <p:cNvPicPr/>
          <p:nvPr/>
        </p:nvPicPr>
        <p:blipFill>
          <a:blip r:embed="rId1"/>
          <a:stretch/>
        </p:blipFill>
        <p:spPr>
          <a:xfrm>
            <a:off x="225360" y="1314360"/>
            <a:ext cx="86536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Performance Criter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perform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ated Recognized or Exemplary, 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TAKS passing rates if it is a registered alternative education camp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improv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top quartile of Comparable Improvement for math and read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 tried for balance of high performing and high improving by grad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inding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Proposed Distribution of GEEG Teacher Awa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463680" y="1616040"/>
            <a:ext cx="822960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3520" y="649116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ource: GEEG applications submitted to TEA for 93 schools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Distribution of GEEG Awa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ONAL CENTER ON PERFORMANCE INCENTIV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resentation of Ongoing Research by t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ontent Placeholder 5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28600" y="1905120"/>
            <a:ext cx="861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Content Placeholder 5"/>
          <p:cNvSpPr/>
          <p:nvPr/>
        </p:nvSpPr>
        <p:spPr>
          <a:xfrm>
            <a:off x="380880" y="167652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Object 8" descr=""/>
          <p:cNvPicPr/>
          <p:nvPr/>
        </p:nvPicPr>
        <p:blipFill>
          <a:blip r:embed="rId1"/>
          <a:stretch/>
        </p:blipFill>
        <p:spPr>
          <a:xfrm>
            <a:off x="380880" y="1803240"/>
            <a:ext cx="8560080" cy="4699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istribution of TEEG Awa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eterminants of Individual Awa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teachers in GEEG and TEEG schools received an aw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ly-arrived teachers received significantly smaller aw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experience and educational attainment generally unrelated to teacher aw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in tested grades and subjects received larger aw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donic Model of Teacher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ce and gen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ars of exper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al attai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aching sta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ion sta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l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ing assig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et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CES CW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employment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fixed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acher Turnover in Tex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ividual Awards and Teacher 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are presumed to know by the end of the school year whether or not they will receive an award the following fall, and if so, how mu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who anticipate no award are much more likely to turno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robability of turnover falls as the size of the award increas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Impact of Individual GEEG Awards on Teacher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Impact of GEEG on Student Performa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-stage analysis strate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rst stage estimates school effects by year from individual student da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EG and nonGEEG schoo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th and reading test score gai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thin-transformed d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stage estimates the impact of program characteristics on school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EG schools on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mpus fixed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udent demographics and school resou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s on GEEG Student Perform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ly insignificant differences in student outcomes across incentive structur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mall number of schools in the GEEG program and noise in the outcome measures could be masking significant eff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Impact of TEEG on Student Perform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wo estimation strateg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dividual student fixed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gression discontinuity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evidence of systematic eff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h Gain Score for “Acceptable” CI Elementa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69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is Incentive Pay Interest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rit pay / Pay for performance is a popular school reform initiati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nver public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w York City public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ston IS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ory suggests that well designed incentive pay programs could improve school effectivene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 schools were already high perform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designed weak incen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evidence of impact on student perform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suming that award recipients were more effective in the classroom than non-recipients, GEEG and TEEG increased retention of teachers schools particularly wished to retai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Do We Know About Incentive Desig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ltiple prizes can be more effective than a single priz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man and Gelber (2006), Harbring and Irlenbusch (2003), Vandegrift et al. (2007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dual incentives more effective than group incen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man and Gelber(2006), Nalbantian and Schotter (1997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p incentives more effective in at least some sit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illemi (2008), Encinosa, Gaynor and Rebitzer (2007), Lavy (2004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p and individual incentives equally effe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uralidharan and Sundararaman (2006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centive Pay Plans in Texa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or’s Educator Excellence Grants Program (GEE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0 million per year in federal funding for high performing schools serving low income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-year commit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xas Educator Excellence Grant Program (TEE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00 million per year in state funding for high performing schools serving low income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trict Awards for Teaching Excellence (DAT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47.5 million per year in state funding for any Texas district or independent charter school willing to provide matching fun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GEEG and TEE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gram Guidel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was voluntar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entive plans must be developed and approved by a school-based committee with significant teacher particip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t least 3 teachers must write letters of support for the pl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entive plans must be approved by both the district and the local school bo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EG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-competitive, three-year grants to 99 schoo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rd year of grants distributed fall 200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$60,000 to $220,000 per year, based on fall enrollments in 2004-0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verage award 5.1% of instructional payroll in 2005-0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wards range from 2.6% to 16.5% of instructional payrol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G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-competitive, one-year grants to 1,000+ schoo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Cycles of fun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1 eligibility based on 2004-0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2 eligibility based on 2005-0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3 eligibility based on 2006-0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$40,000 to $295,000 per year, based on fall enrollments in eligibility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1:59:16Z</dcterms:created>
  <dc:creator>lori taylor</dc:creator>
  <dc:description/>
  <dc:language>en-US</dc:language>
  <cp:lastModifiedBy>Authorised User</cp:lastModifiedBy>
  <dcterms:modified xsi:type="dcterms:W3CDTF">2010-07-06T12:59:30Z</dcterms:modified>
  <cp:revision>150</cp:revision>
  <dc:subject/>
  <dc:title>Pay for Performance in Texas: Evaluating the First Year of the GEEG Program</dc:title>
</cp:coreProperties>
</file>