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7EC-8D66-4813-B0A0-BABC961A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2A2-A00F-4A1A-B819-CBE46708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26E-550E-4EC7-9B63-0DC69D98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C2A-E01B-4E9B-9F29-BF500B95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DE6-FCEC-40F8-9E48-A14AD6EB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955-75BD-4F09-99C6-BE33893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D54-896B-42B4-BD13-064B9EA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EF1-704D-459E-8E09-2D4E2755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24F-98F2-42D4-B972-10A2636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D76-0D51-4A0E-826F-432205E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AA0-825F-4942-B1CB-088E0A5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418-5127-4CE0-9C60-09EE8D8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676-DE77-479F-B25D-BF0BEAF3B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ome Lessons Learned in Conducting Scientific Research on Behavior Disorders within Applied School Context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312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Hill M. Walker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Institute on Violence and Destructive Behavi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College of Education, University of Oreg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and The School Behavior Disorders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Oregon Research Instit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Eugene, Oreg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The Fifth Annual Institute of Education Sciences (I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Research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June, 2010 – National Harbor, M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~1\annt\LOCALS~1\Temp\moz-screenshot-15.jpg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Continuing Challenges for Advocates of</a:t>
            </a:r>
            <a:br>
              <a:rPr sz="2500"/>
            </a:b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Single Subject vs. Randomized Control Research Desig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7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eed to demonstrate positive impact on individuals while  also addressing population-based questions relating to public safety, health, education, social policy and so fo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idman (2006) notes tha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Influencing large groups is not where applied behavior analysis has made its greatest impact and prog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ot all problems are subject to the same kinds of solutions and approa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eed to address the challenge of achieving widespread behavior change simultaneous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idman call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lternative approaches that can accomplish broad, population-based changes and adoption of new innov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xample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Epidemi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ctuarial-based decision-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caling up promising interventions to evaluate their efficacy and effec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Large-scale studies of policy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ferencing Outcomes in Behavioral Disorders to Macro-Societal Issues an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1)  Can the BD field more directly target issues and problems of urgent societal concer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chool saf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Bullying, mean-spirited teasing, sexual hara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Delin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ang memb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chool drop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Youth viol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Drug ab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Calibri"/>
              </a:rPr>
              <a:t>Referencing Outcomes in Behavioral Disorders to Macro-Societal Issues and Problems (continued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2)  Can the BD field implement outcome measures of these problems as part of documenting intervention effec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Examples of Longitudinal Initiatives that have done s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erry Preschool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Hawkins &amp; Catalano 12- to 20-year intervention follow-up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ast Tr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lds Nurse Home Visit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Randomized Control Trials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nd Critical Err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CTs defined--Randomized Controlled Trials are studies that randomly assign individuals to an intervention group or to a control group, in order to measure effects of the intervention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CTs are considered the surest way to avoid making serious errors on heath, education and policy issues that can affect the public health and saf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re/post only and control-comparison studies often produce erroneous conclusion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Random assignment allows one to evaluate whether the intervention itself, or some other set of factors, causes the observed outcom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dous Huxle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he Single Greatest Tragedy of Science is the Cold-Blooded Slaying of a Beautiful Theory by an Ugly Fac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andomized Control Trials are often the Cruel Means by Which this Tragedy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eminal RCT-Derived Medical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nd Educational Find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edical: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accines for polio, measles, and hepatitis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nterventions for hypertension and high ch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ancer (Hodgkins, leukemia, multiple myelo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Education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educed class sizes in grades K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eading improvement and phon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igh quality early childhood development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Use of RCTs in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ducational Contex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searchers have had considerable difficulty in selling RCTs to school administra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s a rule, educational decision-makers will insist on use of wait-list control group designs in whi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    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1) usual care controls receive the same intervention within one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chool yea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   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(2) long-term followup assessments are thus not possible.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When parents and/or teachers discover they are in a control group condition, participant dropout is much more lik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eachers in control conditions are often motivated to enhance options for target participants to compensate for their not having access to an intervention perceived as benefic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artoons-2"/>
          <p:cNvPicPr/>
          <p:nvPr/>
        </p:nvPicPr>
        <p:blipFill>
          <a:blip r:embed="rId1"/>
          <a:stretch/>
        </p:blipFill>
        <p:spPr>
          <a:xfrm>
            <a:off x="236232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choo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Factors that Influence Educator Adoption of New Pract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its seamlessly into ongoing school rout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nsistent with school and educat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Universal versus target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olves a high priority problem or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ime and effort costs are reason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eacher perceives s/he has the skills and resources to apply practice eff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w-Ivdbgols-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Single Case vs. Randomized Control Trials </a:t>
            </a:r>
            <a:br>
              <a:rPr sz="2500"/>
            </a:b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in Demonstrating Efficacy-Effectiveness of Interventions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ingle Case Method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alysis of level and slope changes between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arget single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ntinuous recording of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5120" y="1600200"/>
            <a:ext cx="38116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andomized Control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mparison of group averages and variabilit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andom assignment to treatment &amp; contro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, Post, Follow-up administration of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038480" y="28195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"/>
          <p:cNvSpPr/>
          <p:nvPr/>
        </p:nvSpPr>
        <p:spPr>
          <a:xfrm>
            <a:off x="4038480" y="40384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038480" y="5257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001000" cy="259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ingle Case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Allows daily inspection of co-variation of Independent and Dependent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Visual inspection of intervention effects across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Strong internal val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47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andomized Control T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Allows subgroup analyses of variations in subject group perform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Allows calculation of effect size estimates of magnitude of treatment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Strong external valid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ss De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RCT De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xample of the Sensitivity and Valu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f Using a Single Subject Design in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nderstanding Teacher FS Implementation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irst Step Fidelity Study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Rob Horner and Colleag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152280" y="152280"/>
            <a:ext cx="8991720" cy="6705720"/>
            <a:chOff x="152280" y="152280"/>
            <a:chExt cx="8991720" cy="6705720"/>
          </a:xfrm>
        </p:grpSpPr>
        <p:pic>
          <p:nvPicPr>
            <p:cNvPr id="92" name="Picture 21" descr=""/>
            <p:cNvPicPr/>
            <p:nvPr/>
          </p:nvPicPr>
          <p:blipFill>
            <a:blip r:embed="rId1"/>
            <a:stretch/>
          </p:blipFill>
          <p:spPr>
            <a:xfrm>
              <a:off x="783360" y="4245840"/>
              <a:ext cx="7895880" cy="26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625320" y="475200"/>
              <a:ext cx="7895880" cy="23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"/>
            <p:cNvPicPr/>
            <p:nvPr/>
          </p:nvPicPr>
          <p:blipFill>
            <a:blip r:embed="rId3"/>
            <a:stretch/>
          </p:blipFill>
          <p:spPr>
            <a:xfrm>
              <a:off x="783360" y="2198880"/>
              <a:ext cx="7887600" cy="24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24"/>
            <p:cNvSpPr txBox="1"/>
            <p:nvPr/>
          </p:nvSpPr>
          <p:spPr>
            <a:xfrm rot="16200000">
              <a:off x="-1500840" y="3313080"/>
              <a:ext cx="3464280" cy="15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ercent of Intervals with Problem Behavior &amp; Percent Fidelity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6777720" y="1121760"/>
              <a:ext cx="20505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ar shows coach present, feedback after observ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6"/>
            <p:cNvSpPr/>
            <p:nvPr/>
          </p:nvSpPr>
          <p:spPr>
            <a:xfrm>
              <a:off x="6777000" y="1122120"/>
              <a:ext cx="177840" cy="107640"/>
            </a:xfrm>
            <a:custGeom>
              <a:avLst/>
              <a:gdLst>
                <a:gd name="textAreaLeft" fmla="*/ 54720 w 177840"/>
                <a:gd name="textAreaRight" fmla="*/ 123120 w 177840"/>
                <a:gd name="textAreaTop" fmla="*/ 41400 h 107640"/>
                <a:gd name="textAreaBottom" fmla="*/ 82800 h 107640"/>
              </a:gdLst>
              <a:ahLst/>
              <a:rect l="textAreaLeft" t="textAreaTop" r="textAreaRight" b="textAreaBottom"/>
              <a:pathLst>
                <a:path w="211" h="180">
                  <a:moveTo>
                    <a:pt x="0" y="69"/>
                  </a:moveTo>
                  <a:lnTo>
                    <a:pt x="81" y="69"/>
                  </a:lnTo>
                  <a:lnTo>
                    <a:pt x="106" y="0"/>
                  </a:lnTo>
                  <a:lnTo>
                    <a:pt x="130" y="69"/>
                  </a:lnTo>
                  <a:lnTo>
                    <a:pt x="211" y="69"/>
                  </a:lnTo>
                  <a:lnTo>
                    <a:pt x="146" y="111"/>
                  </a:lnTo>
                  <a:lnTo>
                    <a:pt x="171" y="180"/>
                  </a:lnTo>
                  <a:lnTo>
                    <a:pt x="106" y="138"/>
                  </a:lnTo>
                  <a:lnTo>
                    <a:pt x="40" y="180"/>
                  </a:lnTo>
                  <a:lnTo>
                    <a:pt x="65" y="11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309960" y="152280"/>
              <a:ext cx="8834040" cy="4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acher Fidelity of Implementation and Student Problem Behavior during First Step and First Step Plus Coach Feedba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ree-Stage Research and Development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Research Setting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Experimental Classro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Regular Classroom and Playground Set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ield Test Set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arget Behavior Disor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Acting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eer Aggr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ocial Withdraw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Academic Survival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ach Completed Behavior Management Package Contai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1)  Program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2)  Consultant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3)  Teacher Manual and/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4)  Playground Supervisor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ervention Delivery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Local Program Coordinator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Masters package content and procedures, recruits behavioral coaches to implement program, maintains liaison-coordinator r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Behavioral Coach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Screens and recruits target participants, teachers and classrooms, sets up intervention program, transfers control to teacher or playground supervis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lassroom Teacher-Playground Supervisor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Assumes control of program’s operation after behavioral coach transfers it, works with coach to trouble shoot progr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arget Student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Participates in and cooperates with program during imple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arents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provide support and home rewards throughout program’s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Reprogramming Environmental Contingencies for Effective Social Skills: An Early Intervention for Aggressive Young Childr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Age-Grade Range:  K-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Key Component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Social Skills Trai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Praise, Points and Feedbac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Group Rewards at School – Individual Rewards at Ho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Response 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Daily Debriefing and Coach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Duration:  3 mont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Target Setting:  Play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pics to C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Pressures Driving Demands for Scientific Research Outcomes in School Set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Single-Case vs. Randomized Controlled Trials as Vehicles for Conducting Scientific Research in Sch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Integrating Single Subject and RCT Designs in a 3-Stage Research and Development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Some Conditions Necessary for a Randomized Control Trial to be Successful in Schools Contex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lassroom Picture003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igure014"/>
          <p:cNvPicPr/>
          <p:nvPr/>
        </p:nvPicPr>
        <p:blipFill>
          <a:blip r:embed="rId1"/>
          <a:stretch/>
        </p:blipFill>
        <p:spPr>
          <a:xfrm>
            <a:off x="914400" y="1219320"/>
            <a:ext cx="73515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igure-a002"/>
          <p:cNvPicPr/>
          <p:nvPr/>
        </p:nvPicPr>
        <p:blipFill>
          <a:blip r:embed="rId1"/>
          <a:stretch/>
        </p:blipFill>
        <p:spPr>
          <a:xfrm>
            <a:off x="2057400" y="371520"/>
            <a:ext cx="503856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igure-a014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igure-a012"/>
          <p:cNvPicPr/>
          <p:nvPr/>
        </p:nvPicPr>
        <p:blipFill>
          <a:blip r:embed="rId1"/>
          <a:stretch/>
        </p:blipFill>
        <p:spPr>
          <a:xfrm>
            <a:off x="838080" y="685800"/>
            <a:ext cx="775188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igure-a003"/>
          <p:cNvPicPr/>
          <p:nvPr/>
        </p:nvPicPr>
        <p:blipFill>
          <a:blip r:embed="rId1"/>
          <a:stretch/>
        </p:blipFill>
        <p:spPr>
          <a:xfrm>
            <a:off x="2209680" y="0"/>
            <a:ext cx="5156280" cy="66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igure-a008"/>
          <p:cNvPicPr/>
          <p:nvPr/>
        </p:nvPicPr>
        <p:blipFill>
          <a:blip r:embed="rId1"/>
          <a:stretch/>
        </p:blipFill>
        <p:spPr>
          <a:xfrm>
            <a:off x="1523880" y="6094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igure-a017"/>
          <p:cNvPicPr/>
          <p:nvPr/>
        </p:nvPicPr>
        <p:blipFill>
          <a:blip r:embed="rId1"/>
          <a:stretch/>
        </p:blipFill>
        <p:spPr>
          <a:xfrm>
            <a:off x="1981080" y="609480"/>
            <a:ext cx="5715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igure015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For an RCT to be successful in today’s schools, we believe certain conditions should be in place as listed below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1) The host school district(s) should be at a point where it is receptive to the innovation being tested and is open to a collaborative partnership in a trial test of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2) Key educational decision makers need to be on board in supporting the study and be able to clearly see its benef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57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actors Driving Interest in EB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tional Legislation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 Child Left Beh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dividuals with Disabilities Education Act (2004 Reauthoriz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urt Man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reats to Schoo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Calibri"/>
              </a:rPr>
              <a:t>(3) There has to be a local champion or champions who are in a powerful position to support and advocate for the interven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Calibri"/>
              </a:rPr>
              <a:t>(4) The host site and the investigative team need to be willing to negotiate the terms of the RCT so that its strength and integrity are not compromis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060"/>
                </a:solidFill>
                <a:latin typeface="Calibri"/>
              </a:rPr>
              <a:t>(5) The intervention approach or strategy needs to be well manualized to facilitate training of key staff and to allow a high quality implementa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6) It is essential that staff from the host school districts be hired, whenever possible, in conducting the study so as to motivate district investment in and ownership of the stud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7) It is of the utmost importance that all RCT study staff display good citizenship and maintain excellent communications and working relationships with host district decision makers and key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8) It may become increasingly important to compare the intervention with another active intervention to enable policy-makers, both inside and outside the host district, to make informed decisions about its adoption potential at the conclusion of the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actors 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Public Demand for Return on Investments in Feder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rowing Interest in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Especially as an Alternative to Specialized Accommodation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velopment of Quality Standards by Profess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velopment of innovations in better serving at-risk students has ramped up substantially in the past dec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3-tiered public health prevention model applied to school con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dvent in use of response to intervention approaches for screening, identification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trong interest by psychologists in conducting      school-based research on conduct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riority of adapting promising programs for routine usage in school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ere are Schools Re: 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ew Evidence-Based Practic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Until the past decade, schools have been slow to adopt proven or promising EB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ast majority of K-12 students have not accessed effective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merging pressures on educators to adopt and implement best and preferred practices that have a solid evidence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345960"/>
            <a:ext cx="7994520" cy="107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idging the Gap Between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search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7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Time lag between the availability of an EBP and its adoption and effective use on a broad scale within routine contexts can be va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Cure for scurvy (Rogers, 1995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Time lag in mental health is estimated to be 20 year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Time lag is at least this long in K-12 educ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Typical barriers to ado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Difficulty access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Philosophical obje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Resistance to chan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Innovation takes too much time and effo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hanged Landscape of Prevention Science and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ublic Demand for Reliable Evidence on What Works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creasing demand for large-scale prevention studies that demonstrate positive outc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ypically, RCTs are the preferred method of demonstrating such effec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Other types of methods and evidence are regarded as less rigoro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vention approaches and intervention studies that meet this standard are highly regarded and lead to many positive benef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lueprint Programs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23:00Z</dcterms:created>
  <dc:creator>Lund, Melanie (Contractor)</dc:creator>
  <dc:description/>
  <dc:language>en-US</dc:language>
  <cp:lastModifiedBy>Authorised User</cp:lastModifiedBy>
  <dcterms:modified xsi:type="dcterms:W3CDTF">2010-07-06T12:59:03Z</dcterms:modified>
  <cp:revision>65</cp:revision>
  <dc:subject/>
  <dc:title>Some Lessons Learned in Conducting Scientific Research on Behavior Disorders within Applied School Contexts</dc:title>
</cp:coreProperties>
</file>