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EF16-84FA-4FCC-962D-DB6E3736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D04-5337-49F9-AA8A-C52604A2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8E26-81AF-46CE-A619-FB00229C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037-ED0E-4AD6-AE53-1EA6C7E5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389A-3FE2-47AB-AB7E-01B91BAE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DB0-E5BA-4277-80DC-2C49F73E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36C-2CEC-4DF7-88F3-4C21A3B0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E0D-CEA3-48C2-9CA4-BD86292A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54A-DD57-4A2E-8BE9-748DF524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DAF-B49D-4464-9D8A-5E52E387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5E2E-6A52-4620-A597-FA1EABDE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72E8-7D1C-4AD4-AA15-E8D66B2F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9C32-EB5E-4D9A-808E-DF7BC9E4A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205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Some Lessons Learned in Conducting Scientific Research on Behavior Disorders within Applied School Contexts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3124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B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Hill M. Walker Ph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Institute on Violence and Destructive Behavi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College of Education, University of Oreg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and The School Behavior Disorders Grou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Oregon Research Institu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Eugene, Oreg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The Fifth Annual Institute of Education Sciences (I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Research Confer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June, 2010 – National Harbor, M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~1\annt\LOCALS~1\Temp\moz-screenshot-15.jpg"/>
          <p:cNvPicPr/>
          <p:nvPr/>
        </p:nvPicPr>
        <p:blipFill>
          <a:blip r:embed="rId2"/>
          <a:stretch/>
        </p:blipFill>
        <p:spPr>
          <a:xfrm>
            <a:off x="7162920" y="0"/>
            <a:ext cx="1981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70c0"/>
                </a:solidFill>
                <a:latin typeface="Calibri"/>
              </a:rPr>
              <a:t>Continuing Challenges for Advocates of</a:t>
            </a:r>
            <a:br>
              <a:rPr sz="2500"/>
            </a:br>
            <a:r>
              <a:rPr b="1" lang="en-US" sz="2500" spc="-1" strike="noStrike">
                <a:solidFill>
                  <a:srgbClr val="0070c0"/>
                </a:solidFill>
                <a:latin typeface="Calibri"/>
              </a:rPr>
              <a:t>Single Subject vs. Randomized Control Research Desig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73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Need to demonstrate positive impact on individuals while  also addressing population-based questions relating to public safety, health, education, social policy and so fo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Sidman (2006) notes tha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Influencing large groups is not where applied behavior analysis has made its greatest impact and progr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Not all problems are subject to the same kinds of solutions and approach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Need to address the challenge of achieving widespread behavior change simultaneous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5715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Sidman call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Alternative approaches that can accomplish broad, population-based changes and adoption of new innov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Examples ar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Epidemi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Actuarial-based decision-ma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Scaling up promising interventions to evaluate their efficacy and effectiv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Large-scale studies of policy deci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Referencing Outcomes in Behavioral Disorders to Macro-Societal Issues and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(1)  Can the BD field more directly target issues and problems of urgent societal concer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School safe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Bullying, mean-spirited teasing, sexual harass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Delinquen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Gang membershi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School drop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Youth viole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Drug abu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Calibri"/>
              </a:rPr>
              <a:t>Referencing Outcomes in Behavioral Disorders to Macro-Societal Issues and Problems (continued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(2)  Can the BD field implement outcome measures of these problems as part of documenting intervention effect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Examples of Longitudinal Initiatives that have done s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Perry Preschool Pr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Hawkins &amp; Catalano 12- to 20-year intervention follow-up stud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Fast Tr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Olds Nurse Home Visitation Mo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Randomized Control Trials 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and Critical Err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65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RCTs defined--Randomized Controlled Trials are studies that randomly assign individuals to an intervention group or to a control group, in order to measure effects of the intervention.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RCTs are considered the surest way to avoid making serious errors on heath, education and policy issues that can affect the public health and safe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Pre/post only and control-comparison studies often produce erroneous conclusion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Random assignment allows one to evaluate whether the intervention itself, or some other set of factors, causes the observed outcom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Aldous Huxle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32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The Single Greatest Tragedy of Science is the Cold-Blooded Slaying of a Beautiful Theory by an Ugly Fact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Randomized Control Trials are often the Cruel Means by Which this Tragedy Occ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eminal RCT-Derived Medical 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and Educational Findin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Medical: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vaccines for polio, measles, and hepatitis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interventions for hypertension and high ch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cancer (Hodgkins, leukemia, multiple myelom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Educational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reduced class sizes in grades K-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reading improvement and phon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high quality early childhood development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Use of RCTs in 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Educational Contex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Researchers have had considerable difficulty in selling RCTs to school administrato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As a rule, educational decision-makers will insist on use of wait-list control group designs in which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    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1) usual care controls receive the same intervention within one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school yea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    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(2) long-term followup assessments are thus not possible.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When parents and/or teachers discover they are in a control group condition, participant dropout is much more like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Teachers in control conditions are often motivated to enhance options for target participants to compensate for their not having access to an intervention perceived as benefici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artoons-2"/>
          <p:cNvPicPr/>
          <p:nvPr/>
        </p:nvPicPr>
        <p:blipFill>
          <a:blip r:embed="rId1"/>
          <a:stretch/>
        </p:blipFill>
        <p:spPr>
          <a:xfrm>
            <a:off x="2362320" y="0"/>
            <a:ext cx="56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chool Con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Factors that Influence Educator Adoption of New Practi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its seamlessly into ongoing school rout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Consistent with school and educator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Universal versus targeted inter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Solves a high priority problem or 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ime and effort costs are reason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eacher perceives s/he has the skills and resources to apply practice effectiv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bw-Ivdbgols-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32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01"/>
              </a:spcBef>
              <a:spcAft>
                <a:spcPts val="4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70c0"/>
                </a:solidFill>
                <a:latin typeface="Calibri"/>
              </a:rPr>
              <a:t>Single Case vs. Randomized Control Trials </a:t>
            </a:r>
            <a:br>
              <a:rPr sz="2500"/>
            </a:br>
            <a:r>
              <a:rPr b="1" lang="en-US" sz="2500" spc="-1" strike="noStrike">
                <a:solidFill>
                  <a:srgbClr val="0070c0"/>
                </a:solidFill>
                <a:latin typeface="Calibri"/>
              </a:rPr>
              <a:t>in Demonstrating Efficacy-Effectiveness of Interventions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Single Case Method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Analysis of level and slope changes between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Target single individu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Continuous recording of mea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5120" y="1600200"/>
            <a:ext cx="381168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Randomized Control T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Comparison of group averages and variability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Random assignment to treatment &amp; control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Pre, Post, Follow-up administration of mea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Line 5"/>
          <p:cNvSpPr/>
          <p:nvPr/>
        </p:nvSpPr>
        <p:spPr>
          <a:xfrm>
            <a:off x="4038480" y="281952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6"/>
          <p:cNvSpPr/>
          <p:nvPr/>
        </p:nvSpPr>
        <p:spPr>
          <a:xfrm>
            <a:off x="4038480" y="403848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7"/>
          <p:cNvSpPr/>
          <p:nvPr/>
        </p:nvSpPr>
        <p:spPr>
          <a:xfrm>
            <a:off x="4038480" y="5257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8001000" cy="259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Single Case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-Allows daily inspection of co-variation of Independent and Dependent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-Visual inspection of intervention effects across ph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-Strong internal valid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470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Randomized Control Tr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-Allows subgroup analyses of variations in subject group perform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-Allows calculation of effect size estimates of magnitude of treatment eff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-Strong external valid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ss De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RCT De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556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Example of the Sensitivity and Value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of Using a Single Subject Design in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Understanding Teacher FS Implementation</a:t>
            </a: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First Step Fidelity Study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(Rob Horner and Colleagu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6294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Group 20"/>
          <p:cNvGrpSpPr/>
          <p:nvPr/>
        </p:nvGrpSpPr>
        <p:grpSpPr>
          <a:xfrm>
            <a:off x="152280" y="152280"/>
            <a:ext cx="8991720" cy="6705720"/>
            <a:chOff x="152280" y="152280"/>
            <a:chExt cx="8991720" cy="6705720"/>
          </a:xfrm>
        </p:grpSpPr>
        <p:pic>
          <p:nvPicPr>
            <p:cNvPr id="92" name="Picture 21" descr=""/>
            <p:cNvPicPr/>
            <p:nvPr/>
          </p:nvPicPr>
          <p:blipFill>
            <a:blip r:embed="rId1"/>
            <a:stretch/>
          </p:blipFill>
          <p:spPr>
            <a:xfrm>
              <a:off x="783360" y="4245840"/>
              <a:ext cx="7895880" cy="261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22" descr=""/>
            <p:cNvPicPr/>
            <p:nvPr/>
          </p:nvPicPr>
          <p:blipFill>
            <a:blip r:embed="rId2"/>
            <a:stretch/>
          </p:blipFill>
          <p:spPr>
            <a:xfrm>
              <a:off x="625320" y="475200"/>
              <a:ext cx="7895880" cy="236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3" descr=""/>
            <p:cNvPicPr/>
            <p:nvPr/>
          </p:nvPicPr>
          <p:blipFill>
            <a:blip r:embed="rId3"/>
            <a:stretch/>
          </p:blipFill>
          <p:spPr>
            <a:xfrm>
              <a:off x="783360" y="2198880"/>
              <a:ext cx="7887600" cy="247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WordArt 24"/>
            <p:cNvSpPr txBox="1"/>
            <p:nvPr/>
          </p:nvSpPr>
          <p:spPr>
            <a:xfrm rot="16200000">
              <a:off x="-1500840" y="3313080"/>
              <a:ext cx="3464280" cy="15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Percent of Intervals with Problem Behavior &amp; Percent Fidelity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96" name="Text Box 25"/>
            <p:cNvSpPr/>
            <p:nvPr/>
          </p:nvSpPr>
          <p:spPr>
            <a:xfrm>
              <a:off x="6777720" y="1121760"/>
              <a:ext cx="2050560" cy="32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tar shows coach present, feedback after observation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AutoShape 26"/>
            <p:cNvSpPr/>
            <p:nvPr/>
          </p:nvSpPr>
          <p:spPr>
            <a:xfrm>
              <a:off x="6777000" y="1122120"/>
              <a:ext cx="177840" cy="107640"/>
            </a:xfrm>
            <a:custGeom>
              <a:avLst/>
              <a:gdLst>
                <a:gd name="textAreaLeft" fmla="*/ 54720 w 177840"/>
                <a:gd name="textAreaRight" fmla="*/ 123120 w 177840"/>
                <a:gd name="textAreaTop" fmla="*/ 41400 h 107640"/>
                <a:gd name="textAreaBottom" fmla="*/ 82800 h 107640"/>
              </a:gdLst>
              <a:ahLst/>
              <a:rect l="textAreaLeft" t="textAreaTop" r="textAreaRight" b="textAreaBottom"/>
              <a:pathLst>
                <a:path w="211" h="180">
                  <a:moveTo>
                    <a:pt x="0" y="69"/>
                  </a:moveTo>
                  <a:lnTo>
                    <a:pt x="81" y="69"/>
                  </a:lnTo>
                  <a:lnTo>
                    <a:pt x="106" y="0"/>
                  </a:lnTo>
                  <a:lnTo>
                    <a:pt x="130" y="69"/>
                  </a:lnTo>
                  <a:lnTo>
                    <a:pt x="211" y="69"/>
                  </a:lnTo>
                  <a:lnTo>
                    <a:pt x="146" y="111"/>
                  </a:lnTo>
                  <a:lnTo>
                    <a:pt x="171" y="180"/>
                  </a:lnTo>
                  <a:lnTo>
                    <a:pt x="106" y="138"/>
                  </a:lnTo>
                  <a:lnTo>
                    <a:pt x="40" y="180"/>
                  </a:lnTo>
                  <a:lnTo>
                    <a:pt x="65" y="11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 Box 27"/>
            <p:cNvSpPr/>
            <p:nvPr/>
          </p:nvSpPr>
          <p:spPr>
            <a:xfrm>
              <a:off x="309960" y="152280"/>
              <a:ext cx="8834040" cy="43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acher Fidelity of Implementation and Student Problem Behavior during First Step and First Step Plus Coach Feedback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Three-Stage Research and Development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Research Setting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Experimental Classro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Regular Classroom and Playground Sett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Field Test Sett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Target Behavior Disord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Acting 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Peer Aggre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Social Withdraw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Academic Survival Skil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Each Completed Behavior Management Package Contain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3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(1)  Program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spcAft>
                <a:spcPts val="3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(2)  Consultant Man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spcAft>
                <a:spcPts val="3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(3)  Teacher Manual and/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spcAft>
                <a:spcPts val="3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(4)  Playground Supervisor Man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Intervention Delivery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Local Program Coordinator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—Masters package content and procedures, recruits behavioral coaches to implement program, maintains liaison-coordinator ro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Behavioral Coach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—Screens and recruits target participants, teachers and classrooms, sets up intervention program, transfers control to teacher or playground superviso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Classroom Teacher-Playground Supervisor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—Assumes control of program’s operation after behavioral coach transfers it, works with coach to trouble shoot progra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Target Student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—Participates in and cooperates with program during implemen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Parents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—provide support and home rewards throughout program’s oper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E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76"/>
              </a:spcBef>
              <a:spcAft>
                <a:spcPts val="1426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Reprogramming Environmental Contingencies for Effective Social Skills: An Early Intervention for Aggressive Young Childr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spcAft>
                <a:spcPts val="1426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Age-Grade Range:  K-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spcAft>
                <a:spcPts val="1426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Key Components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spcAft>
                <a:spcPts val="1426"/>
              </a:spcAft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Social Skills Train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spcAft>
                <a:spcPts val="1426"/>
              </a:spcAft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Praise, Points and Feedback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spcAft>
                <a:spcPts val="1426"/>
              </a:spcAft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Group Rewards at School – Individual Rewards at Hom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spcAft>
                <a:spcPts val="1426"/>
              </a:spcAft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Response Co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76"/>
              </a:spcBef>
              <a:spcAft>
                <a:spcPts val="1426"/>
              </a:spcAft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Daily Debriefing and Coach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spcAft>
                <a:spcPts val="1426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Duration:  3 month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spcAft>
                <a:spcPts val="1426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Target Setting:  Playgro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opics to Co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Pressures Driving Demands for Scientific Research Outcomes in School Settin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Single-Case vs. Randomized Controlled Trials as Vehicles for Conducting Scientific Research in Schoo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Integrating Single Subject and RCT Designs in a 3-Stage Research and Development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Some Conditions Necessary for a Randomized Control Trial to be Successful in Schools Contex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lassroom Picture003"/>
          <p:cNvPicPr/>
          <p:nvPr/>
        </p:nvPicPr>
        <p:blipFill>
          <a:blip r:embed="rId1"/>
          <a:stretch/>
        </p:blipFill>
        <p:spPr>
          <a:xfrm>
            <a:off x="762120" y="838080"/>
            <a:ext cx="746748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Figure014"/>
          <p:cNvPicPr/>
          <p:nvPr/>
        </p:nvPicPr>
        <p:blipFill>
          <a:blip r:embed="rId1"/>
          <a:stretch/>
        </p:blipFill>
        <p:spPr>
          <a:xfrm>
            <a:off x="914400" y="1219320"/>
            <a:ext cx="735156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Figure-a002"/>
          <p:cNvPicPr/>
          <p:nvPr/>
        </p:nvPicPr>
        <p:blipFill>
          <a:blip r:embed="rId1"/>
          <a:stretch/>
        </p:blipFill>
        <p:spPr>
          <a:xfrm>
            <a:off x="2057400" y="371520"/>
            <a:ext cx="5038560" cy="64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Figure-a014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6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Figure-a012"/>
          <p:cNvPicPr/>
          <p:nvPr/>
        </p:nvPicPr>
        <p:blipFill>
          <a:blip r:embed="rId1"/>
          <a:stretch/>
        </p:blipFill>
        <p:spPr>
          <a:xfrm>
            <a:off x="838080" y="685800"/>
            <a:ext cx="7751880" cy="54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Figure-a003"/>
          <p:cNvPicPr/>
          <p:nvPr/>
        </p:nvPicPr>
        <p:blipFill>
          <a:blip r:embed="rId1"/>
          <a:stretch/>
        </p:blipFill>
        <p:spPr>
          <a:xfrm>
            <a:off x="2209680" y="0"/>
            <a:ext cx="5156280" cy="66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Figure-a008"/>
          <p:cNvPicPr/>
          <p:nvPr/>
        </p:nvPicPr>
        <p:blipFill>
          <a:blip r:embed="rId1"/>
          <a:stretch/>
        </p:blipFill>
        <p:spPr>
          <a:xfrm>
            <a:off x="1523880" y="609480"/>
            <a:ext cx="5505480" cy="56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Figure-a017"/>
          <p:cNvPicPr/>
          <p:nvPr/>
        </p:nvPicPr>
        <p:blipFill>
          <a:blip r:embed="rId1"/>
          <a:stretch/>
        </p:blipFill>
        <p:spPr>
          <a:xfrm>
            <a:off x="1981080" y="609480"/>
            <a:ext cx="57150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Figure015"/>
          <p:cNvPicPr/>
          <p:nvPr/>
        </p:nvPicPr>
        <p:blipFill>
          <a:blip r:embed="rId1"/>
          <a:stretch/>
        </p:blipFill>
        <p:spPr>
          <a:xfrm>
            <a:off x="1066680" y="914400"/>
            <a:ext cx="685800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Key Lessons Learned for Conducting Successful RCTs in School Sett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For an RCT to be successful in today’s schools, we believe certain conditions should be in place as listed below: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(1) The host school district(s) should be at a point where it is receptive to the innovation being tested and is open to a collaborative partnership in a trial test of i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(2) Key educational decision makers need to be on board in supporting the study and be able to clearly see its benefi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381880" cy="5745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Factors Driving Interest in EB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ational Legislation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o Child Left Beh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dividuals with Disabilities Education Act (2004 Reauthoriz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ourt Man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reats to School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Key Lessons Learned for Conducting Successful RCTs in School Settings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2060"/>
                </a:solidFill>
                <a:latin typeface="Calibri"/>
              </a:rPr>
              <a:t>(3) There has to be a local champion or champions who are in a powerful position to support and advocate for the intervention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2060"/>
                </a:solidFill>
                <a:latin typeface="Calibri"/>
              </a:rPr>
              <a:t>(4) The host site and the investigative team need to be willing to negotiate the terms of the RCT so that its strength and integrity are not compromised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060"/>
                </a:solidFill>
                <a:latin typeface="Calibri"/>
              </a:rPr>
              <a:t>(5) The intervention approach or strategy needs to be well manualized to facilitate training of key staff and to allow a high quality implementation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Key Lessons Learned for Conducting Successful RCTs in School Settings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(6) It is essential that staff from the host school districts be hired, whenever possible, in conducting the study so as to motivate district investment in and ownership of the stud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(7) It is of the utmost importance that all RCT study staff display good citizenship and maintain excellent communications and working relationships with host district decision makers and key staff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Key Lessons Learned for Conducting Successful RCTs in School Settings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(8) It may become increasingly important to compare the intervention with another active intervention to enable policy-makers, both inside and outside the host district, to make informed decisions about its adoption potential at the conclusion of the stu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Factors (continue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Public Demand for Return on Investments in Federal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Growing Interest in Pre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Especially as an Alternative to Specialized Accommodation and Special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Development of Quality Standards by Professional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630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Development of innovations in better serving at-risk students has ramped up substantially in the past dec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3-tiered public health prevention model applied to school con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dvent in use of response to intervention approaches for screening, identification and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Strong interest by psychologists in conducting      school-based research on conduct dis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Priority of adapting promising programs for routine usage in school pract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Where are Schools Re:  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New Evidence-Based Practic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Until the past decade, schools have been slow to adopt proven or promising EB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Imp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Vast majority of K-12 students have not accessed effective interven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Emerging pressures on educators to adopt and implement best and preferred practices that have a solid evidence b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345960"/>
            <a:ext cx="7994520" cy="1074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Bridging the Gap Between 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Research an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7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Time lag between the availability of an EBP and its adoption and effective use on a broad scale within routine contexts can be vas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-Cure for scurvy (Rogers, 1995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Time lag in mental health is estimated to be 20 year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-Time lag is at least this long in K-12 educatio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Typical barriers to ado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-Co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-Difficulty access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-Philosophical obje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-Resistance to chang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-Innovation takes too much time and effo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hanged Landscape of Prevention Science and 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Public Demand for Reliable Evidence on What Works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Increasing demand for large-scale prevention studies that demonstrate positive outco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Typically, RCTs are the preferred method of demonstrating such effec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Other types of methods and evidence are regarded as less rigorou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Prevention approaches and intervention studies that meet this standard are highly regarded and lead to many positive benefi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Blueprint Programs Ex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8:23:00Z</dcterms:created>
  <dc:creator>Lund, Melanie (Contractor)</dc:creator>
  <dc:description/>
  <dc:language>en-US</dc:language>
  <cp:lastModifiedBy>Authorised User</cp:lastModifiedBy>
  <dcterms:modified xsi:type="dcterms:W3CDTF">2010-07-06T12:59:03Z</dcterms:modified>
  <cp:revision>65</cp:revision>
  <dc:subject/>
  <dc:title>Some Lessons Learned in Conducting Scientific Research on Behavior Disorders within Applied School Contexts</dc:title>
</cp:coreProperties>
</file>