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025-27CB-45E1-89D4-96DF54C6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EE8-C16D-4B71-9586-87448DA7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749A-EDB4-4519-A0B1-33F66534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2C4-46A8-4FC1-A2DF-851E839F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5F4-678B-41D2-BDD2-B39C5C1EE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204A-D346-4BB9-A674-49B87B87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2136-5896-406A-B836-05C3D18A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8EFC-F5DE-4BA5-B807-B6B353D83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856A-0B95-4791-9433-E35B09256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3BE8-72C1-4540-9E49-38A9AAEC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235-AB71-4239-9F4C-9064A0A1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6F2F-ADAE-4B07-93C4-DAB5B8F4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9C24-1C04-4AA3-9AF2-AD65DC13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AE6-DA84-425F-96D0-4CF9B4A2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196-C08C-4EA4-8BDA-89FD1A02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546E-2DF2-4E55-90B6-882D722F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7A5-9748-4B58-A471-AFCF44558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7FC-73C8-46A5-A23E-3F901C59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smallicon2"/>
          <p:cNvPicPr/>
          <p:nvPr/>
        </p:nvPicPr>
        <p:blipFill>
          <a:blip r:embed="rId2"/>
          <a:stretch/>
        </p:blipFill>
        <p:spPr>
          <a:xfrm>
            <a:off x="76320" y="6010200"/>
            <a:ext cx="6886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2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23" descr="abr_header3"/>
          <p:cNvPicPr/>
          <p:nvPr/>
        </p:nvPicPr>
        <p:blipFill>
          <a:blip r:embed="rId2"/>
          <a:stretch/>
        </p:blipFill>
        <p:spPr>
          <a:xfrm>
            <a:off x="152280" y="5791320"/>
            <a:ext cx="8610840" cy="87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505320" y="4647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824040"/>
            <a:ext cx="85345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arning Communities for Students in Developmental Reading: An Impact Study at Hillsborough Community Colleg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1920" y="3124080"/>
            <a:ext cx="3124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 J. W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.weiss@mdrc.o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048120" y="3124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y Vis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y.visher@mdrc.or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91320" y="3124080"/>
            <a:ext cx="3124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her Wathing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Virgi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w4w@virginia.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895480" y="2743200"/>
            <a:ext cx="3124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81080" y="4572000"/>
            <a:ext cx="51055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0 Institute of Education Sciences Research Con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8-30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udy Sampl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00200" y="1447920"/>
          <a:ext cx="5948280" cy="4278240"/>
        </p:xfrm>
        <a:graphic>
          <a:graphicData uri="http://schemas.openxmlformats.org/drawingml/2006/table">
            <a:tbl>
              <a:tblPr/>
              <a:tblGrid>
                <a:gridCol w="4195800"/>
                <a:gridCol w="175248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25 years 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an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 one child or mor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family to attend colleg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d at baselin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llsborough’s Program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Co-enrolled students into two classe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al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Success Course (focusing on acclimation to college, study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Curricular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first, this was not explicitly part of thei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ime, efforts were made to add this learning community component (e.g., staff were sent to professional development, workshops were held at Hillsborou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gram Implemen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LC basic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ohorts (Fall 07, Spring 08, Fall 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learning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20 students per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Program uptake was lower than expect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 percent of program group students did not enroll in an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Integration of curriculum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not an initial focus at Hillsborough, but began to take hold in the last semester of the program (third co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Program Impacts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ontinued Enrollment: Full Sample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1" name="Chart 3" descr=""/>
          <p:cNvPicPr/>
          <p:nvPr/>
        </p:nvPicPr>
        <p:blipFill>
          <a:blip r:embed="rId1"/>
          <a:stretch/>
        </p:blipFill>
        <p:spPr>
          <a:xfrm>
            <a:off x="378000" y="1268280"/>
            <a:ext cx="81864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Program Impacts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umulative Credits Earned: Full Sample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3" name="Chart 4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1867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Glimmer of hope?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ontinued Enrollment: by Cohort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5" name="Content Placeholder 8" descr=""/>
          <p:cNvPicPr/>
          <p:nvPr/>
        </p:nvPicPr>
        <p:blipFill>
          <a:blip r:embed="rId1"/>
          <a:stretch/>
        </p:blipFill>
        <p:spPr>
          <a:xfrm>
            <a:off x="146160" y="1749600"/>
            <a:ext cx="4279680" cy="457812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9" descr=""/>
          <p:cNvPicPr/>
          <p:nvPr/>
        </p:nvPicPr>
        <p:blipFill>
          <a:blip r:embed="rId2"/>
          <a:stretch/>
        </p:blipFill>
        <p:spPr>
          <a:xfrm>
            <a:off x="4718160" y="1749600"/>
            <a:ext cx="4279680" cy="457812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7"/>
          <p:cNvSpPr/>
          <p:nvPr/>
        </p:nvSpPr>
        <p:spPr>
          <a:xfrm flipV="1">
            <a:off x="4572000" y="159984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Glimmer of hope?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umulative Credits Earned: by Cohort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Content Placeholder 4" descr=""/>
          <p:cNvPicPr/>
          <p:nvPr/>
        </p:nvPicPr>
        <p:blipFill>
          <a:blip r:embed="rId1"/>
          <a:stretch/>
        </p:blipFill>
        <p:spPr>
          <a:xfrm>
            <a:off x="298440" y="1670040"/>
            <a:ext cx="4127400" cy="458460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5" descr=""/>
          <p:cNvPicPr/>
          <p:nvPr/>
        </p:nvPicPr>
        <p:blipFill>
          <a:blip r:embed="rId2"/>
          <a:stretch/>
        </p:blipFill>
        <p:spPr>
          <a:xfrm>
            <a:off x="4718160" y="1670040"/>
            <a:ext cx="4127400" cy="458460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 flipV="1">
            <a:off x="4572000" y="159984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study do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vide evidence that a “basic” learning communities model is any more effective than business as usual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loratory analys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ugges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a more comprehensive learning community may be more effective than business as us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tay tuned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future LC demo reports may confirm finding (2), and they will provide a test of other learning communities models (some more comprehensive) in other context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57200" y="121932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ichael J. Weiss, Research Assoc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.weiss@mdrc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ry Visher, Senior Research Assoc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.visher@mdrc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ather Wathington, Assistant Prof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4w@virginia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80880" y="502920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more information on MDRC and NCPR’s work, go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DRC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ttp://www.mdrc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CPR’s: http://www.postsecondaryresearch.org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hart 5" descr=""/>
          <p:cNvPicPr/>
          <p:nvPr/>
        </p:nvPicPr>
        <p:blipFill>
          <a:blip r:embed="rId1"/>
          <a:stretch/>
        </p:blipFill>
        <p:spPr>
          <a:xfrm>
            <a:off x="438120" y="298440"/>
            <a:ext cx="8712360" cy="63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te and Study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Imp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C Faculty Surve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755640" y="1292400"/>
            <a:ext cx="778500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mmunity Colleg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14520" y="1270080"/>
            <a:ext cx="7920000" cy="4822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66680" y="632448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Provasnik &amp; Plant (2008). http://nces.ed.gov/pubs2008/2008033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53352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99"/>
                </a:solidFill>
                <a:uFillTx/>
                <a:latin typeface="Times New Roman"/>
              </a:rPr>
              <a:t>Low Rates of Comple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half of all students who begin at community college do not complete a degree or transfer within 6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One Major Obstacle: Development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ll 2000, 42 percent of first-year community college students took at least one developmental cours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estimates suggest that among students whose first institution of attendance was a community college, over 60 percent take at least one developmental cours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6467400"/>
            <a:ext cx="8001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achlander, Sikora, &amp; Horn (2003);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sad &amp; Lewis (2004);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lman (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Communities (LCs)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of students are co-enrolled as cohorts in two or more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atically linked courses, sometimes sharing a curriculum, assignments, and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Why might they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 relationships among students /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students more deeply with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st Evidence that LCs work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Several quasi-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to and others have found that students in learning communities benefit both academically and socially in comparison with similar students who do not enroll in learning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One Randomized Controlled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RC’s study at Kingsborough Community College found that the opportunity to participate in a learning community improved students’ college experience and improved some educational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066680" y="6170760"/>
            <a:ext cx="7848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nto, Goodsell-Love, and Russo (1994); Engstrom and Tinto (2008); Richburg-Hayes, Visher, and Bloom (2008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Communities Demo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Experiments at 6 Community Coll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random assignment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ous learning communitie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6 target students in need of development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link developmental math, three link developmental reading or English, one links courses required by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in curricular integration / facul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914400" y="5867280"/>
            <a:ext cx="81532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r more 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C Demo Study Design: http://www.mdrc.org/publications/476/full.pdf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caling-Up Learning Communities: http://www.mdrc.org/publications/550/full.pdf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C Demo Sample Buildup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2128680"/>
          <a:ext cx="8582040" cy="2595600"/>
        </p:xfrm>
        <a:graphic>
          <a:graphicData uri="http://schemas.openxmlformats.org/drawingml/2006/table">
            <a:tbl>
              <a:tblPr/>
              <a:tblGrid>
                <a:gridCol w="1884240"/>
                <a:gridCol w="1020600"/>
                <a:gridCol w="1295640"/>
                <a:gridCol w="1022400"/>
                <a:gridCol w="1350720"/>
                <a:gridCol w="1020960"/>
                <a:gridCol w="987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l ‘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ring ‘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l ‘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ring ’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l ‘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llsbo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ensbo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gsbo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bout Hillsborough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ocated in Tampa, F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rge, five campus colle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serves over 20,000 students, three campuses participated in the LC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ome pre-experimental experience with L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acially diverse camp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52% white, 18% Black, 22% Hisp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8:23:58Z</dcterms:created>
  <dc:creator>American Institutes for Research</dc:creator>
  <dc:description/>
  <dc:language>en-US</dc:language>
  <cp:lastModifiedBy>Jdabrowski</cp:lastModifiedBy>
  <dcterms:modified xsi:type="dcterms:W3CDTF">2010-07-01T20:08:25Z</dcterms:modified>
  <cp:revision>64</cp:revision>
  <dc:subject/>
  <dc:title>Higher Education Outcomes and Temporal Dependence</dc:title>
</cp:coreProperties>
</file>