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1"/>
          </p:nvPr>
        </p:nvSpPr>
        <p:spPr>
          <a:xfrm>
            <a:off x="3962520" y="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68560" y="685440"/>
            <a:ext cx="4673520" cy="350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4a4"/>
                </a:solidFill>
                <a:latin typeface="Kabel Dm BT"/>
              </a:rPr>
              <a:t>Click to move the slide</a:t>
            </a:r>
            <a:endParaRPr b="0" lang="en-US" sz="4400" spc="-1" strike="noStrike">
              <a:solidFill>
                <a:srgbClr val="0054a4"/>
              </a:solidFill>
              <a:latin typeface="Kabel Dm BT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2"/>
          </p:nvPr>
        </p:nvSpPr>
        <p:spPr>
          <a:xfrm>
            <a:off x="-360" y="883908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3"/>
          </p:nvPr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EE787-F6D9-4A73-801F-61D6A1E309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031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EDAF1-F84F-4EC6-88FF-5FB5718758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1031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AAA63-54B1-4483-A9A8-6F2B4E4BF5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1031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E2517-5A8C-4ACF-ACCD-40208141AC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1031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77AA0-5519-45EC-B638-FBEED55CE9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B7A4E-54F8-4B20-AEB5-1CF1BD1D03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B2E2A-6E8A-4F0B-899E-76E76A9A3A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A58D6-5853-448C-A480-3541A92AF7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B1FA1-A6C0-46FF-B19E-D22AE3F535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A49DE-81AB-4800-8309-600E86B100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1031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BAA01-6CF8-4942-85E8-0E57BC36D9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95280" y="2743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4a4"/>
              </a:solidFill>
              <a:latin typeface="Kabel Dm B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9528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29528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5280" y="2743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4a4"/>
              </a:solidFill>
              <a:latin typeface="Kabel Dm B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528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8284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9528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08284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95280" y="2743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4a4"/>
              </a:solidFill>
              <a:latin typeface="Kabel Dm B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952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79476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938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2952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79476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938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5280" y="2743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4a4"/>
              </a:solidFill>
              <a:latin typeface="Kabel Dm B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29528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95280" y="2743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4a4"/>
              </a:solidFill>
              <a:latin typeface="Kabel Dm B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9528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95280" y="2743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4a4"/>
              </a:solidFill>
              <a:latin typeface="Kabel Dm B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9528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8284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95280" y="2743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4a4"/>
              </a:solidFill>
              <a:latin typeface="Kabel Dm B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295280" y="274320"/>
            <a:ext cx="739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95280" y="2743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4a4"/>
              </a:solidFill>
              <a:latin typeface="Kabel Dm B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9528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8284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29528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95280" y="2743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4a4"/>
              </a:solidFill>
              <a:latin typeface="Kabel Dm B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29528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95280" y="2743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4a4"/>
              </a:solidFill>
              <a:latin typeface="Kabel Dm B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528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8284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8284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95280" y="2743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4a4"/>
              </a:solidFill>
              <a:latin typeface="Kabel Dm B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9528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8284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9528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95280" y="2743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4a4"/>
              </a:solidFill>
              <a:latin typeface="Kabel Dm B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9528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29528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95280" y="2743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4a4"/>
              </a:solidFill>
              <a:latin typeface="Kabel Dm B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9528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8284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9528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8284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95280" y="2743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4a4"/>
              </a:solidFill>
              <a:latin typeface="Kabel Dm B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952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79476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2938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2952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79476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2938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95280" y="2743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4a4"/>
              </a:solidFill>
              <a:latin typeface="Kabel Dm B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9528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95280" y="2743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4a4"/>
              </a:solidFill>
              <a:latin typeface="Kabel Dm B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9528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08284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95280" y="2743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4a4"/>
              </a:solidFill>
              <a:latin typeface="Kabel Dm B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295280" y="274320"/>
            <a:ext cx="739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95280" y="2743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4a4"/>
              </a:solidFill>
              <a:latin typeface="Kabel Dm B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9528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8284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29528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5280" y="2743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4a4"/>
              </a:solidFill>
              <a:latin typeface="Kabel Dm B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9528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8284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8284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95280" y="2743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4a4"/>
              </a:solidFill>
              <a:latin typeface="Kabel Dm B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9528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8284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29528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1" descr="wave"/>
          <p:cNvPicPr/>
          <p:nvPr/>
        </p:nvPicPr>
        <p:blipFill>
          <a:blip r:embed="rId2"/>
          <a:srcRect l="0" t="0" r="0" b="14706"/>
          <a:stretch/>
        </p:blipFill>
        <p:spPr>
          <a:xfrm>
            <a:off x="0" y="838080"/>
            <a:ext cx="9144000" cy="60264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95280" y="2743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4a4"/>
                </a:solidFill>
                <a:latin typeface="Kabel Dm BT"/>
              </a:rPr>
              <a:t>Click to edit the title text format</a:t>
            </a:r>
            <a:endParaRPr b="0" lang="en-US" sz="4400" spc="-1" strike="noStrike">
              <a:solidFill>
                <a:srgbClr val="0054a4"/>
              </a:solidFill>
              <a:latin typeface="Kabel Dm B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9528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a9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a9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a9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a9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a9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12" descr="midatlantic_rel"/>
          <p:cNvPicPr/>
          <p:nvPr/>
        </p:nvPicPr>
        <p:blipFill>
          <a:blip r:embed="rId3"/>
          <a:stretch/>
        </p:blipFill>
        <p:spPr>
          <a:xfrm>
            <a:off x="152280" y="228600"/>
            <a:ext cx="1143000" cy="701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13" descr="wave"/>
          <p:cNvPicPr/>
          <p:nvPr/>
        </p:nvPicPr>
        <p:blipFill>
          <a:blip r:embed="rId2"/>
          <a:srcRect l="0" t="0" r="0" b="14706"/>
          <a:stretch/>
        </p:blipFill>
        <p:spPr>
          <a:xfrm>
            <a:off x="0" y="838080"/>
            <a:ext cx="9144000" cy="602640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5" descr="NCEE_logo"/>
          <p:cNvPicPr/>
          <p:nvPr/>
        </p:nvPicPr>
        <p:blipFill>
          <a:blip r:embed="rId3"/>
          <a:stretch/>
        </p:blipFill>
        <p:spPr>
          <a:xfrm>
            <a:off x="5715000" y="6095880"/>
            <a:ext cx="2011320" cy="5731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midatlantic_rel"/>
          <p:cNvPicPr/>
          <p:nvPr/>
        </p:nvPicPr>
        <p:blipFill>
          <a:blip r:embed="rId4"/>
          <a:stretch/>
        </p:blipFill>
        <p:spPr>
          <a:xfrm>
            <a:off x="380880" y="533520"/>
            <a:ext cx="1676520" cy="1028520"/>
          </a:xfrm>
          <a:prstGeom prst="rect">
            <a:avLst/>
          </a:prstGeom>
          <a:ln w="0">
            <a:noFill/>
          </a:ln>
        </p:spPr>
      </p:pic>
      <p:sp>
        <p:nvSpPr>
          <p:cNvPr id="43" name="Text Box 12"/>
          <p:cNvSpPr/>
          <p:nvPr/>
        </p:nvSpPr>
        <p:spPr>
          <a:xfrm>
            <a:off x="685800" y="4267080"/>
            <a:ext cx="1752480" cy="23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e Pennsylvania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tate University (PSU)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Rutgers, The State University of New Jersey, Center for Effective School Practices (CESP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aliber, an IC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nternational Compan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etiri Group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NALYTIC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14"/>
          <p:cNvSpPr/>
          <p:nvPr/>
        </p:nvSpPr>
        <p:spPr>
          <a:xfrm>
            <a:off x="2514600" y="1050840"/>
            <a:ext cx="58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Kabel Dm BT"/>
              </a:rPr>
              <a:t>Regional Educational Labora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95280" y="2743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4a4"/>
                </a:solidFill>
                <a:latin typeface="Kabel Dm BT"/>
              </a:rPr>
              <a:t>Click to edit the title text format</a:t>
            </a:r>
            <a:endParaRPr b="0" lang="en-US" sz="4400" spc="-1" strike="noStrike">
              <a:solidFill>
                <a:srgbClr val="0054a4"/>
              </a:solidFill>
              <a:latin typeface="Kabel Dm B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29528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a9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a9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a9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a9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a9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mailto:kxw190@psu.edu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33360" y="1523520"/>
            <a:ext cx="6476760" cy="304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abel Dm BT"/>
              </a:rPr>
              <a:t>Effects of Odyssey® Math Software on the Mathematics Achievement of Selected Fourth Grade Students in the Mid-Atlantic Region: A Multi-Site Cluster Randomized Trial</a:t>
            </a:r>
            <a:endParaRPr b="0" lang="en-US" sz="1800" spc="-1" strike="noStrike">
              <a:solidFill>
                <a:srgbClr val="0054a4"/>
              </a:solidFill>
              <a:latin typeface="Kabel Dm B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438280" y="3962160"/>
            <a:ext cx="64008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Kay Wijekum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ennsylvania State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laborato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John Hitchcock (Co-P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s. Turner, Lei, and Pe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95280" y="2743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bel Dm BT"/>
              </a:rPr>
              <a:t>Study Design – Research Questions</a:t>
            </a:r>
            <a:endParaRPr b="0" lang="en-US" sz="4400" spc="-1" strike="noStrike">
              <a:solidFill>
                <a:srgbClr val="0054a4"/>
              </a:solidFill>
              <a:latin typeface="Kabel Dm B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irma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a94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 Odyssey® Math 4th grade classrooms outperform control classrooms on the math subtest of the TerraNova CTBS Basic Batter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ora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a94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the effect of Odyssey® Math on the math performance of males and female student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a94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the effect of Odyssey® Math on the math performance of low and medium/high achieving student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95280" y="2743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bel Dm BT"/>
              </a:rPr>
              <a:t>Study Design </a:t>
            </a:r>
            <a:endParaRPr b="0" lang="en-US" sz="4400" spc="-1" strike="noStrike">
              <a:solidFill>
                <a:srgbClr val="0054a4"/>
              </a:solidFill>
              <a:latin typeface="Kabel Dm B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a9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ectiveness T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a9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roximately 128 classrooms in 32 sch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a9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school has intervention AND contro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room(s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a9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 characteristics (e.g., urban vs. rural, experience with computerized curricula, et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a9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test &amp; Posttest of Terranova Math Sub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95280" y="2743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bel Dm BT"/>
              </a:rPr>
              <a:t>Implementation - 1</a:t>
            </a:r>
            <a:endParaRPr b="0" lang="en-US" sz="4400" spc="-1" strike="noStrike">
              <a:solidFill>
                <a:srgbClr val="0054a4"/>
              </a:solidFill>
              <a:latin typeface="Kabel Dm B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a9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roximately 122 teachers 124 classrooms in 32 sch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a9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test TerraNova Math Subtest administered to – 2640 stud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a9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teacher opted to do paper less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a9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School had to be dropped because they were already using Odyssey Math (prior to pretest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95280" y="2743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4a4"/>
                </a:solidFill>
                <a:latin typeface="Kabel Dm BT"/>
              </a:rPr>
              <a:t>Implementation - 2 </a:t>
            </a:r>
            <a:endParaRPr b="0" lang="en-US" sz="4400" spc="-1" strike="noStrike">
              <a:solidFill>
                <a:srgbClr val="0054a4"/>
              </a:solidFill>
              <a:latin typeface="Kabel Dm BT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29528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a9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a9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 Extension Special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a9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eld Research Coordin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a9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-t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a9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delity Observ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a9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t-tests (with follow u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95280" y="2743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4a4"/>
                </a:solidFill>
                <a:latin typeface="Kabel Dm BT"/>
              </a:rPr>
              <a:t>Math Curricular Used in Participating Schools</a:t>
            </a:r>
            <a:endParaRPr b="0" lang="en-US" sz="4400" spc="-1" strike="noStrike">
              <a:solidFill>
                <a:srgbClr val="0054a4"/>
              </a:solidFill>
              <a:latin typeface="Kabel Dm BT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1371600" y="1676520"/>
          <a:ext cx="6324480" cy="4365360"/>
        </p:xfrm>
        <a:graphic>
          <a:graphicData uri="http://schemas.openxmlformats.org/drawingml/2006/table">
            <a:tbl>
              <a:tblPr/>
              <a:tblGrid>
                <a:gridCol w="2751120"/>
                <a:gridCol w="3573360"/>
              </a:tblGrid>
              <a:tr h="260280">
                <a:tc>
                  <a:txBody>
                    <a:bodyPr lIns="37800" rIns="378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gular Curriculu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800" rIns="378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mber of classroo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800" marR="3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37800" rIns="378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veryday Math (Everyday Math, 200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800" marR="3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800" rIns="378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39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800" marR="3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37800" rIns="378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cott Foresman (Pearson, 200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800" marR="3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800" rIns="378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39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800" marR="3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37800" rIns="378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xon Math  (Saxon, 200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800" marR="3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800" rIns="378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39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800" marR="3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37800" rIns="378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ughton Mifflin (Houghton Mifflin, 2009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800" marR="3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800" rIns="378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39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800" marR="3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37800" rIns="378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arcourt Brace (Harcourt School, 200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800" marR="3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800" rIns="378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39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800" marR="3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37800" rIns="378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vestigations (Investigations, 200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800" marR="3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800" rIns="378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800" marR="3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37800" rIns="378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cGraw Hill (MacMillan McGraw Hill, 200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800" marR="3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800" rIns="378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800" marR="3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37800" rIns="378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h Central (Houghton Mifflin, 2009b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800" marR="3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800" rIns="378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800" marR="3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37800" rIns="378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hematics-Path to Success (Gin, 200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800" marR="3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800" rIns="378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800" marR="3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95280" y="274320"/>
            <a:ext cx="784872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54a4"/>
                </a:solidFill>
                <a:latin typeface="Kabel Dm BT"/>
              </a:rPr>
              <a:t>Implementation – Developer Communications</a:t>
            </a:r>
            <a:endParaRPr b="0" lang="en-US" sz="4000" spc="-1" strike="noStrike">
              <a:solidFill>
                <a:srgbClr val="0054a4"/>
              </a:solidFill>
              <a:latin typeface="Kabel Dm BT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29528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a9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ning Mee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a9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ign and choice of professional development pack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a9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ning and implementation of large-group professional development se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a9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ular Commun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a9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 of coaching session 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a9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 of Odyssey Math usage stat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95280" y="274320"/>
            <a:ext cx="784872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54a4"/>
                </a:solidFill>
                <a:latin typeface="Kabel Dm BT"/>
              </a:rPr>
              <a:t>Implementation – Data Management</a:t>
            </a:r>
            <a:endParaRPr b="0" lang="en-US" sz="4000" spc="-1" strike="noStrike">
              <a:solidFill>
                <a:srgbClr val="0054a4"/>
              </a:solidFill>
              <a:latin typeface="Kabel Dm BT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29528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a9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b-b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a9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a9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ll spectrum of services ( data entry, reports, download/upload of fil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a9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tral reposi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a9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e of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95280" y="2743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4a4"/>
                </a:solidFill>
                <a:latin typeface="Kabel Dm BT"/>
              </a:rPr>
              <a:t>Results - </a:t>
            </a:r>
            <a:r>
              <a:rPr b="0" lang="en-US" sz="3200" spc="-1" strike="noStrike">
                <a:solidFill>
                  <a:srgbClr val="0054a4"/>
                </a:solidFill>
                <a:latin typeface="Kabel Dm BT"/>
              </a:rPr>
              <a:t>mean differences on math achievement at pre- and posttest</a:t>
            </a:r>
            <a:endParaRPr b="0" lang="en-US" sz="3200" spc="-1" strike="noStrike">
              <a:solidFill>
                <a:srgbClr val="0054a4"/>
              </a:solidFill>
              <a:latin typeface="Kabel Dm BT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533520" y="1676520"/>
          <a:ext cx="8153280" cy="4724280"/>
        </p:xfrm>
        <a:graphic>
          <a:graphicData uri="http://schemas.openxmlformats.org/drawingml/2006/table">
            <a:tbl>
              <a:tblPr/>
              <a:tblGrid>
                <a:gridCol w="1600200"/>
                <a:gridCol w="1312920"/>
                <a:gridCol w="1107720"/>
                <a:gridCol w="1285920"/>
                <a:gridCol w="932040"/>
                <a:gridCol w="1108080"/>
                <a:gridCol w="806400"/>
              </a:tblGrid>
              <a:tr h="1288800">
                <a:tc>
                  <a:txBody>
                    <a:bodyPr lIns="67680" rIns="676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tcome measur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ervention group me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trol group me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timated difference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val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5 percent confidence interv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ffect size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8960">
                <a:tc>
                  <a:txBody>
                    <a:bodyPr lIns="67680" rIns="676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test scor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1.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1.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1(2.5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9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81, 5.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7360">
                <a:tc>
                  <a:txBody>
                    <a:bodyPr lIns="67680" rIns="676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sttest score unadjusted for class pretest me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7.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6.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81(2.36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7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82, 5.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9160">
                <a:tc>
                  <a:txBody>
                    <a:bodyPr lIns="67680" rIns="676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sttest score adjusted for class pretest me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8.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7.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78(1.27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5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71, 3.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95280" y="2743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4a4"/>
                </a:solidFill>
                <a:latin typeface="Kabel Dm BT"/>
              </a:rPr>
              <a:t>Discussion - Limitations</a:t>
            </a:r>
            <a:endParaRPr b="0" lang="en-US" sz="4400" spc="-1" strike="noStrike">
              <a:solidFill>
                <a:srgbClr val="0054a4"/>
              </a:solidFill>
              <a:latin typeface="Kabel Dm BT"/>
            </a:endParaRPr>
          </a:p>
        </p:txBody>
      </p:sp>
      <p:sp>
        <p:nvSpPr>
          <p:cNvPr id="148" name="TextBox 2"/>
          <p:cNvSpPr/>
          <p:nvPr/>
        </p:nvSpPr>
        <p:spPr>
          <a:xfrm>
            <a:off x="457200" y="1371600"/>
            <a:ext cx="8458200" cy="40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iveness vs. efficacy t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tudy used a volunteer s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 on task vari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tudy only concentrated on the 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rade and the Math portion of the suite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tudy used the software as a partial substitute to the regular curricul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95280" y="2743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4a4"/>
                </a:solidFill>
                <a:latin typeface="Kabel Dm BT"/>
              </a:rPr>
              <a:t>Questions?</a:t>
            </a:r>
            <a:endParaRPr b="0" lang="en-US" sz="4400" spc="-1" strike="noStrike">
              <a:solidFill>
                <a:srgbClr val="0054a4"/>
              </a:solidFill>
              <a:latin typeface="Kabel Dm BT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29528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ease use the subject – Odyssey Math in your emai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y Wijekuma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kxw190@psu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laborator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99"/>
              </a:spcBef>
              <a:buClr>
                <a:srgbClr val="00a9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. John Hitchcock (Co-P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99"/>
              </a:spcBef>
              <a:buClr>
                <a:srgbClr val="00a9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s. Turner, Lei, and Pe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95280" y="2743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4a4"/>
                </a:solidFill>
                <a:latin typeface="Kabel Dm BT"/>
              </a:rPr>
              <a:t>Outline</a:t>
            </a:r>
            <a:endParaRPr b="0" lang="en-US" sz="4400" spc="-1" strike="noStrike">
              <a:solidFill>
                <a:srgbClr val="0054a4"/>
              </a:solidFill>
              <a:latin typeface="Kabel Dm BT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29528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a9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Backg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a9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vention Descri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a9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a9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a9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a9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Limi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a9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95280" y="2743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bel Dm BT"/>
              </a:rPr>
              <a:t>Study Background</a:t>
            </a:r>
            <a:endParaRPr b="0" lang="en-US" sz="4400" spc="-1" strike="noStrike">
              <a:solidFill>
                <a:srgbClr val="0054a4"/>
              </a:solidFill>
              <a:latin typeface="Kabel Dm BT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5335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700"/>
              </a:spcBef>
              <a:buClr>
                <a:srgbClr val="00a9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to find innovative and effective approaches to improve math achie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700"/>
              </a:spcBef>
              <a:buClr>
                <a:srgbClr val="00a9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rade is a critical point in the elementary school curriculum at which the United States is losing ground to other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700"/>
              </a:spcBef>
              <a:buClr>
                <a:srgbClr val="00a9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dyssey Math had some research support and the software was widely used in the Mid-Atlantic reg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799"/>
              </a:spcBef>
              <a:buClr>
                <a:srgbClr val="00a9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95280" y="2743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4a4"/>
                </a:solidFill>
                <a:latin typeface="Kabel Dm BT"/>
              </a:rPr>
              <a:t>Odyssey Math</a:t>
            </a:r>
            <a:endParaRPr b="0" lang="en-US" sz="4400" spc="-1" strike="noStrike">
              <a:solidFill>
                <a:srgbClr val="0054a4"/>
              </a:solidFill>
              <a:latin typeface="Kabel Dm BT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066320" y="6095880"/>
            <a:ext cx="7543800" cy="5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urce: CompassLearning Odyssey Math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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" descr=""/>
          <p:cNvPicPr/>
          <p:nvPr/>
        </p:nvPicPr>
        <p:blipFill>
          <a:blip r:embed="rId1"/>
          <a:stretch/>
        </p:blipFill>
        <p:spPr>
          <a:xfrm>
            <a:off x="1295280" y="1295280"/>
            <a:ext cx="6554880" cy="463896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3"/>
          <p:cNvSpPr/>
          <p:nvPr/>
        </p:nvSpPr>
        <p:spPr>
          <a:xfrm>
            <a:off x="3359880" y="113040"/>
            <a:ext cx="2424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Source: CompassLearning Odyssey Math</a:t>
            </a:r>
            <a:r>
              <a:rPr b="0" lang="en-US" sz="900" spc="-1" strike="noStrike">
                <a:solidFill>
                  <a:srgbClr val="000000"/>
                </a:solidFill>
                <a:latin typeface="Symbol"/>
                <a:ea typeface="Symbol"/>
              </a:rPr>
              <a:t>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95280" y="2743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4a4"/>
                </a:solidFill>
                <a:latin typeface="Kabel Dm BT"/>
              </a:rPr>
              <a:t>Odyssey Math</a:t>
            </a:r>
            <a:endParaRPr b="0" lang="en-US" sz="4400" spc="-1" strike="noStrike">
              <a:solidFill>
                <a:srgbClr val="0054a4"/>
              </a:solidFill>
              <a:latin typeface="Kabel Dm BT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1371600" y="601992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rce: CompassLearning Odyssey Math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1143000" y="1371600"/>
            <a:ext cx="7010280" cy="472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95280" y="2743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4a4"/>
                </a:solidFill>
                <a:latin typeface="Kabel Dm BT"/>
              </a:rPr>
              <a:t>Odyssey Math</a:t>
            </a:r>
            <a:endParaRPr b="0" lang="en-US" sz="4400" spc="-1" strike="noStrike">
              <a:solidFill>
                <a:srgbClr val="0054a4"/>
              </a:solidFill>
              <a:latin typeface="Kabel Dm BT"/>
            </a:endParaRPr>
          </a:p>
        </p:txBody>
      </p:sp>
      <p:sp>
        <p:nvSpPr>
          <p:cNvPr id="104" name="Rectangle 2"/>
          <p:cNvSpPr/>
          <p:nvPr/>
        </p:nvSpPr>
        <p:spPr>
          <a:xfrm>
            <a:off x="1371600" y="601992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rce: CompassLearning Odyssey Math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"/>
          <p:cNvPicPr/>
          <p:nvPr/>
        </p:nvPicPr>
        <p:blipFill>
          <a:blip r:embed="rId1"/>
          <a:stretch/>
        </p:blipFill>
        <p:spPr>
          <a:xfrm>
            <a:off x="1371600" y="1447920"/>
            <a:ext cx="632448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95280" y="2743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4a4"/>
                </a:solidFill>
                <a:latin typeface="Kabel Dm BT"/>
              </a:rPr>
              <a:t>Odyssey Math</a:t>
            </a:r>
            <a:endParaRPr b="0" lang="en-US" sz="4400" spc="-1" strike="noStrike">
              <a:solidFill>
                <a:srgbClr val="0054a4"/>
              </a:solidFill>
              <a:latin typeface="Kabel Dm BT"/>
            </a:endParaRPr>
          </a:p>
        </p:txBody>
      </p:sp>
      <p:sp>
        <p:nvSpPr>
          <p:cNvPr id="107" name="Rectangle 2"/>
          <p:cNvSpPr/>
          <p:nvPr/>
        </p:nvSpPr>
        <p:spPr>
          <a:xfrm>
            <a:off x="1371600" y="601992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rce: CompassLearning Odyssey Math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"/>
          <p:cNvPicPr/>
          <p:nvPr/>
        </p:nvPicPr>
        <p:blipFill>
          <a:blip r:embed="rId1"/>
          <a:stretch/>
        </p:blipFill>
        <p:spPr>
          <a:xfrm>
            <a:off x="1143000" y="1371600"/>
            <a:ext cx="6248520" cy="467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952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4a4"/>
                </a:solidFill>
                <a:latin typeface="Kabel Dm BT"/>
              </a:rPr>
              <a:t>Professional Development</a:t>
            </a:r>
            <a:endParaRPr b="0" lang="en-US" sz="4400" spc="-1" strike="noStrike">
              <a:solidFill>
                <a:srgbClr val="0054a4"/>
              </a:solidFill>
              <a:latin typeface="Kabel Dm BT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143000" y="1066680"/>
          <a:ext cx="7543800" cy="5659560"/>
        </p:xfrm>
        <a:graphic>
          <a:graphicData uri="http://schemas.openxmlformats.org/drawingml/2006/table">
            <a:tbl>
              <a:tblPr/>
              <a:tblGrid>
                <a:gridCol w="1131840"/>
                <a:gridCol w="1879560"/>
                <a:gridCol w="1355760"/>
                <a:gridCol w="131760"/>
                <a:gridCol w="1474920"/>
                <a:gridCol w="1569960"/>
              </a:tblGrid>
              <a:tr h="549360">
                <a:tc>
                  <a:txBody>
                    <a:bodyPr lIns="47520" rIns="47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fessional development “day” number</a:t>
                      </a:r>
                      <a:r>
                        <a:rPr b="1" lang="en-U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ype of sett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7520" rIns="475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nth and dur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7520" rIns="475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mber of attende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tent</a:t>
                      </a:r>
                      <a:r>
                        <a:rPr b="1" lang="en-US" sz="1200" spc="-1" strike="noStrike" baseline="30000">
                          <a:solidFill>
                            <a:srgbClr val="000000"/>
                          </a:solidFill>
                          <a:latin typeface="Times New Roman Bold"/>
                          <a:ea typeface="Times New Roman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3760">
                <a:tc>
                  <a:txBody>
                    <a:bodyPr lIns="47520" rIns="47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rge group instruction in computer labs at universities in Altoona and Scranton, Pennsylvania, and Rutgers, New Jerse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ugust 20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y 1: 5 hou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y 2: 3 hou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7520" rIns="4752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 Intervention teachers and 4 administrato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–4 members of the study tea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udent launch p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verview of curriculum, tests, and assessm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5560">
                <a:tc>
                  <a:txBody>
                    <a:bodyPr lIns="47520" rIns="47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keup ”day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-school “day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pressed to 1 full 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7520" rIns="4752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 intervention teach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member of the study tea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udent launch p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verview of curriculum, tests, and assessm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47520" rIns="47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-school, one-on-one coach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ctober–November 20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–2 hou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7520" rIns="47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 intervention teach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artup, management, logistic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4960">
                <a:tc>
                  <a:txBody>
                    <a:bodyPr lIns="47520" rIns="47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rge group instruction in computer labs at universities in Altoona, Beaver, and Scranton, Pennsylvania; and New Brunswick, New Jerse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anuary 20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hour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7520" rIns="4752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 intervention teach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–3 members of the study tea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corporating Odyssey Math in lesson pla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47520" rIns="47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-school, one-on-one coach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ebruary 20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–2 hou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7520" rIns="47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 intervention teach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veloping assessments and repor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080">
                <a:tc>
                  <a:txBody>
                    <a:bodyPr lIns="47520" rIns="47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-school, one-on-one coach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rch 20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–2 hou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7520" rIns="47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 intervention teach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caffolding assignments and tailoring to individual stud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95280" y="2743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4a4"/>
                </a:solidFill>
                <a:latin typeface="Kabel Dm BT"/>
              </a:rPr>
              <a:t>Theory of Action</a:t>
            </a:r>
            <a:endParaRPr b="0" lang="en-US" sz="4400" spc="-1" strike="noStrike">
              <a:solidFill>
                <a:srgbClr val="0054a4"/>
              </a:solidFill>
              <a:latin typeface="Kabel Dm BT"/>
            </a:endParaRPr>
          </a:p>
        </p:txBody>
      </p:sp>
      <p:sp>
        <p:nvSpPr>
          <p:cNvPr id="112" name="Rectangle 16"/>
          <p:cNvSpPr/>
          <p:nvPr/>
        </p:nvSpPr>
        <p:spPr>
          <a:xfrm>
            <a:off x="0" y="3197160"/>
            <a:ext cx="3352680" cy="106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274680"/>
                <a:tab algn="l" pos="457200"/>
                <a:tab algn="l" pos="6858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tud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680"/>
                <a:tab algn="l" pos="457200"/>
                <a:tab algn="l" pos="6858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-Assessment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680"/>
                <a:tab algn="l" pos="457200"/>
                <a:tab algn="l" pos="6858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-On-screen manipulativ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680"/>
                <a:tab algn="l" pos="457200"/>
                <a:tab algn="l" pos="6858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-Tiered, guided feedb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5"/>
          <p:cNvSpPr/>
          <p:nvPr/>
        </p:nvSpPr>
        <p:spPr>
          <a:xfrm>
            <a:off x="0" y="1955880"/>
            <a:ext cx="3352680" cy="109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274680"/>
                <a:tab algn="l" pos="457200"/>
                <a:tab algn="l" pos="6858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Teach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680"/>
                <a:tab algn="l" pos="457200"/>
                <a:tab algn="l" pos="6858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6 Day PD Trai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680"/>
                <a:tab algn="l" pos="457200"/>
                <a:tab algn="l" pos="6858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-Identify Learning Obje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680"/>
                <a:tab algn="l" pos="457200"/>
                <a:tab algn="l" pos="6858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-Assess if objectives are m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680"/>
                <a:tab algn="l" pos="457200"/>
                <a:tab algn="l" pos="6858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-Direct Students based on what they lear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680"/>
                <a:tab algn="l" pos="457200"/>
                <a:tab algn="l" pos="6858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680"/>
                <a:tab algn="l" pos="457200"/>
                <a:tab algn="l" pos="6858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4"/>
          <p:cNvSpPr/>
          <p:nvPr/>
        </p:nvSpPr>
        <p:spPr>
          <a:xfrm>
            <a:off x="5796000" y="1828800"/>
            <a:ext cx="2738520" cy="69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274680"/>
                <a:tab algn="l" pos="457200"/>
                <a:tab algn="l" pos="6858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-Teacher knowledge &amp; practice (e.g., use of software assessments to support guided feedback); </a:t>
            </a:r>
            <a:r>
              <a:rPr b="1" i="1" lang="en-US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not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directly measu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8"/>
          <p:cNvSpPr/>
          <p:nvPr/>
        </p:nvSpPr>
        <p:spPr>
          <a:xfrm>
            <a:off x="5664240" y="5091120"/>
            <a:ext cx="1728720" cy="102240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274680"/>
                <a:tab algn="l" pos="457200"/>
                <a:tab algn="l" pos="6858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808080"/>
                </a:solidFill>
                <a:latin typeface="Arial Narrow"/>
                <a:ea typeface="Times New Roman"/>
              </a:rPr>
              <a:t>Teacher Character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680"/>
                <a:tab algn="l" pos="457200"/>
                <a:tab algn="l" pos="6858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Arial Narrow"/>
                <a:ea typeface="Times New Roman"/>
              </a:rPr>
              <a:t>Ability to teach mathematics but otherwise offer multiple subject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2006640" y="5091120"/>
            <a:ext cx="1685880" cy="102240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274680"/>
                <a:tab algn="l" pos="457200"/>
                <a:tab algn="l" pos="6858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808080"/>
                </a:solidFill>
                <a:latin typeface="Arial Narrow"/>
                <a:ea typeface="Times New Roman"/>
              </a:rPr>
              <a:t>Schools and district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680"/>
                <a:tab algn="l" pos="457200"/>
                <a:tab algn="l" pos="6858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Arial Narrow"/>
                <a:ea typeface="Times New Roman"/>
              </a:rPr>
              <a:t>Mid-Atlantic Region; not already using Odyssey® Math; has the needed technology plat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7"/>
          <p:cNvSpPr/>
          <p:nvPr/>
        </p:nvSpPr>
        <p:spPr>
          <a:xfrm>
            <a:off x="3835440" y="5205240"/>
            <a:ext cx="1685880" cy="79380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274680"/>
                <a:tab algn="l" pos="457200"/>
                <a:tab algn="l" pos="6858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808080"/>
                </a:solidFill>
                <a:latin typeface="Arial Narrow"/>
                <a:ea typeface="Times New Roman"/>
              </a:rPr>
              <a:t>Student Character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680"/>
                <a:tab algn="l" pos="457200"/>
                <a:tab algn="l" pos="6858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Arial Narrow"/>
                <a:ea typeface="Times New Roman"/>
              </a:rPr>
              <a:t>Make and female, low and med/high achievers, 4th gra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3490920" y="4675320"/>
            <a:ext cx="220644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274680"/>
                <a:tab algn="l" pos="457200"/>
                <a:tab algn="l" pos="6858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74680"/>
                <a:tab algn="l" pos="457200"/>
                <a:tab algn="l" pos="6858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Intervention Con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3"/>
          <p:cNvSpPr/>
          <p:nvPr/>
        </p:nvSpPr>
        <p:spPr>
          <a:xfrm>
            <a:off x="5796000" y="3870360"/>
            <a:ext cx="3043080" cy="743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274680"/>
                <a:tab algn="l" pos="457200"/>
                <a:tab algn="l" pos="6858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-Increased student moti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680"/>
                <a:tab algn="l" pos="457200"/>
                <a:tab algn="l" pos="6858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-Use of graduated learning strategies; these are </a:t>
            </a:r>
            <a:r>
              <a:rPr b="1" i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no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directly measu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680"/>
                <a:tab algn="l" pos="457200"/>
                <a:tab algn="l" pos="6858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2"/>
          <p:cNvSpPr/>
          <p:nvPr/>
        </p:nvSpPr>
        <p:spPr>
          <a:xfrm>
            <a:off x="3598920" y="2768760"/>
            <a:ext cx="1887480" cy="88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274680"/>
                <a:tab algn="l" pos="457200"/>
                <a:tab algn="l" pos="6858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Intervention used with fidelity; assessed via observation checklists &amp; software lo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1"/>
          <p:cNvSpPr/>
          <p:nvPr/>
        </p:nvSpPr>
        <p:spPr>
          <a:xfrm>
            <a:off x="6059520" y="2955960"/>
            <a:ext cx="2398680" cy="49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274680"/>
                <a:tab algn="l" pos="457200"/>
                <a:tab algn="l" pos="6858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Mathematics Achiev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0"/>
          <p:cNvSpPr/>
          <p:nvPr/>
        </p:nvSpPr>
        <p:spPr>
          <a:xfrm>
            <a:off x="6567480" y="2530440"/>
            <a:ext cx="0" cy="446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9"/>
          <p:cNvSpPr/>
          <p:nvPr/>
        </p:nvSpPr>
        <p:spPr>
          <a:xfrm flipV="1">
            <a:off x="6567480" y="3468240"/>
            <a:ext cx="0" cy="397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8"/>
          <p:cNvSpPr/>
          <p:nvPr/>
        </p:nvSpPr>
        <p:spPr>
          <a:xfrm>
            <a:off x="5010120" y="3156120"/>
            <a:ext cx="977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7"/>
          <p:cNvSpPr/>
          <p:nvPr/>
        </p:nvSpPr>
        <p:spPr>
          <a:xfrm flipV="1">
            <a:off x="5046840" y="2308320"/>
            <a:ext cx="723600" cy="49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6"/>
          <p:cNvSpPr/>
          <p:nvPr/>
        </p:nvSpPr>
        <p:spPr>
          <a:xfrm>
            <a:off x="5046840" y="3444840"/>
            <a:ext cx="723600" cy="4208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5"/>
          <p:cNvSpPr/>
          <p:nvPr/>
        </p:nvSpPr>
        <p:spPr>
          <a:xfrm>
            <a:off x="3019320" y="3197160"/>
            <a:ext cx="579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2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30"/>
          <p:cNvSpPr/>
          <p:nvPr/>
        </p:nvSpPr>
        <p:spPr>
          <a:xfrm>
            <a:off x="0" y="457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74680"/>
                <a:tab algn="l" pos="457200"/>
                <a:tab algn="l" pos="6858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32"/>
          <p:cNvSpPr/>
          <p:nvPr/>
        </p:nvSpPr>
        <p:spPr>
          <a:xfrm>
            <a:off x="228600" y="1004760"/>
            <a:ext cx="8686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4680"/>
                <a:tab algn="l" pos="457200"/>
                <a:tab algn="l" pos="6858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Key Features of Interven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680"/>
                <a:tab algn="l" pos="457200"/>
                <a:tab algn="l" pos="6858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-Teacher PD to identify math learning objectives and student progress toward meeting th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680"/>
                <a:tab algn="l" pos="457200"/>
                <a:tab algn="l" pos="6858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-Curricula uses software with on-screen manipulatives and guided feedb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8T14:43:04Z</dcterms:created>
  <dc:creator>Debby Bunting</dc:creator>
  <dc:description/>
  <dc:language>en-US</dc:language>
  <cp:lastModifiedBy>Authorised User</cp:lastModifiedBy>
  <cp:lastPrinted>2007-03-26T00:30:11Z</cp:lastPrinted>
  <dcterms:modified xsi:type="dcterms:W3CDTF">2010-07-06T12:59:19Z</dcterms:modified>
  <cp:revision>69</cp:revision>
  <dc:subject/>
  <dc:title>Slide 1</dc:title>
</cp:coreProperties>
</file>