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Click to move the slide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21E7-3A4D-40B5-B6C3-8549BA460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31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E31E-BDE3-4C6B-9FEA-574C82967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5CE4-403A-480F-A44C-5B839E340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96FD-EF23-48B5-99AE-94E620A29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31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4387-A651-4B43-971B-826D27B91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0B28-F13F-43A3-A2E0-24573C2B4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C9D2-3FFC-45E0-A5D7-F4012B28D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E145-353C-4DA5-9DE9-CBB7F3077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8152-BAA8-464B-8691-326BAAA02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2DDB-0187-4193-8005-A586B082B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8453-5927-4095-837F-B19DDB359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9476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9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52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9476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9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5280" y="2743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9476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9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952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9476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9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5280" y="2743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wave"/>
          <p:cNvPicPr/>
          <p:nvPr/>
        </p:nvPicPr>
        <p:blipFill>
          <a:blip r:embed="rId2"/>
          <a:srcRect l="0" t="0" r="0" b="14706"/>
          <a:stretch/>
        </p:blipFill>
        <p:spPr>
          <a:xfrm>
            <a:off x="0" y="838080"/>
            <a:ext cx="9144000" cy="6026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Click to edit the title text format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midatlantic_rel"/>
          <p:cNvPicPr/>
          <p:nvPr/>
        </p:nvPicPr>
        <p:blipFill>
          <a:blip r:embed="rId3"/>
          <a:stretch/>
        </p:blipFill>
        <p:spPr>
          <a:xfrm>
            <a:off x="152280" y="228600"/>
            <a:ext cx="1143000" cy="70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wave"/>
          <p:cNvPicPr/>
          <p:nvPr/>
        </p:nvPicPr>
        <p:blipFill>
          <a:blip r:embed="rId2"/>
          <a:srcRect l="0" t="0" r="0" b="14706"/>
          <a:stretch/>
        </p:blipFill>
        <p:spPr>
          <a:xfrm>
            <a:off x="0" y="838080"/>
            <a:ext cx="9144000" cy="60264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NCEE_logo"/>
          <p:cNvPicPr/>
          <p:nvPr/>
        </p:nvPicPr>
        <p:blipFill>
          <a:blip r:embed="rId3"/>
          <a:stretch/>
        </p:blipFill>
        <p:spPr>
          <a:xfrm>
            <a:off x="5715000" y="6095880"/>
            <a:ext cx="2011320" cy="573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midatlantic_rel"/>
          <p:cNvPicPr/>
          <p:nvPr/>
        </p:nvPicPr>
        <p:blipFill>
          <a:blip r:embed="rId4"/>
          <a:stretch/>
        </p:blipFill>
        <p:spPr>
          <a:xfrm>
            <a:off x="380880" y="533520"/>
            <a:ext cx="1676520" cy="1028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2"/>
          <p:cNvSpPr/>
          <p:nvPr/>
        </p:nvSpPr>
        <p:spPr>
          <a:xfrm>
            <a:off x="685800" y="4267080"/>
            <a:ext cx="175248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Pennsylvania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te University (PSU)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utgers, The State University of New Jersey, Center for Effective School Practices (CES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liber, an IC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national Compa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tiri 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ALYT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2514600" y="105084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el Dm BT"/>
              </a:rPr>
              <a:t>Regional Educational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Click to edit the title text format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kxw190@psu.ed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523520"/>
            <a:ext cx="647676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abel Dm BT"/>
              </a:rPr>
              <a:t>Effects of Odyssey® Math Software on the Mathematics Achievement of Selected Fourth Grade Students in the Mid-Atlantic Region: A Multi-Site Cluster Randomized Trial</a:t>
            </a:r>
            <a:endParaRPr b="0" lang="en-US" sz="18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38280" y="39621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Kay Wijeku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nnsylvania State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John Hitchcock (Co-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s. Turner, Lei, and P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bel Dm BT"/>
              </a:rPr>
              <a:t>Study Design – Research Questions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a94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Odyssey® Math 4th grade classrooms outperform control classrooms on the math subtest of the TerraNova CTBS Basic Batte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a94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effect of Odyssey® Math on the math performance of males and female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a94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effect of Odyssey® Math on the math performance of low and medium/high achieving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bel Dm BT"/>
              </a:rPr>
              <a:t>Study Design 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ness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128 classrooms in 32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school has intervention AND contro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(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haracteristics (e.g., urban vs. rural, experience with computerized curricul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st &amp; Posttest of Terranova Math Sub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bel Dm BT"/>
              </a:rPr>
              <a:t>Implementation - 1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122 teachers 124 classrooms in 32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st TerraNova Math Subtest administered to – 2640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cher opted to do paper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chool had to be dropped because they were already using Odyssey Math (prior to pret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Implementation - 2 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Extension Specia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Research Coord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delity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tests (with follow 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Math Curricular Used in Participating Schools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371600" y="1676520"/>
          <a:ext cx="6324480" cy="4365360"/>
        </p:xfrm>
        <a:graphic>
          <a:graphicData uri="http://schemas.openxmlformats.org/drawingml/2006/table">
            <a:tbl>
              <a:tblPr/>
              <a:tblGrid>
                <a:gridCol w="2751120"/>
                <a:gridCol w="3573360"/>
              </a:tblGrid>
              <a:tr h="26028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ular Curricul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classroo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eryday Math (Everyday Math, 20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ott Foresman (Pearson, 20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xon Math  (Saxon, 20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ghton Mifflin (Houghton Mifflin, 2009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rcourt Brace (Harcourt School, 20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stigations (Investigations, 20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Graw Hill (MacMillan McGraw Hill, 20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h Central (Houghton Mifflin, 2009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hematics-Path to Success (Gin, 200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8487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4a4"/>
                </a:solidFill>
                <a:latin typeface="Kabel Dm BT"/>
              </a:rPr>
              <a:t>Implementation – Developer Communications</a:t>
            </a:r>
            <a:endParaRPr b="0" lang="en-US" sz="40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nd choice of professional development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and implementation of large-group professional development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coaching session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Odyssey Math usage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8487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4a4"/>
                </a:solidFill>
                <a:latin typeface="Kabel Dm BT"/>
              </a:rPr>
              <a:t>Implementation – Data Management</a:t>
            </a:r>
            <a:endParaRPr b="0" lang="en-US" sz="40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spectrum of services ( data entry, reports, download/upload of fi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Results - </a:t>
            </a:r>
            <a:r>
              <a:rPr b="0" lang="en-US" sz="3200" spc="-1" strike="noStrike">
                <a:solidFill>
                  <a:srgbClr val="0054a4"/>
                </a:solidFill>
                <a:latin typeface="Kabel Dm BT"/>
              </a:rPr>
              <a:t>mean differences on math achievement at pre- and posttest</a:t>
            </a:r>
            <a:endParaRPr b="0" lang="en-US" sz="3200" spc="-1" strike="noStrike">
              <a:solidFill>
                <a:srgbClr val="0054a4"/>
              </a:solidFill>
              <a:latin typeface="Kabel Dm BT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3520" y="1676520"/>
          <a:ext cx="8153280" cy="4724280"/>
        </p:xfrm>
        <a:graphic>
          <a:graphicData uri="http://schemas.openxmlformats.org/drawingml/2006/table">
            <a:tbl>
              <a:tblPr/>
              <a:tblGrid>
                <a:gridCol w="1600200"/>
                <a:gridCol w="1312920"/>
                <a:gridCol w="1107720"/>
                <a:gridCol w="1285920"/>
                <a:gridCol w="932040"/>
                <a:gridCol w="1108080"/>
                <a:gridCol w="806400"/>
              </a:tblGrid>
              <a:tr h="1288800">
                <a:tc>
                  <a:txBody>
                    <a:bodyPr lIns="67680" rIns="67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come measu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vention group 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roup 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difference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percent confidence inter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ct size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67680" rIns="67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test sco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1(2.5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9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1, 5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7360">
                <a:tc>
                  <a:txBody>
                    <a:bodyPr lIns="67680" rIns="67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test score unadjusted for class pretest 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7.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6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(2.3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7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2, 5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67680" rIns="67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test score adjusted for class pretest 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8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7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8(1.2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1, 3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Discussion - Limitations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457200" y="1371600"/>
            <a:ext cx="84582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vs. efficacy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tudy used a volunteer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n task va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tudy only concentrated on the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and the Math portion of the suit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tudy used the software as a partial substitute to the regular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Questions?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use the subject – Odyssey Math in your emai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y Wijekum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xw190@psu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John Hitchcock (Co-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s. Turner, Lei, and P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Outline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ention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bel Dm BT"/>
              </a:rPr>
              <a:t>Study Background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find innovative and effective approaches to improve math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 is a critical point in the elementary school curriculum at which the United States is losing ground to othe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yssey Math had some research support and the software was widely used in the Mid-Atlantic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Odyssey Math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66320" y="609588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CompassLearning Odyssey Math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554880" cy="46389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3359880" y="113040"/>
            <a:ext cx="242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CompassLearning Odyssey Math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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Odyssey Math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371600" y="6019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CompassLearning Odyssey Mat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010280" cy="47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Odyssey Math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371600" y="6019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CompassLearning Odyssey Mat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324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Odyssey Math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1371600" y="6019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CompassLearning Odyssey Mat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2485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Professional Development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43000" y="1066680"/>
          <a:ext cx="7543800" cy="5659560"/>
        </p:xfrm>
        <a:graphic>
          <a:graphicData uri="http://schemas.openxmlformats.org/drawingml/2006/table">
            <a:tbl>
              <a:tblPr/>
              <a:tblGrid>
                <a:gridCol w="1131840"/>
                <a:gridCol w="1879560"/>
                <a:gridCol w="1355760"/>
                <a:gridCol w="131760"/>
                <a:gridCol w="1474920"/>
                <a:gridCol w="1569960"/>
              </a:tblGrid>
              <a:tr h="54936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sional development “day” number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 of se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h and 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attend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nt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 Bold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 group instruction in computer labs at universities in Altoona and Scranton, Pennsylvania, and Rutgers, New Jers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gust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 1: 5 ho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 2: 3 ho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Intervention teachers and 4 administra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–4 members of the study 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 launch p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view of curriculum, tests, and assess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56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keup ”day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-school “day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essed to 1 full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intervention teach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ember of the study 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 launch p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view of curriculum, tests, and assess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-school, one-on-one coa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tober–November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–2 ho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intervention teach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rtup, management, log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96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 group instruction in computer labs at universities in Altoona, Beaver, and Scranton, Pennsylvania; and New Brunswick, New Jers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nuary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hou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intervention teach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–3 members of the study 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rporating Odyssey Math in lesson pl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-school, one-on-one coa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ruary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–2 ho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intervention teach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 assessments and repo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-school, one-on-one coa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–2 ho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intervention teach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ffolding assignments and tailoring to individual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Theory of Action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0" y="3197160"/>
            <a:ext cx="3352680" cy="106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Assessment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On-screen manipul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Tiered, guided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0" y="1955880"/>
            <a:ext cx="3352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 Day P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Identify Learning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Assess if objectives are 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Direct Students based on what they lea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5796000" y="1828800"/>
            <a:ext cx="2738520" cy="69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Teacher knowledge &amp; practice (e.g., use of software assessments to support guided feedback); </a:t>
            </a:r>
            <a:r>
              <a:rPr b="1" i="1" lang="en-U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irectly meas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5664240" y="5091120"/>
            <a:ext cx="1728720" cy="10224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 Narrow"/>
                <a:ea typeface="Times New Roman"/>
              </a:rPr>
              <a:t>Teacher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 Narrow"/>
                <a:ea typeface="Times New Roman"/>
              </a:rPr>
              <a:t>Ability to teach mathematics but otherwise offer multiple subje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006640" y="5091120"/>
            <a:ext cx="1685880" cy="10224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 Narrow"/>
                <a:ea typeface="Times New Roman"/>
              </a:rPr>
              <a:t>Schools and distric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 Narrow"/>
                <a:ea typeface="Times New Roman"/>
              </a:rPr>
              <a:t>Mid-Atlantic Region; not already using Odyssey® Math; has the needed technology plat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3835440" y="5205240"/>
            <a:ext cx="1685880" cy="793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 Narrow"/>
                <a:ea typeface="Times New Roman"/>
              </a:rPr>
              <a:t>Studen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 Narrow"/>
                <a:ea typeface="Times New Roman"/>
              </a:rPr>
              <a:t>Make and female, low and med/high achievers, 4th gr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490920" y="4675320"/>
            <a:ext cx="22064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ervention 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5796000" y="3870360"/>
            <a:ext cx="3043080" cy="74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Increased student mo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Use of graduated learning strategies; these ar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o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irectly meas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3598920" y="2768760"/>
            <a:ext cx="188748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ervention used with fidelity; assessed via observation checklists &amp; software lo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6059520" y="2955960"/>
            <a:ext cx="239868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thematics Achie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6567480" y="2530440"/>
            <a:ext cx="0" cy="44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 flipV="1">
            <a:off x="6567480" y="3468240"/>
            <a:ext cx="0" cy="39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5010120" y="315612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5046840" y="2308320"/>
            <a:ext cx="723600" cy="49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5046840" y="3444840"/>
            <a:ext cx="723600" cy="420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3019320" y="3197160"/>
            <a:ext cx="57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0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228600" y="1004760"/>
            <a:ext cx="86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Key Features of 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Teacher PD to identify math learning objectives and student progress toward meet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Curricula uses software with on-screen manipulatives and guided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4:43:04Z</dcterms:created>
  <dc:creator>Debby Bunting</dc:creator>
  <dc:description/>
  <dc:language>en-US</dc:language>
  <cp:lastModifiedBy>Authorised User</cp:lastModifiedBy>
  <cp:lastPrinted>2007-03-26T00:30:11Z</cp:lastPrinted>
  <dcterms:modified xsi:type="dcterms:W3CDTF">2010-07-06T12:59:19Z</dcterms:modified>
  <cp:revision>69</cp:revision>
  <dc:subject/>
  <dc:title>Slide 1</dc:title>
</cp:coreProperties>
</file>