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39EF-1246-457C-924F-7E201B3A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3C0-8C56-41EF-B41D-EC84CF42A9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udents act on their own volition if we give them a better understanding of reading for understand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5268-C4E9-4AB1-BB32-D6DE2AA851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xplain the unique validity of explanation-related cues in terms of a situation mode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FC2-9440-498D-B69A-0EE7147B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E8F-2721-4831-990D-1C0BA151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315-16CC-4748-AEA0-975FDC62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88F-6E3D-4A88-BEA6-EB9264BA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AE73-EFB9-4B61-8DE8-F18F6E02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BF7D-266F-4E9F-9F12-7D7827D4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DBB9-9DD6-4566-92F7-931B9163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5FA4-1BA7-439E-8F78-814EFE17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1C6B-D48E-4B14-9052-2C6C417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E27B-BA12-48B6-BAF5-F25B3FD6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B454-D598-4B6D-8531-C70101EB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B5D-D9BB-461B-9359-F58D977D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719C-8819-46A2-B35E-07FC2609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8725-1480-411A-98C0-0F7CD3D7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4F3F-7E04-48D1-8C42-732E509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5118-59A2-4913-956D-7C1EDB84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26C2-FCDA-4785-A5AD-A06B9C15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74B-106B-4FA5-AAA8-72406E0A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2D8-56C7-4F33-8377-48C737A3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4C0-F54F-4C85-A882-6B11AB6B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406-0CDB-45BA-8E79-5F9A37D5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8AE-8D6B-4904-B0BD-27A20E9E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1C1-FBF4-4F5C-8BB9-F8AA7A0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3AE-EA75-465F-A4B3-0F9047D0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0581-7B81-4856-932F-D0CA1B660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C6AC-5BC5-4E28-A4AE-CA39F7F575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Reading for Understanding: Instilling Reader Goals and Expectations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ennifer Wiley &amp; Thomas D. Griff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versity of Illinois at Chicago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eith Thiede, Boise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pported by the Institute of Education Sciences, U.S. Department of Education, Grant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305H030170 and R305B0746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upporting Better Metacomprehension with Valid Cues for Understan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Keyword/Summary Tasks after rea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ede &amp; Anderson, 2003; Thiede, Anderson &amp; Therriault, 2003; Thiede, Dunlosky, Griffin &amp; Wiley, 2005; Anderson &amp; Thiede,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- surface memory fades quickl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f Explanation during rea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riffin, Wiley &amp; Thiede,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Focused readers on quality of situation model re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ept Mapping during rea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ede, Anderson, Griffin &amp; Wiley, 20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Focused  less-skilled readers on quality of situation model re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ahoma"/>
              </a:rPr>
              <a:t>All of the above provide a CONTEXT that makes valid cues more accessible and improves accuracy to .50-.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e Tests and Test Expecta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ahoma"/>
              </a:rPr>
              <a:t>Can readers select valid cues on their own if they are given more information (goals and expectations) about what reading for understanding entail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roving Metacomprehension Accuracy with Test Expectanc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iley, Griffin &amp; Thiede, </a:t>
            </a: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in preparation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xpectancy Condi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stilled in 3 Practice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ld Memory Test, Given Example Memory T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ld Comprehension Test, Given Example Inference T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Example Tests or Expectancies (only read tex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and Predicted Test performance on 6 target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many items do you think you will get correct on a 5 item tes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ryone got BOTH memory and inference target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test order counterbalanc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metamemo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metacomprehens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ccuracy were compu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est Expectancies help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Wiley, Griffin &amp; Thiede, </a:t>
            </a: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in preparation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304920" y="1460520"/>
          <a:ext cx="784836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60520"/>
                    <a:ext cx="784836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Box 7"/>
          <p:cNvSpPr/>
          <p:nvPr/>
        </p:nvSpPr>
        <p:spPr>
          <a:xfrm>
            <a:off x="-110160" y="6324480"/>
            <a:ext cx="63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milar results obtained in Thiede, Wiley &amp; Griffin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n pr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expectancy influences monitoring accur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metacomprehension accuracy was seen when participants expected comprehension tests, and had an idea of what a comprehension item would be lik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evidence that expectations can guide selection of valid cues, bu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odes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Can an intervention that makes valid cues more accessible, along with expectancy that guides selection, further improve monitoring accura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stilling both expectancie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d processing goals 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Wiley, Griffin &amp; Thiede, </a:t>
            </a: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in preparation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omprehension Test Expect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or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Practice Tex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ld Comprehension Test, Given Inference T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Test Information, No Practice T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just read the 3 practice tex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Self-explain silently while reading vs. n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connections, say how and why sentences relate, explain relations (Based on Chi, 2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ids metacomprehension accuracy through access to situation-model level cues (Griffin, Wiley &amp; Thiede, 200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oth Test Expectancy and Self-Explanation hel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0" name="Object 8"/>
          <p:cNvGraphicFramePr/>
          <p:nvPr/>
        </p:nvGraphicFramePr>
        <p:xfrm>
          <a:off x="380880" y="1450800"/>
          <a:ext cx="800100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50800"/>
                    <a:ext cx="800100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ers need to know what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Reading for Understandin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an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ombination, both practice tests (on OTHER topics) and self-explanation instructions helped readers to monitor their own understanding on NEW tex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ers need to be directed to consider situation-model level cues when judging understanding, and those cues need to be sali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oring the long-term effects of these interventions on studying and learning outcomes is the next ste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ltimately, giving students a sense of “understanding” should allow them to engage in more effective self-regulated studying as they attempt to comprehend information from expository tex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importance of comprehension and metacomprehension 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learning from tex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goal of reading expository text in subject matter instruction is generally for the reader </a:t>
            </a:r>
            <a:r>
              <a:rPr b="0" lang="en-US" sz="2400" spc="-1" strike="noStrike" u="sng">
                <a:solidFill>
                  <a:srgbClr val="ffc000"/>
                </a:solidFill>
                <a:uFillTx/>
                <a:latin typeface="Tahoma"/>
              </a:rPr>
              <a:t>to understand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ew phenomenon or a process (Wiley, Griffin &amp; Thiede, 2005; Wiley &amp; Myers, 2003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requires more than surface memory or superficial processing of the text (Kintsch, 1994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requires comprehension (the construction and integration of causal mental model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importance of comprehension and metacomprehension 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learning from tex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rate comprehension monitoring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metacomprehens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ritical for the effective self-regulation of stu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, readers are typically poor at gauging their comprehension of expository texts. (Dunlosky &amp; Lipko, 2007; Maki, 1998: Thiede, Wiley, Griffin &amp; Redford, 2009)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a result of poor metacomprehension accuracy, readers fail to make optimal decisions about what to re-read (Maki, 1998; Thiede, Anderson, &amp; Therriault, 2003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fining Metacomprehension Accurac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Procedure: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READ6 – JUDGE6 – TEST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ell will you do on each tes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 order correlations between judgment &amp; actual test perform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lcano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ght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ese Mak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tosyn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ural Sele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ce 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6172200" y="41911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0 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fining Metacomprehension Accurac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Procedure: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READ6 – JUDGE6 – TEST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ell will you do on each tes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 order correlations between judgment &amp; actual test perform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lcano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ght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ese Mak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tosyn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ural Sele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ce 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172200" y="3581280"/>
            <a:ext cx="1905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Valu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factors may lead to inaccurate judgments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ers may be selecting the WRONG cues as the basis for their judgments (Koriat, 199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ell did you understand this tex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ell will you do on a comprehension tes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may not understand what it means to “read for understanding” or what it means to “comprehend” an expository tex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may not know what to expect for a comprehension te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Do readers use valid cues for comprehension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ported Basis for Judgments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iede, Griffin, Wiley &amp; Anderson, 2010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ow many items will you get right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n a comprehension test?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hat did you base your judgment on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766800" y="2212920"/>
          <a:ext cx="75801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2212920"/>
                    <a:ext cx="75801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tacomprehension Accuracy 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iede, Griffin, Wiley &amp; Anderson, 201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How many items will you get right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on a comprehension test?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380880" y="1752480"/>
          <a:ext cx="845820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45820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udents need to know what “Reading for Understanding” me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ory for text is not comprehension of tex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 cues come from surface or textbas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define understanding in terms of the situation model which requires the integration of ideas (Kintsch, 1994, 19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make a judgment, a reader monitors various c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ers may default to memory c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 these cues are not necessarily predictive of under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mprehension items tap the situation-model level (causal inferences, explanations), judgments based on the quality of their situation models will be more vali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of valid cues should improve metacomprehension accu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4:12:25Z</dcterms:created>
  <dc:creator>Jennifer Wiley</dc:creator>
  <dc:description/>
  <dc:language>en-US</dc:language>
  <cp:lastModifiedBy>Jdabrowski</cp:lastModifiedBy>
  <dcterms:modified xsi:type="dcterms:W3CDTF">2010-07-02T17:00:23Z</dcterms:modified>
  <cp:revision>32</cp:revision>
  <dc:subject/>
  <dc:title>What does it mean to learn from and understand science text?</dc:title>
</cp:coreProperties>
</file>