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B37-4C38-4CE0-8BFC-57D67CEA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B675-3028-41F9-97AA-21E384FCD7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udents act on their own volition if we give them a better understanding of reading for understand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30DB-90C4-4AE7-A4E4-8DA73DBB1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xplain the unique validity of explanation-related cues in terms of a situation mode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81C-9F16-4FA6-A995-48098C4E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7E9-DEDB-4339-9CA4-A7BBED9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420-24DD-4EDE-9300-0E4C52FE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7A8-7255-4BAA-A34B-AA897997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7BC2-8894-4BCE-BBBC-DA1FD12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387-6A2D-4B90-AB73-1B1A5EC1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9A86-58D9-47D2-96CF-2F65EE9F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921A-BAB9-4DCC-AA45-CB7FE018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635C-C1A3-43AC-91BB-EDFEC81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1BC4-56E9-4C3D-A524-68129FBE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0E84-5203-4AFB-B676-233493D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86F-82BF-42A6-B933-6AB0CD0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B98-156B-4FB2-81B2-26476B1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CA52-ACD5-4CDB-94D8-211100C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96CF-D81E-4165-B914-EF58827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B09-E8F9-4FBA-821D-ABF233FF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1C1-8E6C-487B-B1A5-4E88C9DC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0E9-BE00-419A-989D-300845D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E14-A255-463D-B820-B81B8C4B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498-98CB-441D-A7BB-2F3954C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E88-A308-4589-8AB3-6505AE9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211-33C5-4306-A87F-B85C760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4B6-4DF5-4D34-8F35-752FB9A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2E9-8D67-4DAF-91C5-298F6D7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5555-F2E9-4C1B-BA42-D784D069F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570-30AD-4B93-906F-A8C14F993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Reading for Understanding: Instilling Reader Goals and Expectation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ennifer Wiley &amp; Thomas D. Griff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versity of Illinois at Chicago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ith Thiede, Boise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pported by the Institute of Education Sciences, U.S. Department of Education, Grant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305H030170 and R305B0746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upporting Better Metacomprehension with Valid Cues for Understan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Keyword/Summary Tasks after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ede &amp; Anderson, 2003; Thiede, Anderson &amp; Therriault, 2003; Thiede, Dunlosky, Griffin &amp; Wiley, 2005; Anderson &amp; Thiede,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 surface memory fades quickl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 Explanation during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riffin, Wiley &amp; Thiede,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cused readers on quality of situation model re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Mapping during r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ede, Anderson, Griffin &amp; Wiley, 20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cused  less-skilled readers on quality of situation model re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ahoma"/>
              </a:rPr>
              <a:t>All of the above provide a CONTEXT that makes valid cues more accessible and improves accuracy to .50-.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Tests and Test Expecta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ahoma"/>
              </a:rPr>
              <a:t>Can readers select valid cues on their own if they are given more information (goals and expectations) about what reading for understanding entail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roving Metacomprehension Accuracy with Test Expectancy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xpectancy Cond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tilled in 3 Practice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Memory Test, Given Example Memory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Comprehension Test, Given Example Inferen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xample Tests or Expectancies (only read tex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and Predicted Test performance on 6 target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many items do you think you will get correct on a 5 item te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yone got BOTH memory and inference target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test order counterbalan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etamem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etacomprehen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ccuracy were compu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st Expectancies help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304920" y="1460520"/>
          <a:ext cx="784836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60520"/>
                    <a:ext cx="78483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Box 7"/>
          <p:cNvSpPr/>
          <p:nvPr/>
        </p:nvSpPr>
        <p:spPr>
          <a:xfrm>
            <a:off x="-110160" y="632448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milar results obtained in Thiede, Wiley &amp; Griffin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n pr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expectancy influences monitoring 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metacomprehension accuracy was seen when participants expected comprehension tests, and had an idea of what a comprehension item would be l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evidence that expectations can guide selection of valid cues, bu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des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Can an intervention that makes valid cues more accessible, along with expectancy that guides selection, further improve monitoring accura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stilling both expectanci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d processing goals </a:t>
            </a:r>
            <a:br>
              <a:rPr sz="44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Wiley, Griffin &amp; Thiede, </a:t>
            </a:r>
            <a:r>
              <a:rPr b="0" i="1" lang="en-US" sz="2000" spc="-1" strike="noStrike">
                <a:solidFill>
                  <a:srgbClr val="ffffcc"/>
                </a:solidFill>
                <a:latin typeface="Tahoma"/>
              </a:rPr>
              <a:t>in preparation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mprehension Test Expect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Practice Tex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ld Comprehension Test, Given Inferen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Test Information, No Practice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just read the 3 practice tex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elf-explain silently while reading vs. n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connections, say how and why sentences relate, explain relations (Based on Chi, 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ds metacomprehension accuracy through access to situation-model level cues (Griffin, Wiley &amp; Thiede, 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oth Test Expectancy and Self-Explanation hel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380880" y="1450800"/>
          <a:ext cx="8001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50800"/>
                    <a:ext cx="8001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ers need to know what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Reading for Understandin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an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mbination, both practice tests (on OTHER topics) and self-explanation instructions helped readers to monitor their own understanding on NEW tex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ers need to be directed to consider situation-model level cues when judging understanding, and those cues need to be sali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ing the long-term effects of these interventions on studying and learning outcomes is the next ste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ltimately, giving students a sense of “understanding” should allow them to engage in more effective self-regulated studying as they attempt to comprehend information from expository tex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importance of comprehension and metacomprehension 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learning from tex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oal of reading expository text in subject matter instruction is generally for the reader 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Tahoma"/>
              </a:rPr>
              <a:t>to understand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ew phenomenon or a process (Wiley, Griffin &amp; Thiede, 2005; Wiley &amp; Myers, 2003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equires more than surface memory or superficial processing of the text (Kintsch, 1994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equires comprehension (the construction and integration of causal mental model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importance of comprehension and metacomprehension 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learning from tex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rate comprehension monitoring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metacomprehen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ritical for the effective self-regulation of stu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readers are typically poor at gauging their comprehension of expository texts. (Dunlosky &amp; Lipko, 2007; Maki, 1998: Thiede, Wiley, Griffin &amp; Redford, 2009)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 result of poor metacomprehension accuracy, readers fail to make optimal decisions about what to re-read (Maki, 1998; Thiede, Anderson, &amp; Therriault, 2003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fining Metacomprehension Accu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Procedure: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READ6 – JUDGE6 – TES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each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 order correlations between judgment &amp; actual test perform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cano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ght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ese Mak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tosyn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Sele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e 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172200" y="41911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0 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fining Metacomprehension Accu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Procedure: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READ6 – JUDGE6 – TES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each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 order correlations between judgment &amp; actual test perform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cano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ght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ese Mak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tosyn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Sele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e 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172200" y="3581280"/>
            <a:ext cx="190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Valu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factors may lead to inaccurate judgment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ers may be selecting the WRONG cues as the basis for their judgments (Koriat, 199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did you understand this tex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ell will you do on a comprehension tes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may not understand what it means to “read for understanding” or what it means to “comprehend” an expository 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may not know what to expect for a comprehension te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Do readers use valid cues for comprehension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ported Basis for Judgments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iede, Griffin, Wiley &amp; Anderson, 2010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ow many items will you get right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n a comprehension test?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hat did you base your judgment on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66800" y="2212920"/>
          <a:ext cx="75801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212920"/>
                    <a:ext cx="75801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acomprehension Accuracy 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Thiede, Griffin, Wiley &amp; Anderson, 201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How many items will you get right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n a comprehension test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380880" y="1752480"/>
          <a:ext cx="845820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5820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udents need to know what “Reading for Understanding” m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ory for text is not comprehension of tex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 cues come from surface or textbas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define understanding in terms of the situation model which requires the integration of ideas (Kintsch, 1994, 19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make a judgment, a reader monitors various c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ers may default to memory c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 these cues are not necessarily predictive of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prehension items tap the situation-model level (causal inferences, explanations), judgments based on the quality of their situation models will be more val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valid cues should improve metacomprehension accu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4:12:25Z</dcterms:created>
  <dc:creator>Jennifer Wiley</dc:creator>
  <dc:description/>
  <dc:language>en-US</dc:language>
  <cp:lastModifiedBy>Jdabrowski</cp:lastModifiedBy>
  <dcterms:modified xsi:type="dcterms:W3CDTF">2010-07-02T17:00:23Z</dcterms:modified>
  <cp:revision>32</cp:revision>
  <dc:subject/>
  <dc:title>What does it mean to learn from and understand science text?</dc:title>
</cp:coreProperties>
</file>