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12A-B719-4041-8958-BF59B3AD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874-B5E3-4891-97E1-249FFF0D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FB5-3C28-41E8-BFAE-AE2BF2B2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5D9-564E-4496-B144-013BB60B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FB84-D38F-4E2D-B554-4F5F7E01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CEA4-62D2-4676-9C1D-C1460652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36F-DBDE-4505-AE6F-C0F507EE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B1BA-16C4-4496-A511-DEEC0F5A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9385-5870-43A3-AC07-39672381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6779-9A5B-49BA-9519-55AF03F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F218-3B44-4C3D-9567-9335B4A7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104-E92E-454D-8D76-535CBBC8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7DD3-2143-4C4C-8189-C5C5492D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1CCA-63F6-448E-A98C-C4DE07A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C2DD-3DAF-4EED-9356-172BD6F1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B39F-BDFF-487B-ACF7-52B2EA40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70DE-72F3-412F-B581-77DF736B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D3D-3CB0-4D2D-9DEB-601B04FC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781-4370-463A-A2A0-80FFE3C3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945-845D-46DD-B2DD-268BFB5F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690-9F72-464D-807A-C88E2C58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610-AA9F-4218-B90B-BCB5F5F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9C3-9B6B-41F5-9D76-EDF031BC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7D4-3357-4BAE-A943-3594F32D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397-E5A5-4698-A165-FC4B13D6AB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1F44-8D03-434C-92E8-17C514623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VALUATION &amp; RESEARCH IN WAKE COUNTY (NC) PUBLIC SCHOO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Holdzko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ant Superintend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ulation &amp;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 County Public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gnet Program Review (2007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amined degree that board’s goals for magnets were realiz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tilization of schoo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se of choice to promote diverse student populations, reduce concentration of pover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and educational opportuni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romote program innov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gnet Review (cont’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student assignment data and student demographic for indications of race, FRL-status, assignment to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all schools with respect to concentration of F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focus group interview/survey of principals to identify innovative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ifferences of achievement between magnet/base populations, compared to distr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GRAM EVALU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seek to implement nationally-developed programs (PBS, AVID, Reading Recovery) to meet specific needs. Evaluation focuses on fidelity of implementation as well as change in student outcom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developed programs (Standards-based grading, PES, etc.) try to focus more on logic modeling and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valuation of S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tle I school in year 2 of school improvement was required to offer Supplemental Education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2 students were provided tutoring service at a cost of $303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 were conducted with teachers and parents; student achievement data were exa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CHOOL STATUS EVAL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 measures of state and NCL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 of absolute measures of achievement (i.e., percentage of students at/above grade level) and calculation of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 of student residuals/effectiveness ind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nowledge Cre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tudies:  Using Effectiveness index to identify higher/lower performing teachers of 5 high school subjects, studied classroom practice; this method was adapted for elementary &amp; middl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:  An experimental program designed to provide reading intervention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Learning Communities:  Surveys intended to measure the quality/degree of implementation of PLCs in all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IR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art of an OCR consent decree, WCPSS agreed to analyze process of referrals to special education services and to design data-driven interventions to improve reading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Reading Intervention Study (IRIS) was developed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ic:  too many poor readers are referred to student support teams and ultimately to special education.  If we can improve reading early, referrals will de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IRIS (cont’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 involved random assignment of 169 students to Control or Treatment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lasted for 45 minutes 4 times a week for ten week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ere tested on a variety of measures before treatment, after treatment and end of year.  Controls had “mirror” assess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IRIS (cont’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study, treatment group had more positive outcomes, but these did not reach statistical signific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years later, students from both groups were identified and achievement data analyzed.  Again, no significant differences wer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NDOMIZED T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 study (IRIS) has used random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, principals, parents object to randomization:  “students aren’t guinea pig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ntervention support/detract from the core mission of the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pursuing a randomized trial project with Duke University related to PL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SS serves about 134,000 students, making it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district in the U.S. and the largest district in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ct has 93 elementary schools, 28 middle schools, 22 high schools and 4 special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30% of students qualify for FR; 14% are SWD; and 7.4% are L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TURE DIRECTIONS/ISS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raining in data use for principals &amp; teachers and experimenting with delivery methods/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emphasis on logic models and fidelity of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ing schools to design accountability schemes that include but are not limited to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UTURE DIRECTIONS (CONT’D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ing teachers’ ability to develop formative assessment plans/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ing the evaluation recommendations of the Curriculum Management Audit conducted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XT (cont’d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 County includes 12 incorporated towns plus suburbs and rural commu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90, the county population has increase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of this in-migration has been from areas of the country that have different traditions of school district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mployers in the county include IBM, GlaxoSmithKline, SAS, and 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research universities within 25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RGANIZATION OF EVAL&amp;RES DEPART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:  Assistant Superintendent and 3.5 support staf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:  Sr. Director and 2 professionals plus 4 support staf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Accountability:  Sr. Director and 5 professionals plus 2 support staf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ccountability:  Sr. Director and 4 professionals plus 3 support staf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s Admin:  Sr. Director plus 2 support staf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UDENT INFORMATION RESOURC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 WISE:  A comprehensive data base designed by state to provide information (demographic, achievement data) for every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Information Files:  Maintained by WCPSS on a mainframe to provide supplementary data for every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files:  Designed by the state to provide both achievement and growth data for all students in Grades 3-8 plus selected high school course ta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test files:  Designed by WCPSS adds achievement data for students in K-2 as well as some additional information for students in Grades 3-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EFFECTIVENESS IND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in WCPSS E&amp;R, this analysis tool results from regression analyses for individual students that control for FR, concentration of FR in school, special education status, special education service metho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for each student, with reports aggregated at the class/course and school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INDS OF RESEARC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Evaluation:  Healthy Schools, Magnet Schools, Student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Evaluation:  Implementation of PBS, AVID, Standards-based grading, IRI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tatus Evaluation:  Accountability measures of state and NCL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Creation:  Effectiveness Studies; 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gram Evaluation Standa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Standards:  Study serves the info needs of the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ility Standards:  Study is realistic, diplomatic, and econom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y Standards:  Study is legal and eth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Standards:  Study reveals and conveys technically adequat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LICY EVALU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Schools:  Values for 100 variables (both input and outcome) are calculated annually.  This information is used by the Leadership Team to ensure that schools remain “health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 Schools:  Measure the degree to which Board goals for these schools are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ssignment:  How well do different schools serve sub-group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5:26:12Z</dcterms:created>
  <dc:creator>david_holdzkom</dc:creator>
  <dc:description/>
  <dc:language>en-US</dc:language>
  <cp:lastModifiedBy>pcharles</cp:lastModifiedBy>
  <dcterms:modified xsi:type="dcterms:W3CDTF">2008-04-23T14:20:28Z</dcterms:modified>
  <cp:revision>9</cp:revision>
  <dc:subject/>
  <dc:title>EVALUATION &amp; RESEARCH IN WAKE COUNTY (NC) PUBLIC SCHOOLS</dc:title>
</cp:coreProperties>
</file>