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42FA-B13D-4C0E-8A39-6BBC2386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4288-4279-461C-A1CE-8DC03028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A453-0160-407E-AE3B-96A30C333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7CC4-8DEA-483B-BD77-3DAC4D28A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C91E-F926-4EBF-9551-94D53E16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CEA6-F03B-4687-BD38-91FC24C2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98C0-C311-4907-AB93-9DCC724D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7B7F-E18E-413C-AE3B-155DB915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3551-B34D-47F2-8D26-D7FD867D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BBE7-3D25-4394-BBC7-C780FE97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8563-3A04-4259-A6ED-0FC655F3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0BA4-5BF1-4C6B-AC71-84F5F34D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CB5F-E05A-4D40-9EF4-A52063BE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2E17-37F6-400B-879A-72AF7B17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467C-EE87-4BE4-8890-EBB45672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712F-FCB6-434D-BCFC-455EF3F3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C250-E5E1-41C5-BF2F-E225765AC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6895-5D91-4CA5-9F88-D6343161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9BB2-4B22-4C8E-8E2E-D3C45507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3ABE-AE9E-4F4A-8863-CDF5D1F3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2303-BB5D-4EF4-9113-4272CCCD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3793-5FAC-4D71-93BD-F81E0432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C8A0-CAA9-4AAE-AEBA-E40BEB73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F3A5-4EBC-42A2-9AE6-FCD7AB4A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65C4-1765-43BB-8126-43377E6780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72CB-DF4C-4AD8-A48C-4C6D156D6C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VALUATION &amp; RESEARCH IN WAKE COUNTY (NC) PUBLIC SCHOO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id Holdzko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ant Superintenden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ulation &amp;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ke County Public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gnet Program Review (2007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examined degree that board’s goals for magnets were realiz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Utilization of school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Use of choice to promote diverse student populations, reduce concentration of povert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xpand educational opportunit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Promote program innov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gnet Review (cont’d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d student assignment data and student demographic for indications of race, FRL-status, assignment to sch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d all schools with respect to concentration of F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ed focus group interview/survey of principals to identify innovative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d differences of achievement between magnet/base populations, compared to distri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GRAM EVALU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seek to implement nationally-developed programs (PBS, AVID, Reading Recovery) to meet specific needs. Evaluation focuses on fidelity of implementation as well as change in student outcom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ly developed programs (Standards-based grading, PES, etc.) try to focus more on logic modeling and out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valuation of S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itle I school in year 2 of school improvement was required to offer Supplemental Education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2 students were provided tutoring service at a cost of $303,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s were conducted with teachers and parents; student achievement data were exam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CHOOL STATUS EVALU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ability measures of state and NCL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ion of absolute measures of achievement (i.e., percentage of students at/above grade level) and calculation of grow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ion of student residuals/effectiveness ind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Knowledge Cre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ness Studies:  Using Effectiveness index to identify higher/lower performing teachers of 5 high school subjects, studied classroom practice; this method was adapted for elementary &amp; middle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IS:  An experimental program designed to provide reading intervention ear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Learning Communities:  Surveys intended to measure the quality/degree of implementation of PLCs in all sch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ject IRI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part of an OCR consent decree, WCPSS agreed to analyze process of referrals to special education services and to design data-driven interventions to improve reading in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ve Reading Intervention Study (IRIS) was developed to resp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gic:  too many poor readers are referred to student support teams and ultimately to special education.  If we can improve reading early, referrals will decr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ject IRIS (cont’d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IS involved random assignment of 169 students to Control or Treatment 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 lasted for 45 minutes 4 times a week for ten week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ere tested on a variety of measures before treatment, after treatment and end of year.  Controls had “mirror” assess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ject IRIS (cont’d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end of the study, treatment group had more positive outcomes, but these did not reach statistical signific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years later, students from both groups were identified and achievement data analyzed.  Again, no significant differences were f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NDOMIZED TRI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1 study (IRIS) has used randomiz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s, principals, parents object to randomization:  “students aren’t guinea pig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intervention support/detract from the core mission of the scho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pursuing a randomized trial project with Duke University related to PL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EX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CPSS serves about 134,000 students, making it the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rgest district in the U.S. and the largest district in North Car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trict has 93 elementary schools, 28 middle schools, 22 high schools and 4 special scho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30% of students qualify for FR; 14% are SWD; and 7.4% are L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UTURE DIRECTIONS/ISSU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raining in data use for principals &amp; teachers and experimenting with delivery methods/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emphasis on logic models and fidelity of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ing schools to design accountability schemes that include but are not limited to test sc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UTURE DIRECTIONS (CONT’D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ing teachers’ ability to develop formative assessment plans/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ing the evaluation recommendations of the Curriculum Management Audit conducted 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EXT (cont’d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ke County includes 12 incorporated towns plus suburbs and rural commun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1990, the county population has increased by 92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 of this in-migration has been from areas of the country that have different traditions of school district organiz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employers in the county include IBM, GlaxoSmithKline, SAS, and Cis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research universities within 25 m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RGANIZATION OF EVAL&amp;RES DEPARTMEN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:  Assistant Superintendent and 3.5 support staff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:  Sr. Director and 2 professionals plus 4 support staff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Accountability:  Sr. Director and 5 professionals plus 2 support staff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Accountability:  Sr. Director and 4 professionals plus 3 support staff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ts Admin:  Sr. Director plus 2 support staf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UDENT INFORMATION RESOURC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 WISE:  A comprehensive data base designed by state to provide information (demographic, achievement data) for every stu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Information Files:  Maintained by WCPSS on a mainframe to provide supplementary data for every stu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files:  Designed by the state to provide both achievement and growth data for all students in Grades 3-8 plus selected high school course tak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test files:  Designed by WCPSS adds achievement data for students in K-2 as well as some additional information for students in Grades 3-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 EFFECTIVENESS INDEX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in WCPSS E&amp;R, this analysis tool results from regression analyses for individual students that control for FR, concentration of FR in school, special education status, special education service method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d for each student, with reports aggregated at the class/course and school lev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KINDS OF RESEARCH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 Evaluation:  Healthy Schools, Magnet Schools, Student 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Evaluation:  Implementation of PBS, AVID, Standards-based grading, IRI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Status Evaluation:  Accountability measures of state and NCL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Creation:  Effectiveness Studies; I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gram Evaluation Standa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ty Standards:  Study serves the info needs of the aud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sibility Standards:  Study is realistic, diplomatic, and econom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riety Standards:  Study is legal and eth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cy Standards:  Study reveals and conveys technically adequate inf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OLICY EVALU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y Schools:  Values for 100 variables (both input and outcome) are calculated annually.  This information is used by the Leadership Team to ensure that schools remain “healthy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 Schools:  Measure the degree to which Board goals for these schools are m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Assignment:  How well do different schools serve sub-groups of stud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9T15:26:12Z</dcterms:created>
  <dc:creator>david_holdzkom</dc:creator>
  <dc:description/>
  <dc:language>en-US</dc:language>
  <cp:lastModifiedBy>pcharles</cp:lastModifiedBy>
  <dcterms:modified xsi:type="dcterms:W3CDTF">2008-04-23T14:20:28Z</dcterms:modified>
  <cp:revision>9</cp:revision>
  <dc:subject/>
  <dc:title>EVALUATION &amp; RESEARCH IN WAKE COUNTY (NC) PUBLIC SCHOOLS</dc:title>
</cp:coreProperties>
</file>