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3C7A-2D1E-4291-8C0C-96E42F401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2FB8-6C3B-47CB-B4FE-BA83F7AD3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5EA4-3167-48E7-A22F-5248F8546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7CDB-16F4-42D5-8806-B95CFE8A4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4540-074B-48F7-9005-1A8A49886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179D-7F01-4AB9-9542-720497F8A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A4CE-B4D2-4249-A02C-528A32FE6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D54B-459B-42CA-B356-0DD4E072F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8E62-03A8-407B-8751-BF094B1C1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829B-D891-4A07-90FB-D9EC17A3D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190A-0275-4C21-8876-F365F979C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E291-0FCD-4DFA-82DC-5685570DB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99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228600" y="16002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27444-5E21-4665-9BBD-CD7582F3A5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20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Arial"/>
              </a:rPr>
              <a:t>IES Workshop on Evaluating State and District Level Interventions</a:t>
            </a:r>
            <a:endParaRPr b="0" lang="en-US" sz="40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295280" y="312372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rk W. Lips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, Center for Evaluation Research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Methodolo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nderbilt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vid Holdzk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istant Superintendent for Evaluation and Resear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ke County Public School System, North Caroli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88400" y="6019920"/>
            <a:ext cx="367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ril 24, 2008 Washington, D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Mapping variables onto the intervention theory: Sample characteristics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55680" y="2801880"/>
            <a:ext cx="1676160" cy="955800"/>
          </a:xfrm>
          <a:prstGeom prst="ellipse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year old at-risk child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038480" y="1828800"/>
            <a:ext cx="1371600" cy="7621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sitive attitudes to sch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2895480"/>
            <a:ext cx="1371600" cy="7621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pre-literacy skil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038480" y="3962520"/>
            <a:ext cx="1371600" cy="9903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arn appropriate school behavi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715000" y="2895480"/>
            <a:ext cx="1371600" cy="7621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school readin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391520" y="2895480"/>
            <a:ext cx="1371600" cy="7621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eater learning gains in 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057400" y="3276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3733920" y="2209680"/>
            <a:ext cx="3045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733920" y="3276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410080" y="2286000"/>
            <a:ext cx="3049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5410080" y="3429000"/>
            <a:ext cx="3049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410080" y="32767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086600" y="3276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73640" y="4114800"/>
            <a:ext cx="2954520" cy="1465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ample descripto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Basic demographic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Diagnostic, need/eligi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Baseline perform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066680" y="2133720"/>
            <a:ext cx="228600" cy="533160"/>
          </a:xfrm>
          <a:prstGeom prst="downArrow">
            <a:avLst>
              <a:gd name="adj1" fmla="val 50000"/>
              <a:gd name="adj2" fmla="val 58307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972240" y="5181480"/>
            <a:ext cx="2399760" cy="1465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otential moderato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Setting, con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Personal and famil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acter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Prior exper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286000" y="2819520"/>
            <a:ext cx="1447920" cy="990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-K with literacy curricul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Mapping variables onto the intervention theory: Intervention characteristics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55680" y="2801880"/>
            <a:ext cx="1676160" cy="955800"/>
          </a:xfrm>
          <a:prstGeom prst="ellipse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year old at-risk child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038480" y="1828800"/>
            <a:ext cx="1371600" cy="7621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sitive attitudes to sch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038480" y="2895480"/>
            <a:ext cx="1371600" cy="7621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pre-literacy skil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038480" y="3962520"/>
            <a:ext cx="1371600" cy="9903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arn appropriate school behavi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715000" y="2895480"/>
            <a:ext cx="1371600" cy="7621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school readin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391520" y="2895480"/>
            <a:ext cx="1371600" cy="7621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eater learning gains in 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057400" y="3276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3733920" y="2209680"/>
            <a:ext cx="3045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7339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733920" y="3276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410080" y="2286000"/>
            <a:ext cx="3049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5410080" y="3429000"/>
            <a:ext cx="3049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410080" y="32767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086600" y="3276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923400" y="4038480"/>
            <a:ext cx="2782080" cy="2440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ndependent variab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T vs. C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Generic fidel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T and C exposure to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ic aspects of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vention (typ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ount, quali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895480" y="2286000"/>
            <a:ext cx="228600" cy="533520"/>
          </a:xfrm>
          <a:prstGeom prst="downArrow">
            <a:avLst>
              <a:gd name="adj1" fmla="val 50000"/>
              <a:gd name="adj2" fmla="val 58346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801760" y="4038480"/>
            <a:ext cx="3160080" cy="2715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pecific fidel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T and C (?) exposure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inctive aspects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intervention (typ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ount, quali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otential moderato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Characteristics of person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Intervention setting, con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, class 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819520"/>
            <a:ext cx="1447920" cy="990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-K with literacy curricul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Mapping variables onto the intervention theory: Intervention outcomes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55680" y="2801880"/>
            <a:ext cx="1676160" cy="955800"/>
          </a:xfrm>
          <a:prstGeom prst="ellipse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year old at-risk child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286000" y="2944800"/>
            <a:ext cx="1447920" cy="68580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osed to interven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038480" y="1828800"/>
            <a:ext cx="1371600" cy="7621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sitive attitudes to sch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038480" y="2895480"/>
            <a:ext cx="1371600" cy="7621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pre-literacy skil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038480" y="3962520"/>
            <a:ext cx="1371600" cy="9903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arn appropriate school behavi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715000" y="2895480"/>
            <a:ext cx="1371600" cy="7621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school readin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391520" y="2895480"/>
            <a:ext cx="1371600" cy="7621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eater learning gains in 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057400" y="3276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3733920" y="2209680"/>
            <a:ext cx="3045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733920" y="3276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410080" y="2286000"/>
            <a:ext cx="3049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5410080" y="3429000"/>
            <a:ext cx="3049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410080" y="32767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086600" y="3276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553080" y="1981080"/>
            <a:ext cx="228600" cy="533520"/>
          </a:xfrm>
          <a:prstGeom prst="downArrow">
            <a:avLst>
              <a:gd name="adj1" fmla="val 50000"/>
              <a:gd name="adj2" fmla="val 58346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69280" y="4495680"/>
            <a:ext cx="3620520" cy="1465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ocal dependent variabl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Pretests (pre-intervention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Posttests (at end of interven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Follow-ups (lagged after end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vention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2859000">
            <a:off x="6095880" y="1981080"/>
            <a:ext cx="228600" cy="533520"/>
          </a:xfrm>
          <a:prstGeom prst="downArrow">
            <a:avLst>
              <a:gd name="adj1" fmla="val 50000"/>
              <a:gd name="adj2" fmla="val 58346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rot="18757200">
            <a:off x="7019640" y="1955520"/>
            <a:ext cx="228600" cy="533520"/>
          </a:xfrm>
          <a:prstGeom prst="downArrow">
            <a:avLst>
              <a:gd name="adj1" fmla="val 50000"/>
              <a:gd name="adj2" fmla="val 58346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562720" y="4267080"/>
            <a:ext cx="3352680" cy="2014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Other dependent variabl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Side effects– possib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planned pos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negative outco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Mediators– DVs on caus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thways from interven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other DV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286000" y="2819520"/>
            <a:ext cx="1447920" cy="990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-K with literacy curricul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99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3300"/>
                </a:solidFill>
                <a:latin typeface="Arial"/>
              </a:rPr>
              <a:t>Research questions: Relationships of (possible) interest</a:t>
            </a:r>
            <a:endParaRPr b="0" lang="en-US" sz="40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560" y="1828440"/>
            <a:ext cx="8305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vention effects: Causal relationship between intervention and outco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ration of effects post-interven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rator relationships: Differential intervention effects for different subgroup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iator relationships: Stepwise causal relationship with effects on a proximal outcome causing effects on a distal outc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1905120" y="1600200"/>
            <a:ext cx="5257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Research Designs for Estimating Intervention Eff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What is an intervention effect and why is it so difficult to determi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315200" cy="5049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Research designs to discu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6858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strong 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Randomized experi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Regression-discontinu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weak 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Nonrandomized comparison groups with statistical contr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Comparative interrupted time se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1. Randomized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724280" y="1828800"/>
            <a:ext cx="2133720" cy="1295280"/>
          </a:xfrm>
          <a:prstGeom prst="ellipse">
            <a:avLst/>
          </a:prstGeom>
          <a:solidFill>
            <a:srgbClr val="f9fe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eive experimental interven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28600" y="2514600"/>
            <a:ext cx="2438280" cy="2057400"/>
          </a:xfrm>
          <a:prstGeom prst="ellipse">
            <a:avLst/>
          </a:prstGeom>
          <a:solidFill>
            <a:srgbClr val="f9fe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earch sample of students, teachers, classrooms, schools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800600" y="4114800"/>
            <a:ext cx="2057400" cy="1371600"/>
          </a:xfrm>
          <a:prstGeom prst="ellipse">
            <a:avLst/>
          </a:prstGeom>
          <a:solidFill>
            <a:srgbClr val="f9fe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not receive experimental interven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543800" y="2133720"/>
            <a:ext cx="1295280" cy="6094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c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543800" y="4495680"/>
            <a:ext cx="1295280" cy="6098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c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3200400" y="1295280"/>
            <a:ext cx="685800" cy="4572000"/>
            <a:chOff x="3200400" y="1295280"/>
            <a:chExt cx="685800" cy="4572000"/>
          </a:xfrm>
        </p:grpSpPr>
        <p:sp>
          <p:nvSpPr>
            <p:cNvPr id="227" name=""/>
            <p:cNvSpPr/>
            <p:nvPr/>
          </p:nvSpPr>
          <p:spPr>
            <a:xfrm>
              <a:off x="3200400" y="1295280"/>
              <a:ext cx="685800" cy="11430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ig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200400" y="2438280"/>
              <a:ext cx="685800" cy="11430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e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ig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200400" y="3581280"/>
              <a:ext cx="685800" cy="11430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200400" y="4724280"/>
              <a:ext cx="685800" cy="11430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Low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"/>
          <p:cNvSpPr/>
          <p:nvPr/>
        </p:nvSpPr>
        <p:spPr>
          <a:xfrm flipV="1">
            <a:off x="2666880" y="304812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66880" y="373392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2514600" y="1828440"/>
            <a:ext cx="68580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514600" y="4038480"/>
            <a:ext cx="68580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3886200" y="2514600"/>
            <a:ext cx="838080" cy="281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4724280"/>
            <a:ext cx="9144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3886200" y="2514240"/>
            <a:ext cx="838080" cy="167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886200" y="4191120"/>
            <a:ext cx="9144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3886200" y="2514600"/>
            <a:ext cx="8380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886200" y="3048120"/>
            <a:ext cx="91440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886200" y="1828800"/>
            <a:ext cx="83808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886200" y="1828800"/>
            <a:ext cx="914400" cy="28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858000" y="24382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858000" y="4800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470360" y="3352680"/>
            <a:ext cx="137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Interven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eff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8153280" y="27428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8153280" y="39625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993240" y="6172200"/>
            <a:ext cx="9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051360" y="6095880"/>
            <a:ext cx="101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728240" y="6019920"/>
            <a:ext cx="22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ndom assig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n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697520" y="6172200"/>
            <a:ext cx="100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t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278520" y="3733920"/>
            <a:ext cx="575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70440" y="3276720"/>
            <a:ext cx="120636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ndom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ig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Circumstances conducive to randomized experi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demand than supply for program– allocate scarce resource by lotte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program that can be phased in– wait list control had delayed st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ll-out or add-on program for selected students– randomly select from among those elig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lunteers willing to opt in for a chance to receive the progra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Example: Junior high algebra curriculu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2000-01 the Moore Oklahoma Independent School District conducted a study of the effectiveness of the Cognitive Tutor Algebra I program on students in their junior high school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s in 5 junior high schools were randomly assigned to either the Cognitive Tutor Algebra I course or the ‘practical as usual’ algebra courses. Cognitive Tutor teachers received the curriculum materials and 4 days of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come measures included the ETS Algebra I end-of-course exam, course grades, and a survey of student attitudes towards mathematic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Purpose</a:t>
            </a: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7315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help schools, districts, and states design and implement rigorous evaluations of the effects of promising practices, programs, and policies on educational outco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Example:  Alternative high school for students at risk of dropping ou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077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rizon High School in Las Vegas identified 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rade students behind grade level and at risk of dropping ou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random sample of these students was assigned to attend an alternative high school that featured a focus on cooperative learning, small group instruction, and support servi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comes were compared for the alternative and regular high schools on dropout rates, self-esteem, drug use, and arrest ra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Example: Remedial reading programs for elementary stud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7620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llegheny Intermediate Unit (AIU), which serves 42 suburban school districts in Allegheny County, Pennsylvania, randomly assigned 50 schools to one of four commercially available remedial reading interven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in each school struggling readers in grades 3 and 5 were identified and randomly assigned to instruction as usual or the remedial reading program designated for that sch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each program, 3 students met with a trained teacher one hour/day for 20 wee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s of reading skill were administered at the beginning and end of the school year for program and control stud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2. Regression-discontinuity </a:t>
            </a:r>
            <a:br>
              <a:rPr sz="4000"/>
            </a:b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(aka the cutting-point design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ell-executed, its ability to provide an unbiased estimate of the intervention effect is strong– comparable to a randomized experi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adaptable to many circumstances where it may be difficult to apply a randomized desig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16000" y="3600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Consider first a posttest on pretest regression for a randomized experiment with no eff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H="1" flipV="1">
            <a:off x="4648320" y="3681360"/>
            <a:ext cx="1440" cy="140184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019920" y="5305320"/>
            <a:ext cx="12175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test (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66880" y="1785960"/>
            <a:ext cx="1800" cy="331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43400" y="5105520"/>
            <a:ext cx="762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n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666880" y="5099040"/>
            <a:ext cx="419112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791320" y="2514600"/>
            <a:ext cx="30456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791320" y="2924280"/>
            <a:ext cx="30456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048120" y="2717280"/>
            <a:ext cx="3124080" cy="196884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3" name=""/>
              <p:cNvSpPr txBox="1"/>
              <p:nvPr/>
            </p:nvSpPr>
            <p:spPr>
              <a:xfrm>
                <a:off x="0" y="3297240"/>
                <a:ext cx="114480" cy="21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" name=""/>
              <p:cNvSpPr txBox="1"/>
              <p:nvPr/>
            </p:nvSpPr>
            <p:spPr>
              <a:xfrm>
                <a:off x="2835360" y="6324480"/>
                <a:ext cx="2771640" cy="4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75" name=""/>
          <p:cNvSpPr/>
          <p:nvPr/>
        </p:nvSpPr>
        <p:spPr>
          <a:xfrm>
            <a:off x="838080" y="5942880"/>
            <a:ext cx="721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orresponding regression equation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: 1=treatment, 0=contro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0" y="35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666880" y="3657600"/>
            <a:ext cx="1933560" cy="1260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828800" y="3462480"/>
            <a:ext cx="762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n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1752480"/>
            <a:ext cx="914400" cy="6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sttes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16000" y="3600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Pretest-posttest randomized experiment, </a:t>
            </a:r>
            <a:br>
              <a:rPr sz="3200"/>
            </a:b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now with an intervention eff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H="1" flipV="1">
            <a:off x="4648320" y="2971440"/>
            <a:ext cx="1440" cy="211140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019920" y="5305320"/>
            <a:ext cx="12175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test (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752480" y="1785960"/>
            <a:ext cx="9144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sttes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666880" y="1785960"/>
            <a:ext cx="1800" cy="331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962520" y="5105520"/>
            <a:ext cx="121896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 &amp; C Mean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666880" y="5099040"/>
            <a:ext cx="419112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791320" y="1752480"/>
            <a:ext cx="30456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791320" y="2924280"/>
            <a:ext cx="30456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3048120" y="2717280"/>
            <a:ext cx="3124080" cy="196884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0" y="3297240"/>
                <a:ext cx="114480" cy="21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2859120" y="6172200"/>
                <a:ext cx="277164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92" name=""/>
          <p:cNvSpPr/>
          <p:nvPr/>
        </p:nvSpPr>
        <p:spPr>
          <a:xfrm>
            <a:off x="0" y="35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666880" y="3657600"/>
            <a:ext cx="1933560" cy="1260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744560" y="3471840"/>
            <a:ext cx="91440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 Mean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3048120" y="1981080"/>
            <a:ext cx="3124080" cy="19684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664000" y="2921040"/>
            <a:ext cx="1933560" cy="1260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724040" y="2768760"/>
            <a:ext cx="91440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 Mean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2914560" y="2916360"/>
            <a:ext cx="1800" cy="26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752560" y="3114720"/>
            <a:ext cx="3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H="1" flipV="1">
            <a:off x="2916000" y="3398760"/>
            <a:ext cx="4680" cy="254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16000" y="3600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Consider now the same regression with no effect but with a cutting point appli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H="1" flipV="1">
            <a:off x="4191120" y="2209680"/>
            <a:ext cx="1440" cy="28735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111640" y="5305320"/>
            <a:ext cx="2133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lection Variable (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752480" y="1785960"/>
            <a:ext cx="9144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sttes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666880" y="1785960"/>
            <a:ext cx="1800" cy="331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657600" y="5105520"/>
            <a:ext cx="10666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tting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666880" y="5099040"/>
            <a:ext cx="419112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276720" y="4495680"/>
            <a:ext cx="30456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791320" y="2924280"/>
            <a:ext cx="30456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4191120" y="2717640"/>
            <a:ext cx="1981080" cy="124488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1" name=""/>
              <p:cNvSpPr txBox="1"/>
              <p:nvPr/>
            </p:nvSpPr>
            <p:spPr>
              <a:xfrm>
                <a:off x="0" y="3297240"/>
                <a:ext cx="114480" cy="21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2" name=""/>
              <p:cNvSpPr txBox="1"/>
              <p:nvPr/>
            </p:nvSpPr>
            <p:spPr>
              <a:xfrm>
                <a:off x="2935440" y="6172200"/>
                <a:ext cx="277308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13" name=""/>
          <p:cNvSpPr/>
          <p:nvPr/>
        </p:nvSpPr>
        <p:spPr>
          <a:xfrm>
            <a:off x="0" y="35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687760" y="4295880"/>
            <a:ext cx="892080" cy="324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725480" y="3147840"/>
            <a:ext cx="9144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 Mean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3036960" y="3967200"/>
            <a:ext cx="1143000" cy="719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12960" y="3301920"/>
            <a:ext cx="2467080" cy="1764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743120" y="4145040"/>
            <a:ext cx="91440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 Mean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216000" y="3600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Regression discontinuity scatterplot (null cas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H="1" flipV="1">
            <a:off x="4191120" y="2209680"/>
            <a:ext cx="1440" cy="28735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119560" y="5305320"/>
            <a:ext cx="2133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lection Variable (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752480" y="1785960"/>
            <a:ext cx="9144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sttes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666880" y="1785960"/>
            <a:ext cx="1800" cy="331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657600" y="5105520"/>
            <a:ext cx="10666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tting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666880" y="5099040"/>
            <a:ext cx="419112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971800" y="3505320"/>
            <a:ext cx="3049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867280" y="3657600"/>
            <a:ext cx="3049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4191120" y="2717640"/>
            <a:ext cx="1981080" cy="124488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0" y="3297240"/>
                <a:ext cx="114480" cy="21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" name=""/>
              <p:cNvSpPr txBox="1"/>
              <p:nvPr/>
            </p:nvSpPr>
            <p:spPr>
              <a:xfrm>
                <a:off x="2935440" y="6172200"/>
                <a:ext cx="277308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31" name=""/>
          <p:cNvSpPr/>
          <p:nvPr/>
        </p:nvSpPr>
        <p:spPr>
          <a:xfrm>
            <a:off x="0" y="35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3036960" y="3967200"/>
            <a:ext cx="1143000" cy="719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876920" y="3352680"/>
            <a:ext cx="75960" cy="76320"/>
          </a:xfrm>
          <a:prstGeom prst="flowChartConnector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952880" y="3124080"/>
            <a:ext cx="76320" cy="76320"/>
          </a:xfrm>
          <a:prstGeom prst="flowChartConnector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334120" y="3276720"/>
            <a:ext cx="75960" cy="75960"/>
          </a:xfrm>
          <a:prstGeom prst="flowChartConnector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724280" y="3809880"/>
            <a:ext cx="76320" cy="76320"/>
          </a:xfrm>
          <a:prstGeom prst="flowChartConnector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648320" y="3352680"/>
            <a:ext cx="75960" cy="76320"/>
          </a:xfrm>
          <a:prstGeom prst="flowChartConnector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267080" y="4114800"/>
            <a:ext cx="76320" cy="76320"/>
          </a:xfrm>
          <a:prstGeom prst="flowChartConnector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572000" y="3505320"/>
            <a:ext cx="76320" cy="75960"/>
          </a:xfrm>
          <a:prstGeom prst="flowChartConnector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4267080" y="3657600"/>
            <a:ext cx="76320" cy="76320"/>
          </a:xfrm>
          <a:prstGeom prst="flowChartConnector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724280" y="3657600"/>
            <a:ext cx="76320" cy="76320"/>
          </a:xfrm>
          <a:prstGeom prst="flowChartConnector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495680" y="3581280"/>
            <a:ext cx="76320" cy="76320"/>
          </a:xfrm>
          <a:prstGeom prst="flowChartConnector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495680" y="3962520"/>
            <a:ext cx="76320" cy="75960"/>
          </a:xfrm>
          <a:prstGeom prst="flowChartConnector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267080" y="3429000"/>
            <a:ext cx="76320" cy="76320"/>
          </a:xfrm>
          <a:prstGeom prst="flowChartConnector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105520" y="3276720"/>
            <a:ext cx="75960" cy="75960"/>
          </a:xfrm>
          <a:prstGeom prst="flowChartConnector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257800" y="3429000"/>
            <a:ext cx="76320" cy="76320"/>
          </a:xfrm>
          <a:prstGeom prst="flowChartConnector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5486400" y="3352680"/>
            <a:ext cx="76320" cy="76320"/>
          </a:xfrm>
          <a:prstGeom prst="flowChartConnector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34120" y="2971800"/>
            <a:ext cx="75960" cy="76320"/>
          </a:xfrm>
          <a:prstGeom prst="flowChartConnector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4952880" y="3581280"/>
            <a:ext cx="76320" cy="76320"/>
          </a:xfrm>
          <a:prstGeom prst="flowChartConnector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562720" y="3200400"/>
            <a:ext cx="75960" cy="76320"/>
          </a:xfrm>
          <a:prstGeom prst="flowChartConnector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715000" y="3352680"/>
            <a:ext cx="76320" cy="76320"/>
          </a:xfrm>
          <a:prstGeom prst="flowChartConnector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791320" y="3124080"/>
            <a:ext cx="75960" cy="76320"/>
          </a:xfrm>
          <a:prstGeom prst="flowChartConnector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943600" y="2971800"/>
            <a:ext cx="76320" cy="76320"/>
          </a:xfrm>
          <a:prstGeom prst="flowChartConnector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1320" y="2743200"/>
            <a:ext cx="75960" cy="76320"/>
          </a:xfrm>
          <a:prstGeom prst="flowChartConnector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019920" y="3124080"/>
            <a:ext cx="75960" cy="76320"/>
          </a:xfrm>
          <a:prstGeom prst="flowChartConnector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562720" y="2895480"/>
            <a:ext cx="75960" cy="76320"/>
          </a:xfrm>
          <a:prstGeom prst="flowChartConnector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638680" y="3048120"/>
            <a:ext cx="76320" cy="75960"/>
          </a:xfrm>
          <a:prstGeom prst="flowChartConnector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410080" y="2819520"/>
            <a:ext cx="76320" cy="75960"/>
          </a:xfrm>
          <a:prstGeom prst="flowChartConnector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019920" y="2743200"/>
            <a:ext cx="75960" cy="76320"/>
          </a:xfrm>
          <a:prstGeom prst="flowChartConnector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019920" y="2895480"/>
            <a:ext cx="75960" cy="76320"/>
          </a:xfrm>
          <a:prstGeom prst="flowChartConnector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181480" y="3581280"/>
            <a:ext cx="76320" cy="76320"/>
          </a:xfrm>
          <a:prstGeom prst="flowChartConnector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200400"/>
            <a:ext cx="76320" cy="76320"/>
          </a:xfrm>
          <a:prstGeom prst="flowChartConnector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4952880" y="3733920"/>
            <a:ext cx="76320" cy="75960"/>
          </a:xfrm>
          <a:prstGeom prst="flowChartConnector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724280" y="3429000"/>
            <a:ext cx="76320" cy="76320"/>
          </a:xfrm>
          <a:prstGeom prst="flowChartConnector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5105520" y="2971800"/>
            <a:ext cx="75960" cy="76320"/>
          </a:xfrm>
          <a:prstGeom prst="flowChartConnector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4495680" y="3809880"/>
            <a:ext cx="76320" cy="76320"/>
          </a:xfrm>
          <a:prstGeom prst="flowChartConnector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419720" y="3352680"/>
            <a:ext cx="75960" cy="76320"/>
          </a:xfrm>
          <a:prstGeom prst="flowChartConnector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876920" y="3200400"/>
            <a:ext cx="75960" cy="76320"/>
          </a:xfrm>
          <a:prstGeom prst="flowChartConnector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876920" y="3809880"/>
            <a:ext cx="75960" cy="76320"/>
          </a:xfrm>
          <a:prstGeom prst="flowChartConnector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410080" y="3505320"/>
            <a:ext cx="76320" cy="75960"/>
          </a:xfrm>
          <a:prstGeom prst="flowChartConnector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4648320" y="3962520"/>
            <a:ext cx="75960" cy="75960"/>
          </a:xfrm>
          <a:prstGeom prst="flowChartConnector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181480" y="3124080"/>
            <a:ext cx="76320" cy="76320"/>
          </a:xfrm>
          <a:prstGeom prst="flowChartConnector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791320" y="2895480"/>
            <a:ext cx="75960" cy="76320"/>
          </a:xfrm>
          <a:prstGeom prst="flowChartConnector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5105520" y="3429000"/>
            <a:ext cx="75960" cy="76320"/>
          </a:xfrm>
          <a:prstGeom prst="flowChartConnector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410080" y="3124080"/>
            <a:ext cx="76320" cy="76320"/>
          </a:xfrm>
          <a:prstGeom prst="flowChartConnector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267080" y="3886200"/>
            <a:ext cx="76320" cy="76320"/>
          </a:xfrm>
          <a:prstGeom prst="flowChartConnector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038480" y="3581280"/>
            <a:ext cx="76320" cy="7632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114800" y="3809880"/>
            <a:ext cx="76320" cy="7632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962520" y="3657600"/>
            <a:ext cx="75960" cy="7632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733920" y="4114800"/>
            <a:ext cx="75960" cy="7632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4114800" y="4038480"/>
            <a:ext cx="76320" cy="7632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4038480" y="4191120"/>
            <a:ext cx="76320" cy="7596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962520" y="3809880"/>
            <a:ext cx="75960" cy="7632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886200" y="4343400"/>
            <a:ext cx="76320" cy="7632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657600" y="4419720"/>
            <a:ext cx="76320" cy="7596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657600" y="3809880"/>
            <a:ext cx="76320" cy="7632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886200" y="3962520"/>
            <a:ext cx="76320" cy="7596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038480" y="4343400"/>
            <a:ext cx="76320" cy="7632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733920" y="3962520"/>
            <a:ext cx="75960" cy="7596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809880" y="4419720"/>
            <a:ext cx="76320" cy="7596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505320" y="3962520"/>
            <a:ext cx="75960" cy="7596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505320" y="4114800"/>
            <a:ext cx="75960" cy="7632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505320" y="4572000"/>
            <a:ext cx="75960" cy="7632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3200400" y="4114800"/>
            <a:ext cx="76320" cy="7632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971800" y="4495680"/>
            <a:ext cx="76320" cy="7632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200400" y="4648320"/>
            <a:ext cx="76320" cy="7596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657600" y="4267080"/>
            <a:ext cx="76320" cy="7632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809880" y="4419720"/>
            <a:ext cx="76320" cy="7596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429000" y="4419720"/>
            <a:ext cx="76320" cy="7596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124080" y="4343400"/>
            <a:ext cx="76320" cy="7632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886200" y="4191120"/>
            <a:ext cx="76320" cy="7596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505320" y="4267080"/>
            <a:ext cx="75960" cy="7632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352680" y="4495680"/>
            <a:ext cx="76320" cy="7632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200400" y="4419720"/>
            <a:ext cx="76320" cy="7596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352680" y="4191120"/>
            <a:ext cx="76320" cy="7596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200400" y="4267080"/>
            <a:ext cx="76320" cy="7632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4419720" y="3733920"/>
            <a:ext cx="75960" cy="75960"/>
          </a:xfrm>
          <a:prstGeom prst="flowChartConnector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216000" y="3600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Now add an intervention effe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H="1" flipV="1">
            <a:off x="4191120" y="2209680"/>
            <a:ext cx="1440" cy="28735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083200" y="5295960"/>
            <a:ext cx="21589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lection Variable (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752480" y="1785960"/>
            <a:ext cx="9144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sttes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2666880" y="1785960"/>
            <a:ext cx="1800" cy="331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657600" y="5105520"/>
            <a:ext cx="10666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tting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2666880" y="5099040"/>
            <a:ext cx="419112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200400" y="4038480"/>
            <a:ext cx="3049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24280"/>
            <a:ext cx="30456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 flipV="1">
            <a:off x="4191120" y="2717640"/>
            <a:ext cx="1981080" cy="124488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8" name=""/>
              <p:cNvSpPr txBox="1"/>
              <p:nvPr/>
            </p:nvSpPr>
            <p:spPr>
              <a:xfrm>
                <a:off x="0" y="3297240"/>
                <a:ext cx="114480" cy="21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9" name=""/>
              <p:cNvSpPr txBox="1"/>
              <p:nvPr/>
            </p:nvSpPr>
            <p:spPr>
              <a:xfrm>
                <a:off x="2935440" y="6095880"/>
                <a:ext cx="2773080" cy="4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20" name=""/>
          <p:cNvSpPr/>
          <p:nvPr/>
        </p:nvSpPr>
        <p:spPr>
          <a:xfrm>
            <a:off x="0" y="35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3048120" y="3200400"/>
            <a:ext cx="1143000" cy="719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4192560" y="3714840"/>
            <a:ext cx="1440" cy="239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4030560" y="3421080"/>
            <a:ext cx="3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4189320" y="3220920"/>
            <a:ext cx="1800" cy="262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216000" y="3600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Regression discontinuity scatterplot with eff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 flipV="1">
            <a:off x="4191120" y="2209680"/>
            <a:ext cx="1440" cy="28735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5207040" y="5295960"/>
            <a:ext cx="21337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lection Variable (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752480" y="1785960"/>
            <a:ext cx="9144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sttes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666880" y="1785960"/>
            <a:ext cx="1800" cy="331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657600" y="5105520"/>
            <a:ext cx="10666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tting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666880" y="5099040"/>
            <a:ext cx="419112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71800" y="2286000"/>
            <a:ext cx="3049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867280" y="3657600"/>
            <a:ext cx="3049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 flipV="1">
            <a:off x="4191120" y="2717640"/>
            <a:ext cx="1981080" cy="124488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5" name=""/>
              <p:cNvSpPr txBox="1"/>
              <p:nvPr/>
            </p:nvSpPr>
            <p:spPr>
              <a:xfrm>
                <a:off x="0" y="3297240"/>
                <a:ext cx="114480" cy="21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6" name=""/>
              <p:cNvSpPr txBox="1"/>
              <p:nvPr/>
            </p:nvSpPr>
            <p:spPr>
              <a:xfrm>
                <a:off x="2935440" y="6172200"/>
                <a:ext cx="277308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37" name=""/>
          <p:cNvSpPr/>
          <p:nvPr/>
        </p:nvSpPr>
        <p:spPr>
          <a:xfrm>
            <a:off x="0" y="35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4876920" y="3352680"/>
            <a:ext cx="75960" cy="76320"/>
          </a:xfrm>
          <a:prstGeom prst="flowChartConnector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4952880" y="3124080"/>
            <a:ext cx="76320" cy="76320"/>
          </a:xfrm>
          <a:prstGeom prst="flowChartConnector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5334120" y="3276720"/>
            <a:ext cx="75960" cy="75960"/>
          </a:xfrm>
          <a:prstGeom prst="flowChartConnector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4724280" y="3809880"/>
            <a:ext cx="76320" cy="76320"/>
          </a:xfrm>
          <a:prstGeom prst="flowChartConnector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4648320" y="3352680"/>
            <a:ext cx="75960" cy="76320"/>
          </a:xfrm>
          <a:prstGeom prst="flowChartConnector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4267080" y="4114800"/>
            <a:ext cx="76320" cy="76320"/>
          </a:xfrm>
          <a:prstGeom prst="flowChartConnector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572000" y="3505320"/>
            <a:ext cx="76320" cy="75960"/>
          </a:xfrm>
          <a:prstGeom prst="flowChartConnector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4267080" y="3657600"/>
            <a:ext cx="76320" cy="76320"/>
          </a:xfrm>
          <a:prstGeom prst="flowChartConnector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4724280" y="3657600"/>
            <a:ext cx="76320" cy="76320"/>
          </a:xfrm>
          <a:prstGeom prst="flowChartConnector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4495680" y="3581280"/>
            <a:ext cx="76320" cy="76320"/>
          </a:xfrm>
          <a:prstGeom prst="flowChartConnector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4495680" y="3962520"/>
            <a:ext cx="76320" cy="75960"/>
          </a:xfrm>
          <a:prstGeom prst="flowChartConnector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267080" y="3429000"/>
            <a:ext cx="76320" cy="76320"/>
          </a:xfrm>
          <a:prstGeom prst="flowChartConnector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5105520" y="3276720"/>
            <a:ext cx="75960" cy="75960"/>
          </a:xfrm>
          <a:prstGeom prst="flowChartConnector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5257800" y="3429000"/>
            <a:ext cx="76320" cy="76320"/>
          </a:xfrm>
          <a:prstGeom prst="flowChartConnector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5486400" y="3352680"/>
            <a:ext cx="76320" cy="76320"/>
          </a:xfrm>
          <a:prstGeom prst="flowChartConnector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5334120" y="2971800"/>
            <a:ext cx="75960" cy="76320"/>
          </a:xfrm>
          <a:prstGeom prst="flowChartConnector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4952880" y="3581280"/>
            <a:ext cx="76320" cy="76320"/>
          </a:xfrm>
          <a:prstGeom prst="flowChartConnector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562720" y="3200400"/>
            <a:ext cx="75960" cy="76320"/>
          </a:xfrm>
          <a:prstGeom prst="flowChartConnector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715000" y="3352680"/>
            <a:ext cx="76320" cy="76320"/>
          </a:xfrm>
          <a:prstGeom prst="flowChartConnector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5791320" y="3124080"/>
            <a:ext cx="75960" cy="76320"/>
          </a:xfrm>
          <a:prstGeom prst="flowChartConnector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5943600" y="2971800"/>
            <a:ext cx="76320" cy="76320"/>
          </a:xfrm>
          <a:prstGeom prst="flowChartConnector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5791320" y="2743200"/>
            <a:ext cx="75960" cy="76320"/>
          </a:xfrm>
          <a:prstGeom prst="flowChartConnector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6019920" y="3124080"/>
            <a:ext cx="75960" cy="76320"/>
          </a:xfrm>
          <a:prstGeom prst="flowChartConnector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5562720" y="2895480"/>
            <a:ext cx="75960" cy="76320"/>
          </a:xfrm>
          <a:prstGeom prst="flowChartConnector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5638680" y="3048120"/>
            <a:ext cx="76320" cy="75960"/>
          </a:xfrm>
          <a:prstGeom prst="flowChartConnector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5410080" y="2819520"/>
            <a:ext cx="76320" cy="75960"/>
          </a:xfrm>
          <a:prstGeom prst="flowChartConnector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019920" y="2743200"/>
            <a:ext cx="75960" cy="76320"/>
          </a:xfrm>
          <a:prstGeom prst="flowChartConnector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6019920" y="2895480"/>
            <a:ext cx="75960" cy="76320"/>
          </a:xfrm>
          <a:prstGeom prst="flowChartConnector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5181480" y="3581280"/>
            <a:ext cx="76320" cy="76320"/>
          </a:xfrm>
          <a:prstGeom prst="flowChartConnector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4724280" y="3200400"/>
            <a:ext cx="76320" cy="76320"/>
          </a:xfrm>
          <a:prstGeom prst="flowChartConnector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952880" y="3733920"/>
            <a:ext cx="76320" cy="75960"/>
          </a:xfrm>
          <a:prstGeom prst="flowChartConnector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4724280" y="3429000"/>
            <a:ext cx="76320" cy="76320"/>
          </a:xfrm>
          <a:prstGeom prst="flowChartConnector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5105520" y="2971800"/>
            <a:ext cx="75960" cy="76320"/>
          </a:xfrm>
          <a:prstGeom prst="flowChartConnector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495680" y="3809880"/>
            <a:ext cx="76320" cy="76320"/>
          </a:xfrm>
          <a:prstGeom prst="flowChartConnector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4419720" y="3352680"/>
            <a:ext cx="75960" cy="76320"/>
          </a:xfrm>
          <a:prstGeom prst="flowChartConnector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4876920" y="3200400"/>
            <a:ext cx="75960" cy="76320"/>
          </a:xfrm>
          <a:prstGeom prst="flowChartConnector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4876920" y="3809880"/>
            <a:ext cx="75960" cy="76320"/>
          </a:xfrm>
          <a:prstGeom prst="flowChartConnector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5410080" y="3505320"/>
            <a:ext cx="76320" cy="75960"/>
          </a:xfrm>
          <a:prstGeom prst="flowChartConnector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4648320" y="3962520"/>
            <a:ext cx="75960" cy="75960"/>
          </a:xfrm>
          <a:prstGeom prst="flowChartConnector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5181480" y="3124080"/>
            <a:ext cx="76320" cy="76320"/>
          </a:xfrm>
          <a:prstGeom prst="flowChartConnector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5791320" y="2895480"/>
            <a:ext cx="75960" cy="76320"/>
          </a:xfrm>
          <a:prstGeom prst="flowChartConnector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105520" y="3429000"/>
            <a:ext cx="75960" cy="76320"/>
          </a:xfrm>
          <a:prstGeom prst="flowChartConnector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5410080" y="3124080"/>
            <a:ext cx="76320" cy="76320"/>
          </a:xfrm>
          <a:prstGeom prst="flowChartConnector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267080" y="3886200"/>
            <a:ext cx="76320" cy="76320"/>
          </a:xfrm>
          <a:prstGeom prst="flowChartConnector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419720" y="3733920"/>
            <a:ext cx="75960" cy="75960"/>
          </a:xfrm>
          <a:prstGeom prst="flowChartConnector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2971800" y="2819520"/>
            <a:ext cx="1219320" cy="1143000"/>
            <a:chOff x="2971800" y="2819520"/>
            <a:chExt cx="1219320" cy="1143000"/>
          </a:xfrm>
        </p:grpSpPr>
        <p:sp>
          <p:nvSpPr>
            <p:cNvPr id="484" name=""/>
            <p:cNvSpPr/>
            <p:nvPr/>
          </p:nvSpPr>
          <p:spPr>
            <a:xfrm flipV="1">
              <a:off x="3036960" y="3205440"/>
              <a:ext cx="1143000" cy="7192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038480" y="2819520"/>
              <a:ext cx="76320" cy="7632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114800" y="3048120"/>
              <a:ext cx="76320" cy="7632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962520" y="2895840"/>
              <a:ext cx="75960" cy="7632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733920" y="3353040"/>
              <a:ext cx="75960" cy="7632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114800" y="3276720"/>
              <a:ext cx="76320" cy="7632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038480" y="3429360"/>
              <a:ext cx="76320" cy="7596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962520" y="3048120"/>
              <a:ext cx="75960" cy="7632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886200" y="3581640"/>
              <a:ext cx="76320" cy="7632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657600" y="3657960"/>
              <a:ext cx="76320" cy="7596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657600" y="3048120"/>
              <a:ext cx="76320" cy="7632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886200" y="3200760"/>
              <a:ext cx="76320" cy="7596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038480" y="3581640"/>
              <a:ext cx="76320" cy="7632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733920" y="3200760"/>
              <a:ext cx="75960" cy="7596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3505320" y="3200760"/>
              <a:ext cx="75960" cy="7596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5320" y="3353040"/>
              <a:ext cx="75960" cy="7632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505320" y="3810240"/>
              <a:ext cx="75960" cy="7632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200400" y="3353040"/>
              <a:ext cx="76320" cy="7632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971800" y="3733920"/>
              <a:ext cx="76320" cy="7632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200400" y="3886560"/>
              <a:ext cx="76320" cy="7596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657600" y="3505320"/>
              <a:ext cx="76320" cy="7632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809880" y="3657960"/>
              <a:ext cx="76320" cy="7596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3429000" y="3657960"/>
              <a:ext cx="76320" cy="7596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124080" y="3581640"/>
              <a:ext cx="76320" cy="7632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3886200" y="3429360"/>
              <a:ext cx="76320" cy="7596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505320" y="3505320"/>
              <a:ext cx="75960" cy="7632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352680" y="3733920"/>
              <a:ext cx="76320" cy="7632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200400" y="3657960"/>
              <a:ext cx="76320" cy="7596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352680" y="3429360"/>
              <a:ext cx="76320" cy="7596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200400" y="3505320"/>
              <a:ext cx="76320" cy="7632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216000" y="3600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The effect estimated by R-D is the same as that from the randomized experi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 flipH="1" flipV="1">
            <a:off x="4191120" y="2286000"/>
            <a:ext cx="1440" cy="28735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5226120" y="5334120"/>
            <a:ext cx="213336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lection Variable (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1752480" y="1785960"/>
            <a:ext cx="9144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sttes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2666880" y="1785960"/>
            <a:ext cx="1800" cy="331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2666880" y="5099040"/>
            <a:ext cx="419112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2971800" y="3352680"/>
            <a:ext cx="3049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5791320" y="2924280"/>
            <a:ext cx="30456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 flipV="1">
            <a:off x="4191120" y="2717280"/>
            <a:ext cx="1981080" cy="124164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3" name=""/>
              <p:cNvSpPr txBox="1"/>
              <p:nvPr/>
            </p:nvSpPr>
            <p:spPr>
              <a:xfrm>
                <a:off x="0" y="3297240"/>
                <a:ext cx="114480" cy="21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4" name=""/>
              <p:cNvSpPr txBox="1"/>
              <p:nvPr/>
            </p:nvSpPr>
            <p:spPr>
              <a:xfrm>
                <a:off x="2859120" y="6095880"/>
                <a:ext cx="2771640" cy="4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25" name=""/>
          <p:cNvSpPr/>
          <p:nvPr/>
        </p:nvSpPr>
        <p:spPr>
          <a:xfrm>
            <a:off x="0" y="35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2235240" y="3946680"/>
            <a:ext cx="1933560" cy="1260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 flipV="1">
            <a:off x="2967120" y="3225600"/>
            <a:ext cx="1224000" cy="7650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2286000" y="3200400"/>
            <a:ext cx="1933560" cy="1260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 flipH="1" flipV="1">
            <a:off x="2373480" y="3200400"/>
            <a:ext cx="1440" cy="26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2209680" y="3398760"/>
            <a:ext cx="3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3643200" y="5126040"/>
            <a:ext cx="106704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tting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 flipH="1">
            <a:off x="3038400" y="3962520"/>
            <a:ext cx="1152720" cy="706320"/>
          </a:xfrm>
          <a:prstGeom prst="line">
            <a:avLst/>
          </a:prstGeom>
          <a:ln w="1260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 flipV="1">
            <a:off x="4202280" y="1990800"/>
            <a:ext cx="1985760" cy="124128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2376360" y="3689280"/>
            <a:ext cx="1800" cy="25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Why encourage locally initiated impact evaluation?</a:t>
            </a:r>
            <a:endParaRPr b="0" lang="en-US" sz="40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822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interventions are not effective; users and interested others need to kn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nterventions most relevant to improving outcomes are those that schools and districts believe are promising and fea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ES has funding to support research initiated by schools, districts, and sta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The selection variable for R-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continuous quantitative variable measured on every candidate for assignment to T or C who will participate in the stud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ssignment to T or C strictly on the basis of the score obtained and the predetermined cutting poin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oes not have to correlate highly with the outcome variabl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n be tailored to represent an appropriate basis for the assignment decision in the setting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Special issues with the R-D desig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rectly fitting the functional form– possibility that it is not lin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vilinear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on with the cutting poi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istical p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about 3 times the sample size of a comparable randomized experi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variates correlated with the outcome but not the selection variable are helpfu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Circumstances conducive to the regression-discontinuity desig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ituation involves a selection from some larger group of who will, or should, receive the intervention and who will no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asis for selection is or can be made explicit and systematic enough to be captured in a quantitative rating or rank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llocation of the intervention can be made strictly on the basis of the selection score and cutting point in a high proportion of cases. Exceptions can be identified in advance and exempted from the sche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Example: Effects of universal pre-k in Tulsa, Oklahom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8483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igibility for pre-k determined strictly on the basis of age– cutoff by birth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all sample of 1,567 children just beginning pre-k plus 1,461 children just beginning kindergarten who had been in pre-k the previous y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J Letter-Word, Spelling, and Applied Problems as outcome variab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216000" y="3600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Entry into pre-k selected by birth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 flipV="1">
            <a:off x="4800600" y="2209680"/>
            <a:ext cx="0" cy="32767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1600200" y="1752480"/>
            <a:ext cx="914400" cy="6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J t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2666880" y="1785960"/>
            <a:ext cx="1800" cy="331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4876920" y="5181480"/>
            <a:ext cx="19047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 before September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2666880" y="5099040"/>
            <a:ext cx="419112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5943600" y="3276720"/>
            <a:ext cx="10666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 Completed pre-K; tested at beginning of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 flipV="1">
            <a:off x="4788000" y="2549520"/>
            <a:ext cx="1638360" cy="10303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1" name=""/>
              <p:cNvSpPr txBox="1"/>
              <p:nvPr/>
            </p:nvSpPr>
            <p:spPr>
              <a:xfrm>
                <a:off x="0" y="3297240"/>
                <a:ext cx="114480" cy="21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552" name=""/>
          <p:cNvSpPr/>
          <p:nvPr/>
        </p:nvSpPr>
        <p:spPr>
          <a:xfrm>
            <a:off x="0" y="35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V="1">
            <a:off x="3036960" y="3581280"/>
            <a:ext cx="1752480" cy="110520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819520" y="5181480"/>
            <a:ext cx="19047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 after September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4497840" y="5638680"/>
            <a:ext cx="5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971800" y="2209680"/>
            <a:ext cx="12193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Pre-K yet; tested at beginning of pre-K y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5410080" y="2438280"/>
            <a:ext cx="228600" cy="4572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351400" y="20318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Samples and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3124080" y="3276720"/>
            <a:ext cx="2210040" cy="5331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-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5334120" y="3276720"/>
            <a:ext cx="2209680" cy="5331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indergar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334120" y="4114800"/>
            <a:ext cx="220968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-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1525680" y="3352680"/>
            <a:ext cx="132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coh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1526760" y="4191120"/>
            <a:ext cx="165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coh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659760" y="243828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ear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5945760" y="243828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ear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5410080" y="2971800"/>
            <a:ext cx="0" cy="228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4705920" y="5367240"/>
            <a:ext cx="1383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min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J te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4537080" y="5257800"/>
            <a:ext cx="1752480" cy="99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cerpts from Regression Analy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1" name=""/>
          <p:cNvGraphicFramePr/>
          <p:nvPr/>
        </p:nvGraphicFramePr>
        <p:xfrm>
          <a:off x="838080" y="1219320"/>
          <a:ext cx="7086600" cy="5302080"/>
        </p:xfrm>
        <a:graphic>
          <a:graphicData uri="http://schemas.openxmlformats.org/drawingml/2006/table">
            <a:tbl>
              <a:tblPr/>
              <a:tblGrid>
                <a:gridCol w="2743200"/>
                <a:gridCol w="1447920"/>
                <a:gridCol w="1371600"/>
                <a:gridCol w="152388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tter-Wo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ll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lied Prob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ri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 coef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 coef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 coef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eatment (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00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86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94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e: Days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± from Sept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01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02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ys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ys x 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.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.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ys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x 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e lun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28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.89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38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a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.44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34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span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70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.48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66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ma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92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5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76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ther’s educ: H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59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57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5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2" name=""/>
          <p:cNvSpPr/>
          <p:nvPr/>
        </p:nvSpPr>
        <p:spPr>
          <a:xfrm>
            <a:off x="8002800" y="6095880"/>
            <a:ext cx="91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p&lt;.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3. Nonrandomized comparison groups with statistical contro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6858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istical controls: Analysis of covariance and multiple reg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ching on the control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ensity scores derived from the control variab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Nonequivalent comparison analog </a:t>
            </a:r>
            <a:br>
              <a:rPr sz="3600"/>
            </a:b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to the randomized experi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228600" y="2514600"/>
            <a:ext cx="2438280" cy="2057400"/>
          </a:xfrm>
          <a:prstGeom prst="ellipse">
            <a:avLst/>
          </a:prstGeom>
          <a:solidFill>
            <a:srgbClr val="f9fe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ion of students, teachers, classrooms, schools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4800600" y="4114800"/>
            <a:ext cx="2057400" cy="1371600"/>
          </a:xfrm>
          <a:prstGeom prst="ellipse">
            <a:avLst/>
          </a:prstGeom>
          <a:solidFill>
            <a:srgbClr val="f9fe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not receive experimental interven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543800" y="2133720"/>
            <a:ext cx="1295280" cy="6094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c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7543800" y="4495680"/>
            <a:ext cx="1295280" cy="6098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c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 flipV="1">
            <a:off x="2514600" y="2438280"/>
            <a:ext cx="220968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2514600" y="4038480"/>
            <a:ext cx="22860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6858000" y="24382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6858000" y="4800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7470360" y="3352680"/>
            <a:ext cx="137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Interven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effect (??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 flipV="1">
            <a:off x="8153280" y="27428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8153280" y="39625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2700360" y="3075120"/>
            <a:ext cx="2709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ed through some nonrandom more-or-less natural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4724280" y="1828800"/>
            <a:ext cx="2133720" cy="1295280"/>
          </a:xfrm>
          <a:prstGeom prst="ellipse">
            <a:avLst/>
          </a:prstGeom>
          <a:solidFill>
            <a:srgbClr val="f9fe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eive experimental interven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686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Issues for obtaining good intervention effect estimates from nonrandomized comparison grou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undamental problem: selection b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nowing/measuring the variables necessary and sufficient to statistically control for the selection b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acteristics related to the outcome on which the groups diff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an analysis model that properly adjusts for the selection bias, given appropriate control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What kinds of interventions might be evaluated?</a:t>
            </a:r>
            <a:endParaRPr b="0" lang="en-US" sz="40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actic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e.g., one-on-one tutoring, educational software, acceleration of high ability students, cooperative lear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ogram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e.g., Reading Recovery, Ladders to Literacy, Cognitive Tutor algebra, Saxon Math, Caring School Community (character education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olici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e.g., reduced class size, pre-K, alternative high schools, all year calend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216000" y="3600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Nonequivalent comparison groups: Pretest/covariate and posttest me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1523880" y="1371600"/>
            <a:ext cx="5943600" cy="445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4876920" y="5334120"/>
            <a:ext cx="24382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test/Covariate(s) (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1752480" y="1785960"/>
            <a:ext cx="9144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sttes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666880" y="1785960"/>
            <a:ext cx="1800" cy="331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2666880" y="5099040"/>
            <a:ext cx="419112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5105520" y="1905120"/>
            <a:ext cx="30456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6629400" y="2666880"/>
            <a:ext cx="3049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4191120" y="2057400"/>
            <a:ext cx="2971800" cy="182880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0" name=""/>
              <p:cNvSpPr txBox="1"/>
              <p:nvPr/>
            </p:nvSpPr>
            <p:spPr>
              <a:xfrm>
                <a:off x="0" y="3297240"/>
                <a:ext cx="114480" cy="21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1" name=""/>
              <p:cNvSpPr txBox="1"/>
              <p:nvPr/>
            </p:nvSpPr>
            <p:spPr>
              <a:xfrm>
                <a:off x="2801880" y="6095880"/>
                <a:ext cx="2887560" cy="4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02" name=""/>
          <p:cNvSpPr/>
          <p:nvPr/>
        </p:nvSpPr>
        <p:spPr>
          <a:xfrm>
            <a:off x="0" y="35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 flipV="1">
            <a:off x="2967120" y="2180880"/>
            <a:ext cx="2894040" cy="18097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2519280" y="3087720"/>
            <a:ext cx="1903320" cy="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514600" y="2895480"/>
            <a:ext cx="3203640" cy="1584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 flipV="1">
            <a:off x="4419720" y="3124080"/>
            <a:ext cx="0" cy="198144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 flipV="1">
            <a:off x="5730840" y="2971440"/>
            <a:ext cx="0" cy="213372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2379600" y="2895480"/>
            <a:ext cx="82440" cy="193680"/>
          </a:xfrm>
          <a:custGeom>
            <a:avLst/>
            <a:gdLst>
              <a:gd name="textAreaLeft" fmla="*/ 52560 w 82440"/>
              <a:gd name="textAreaRight" fmla="*/ 82800 w 82440"/>
              <a:gd name="textAreaTop" fmla="*/ 5040 h 193680"/>
              <a:gd name="textAreaBottom" fmla="*/ 188640 h 193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H="1" flipV="1">
            <a:off x="1905120" y="274284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295280" y="2362320"/>
            <a:ext cx="715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ff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a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4495680" y="47242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4530240" y="3886200"/>
            <a:ext cx="1107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ff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etest/cov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a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216000" y="3600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Nonequivalent comparison groups: Covariate-adjusted treatment effect estim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1523880" y="1371600"/>
            <a:ext cx="5943600" cy="445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4921200" y="5305320"/>
            <a:ext cx="23623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test/Covariate(s) (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1752480" y="1785960"/>
            <a:ext cx="9144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sttes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2666880" y="1785960"/>
            <a:ext cx="1800" cy="331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2666880" y="5099040"/>
            <a:ext cx="419112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181480" y="1828800"/>
            <a:ext cx="3049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6705720" y="2590920"/>
            <a:ext cx="30456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 flipV="1">
            <a:off x="4191120" y="2057400"/>
            <a:ext cx="2971800" cy="182880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2" name=""/>
              <p:cNvSpPr txBox="1"/>
              <p:nvPr/>
            </p:nvSpPr>
            <p:spPr>
              <a:xfrm>
                <a:off x="0" y="3297240"/>
                <a:ext cx="114480" cy="21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3" name=""/>
              <p:cNvSpPr txBox="1"/>
              <p:nvPr/>
            </p:nvSpPr>
            <p:spPr>
              <a:xfrm>
                <a:off x="2801880" y="6095880"/>
                <a:ext cx="2887560" cy="4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24" name=""/>
          <p:cNvSpPr/>
          <p:nvPr/>
        </p:nvSpPr>
        <p:spPr>
          <a:xfrm>
            <a:off x="0" y="35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 flipV="1">
            <a:off x="2967120" y="2180880"/>
            <a:ext cx="2894040" cy="18097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2209680" y="3429000"/>
            <a:ext cx="2741760" cy="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2209680" y="2743200"/>
            <a:ext cx="2746440" cy="1584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 flipH="1">
            <a:off x="4952520" y="2751120"/>
            <a:ext cx="3240" cy="677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2376360" y="3208320"/>
            <a:ext cx="1800" cy="208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2209680" y="2921040"/>
            <a:ext cx="3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2371680" y="2743200"/>
            <a:ext cx="1800" cy="255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216000" y="3600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Covariate-adjusted treatment effect estimate with a relevant covariate left 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1523880" y="1371600"/>
            <a:ext cx="5943600" cy="445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4816440" y="5315040"/>
            <a:ext cx="24382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test/Covariate(s) (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1752480" y="1785960"/>
            <a:ext cx="9144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sttes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2666880" y="1785960"/>
            <a:ext cx="1800" cy="331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2666880" y="5099040"/>
            <a:ext cx="419112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5181480" y="1828800"/>
            <a:ext cx="3049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6705720" y="2590920"/>
            <a:ext cx="30456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 flipV="1">
            <a:off x="4191120" y="2057400"/>
            <a:ext cx="2971800" cy="182880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1" name=""/>
              <p:cNvSpPr txBox="1"/>
              <p:nvPr/>
            </p:nvSpPr>
            <p:spPr>
              <a:xfrm>
                <a:off x="0" y="3297240"/>
                <a:ext cx="114480" cy="21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2" name=""/>
              <p:cNvSpPr txBox="1"/>
              <p:nvPr/>
            </p:nvSpPr>
            <p:spPr>
              <a:xfrm>
                <a:off x="2200320" y="6095880"/>
                <a:ext cx="4089240" cy="4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X</m:t>
                        </m:r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X</m:t>
                        </m:r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43" name=""/>
          <p:cNvSpPr/>
          <p:nvPr/>
        </p:nvSpPr>
        <p:spPr>
          <a:xfrm>
            <a:off x="0" y="35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 flipV="1">
            <a:off x="2967120" y="2180880"/>
            <a:ext cx="2894040" cy="18097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2209680" y="3429000"/>
            <a:ext cx="2741760" cy="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2209680" y="2743200"/>
            <a:ext cx="2746440" cy="1584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 flipH="1">
            <a:off x="4952520" y="2751120"/>
            <a:ext cx="3240" cy="677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 flipH="1" flipV="1">
            <a:off x="2377800" y="3205080"/>
            <a:ext cx="324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2209680" y="2921040"/>
            <a:ext cx="3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 flipV="1">
            <a:off x="4114800" y="1828800"/>
            <a:ext cx="2971800" cy="1828800"/>
          </a:xfrm>
          <a:prstGeom prst="line">
            <a:avLst/>
          </a:prstGeom>
          <a:ln w="255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 flipH="1">
            <a:off x="5257440" y="2590920"/>
            <a:ext cx="3240" cy="304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2373480" y="2752560"/>
            <a:ext cx="0" cy="24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Using control variables via match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wise matching: select control comparison to be groupwise similar to intervention group, e.g., schools with similar demographics, geography, etc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Generally a good ide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vidual matching: select individuals from the potential control pool that match intervention individuals on one or more observed characteristic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ay not be a good ide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Potential problems with individual level match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c problem with nonequivalent designs– need to match on all relevant variables to obtain a good estimate of the intervention eff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match on too few variables, may omit some that are important to contro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ry to match on too many variables, the sample will be restricted to the cases that can be matched; may be overly narr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must select disproportionately from one tail of the treatment distribution and the other tail of the control distribution, may have regression to the mean artifa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"/>
          <p:cNvSpPr/>
          <p:nvPr/>
        </p:nvSpPr>
        <p:spPr>
          <a:xfrm>
            <a:off x="1676520" y="1905120"/>
            <a:ext cx="6095880" cy="403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gression to the mean: Matching on the prete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9" name=""/>
          <p:cNvGrpSpPr/>
          <p:nvPr/>
        </p:nvGrpSpPr>
        <p:grpSpPr>
          <a:xfrm>
            <a:off x="1523880" y="2438280"/>
            <a:ext cx="6662880" cy="3075120"/>
            <a:chOff x="1523880" y="2438280"/>
            <a:chExt cx="6662880" cy="3075120"/>
          </a:xfrm>
        </p:grpSpPr>
        <p:pic>
          <p:nvPicPr>
            <p:cNvPr id="660" name="" descr=""/>
            <p:cNvPicPr/>
            <p:nvPr/>
          </p:nvPicPr>
          <p:blipFill>
            <a:blip r:embed="rId1"/>
            <a:stretch/>
          </p:blipFill>
          <p:spPr>
            <a:xfrm>
              <a:off x="1523880" y="2438280"/>
              <a:ext cx="5153040" cy="306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1" name="" descr=""/>
            <p:cNvPicPr/>
            <p:nvPr/>
          </p:nvPicPr>
          <p:blipFill>
            <a:blip r:embed="rId2"/>
            <a:stretch/>
          </p:blipFill>
          <p:spPr>
            <a:xfrm>
              <a:off x="3033720" y="2448000"/>
              <a:ext cx="5153040" cy="3065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2" name=""/>
          <p:cNvSpPr/>
          <p:nvPr/>
        </p:nvSpPr>
        <p:spPr>
          <a:xfrm>
            <a:off x="3735360" y="23623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5259600" y="23623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 rot="5400000">
            <a:off x="4533480" y="3924360"/>
            <a:ext cx="381240" cy="1981080"/>
          </a:xfrm>
          <a:custGeom>
            <a:avLst/>
            <a:gdLst>
              <a:gd name="textAreaLeft" fmla="*/ 0 w 381240"/>
              <a:gd name="textAreaRight" fmla="*/ 137520 w 381240"/>
              <a:gd name="textAreaTop" fmla="*/ 51480 h 1981080"/>
              <a:gd name="textAreaBottom" fmla="*/ 1929600 h 19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2976120" y="525780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 where matches can be f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4572000" y="4114800"/>
            <a:ext cx="990720" cy="152280"/>
          </a:xfrm>
          <a:prstGeom prst="rightArrow">
            <a:avLst>
              <a:gd name="adj1" fmla="val 50000"/>
              <a:gd name="adj2" fmla="val 162648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 rot="10800000">
            <a:off x="3733560" y="4267080"/>
            <a:ext cx="990360" cy="152640"/>
          </a:xfrm>
          <a:prstGeom prst="rightArrow">
            <a:avLst>
              <a:gd name="adj1" fmla="val 50000"/>
              <a:gd name="adj2" fmla="val 162205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Propensity scores as control variab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077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opensity score is the probability of being in the intervention group instead of the comparison grou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estimated (“predicted”) from data on the characteristics of the individuals already in each group, typically using logistic regres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thus combines all the control variables into a single variable optimized to differentiate the intervention sample from the control samp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One option: Use the propensity score to create matched grou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2579760" y="3225960"/>
            <a:ext cx="747720" cy="747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3327480" y="3225960"/>
            <a:ext cx="747720" cy="747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4075200" y="3225960"/>
            <a:ext cx="745920" cy="747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4821120" y="3225960"/>
            <a:ext cx="749520" cy="747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5568840" y="3225960"/>
            <a:ext cx="746280" cy="747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6315120" y="3225960"/>
            <a:ext cx="745920" cy="747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1833480" y="4843440"/>
            <a:ext cx="747720" cy="747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2581200" y="4843440"/>
            <a:ext cx="747720" cy="747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328920" y="4843440"/>
            <a:ext cx="746280" cy="747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4071960" y="4843440"/>
            <a:ext cx="749160" cy="747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4821120" y="4843440"/>
            <a:ext cx="746280" cy="747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5567400" y="4843440"/>
            <a:ext cx="745920" cy="747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1211400" y="2479680"/>
            <a:ext cx="41083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man Old Style"/>
              </a:rPr>
              <a:t>Propensity Score Quint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990720" y="3225960"/>
            <a:ext cx="134136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Bookman Old Style"/>
              </a:rPr>
              <a:t>Treatmen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Bookman Old Style"/>
              </a:rPr>
              <a:t>Group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6438960" y="4843440"/>
            <a:ext cx="149364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Bookman Old Style"/>
              </a:rPr>
              <a:t>Contro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Bookman Old Style"/>
              </a:rPr>
              <a:t>Group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3701880" y="3973680"/>
            <a:ext cx="1800" cy="868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4446720" y="4422600"/>
            <a:ext cx="2880" cy="417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5194440" y="3973680"/>
            <a:ext cx="2880" cy="866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2954160" y="3973680"/>
            <a:ext cx="1800" cy="866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5942160" y="3973680"/>
            <a:ext cx="0" cy="866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949560" y="4221000"/>
            <a:ext cx="106524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Mat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 flipV="1">
            <a:off x="4448160" y="3983040"/>
            <a:ext cx="0" cy="25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216000" y="3600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Another option: Use the propensity score</a:t>
            </a:r>
            <a:br>
              <a:rPr sz="3200"/>
            </a:b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as a covariate in ANCOVA or M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 txBox="1"/>
          <p:nvPr/>
        </p:nvSpPr>
        <p:spPr>
          <a:xfrm>
            <a:off x="1523880" y="1371600"/>
            <a:ext cx="5943600" cy="445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5029200" y="5305320"/>
            <a:ext cx="22860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pensity score (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1752480" y="1785960"/>
            <a:ext cx="9144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sttes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2666880" y="1785960"/>
            <a:ext cx="1800" cy="331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2666880" y="5099040"/>
            <a:ext cx="419112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5029200" y="1981080"/>
            <a:ext cx="3049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6477120" y="2743200"/>
            <a:ext cx="30456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 flipV="1">
            <a:off x="4191120" y="2057400"/>
            <a:ext cx="2971800" cy="182880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2" name=""/>
              <p:cNvSpPr txBox="1"/>
              <p:nvPr/>
            </p:nvSpPr>
            <p:spPr>
              <a:xfrm>
                <a:off x="0" y="3297240"/>
                <a:ext cx="114480" cy="21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3" name=""/>
              <p:cNvSpPr txBox="1"/>
              <p:nvPr/>
            </p:nvSpPr>
            <p:spPr>
              <a:xfrm>
                <a:off x="2859120" y="6095880"/>
                <a:ext cx="2771640" cy="4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04" name=""/>
          <p:cNvSpPr/>
          <p:nvPr/>
        </p:nvSpPr>
        <p:spPr>
          <a:xfrm>
            <a:off x="0" y="35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967120" y="2180880"/>
            <a:ext cx="2894040" cy="18097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2209680" y="3429000"/>
            <a:ext cx="2741760" cy="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2209680" y="2743200"/>
            <a:ext cx="2746440" cy="1584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 flipH="1">
            <a:off x="4952520" y="2751120"/>
            <a:ext cx="3240" cy="677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 flipV="1">
            <a:off x="2373480" y="2743200"/>
            <a:ext cx="0" cy="24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2209680" y="2921040"/>
            <a:ext cx="3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 flipH="1">
            <a:off x="2371320" y="3200400"/>
            <a:ext cx="3240" cy="223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Circumstances appropriate for the nonequivalent comparison desig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533520" y="18284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ronger design is truly not fea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ample of relatively comparable units not receiving the intervention is avail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ull account can be given of the differences between the groups potentially related to the outcomes of inter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on those differences can be obtained and used for statistical contr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20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Arial"/>
              </a:rPr>
              <a:t>Key Issues in Designing Impact Evaluations for Education Interventions</a:t>
            </a:r>
            <a:endParaRPr b="0" lang="en-US" sz="40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Example: Effects of a professional development program for teach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914040" y="1828440"/>
            <a:ext cx="7620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Montgomery County Public Schools, MD, some 3d grade teachers had received the Studying Skillful Teaching training, some had no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ading and math achievement test scores for students of teachers with and without training were compa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sis of covariance was used to test for differences in student outcomes with a propensity score control variable and covariates representing teacher credentials, student pretest, reduced/free lunch status, ethnicity, and special ed or ELL serv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216000" y="3600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4. Comparative interrupted </a:t>
            </a:r>
            <a:br>
              <a:rPr sz="4000"/>
            </a:b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time se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 flipH="1" flipV="1">
            <a:off x="4800600" y="2209680"/>
            <a:ext cx="1440" cy="28735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5943600" y="5334120"/>
            <a:ext cx="14479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ool Y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rot="16200000">
            <a:off x="1146240" y="3197160"/>
            <a:ext cx="236232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an Achiev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2666880" y="1785960"/>
            <a:ext cx="1800" cy="331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4390920" y="5114880"/>
            <a:ext cx="8384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gram On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2666880" y="5099040"/>
            <a:ext cx="419112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3" name=""/>
              <p:cNvSpPr txBox="1"/>
              <p:nvPr/>
            </p:nvSpPr>
            <p:spPr>
              <a:xfrm>
                <a:off x="0" y="3297240"/>
                <a:ext cx="114480" cy="21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724" name=""/>
          <p:cNvSpPr/>
          <p:nvPr/>
        </p:nvSpPr>
        <p:spPr>
          <a:xfrm>
            <a:off x="0" y="35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3201840" y="3151080"/>
            <a:ext cx="457200" cy="1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3165480" y="3112920"/>
            <a:ext cx="76320" cy="76320"/>
          </a:xfrm>
          <a:prstGeom prst="flowChartConnector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 flipV="1">
            <a:off x="3198960" y="3203640"/>
            <a:ext cx="457200" cy="46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3165480" y="3209760"/>
            <a:ext cx="76320" cy="7632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 flipV="1">
            <a:off x="3656160" y="3124080"/>
            <a:ext cx="458640" cy="190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3619440" y="3276720"/>
            <a:ext cx="76320" cy="75960"/>
          </a:xfrm>
          <a:prstGeom prst="flowChartConnector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3654360" y="3203640"/>
            <a:ext cx="460440" cy="2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3619440" y="3166920"/>
            <a:ext cx="76320" cy="7632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4113360" y="3124080"/>
            <a:ext cx="45720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 flipV="1">
            <a:off x="4113360" y="3181320"/>
            <a:ext cx="455400" cy="5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076640" y="3086280"/>
            <a:ext cx="76320" cy="75960"/>
          </a:xfrm>
          <a:prstGeom prst="flowChartConnector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4076640" y="3197160"/>
            <a:ext cx="76320" cy="7632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 flipV="1">
            <a:off x="4568760" y="3000240"/>
            <a:ext cx="459000" cy="18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 flipV="1">
            <a:off x="4568760" y="3211560"/>
            <a:ext cx="46044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4530600" y="3146400"/>
            <a:ext cx="76320" cy="7632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530600" y="3246480"/>
            <a:ext cx="76320" cy="76320"/>
          </a:xfrm>
          <a:prstGeom prst="flowChartConnector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 flipV="1">
            <a:off x="5025960" y="2939760"/>
            <a:ext cx="460440" cy="60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5029200" y="3211560"/>
            <a:ext cx="457200" cy="25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4991040" y="3174840"/>
            <a:ext cx="76320" cy="76320"/>
          </a:xfrm>
          <a:prstGeom prst="flowChartConnector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4991040" y="2963880"/>
            <a:ext cx="76320" cy="7632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5484960" y="2940120"/>
            <a:ext cx="457200" cy="5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 flipV="1">
            <a:off x="5483160" y="3206520"/>
            <a:ext cx="459000" cy="2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5448240" y="3200400"/>
            <a:ext cx="76320" cy="76320"/>
          </a:xfrm>
          <a:prstGeom prst="flowChartConnector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5448240" y="2900520"/>
            <a:ext cx="76320" cy="7596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 flipV="1">
            <a:off x="5943600" y="2908080"/>
            <a:ext cx="457200" cy="8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5942160" y="3206880"/>
            <a:ext cx="458640" cy="3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5905440" y="3170160"/>
            <a:ext cx="76320" cy="76320"/>
          </a:xfrm>
          <a:prstGeom prst="flowChartConnector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5907240" y="2955960"/>
            <a:ext cx="75960" cy="7632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6361200" y="2873520"/>
            <a:ext cx="75960" cy="7596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6362640" y="3208320"/>
            <a:ext cx="76320" cy="76320"/>
          </a:xfrm>
          <a:prstGeom prst="flowChartConnector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5948640" y="2057400"/>
            <a:ext cx="773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gr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ho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5948640" y="3429000"/>
            <a:ext cx="773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gr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ho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686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Requirements for a good intervention effect estimate from comparative interrupted time se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undamental problem: changes stemming from other sour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fficient pre-intervention time series data showing relative sta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other potentially influential event coincides with the program onset or staggered onsets if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ison time series for very similar units in same environment but without the progra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nalysis model that properly estimates changes and differences with autocorrelated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Circumstances appropriate for comparative interrupted time se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33520" y="18284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tronger design is truly not feasi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 series data on a relevant outcome for those exposed to the program are available for periods before and after the onset of the progr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fficient data points are available, with no change in the nature of the measure, to establish stable statistical tre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on the same measure over the same time period are available for comparable cases without the progr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Example: The ninth grade Success Academy in Philadelph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uccess Academy grouped 9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raders together in small learning communities with a specialized curriculum and a small group of dedicated teach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ed by 7 of the 22 nonselective high schools in 2003-0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utcomes were attendance, academic credit earned, promotion to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rade, achievement test scores, and graduation ra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comes are compared for 9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raders during the 3 years prior and 5 years after program onset and for the program schools vs. a matched group of schools without the progra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"/>
          <p:cNvSpPr/>
          <p:nvPr/>
        </p:nvSpPr>
        <p:spPr>
          <a:xfrm>
            <a:off x="1905120" y="2286000"/>
            <a:ext cx="55022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Other Important Aspects of the Research 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Statistical po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istical power = probability of statistical significance when there is an eff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wer is mainly a function o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pha level for significance 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mum effect size to detect in standard deviation un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ample size: number of students, classrooms, school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variates included in the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search design and corresponding analysis mod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wer: Critical consider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realistic identification of the minimal effect size with practical significance that the research should be powered to det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nit that is assigned to conditions (students, classrooms, schools, etc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tracluster correlations (ICC) expected for student outcomes when students are nested within the units assign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xpected correlations with outcomes of any covariates measured on the units assigned to condi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umber of schools, classrooms, students, etc. available for the stud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fic design issues such as the need for 3-4 times as many units for regression-discontinuity as for a comparable randomized experi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uter program for power estimation in multilevel desig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udenbush, S. W., Spybrook, J., Liu, X., &amp; Congdon, R. (2006). Optimal design for longitudinal and multilevel research: Documentation for the “Optimal Design” software. Optimal Design Version 1.76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sitemaker.umich.edu/group-based/optimal_design_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level Data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ble when sampling and assignment to conditions occurs with one unit (e.g., classrooms, schools) and outcomes are measured on units nested within (e.g., student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s specialized computer programs, e.g., HLM, MLWin, SAS Proc Mixed, SPSS Mixed Mode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Arial"/>
              </a:rPr>
              <a:t>Logic Models, Variables, and Evaluation Questions</a:t>
            </a: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 and read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erimental and quasi-experimental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adish, W. R., Cook, T. D., &amp; Campbell, D. T. (2001).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perimental and quasi-experimental designs for generalized causal infere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Houghton Miffl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ckman, L., &amp; Rog, D. J. (eds)(2008).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 SAGE Handbook of Applied Social Research Method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Second Edition). Sage Public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gression-discontinu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hn, J., Todd, P. and Van der Klaauw, W. (2002). Identification and estimation of treatment effects with a regression-discontinuity design.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conometr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69(1), 201-20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pelleri J.C. and Trochim W. (2000). Cutoff designs. In Chow, Shein-Chung (Ed.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ncyclopedia of Biopharmaceutical Statistic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149-156. NY: Marcel Dekke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pelleri, J., Darlington, R.B. and Trochim, W. (1994). Power analysis of cutoff-based randomized clinical trials.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valuation Revie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18, 141-15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/>
          </p:nvPr>
        </p:nvSpPr>
        <p:spPr>
          <a:xfrm>
            <a:off x="380520" y="457200"/>
            <a:ext cx="8458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nequivalent comparison desig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senbaum, P.R., &amp; Rubin, D.B. (1983). The central role of the propensity score in observational studies for causal effects.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iometrik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70(1): 41-5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uellen, J. K., Shadish, W.R., &amp; Clark, M.H. (2005). Propensity scores: An introduction and experimental test.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valuation Revie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29(6): 530-558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ochet, P.Z., &amp; Burghardt, J. (2007). Using propensity scoring to estimate program-related subgroup impacts in experimental program evaluations.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valuation Revie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31(2): 95-12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 se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oom, H. S. (2003). Using “short” interrupted time-series analysis to measure the impact of whole school reforms.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valuation Review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27(1), 3-4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tfield, C. (2003).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 analysis of time series: An introduc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Sixth Ed.) Chapman &amp; Hall/CR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"/>
          <p:cNvSpPr/>
          <p:nvPr/>
        </p:nvSpPr>
        <p:spPr>
          <a:xfrm>
            <a:off x="457200" y="380880"/>
            <a:ext cx="8229600" cy="63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ltilevel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x, J. (2002).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ultilevel analysis: Techniques and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Lawrence Erlbau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udenbush, S. W., &amp; Bryk, A. S. (2002).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ierarchical linear models: Applications and data analysis method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Second ed.). Sage public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s used in this 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gan, P., &amp; Ritter, S. (2002).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n experimental study of the effects of Cognitive Tutor® Alegbra I on student knowledge and attitud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Carnegie Learning, Inc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rski, M., Gleason, P., Rangarajan, A., &amp; Wood, R. (1998). Impacts of Dropout Prevention Programs. Final Report. Mathematica Policy Research, Princeton, NJ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rgesen, J., Myers, D., Schirm, A., et al. (2006). National Assessment of Title I Interim Report to Congress: Volume II: Closing the Reading Gap, First Year Findings from a Randomized Trial of Four Reading Interventions for Striving Readers.  Washington, DC: U.S. Department of Education, Institute of Education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"/>
          <p:cNvSpPr/>
          <p:nvPr/>
        </p:nvSpPr>
        <p:spPr>
          <a:xfrm>
            <a:off x="457200" y="533520"/>
            <a:ext cx="8229600" cy="63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. T. Gormley, T. Gayer, D. Phillips, &amp; B. Dawson (2005). The effects of universal pre-k on cognitive development. Developmental Psychology, 41(6), 872-88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arresi, S., &amp; Wolanin, N. (2007). The effects of Studying Skillful Teaching training program on students’ reading and mathematics achievement. Evaluation Brief, February. Montgomery County Public Schools, M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mple, J. J., Herlihy, C. M., &amp; Smith, T. J. (2005). Making progress toward graduation: Evidence from the Talent Development High School model. New York: MDRC. [Includes 9th grade Success Academy]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udenbush, S. W., Spybrook, J., Liu, X., &amp; Congdon, R. (2006). Optimal design for longitudinal and multilevel research: Documentation for the “Optimal Design” software. Optimal Design Version 1.76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3300"/>
                </a:solidFill>
                <a:latin typeface="Arial"/>
              </a:rPr>
              <a:t>Logic model: 1. Specifying the problem the intervention addresses</a:t>
            </a:r>
            <a:endParaRPr b="0" lang="en-US" sz="40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ure of the ne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nd for whom (e.g., kindergarten students who aren’t ready for school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(e.g., poor pre-literacy skills, inappropriate school behavior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ionale/evidence supporting the intervention target (e.g., at entry K students need to be ready to learn or they will begin to fall behind; research shows school readiness can be enhanced for at-risk 4 year old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3300"/>
                </a:solidFill>
                <a:latin typeface="Arial"/>
              </a:rPr>
              <a:t>Logic model: 2. Specifying the planned intervention</a:t>
            </a:r>
            <a:endParaRPr b="0" lang="en-US" sz="40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the intervention does that addresses the ne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: What the students should know or be able to do; why this meets the ne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dagogy: Instructional techniques and methods to be used; why appropri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ivery system: How the intervention will arrange to deliver the instru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key factors or core ingredients most essential and distinctive to the interven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3300"/>
                </a:solidFill>
                <a:latin typeface="Arial"/>
              </a:rPr>
              <a:t>Logic model: 3. Specifying the theory of change</a:t>
            </a:r>
            <a:endParaRPr b="0" lang="en-US" sz="40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55680" y="3639960"/>
            <a:ext cx="1676160" cy="955800"/>
          </a:xfrm>
          <a:prstGeom prst="ellipse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year old at-risk child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286000" y="3657600"/>
            <a:ext cx="1447920" cy="99072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-K with literacy curricul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038480" y="2666880"/>
            <a:ext cx="1371600" cy="7621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sitive attitudes to sch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038480" y="3733920"/>
            <a:ext cx="1371600" cy="7617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pre-literacy skil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038480" y="4800600"/>
            <a:ext cx="1371600" cy="9907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arn appropriate school behavi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733920"/>
            <a:ext cx="1371600" cy="7617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school readin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391520" y="3733920"/>
            <a:ext cx="1371600" cy="7617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eater learning gains in 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057400" y="4114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3733920" y="3048120"/>
            <a:ext cx="3045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733920" y="426708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733920" y="41148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410080" y="3124080"/>
            <a:ext cx="30492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410080" y="4267080"/>
            <a:ext cx="3049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10080" y="41148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086600" y="4114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24160" y="182880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12560" y="198108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ven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939480" y="1981080"/>
            <a:ext cx="21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ximal Outco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987600" y="198108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l Outco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095880" y="217476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2T17:02:47Z</dcterms:created>
  <dc:creator>Mark W. Lipsey</dc:creator>
  <dc:description/>
  <dc:language>en-US</dc:language>
  <cp:lastModifiedBy>Amy.Ripton</cp:lastModifiedBy>
  <dcterms:modified xsi:type="dcterms:W3CDTF">2008-05-05T16:52:36Z</dcterms:modified>
  <cp:revision>120</cp:revision>
  <dc:subject/>
  <dc:title>Session 2: Specifying the Conceptual and Operational Models and the Research Questions that Follow</dc:title>
</cp:coreProperties>
</file>