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ACC7-B4EE-4116-B51B-6A394A2BA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5B84-719E-4BBF-820C-08A3AF848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3E46-E7C1-4BFC-9D1C-8F5033312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55A3-2012-40EA-AEF8-EBBCBC24C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4669-FCBE-4E8E-8F63-096FF2555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B1CD-CA31-46C9-8A29-A30C28919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DB44-09DB-4470-B13C-1F0BAC29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4AD2-F69F-4BB0-9D0F-618722C8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15D8-24C1-40B9-99B4-FF72355B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3720-7FD7-4BFE-A392-6A8CD4B2D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3686-51E5-41AA-B8A8-47671D11E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DD28-88B6-4C59-BFF8-795B0F679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82C46-2621-4408-9834-5F59652ADC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20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IES Workshop on Evaluating State and District Level Interventions</a:t>
            </a:r>
            <a:endParaRPr b="0" lang="en-US" sz="4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295280" y="3123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 W. Lips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, Center for Evaluation Researc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Method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nderbilt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vid Holdzk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istant Superintendent for Evaluation and Re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ke County Public School System, North Carol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88400" y="6019920"/>
            <a:ext cx="367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ril 24, 2008 Washington, D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Mapping variables onto the intervention theory: Sample characteristics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5680" y="2801880"/>
            <a:ext cx="1676160" cy="95580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year old at-risk child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038480" y="1828800"/>
            <a:ext cx="1371600" cy="762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ve attitudes to sch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2895480"/>
            <a:ext cx="1371600" cy="762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pre-literacy ski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038480" y="3962520"/>
            <a:ext cx="1371600" cy="9903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arn appropriate school behavi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715000" y="2895480"/>
            <a:ext cx="1371600" cy="762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school readi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2895480"/>
            <a:ext cx="1371600" cy="762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eater learning gains in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057400" y="3276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733920" y="2209680"/>
            <a:ext cx="3045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733920" y="3276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410080" y="228600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410080" y="3429000"/>
            <a:ext cx="3049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410080" y="32767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0866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73640" y="4114800"/>
            <a:ext cx="2954520" cy="146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ample descripto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Basic demographic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Diagnostic, need/elig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Baseline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2133720"/>
            <a:ext cx="228600" cy="533160"/>
          </a:xfrm>
          <a:prstGeom prst="downArrow">
            <a:avLst>
              <a:gd name="adj1" fmla="val 50000"/>
              <a:gd name="adj2" fmla="val 5830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72240" y="5181480"/>
            <a:ext cx="2399760" cy="146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otential moderato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Setting, 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Personal and fami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Prior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0" y="2819520"/>
            <a:ext cx="1447920" cy="990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-K with literacy curricu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Mapping variables onto the intervention theory: Intervention characteristics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5680" y="2801880"/>
            <a:ext cx="1676160" cy="95580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year old at-risk child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038480" y="1828800"/>
            <a:ext cx="1371600" cy="762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ve attitudes to sch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038480" y="2895480"/>
            <a:ext cx="1371600" cy="762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pre-literacy ski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038480" y="3962520"/>
            <a:ext cx="1371600" cy="9903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arn appropriate school behavi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715000" y="2895480"/>
            <a:ext cx="1371600" cy="762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school readi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391520" y="2895480"/>
            <a:ext cx="1371600" cy="762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eater learning gains in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3276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733920" y="2209680"/>
            <a:ext cx="3045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7339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733920" y="3276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410080" y="228600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5410080" y="3429000"/>
            <a:ext cx="3049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410080" y="32767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0866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23400" y="4038480"/>
            <a:ext cx="2782080" cy="244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dependent vari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T vs. C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eneric fidel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T and C exposure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ic aspects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ention (typ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, qual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95480" y="228600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801760" y="4038480"/>
            <a:ext cx="3160080" cy="271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pecific fidel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T and C (?) exposure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inctive aspect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tervention (typ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, qual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otential moderato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Characteristics of perso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Intervention setting, 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class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819520"/>
            <a:ext cx="1447920" cy="990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-K with literacy curricu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Mapping variables onto the intervention theory: Intervention outcomes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55680" y="2801880"/>
            <a:ext cx="1676160" cy="95580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year old at-risk child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0" y="2944800"/>
            <a:ext cx="1447920" cy="68580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osed to inter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038480" y="1828800"/>
            <a:ext cx="1371600" cy="762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ve attitudes to sch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038480" y="2895480"/>
            <a:ext cx="1371600" cy="762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pre-literacy ski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038480" y="3962520"/>
            <a:ext cx="1371600" cy="9903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arn appropriate school behavi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2895480"/>
            <a:ext cx="1371600" cy="762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school readi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391520" y="2895480"/>
            <a:ext cx="1371600" cy="762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eater learning gains in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057400" y="3276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733920" y="2209680"/>
            <a:ext cx="3045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733920" y="3276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410080" y="228600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5410080" y="3429000"/>
            <a:ext cx="3049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410080" y="32767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0866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553080" y="198108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69280" y="4495680"/>
            <a:ext cx="3620520" cy="146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ocal dependent variab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Pretests (pre-interventio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Posttests (at end of interven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Follow-ups (lagged after end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entio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2859000">
            <a:off x="6095880" y="198108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18757200">
            <a:off x="7019640" y="195552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62720" y="4267080"/>
            <a:ext cx="3352680" cy="2014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ther dependent variab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Side effects– possi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planned 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negative outco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Mediators– DVs on caus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hways from inter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other DV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0" y="2819520"/>
            <a:ext cx="1447920" cy="990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-K with literacy curricu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Arial"/>
              </a:rPr>
              <a:t>Research questions: Relationships of (possible) interest</a:t>
            </a:r>
            <a:endParaRPr b="0" lang="en-US" sz="4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305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vention effects: Causal relationship between intervention and out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ation of effects post-interven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rator relationships: Differential intervention effects for different subgrou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tor relationships: Stepwise causal relationship with effects on a proximal outcome causing effects on a distal out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905120" y="1600200"/>
            <a:ext cx="5257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Research Designs for Estimating Intervention 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What is an intervention effect and why is it so difficult to determ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315200" cy="5049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Research designs to discu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6858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strong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Randomized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Regression-discontin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weak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Nonrandomized comparison groups with statistical contr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Comparative interrupted time s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1. Randomized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724280" y="1828800"/>
            <a:ext cx="2133720" cy="1295280"/>
          </a:xfrm>
          <a:prstGeom prst="ellipse">
            <a:avLst/>
          </a:prstGeom>
          <a:solidFill>
            <a:srgbClr val="f9fe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 experimental inter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" y="2514600"/>
            <a:ext cx="2438280" cy="2057400"/>
          </a:xfrm>
          <a:prstGeom prst="ellipse">
            <a:avLst/>
          </a:prstGeom>
          <a:solidFill>
            <a:srgbClr val="f9fe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arch sample of students, teachers, classrooms, school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00600" y="4114800"/>
            <a:ext cx="2057400" cy="1371600"/>
          </a:xfrm>
          <a:prstGeom prst="ellipse">
            <a:avLst/>
          </a:prstGeom>
          <a:solidFill>
            <a:srgbClr val="f9fe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receive experimental inter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543800" y="2133720"/>
            <a:ext cx="1295280" cy="609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543800" y="4495680"/>
            <a:ext cx="1295280" cy="6098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3200400" y="1295280"/>
            <a:ext cx="685800" cy="4572000"/>
            <a:chOff x="3200400" y="1295280"/>
            <a:chExt cx="685800" cy="4572000"/>
          </a:xfrm>
        </p:grpSpPr>
        <p:sp>
          <p:nvSpPr>
            <p:cNvPr id="227" name=""/>
            <p:cNvSpPr/>
            <p:nvPr/>
          </p:nvSpPr>
          <p:spPr>
            <a:xfrm>
              <a:off x="3200400" y="1295280"/>
              <a:ext cx="685800" cy="11430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g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200400" y="2438280"/>
              <a:ext cx="685800" cy="11430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g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200400" y="3581280"/>
              <a:ext cx="685800" cy="11430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200400" y="4724280"/>
              <a:ext cx="685800" cy="11430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o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 flipV="1">
            <a:off x="2666880" y="30481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66880" y="37339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2514600" y="1828440"/>
            <a:ext cx="6858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514600" y="4038480"/>
            <a:ext cx="6858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3886200" y="2514600"/>
            <a:ext cx="83808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4724280"/>
            <a:ext cx="9144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886200" y="2514240"/>
            <a:ext cx="83808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886200" y="41911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3886200" y="251460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86200" y="3048120"/>
            <a:ext cx="91440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86200" y="182880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886200" y="1828800"/>
            <a:ext cx="91440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0" y="2438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858000" y="4800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470360" y="3352680"/>
            <a:ext cx="13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nter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ff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8153280" y="27428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153280" y="3962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93240" y="617220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051360" y="6095880"/>
            <a:ext cx="101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728240" y="6019920"/>
            <a:ext cx="22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dom assig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697520" y="617220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278520" y="3733920"/>
            <a:ext cx="57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70440" y="3276720"/>
            <a:ext cx="120636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dom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g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Circumstances conducive to randomized experi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demand than supply for program– allocate scarce resource by lott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program that can be phased in– wait list control had delayed st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ll-out or add-on program for selected students– randomly select from among those elig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unteers willing to opt in for a chance to receive the progr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Example: Junior high algebra curricul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2000-01 the Moore Oklahoma Independent School District conducted a study of the effectiveness of the Cognitive Tutor Algebra I program on students in their junior high school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in 5 junior high schools were randomly assigned to either the Cognitive Tutor Algebra I course or the ‘practical as usual’ algebra courses. Cognitive Tutor teachers received the curriculum materials and 4 days of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come measures included the ETS Algebra I end-of-course exam, course grades, and a survey of student attitudes towards mathemati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Purpose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315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help schools, districts, and states design and implement rigorous evaluations of the effects of promising practices, programs, and policies on educational out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Example:  Alternative high school for students at risk of dropping o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izon High School in Las Vegas identified 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ade students behind grade level and at risk of dropping 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andom sample of these students was assigned to attend an alternative high school that featured a focus on cooperative learning, small group instruction, and support ser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comes were compared for the alternative and regular high schools on dropout rates, self-esteem, drug use, and arrest r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Example: Remedial reading programs for elementary stud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llegheny Intermediate Unit (AIU), which serves 42 suburban school districts in Allegheny County, Pennsylvania, randomly assigned 50 schools to one of four commercially available remedial reading interven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in each school struggling readers in grades 3 and 5 were identified and randomly assigned to instruction as usual or the remedial reading program designated for that sch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each program, 3 students met with a trained teacher one hour/day for 20 wee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s of reading skill were administered at the beginning and end of the school year for program and control stud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2. Regression-discontinuity </a:t>
            </a:r>
            <a:br>
              <a:rPr sz="4000"/>
            </a:b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(aka the cutting-point desig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ell-executed, its ability to provide an unbiased estimate of the intervention effect is strong– comparable to a randomized experi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adaptable to many circumstances where it may be difficult to apply a randomized desig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6000" y="360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onsider first a posttest on pretest regression for a randomized experiment with no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 flipV="1">
            <a:off x="4648320" y="3681360"/>
            <a:ext cx="1440" cy="14018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019920" y="5305320"/>
            <a:ext cx="12175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test 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66880" y="1785960"/>
            <a:ext cx="1800" cy="331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43400" y="5105520"/>
            <a:ext cx="762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666880" y="5099040"/>
            <a:ext cx="41911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791320" y="2514600"/>
            <a:ext cx="3045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791320" y="2924280"/>
            <a:ext cx="3045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048120" y="2717280"/>
            <a:ext cx="3124080" cy="19688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0" y="3297240"/>
                <a:ext cx="11448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2835360" y="6324480"/>
                <a:ext cx="277164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5" name=""/>
          <p:cNvSpPr/>
          <p:nvPr/>
        </p:nvSpPr>
        <p:spPr>
          <a:xfrm>
            <a:off x="838080" y="5942880"/>
            <a:ext cx="72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rresponding regression equation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 1=treatment, 0=contro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35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666880" y="3657600"/>
            <a:ext cx="1933560" cy="1260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828800" y="3462480"/>
            <a:ext cx="762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1752480"/>
            <a:ext cx="91440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tte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16000" y="360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Pretest-posttest randomized experiment, </a:t>
            </a: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now with an intervention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 flipV="1">
            <a:off x="4648320" y="2971440"/>
            <a:ext cx="1440" cy="211140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019920" y="5305320"/>
            <a:ext cx="12175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test 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752480" y="1785960"/>
            <a:ext cx="9144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tte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666880" y="1785960"/>
            <a:ext cx="1800" cy="331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5105520"/>
            <a:ext cx="1218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&amp; C Mea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666880" y="5099040"/>
            <a:ext cx="41911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791320" y="1752480"/>
            <a:ext cx="3045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791320" y="2924280"/>
            <a:ext cx="3045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3048120" y="2717280"/>
            <a:ext cx="3124080" cy="19688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0" y="3297240"/>
                <a:ext cx="11448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2859120" y="6172200"/>
                <a:ext cx="27716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92" name=""/>
          <p:cNvSpPr/>
          <p:nvPr/>
        </p:nvSpPr>
        <p:spPr>
          <a:xfrm>
            <a:off x="0" y="35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666880" y="3657600"/>
            <a:ext cx="1933560" cy="1260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744560" y="3471840"/>
            <a:ext cx="91440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Mea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3048120" y="1981080"/>
            <a:ext cx="3124080" cy="19684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664000" y="2921040"/>
            <a:ext cx="1933560" cy="1260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724040" y="2768760"/>
            <a:ext cx="91440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Mea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2914560" y="2916360"/>
            <a:ext cx="1800" cy="26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752560" y="311472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2916000" y="3398760"/>
            <a:ext cx="4680" cy="254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16000" y="360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onsider now the same regression with no effect but with a cutting point appl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 flipV="1">
            <a:off x="4191120" y="2209680"/>
            <a:ext cx="1440" cy="28735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111640" y="5305320"/>
            <a:ext cx="2133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ion Variable 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752480" y="1785960"/>
            <a:ext cx="9144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tte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666880" y="1785960"/>
            <a:ext cx="1800" cy="331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657600" y="5105520"/>
            <a:ext cx="106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ting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666880" y="5099040"/>
            <a:ext cx="41911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276720" y="4495680"/>
            <a:ext cx="3045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791320" y="2924280"/>
            <a:ext cx="3045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191120" y="2717640"/>
            <a:ext cx="1981080" cy="124488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0" y="3297240"/>
                <a:ext cx="11448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2935440" y="6172200"/>
                <a:ext cx="27730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3" name=""/>
          <p:cNvSpPr/>
          <p:nvPr/>
        </p:nvSpPr>
        <p:spPr>
          <a:xfrm>
            <a:off x="0" y="35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687760" y="4295880"/>
            <a:ext cx="892080" cy="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725480" y="3147840"/>
            <a:ext cx="9144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Mea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3036960" y="3967200"/>
            <a:ext cx="1143000" cy="719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12960" y="3301920"/>
            <a:ext cx="2467080" cy="176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43120" y="4145040"/>
            <a:ext cx="91440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Mea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16000" y="360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Regression discontinuity scatterplot (null ca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 flipV="1">
            <a:off x="4191120" y="2209680"/>
            <a:ext cx="1440" cy="28735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119560" y="5305320"/>
            <a:ext cx="2133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ion Variable 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752480" y="1785960"/>
            <a:ext cx="9144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tte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666880" y="1785960"/>
            <a:ext cx="1800" cy="331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657600" y="5105520"/>
            <a:ext cx="106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ting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666880" y="5099040"/>
            <a:ext cx="41911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971800" y="3505320"/>
            <a:ext cx="3049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867280" y="3657600"/>
            <a:ext cx="3049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4191120" y="2717640"/>
            <a:ext cx="1981080" cy="124488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0" y="3297240"/>
                <a:ext cx="11448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2935440" y="6172200"/>
                <a:ext cx="27730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1" name=""/>
          <p:cNvSpPr/>
          <p:nvPr/>
        </p:nvSpPr>
        <p:spPr>
          <a:xfrm>
            <a:off x="0" y="35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036960" y="3967200"/>
            <a:ext cx="1143000" cy="719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876920" y="3352680"/>
            <a:ext cx="7596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952880" y="3124080"/>
            <a:ext cx="7632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334120" y="3276720"/>
            <a:ext cx="75960" cy="7596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724280" y="3809880"/>
            <a:ext cx="7632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648320" y="3352680"/>
            <a:ext cx="7596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267080" y="4114800"/>
            <a:ext cx="7632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572000" y="3505320"/>
            <a:ext cx="76320" cy="7596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267080" y="3657600"/>
            <a:ext cx="7632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724280" y="3657600"/>
            <a:ext cx="7632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495680" y="3581280"/>
            <a:ext cx="7632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495680" y="3962520"/>
            <a:ext cx="76320" cy="7596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267080" y="3429000"/>
            <a:ext cx="7632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105520" y="3276720"/>
            <a:ext cx="75960" cy="7596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257800" y="3429000"/>
            <a:ext cx="7632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486400" y="3352680"/>
            <a:ext cx="7632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34120" y="2971800"/>
            <a:ext cx="7596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952880" y="3581280"/>
            <a:ext cx="7632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562720" y="3200400"/>
            <a:ext cx="7596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15000" y="3352680"/>
            <a:ext cx="7632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791320" y="3124080"/>
            <a:ext cx="7596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943600" y="2971800"/>
            <a:ext cx="7632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1320" y="2743200"/>
            <a:ext cx="7596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019920" y="3124080"/>
            <a:ext cx="7596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562720" y="2895480"/>
            <a:ext cx="7596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638680" y="3048120"/>
            <a:ext cx="76320" cy="7596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410080" y="2819520"/>
            <a:ext cx="76320" cy="7596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019920" y="2743200"/>
            <a:ext cx="7596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019920" y="2895480"/>
            <a:ext cx="7596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181480" y="3581280"/>
            <a:ext cx="7632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200400"/>
            <a:ext cx="7632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952880" y="3733920"/>
            <a:ext cx="76320" cy="7596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724280" y="3429000"/>
            <a:ext cx="7632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105520" y="2971800"/>
            <a:ext cx="7596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495680" y="3809880"/>
            <a:ext cx="7632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419720" y="3352680"/>
            <a:ext cx="7596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876920" y="3200400"/>
            <a:ext cx="7596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76920" y="3809880"/>
            <a:ext cx="7596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10080" y="3505320"/>
            <a:ext cx="76320" cy="7596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648320" y="3962520"/>
            <a:ext cx="75960" cy="7596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181480" y="3124080"/>
            <a:ext cx="7632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791320" y="2895480"/>
            <a:ext cx="7596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105520" y="3429000"/>
            <a:ext cx="7596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410080" y="3124080"/>
            <a:ext cx="7632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67080" y="3886200"/>
            <a:ext cx="7632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038480" y="3581280"/>
            <a:ext cx="76320" cy="763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114800" y="3809880"/>
            <a:ext cx="76320" cy="763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962520" y="3657600"/>
            <a:ext cx="75960" cy="763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733920" y="4114800"/>
            <a:ext cx="75960" cy="763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114800" y="4038480"/>
            <a:ext cx="76320" cy="763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038480" y="4191120"/>
            <a:ext cx="76320" cy="7596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962520" y="3809880"/>
            <a:ext cx="75960" cy="763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886200" y="4343400"/>
            <a:ext cx="76320" cy="763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657600" y="4419720"/>
            <a:ext cx="76320" cy="7596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657600" y="3809880"/>
            <a:ext cx="76320" cy="763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86200" y="3962520"/>
            <a:ext cx="76320" cy="7596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038480" y="4343400"/>
            <a:ext cx="76320" cy="763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733920" y="3962520"/>
            <a:ext cx="75960" cy="7596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809880" y="4419720"/>
            <a:ext cx="76320" cy="7596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505320" y="3962520"/>
            <a:ext cx="75960" cy="7596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505320" y="4114800"/>
            <a:ext cx="75960" cy="763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505320" y="4572000"/>
            <a:ext cx="75960" cy="763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200400" y="4114800"/>
            <a:ext cx="76320" cy="763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71800" y="4495680"/>
            <a:ext cx="76320" cy="763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200400" y="4648320"/>
            <a:ext cx="76320" cy="7596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657600" y="4267080"/>
            <a:ext cx="76320" cy="763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9880" y="4419720"/>
            <a:ext cx="76320" cy="7596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429000" y="4419720"/>
            <a:ext cx="76320" cy="7596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124080" y="4343400"/>
            <a:ext cx="76320" cy="763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886200" y="4191120"/>
            <a:ext cx="76320" cy="7596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505320" y="4267080"/>
            <a:ext cx="75960" cy="763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352680" y="4495680"/>
            <a:ext cx="76320" cy="763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200400" y="4419720"/>
            <a:ext cx="76320" cy="7596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352680" y="4191120"/>
            <a:ext cx="76320" cy="7596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200400" y="4267080"/>
            <a:ext cx="76320" cy="763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419720" y="3733920"/>
            <a:ext cx="75960" cy="7596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16000" y="360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Now add an intervention eff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 flipV="1">
            <a:off x="4191120" y="2209680"/>
            <a:ext cx="1440" cy="28735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083200" y="5295960"/>
            <a:ext cx="21589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ion Variable 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752480" y="1785960"/>
            <a:ext cx="9144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tte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666880" y="1785960"/>
            <a:ext cx="1800" cy="331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657600" y="5105520"/>
            <a:ext cx="106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ting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666880" y="5099040"/>
            <a:ext cx="41911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200400" y="4038480"/>
            <a:ext cx="3049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24280"/>
            <a:ext cx="3045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4191120" y="2717640"/>
            <a:ext cx="1981080" cy="124488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0" y="3297240"/>
                <a:ext cx="11448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2935440" y="6095880"/>
                <a:ext cx="277308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20" name=""/>
          <p:cNvSpPr/>
          <p:nvPr/>
        </p:nvSpPr>
        <p:spPr>
          <a:xfrm>
            <a:off x="0" y="35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048120" y="3200400"/>
            <a:ext cx="1143000" cy="719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4192560" y="3714840"/>
            <a:ext cx="1440" cy="239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030560" y="342108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189320" y="3220920"/>
            <a:ext cx="1800" cy="262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16000" y="360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Regression discontinuity scatterplot with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 flipV="1">
            <a:off x="4191120" y="2209680"/>
            <a:ext cx="1440" cy="28735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207040" y="5295960"/>
            <a:ext cx="21337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ion Variable 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752480" y="1785960"/>
            <a:ext cx="9144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tte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666880" y="1785960"/>
            <a:ext cx="1800" cy="331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5105520"/>
            <a:ext cx="106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ting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666880" y="5099040"/>
            <a:ext cx="41911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71800" y="2286000"/>
            <a:ext cx="3049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867280" y="3657600"/>
            <a:ext cx="3049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4191120" y="2717640"/>
            <a:ext cx="1981080" cy="124488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0" y="3297240"/>
                <a:ext cx="11448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2935440" y="6172200"/>
                <a:ext cx="27730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37" name=""/>
          <p:cNvSpPr/>
          <p:nvPr/>
        </p:nvSpPr>
        <p:spPr>
          <a:xfrm>
            <a:off x="0" y="35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876920" y="3352680"/>
            <a:ext cx="7596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952880" y="3124080"/>
            <a:ext cx="7632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334120" y="3276720"/>
            <a:ext cx="75960" cy="7596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724280" y="3809880"/>
            <a:ext cx="7632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648320" y="3352680"/>
            <a:ext cx="7596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267080" y="4114800"/>
            <a:ext cx="7632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572000" y="3505320"/>
            <a:ext cx="76320" cy="7596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267080" y="3657600"/>
            <a:ext cx="7632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724280" y="3657600"/>
            <a:ext cx="7632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495680" y="3581280"/>
            <a:ext cx="7632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495680" y="3962520"/>
            <a:ext cx="76320" cy="7596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267080" y="3429000"/>
            <a:ext cx="7632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105520" y="3276720"/>
            <a:ext cx="75960" cy="7596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257800" y="3429000"/>
            <a:ext cx="7632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486400" y="3352680"/>
            <a:ext cx="7632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334120" y="2971800"/>
            <a:ext cx="7596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952880" y="3581280"/>
            <a:ext cx="7632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62720" y="3200400"/>
            <a:ext cx="7596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3352680"/>
            <a:ext cx="7632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791320" y="3124080"/>
            <a:ext cx="7596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943600" y="2971800"/>
            <a:ext cx="7632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791320" y="2743200"/>
            <a:ext cx="7596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019920" y="3124080"/>
            <a:ext cx="7596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562720" y="2895480"/>
            <a:ext cx="7596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638680" y="3048120"/>
            <a:ext cx="76320" cy="7596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410080" y="2819520"/>
            <a:ext cx="76320" cy="7596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019920" y="2743200"/>
            <a:ext cx="7596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019920" y="2895480"/>
            <a:ext cx="7596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181480" y="3581280"/>
            <a:ext cx="7632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724280" y="3200400"/>
            <a:ext cx="7632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952880" y="3733920"/>
            <a:ext cx="76320" cy="7596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724280" y="3429000"/>
            <a:ext cx="7632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105520" y="2971800"/>
            <a:ext cx="7596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495680" y="3809880"/>
            <a:ext cx="7632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419720" y="3352680"/>
            <a:ext cx="7596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876920" y="3200400"/>
            <a:ext cx="7596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876920" y="3809880"/>
            <a:ext cx="7596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410080" y="3505320"/>
            <a:ext cx="76320" cy="7596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648320" y="3962520"/>
            <a:ext cx="75960" cy="7596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181480" y="3124080"/>
            <a:ext cx="7632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791320" y="2895480"/>
            <a:ext cx="7596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105520" y="3429000"/>
            <a:ext cx="7596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410080" y="3124080"/>
            <a:ext cx="7632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267080" y="3886200"/>
            <a:ext cx="7632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419720" y="3733920"/>
            <a:ext cx="75960" cy="7596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2971800" y="2819520"/>
            <a:ext cx="1219320" cy="1143000"/>
            <a:chOff x="2971800" y="2819520"/>
            <a:chExt cx="1219320" cy="1143000"/>
          </a:xfrm>
        </p:grpSpPr>
        <p:sp>
          <p:nvSpPr>
            <p:cNvPr id="484" name=""/>
            <p:cNvSpPr/>
            <p:nvPr/>
          </p:nvSpPr>
          <p:spPr>
            <a:xfrm flipV="1">
              <a:off x="3036960" y="3205440"/>
              <a:ext cx="1143000" cy="719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038480" y="2819520"/>
              <a:ext cx="76320" cy="7632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114800" y="3048120"/>
              <a:ext cx="76320" cy="7632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962520" y="2895840"/>
              <a:ext cx="75960" cy="7632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733920" y="3353040"/>
              <a:ext cx="75960" cy="7632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14800" y="3276720"/>
              <a:ext cx="76320" cy="7632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038480" y="3429360"/>
              <a:ext cx="76320" cy="7596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962520" y="3048120"/>
              <a:ext cx="75960" cy="7632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886200" y="3581640"/>
              <a:ext cx="76320" cy="7632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657600" y="3657960"/>
              <a:ext cx="76320" cy="7596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657600" y="3048120"/>
              <a:ext cx="76320" cy="7632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886200" y="3200760"/>
              <a:ext cx="76320" cy="7596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038480" y="3581640"/>
              <a:ext cx="76320" cy="7632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733920" y="3200760"/>
              <a:ext cx="75960" cy="7596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505320" y="3200760"/>
              <a:ext cx="75960" cy="7596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5320" y="3353040"/>
              <a:ext cx="75960" cy="7632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505320" y="3810240"/>
              <a:ext cx="75960" cy="7632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200400" y="3353040"/>
              <a:ext cx="76320" cy="7632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971800" y="3733920"/>
              <a:ext cx="76320" cy="7632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200400" y="3886560"/>
              <a:ext cx="76320" cy="7596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657600" y="3505320"/>
              <a:ext cx="76320" cy="7632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809880" y="3657960"/>
              <a:ext cx="76320" cy="7596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429000" y="3657960"/>
              <a:ext cx="76320" cy="7596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124080" y="3581640"/>
              <a:ext cx="76320" cy="7632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886200" y="3429360"/>
              <a:ext cx="76320" cy="7596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505320" y="3505320"/>
              <a:ext cx="75960" cy="7632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352680" y="3733920"/>
              <a:ext cx="76320" cy="7632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200400" y="3657960"/>
              <a:ext cx="76320" cy="7596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352680" y="3429360"/>
              <a:ext cx="76320" cy="7596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200400" y="3505320"/>
              <a:ext cx="76320" cy="7632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16000" y="360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The effect estimated by R-D is the same as that from the randomized experi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H="1" flipV="1">
            <a:off x="4191120" y="2286000"/>
            <a:ext cx="1440" cy="28735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226120" y="5334120"/>
            <a:ext cx="21333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ion Variable 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752480" y="1785960"/>
            <a:ext cx="9144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tte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666880" y="1785960"/>
            <a:ext cx="1800" cy="331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666880" y="5099040"/>
            <a:ext cx="41911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971800" y="3352680"/>
            <a:ext cx="3049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791320" y="2924280"/>
            <a:ext cx="3045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4191120" y="2717280"/>
            <a:ext cx="1981080" cy="12416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0" y="3297240"/>
                <a:ext cx="11448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2859120" y="6095880"/>
                <a:ext cx="277164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25" name=""/>
          <p:cNvSpPr/>
          <p:nvPr/>
        </p:nvSpPr>
        <p:spPr>
          <a:xfrm>
            <a:off x="0" y="35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235240" y="3946680"/>
            <a:ext cx="1933560" cy="1260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2967120" y="3225600"/>
            <a:ext cx="1224000" cy="765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286000" y="3200400"/>
            <a:ext cx="1933560" cy="1260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H="1" flipV="1">
            <a:off x="2373480" y="3200400"/>
            <a:ext cx="144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209680" y="339876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643200" y="5126040"/>
            <a:ext cx="10670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ting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3038400" y="3962520"/>
            <a:ext cx="1152720" cy="70632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4202280" y="1990800"/>
            <a:ext cx="1985760" cy="124128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376360" y="3689280"/>
            <a:ext cx="1800" cy="25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Why encourage locally initiated impact evaluation?</a:t>
            </a:r>
            <a:endParaRPr b="0" lang="en-US" sz="4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interventions are not effective; users and interested others need to k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terventions most relevant to improving outcomes are those that schools and districts believe are promising and fea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S has funding to support research initiated by schools, districts, and st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The selection variable for R-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continuous quantitative variable measured on every candidate for assignment to T or C who will participate in the stud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signment to T or C strictly on the basis of the score obtained and the predetermined cutting poi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es not have to correlate highly with the outcome variab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be tailored to represent an appropriate basis for the assignment decision in the sett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Special issues with the R-D des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ctly fitting the functional form– possibility that it is not lin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vilinear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on with the cutting poi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al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about 3 times the sample size of a comparable randomized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variates correlated with the outcome but not the selection variable are helpf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Circumstances conducive to the regression-discontinuity des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ituation involves a selection from some larger group of who will, or should, receive the intervention and who will n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asis for selection is or can be made explicit and systematic enough to be captured in a quantitative rating or ran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llocation of the intervention can be made strictly on the basis of the selection score and cutting point in a high proportion of cases. Exceptions can be identified in advance and exempted from the sche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Example: Effects of universal pre-k in Tulsa, Oklaho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gibility for pre-k determined strictly on the basis of age– cutoff by birth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all sample of 1,567 children just beginning pre-k plus 1,461 children just beginning kindergarten who had been in pre-k the previous y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J Letter-Word, Spelling, and Applied Problems as outcome varia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16000" y="360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Entry into pre-k selected by birth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4800600" y="2209680"/>
            <a:ext cx="0" cy="32767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600200" y="1752480"/>
            <a:ext cx="91440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J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666880" y="1785960"/>
            <a:ext cx="1800" cy="331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876920" y="5181480"/>
            <a:ext cx="19047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before Septemb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666880" y="5099040"/>
            <a:ext cx="41911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943600" y="3276720"/>
            <a:ext cx="10666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 Completed pre-K; tested at beginning of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4788000" y="2549520"/>
            <a:ext cx="1638360" cy="10303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1" name=""/>
              <p:cNvSpPr txBox="1"/>
              <p:nvPr/>
            </p:nvSpPr>
            <p:spPr>
              <a:xfrm>
                <a:off x="0" y="3297240"/>
                <a:ext cx="11448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52" name=""/>
          <p:cNvSpPr/>
          <p:nvPr/>
        </p:nvSpPr>
        <p:spPr>
          <a:xfrm>
            <a:off x="0" y="35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3036960" y="3581280"/>
            <a:ext cx="1752480" cy="110520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819520" y="5181480"/>
            <a:ext cx="19047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after Septemb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497840" y="563868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971800" y="2209680"/>
            <a:ext cx="1219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Pre-K yet; tested at beginning of pre-K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410080" y="2438280"/>
            <a:ext cx="228600" cy="457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351400" y="20318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Samples and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124080" y="3276720"/>
            <a:ext cx="221004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-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334120" y="3276720"/>
            <a:ext cx="2209680" cy="5331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dergar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334120" y="4114800"/>
            <a:ext cx="220968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-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525680" y="335268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coh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526760" y="419112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coh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659760" y="243828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945760" y="243828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410080" y="2971800"/>
            <a:ext cx="0" cy="228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705920" y="5367240"/>
            <a:ext cx="138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min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J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537080" y="5257800"/>
            <a:ext cx="1752480" cy="99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cerpts from Regression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1" name=""/>
          <p:cNvGraphicFramePr/>
          <p:nvPr/>
        </p:nvGraphicFramePr>
        <p:xfrm>
          <a:off x="838080" y="1219320"/>
          <a:ext cx="7086600" cy="5302080"/>
        </p:xfrm>
        <a:graphic>
          <a:graphicData uri="http://schemas.openxmlformats.org/drawingml/2006/table">
            <a:tbl>
              <a:tblPr/>
              <a:tblGrid>
                <a:gridCol w="2743200"/>
                <a:gridCol w="1447920"/>
                <a:gridCol w="1371600"/>
                <a:gridCol w="15238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-Wo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ll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ed Pro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coe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coe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coe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atment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0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6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4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: Day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from Sept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1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2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ys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ys x 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ys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x 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e lun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28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89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38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44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34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pan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0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48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66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92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5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76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her’s educ: 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59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57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5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2" name=""/>
          <p:cNvSpPr/>
          <p:nvPr/>
        </p:nvSpPr>
        <p:spPr>
          <a:xfrm>
            <a:off x="8002800" y="6095880"/>
            <a:ext cx="91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p&lt;.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3. Nonrandomized comparison groups with statistical contr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6858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al controls: Analysis of covariance and multiple reg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ching on the control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ensity scores derived from the control varia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Nonequivalent comparison analog </a:t>
            </a:r>
            <a:br>
              <a:rPr sz="3600"/>
            </a:b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to the randomized experi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28600" y="2514600"/>
            <a:ext cx="2438280" cy="2057400"/>
          </a:xfrm>
          <a:prstGeom prst="ellipse">
            <a:avLst/>
          </a:prstGeom>
          <a:solidFill>
            <a:srgbClr val="f9fe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ion of students, teachers, classrooms, school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800600" y="4114800"/>
            <a:ext cx="2057400" cy="1371600"/>
          </a:xfrm>
          <a:prstGeom prst="ellipse">
            <a:avLst/>
          </a:prstGeom>
          <a:solidFill>
            <a:srgbClr val="f9fe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receive experimental inter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543800" y="2133720"/>
            <a:ext cx="1295280" cy="609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7543800" y="4495680"/>
            <a:ext cx="1295280" cy="6098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2514600" y="2438280"/>
            <a:ext cx="22096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514600" y="4038480"/>
            <a:ext cx="22860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858000" y="2438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858000" y="4800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7470360" y="3352680"/>
            <a:ext cx="13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nter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ffect (?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8153280" y="27428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8153280" y="3962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700360" y="3075120"/>
            <a:ext cx="2709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ed through some nonrandom more-or-less natural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724280" y="1828800"/>
            <a:ext cx="2133720" cy="1295280"/>
          </a:xfrm>
          <a:prstGeom prst="ellipse">
            <a:avLst/>
          </a:prstGeom>
          <a:solidFill>
            <a:srgbClr val="f9fe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 experimental inter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Issues for obtaining good intervention effect estimates from nonrandomized comparison 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undamental problem: selection b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ing/measuring the variables necessary and sufficient to statistically control for the selection b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stics related to the outcome on which the groups diff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an analysis model that properly adjusts for the selection bias, given appropriate control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What kinds of interventions might be evaluated?</a:t>
            </a:r>
            <a:endParaRPr b="0" lang="en-US" sz="4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acti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e.g., one-on-one tutoring, educational software, acceleration of high ability students, cooperative lear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gra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e.g., Reading Recovery, Ladders to Literacy, Cognitive Tutor algebra, Saxon Math, Caring School Community (character educatio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olic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e.g., reduced class size, pre-K, alternative high schools, all year calend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16000" y="360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Nonequivalent comparison groups: Pretest/covariate and posttest m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1523880" y="1371600"/>
            <a:ext cx="5943600" cy="445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876920" y="5334120"/>
            <a:ext cx="24382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test/Covariate(s) 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752480" y="1785960"/>
            <a:ext cx="9144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tte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666880" y="1785960"/>
            <a:ext cx="1800" cy="331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666880" y="5099040"/>
            <a:ext cx="41911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105520" y="1905120"/>
            <a:ext cx="3045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629400" y="2666880"/>
            <a:ext cx="3049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4191120" y="2057400"/>
            <a:ext cx="2971800" cy="182880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0" name=""/>
              <p:cNvSpPr txBox="1"/>
              <p:nvPr/>
            </p:nvSpPr>
            <p:spPr>
              <a:xfrm>
                <a:off x="0" y="3297240"/>
                <a:ext cx="11448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1" name=""/>
              <p:cNvSpPr txBox="1"/>
              <p:nvPr/>
            </p:nvSpPr>
            <p:spPr>
              <a:xfrm>
                <a:off x="2801880" y="6095880"/>
                <a:ext cx="288756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02" name=""/>
          <p:cNvSpPr/>
          <p:nvPr/>
        </p:nvSpPr>
        <p:spPr>
          <a:xfrm>
            <a:off x="0" y="35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2967120" y="2180880"/>
            <a:ext cx="2894040" cy="18097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519280" y="3087720"/>
            <a:ext cx="1903320" cy="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514600" y="2895480"/>
            <a:ext cx="3203640" cy="158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4419720" y="3124080"/>
            <a:ext cx="0" cy="19814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5730840" y="2971440"/>
            <a:ext cx="0" cy="213372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2379600" y="2895480"/>
            <a:ext cx="82440" cy="193680"/>
          </a:xfrm>
          <a:custGeom>
            <a:avLst/>
            <a:gdLst>
              <a:gd name="textAreaLeft" fmla="*/ 52560 w 82440"/>
              <a:gd name="textAreaRight" fmla="*/ 82800 w 82440"/>
              <a:gd name="textAreaTop" fmla="*/ 5040 h 193680"/>
              <a:gd name="textAreaBottom" fmla="*/ 188640 h 193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 flipV="1">
            <a:off x="1905120" y="274284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295280" y="2362320"/>
            <a:ext cx="715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ff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495680" y="4724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530240" y="3886200"/>
            <a:ext cx="1107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ff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test/cov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16000" y="360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Nonequivalent comparison groups: Covariate-adjusted treatment effect esti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1523880" y="1371600"/>
            <a:ext cx="5943600" cy="445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921200" y="5305320"/>
            <a:ext cx="23623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test/Covariate(s) 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752480" y="1785960"/>
            <a:ext cx="9144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tte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2666880" y="1785960"/>
            <a:ext cx="1800" cy="331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2666880" y="5099040"/>
            <a:ext cx="41911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181480" y="1828800"/>
            <a:ext cx="3049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705720" y="2590920"/>
            <a:ext cx="3045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4191120" y="2057400"/>
            <a:ext cx="2971800" cy="182880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0" y="3297240"/>
                <a:ext cx="11448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2801880" y="6095880"/>
                <a:ext cx="288756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24" name=""/>
          <p:cNvSpPr/>
          <p:nvPr/>
        </p:nvSpPr>
        <p:spPr>
          <a:xfrm>
            <a:off x="0" y="35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2967120" y="2180880"/>
            <a:ext cx="2894040" cy="18097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209680" y="3429000"/>
            <a:ext cx="2741760" cy="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2209680" y="2743200"/>
            <a:ext cx="2746440" cy="158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4952520" y="2751120"/>
            <a:ext cx="3240" cy="677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2376360" y="3208320"/>
            <a:ext cx="1800" cy="20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209680" y="292104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2371680" y="2743200"/>
            <a:ext cx="1800" cy="255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216000" y="360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ovariate-adjusted treatment effect estimate with a relevant covariate left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1523880" y="1371600"/>
            <a:ext cx="5943600" cy="445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816440" y="5315040"/>
            <a:ext cx="24382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test/Covariate(s) 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752480" y="1785960"/>
            <a:ext cx="9144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tte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666880" y="1785960"/>
            <a:ext cx="1800" cy="331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666880" y="5099040"/>
            <a:ext cx="41911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181480" y="1828800"/>
            <a:ext cx="3049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705720" y="2590920"/>
            <a:ext cx="3045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4191120" y="2057400"/>
            <a:ext cx="2971800" cy="182880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0" y="3297240"/>
                <a:ext cx="11448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2200320" y="6095880"/>
                <a:ext cx="408924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43" name=""/>
          <p:cNvSpPr/>
          <p:nvPr/>
        </p:nvSpPr>
        <p:spPr>
          <a:xfrm>
            <a:off x="0" y="35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2967120" y="2180880"/>
            <a:ext cx="2894040" cy="18097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2209680" y="3429000"/>
            <a:ext cx="2741760" cy="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2209680" y="2743200"/>
            <a:ext cx="2746440" cy="158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4952520" y="2751120"/>
            <a:ext cx="3240" cy="677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H="1" flipV="1">
            <a:off x="2377800" y="3205080"/>
            <a:ext cx="324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209680" y="292104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4114800" y="1828800"/>
            <a:ext cx="2971800" cy="182880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5257440" y="2590920"/>
            <a:ext cx="324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373480" y="2752560"/>
            <a:ext cx="0" cy="24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Using control variables via match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wise matching: select control comparison to be groupwise similar to intervention group, e.g., schools with similar demographics, geography, 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enerally a good id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 matching: select individuals from the potential control pool that match intervention individuals on one or more observed characterist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ay not be a good id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Potential problems with individual level match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problem with nonequivalent designs– need to match on all relevant variables to obtain a good estimate of the intervention eff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match on too few variables, may omit some that are important to contr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ry to match on too many variables, the sample will be restricted to the cases that can be matched; may be overly narr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must select disproportionately from one tail of the treatment distribution and the other tail of the control distribution, may have regression to the mean artifa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1676520" y="1905120"/>
            <a:ext cx="6095880" cy="40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ression to the mean: Matching on the pret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1523880" y="2438280"/>
            <a:ext cx="6662880" cy="3075120"/>
            <a:chOff x="1523880" y="2438280"/>
            <a:chExt cx="6662880" cy="3075120"/>
          </a:xfrm>
        </p:grpSpPr>
        <p:pic>
          <p:nvPicPr>
            <p:cNvPr id="660" name="" descr=""/>
            <p:cNvPicPr/>
            <p:nvPr/>
          </p:nvPicPr>
          <p:blipFill>
            <a:blip r:embed="rId1"/>
            <a:stretch/>
          </p:blipFill>
          <p:spPr>
            <a:xfrm>
              <a:off x="1523880" y="2438280"/>
              <a:ext cx="5153040" cy="30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1" name="" descr=""/>
            <p:cNvPicPr/>
            <p:nvPr/>
          </p:nvPicPr>
          <p:blipFill>
            <a:blip r:embed="rId2"/>
            <a:stretch/>
          </p:blipFill>
          <p:spPr>
            <a:xfrm>
              <a:off x="3033720" y="2448000"/>
              <a:ext cx="5153040" cy="306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2" name=""/>
          <p:cNvSpPr/>
          <p:nvPr/>
        </p:nvSpPr>
        <p:spPr>
          <a:xfrm>
            <a:off x="3735360" y="23623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259600" y="2362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 rot="5400000">
            <a:off x="4533480" y="3924360"/>
            <a:ext cx="381240" cy="1981080"/>
          </a:xfrm>
          <a:custGeom>
            <a:avLst/>
            <a:gdLst>
              <a:gd name="textAreaLeft" fmla="*/ 0 w 381240"/>
              <a:gd name="textAreaRight" fmla="*/ 137520 w 38124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2976120" y="525780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 where matches can be f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572000" y="4114800"/>
            <a:ext cx="990720" cy="152280"/>
          </a:xfrm>
          <a:prstGeom prst="rightArrow">
            <a:avLst>
              <a:gd name="adj1" fmla="val 50000"/>
              <a:gd name="adj2" fmla="val 162648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 rot="10800000">
            <a:off x="3733560" y="4267080"/>
            <a:ext cx="990360" cy="152640"/>
          </a:xfrm>
          <a:prstGeom prst="rightArrow">
            <a:avLst>
              <a:gd name="adj1" fmla="val 50000"/>
              <a:gd name="adj2" fmla="val 162205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Propensity scores as control vari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pensity score is the probability of being in the intervention group instead of the comparison gro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estimated (“predicted”) from data on the characteristics of the individuals already in each group, typically using logistic regre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thus combines all the control variables into a single variable optimized to differentiate the intervention sample from the control sam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One option: Use the propensity score to create matched 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2579760" y="3225960"/>
            <a:ext cx="747720" cy="74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327480" y="3225960"/>
            <a:ext cx="747720" cy="74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075200" y="3225960"/>
            <a:ext cx="745920" cy="74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821120" y="3225960"/>
            <a:ext cx="749520" cy="74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568840" y="3225960"/>
            <a:ext cx="746280" cy="74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6315120" y="3225960"/>
            <a:ext cx="745920" cy="74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1833480" y="4843440"/>
            <a:ext cx="747720" cy="74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581200" y="4843440"/>
            <a:ext cx="747720" cy="74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328920" y="4843440"/>
            <a:ext cx="746280" cy="74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071960" y="4843440"/>
            <a:ext cx="749160" cy="74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821120" y="4843440"/>
            <a:ext cx="746280" cy="74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5567400" y="4843440"/>
            <a:ext cx="745920" cy="74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1211400" y="2479680"/>
            <a:ext cx="4108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Propensity Score Quin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990720" y="3225960"/>
            <a:ext cx="134136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Bookman Old Style"/>
              </a:rPr>
              <a:t>Treat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Bookman Old Style"/>
              </a:rPr>
              <a:t>Grou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438960" y="4843440"/>
            <a:ext cx="149364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Bookman Old Style"/>
              </a:rPr>
              <a:t>Contr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Bookman Old Style"/>
              </a:rPr>
              <a:t>Grou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701880" y="3973680"/>
            <a:ext cx="1800" cy="868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4446720" y="4422600"/>
            <a:ext cx="2880" cy="41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5194440" y="3973680"/>
            <a:ext cx="2880" cy="866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2954160" y="3973680"/>
            <a:ext cx="1800" cy="866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942160" y="3973680"/>
            <a:ext cx="0" cy="866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949560" y="4221000"/>
            <a:ext cx="106524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Mat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4448160" y="3983040"/>
            <a:ext cx="0" cy="25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216000" y="360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Another option: Use the propensity score</a:t>
            </a: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as a covariate in ANCOVA or M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1523880" y="1371600"/>
            <a:ext cx="5943600" cy="445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5029200" y="5305320"/>
            <a:ext cx="22860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pensity score 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1752480" y="1785960"/>
            <a:ext cx="9144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tte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666880" y="1785960"/>
            <a:ext cx="1800" cy="331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666880" y="5099040"/>
            <a:ext cx="41911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5029200" y="1981080"/>
            <a:ext cx="3049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477120" y="2743200"/>
            <a:ext cx="3045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4191120" y="2057400"/>
            <a:ext cx="2971800" cy="182880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2" name=""/>
              <p:cNvSpPr txBox="1"/>
              <p:nvPr/>
            </p:nvSpPr>
            <p:spPr>
              <a:xfrm>
                <a:off x="0" y="3297240"/>
                <a:ext cx="11448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3" name=""/>
              <p:cNvSpPr txBox="1"/>
              <p:nvPr/>
            </p:nvSpPr>
            <p:spPr>
              <a:xfrm>
                <a:off x="2859120" y="6095880"/>
                <a:ext cx="277164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04" name=""/>
          <p:cNvSpPr/>
          <p:nvPr/>
        </p:nvSpPr>
        <p:spPr>
          <a:xfrm>
            <a:off x="0" y="35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967120" y="2180880"/>
            <a:ext cx="2894040" cy="18097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2209680" y="3429000"/>
            <a:ext cx="2741760" cy="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209680" y="2743200"/>
            <a:ext cx="2746440" cy="158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flipH="1">
            <a:off x="4952520" y="2751120"/>
            <a:ext cx="3240" cy="677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2373480" y="2743200"/>
            <a:ext cx="0" cy="24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2209680" y="292104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2371320" y="3200400"/>
            <a:ext cx="3240" cy="22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Circumstances appropriate for the nonequivalent comparison des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ronger design is truly not fea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ample of relatively comparable units not receiving the intervention is avai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ull account can be given of the differences between the groups potentially related to the outcomes of inte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on those differences can be obtained and used for statistical contr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20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Key Issues in Designing Impact Evaluations for Education Interventions</a:t>
            </a:r>
            <a:endParaRPr b="0" lang="en-US" sz="40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Example: Effects of a professional development program for teach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Montgomery County Public Schools, MD, some 3d grade teachers had received the Studying Skillful Teaching training, some had n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ading and math achievement test scores for students of teachers with and without training were compa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is of covariance was used to test for differences in student outcomes with a propensity score control variable and covariates representing teacher credentials, student pretest, reduced/free lunch status, ethnicity, and special ed or ELL serv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216000" y="360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4. Comparative interrupted </a:t>
            </a:r>
            <a:br>
              <a:rPr sz="4000"/>
            </a:b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time se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H="1" flipV="1">
            <a:off x="4800600" y="2209680"/>
            <a:ext cx="1440" cy="28735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5943600" y="5334120"/>
            <a:ext cx="14479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ool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rot="16200000">
            <a:off x="1146240" y="3197160"/>
            <a:ext cx="23623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an Achiev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1785960"/>
            <a:ext cx="1800" cy="331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4390920" y="5114880"/>
            <a:ext cx="838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am On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666880" y="5099040"/>
            <a:ext cx="41911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3" name=""/>
              <p:cNvSpPr txBox="1"/>
              <p:nvPr/>
            </p:nvSpPr>
            <p:spPr>
              <a:xfrm>
                <a:off x="0" y="3297240"/>
                <a:ext cx="11448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24" name=""/>
          <p:cNvSpPr/>
          <p:nvPr/>
        </p:nvSpPr>
        <p:spPr>
          <a:xfrm>
            <a:off x="0" y="35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3201840" y="3151080"/>
            <a:ext cx="457200" cy="1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3165480" y="3112920"/>
            <a:ext cx="7632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3198960" y="3203640"/>
            <a:ext cx="457200" cy="4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165480" y="3209760"/>
            <a:ext cx="76320" cy="763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3656160" y="3124080"/>
            <a:ext cx="458640" cy="19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619440" y="3276720"/>
            <a:ext cx="76320" cy="7596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654360" y="3203640"/>
            <a:ext cx="460440" cy="2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619440" y="3166920"/>
            <a:ext cx="76320" cy="763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4113360" y="3124080"/>
            <a:ext cx="4572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4113360" y="3181320"/>
            <a:ext cx="455400" cy="5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076640" y="3086280"/>
            <a:ext cx="76320" cy="7596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076640" y="3197160"/>
            <a:ext cx="76320" cy="763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 flipV="1">
            <a:off x="4568760" y="3000240"/>
            <a:ext cx="45900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4568760" y="3211560"/>
            <a:ext cx="46044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530600" y="3146400"/>
            <a:ext cx="76320" cy="763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30600" y="3246480"/>
            <a:ext cx="7632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5025960" y="2939760"/>
            <a:ext cx="460440" cy="6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029200" y="3211560"/>
            <a:ext cx="457200" cy="2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4991040" y="3174840"/>
            <a:ext cx="7632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991040" y="2963880"/>
            <a:ext cx="76320" cy="763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5484960" y="2940120"/>
            <a:ext cx="45720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5483160" y="3206520"/>
            <a:ext cx="459000" cy="2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5448240" y="3200400"/>
            <a:ext cx="7632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5448240" y="2900520"/>
            <a:ext cx="76320" cy="7596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5943600" y="2908080"/>
            <a:ext cx="457200" cy="8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5942160" y="3206880"/>
            <a:ext cx="458640" cy="3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905440" y="3170160"/>
            <a:ext cx="7632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5907240" y="2955960"/>
            <a:ext cx="75960" cy="763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361200" y="2873520"/>
            <a:ext cx="75960" cy="7596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362640" y="3208320"/>
            <a:ext cx="7632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948640" y="2057400"/>
            <a:ext cx="773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5948640" y="3429000"/>
            <a:ext cx="773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Requirements for a good intervention effect estimate from comparative interrupted time se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undamental problem: changes stemming from other sour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fficient pre-intervention time series data showing relative st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other potentially influential event coincides with the program onset or staggered onsets if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ison time series for very similar units in same environment but without the pro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nalysis model that properly estimates changes and differences with autocorrelated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Circumstances appropriate for comparative interrupted time se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ronger design is truly not feasi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series data on a relevant outcome for those exposed to the program are available for periods before and after the onset of the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fficient data points are available, with no change in the nature of the measure, to establish stable statistical tre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on the same measure over the same time period are available for comparable cases without the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Example: The ninth grade Success Academy in Philadelph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ccess Academy grouped 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aders together in small learning communities with a specialized curriculum and a small group of dedicated teach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ed by 7 of the 22 nonselective high schools in 2003-0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utcomes were attendance, academic credit earned, promotion to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ade, achievement test scores, and graduation r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comes are compared for 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aders during the 3 years prior and 5 years after program onset and for the program schools vs. a matched group of schools without the pro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1905120" y="2286000"/>
            <a:ext cx="5502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Other Important Aspects of the Research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Statistical p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al power = probability of statistical significance when there is an eff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is mainly a function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pha level for significance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effect size to detect in standard deviation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mple size: number of students, classrooms, school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variates included in the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search design and corresponding analysis mod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: Critical consid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alistic identification of the minimal effect size with practical significance that the research should be powered to det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nit that is assigned to conditions (students, classrooms, schools, etc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tracluster correlations (ICC) expected for student outcomes when students are nested within the units assig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pected correlations with outcomes of any covariates measured on the units assigned to condi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schools, classrooms, students, etc. available for the stu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 design issues such as the need for 3-4 times as many units for regression-discontinuity as for a comparable randomized experi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uter program for power estimation in multilevel desig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udenbush, S. W., Spybrook, J., Liu, X., &amp; Congdon, R. (2006). Optimal design for longitudinal and multilevel research: Documentation for the “Optimal Design” software. Optimal Design Version 1.7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sitemaker.umich.edu/group-based/optimal_design_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level Data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ble when sampling and assignment to conditions occurs with one unit (e.g., classrooms, schools) and outcomes are measured on units nested within (e.g., student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specialized computer programs, e.g., HLM, MLWin, SAS Proc Mixed, SPSS Mixed Mod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Logic Models, Variables, and Evaluation Questions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 and read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rimental and quasi-experimental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dish, W. R., Cook, T. D., &amp; Campbell, D. T. (2001)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perimental and quasi-experimental designs for generalized causal infer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Houghton Miffl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ckman, L., &amp; Rog, D. J. (eds)(2008)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SAGE Handbook of Applied Social Research Metho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Second Edition). Sage Publi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ression-discontin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hn, J., Todd, P. and Van der Klaauw, W. (2002). Identification and estimation of treatment effects with a regression-discontinuity design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conometr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69(1), 201-20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pelleri J.C. and Trochim W. (2000). Cutoff designs. In Chow, Shein-Chung (Ed.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ncyclopedia of Biopharmaceutical Statistic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149-156. NY: Marcel Dekk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pelleri, J., Darlington, R.B. and Trochim, W. (1994). Power analysis of cutoff-based randomized clinical trials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valuation Revi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18, 141-15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/>
          </p:nvPr>
        </p:nvSpPr>
        <p:spPr>
          <a:xfrm>
            <a:off x="380520" y="45720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equivalent comparison desig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senbaum, P.R., &amp; Rubin, D.B. (1983). The central role of the propensity score in observational studies for causal effects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ometrik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70(1): 41-5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ellen, J. K., Shadish, W.R., &amp; Clark, M.H. (2005). Propensity scores: An introduction and experimental test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valuation Revi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9(6): 530-55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ochet, P.Z., &amp; Burghardt, J. (2007). Using propensity scoring to estimate program-related subgroup impacts in experimental program evaluations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valuation Revi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31(2): 95-12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om, H. S. (2003). Using “short” interrupted time-series analysis to measure the impact of whole school reforms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valuation Review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7(1), 3-4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tfield, C. (2003)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analysis of time series: An introdu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Sixth Ed.) Chapman &amp; Hall/CR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/>
          <p:nvPr/>
        </p:nvSpPr>
        <p:spPr>
          <a:xfrm>
            <a:off x="457200" y="380880"/>
            <a:ext cx="8229600" cy="63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level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x, J. (2002)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ltilevel analysis: Techniques and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Lawrence Erlba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udenbush, S. W., &amp; Bryk, A. S. (2002)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ierarchical linear models: Applications and data analysis metho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Second ed.). Sage publi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s used in this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gan, P., &amp; Ritter, S. (2002)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n experimental study of the effects of Cognitive Tutor® Alegbra I on student knowledge and attitu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Carnegie Learning, In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rski, M., Gleason, P., Rangarajan, A., &amp; Wood, R. (1998). Impacts of Dropout Prevention Programs. Final Report. Mathematica Policy Research, Princeton, NJ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rgesen, J., Myers, D., Schirm, A., et al. (2006). National Assessment of Title I Interim Report to Congress: Volume II: Closing the Reading Gap, First Year Findings from a Randomized Trial of Four Reading Interventions for Striving Readers.  Washington, DC: U.S. Department of Education, Institute of Education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/>
          <p:nvPr/>
        </p:nvSpPr>
        <p:spPr>
          <a:xfrm>
            <a:off x="457200" y="533520"/>
            <a:ext cx="822960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. T. Gormley, T. Gayer, D. Phillips, &amp; B. Dawson (2005). The effects of universal pre-k on cognitive development. Developmental Psychology, 41(6), 872-88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arresi, S., &amp; Wolanin, N. (2007). The effects of Studying Skillful Teaching training program on students’ reading and mathematics achievement. Evaluation Brief, February. Montgomery County Public Schools, M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mple, J. J., Herlihy, C. M., &amp; Smith, T. J. (2005). Making progress toward graduation: Evidence from the Talent Development High School model. New York: MDRC. [Includes 9th grade Success Academy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udenbush, S. W., Spybrook, J., Liu, X., &amp; Congdon, R. (2006). Optimal design for longitudinal and multilevel research: Documentation for the “Optimal Design” software. Optimal Design Version 1.7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Arial"/>
              </a:rPr>
              <a:t>Logic model: 1. Specifying the problem the intervention addresses</a:t>
            </a:r>
            <a:endParaRPr b="0" lang="en-US" sz="4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e of the ne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nd for whom (e.g., kindergarten students who aren’t ready for school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(e.g., poor pre-literacy skills, inappropriate school behavior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e/evidence supporting the intervention target (e.g., at entry K students need to be ready to learn or they will begin to fall behind; research shows school readiness can be enhanced for at-risk 4 year old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Arial"/>
              </a:rPr>
              <a:t>Logic model: 2. Specifying the planned intervention</a:t>
            </a:r>
            <a:endParaRPr b="0" lang="en-US" sz="4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he intervention does that addresses the ne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: What the students should know or be able to do; why this meets the ne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dagogy: Instructional techniques and methods to be used; why appropri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ivery system: How the intervention will arrange to deliver the instr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key factors or core ingredients most essential and distinctive to the interven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Arial"/>
              </a:rPr>
              <a:t>Logic model: 3. Specifying the theory of change</a:t>
            </a:r>
            <a:endParaRPr b="0" lang="en-US" sz="4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5680" y="3639960"/>
            <a:ext cx="1676160" cy="95580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year old at-risk child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0" y="3657600"/>
            <a:ext cx="1447920" cy="99072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-K with literacy curricu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038480" y="2666880"/>
            <a:ext cx="1371600" cy="762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ve attitudes to sch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038480" y="3733920"/>
            <a:ext cx="1371600" cy="7617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pre-literacy ski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038480" y="4800600"/>
            <a:ext cx="1371600" cy="990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arn appropriate school behavi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733920"/>
            <a:ext cx="1371600" cy="7617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school readi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391520" y="3733920"/>
            <a:ext cx="1371600" cy="7617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eater learning gains in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5740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733920" y="3048120"/>
            <a:ext cx="3045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33920" y="426708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733920" y="4114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410080" y="3124080"/>
            <a:ext cx="3049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410080" y="4267080"/>
            <a:ext cx="3049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10080" y="41148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086600" y="4114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4160" y="18288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12560" y="198108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39480" y="1981080"/>
            <a:ext cx="21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ximal 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987600" y="198108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l 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5880" y="21747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2T17:02:47Z</dcterms:created>
  <dc:creator>Mark W. Lipsey</dc:creator>
  <dc:description/>
  <dc:language>en-US</dc:language>
  <cp:lastModifiedBy>Amy.Ripton</cp:lastModifiedBy>
  <dcterms:modified xsi:type="dcterms:W3CDTF">2008-05-05T16:52:36Z</dcterms:modified>
  <cp:revision>120</cp:revision>
  <dc:subject/>
  <dc:title>Session 2: Specifying the Conceptual and Operational Models and the Research Questions that Follow</dc:title>
</cp:coreProperties>
</file>