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9AB5-7240-4B57-9B4A-D9127991C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556C-7384-4D8E-B6A7-53FE9B114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92FA-A930-482E-973E-F754DCF43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971880" y="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1872001-8B66-45E1-8991-A085376D9133}" type="datetime">
              <a:rPr b="0" i="1" lang="en-US" sz="11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i="1" lang="en-US" sz="1100" spc="-1" strike="noStrike">
                <a:solidFill>
                  <a:srgbClr val="000000"/>
                </a:solidFill>
                <a:latin typeface="Tahoma"/>
              </a:rPr>
              <a:t> </a:t>
            </a:r>
            <a:fld id="{9B4DA916-7487-46C1-BBBC-66D1450ED870}" type="datetime10">
              <a:rPr b="0" i="1" lang="en-US" sz="1100" spc="-1" strike="noStrike">
                <a:solidFill>
                  <a:srgbClr val="000000"/>
                </a:solidFill>
                <a:latin typeface="Tahoma"/>
              </a:rPr>
              <a:t>09:12</a:t>
            </a:fld>
            <a:endParaRPr b="0" i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ahoma"/>
              </a:rPr>
              <a:t>ISTA Pharmaceuticals</a:t>
            </a:r>
            <a:endParaRPr b="0" i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D75B830-F0F5-4185-B419-F04349009BC0}" type="slidenum">
              <a:rPr b="0" i="1" lang="en-US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i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971880" y="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79BE6BA-B325-4C63-B80C-7EA3A06C34A9}" type="datetime">
              <a:rPr b="0" i="1" lang="en-US" sz="11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i="1" lang="en-US" sz="1100" spc="-1" strike="noStrike">
                <a:solidFill>
                  <a:srgbClr val="000000"/>
                </a:solidFill>
                <a:latin typeface="Tahoma"/>
              </a:rPr>
              <a:t> </a:t>
            </a:r>
            <a:fld id="{AE0E3E8A-626E-48F3-8079-37BF1747C348}" type="datetime10">
              <a:rPr b="0" i="1" lang="en-US" sz="1100" spc="-1" strike="noStrike">
                <a:solidFill>
                  <a:srgbClr val="000000"/>
                </a:solidFill>
                <a:latin typeface="Tahoma"/>
              </a:rPr>
              <a:t>09:12</a:t>
            </a:fld>
            <a:endParaRPr b="0" i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ahoma"/>
              </a:rPr>
              <a:t>ISTA Pharmaceuticals</a:t>
            </a:r>
            <a:endParaRPr b="0" i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9D93B25-D7FF-4832-820E-55F3921D86E1}" type="slidenum">
              <a:rPr b="0" i="1" lang="en-US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i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3971880" y="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063ED88-6366-441C-A77A-9C54FD2FA8FF}" type="datetime">
              <a:rPr b="0" i="1" lang="en-US" sz="11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i="1" lang="en-US" sz="1100" spc="-1" strike="noStrike">
                <a:solidFill>
                  <a:srgbClr val="000000"/>
                </a:solidFill>
                <a:latin typeface="Tahoma"/>
              </a:rPr>
              <a:t> </a:t>
            </a:r>
            <a:fld id="{DB12532E-BFEA-4344-9E14-F6E605E8D1D4}" type="datetime10">
              <a:rPr b="0" i="1" lang="en-US" sz="1100" spc="-1" strike="noStrike">
                <a:solidFill>
                  <a:srgbClr val="000000"/>
                </a:solidFill>
                <a:latin typeface="Tahoma"/>
              </a:rPr>
              <a:t>09:12</a:t>
            </a:fld>
            <a:endParaRPr b="0" i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ahoma"/>
              </a:rPr>
              <a:t>ISTA Pharmaceuticals</a:t>
            </a:r>
            <a:endParaRPr b="0" i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0CC7588-3E0C-4E1B-AABA-B460A1493D9E}" type="slidenum">
              <a:rPr b="0" i="1" lang="en-US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i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971880" y="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5B112C2-DD41-4728-AD32-47B3437D031C}" type="datetime">
              <a:rPr b="0" i="1" lang="en-US" sz="11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i="1" lang="en-US" sz="1100" spc="-1" strike="noStrike">
                <a:solidFill>
                  <a:srgbClr val="000000"/>
                </a:solidFill>
                <a:latin typeface="Tahoma"/>
              </a:rPr>
              <a:t> </a:t>
            </a:r>
            <a:fld id="{8905FA67-A0DB-471C-8610-D4CC2FB5D3CD}" type="datetime10">
              <a:rPr b="0" i="1" lang="en-US" sz="1100" spc="-1" strike="noStrike">
                <a:solidFill>
                  <a:srgbClr val="000000"/>
                </a:solidFill>
                <a:latin typeface="Tahoma"/>
              </a:rPr>
              <a:t>09:12</a:t>
            </a:fld>
            <a:endParaRPr b="0" i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ahoma"/>
              </a:rPr>
              <a:t>ISTA Pharmaceuticals</a:t>
            </a:r>
            <a:endParaRPr b="0" i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E91EE86-5E79-40DF-B352-4F074D9698FA}" type="slidenum">
              <a:rPr b="0" i="1" lang="en-US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i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971880" y="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F59795C-27BE-4578-B0EF-E2A2BC33931F}" type="datetime">
              <a:rPr b="0" i="1" lang="en-US" sz="11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i="1" lang="en-US" sz="1100" spc="-1" strike="noStrike">
                <a:solidFill>
                  <a:srgbClr val="000000"/>
                </a:solidFill>
                <a:latin typeface="Tahoma"/>
              </a:rPr>
              <a:t> </a:t>
            </a:r>
            <a:fld id="{15C23EBD-B2FA-4136-9136-607C606591B1}" type="datetime10">
              <a:rPr b="0" i="1" lang="en-US" sz="1100" spc="-1" strike="noStrike">
                <a:solidFill>
                  <a:srgbClr val="000000"/>
                </a:solidFill>
                <a:latin typeface="Tahoma"/>
              </a:rPr>
              <a:t>09:12</a:t>
            </a:fld>
            <a:endParaRPr b="0" i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ahoma"/>
              </a:rPr>
              <a:t>ISTA Pharmaceuticals</a:t>
            </a:r>
            <a:endParaRPr b="0" i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DFD396D-392C-4377-B4DB-0F27FE3527DB}" type="slidenum">
              <a:rPr b="0" i="1" lang="en-US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i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3971880" y="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CA3EC20-2415-4299-B9A1-1CDD7520C3A8}" type="datetime">
              <a:rPr b="0" i="1" lang="en-US" sz="11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i="1" lang="en-US" sz="1100" spc="-1" strike="noStrike">
                <a:solidFill>
                  <a:srgbClr val="000000"/>
                </a:solidFill>
                <a:latin typeface="Tahoma"/>
              </a:rPr>
              <a:t> </a:t>
            </a:r>
            <a:fld id="{344529D4-5820-4135-AC74-D0EDF4B99C00}" type="datetime10">
              <a:rPr b="0" i="1" lang="en-US" sz="1100" spc="-1" strike="noStrike">
                <a:solidFill>
                  <a:srgbClr val="000000"/>
                </a:solidFill>
                <a:latin typeface="Tahoma"/>
              </a:rPr>
              <a:t>09:12</a:t>
            </a:fld>
            <a:endParaRPr b="0" i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ahoma"/>
              </a:rPr>
              <a:t>ISTA Pharmaceuticals</a:t>
            </a:r>
            <a:endParaRPr b="0" i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96BE30C-8525-4D35-A627-90E572D98C05}" type="slidenum">
              <a:rPr b="0" i="1" lang="en-US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i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3971880" y="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89F1964-32CF-4910-A85D-54C989DFF401}" type="datetime">
              <a:rPr b="0" i="1" lang="en-US" sz="1100" spc="-1" strike="noStrike">
                <a:solidFill>
                  <a:srgbClr val="000000"/>
                </a:solidFill>
                <a:latin typeface="Tahoma"/>
              </a:rPr>
              <a:t>07/31/26</a:t>
            </a:fld>
            <a:r>
              <a:rPr b="0" i="1" lang="en-US" sz="1100" spc="-1" strike="noStrike">
                <a:solidFill>
                  <a:srgbClr val="000000"/>
                </a:solidFill>
                <a:latin typeface="Tahoma"/>
              </a:rPr>
              <a:t> </a:t>
            </a:r>
            <a:fld id="{B36296A7-6F78-4809-A5FF-565EE848E861}" type="datetime10">
              <a:rPr b="0" i="1" lang="en-US" sz="1100" spc="-1" strike="noStrike">
                <a:solidFill>
                  <a:srgbClr val="000000"/>
                </a:solidFill>
                <a:latin typeface="Tahoma"/>
              </a:rPr>
              <a:t>09:12</a:t>
            </a:fld>
            <a:endParaRPr b="0" i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ahoma"/>
              </a:rPr>
              <a:t>ISTA Pharmaceuticals</a:t>
            </a:r>
            <a:endParaRPr b="0" i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58F6E74-71BE-4DCF-8581-F6D5C9B109E3}" type="slidenum">
              <a:rPr b="0" i="1" lang="en-US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i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370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370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370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370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370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370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9" descr=""/>
          <p:cNvPicPr/>
          <p:nvPr/>
        </p:nvPicPr>
        <p:blipFill>
          <a:blip r:embed="rId2"/>
          <a:stretch/>
        </p:blipFill>
        <p:spPr>
          <a:xfrm>
            <a:off x="0" y="152280"/>
            <a:ext cx="9145440" cy="7588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4" descr=""/>
          <p:cNvPicPr/>
          <p:nvPr/>
        </p:nvPicPr>
        <p:blipFill>
          <a:blip r:embed="rId3"/>
          <a:stretch/>
        </p:blipFill>
        <p:spPr>
          <a:xfrm>
            <a:off x="457200" y="5867280"/>
            <a:ext cx="281952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es.ed.gov/newsflash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Title 3" descr=""/>
          <p:cNvPicPr/>
          <p:nvPr/>
        </p:nvPicPr>
        <p:blipFill>
          <a:blip r:embed="rId1"/>
          <a:stretch/>
        </p:blipFill>
        <p:spPr>
          <a:xfrm>
            <a:off x="682560" y="2097000"/>
            <a:ext cx="7785000" cy="15112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82f"/>
                </a:solidFill>
                <a:latin typeface="Tahoma"/>
              </a:rPr>
              <a:t>Highlighting IES Grant-funded Research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 Hand ITC"/>
              </a:rPr>
              <a:t>Elizabeth Alb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ptember 7, 20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592200" y="1219320"/>
            <a:ext cx="795960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3382920" y="914400"/>
            <a:ext cx="5761080" cy="3135240"/>
          </a:xfrm>
          <a:prstGeom prst="rect">
            <a:avLst/>
          </a:prstGeom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81" name="Rectangle 8"/>
          <p:cNvSpPr/>
          <p:nvPr/>
        </p:nvSpPr>
        <p:spPr>
          <a:xfrm>
            <a:off x="228600" y="1182600"/>
            <a:ext cx="3124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ights impact of IES-funded research and/or innovative projects 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295280" y="4191120"/>
            <a:ext cx="7629480" cy="1780920"/>
          </a:xfrm>
          <a:prstGeom prst="rect">
            <a:avLst/>
          </a:prstGeom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3352680" y="556272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Interviews with IES Principal Investigators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7221600" cy="4572000"/>
          </a:xfrm>
          <a:prstGeom prst="rect">
            <a:avLst/>
          </a:prstGeom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6589800" y="6575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BDD0-20C3-481B-8DBB-31BA43D8743A}" type="datetime">
              <a:rPr b="0" i="1" lang="en-US" sz="900" spc="-1" strike="noStrike">
                <a:solidFill>
                  <a:srgbClr val="0026a0"/>
                </a:solidFill>
                <a:latin typeface="Times New Roman"/>
              </a:rPr>
              <a:t>07/31/26</a:t>
            </a:fld>
            <a:r>
              <a:rPr b="0" i="1" lang="en-US" sz="900" spc="-1" strike="noStrike">
                <a:solidFill>
                  <a:srgbClr val="0026a0"/>
                </a:solidFill>
                <a:latin typeface="Times New Roman"/>
              </a:rPr>
              <a:t> </a:t>
            </a:r>
            <a:fld id="{62B27DF1-0D8F-49FC-AF59-E2F982A9CF10}" type="datetime10">
              <a:rPr b="0" i="1" lang="en-US" sz="900" spc="-1" strike="noStrike">
                <a:solidFill>
                  <a:srgbClr val="0026a0"/>
                </a:solidFill>
                <a:latin typeface="Times New Roman"/>
              </a:rPr>
              <a:t>09:12</a:t>
            </a:fld>
            <a:endParaRPr b="0" i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6760" y="914400"/>
            <a:ext cx="861048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Responding to Questions Received through the IES Websit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53264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from Researc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from Potential Grante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from General Public: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hich program works best, what is the latest research say on teaching phonics, etc.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Line 5"/>
          <p:cNvSpPr/>
          <p:nvPr/>
        </p:nvSpPr>
        <p:spPr>
          <a:xfrm>
            <a:off x="247680" y="1752480"/>
            <a:ext cx="8648640" cy="0"/>
          </a:xfrm>
          <a:prstGeom prst="line">
            <a:avLst/>
          </a:prstGeom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Picture 2" descr="C:\Users\katina.stapleton\AppData\Local\Microsoft\Windows\Temporary Internet Files\Content.IE5\7M1T5EJ2\MC900384172[1].wmf"/>
          <p:cNvPicPr/>
          <p:nvPr/>
        </p:nvPicPr>
        <p:blipFill>
          <a:blip r:embed="rId1"/>
          <a:stretch/>
        </p:blipFill>
        <p:spPr>
          <a:xfrm>
            <a:off x="6781680" y="1981080"/>
            <a:ext cx="1538280" cy="1825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2d"/>
                </a:solidFill>
                <a:latin typeface="Arial"/>
                <a:ea typeface="SimSun"/>
              </a:rPr>
              <a:t>Step 1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Deciding to Highlight Research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6080" y="2133720"/>
            <a:ext cx="851184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goa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facts/finding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s the audience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Line 5"/>
          <p:cNvSpPr/>
          <p:nvPr/>
        </p:nvSpPr>
        <p:spPr>
          <a:xfrm>
            <a:off x="247680" y="1752480"/>
            <a:ext cx="8648640" cy="0"/>
          </a:xfrm>
          <a:prstGeom prst="line">
            <a:avLst/>
          </a:prstGeom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" name="Picture 6" descr="C:\Users\katina.stapleton\AppData\Local\Microsoft\Windows\Temporary Internet Files\Content.IE5\EDNCLT9B\MC900030045[1].wmf"/>
          <p:cNvPicPr/>
          <p:nvPr/>
        </p:nvPicPr>
        <p:blipFill>
          <a:blip r:embed="rId1"/>
          <a:stretch/>
        </p:blipFill>
        <p:spPr>
          <a:xfrm>
            <a:off x="5257800" y="2057400"/>
            <a:ext cx="3200400" cy="3573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534160" cy="102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82f"/>
                </a:solidFill>
                <a:latin typeface="Arial"/>
                <a:ea typeface="SimSun"/>
              </a:rPr>
              <a:t>Step 2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Determining the Appropriate Venu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400" y="2362320"/>
            <a:ext cx="8513640" cy="34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Weekly Report (IW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S News Fla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Highligh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S News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Responses to Questions from Researchers and General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Line 5"/>
          <p:cNvSpPr/>
          <p:nvPr/>
        </p:nvSpPr>
        <p:spPr>
          <a:xfrm>
            <a:off x="247680" y="1752480"/>
            <a:ext cx="8648640" cy="0"/>
          </a:xfrm>
          <a:prstGeom prst="line">
            <a:avLst/>
          </a:prstGeom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" name="Picture 2" descr="C:\Users\katina.stapleton\AppData\Local\Microsoft\Windows\Temporary Internet Files\Content.IE5\7M1T5EJ2\MC900384040[1].wmf"/>
          <p:cNvPicPr/>
          <p:nvPr/>
        </p:nvPicPr>
        <p:blipFill>
          <a:blip r:embed="rId1"/>
          <a:stretch/>
        </p:blipFill>
        <p:spPr>
          <a:xfrm>
            <a:off x="6324480" y="2286000"/>
            <a:ext cx="1560600" cy="1812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82f"/>
                </a:solidFill>
                <a:latin typeface="Arial"/>
                <a:ea typeface="SimSun"/>
              </a:rPr>
              <a:t>Exampl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IES News Flash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350676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ail-based alert service about IES’ four Centers and their progr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nounces new publications, ongoing research, funding opportunities, web tools, and other inform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3962520" y="4419720"/>
            <a:ext cx="5029200" cy="35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ign up at: http://ies.ed.gov/newsflash/</a:t>
            </a:r>
            <a:r>
              <a:rPr b="0" lang="en-US" sz="2000" spc="-1" strike="noStrike">
                <a:solidFill>
                  <a:srgbClr val="00682f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Line 5"/>
          <p:cNvSpPr/>
          <p:nvPr/>
        </p:nvSpPr>
        <p:spPr>
          <a:xfrm>
            <a:off x="247680" y="1752480"/>
            <a:ext cx="8648640" cy="0"/>
          </a:xfrm>
          <a:prstGeom prst="line">
            <a:avLst/>
          </a:prstGeom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3962520" y="1981080"/>
            <a:ext cx="4991040" cy="2343240"/>
          </a:xfrm>
          <a:prstGeom prst="rect">
            <a:avLst/>
          </a:prstGeom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85720" y="990720"/>
            <a:ext cx="7972560" cy="4572000"/>
          </a:xfrm>
          <a:prstGeom prst="rect">
            <a:avLst/>
          </a:prstGeom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-380880" y="-685800"/>
            <a:ext cx="10667880" cy="8001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2285640"/>
            <a:ext cx="7772400" cy="3352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0" y="-533520"/>
            <a:ext cx="10464840" cy="78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82f"/>
                </a:solidFill>
                <a:latin typeface="Arial"/>
                <a:ea typeface="SimSun"/>
              </a:rPr>
              <a:t>Exampl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NCER &amp; NCSER Highligh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358128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IES-funded research fin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 NCER &amp; NCSER homep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Line 5"/>
          <p:cNvSpPr/>
          <p:nvPr/>
        </p:nvSpPr>
        <p:spPr>
          <a:xfrm>
            <a:off x="247680" y="1752480"/>
            <a:ext cx="8648640" cy="0"/>
          </a:xfrm>
          <a:prstGeom prst="line">
            <a:avLst/>
          </a:prstGeom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rcRect l="22060" t="8403" r="23320" b="4204"/>
          <a:stretch/>
        </p:blipFill>
        <p:spPr>
          <a:xfrm>
            <a:off x="4191120" y="1905120"/>
            <a:ext cx="4572000" cy="457200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8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915320" cy="4419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152280" y="2743200"/>
            <a:ext cx="3032280" cy="1371600"/>
          </a:xfrm>
          <a:prstGeom prst="rect">
            <a:avLst/>
          </a:prstGeom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4" name="TextBox 9"/>
          <p:cNvSpPr/>
          <p:nvPr/>
        </p:nvSpPr>
        <p:spPr>
          <a:xfrm>
            <a:off x="3657600" y="54864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Archived onlin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3"/>
          <p:cNvSpPr/>
          <p:nvPr/>
        </p:nvSpPr>
        <p:spPr>
          <a:xfrm>
            <a:off x="6589800" y="6575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9A63-4815-415F-91AA-F7D5477C32AE}" type="datetime">
              <a:rPr b="0" i="1" lang="en-US" sz="900" spc="-1" strike="noStrike">
                <a:solidFill>
                  <a:srgbClr val="0026a0"/>
                </a:solidFill>
                <a:latin typeface="Times New Roman"/>
              </a:rPr>
              <a:t>07/31/26</a:t>
            </a:fld>
            <a:r>
              <a:rPr b="0" i="1" lang="en-US" sz="900" spc="-1" strike="noStrike">
                <a:solidFill>
                  <a:srgbClr val="0026a0"/>
                </a:solidFill>
                <a:latin typeface="Times New Roman"/>
              </a:rPr>
              <a:t> </a:t>
            </a:r>
            <a:fld id="{9DDA8914-BD54-4515-99C2-0CADBF5CDF50}" type="datetime10">
              <a:rPr b="0" i="1" lang="en-US" sz="900" spc="-1" strike="noStrike">
                <a:solidFill>
                  <a:srgbClr val="0026a0"/>
                </a:solidFill>
                <a:latin typeface="Times New Roman"/>
              </a:rPr>
              <a:t>09:12</a:t>
            </a:fld>
            <a:endParaRPr b="0" i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82f"/>
                </a:solidFill>
                <a:latin typeface="Arial"/>
                <a:ea typeface="SimSun"/>
              </a:rPr>
              <a:t>Exampl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IES Newsletter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29606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 IES websi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als to a diverse, external aud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47680" y="1752480"/>
            <a:ext cx="8648640" cy="0"/>
          </a:xfrm>
          <a:prstGeom prst="line">
            <a:avLst/>
          </a:prstGeom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352680" y="1905120"/>
            <a:ext cx="5477040" cy="4038480"/>
          </a:xfrm>
          <a:prstGeom prst="rect">
            <a:avLst/>
          </a:prstGeom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2:14:21Z</dcterms:created>
  <dc:creator>phoebe.cottingham</dc:creator>
  <dc:description/>
  <dc:language>en-US</dc:language>
  <cp:lastModifiedBy>IES</cp:lastModifiedBy>
  <cp:lastPrinted>2006-09-17T19:55:25Z</cp:lastPrinted>
  <dcterms:modified xsi:type="dcterms:W3CDTF">2012-04-10T11:45:33Z</dcterms:modified>
  <cp:revision>225</cp:revision>
  <dc:subject/>
  <dc:title>PowerPoint Presentation</dc:title>
</cp:coreProperties>
</file>