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8E7-636F-4347-B514-E03DDA45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5166-E127-4EAC-831E-67D1E33A8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3633-FE96-4BF2-9540-85C5DDCAC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40029E-1395-4E3D-82EE-E734FE032D80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237FCBEA-B978-4506-B5C0-36067CB9251E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4D2831-F8CA-426B-A9A6-700E5F4F7BFD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259749-C386-44B9-B2E2-C903AF1A69F8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EEDAB3B0-D8E6-494F-B1E6-04D87A8836E8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F48C2C-F966-47B3-9EAE-25A5100D70F8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8F3D0D-120A-4609-9741-84E03CD4DE16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84D3EB21-1C79-43B4-B696-BB35B335E9F0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537DDB-4D35-4560-99BF-F2D5B508C64C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893FC9-D145-400B-B312-38B17B1BC4B4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C6CD0CDB-34F7-46AD-BEC4-5195E7DB8D20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644B7-4A30-4AAA-A0BE-ACD1C9DD35E9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D8F4F0-FA0A-492D-936E-E440DA5F54BE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838809EC-85DF-4C9B-8DA0-F1D1D7EA64D8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191BFA-E8CE-4864-B8B9-6F47900C4DEC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128515-ED7E-4B46-AF92-18A8BA41FDC3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7B4B795D-A4D6-4ECA-A55B-073BE69D7A3F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0D5CED-ABC4-4A73-8B4E-162CAF8B38D3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863BDF-EF9C-4A41-AF29-899A51E8FAB9}" type="datetime">
              <a:rPr b="0" i="1" lang="en-US" sz="11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fld id="{67DB80EF-0D00-4C8A-96F9-989F07E51BB9}" type="datetime10">
              <a:rPr b="0" i="1" lang="en-US" sz="1100" spc="-1" strike="noStrike">
                <a:solidFill>
                  <a:srgbClr val="000000"/>
                </a:solidFill>
                <a:latin typeface="Tahoma"/>
              </a:rPr>
              <a:t>22:15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ISTA Pharmaceuticals</a:t>
            </a:r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C73C83-C154-4613-8706-AC4A8C647106}" type="slidenum">
              <a:rPr b="0" i="1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28195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es.ed.gov/newsflash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3" descr=""/>
          <p:cNvPicPr/>
          <p:nvPr/>
        </p:nvPicPr>
        <p:blipFill>
          <a:blip r:embed="rId1"/>
          <a:stretch/>
        </p:blipFill>
        <p:spPr>
          <a:xfrm>
            <a:off x="682560" y="2097000"/>
            <a:ext cx="778500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82f"/>
                </a:solidFill>
                <a:latin typeface="Tahoma"/>
              </a:rPr>
              <a:t>Highlighting IES Grant-funded Research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Elizabeth Alb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7,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92200" y="1219320"/>
            <a:ext cx="79596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382920" y="914400"/>
            <a:ext cx="5761080" cy="313524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1" name="Rectangle 8"/>
          <p:cNvSpPr/>
          <p:nvPr/>
        </p:nvSpPr>
        <p:spPr>
          <a:xfrm>
            <a:off x="228600" y="1182600"/>
            <a:ext cx="3124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s impact of IES-funded research and/or innovative projects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7629480" cy="17809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352680" y="55627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Interviews with IES Principal Investigator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7221600" cy="45720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589800" y="6575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F265-C14A-4CA5-9B93-D47FFB531C6B}" type="datetime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07/29/26</a:t>
            </a:fld>
            <a:r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 </a:t>
            </a:r>
            <a:fld id="{2830972D-D0D1-445E-915D-D8820476CAA0}" type="datetime10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22:15</a:t>
            </a:fld>
            <a:endParaRPr b="0" i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760" y="914400"/>
            <a:ext cx="86104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esponding to Questions Received through the IES Websit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532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from Researc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from Potential Grant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from General Public: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ich program works best, what is the latest research say on teaching phonics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2" descr="C:\Users\katina.stapleton\AppData\Local\Microsoft\Windows\Temporary Internet Files\Content.IE5\7M1T5EJ2\MC900384172[1].wmf"/>
          <p:cNvPicPr/>
          <p:nvPr/>
        </p:nvPicPr>
        <p:blipFill>
          <a:blip r:embed="rId1"/>
          <a:stretch/>
        </p:blipFill>
        <p:spPr>
          <a:xfrm>
            <a:off x="6781680" y="1981080"/>
            <a:ext cx="1538280" cy="18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Arial"/>
                <a:ea typeface="SimSun"/>
              </a:rPr>
              <a:t>Step 1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Deciding to Highlight Resear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6080" y="2133720"/>
            <a:ext cx="8511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go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acts/finding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audienc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6" descr="C:\Users\katina.stapleton\AppData\Local\Microsoft\Windows\Temporary Internet Files\Content.IE5\EDNCLT9B\MC900030045[1].wmf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5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Step 2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Determining the Appropriate Venu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2362320"/>
            <a:ext cx="851364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Weekly Report (IW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 News Fl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 News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Responses to Questions from Researchers and General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2" descr="C:\Users\katina.stapleton\AppData\Local\Microsoft\Windows\Temporary Internet Files\Content.IE5\7M1T5EJ2\MC900384040[1].wmf"/>
          <p:cNvPicPr/>
          <p:nvPr/>
        </p:nvPicPr>
        <p:blipFill>
          <a:blip r:embed="rId1"/>
          <a:stretch/>
        </p:blipFill>
        <p:spPr>
          <a:xfrm>
            <a:off x="6324480" y="2286000"/>
            <a:ext cx="1560600" cy="181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IES News Flas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350676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-based alert service about IES’ four Centers and their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ounces new publications, ongoing research, funding opportunities, web tools, and other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62520" y="4419720"/>
            <a:ext cx="50292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gn up at: http://ies.ed.gov/newsflash/</a:t>
            </a:r>
            <a:r>
              <a:rPr b="0" lang="en-US" sz="2000" spc="-1" strike="noStrike">
                <a:solidFill>
                  <a:srgbClr val="00682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991040" cy="234324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5720" y="990720"/>
            <a:ext cx="7972560" cy="45720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-380880" y="-685800"/>
            <a:ext cx="10667880" cy="800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285640"/>
            <a:ext cx="777240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-533520"/>
            <a:ext cx="104648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NCER &amp; NCSER Highligh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5812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ES-funded research f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ER &amp; NCSER home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22060" t="8403" r="23320" b="4204"/>
          <a:stretch/>
        </p:blipFill>
        <p:spPr>
          <a:xfrm>
            <a:off x="4191120" y="1905120"/>
            <a:ext cx="4572000" cy="45720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915320" cy="441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3032280" cy="137160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4" name="TextBox 9"/>
          <p:cNvSpPr/>
          <p:nvPr/>
        </p:nvSpPr>
        <p:spPr>
          <a:xfrm>
            <a:off x="3657600" y="5486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chived onlin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589800" y="6575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4792-0921-4C80-B5F2-305BDE9202F4}" type="datetime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07/29/26</a:t>
            </a:fld>
            <a:r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 </a:t>
            </a:r>
            <a:fld id="{6F1DFC07-342D-43D9-B37C-06F24EC90AEA}" type="datetime10">
              <a:rPr b="0" i="1" lang="en-US" sz="900" spc="-1" strike="noStrike">
                <a:solidFill>
                  <a:srgbClr val="0026a0"/>
                </a:solidFill>
                <a:latin typeface="Times New Roman"/>
              </a:rPr>
              <a:t>22:15</a:t>
            </a:fld>
            <a:endParaRPr b="0" i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2f"/>
                </a:solidFill>
                <a:latin typeface="Arial"/>
                <a:ea typeface="SimSu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IES Newsletter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960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IES webs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s to a diverse, external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47680" y="1752480"/>
            <a:ext cx="864864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477040" cy="403848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4:21Z</dcterms:created>
  <dc:creator>phoebe.cottingham</dc:creator>
  <dc:description/>
  <dc:language>en-US</dc:language>
  <cp:lastModifiedBy>IES</cp:lastModifiedBy>
  <cp:lastPrinted>2006-09-17T19:55:25Z</cp:lastPrinted>
  <dcterms:modified xsi:type="dcterms:W3CDTF">2012-04-10T11:45:33Z</dcterms:modified>
  <cp:revision>225</cp:revision>
  <dc:subject/>
  <dc:title>PowerPoint Presentation</dc:title>
</cp:coreProperties>
</file>