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4219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203560" y="609120"/>
            <a:ext cx="2603520" cy="17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25146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285-E2DA-4373-8799-26323F42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557-B803-4E21-A390-0CA687F28A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24040" y="685800"/>
            <a:ext cx="52099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203560" y="609480"/>
            <a:ext cx="2603520" cy="1714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25146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supposed to read “Four 1.5 day face-to-face sessions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B787-FFD9-4EE6-8713-96998D28CA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0AD-3ABA-4597-9192-5D41AABB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A1C-1146-448C-9A24-950C1FB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12A-8A6C-4C7D-9E1A-A6035803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9288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6484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056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9288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86484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F0E-47BA-499E-8AB1-AA3F0542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5E4-620E-4BAF-B180-8B7F1EF2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346-7E5A-4B2A-8D13-425ACA8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5EDD-46C7-49DA-8D84-08615E1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E02-2824-4FEA-B5D1-5F0EA69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ECF3-FE27-467A-843C-59BDFE5B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20560" y="277920"/>
            <a:ext cx="9382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FF8F-7C44-4983-8F99-DC82CF7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C62A-1E93-44CB-BCAB-4BE8C03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F55-960B-4B45-8E10-BA3167C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FA4F-ABBD-4409-9D97-03F80C5D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246-66F5-405E-B37F-0105E45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904F-9713-4CAC-9E97-2A51D05D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E614-3724-4948-AC22-3356C4C4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9288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6484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2056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9288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86484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D98-57A7-4268-8A02-23ECB2BF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050-30C8-477D-8148-9228BECF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622-0C4E-40C5-9A93-76382ABC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C4B-6629-4BF1-812F-ACB98996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20560" y="277920"/>
            <a:ext cx="9382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484-27E1-4EAB-B526-4A250B8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105-3F10-4F28-8DF3-C2343CE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A50-B250-4603-9A7A-9323B49D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098-AD0B-4EB4-BA63-67813A6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554960" y="6429240"/>
            <a:ext cx="325440" cy="209520"/>
          </a:xfrm>
          <a:custGeom>
            <a:avLst/>
            <a:gdLst>
              <a:gd name="textAreaLeft" fmla="*/ 0 w 325440"/>
              <a:gd name="textAreaRight" fmla="*/ 325440 w 3254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10419840" cy="2590920"/>
            <a:chOff x="3240" y="4267080"/>
            <a:chExt cx="1041984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10419840" cy="2590920"/>
            </a:xfrm>
            <a:custGeom>
              <a:avLst/>
              <a:gdLst>
                <a:gd name="textAreaLeft" fmla="*/ 0 w 10419840"/>
                <a:gd name="textAreaRight" fmla="*/ 10420200 w 1041984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384240" y="5897520"/>
              <a:ext cx="1432440" cy="827280"/>
              <a:chOff x="6384240" y="5897520"/>
              <a:chExt cx="143244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672600" y="6048360"/>
                <a:ext cx="96588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747120" y="6095880"/>
                <a:ext cx="81000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847200" y="6146640"/>
                <a:ext cx="62460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19920" y="6184800"/>
                <a:ext cx="4737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981480" y="6226200"/>
                <a:ext cx="3427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474960" y="5897520"/>
                <a:ext cx="693360" cy="255600"/>
              </a:xfrm>
              <a:custGeom>
                <a:avLst/>
                <a:gdLst>
                  <a:gd name="textAreaLeft" fmla="*/ 0 w 693360"/>
                  <a:gd name="textAreaRight" fmla="*/ 693720 w 6933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689160" y="6620040"/>
                <a:ext cx="806040" cy="10476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384240" y="6200640"/>
                <a:ext cx="161640" cy="3430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460200" y="5945040"/>
                <a:ext cx="1356480" cy="731880"/>
              </a:xfrm>
              <a:custGeom>
                <a:avLst/>
                <a:gdLst>
                  <a:gd name="textAreaLeft" fmla="*/ 0 w 1356480"/>
                  <a:gd name="textAreaRight" fmla="*/ 1356480 w 135648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310160" y="5907240"/>
                <a:ext cx="173880" cy="47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7079760" y="6267600"/>
                <a:ext cx="15228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213360" y="5764320"/>
              <a:ext cx="2941920" cy="1084320"/>
              <a:chOff x="3213360" y="5764320"/>
              <a:chExt cx="294192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4103280" y="6245280"/>
                <a:ext cx="1154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185000" y="6283440"/>
                <a:ext cx="9896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235400" y="6316560"/>
                <a:ext cx="90612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284360" y="6345360"/>
                <a:ext cx="8031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313160" y="6357960"/>
                <a:ext cx="7470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408920" y="6391440"/>
                <a:ext cx="5536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479480" y="6438960"/>
                <a:ext cx="4107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599360" y="6504120"/>
                <a:ext cx="1623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676760" y="6067440"/>
                <a:ext cx="812160" cy="295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875400" y="6114960"/>
                <a:ext cx="1613880" cy="733680"/>
              </a:xfrm>
              <a:custGeom>
                <a:avLst/>
                <a:gdLst>
                  <a:gd name="textAreaLeft" fmla="*/ 0 w 1613880"/>
                  <a:gd name="textAreaRight" fmla="*/ 1614240 w 1613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766680" y="6076800"/>
                <a:ext cx="736560" cy="77184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404320" y="6419880"/>
                <a:ext cx="195120" cy="399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741480" y="5850000"/>
                <a:ext cx="1510560" cy="237960"/>
              </a:xfrm>
              <a:custGeom>
                <a:avLst/>
                <a:gdLst>
                  <a:gd name="textAreaLeft" fmla="*/ 0 w 1510560"/>
                  <a:gd name="textAreaRight" fmla="*/ 1510920 w 15105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377880" y="6116760"/>
                <a:ext cx="309240" cy="731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339160" y="5954760"/>
                <a:ext cx="651600" cy="89388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194000" y="5764320"/>
                <a:ext cx="1950120" cy="674640"/>
              </a:xfrm>
              <a:custGeom>
                <a:avLst/>
                <a:gdLst>
                  <a:gd name="textAreaLeft" fmla="*/ 0 w 1950120"/>
                  <a:gd name="textAreaRight" fmla="*/ 1950480 w 19501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978160" y="6477120"/>
                <a:ext cx="177120" cy="37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213360" y="5830920"/>
                <a:ext cx="870120" cy="1017720"/>
              </a:xfrm>
              <a:custGeom>
                <a:avLst/>
                <a:gdLst>
                  <a:gd name="textAreaLeft" fmla="*/ 0 w 870120"/>
                  <a:gd name="textAreaRight" fmla="*/ 870480 w 8701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469640" y="5334120"/>
              <a:ext cx="2444400" cy="1303200"/>
              <a:chOff x="7469640" y="5334120"/>
              <a:chExt cx="244440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599960" y="5400720"/>
                <a:ext cx="2172960" cy="1160280"/>
              </a:xfrm>
              <a:custGeom>
                <a:avLst/>
                <a:gdLst>
                  <a:gd name="textAreaLeft" fmla="*/ 0 w 2172960"/>
                  <a:gd name="textAreaRight" fmla="*/ 2173320 w 21729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469640" y="5343480"/>
                <a:ext cx="984240" cy="1170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670960" y="5334120"/>
                <a:ext cx="1101960" cy="399960"/>
              </a:xfrm>
              <a:custGeom>
                <a:avLst/>
                <a:gdLst>
                  <a:gd name="textAreaLeft" fmla="*/ 0 w 1101960"/>
                  <a:gd name="textAreaRight" fmla="*/ 1102320 w 1101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492480" y="6361200"/>
                <a:ext cx="130320" cy="856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3640" y="6465960"/>
                <a:ext cx="1274040" cy="171360"/>
              </a:xfrm>
              <a:custGeom>
                <a:avLst/>
                <a:gdLst>
                  <a:gd name="textAreaLeft" fmla="*/ 0 w 1274040"/>
                  <a:gd name="textAreaRight" fmla="*/ 1274400 w 1274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655200" y="5800680"/>
                <a:ext cx="258840" cy="5414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541440"/>
                  <a:gd name="textAreaBottom" fmla="*/ 541440 h 54144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9161280" y="5753160"/>
                <a:ext cx="148320" cy="1429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043120" y="5638680"/>
                <a:ext cx="1298880" cy="684360"/>
              </a:xfrm>
              <a:custGeom>
                <a:avLst/>
                <a:gdLst>
                  <a:gd name="textAreaLeft" fmla="*/ 0 w 1298880"/>
                  <a:gd name="textAreaRight" fmla="*/ 1298880 w 129888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869600" y="5572080"/>
                <a:ext cx="1644480" cy="84636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58400" y="5543640"/>
                <a:ext cx="660600" cy="104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75880" y="5648400"/>
                <a:ext cx="119160" cy="759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226000" y="5727600"/>
                <a:ext cx="9370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283960" y="5762520"/>
                <a:ext cx="806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341920" y="5794200"/>
                <a:ext cx="69804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425080" y="5838840"/>
                <a:ext cx="53532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489880" y="5870520"/>
                <a:ext cx="40140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573400" y="5918040"/>
                <a:ext cx="22788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554400" y="4800600"/>
              <a:ext cx="768240" cy="409680"/>
              <a:chOff x="9554400" y="4800600"/>
              <a:chExt cx="7682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554400" y="5057640"/>
                <a:ext cx="691200" cy="152640"/>
              </a:xfrm>
              <a:custGeom>
                <a:avLst/>
                <a:gdLst>
                  <a:gd name="textAreaLeft" fmla="*/ 0 w 691200"/>
                  <a:gd name="textAreaRight" fmla="*/ 691200 w 691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617760" y="4800600"/>
                <a:ext cx="466200" cy="85680"/>
              </a:xfrm>
              <a:custGeom>
                <a:avLst/>
                <a:gdLst>
                  <a:gd name="textAreaLeft" fmla="*/ 0 w 466200"/>
                  <a:gd name="textAreaRight" fmla="*/ 466560 w 46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0214640" y="4867200"/>
                <a:ext cx="108000" cy="2476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726120" y="5153040"/>
                <a:ext cx="347400" cy="284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597600" y="4829040"/>
                <a:ext cx="291240" cy="2955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932400" y="4829040"/>
                <a:ext cx="336240" cy="333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672120" y="4854600"/>
                <a:ext cx="540720" cy="29520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737280" y="4897440"/>
                <a:ext cx="410040" cy="209520"/>
                <a:chOff x="9737280" y="4897440"/>
                <a:chExt cx="41004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737280" y="4897440"/>
                  <a:ext cx="410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776880" y="4919760"/>
                  <a:ext cx="32868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827280" y="4935600"/>
                  <a:ext cx="22572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876240" y="4960800"/>
                  <a:ext cx="1317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20560" y="6244920"/>
            <a:ext cx="243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560760" y="6244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 Development Center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470720" y="6244920"/>
            <a:ext cx="243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04A8-8B4E-4AEF-827D-372FE7A57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10419840" cy="2590920"/>
            <a:chOff x="3240" y="4267080"/>
            <a:chExt cx="1041984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10419840" cy="2590920"/>
            </a:xfrm>
            <a:custGeom>
              <a:avLst/>
              <a:gdLst>
                <a:gd name="textAreaLeft" fmla="*/ 0 w 10419840"/>
                <a:gd name="textAreaRight" fmla="*/ 10420200 w 1041984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6384240" y="5897520"/>
              <a:ext cx="1427040" cy="827280"/>
              <a:chOff x="6384240" y="5897520"/>
              <a:chExt cx="142704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6671520" y="6048360"/>
                <a:ext cx="96228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6746040" y="6095880"/>
                <a:ext cx="815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849000" y="6146640"/>
                <a:ext cx="62064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917760" y="6184800"/>
                <a:ext cx="4719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979320" y="6226200"/>
                <a:ext cx="34164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6474600" y="5897520"/>
                <a:ext cx="690840" cy="25560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6688080" y="6620040"/>
                <a:ext cx="803160" cy="1047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384240" y="6200640"/>
                <a:ext cx="160920" cy="3430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6459840" y="5945040"/>
                <a:ext cx="1351440" cy="731880"/>
              </a:xfrm>
              <a:custGeom>
                <a:avLst/>
                <a:gdLst>
                  <a:gd name="textAreaLeft" fmla="*/ 0 w 1351440"/>
                  <a:gd name="textAreaRight" fmla="*/ 1351800 w 135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7306920" y="5907240"/>
                <a:ext cx="173520" cy="47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7076880" y="6267600"/>
                <a:ext cx="151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3213360" y="5764320"/>
              <a:ext cx="2941920" cy="1084320"/>
              <a:chOff x="3213360" y="5764320"/>
              <a:chExt cx="294192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4103280" y="6245280"/>
                <a:ext cx="1154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4185000" y="6283440"/>
                <a:ext cx="9896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4235400" y="6316560"/>
                <a:ext cx="90612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4284360" y="6345360"/>
                <a:ext cx="8031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4313160" y="6357960"/>
                <a:ext cx="7470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4408920" y="6391440"/>
                <a:ext cx="5536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4479480" y="6438960"/>
                <a:ext cx="4107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599360" y="6504120"/>
                <a:ext cx="1623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676760" y="6067440"/>
                <a:ext cx="812160" cy="295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875400" y="6114960"/>
                <a:ext cx="1613880" cy="733680"/>
              </a:xfrm>
              <a:custGeom>
                <a:avLst/>
                <a:gdLst>
                  <a:gd name="textAreaLeft" fmla="*/ 0 w 1613880"/>
                  <a:gd name="textAreaRight" fmla="*/ 1614240 w 1613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766680" y="6076800"/>
                <a:ext cx="736560" cy="77184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5404320" y="6419880"/>
                <a:ext cx="195120" cy="399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741480" y="5850000"/>
                <a:ext cx="1510560" cy="237960"/>
              </a:xfrm>
              <a:custGeom>
                <a:avLst/>
                <a:gdLst>
                  <a:gd name="textAreaLeft" fmla="*/ 0 w 1510560"/>
                  <a:gd name="textAreaRight" fmla="*/ 1510920 w 15105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377880" y="6116760"/>
                <a:ext cx="309240" cy="731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5339160" y="5954760"/>
                <a:ext cx="651600" cy="89388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194000" y="5764320"/>
                <a:ext cx="1950120" cy="674640"/>
              </a:xfrm>
              <a:custGeom>
                <a:avLst/>
                <a:gdLst>
                  <a:gd name="textAreaLeft" fmla="*/ 0 w 1950120"/>
                  <a:gd name="textAreaRight" fmla="*/ 1950480 w 19501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978160" y="6477120"/>
                <a:ext cx="177120" cy="37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3213360" y="5830920"/>
                <a:ext cx="870120" cy="1017720"/>
              </a:xfrm>
              <a:custGeom>
                <a:avLst/>
                <a:gdLst>
                  <a:gd name="textAreaLeft" fmla="*/ 0 w 870120"/>
                  <a:gd name="textAreaRight" fmla="*/ 870480 w 8701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7469640" y="5334120"/>
              <a:ext cx="2444400" cy="1303200"/>
              <a:chOff x="7469640" y="5334120"/>
              <a:chExt cx="244440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7599960" y="5400720"/>
                <a:ext cx="2172960" cy="1160280"/>
              </a:xfrm>
              <a:custGeom>
                <a:avLst/>
                <a:gdLst>
                  <a:gd name="textAreaLeft" fmla="*/ 0 w 2172960"/>
                  <a:gd name="textAreaRight" fmla="*/ 2173320 w 21729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7469640" y="5343480"/>
                <a:ext cx="984240" cy="1170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8670960" y="5334120"/>
                <a:ext cx="1101960" cy="399960"/>
              </a:xfrm>
              <a:custGeom>
                <a:avLst/>
                <a:gdLst>
                  <a:gd name="textAreaLeft" fmla="*/ 0 w 1101960"/>
                  <a:gd name="textAreaRight" fmla="*/ 1102320 w 1101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9492480" y="6361200"/>
                <a:ext cx="130320" cy="856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153640" y="6465960"/>
                <a:ext cx="1274040" cy="171360"/>
              </a:xfrm>
              <a:custGeom>
                <a:avLst/>
                <a:gdLst>
                  <a:gd name="textAreaLeft" fmla="*/ 0 w 1274040"/>
                  <a:gd name="textAreaRight" fmla="*/ 1274400 w 1274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9655200" y="5800680"/>
                <a:ext cx="258840" cy="5414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541440"/>
                  <a:gd name="textAreaBottom" fmla="*/ 541440 h 54144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9161280" y="5753160"/>
                <a:ext cx="148320" cy="1429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43120" y="5638680"/>
                <a:ext cx="1298880" cy="684360"/>
              </a:xfrm>
              <a:custGeom>
                <a:avLst/>
                <a:gdLst>
                  <a:gd name="textAreaLeft" fmla="*/ 0 w 1298880"/>
                  <a:gd name="textAreaRight" fmla="*/ 1298880 w 129888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869600" y="5572080"/>
                <a:ext cx="1644480" cy="84636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8258400" y="5543640"/>
                <a:ext cx="660600" cy="104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8075880" y="5648400"/>
                <a:ext cx="119160" cy="759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8226000" y="5727600"/>
                <a:ext cx="9370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8283960" y="5762520"/>
                <a:ext cx="806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8341920" y="5794200"/>
                <a:ext cx="69804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8425080" y="5838840"/>
                <a:ext cx="53532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8489880" y="5870520"/>
                <a:ext cx="40140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8573400" y="5918040"/>
                <a:ext cx="22788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9554400" y="4800600"/>
              <a:ext cx="768240" cy="409680"/>
              <a:chOff x="9554400" y="4800600"/>
              <a:chExt cx="7682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9554400" y="5057640"/>
                <a:ext cx="691200" cy="152640"/>
              </a:xfrm>
              <a:custGeom>
                <a:avLst/>
                <a:gdLst>
                  <a:gd name="textAreaLeft" fmla="*/ 0 w 691200"/>
                  <a:gd name="textAreaRight" fmla="*/ 691200 w 691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9617760" y="4800600"/>
                <a:ext cx="466200" cy="85680"/>
              </a:xfrm>
              <a:custGeom>
                <a:avLst/>
                <a:gdLst>
                  <a:gd name="textAreaLeft" fmla="*/ 0 w 466200"/>
                  <a:gd name="textAreaRight" fmla="*/ 466560 w 46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10214640" y="4867200"/>
                <a:ext cx="108000" cy="2476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9726120" y="5153040"/>
                <a:ext cx="347400" cy="284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9597600" y="4829040"/>
                <a:ext cx="291240" cy="2955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9932400" y="4829040"/>
                <a:ext cx="336240" cy="333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9672120" y="4854600"/>
                <a:ext cx="540720" cy="29520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9737280" y="4897440"/>
                <a:ext cx="410040" cy="209520"/>
                <a:chOff x="9737280" y="4897440"/>
                <a:chExt cx="41004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9737280" y="4897440"/>
                  <a:ext cx="410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9776880" y="4919760"/>
                  <a:ext cx="32868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9827280" y="4935600"/>
                  <a:ext cx="22572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9876240" y="4960800"/>
                  <a:ext cx="1317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520560" y="62485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560760" y="6248520"/>
            <a:ext cx="330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ducation Development Center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7470720" y="62485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3EE5-339E-48C0-8F78-E690BFE9F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58840" y="358128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Clark-Chiarelli, Jess Grope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y Hoisington, Janna Fuccillo, &amp; Yen Thi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e3ed"/>
                </a:solidFill>
                <a:latin typeface="Calibri"/>
              </a:rPr>
              <a:t>Education Development Center,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e3ed"/>
                </a:solidFill>
                <a:latin typeface="Calibri"/>
              </a:rPr>
              <a:t>September 6,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5680" y="609120"/>
            <a:ext cx="9296280" cy="266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Developing and Maintaining Relationship with Preschool Teachers: Challenges and Solutions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Foundations of Science Literacy (</a:t>
            </a:r>
            <a:r>
              <a:rPr b="0" i="1" lang="en-US" sz="4000" spc="-1" strike="noStrike">
                <a:solidFill>
                  <a:srgbClr val="ccecff"/>
                </a:solidFill>
                <a:latin typeface="Calibri"/>
              </a:rPr>
              <a:t>FSL</a:t>
            </a: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Goal 3 Efficacy Study Funded by IES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omprehensive professional development for preschool teachers in physical scien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 1.5 day face-to-face s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session coa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xploring Water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 gu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1A5-24CA-4165-9335-BC860DB4E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448320" y="2773440"/>
            <a:ext cx="2487600" cy="32004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1120" y="1295280"/>
            <a:ext cx="9491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Builds teacher’s science pedagogical content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teachers i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nderstanding important physical science concepts related to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ter Flo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op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king &amp; Floa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bles &amp; Ram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ngaging in the inquiry process through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ir own investiga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pplying the inquiry process in their classrooms to guide children’s investig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alibri"/>
              </a:rPr>
              <a:t>Foundations of Science Literacy (</a:t>
            </a:r>
            <a:r>
              <a:rPr b="0" i="1" lang="en-US" sz="3600" spc="-1" strike="noStrike">
                <a:solidFill>
                  <a:srgbClr val="ccecff"/>
                </a:solidFill>
                <a:latin typeface="Calibri"/>
              </a:rPr>
              <a:t>FSL</a:t>
            </a:r>
            <a:r>
              <a:rPr b="0" lang="en-US" sz="3600" spc="-1" strike="noStrike">
                <a:solidFill>
                  <a:srgbClr val="ccec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FEB-3B37-496D-B161-ADD7251FBE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/Users/nclark/Desktop/NCC presentation 1.31/movies/wgbh_clip_1.mov"/>
          <p:cNvPicPr/>
          <p:nvPr/>
        </p:nvPicPr>
        <p:blipFill>
          <a:blip r:embed="rId1"/>
          <a:stretch/>
        </p:blipFill>
        <p:spPr>
          <a:xfrm>
            <a:off x="6278400" y="3048120"/>
            <a:ext cx="4145040" cy="2225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Research Desig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andom assignment at program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0% to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FS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% to control grou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Content Placeholder 9" descr=""/>
          <p:cNvPicPr/>
          <p:nvPr/>
        </p:nvPicPr>
        <p:blipFill>
          <a:blip r:embed="rId1"/>
          <a:stretch/>
        </p:blipFill>
        <p:spPr>
          <a:xfrm>
            <a:off x="1023840" y="3816360"/>
            <a:ext cx="8296200" cy="230976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F5D-9603-4827-AA59-6F74D9EE1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: Two Sites in New York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e 1: All teachers in one large, Head St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e 2: Teachers drawn one large Head Start program supplemented by teachers from childcare and public, school readiness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llenges in Site 2: recruitment and ret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15D-BCF1-430F-8056-E857A5F61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for Establishing and Maintaining Relationships with Teac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ership goals are aligned with goals of the project; not merely a vehicle for free professional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eptualizations of profession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ionship between management and teac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ion of partnership—more than benefici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7B68-F393-46BB-8EA3-4B3D0672A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for Establishing and Maintaining Relationships with Teachers: Components of interv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chedule of face-to-face s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itude towards course cred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 for coaching; flexibil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B48A-4BD0-4607-9D48-A44020600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1:32:17Z</dcterms:created>
  <dc:creator>Jess Gropen</dc:creator>
  <dc:description/>
  <dc:language>en-US</dc:language>
  <cp:lastModifiedBy>Authorised User</cp:lastModifiedBy>
  <cp:lastPrinted>2007-06-07T12:55:52Z</cp:lastPrinted>
  <dcterms:modified xsi:type="dcterms:W3CDTF">2011-12-07T14:07:20Z</dcterms:modified>
  <cp:revision>587</cp:revision>
  <dc:subject/>
  <dc:title>SREE09 TQ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display_urn:schemas-microsoft-com:office:office#Author">
    <vt:lpwstr>Clark-Chiarelli, Nancy</vt:lpwstr>
  </property>
  <property fmtid="{D5CDD505-2E9C-101B-9397-08002B2CF9AE}" pid="5" name="display_urn:schemas-microsoft-com:office:office#Editor">
    <vt:lpwstr>Clark-Chiarelli, Nanc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