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4219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2203560" y="609120"/>
            <a:ext cx="2603520" cy="17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2514600"/>
            <a:ext cx="5029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search is supported by the U.S. Department of Education, Institute of Education Sci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43DE-6DE9-4148-8BFD-A693361F0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research is supported by the U.S. Department of Education, Institute of Education Scie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5A0D-AD2B-420B-9EFA-04B5194853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24040" y="685800"/>
            <a:ext cx="520992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203560" y="609480"/>
            <a:ext cx="2603520" cy="17146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2514600"/>
            <a:ext cx="5029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supposed to read “Four 1.5 day face-to-face sessions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research is supported by the U.S. Department of Education, Institute of Education Scie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1AA4-BDD8-468E-B5A5-38E75E73B6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180-0A1D-4325-BD55-B2082C44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938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560" y="3964320"/>
            <a:ext cx="938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680-0846-45B9-B0DB-DFA599B0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20560" y="396432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28360" y="396432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7F2-F450-438E-BC92-FEE6C5D7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92880" y="160020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64840" y="160020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0560" y="396432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92880" y="396432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864840" y="396432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706-79BC-4491-AD1A-28F1A628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5E4A-1093-4002-AD6C-D85755F9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20560" y="1600200"/>
            <a:ext cx="9382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D048-BBA8-4325-BB70-0580D8DE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938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D0E9-CE69-4A2C-A071-1412FEDA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2991-06F0-473D-9C5A-D8F20BFB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1CAC-7E79-48D5-A6B5-F7020AE5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20560" y="277920"/>
            <a:ext cx="93823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B973-5ED1-4940-BB1E-9CAEB290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0560" y="396432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CB82-C3E7-48E1-B694-FAD68074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20560" y="1600200"/>
            <a:ext cx="9382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351-DC62-42F5-B3DF-56D3E005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28360" y="396432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6F61-37C4-488C-8E50-13544C94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20560" y="3964320"/>
            <a:ext cx="938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9B50-08B0-4D24-9DEE-E2884FEA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938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0560" y="3964320"/>
            <a:ext cx="938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CD8A-92BD-48E3-B5E0-9324F60E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0560" y="396432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328360" y="396432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7454-11E0-475B-AF4C-C68C436A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92880" y="160020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64840" y="160020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20560" y="396432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92880" y="396432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864840" y="3964320"/>
            <a:ext cx="302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8140-E3D1-4297-B550-7F1F66ED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938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339-C02D-4CF3-856F-B935E929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680-131A-4E8D-934A-327DB3D7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4B2-7601-4959-BFBD-50F432E1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20560" y="277920"/>
            <a:ext cx="93823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FB4-C367-4772-908F-8FAFC2F1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0560" y="396432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D7C-45CD-4300-9117-3DA3707D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28360" y="396432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EE5-7340-4F59-8857-B4646E8B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05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28360" y="1600200"/>
            <a:ext cx="4578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20560" y="3964320"/>
            <a:ext cx="938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99F-033F-413C-A0F2-6BAE1C3A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7554960" y="6429240"/>
            <a:ext cx="325440" cy="209520"/>
          </a:xfrm>
          <a:custGeom>
            <a:avLst/>
            <a:gdLst>
              <a:gd name="textAreaLeft" fmla="*/ 0 w 325440"/>
              <a:gd name="textAreaRight" fmla="*/ 325440 w 32544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10419840" cy="2590920"/>
            <a:chOff x="3240" y="4267080"/>
            <a:chExt cx="1041984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10419840" cy="2590920"/>
            </a:xfrm>
            <a:custGeom>
              <a:avLst/>
              <a:gdLst>
                <a:gd name="textAreaLeft" fmla="*/ 0 w 10419840"/>
                <a:gd name="textAreaRight" fmla="*/ 10420200 w 1041984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6384240" y="5897520"/>
              <a:ext cx="1432440" cy="827280"/>
              <a:chOff x="6384240" y="5897520"/>
              <a:chExt cx="143244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6672600" y="6048360"/>
                <a:ext cx="96588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6747120" y="6095880"/>
                <a:ext cx="81000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847200" y="6146640"/>
                <a:ext cx="62460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19920" y="6184800"/>
                <a:ext cx="4737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981480" y="6226200"/>
                <a:ext cx="3427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474960" y="5897520"/>
                <a:ext cx="693360" cy="255600"/>
              </a:xfrm>
              <a:custGeom>
                <a:avLst/>
                <a:gdLst>
                  <a:gd name="textAreaLeft" fmla="*/ 0 w 693360"/>
                  <a:gd name="textAreaRight" fmla="*/ 693720 w 69336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689160" y="6620040"/>
                <a:ext cx="806040" cy="104760"/>
              </a:xfrm>
              <a:custGeom>
                <a:avLst/>
                <a:gdLst>
                  <a:gd name="textAreaLeft" fmla="*/ 0 w 806040"/>
                  <a:gd name="textAreaRight" fmla="*/ 806400 w 8060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6384240" y="6200640"/>
                <a:ext cx="161640" cy="34308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460200" y="5945040"/>
                <a:ext cx="1356480" cy="731880"/>
              </a:xfrm>
              <a:custGeom>
                <a:avLst/>
                <a:gdLst>
                  <a:gd name="textAreaLeft" fmla="*/ 0 w 1356480"/>
                  <a:gd name="textAreaRight" fmla="*/ 1356480 w 135648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310160" y="5907240"/>
                <a:ext cx="173880" cy="47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7079760" y="6267600"/>
                <a:ext cx="15228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213360" y="5764320"/>
              <a:ext cx="2941920" cy="1084320"/>
              <a:chOff x="3213360" y="5764320"/>
              <a:chExt cx="294192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4103280" y="6245280"/>
                <a:ext cx="115452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4185000" y="6283440"/>
                <a:ext cx="9896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4235400" y="6316560"/>
                <a:ext cx="90612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4284360" y="6345360"/>
                <a:ext cx="80316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4313160" y="6357960"/>
                <a:ext cx="74700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4408920" y="6391440"/>
                <a:ext cx="55368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4479480" y="6438960"/>
                <a:ext cx="4107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599360" y="6504120"/>
                <a:ext cx="1623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676760" y="6067440"/>
                <a:ext cx="812160" cy="295200"/>
              </a:xfrm>
              <a:custGeom>
                <a:avLst/>
                <a:gdLst>
                  <a:gd name="textAreaLeft" fmla="*/ 0 w 812160"/>
                  <a:gd name="textAreaRight" fmla="*/ 812520 w 81216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875400" y="6114960"/>
                <a:ext cx="1613880" cy="733680"/>
              </a:xfrm>
              <a:custGeom>
                <a:avLst/>
                <a:gdLst>
                  <a:gd name="textAreaLeft" fmla="*/ 0 w 1613880"/>
                  <a:gd name="textAreaRight" fmla="*/ 1614240 w 1613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766680" y="6076800"/>
                <a:ext cx="736560" cy="771840"/>
              </a:xfrm>
              <a:custGeom>
                <a:avLst/>
                <a:gdLst>
                  <a:gd name="textAreaLeft" fmla="*/ 0 w 736560"/>
                  <a:gd name="textAreaRight" fmla="*/ 736920 w 73656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5404320" y="6419880"/>
                <a:ext cx="195120" cy="3999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741480" y="5850000"/>
                <a:ext cx="1510560" cy="237960"/>
              </a:xfrm>
              <a:custGeom>
                <a:avLst/>
                <a:gdLst>
                  <a:gd name="textAreaLeft" fmla="*/ 0 w 1510560"/>
                  <a:gd name="textAreaRight" fmla="*/ 1510920 w 15105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377880" y="6116760"/>
                <a:ext cx="309240" cy="73188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339160" y="5954760"/>
                <a:ext cx="651600" cy="893880"/>
              </a:xfrm>
              <a:custGeom>
                <a:avLst/>
                <a:gdLst>
                  <a:gd name="textAreaLeft" fmla="*/ 0 w 651600"/>
                  <a:gd name="textAreaRight" fmla="*/ 651960 w 65160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4194000" y="5764320"/>
                <a:ext cx="1950120" cy="674640"/>
              </a:xfrm>
              <a:custGeom>
                <a:avLst/>
                <a:gdLst>
                  <a:gd name="textAreaLeft" fmla="*/ 0 w 1950120"/>
                  <a:gd name="textAreaRight" fmla="*/ 1950480 w 195012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978160" y="6477120"/>
                <a:ext cx="177120" cy="37152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3213360" y="5830920"/>
                <a:ext cx="870120" cy="1017720"/>
              </a:xfrm>
              <a:custGeom>
                <a:avLst/>
                <a:gdLst>
                  <a:gd name="textAreaLeft" fmla="*/ 0 w 870120"/>
                  <a:gd name="textAreaRight" fmla="*/ 870480 w 87012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7469640" y="5334120"/>
              <a:ext cx="2444400" cy="1303200"/>
              <a:chOff x="7469640" y="5334120"/>
              <a:chExt cx="244440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7599960" y="5400720"/>
                <a:ext cx="2172960" cy="1160280"/>
              </a:xfrm>
              <a:custGeom>
                <a:avLst/>
                <a:gdLst>
                  <a:gd name="textAreaLeft" fmla="*/ 0 w 2172960"/>
                  <a:gd name="textAreaRight" fmla="*/ 2173320 w 21729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7469640" y="5343480"/>
                <a:ext cx="984240" cy="1170000"/>
              </a:xfrm>
              <a:custGeom>
                <a:avLst/>
                <a:gdLst>
                  <a:gd name="textAreaLeft" fmla="*/ 0 w 984240"/>
                  <a:gd name="textAreaRight" fmla="*/ 984600 w 9842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8670960" y="5334120"/>
                <a:ext cx="1101960" cy="399960"/>
              </a:xfrm>
              <a:custGeom>
                <a:avLst/>
                <a:gdLst>
                  <a:gd name="textAreaLeft" fmla="*/ 0 w 1101960"/>
                  <a:gd name="textAreaRight" fmla="*/ 1102320 w 1101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9492480" y="6361200"/>
                <a:ext cx="130320" cy="8568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8153640" y="6465960"/>
                <a:ext cx="1274040" cy="171360"/>
              </a:xfrm>
              <a:custGeom>
                <a:avLst/>
                <a:gdLst>
                  <a:gd name="textAreaLeft" fmla="*/ 0 w 1274040"/>
                  <a:gd name="textAreaRight" fmla="*/ 1274400 w 1274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9655200" y="5800680"/>
                <a:ext cx="258840" cy="54144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541440"/>
                  <a:gd name="textAreaBottom" fmla="*/ 541440 h 541440"/>
                </a:gdLst>
                <a:ahLst/>
                <a:rect l="textAreaLeft" t="textAreaTop" r="textAreaRight" b="textAreaBottom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9161280" y="5753160"/>
                <a:ext cx="148320" cy="14292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043120" y="5638680"/>
                <a:ext cx="1298880" cy="684360"/>
              </a:xfrm>
              <a:custGeom>
                <a:avLst/>
                <a:gdLst>
                  <a:gd name="textAreaLeft" fmla="*/ 0 w 1298880"/>
                  <a:gd name="textAreaRight" fmla="*/ 1298880 w 129888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7869600" y="5572080"/>
                <a:ext cx="1644480" cy="846360"/>
              </a:xfrm>
              <a:custGeom>
                <a:avLst/>
                <a:gdLst>
                  <a:gd name="textAreaLeft" fmla="*/ 0 w 1644480"/>
                  <a:gd name="textAreaRight" fmla="*/ 1644840 w 16444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58400" y="5543640"/>
                <a:ext cx="660600" cy="10476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75880" y="5648400"/>
                <a:ext cx="119160" cy="759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8226000" y="5727600"/>
                <a:ext cx="93708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8283960" y="5762520"/>
                <a:ext cx="80640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8341920" y="5794200"/>
                <a:ext cx="69804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8425080" y="5838840"/>
                <a:ext cx="53532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8489880" y="5870520"/>
                <a:ext cx="40140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8573400" y="5918040"/>
                <a:ext cx="22788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9554400" y="4800600"/>
              <a:ext cx="768240" cy="409680"/>
              <a:chOff x="9554400" y="4800600"/>
              <a:chExt cx="7682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9554400" y="5057640"/>
                <a:ext cx="691200" cy="152640"/>
              </a:xfrm>
              <a:custGeom>
                <a:avLst/>
                <a:gdLst>
                  <a:gd name="textAreaLeft" fmla="*/ 0 w 691200"/>
                  <a:gd name="textAreaRight" fmla="*/ 691200 w 6912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9617760" y="4800600"/>
                <a:ext cx="466200" cy="85680"/>
              </a:xfrm>
              <a:custGeom>
                <a:avLst/>
                <a:gdLst>
                  <a:gd name="textAreaLeft" fmla="*/ 0 w 466200"/>
                  <a:gd name="textAreaRight" fmla="*/ 466560 w 4662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0214640" y="4867200"/>
                <a:ext cx="108000" cy="24768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9726120" y="5153040"/>
                <a:ext cx="347400" cy="2844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9597600" y="4829040"/>
                <a:ext cx="291240" cy="2955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9932400" y="4829040"/>
                <a:ext cx="336240" cy="33336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9672120" y="4854600"/>
                <a:ext cx="540720" cy="295200"/>
              </a:xfrm>
              <a:custGeom>
                <a:avLst/>
                <a:gdLst>
                  <a:gd name="textAreaLeft" fmla="*/ 0 w 540720"/>
                  <a:gd name="textAreaRight" fmla="*/ 541080 w 54072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9737280" y="4897440"/>
                <a:ext cx="410040" cy="209520"/>
                <a:chOff x="9737280" y="4897440"/>
                <a:chExt cx="41004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9737280" y="4897440"/>
                  <a:ext cx="41004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9776880" y="4919760"/>
                  <a:ext cx="32868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9827280" y="4935600"/>
                  <a:ext cx="22572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9876240" y="4960800"/>
                  <a:ext cx="13176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20560" y="1600200"/>
            <a:ext cx="938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520560" y="6244920"/>
            <a:ext cx="243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560760" y="6244920"/>
            <a:ext cx="330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tion Development Center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7470720" y="6244920"/>
            <a:ext cx="243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ECA1-6CF9-49DA-AB44-B7FE6C7AA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10419840" cy="2590920"/>
            <a:chOff x="3240" y="4267080"/>
            <a:chExt cx="1041984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10419840" cy="2590920"/>
            </a:xfrm>
            <a:custGeom>
              <a:avLst/>
              <a:gdLst>
                <a:gd name="textAreaLeft" fmla="*/ 0 w 10419840"/>
                <a:gd name="textAreaRight" fmla="*/ 10420200 w 1041984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6384240" y="5897520"/>
              <a:ext cx="1427040" cy="827280"/>
              <a:chOff x="6384240" y="5897520"/>
              <a:chExt cx="142704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6671520" y="6048360"/>
                <a:ext cx="96228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6746040" y="6095880"/>
                <a:ext cx="81576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849000" y="6146640"/>
                <a:ext cx="62064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917760" y="6184800"/>
                <a:ext cx="4719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979320" y="6226200"/>
                <a:ext cx="34164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6474600" y="5897520"/>
                <a:ext cx="690840" cy="25560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6688080" y="6620040"/>
                <a:ext cx="803160" cy="104760"/>
              </a:xfrm>
              <a:custGeom>
                <a:avLst/>
                <a:gdLst>
                  <a:gd name="textAreaLeft" fmla="*/ 0 w 803160"/>
                  <a:gd name="textAreaRight" fmla="*/ 803520 w 8031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6384240" y="6200640"/>
                <a:ext cx="160920" cy="34308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6459840" y="5945040"/>
                <a:ext cx="1351440" cy="731880"/>
              </a:xfrm>
              <a:custGeom>
                <a:avLst/>
                <a:gdLst>
                  <a:gd name="textAreaLeft" fmla="*/ 0 w 1351440"/>
                  <a:gd name="textAreaRight" fmla="*/ 1351800 w 135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7306920" y="5907240"/>
                <a:ext cx="173520" cy="47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7076880" y="6267600"/>
                <a:ext cx="151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3213360" y="5764320"/>
              <a:ext cx="2941920" cy="1084320"/>
              <a:chOff x="3213360" y="5764320"/>
              <a:chExt cx="294192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4103280" y="6245280"/>
                <a:ext cx="115452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4185000" y="6283440"/>
                <a:ext cx="9896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4235400" y="6316560"/>
                <a:ext cx="90612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4284360" y="6345360"/>
                <a:ext cx="80316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4313160" y="6357960"/>
                <a:ext cx="74700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4408920" y="6391440"/>
                <a:ext cx="55368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4479480" y="6438960"/>
                <a:ext cx="4107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599360" y="6504120"/>
                <a:ext cx="1623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676760" y="6067440"/>
                <a:ext cx="812160" cy="295200"/>
              </a:xfrm>
              <a:custGeom>
                <a:avLst/>
                <a:gdLst>
                  <a:gd name="textAreaLeft" fmla="*/ 0 w 812160"/>
                  <a:gd name="textAreaRight" fmla="*/ 812520 w 81216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875400" y="6114960"/>
                <a:ext cx="1613880" cy="733680"/>
              </a:xfrm>
              <a:custGeom>
                <a:avLst/>
                <a:gdLst>
                  <a:gd name="textAreaLeft" fmla="*/ 0 w 1613880"/>
                  <a:gd name="textAreaRight" fmla="*/ 1614240 w 1613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766680" y="6076800"/>
                <a:ext cx="736560" cy="771840"/>
              </a:xfrm>
              <a:custGeom>
                <a:avLst/>
                <a:gdLst>
                  <a:gd name="textAreaLeft" fmla="*/ 0 w 736560"/>
                  <a:gd name="textAreaRight" fmla="*/ 736920 w 73656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5404320" y="6419880"/>
                <a:ext cx="195120" cy="3999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741480" y="5850000"/>
                <a:ext cx="1510560" cy="237960"/>
              </a:xfrm>
              <a:custGeom>
                <a:avLst/>
                <a:gdLst>
                  <a:gd name="textAreaLeft" fmla="*/ 0 w 1510560"/>
                  <a:gd name="textAreaRight" fmla="*/ 1510920 w 15105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3377880" y="6116760"/>
                <a:ext cx="309240" cy="73188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5339160" y="5954760"/>
                <a:ext cx="651600" cy="893880"/>
              </a:xfrm>
              <a:custGeom>
                <a:avLst/>
                <a:gdLst>
                  <a:gd name="textAreaLeft" fmla="*/ 0 w 651600"/>
                  <a:gd name="textAreaRight" fmla="*/ 651960 w 65160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4194000" y="5764320"/>
                <a:ext cx="1950120" cy="674640"/>
              </a:xfrm>
              <a:custGeom>
                <a:avLst/>
                <a:gdLst>
                  <a:gd name="textAreaLeft" fmla="*/ 0 w 1950120"/>
                  <a:gd name="textAreaRight" fmla="*/ 1950480 w 195012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978160" y="6477120"/>
                <a:ext cx="177120" cy="37152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3213360" y="5830920"/>
                <a:ext cx="870120" cy="1017720"/>
              </a:xfrm>
              <a:custGeom>
                <a:avLst/>
                <a:gdLst>
                  <a:gd name="textAreaLeft" fmla="*/ 0 w 870120"/>
                  <a:gd name="textAreaRight" fmla="*/ 870480 w 87012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7469640" y="5334120"/>
              <a:ext cx="2444400" cy="1303200"/>
              <a:chOff x="7469640" y="5334120"/>
              <a:chExt cx="244440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7599960" y="5400720"/>
                <a:ext cx="2172960" cy="1160280"/>
              </a:xfrm>
              <a:custGeom>
                <a:avLst/>
                <a:gdLst>
                  <a:gd name="textAreaLeft" fmla="*/ 0 w 2172960"/>
                  <a:gd name="textAreaRight" fmla="*/ 2173320 w 21729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7469640" y="5343480"/>
                <a:ext cx="984240" cy="1170000"/>
              </a:xfrm>
              <a:custGeom>
                <a:avLst/>
                <a:gdLst>
                  <a:gd name="textAreaLeft" fmla="*/ 0 w 984240"/>
                  <a:gd name="textAreaRight" fmla="*/ 984600 w 9842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8670960" y="5334120"/>
                <a:ext cx="1101960" cy="399960"/>
              </a:xfrm>
              <a:custGeom>
                <a:avLst/>
                <a:gdLst>
                  <a:gd name="textAreaLeft" fmla="*/ 0 w 1101960"/>
                  <a:gd name="textAreaRight" fmla="*/ 1102320 w 1101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9492480" y="6361200"/>
                <a:ext cx="130320" cy="8568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8153640" y="6465960"/>
                <a:ext cx="1274040" cy="171360"/>
              </a:xfrm>
              <a:custGeom>
                <a:avLst/>
                <a:gdLst>
                  <a:gd name="textAreaLeft" fmla="*/ 0 w 1274040"/>
                  <a:gd name="textAreaRight" fmla="*/ 1274400 w 1274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9655200" y="5800680"/>
                <a:ext cx="258840" cy="54144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541440"/>
                  <a:gd name="textAreaBottom" fmla="*/ 541440 h 541440"/>
                </a:gdLst>
                <a:ahLst/>
                <a:rect l="textAreaLeft" t="textAreaTop" r="textAreaRight" b="textAreaBottom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9161280" y="5753160"/>
                <a:ext cx="148320" cy="14292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8043120" y="5638680"/>
                <a:ext cx="1298880" cy="684360"/>
              </a:xfrm>
              <a:custGeom>
                <a:avLst/>
                <a:gdLst>
                  <a:gd name="textAreaLeft" fmla="*/ 0 w 1298880"/>
                  <a:gd name="textAreaRight" fmla="*/ 1298880 w 129888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7869600" y="5572080"/>
                <a:ext cx="1644480" cy="846360"/>
              </a:xfrm>
              <a:custGeom>
                <a:avLst/>
                <a:gdLst>
                  <a:gd name="textAreaLeft" fmla="*/ 0 w 1644480"/>
                  <a:gd name="textAreaRight" fmla="*/ 1644840 w 16444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8258400" y="5543640"/>
                <a:ext cx="660600" cy="10476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8075880" y="5648400"/>
                <a:ext cx="119160" cy="759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8226000" y="5727600"/>
                <a:ext cx="93708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8283960" y="5762520"/>
                <a:ext cx="80640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8341920" y="5794200"/>
                <a:ext cx="69804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8425080" y="5838840"/>
                <a:ext cx="53532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8489880" y="5870520"/>
                <a:ext cx="40140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8573400" y="5918040"/>
                <a:ext cx="22788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9554400" y="4800600"/>
              <a:ext cx="768240" cy="409680"/>
              <a:chOff x="9554400" y="4800600"/>
              <a:chExt cx="7682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9554400" y="5057640"/>
                <a:ext cx="691200" cy="152640"/>
              </a:xfrm>
              <a:custGeom>
                <a:avLst/>
                <a:gdLst>
                  <a:gd name="textAreaLeft" fmla="*/ 0 w 691200"/>
                  <a:gd name="textAreaRight" fmla="*/ 691200 w 6912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9617760" y="4800600"/>
                <a:ext cx="466200" cy="85680"/>
              </a:xfrm>
              <a:custGeom>
                <a:avLst/>
                <a:gdLst>
                  <a:gd name="textAreaLeft" fmla="*/ 0 w 466200"/>
                  <a:gd name="textAreaRight" fmla="*/ 466560 w 4662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10214640" y="4867200"/>
                <a:ext cx="108000" cy="24768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9726120" y="5153040"/>
                <a:ext cx="347400" cy="2844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9597600" y="4829040"/>
                <a:ext cx="291240" cy="2955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9932400" y="4829040"/>
                <a:ext cx="336240" cy="33336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9672120" y="4854600"/>
                <a:ext cx="540720" cy="295200"/>
              </a:xfrm>
              <a:custGeom>
                <a:avLst/>
                <a:gdLst>
                  <a:gd name="textAreaLeft" fmla="*/ 0 w 540720"/>
                  <a:gd name="textAreaRight" fmla="*/ 541080 w 54072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9737280" y="4897440"/>
                <a:ext cx="410040" cy="209520"/>
                <a:chOff x="9737280" y="4897440"/>
                <a:chExt cx="41004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9737280" y="4897440"/>
                  <a:ext cx="41004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9776880" y="4919760"/>
                  <a:ext cx="32868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9827280" y="4935600"/>
                  <a:ext cx="22572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9876240" y="4960800"/>
                  <a:ext cx="13176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20560" y="1600200"/>
            <a:ext cx="938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520560" y="6248520"/>
            <a:ext cx="243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560760" y="6248520"/>
            <a:ext cx="330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ducation Development Center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7470720" y="6248520"/>
            <a:ext cx="243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A823-BD93-4640-BC5E-C4EF972D9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58840" y="358128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Clark-Chiarelli, Jess Grope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ndy Hoisington, Janna Fuccillo, &amp; Yen Thie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e3ed"/>
                </a:solidFill>
                <a:latin typeface="Calibri"/>
              </a:rPr>
              <a:t>Education Development Center, In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e3ed"/>
                </a:solidFill>
                <a:latin typeface="Calibri"/>
              </a:rPr>
              <a:t>September 6, 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5680" y="609120"/>
            <a:ext cx="9296280" cy="2667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Developing and Maintaining Relationship with Preschool Teachers: Challenges and Solutions</a:t>
            </a: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Foundations of Science Literacy (</a:t>
            </a:r>
            <a:r>
              <a:rPr b="0" i="1" lang="en-US" sz="4000" spc="-1" strike="noStrike">
                <a:solidFill>
                  <a:srgbClr val="ccecff"/>
                </a:solidFill>
                <a:latin typeface="Calibri"/>
              </a:rPr>
              <a:t>FSL</a:t>
            </a: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Goal 3 Efficacy Study Funded by IES</a:t>
            </a: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20560" y="1600200"/>
            <a:ext cx="938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Comprehensive professional development for preschool teachers in physical scien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40032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 1.5 day face-to-face ses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40032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session coac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40032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Exploring Water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 gui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3560760" y="6245280"/>
            <a:ext cx="330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ducation Development Center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470720" y="6245280"/>
            <a:ext cx="243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2D43-CE50-4A1F-844C-70A37A433B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6448320" y="2773440"/>
            <a:ext cx="2487600" cy="32004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11120" y="1295280"/>
            <a:ext cx="94917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Builds teacher’s science pedagogical content knowled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ports teachers i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nderstanding important physical science concepts related to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1260360" indent="-285480">
              <a:buClr>
                <a:srgbClr val="ccecff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ater Flo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260360" indent="-285480">
              <a:buClr>
                <a:srgbClr val="ccecff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op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260360" indent="-285480">
              <a:buClr>
                <a:srgbClr val="ccecff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king &amp; Floa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260360" indent="-285480">
              <a:buClr>
                <a:srgbClr val="ccecff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bles &amp; Ramp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Engaging in the inquiry process through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ir own investigations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lvl="1" marL="1260360" indent="-285480">
              <a:buClr>
                <a:srgbClr val="ccecff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pplying the inquiry process in their classrooms to guide children’s investiga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Calibri"/>
              </a:rPr>
              <a:t>Foundations of Science Literacy (</a:t>
            </a:r>
            <a:r>
              <a:rPr b="0" i="1" lang="en-US" sz="3600" spc="-1" strike="noStrike">
                <a:solidFill>
                  <a:srgbClr val="ccecff"/>
                </a:solidFill>
                <a:latin typeface="Calibri"/>
              </a:rPr>
              <a:t>FSL</a:t>
            </a:r>
            <a:r>
              <a:rPr b="0" lang="en-US" sz="3600" spc="-1" strike="noStrike">
                <a:solidFill>
                  <a:srgbClr val="ccec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3560760" y="6245280"/>
            <a:ext cx="330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ducation Development Center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7470720" y="6245280"/>
            <a:ext cx="243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823D-6C65-408C-A3E7-26B597ED4C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/Users/nclark/Desktop/NCC presentation 1.31/movies/wgbh_clip_1.mov"/>
          <p:cNvPicPr/>
          <p:nvPr/>
        </p:nvPicPr>
        <p:blipFill>
          <a:blip r:embed="rId1"/>
          <a:stretch/>
        </p:blipFill>
        <p:spPr>
          <a:xfrm>
            <a:off x="6278400" y="3048120"/>
            <a:ext cx="4145040" cy="2225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Research Design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2009-2010 School Year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20560" y="1600200"/>
            <a:ext cx="895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andom assignment at program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60% to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FS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0% to control group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2" name="Content Placeholder 9" descr=""/>
          <p:cNvPicPr/>
          <p:nvPr/>
        </p:nvPicPr>
        <p:blipFill>
          <a:blip r:embed="rId1"/>
          <a:stretch/>
        </p:blipFill>
        <p:spPr>
          <a:xfrm>
            <a:off x="1023840" y="3816360"/>
            <a:ext cx="8296200" cy="230976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4"/>
          <p:cNvSpPr/>
          <p:nvPr/>
        </p:nvSpPr>
        <p:spPr>
          <a:xfrm>
            <a:off x="3560760" y="6245280"/>
            <a:ext cx="330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ducation Development Center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7470720" y="6245280"/>
            <a:ext cx="243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3978-E11D-4D10-831A-CBD9DB751E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A Tale of Two Cities: Two Sites in New York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2009-2010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20560" y="1600200"/>
            <a:ext cx="895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te 1: All teachers in one large, Head Sta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te 2: Teachers drawn one large Head Start program supplemented by teachers from childcare and public, school readiness progra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llenges in Site 2: recruitment and reten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560760" y="6245280"/>
            <a:ext cx="330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ducation Development Center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7470720" y="6245280"/>
            <a:ext cx="243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2F8F-FF4F-496C-817E-F627E0813A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A Tale of Two Citi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2009-2010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20560" y="1600200"/>
            <a:ext cx="895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ports for Establishing and Maintaining Relationships with Teach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adership goals are aligned with goals of the project; not merely a vehicle for free professional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eptualizations of professiona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lationship between management and teach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tion of partnership—more than beneficia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3560760" y="6245280"/>
            <a:ext cx="330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ducation Development Center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470720" y="6245280"/>
            <a:ext cx="243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987D-F4AA-4D4A-890D-C31CD3CAE2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0560" y="277920"/>
            <a:ext cx="9382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A Tale of Two Citi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Calibri"/>
              </a:rPr>
              <a:t>2009-2010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20560" y="1600200"/>
            <a:ext cx="895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ports for Establishing and Maintaining Relationships with Teachers: Components of interven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chedule of face-to-face ses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ttitude towards course cred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port for coaching; flexibil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3560760" y="6245280"/>
            <a:ext cx="330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ducation Development Center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470720" y="6245280"/>
            <a:ext cx="243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FCF0-74FD-4516-BB3B-21ED9C4CA7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1:32:17Z</dcterms:created>
  <dc:creator>Jess Gropen</dc:creator>
  <dc:description/>
  <dc:language>en-US</dc:language>
  <cp:lastModifiedBy>Authorised User</cp:lastModifiedBy>
  <cp:lastPrinted>2007-06-07T12:55:52Z</cp:lastPrinted>
  <dcterms:modified xsi:type="dcterms:W3CDTF">2011-12-07T14:07:20Z</dcterms:modified>
  <cp:revision>587</cp:revision>
  <dc:subject/>
  <dc:title>SREE09 TQ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haredFileIndex">
    <vt:lpwstr/>
  </property>
  <property fmtid="{D5CDD505-2E9C-101B-9397-08002B2CF9AE}" pid="4" name="display_urn:schemas-microsoft-com:office:office#Author">
    <vt:lpwstr>Clark-Chiarelli, Nancy</vt:lpwstr>
  </property>
  <property fmtid="{D5CDD505-2E9C-101B-9397-08002B2CF9AE}" pid="5" name="display_urn:schemas-microsoft-com:office:office#Editor">
    <vt:lpwstr>Clark-Chiarelli, Nancy</vt:lpwstr>
  </property>
  <property fmtid="{D5CDD505-2E9C-101B-9397-08002B2CF9AE}" pid="6" name="xd_ProgID">
    <vt:lpwstr/>
  </property>
  <property fmtid="{D5CDD505-2E9C-101B-9397-08002B2CF9AE}" pid="7" name="xd_Signature">
    <vt:lpwstr/>
  </property>
</Properties>
</file>