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notesMasterIdLst>
    <p:notesMasterId r:id="rId36"/>
  </p:notes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 id="274" r:id="rId55"/>
    <p:sldId id="275" r:id="rId56"/>
    <p:sldId id="276" r:id="rId57"/>
    <p:sldId id="277" r:id="rId58"/>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notesMaster" Target="notesMasters/notesMaster1.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slide" Target="slides/slide19.xml"/><Relationship Id="rId56" Type="http://schemas.openxmlformats.org/officeDocument/2006/relationships/slide" Target="slides/slide20.xml"/><Relationship Id="rId57" Type="http://schemas.openxmlformats.org/officeDocument/2006/relationships/slide" Target="slides/slide21.xml"/><Relationship Id="rId58" Type="http://schemas.openxmlformats.org/officeDocument/2006/relationships/slide" Target="slides/slide2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68" name="PlaceHolder 1"/>
          <p:cNvSpPr>
            <a:spLocks noGrp="1"/>
          </p:cNvSpPr>
          <p:nvPr>
            <p:ph type="sldImg"/>
          </p:nvPr>
        </p:nvSpPr>
        <p:spPr>
          <a:xfrm>
            <a:off x="1723680" y="712800"/>
            <a:ext cx="3956040" cy="2967120"/>
          </a:xfrm>
          <a:prstGeom prst="rect">
            <a:avLst/>
          </a:prstGeom>
          <a:noFill/>
          <a:ln w="9360">
            <a:solidFill>
              <a:srgbClr val="000000"/>
            </a:solidFill>
            <a:miter/>
          </a:ln>
        </p:spPr>
        <p:txBody>
          <a:bodyPr lIns="90000" rIns="90000" tIns="46800" bIns="46800" anchor="t">
            <a:noAutofit/>
          </a:bodyPr>
          <a:p>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1469"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0" name="PlaceHolder 3"/>
          <p:cNvSpPr>
            <a:spLocks noGrp="1"/>
          </p:cNvSpPr>
          <p:nvPr>
            <p:ph type="sldNum" idx="101"/>
          </p:nvPr>
        </p:nvSpPr>
        <p:spPr>
          <a:xfrm>
            <a:off x="6024240" y="8809200"/>
            <a:ext cx="865080" cy="3967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3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F32297-A36B-4AA7-8C30-1336F7DD009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724040" y="712800"/>
            <a:ext cx="3956040" cy="2967120"/>
          </a:xfrm>
          <a:prstGeom prst="rect">
            <a:avLst/>
          </a:prstGeom>
          <a:ln w="0">
            <a:noFill/>
          </a:ln>
        </p:spPr>
      </p:sp>
      <p:sp>
        <p:nvSpPr>
          <p:cNvPr id="1548"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re Standards for Mathema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overview of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states implementing instruction aligned with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of the development of assessments aligned with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dvice for researchers currently developing math curricula, teacher professional development materials, or assess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dditional information that would be important of education researchers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55A373-7DF0-4F6C-AF7D-395CD3171279}"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724040" y="712800"/>
            <a:ext cx="3956040" cy="2967120"/>
          </a:xfrm>
          <a:prstGeom prst="rect">
            <a:avLst/>
          </a:prstGeom>
          <a:ln w="0">
            <a:noFill/>
          </a:ln>
        </p:spPr>
      </p:sp>
      <p:sp>
        <p:nvSpPr>
          <p:cNvPr id="157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of the standards – international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tells us that in high performing countries like Singapore, the gap between what is taught and what is learned is relatively smaller than in Malaysia or the U.S. states. Malaysia’s standards are higher than Singapore’s, but their performance is much lower. One could interpret the narrower gap in Singapore as evidence that they actually use their standards to manage instruction; that is, Singapore’s standards were set within the reach of hard work for their system and their population. Singapore’s Ministry of Education flags its webpage with the motto, “Teach Less, Learn More.” We accepted the challenge of writing standards that could work that way for U.S. teachers and students: By providing focus and coherence, we could enable more learning to take place at all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1BD21CE-DCDE-4AB6-9A85-4BE07D917DC2}"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8ACF5B-905C-49CE-B059-9E23701FA383}"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580" name="PlaceHolder 1"/>
          <p:cNvSpPr>
            <a:spLocks noGrp="1"/>
          </p:cNvSpPr>
          <p:nvPr>
            <p:ph type="sldImg"/>
          </p:nvPr>
        </p:nvSpPr>
        <p:spPr>
          <a:xfrm>
            <a:off x="1724040" y="712800"/>
            <a:ext cx="3956040" cy="2967120"/>
          </a:xfrm>
          <a:prstGeom prst="rect">
            <a:avLst/>
          </a:prstGeom>
          <a:ln w="0">
            <a:noFill/>
          </a:ln>
        </p:spPr>
      </p:sp>
      <p:sp>
        <p:nvSpPr>
          <p:cNvPr id="1581"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C503-702B-4EA0-8DC6-1D3F66E953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724040" y="712800"/>
            <a:ext cx="3956040" cy="2967120"/>
          </a:xfrm>
          <a:prstGeom prst="rect">
            <a:avLst/>
          </a:prstGeom>
          <a:ln w="0">
            <a:noFill/>
          </a:ln>
        </p:spPr>
      </p:sp>
      <p:sp>
        <p:nvSpPr>
          <p:cNvPr id="1584"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4 state members</a:t>
            </a:r>
            <a:endParaRPr b="0" lang="en-US" sz="400" spc="-1" strike="noStrike">
              <a:solidFill>
                <a:srgbClr val="000000"/>
              </a:solidFill>
              <a:latin typeface="Arial"/>
            </a:endParaRPr>
          </a:p>
        </p:txBody>
      </p:sp>
      <p:sp>
        <p:nvSpPr>
          <p:cNvPr id="1585"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187C67-7823-4595-B2A8-1E25C48F62F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724040" y="712800"/>
            <a:ext cx="3956040" cy="2967120"/>
          </a:xfrm>
          <a:prstGeom prst="rect">
            <a:avLst/>
          </a:prstGeom>
          <a:ln w="0">
            <a:noFill/>
          </a:ln>
        </p:spPr>
      </p:sp>
      <p:sp>
        <p:nvSpPr>
          <p:cNvPr id="1587"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D586A9-CB36-4EF0-92B3-CE415A1F2FA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724040" y="712800"/>
            <a:ext cx="3956040" cy="2967120"/>
          </a:xfrm>
          <a:prstGeom prst="rect">
            <a:avLst/>
          </a:prstGeom>
          <a:ln w="0">
            <a:noFill/>
          </a:ln>
        </p:spPr>
      </p:sp>
      <p:sp>
        <p:nvSpPr>
          <p:cNvPr id="1590"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state members</a:t>
            </a:r>
            <a:endParaRPr b="0" lang="en-US" sz="1200" spc="-1" strike="noStrike">
              <a:solidFill>
                <a:srgbClr val="000000"/>
              </a:solidFill>
              <a:latin typeface="Arial"/>
            </a:endParaRPr>
          </a:p>
        </p:txBody>
      </p:sp>
      <p:sp>
        <p:nvSpPr>
          <p:cNvPr id="1591"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F88B49-5E73-45A7-9235-C6D04DC8C3CE}"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724040" y="712800"/>
            <a:ext cx="3956040" cy="2967120"/>
          </a:xfrm>
          <a:prstGeom prst="rect">
            <a:avLst/>
          </a:prstGeom>
          <a:ln w="0">
            <a:noFill/>
          </a:ln>
        </p:spPr>
      </p:sp>
      <p:sp>
        <p:nvSpPr>
          <p:cNvPr id="1593"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omputer adaptive summative assessments that give a snapshot of student performance without a “one size fits all approach.” This assessment can be used to describe student achievement and growth of student learning as part of program evaluation and school, district and state accountability systems. This assessment will measure English language arts and mathematics in grades 3-8 and 11 across the full range of the Common Core State Standards (CC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interim and formative assessments that help teachers identify the specific needs of each student so that they can help the students progress toward being career and college rea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Professional Development. Teachers will be involved at all stages of item and test development, including item writing, scoring, and the design of reporting systems. This will ensure the system works well and that teachers can learn from national experts and from each other as they evaluate students’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nline tailored reporting system that supports educators to access information about student progress toward college and career readiness as well as to identify specific strengths and weaknesses along th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4"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E297D4-4044-47DC-84B1-8F0084C25A9F}"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85840" y="698400"/>
            <a:ext cx="4654440" cy="3490920"/>
          </a:xfrm>
          <a:prstGeom prst="rect">
            <a:avLst/>
          </a:prstGeom>
          <a:ln w="0">
            <a:noFill/>
          </a:ln>
        </p:spPr>
      </p:sp>
      <p:sp>
        <p:nvSpPr>
          <p:cNvPr id="159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7"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4465-FD7F-4BA9-9DD2-830D9AB59B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85840" y="698400"/>
            <a:ext cx="4654440" cy="3490920"/>
          </a:xfrm>
          <a:prstGeom prst="rect">
            <a:avLst/>
          </a:prstGeom>
          <a:ln w="0">
            <a:noFill/>
          </a:ln>
        </p:spPr>
      </p:sp>
      <p:sp>
        <p:nvSpPr>
          <p:cNvPr id="159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0"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8AD5-D2EB-48BF-9E8D-6D76BC311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7E9995-F8C2-4316-A91E-C48821A3842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602" name="PlaceHolder 1"/>
          <p:cNvSpPr>
            <a:spLocks noGrp="1"/>
          </p:cNvSpPr>
          <p:nvPr>
            <p:ph type="sldImg"/>
          </p:nvPr>
        </p:nvSpPr>
        <p:spPr>
          <a:xfrm>
            <a:off x="1724040" y="712800"/>
            <a:ext cx="3956040" cy="2967120"/>
          </a:xfrm>
          <a:prstGeom prst="rect">
            <a:avLst/>
          </a:prstGeom>
          <a:ln w="0">
            <a:noFill/>
          </a:ln>
        </p:spPr>
      </p:sp>
      <p:sp>
        <p:nvSpPr>
          <p:cNvPr id="1603"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was taken from the Ohio Performance Assessment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udience members won’t be able to read the example, so a summary of this performance even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a scenario where Ms. Johnson wanted to lower her gas bill, so she installed insulation in her home. When she received her gas bill the following year, her bill wasn’t cheaper. Gas prices were higher in 2008, which partially explains her gas bill. Ms. Johnson’s children, Kevin and Shana, see that “heating degree days” are also listed on the bill and think this might provide some insight into why Ms. Johnson’s savings weren’t as high as anticipated.</a:t>
            </a:r>
            <a:endParaRPr b="0" lang="en-US" sz="1200" spc="-1" strike="noStrike">
              <a:solidFill>
                <a:srgbClr val="000000"/>
              </a:solidFill>
              <a:latin typeface="Arial"/>
            </a:endParaRPr>
          </a:p>
        </p:txBody>
      </p:sp>
      <p:sp>
        <p:nvSpPr>
          <p:cNvPr id="1604"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428B-0EC0-4666-9D3F-CCCB2FC41D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16282A-6B76-439C-A110-EB0EB8FCEED1}"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606" name="PlaceHolder 1"/>
          <p:cNvSpPr>
            <a:spLocks noGrp="1"/>
          </p:cNvSpPr>
          <p:nvPr>
            <p:ph type="sldImg"/>
          </p:nvPr>
        </p:nvSpPr>
        <p:spPr>
          <a:xfrm>
            <a:off x="1724040" y="712800"/>
            <a:ext cx="3956040" cy="2967120"/>
          </a:xfrm>
          <a:prstGeom prst="rect">
            <a:avLst/>
          </a:prstGeom>
          <a:ln w="0">
            <a:noFill/>
          </a:ln>
        </p:spPr>
      </p:sp>
      <p:sp>
        <p:nvSpPr>
          <p:cNvPr id="160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ask, students mus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research (via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complex inform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 out main ideas and supporting details in informational tex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how to use mathematics in a real-world scenario</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percentage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judgment based on research and their own analysis of information</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o inform</a:t>
            </a:r>
            <a:endParaRPr b="0" lang="en-US" sz="1200" spc="-1" strike="noStrike">
              <a:solidFill>
                <a:srgbClr val="000000"/>
              </a:solidFill>
              <a:latin typeface="Arial"/>
            </a:endParaRPr>
          </a:p>
        </p:txBody>
      </p:sp>
      <p:sp>
        <p:nvSpPr>
          <p:cNvPr id="1608"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C495-4D81-4D54-B504-7FDA9DA342E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8C17BB-DA05-4803-AC8A-D304AFBEA9B1}"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Calibri"/>
            </a:endParaRPr>
          </a:p>
        </p:txBody>
      </p:sp>
      <p:sp>
        <p:nvSpPr>
          <p:cNvPr id="1551" name="PlaceHolder 1"/>
          <p:cNvSpPr>
            <a:spLocks noGrp="1"/>
          </p:cNvSpPr>
          <p:nvPr>
            <p:ph type="sldImg"/>
          </p:nvPr>
        </p:nvSpPr>
        <p:spPr>
          <a:xfrm>
            <a:off x="1724040" y="712800"/>
            <a:ext cx="3956040" cy="2967120"/>
          </a:xfrm>
          <a:prstGeom prst="rect">
            <a:avLst/>
          </a:prstGeom>
          <a:ln w="0">
            <a:noFill/>
          </a:ln>
        </p:spPr>
      </p:sp>
      <p:sp>
        <p:nvSpPr>
          <p:cNvPr id="1552"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o Chief State School Officers are and what they are responsible for. </a:t>
            </a:r>
            <a:endParaRPr b="0" lang="en-US" sz="1200" spc="-1" strike="noStrike">
              <a:solidFill>
                <a:srgbClr val="000000"/>
              </a:solidFill>
              <a:latin typeface="Arial"/>
            </a:endParaRPr>
          </a:p>
        </p:txBody>
      </p:sp>
      <p:sp>
        <p:nvSpPr>
          <p:cNvPr id="1553" name="Slide Number Placeholder 3"/>
          <p:cNvSpPr/>
          <p:nvPr/>
        </p:nvSpPr>
        <p:spPr>
          <a:xfrm>
            <a:off x="3981600" y="8845560"/>
            <a:ext cx="3044520" cy="466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1C3BDE9-3404-4AEE-9F1C-58CD00FD7EB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724040" y="712800"/>
            <a:ext cx="3956040" cy="2967120"/>
          </a:xfrm>
          <a:prstGeom prst="rect">
            <a:avLst/>
          </a:prstGeom>
          <a:ln w="0">
            <a:noFill/>
          </a:ln>
        </p:spPr>
      </p:sp>
      <p:sp>
        <p:nvSpPr>
          <p:cNvPr id="1610"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1"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21DEB0-3526-4D40-BD6E-533277778293}"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724040" y="712800"/>
            <a:ext cx="3956040" cy="2967120"/>
          </a:xfrm>
          <a:prstGeom prst="rect">
            <a:avLst/>
          </a:prstGeom>
          <a:ln w="0">
            <a:noFill/>
          </a:ln>
        </p:spPr>
      </p:sp>
      <p:sp>
        <p:nvSpPr>
          <p:cNvPr id="1613"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4"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CCEF3C-60F6-4AEA-9199-C53B146BAEA4}"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724040" y="712800"/>
            <a:ext cx="3956040" cy="2967120"/>
          </a:xfrm>
          <a:prstGeom prst="rect">
            <a:avLst/>
          </a:prstGeom>
          <a:ln w="0">
            <a:noFill/>
          </a:ln>
        </p:spPr>
      </p:sp>
      <p:sp>
        <p:nvSpPr>
          <p:cNvPr id="1616"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7"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A0A77B-EFBB-48F9-A94F-EF35A4D24262}"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724040" y="712800"/>
            <a:ext cx="3956040" cy="2967120"/>
          </a:xfrm>
          <a:prstGeom prst="rect">
            <a:avLst/>
          </a:prstGeom>
          <a:ln w="0">
            <a:noFill/>
          </a:ln>
        </p:spPr>
      </p:sp>
      <p:sp>
        <p:nvSpPr>
          <p:cNvPr id="1555"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PARTISAN INITIATI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724040" y="712800"/>
            <a:ext cx="3956040" cy="2967120"/>
          </a:xfrm>
          <a:prstGeom prst="rect">
            <a:avLst/>
          </a:prstGeom>
          <a:ln w="0">
            <a:noFill/>
          </a:ln>
        </p:spPr>
      </p:sp>
      <p:sp>
        <p:nvSpPr>
          <p:cNvPr id="1557" name="PlaceHolder 2"/>
          <p:cNvSpPr>
            <a:spLocks noGrp="1"/>
          </p:cNvSpPr>
          <p:nvPr>
            <p:ph type="body"/>
          </p:nvPr>
        </p:nvSpPr>
        <p:spPr>
          <a:xfrm>
            <a:off x="434880" y="3963960"/>
            <a:ext cx="6150240" cy="4880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SEARCH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high school juniors and seniors taking the ACT college entrance exam, half of the students were ready for college-level reading assignments in core subjects like math, history, science, and English (ACT,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LA</a:t>
            </a:r>
            <a:endParaRPr b="0" lang="en-US" sz="20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read more non-fiction (periodicals, technical manuals, etc.) and more complex texts</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read with greater independenc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tudents’ writing in college isn’t meeting professors’ expectations</a:t>
            </a:r>
            <a:endParaRPr b="0" lang="en-US" sz="12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th</a:t>
            </a:r>
            <a:endParaRPr b="0" lang="en-US" sz="20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have deep knowledge of core mathematical concepts (such as ratio and proportion) that are gatekeepers for success in advanced mathematics courses in college or advanced technical training in a career.</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expected to apply their mathematical knowledge to new and novel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Slide Number Placeholder 3"/>
          <p:cNvSpPr/>
          <p:nvPr/>
        </p:nvSpPr>
        <p:spPr>
          <a:xfrm>
            <a:off x="6024600" y="8809200"/>
            <a:ext cx="865080" cy="3967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6085F4-D52C-43FD-BF7F-F85848797BC5}"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85840" y="696960"/>
            <a:ext cx="4654440" cy="3492360"/>
          </a:xfrm>
          <a:prstGeom prst="rect">
            <a:avLst/>
          </a:prstGeom>
          <a:ln w="0">
            <a:noFill/>
          </a:ln>
        </p:spPr>
      </p:sp>
      <p:sp>
        <p:nvSpPr>
          <p:cNvPr id="1560" name="PlaceHolder 2"/>
          <p:cNvSpPr>
            <a:spLocks noGrp="1"/>
          </p:cNvSpPr>
          <p:nvPr>
            <p:ph type="body"/>
          </p:nvPr>
        </p:nvSpPr>
        <p:spPr>
          <a:xfrm>
            <a:off x="703440" y="44244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1"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2835-F527-4022-B1E6-A3E12CD2A63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85840" y="696960"/>
            <a:ext cx="4654440" cy="3492360"/>
          </a:xfrm>
          <a:prstGeom prst="rect">
            <a:avLst/>
          </a:prstGeom>
          <a:ln w="0">
            <a:noFill/>
          </a:ln>
        </p:spPr>
      </p:sp>
      <p:sp>
        <p:nvSpPr>
          <p:cNvPr id="1563" name="PlaceHolder 2"/>
          <p:cNvSpPr>
            <a:spLocks noGrp="1"/>
          </p:cNvSpPr>
          <p:nvPr>
            <p:ph type="body"/>
          </p:nvPr>
        </p:nvSpPr>
        <p:spPr>
          <a:xfrm>
            <a:off x="703440" y="44244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4" name="Slide Number Placeholder 3"/>
          <p:cNvSpPr/>
          <p:nvPr/>
        </p:nvSpPr>
        <p:spPr>
          <a:xfrm>
            <a:off x="3979800" y="8844120"/>
            <a:ext cx="3044880" cy="466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8F80-9EB1-48D8-AFF5-AB6874507E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724040" y="712800"/>
            <a:ext cx="3956040" cy="2967120"/>
          </a:xfrm>
          <a:prstGeom prst="rect">
            <a:avLst/>
          </a:prstGeom>
          <a:ln w="0">
            <a:noFill/>
          </a:ln>
        </p:spPr>
      </p:sp>
      <p:sp>
        <p:nvSpPr>
          <p:cNvPr id="1566"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7" name="Slide Number Placeholder 3"/>
          <p:cNvSpPr/>
          <p:nvPr/>
        </p:nvSpPr>
        <p:spPr>
          <a:xfrm>
            <a:off x="3979800" y="8845560"/>
            <a:ext cx="304488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1FF4-05DD-4933-9193-8F52FF4D9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FB3F-6EDD-404C-AC4A-65487F8828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69" name="PlaceHolder 1"/>
          <p:cNvSpPr>
            <a:spLocks noGrp="1"/>
          </p:cNvSpPr>
          <p:nvPr>
            <p:ph type="sldImg"/>
          </p:nvPr>
        </p:nvSpPr>
        <p:spPr>
          <a:xfrm>
            <a:off x="1724040" y="712800"/>
            <a:ext cx="3956040" cy="2967120"/>
          </a:xfrm>
          <a:prstGeom prst="rect">
            <a:avLst/>
          </a:prstGeom>
          <a:ln w="0">
            <a:noFill/>
          </a:ln>
        </p:spPr>
      </p:sp>
      <p:sp>
        <p:nvSpPr>
          <p:cNvPr id="1570"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1"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FEB8-3C0A-4FF7-B1AB-D0B954BE65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913D3C-32DD-4564-A7D3-693EA3C6A67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73" name="PlaceHolder 1"/>
          <p:cNvSpPr>
            <a:spLocks noGrp="1"/>
          </p:cNvSpPr>
          <p:nvPr>
            <p:ph type="sldImg"/>
          </p:nvPr>
        </p:nvSpPr>
        <p:spPr>
          <a:xfrm>
            <a:off x="1724040" y="712800"/>
            <a:ext cx="3956040" cy="2967120"/>
          </a:xfrm>
          <a:prstGeom prst="rect">
            <a:avLst/>
          </a:prstGeom>
          <a:ln w="0">
            <a:noFill/>
          </a:ln>
        </p:spPr>
      </p:sp>
      <p:sp>
        <p:nvSpPr>
          <p:cNvPr id="1574" name="PlaceHolder 2"/>
          <p:cNvSpPr>
            <a:spLocks noGrp="1"/>
          </p:cNvSpPr>
          <p:nvPr>
            <p:ph type="body"/>
          </p:nvPr>
        </p:nvSpPr>
        <p:spPr>
          <a:xfrm>
            <a:off x="434880" y="3963960"/>
            <a:ext cx="6150240" cy="488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5" name="Slide Number Placeholder 3"/>
          <p:cNvSpPr/>
          <p:nvPr/>
        </p:nvSpPr>
        <p:spPr>
          <a:xfrm>
            <a:off x="3981600" y="8847000"/>
            <a:ext cx="304452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3392A0-2936-416E-9364-F92D91FABF7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03552-B466-4B72-BB19-639689848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A212C-9F13-4D91-B181-943C8410D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B8015-1D89-4806-9EAD-97CBEA55E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0815AD-534F-474F-B7D2-FC98D105F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5ACFD-0761-43BF-A039-743895D09B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61A582-FD6D-4746-B14C-ECD7C151F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859130-079C-418C-B2FD-50FF512749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7B6601-489F-41C2-937C-1D59BFFAB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6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AAFAF1-D710-4027-A470-353656C76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7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46FE68-143C-48AC-A857-EC48492D45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7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FBB18B-0672-476A-94B7-845FA32264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254A41-C7E6-4810-967C-A2615B33DF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A7533-B1CF-4CAD-9362-5F24A30F6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5BE4AE-10A6-49BF-BED7-B48F0DDD42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703DD4-29E1-4C40-BB2C-A066E33FBF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9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0204CD-CB0C-46F4-B0BB-88FA04C5F6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80F237-A13F-4943-9C84-1C894A9C6D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B17ED6-4825-4E78-A008-00B49D1D5E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DEE646-DE8D-4076-ABBE-6C2203020A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FC96EC-7E31-4A45-B1B3-C47C9380F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0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AD288C-B2AA-40E1-B92C-84799A5394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1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1412DE-0D7B-49BC-B5C8-24CDFC0AD5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1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4B4B7C-B3D9-4913-BF99-DC75134097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8"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5D10B-D0A6-4672-92C6-8847E96DB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2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2F6148-A4CA-43D5-9424-3650BAE13E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FCA333-C2AF-4351-8885-12925C6005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298E0E-60A3-49F8-901B-B7FF92CFB0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3BB57D-B9F5-4E8D-955E-A5B561B1D5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3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15D06A-7DCA-49FC-A468-FE54EF70F0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E6322A-5F96-4D0C-B6ED-53023E08E9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A34581-47A2-4B00-B764-15746750B5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9CDDB5-5445-4044-A3AD-B2C8F31A40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17DC02-9820-4F09-9625-847663740B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7B89E2-0703-4BC6-862D-8C77E68039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4193E-CA9D-41B4-AA3C-157F23AFB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1C240C-651D-49F0-B229-85DCADD1A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5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1945D7-1F6D-48EB-AE6D-1710B0994C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6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AE64B4-30D6-4F62-9119-588F500293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C83E3B-F821-4F87-A24C-B968BB2625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7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D5FE45-2CDF-43A7-9CB0-4BAD4469C3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22EB9E-E7F5-4775-816C-3F42BA7CCF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CFB884-7062-40CD-A334-4787952CFD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367A1B-5693-4838-ADF6-542E75B269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5E9D9E-35CE-4D68-AB68-7566ABB28A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477FC9-2493-48C0-A93A-5D6DEC8F85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C1F87-C3DF-43EB-9C9A-2FDF7D90A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CEFD12-AAE1-4E8E-BE08-2ACBCCCB22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CD9C03-D8EF-4BAA-A7C2-E3E58840B5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9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A766D0-B073-43DE-8382-EEE8611039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55663E-A92E-4CEA-A105-DA055C59F6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0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24EB60-D1FD-4B1B-95EC-7B49526817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C1B902D-4268-4079-99EE-1E66B43DE0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95CE5D-ADDE-4136-8125-1D6532AFA4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CEB4D6-B6D0-4A77-A314-C122673AAC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2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1A91E1-14A8-41E3-8E40-85B0EF7146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D1AFB0-E508-40C1-AA0E-6BC5128C62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5"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D73A5-377D-4901-9E63-0C02D7A2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25CAD9-A047-4A75-AB6C-E91D572D3B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C2E833-C82F-428C-8224-ABC7448538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301D54-DBC9-4BC4-8C3F-D89A1994FD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1531FD-F184-4408-BCB6-02EAE816FB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7807F3-AC0C-4C65-B8E7-A742D2D4EA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4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5857DE-A417-4B30-A785-1D1A01F7E2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5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CABC62-6BF5-4814-8D6B-CC63611844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4FFB3BC6-DCCE-420C-B453-ECE8CD5FEE9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0"/>
          </p:nvPr>
        </p:nvSpPr>
        <p:spPr/>
        <p:txBody>
          <a:bodyPr/>
          <a:p>
            <a:fld id="{B52EA0BE-802C-47DD-9147-C12770F18C5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0"/>
          </p:nvPr>
        </p:nvSpPr>
        <p:spPr/>
        <p:txBody>
          <a:bodyPr/>
          <a:p>
            <a:fld id="{5373A844-C52F-4335-AC18-36A44F90E5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E3D26-AF32-4D8A-9D6F-40693B4C9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6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0"/>
          </p:nvPr>
        </p:nvSpPr>
        <p:spPr/>
        <p:txBody>
          <a:bodyPr/>
          <a:p>
            <a:fld id="{19E25295-6A16-4135-AECF-76AC2A3EFF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sldNum" idx="40"/>
          </p:nvPr>
        </p:nvSpPr>
        <p:spPr/>
        <p:txBody>
          <a:bodyPr/>
          <a:p>
            <a:fld id="{837EF7D8-61B2-4F85-BEC9-FFE7D8D698B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0"/>
          </p:nvPr>
        </p:nvSpPr>
        <p:spPr/>
        <p:txBody>
          <a:bodyPr/>
          <a:p>
            <a:fld id="{8AAEB4FA-8481-4B7D-9058-6518A3093C6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A3B2624D-0FCD-4C08-AC29-8C8E9927DAE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96A87DA7-A8EE-4037-BF74-28687130B4D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0"/>
          </p:nvPr>
        </p:nvSpPr>
        <p:spPr/>
        <p:txBody>
          <a:bodyPr/>
          <a:p>
            <a:fld id="{3BB93A77-44C4-4C8B-BF1E-329E2CE5FA8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0"/>
          </p:nvPr>
        </p:nvSpPr>
        <p:spPr/>
        <p:txBody>
          <a:bodyPr/>
          <a:p>
            <a:fld id="{990FEC4D-EEFD-47E6-8A07-FB84BF48545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0"/>
          </p:nvPr>
        </p:nvSpPr>
        <p:spPr/>
        <p:txBody>
          <a:bodyPr/>
          <a:p>
            <a:fld id="{F6B9366F-3189-49F3-B037-A36B8467D65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9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0"/>
          </p:nvPr>
        </p:nvSpPr>
        <p:spPr/>
        <p:txBody>
          <a:bodyPr/>
          <a:p>
            <a:fld id="{0CCB234A-5EB6-4D60-9FBD-39F5840A2B1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6A9AA1D-CC19-46DC-BAC9-05482B3CBF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9C357-72FF-4698-B25F-B3D7C2F88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10FB103-37E0-459A-A181-9121BD1E33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0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9330EBD-8602-4C48-BCD6-026064D4F7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744386A-A3F1-4229-A7D6-D1678F3601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A832030-BA25-44CA-A16F-EE44AA19AA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4B469F9-1103-4CF3-8D23-DB320516D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240F889-8DEB-497C-B50A-3D878D37D0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49966FB-AE1A-4EFC-A808-B85F61387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183BA0C-56FC-4A27-B7CA-0969FFB3F1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3A42861-1AE7-41D3-B9D6-C14C2288DE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3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B9E335F-8027-4077-95AD-199E064326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2B106-C079-4C4F-9C1C-B3AEFB192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3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F4056B9-B22C-4A02-A4D9-05EE8A9463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49ED106-1AFC-4956-8BC4-F349645DE0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0"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C41A09A-F3D1-4CE8-B3DB-9E2902BEF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2"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4E416FF-290F-4159-BACD-860D054BE9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091B354-ECD0-4BAD-A1C9-7C162E4C8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8A4E59B-244F-4479-9339-6AEDF47C31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066BE53-F063-42E3-9E4D-15601BBD10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369A292-9AAD-404E-973C-55477A9CB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3"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6CBE823-9541-41D2-AF57-0732FA03D1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35E0D95-3A01-495D-A069-5BDE28954C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33825-3544-450B-A67D-951D6739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1"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E873B31-EC56-4A03-BFFE-428F477B20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6EC94E9-3185-456B-AF3D-7C853708C2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79"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9AC9449-C7FE-455A-8F51-C915555172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5BEEA6B-9F72-40A7-BE73-A5D38AF732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A6A5FB8-1E3E-439E-A9C8-EEEA62A920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E82270A-8614-470E-9C4D-21807646CD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9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EF8872D-A8A2-4327-A539-6109C5DAD3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849AA85-B365-4496-BC99-12E62ADCD1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E37A9B1-99B3-4DEE-959D-E92A84AD72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7CD1E8B-EF85-4E12-9A9A-521946B06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790EF-7D3D-44B1-ABA9-246A405E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11880-172E-4C5E-BDAF-FD709A0E9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6FCBB34-0AA6-4D1E-9537-79966EE74D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7B77A39-3DF9-4A8A-BE3A-10A639605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2EDC305-426C-4EAD-B4B9-4DE35BB46F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757F618-3A7C-4BBD-9C32-E08389EE36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2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E63E912-140F-411A-A417-C6BAB12714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A0CC54B-46BD-4E92-9BD2-3DFCB4F7640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ECB1F37-12E1-4B42-A003-50C016AD63A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E12E670-32BB-472F-B90B-2948AEB07B9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3CC2C04-83EC-4BF1-9983-C293CB53822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915E81F-FA61-4B33-96C8-46796128696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4ED5-831D-4B56-81B6-320DFBD4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3926E1A-65F3-49A2-BFA9-630E803FC37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0AE8C7C-AD1D-48B7-AC65-E4E3E5427D7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67D0E76-87A1-4459-AF4B-37B457F6200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958A1BD-0998-467A-B4CC-5BD9839CA29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5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3F8D9FA-0B8F-4DB1-8AED-D4461535B15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6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C433518-05FB-4ACD-AAA5-DF54E5190CD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6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3AC9697-A9D8-453C-80E4-DE73E66BE24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D7198C5E-B1DC-4757-9DFF-546B6F28A46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A4C971C-219B-4F98-A285-658B6F11C5F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8E2488E-877C-4FF1-96E1-CA5B1C48ACB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4"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84ED0-CCC1-4483-A172-9B65387D5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8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A22AF88-E17B-4E84-8B2A-5B9BC6BCA9D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01A1427-A95B-4C80-9E3A-CEA97D7FE81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292690B-253A-4BF5-8AAA-5CDE6CE5C63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3EC967-4B99-4C9B-A9BB-511B28C00C2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9CA265E-B166-4208-A7EB-BF4231A395A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9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FAB1F6C-F0A0-4F21-B3AB-35F964652BC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0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1623051-B1F6-439A-B13B-2E34E06B435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0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9628CB7-B850-4E3C-88CB-0725CFED0B2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1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35AA3E10-C6D2-4CDF-9264-7656E529897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2CB09D29-2FD9-49A2-A7EA-44F76628BEB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8FAB7-03C4-49C1-B317-A7072D28E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4113DB5-8522-49ED-92EB-EBCFF4BEBC9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843522D-0FAB-4BDC-BF2D-D6E5D61EF1A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7766582-7701-4FF7-9E81-468934B039D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2944D06-E3FC-48C8-9929-C91D97991C0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54FBED9-4E32-49FF-9C93-A51409E83FE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3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5DE4386-3CC0-4AF6-A3B0-897F3C20F5A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3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38B6343-0BDA-4DF8-B73C-8CCF4698F8F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F5908EB-5862-403E-901A-28F2D07E82A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92FF98C-3269-4AF8-803E-B0FDB92BAED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4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75377A9A-C796-4407-BA72-A79587F84156}"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2"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9485E-C163-4A4A-95B8-846E8E823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5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17BF74A-AD64-4B63-9793-E558DD83110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D2AE025-2D82-426C-B8C5-B9596ACA34EA}"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6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5592FCEE-905A-435A-8D85-62DFDFB6948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6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E30EC14-C687-414E-B0CF-8BF48498627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7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743F37D-4076-463B-831A-CE8DEBE6E2A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412897D-C3C7-4184-B29B-59A6A33A762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1B221C7-5166-49CB-A0EF-8F874FCAA83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7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5BC8B85-AF5F-461C-B575-298B19A4310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18CE737-202E-416D-8045-D49413DC25E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CCE8AA9-449F-4046-982C-60D3708E160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77179-82BF-45A9-8019-668B75D9F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8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692F3D6-F16A-4D77-BEFA-E39BE74CBF0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2D0AE04-AEB8-438E-9858-97F0FC1F360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89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F6246BE-5469-449A-B25A-A27E33A52FD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1223ADEA-0C66-47DD-B971-67CACD90DCB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C2C780C-7C33-45C0-BE10-A99162D0C58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89068EB-E642-49BD-9EF4-F4F151EC42B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1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8ED6804-22E6-4303-B597-CF8A0E9490A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2B2D7F3-5174-4D30-A2F9-7206EE27FC2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9F8988C-C2C8-4717-B545-2B2F9381597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BBA281E-59D0-4FB6-B102-8253EB459DE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3A021-6991-41FA-9F2C-F99F0B0B8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72C4260-5F8C-4E15-ACE2-156FA9A9C24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2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F758DBF-BFB6-4FBA-80F4-6B998C7D314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44D31C4-8D25-44B5-8714-388255EE278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3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680B59C-638C-4932-BEE2-FC3A6715EEF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4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F517CE5A-11F9-41CF-AA69-360B5035A57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CB409937-8EED-4CB1-959E-9EDDFEF672D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E49715A-0ABA-4607-BBD5-B2158AA9757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DAFC29F-3A92-44AB-A6F7-8ECA93DB434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5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2E88452-40DA-4821-9D9F-35F14194922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5165369-9643-4B9D-B9A8-DC29D2A9853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9"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681B9-B10E-4DBB-97B8-EA8AC43A5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F4EC696-75D2-47BB-8E95-1C0DA9638C1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6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3ACFB50-2254-418A-AE01-91A65ABB83A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6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090962E-31C5-47B9-9F6D-B915EEC3B53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77FE458-B084-4B51-9214-5C3B05DA845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0C1E689-AB87-4617-B2D3-3314DC1367C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7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408232B-F930-467E-B567-5B9FA32703C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8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31FABBB-73CF-4A65-A0F2-CF1F193ABCC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733DDF1D-5B1A-4445-98F6-2F9AC1B1746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9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5E5A0B0-5887-433E-ADB5-BD20CB5D30D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AB649B5-6754-4D58-9B60-4BE1F8076F6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33C58-9895-47D2-9681-97749D8CE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3281F6B-2187-41AF-BFA9-3956711CDA6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D2EC762-A521-4526-B4F7-9EDBC96706B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A2B7A46-DED0-4E1F-9B87-D8C7336F84D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0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4DEF50E-853E-4155-BE5C-0E1A3C4BB9D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A108038-F0F9-4581-B7D1-4145151115B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928C7E3-DDA7-4C06-9230-A061BF7B6C4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1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3C6BD28-A7CD-417B-B04D-725A0765981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11F549DC-8E54-4F32-9822-A87D6A7855A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2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493CDBB9-368B-49CD-B2BB-90241461B72C}"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2A8B9D7A-8230-4F0C-B8CA-51ECD8ABC25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035DD-B96D-4024-AD8C-B80CB2FDA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2639F94-B27E-4613-80A7-3B9B0A433F3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D341A2B-815D-4E53-8E70-E4891B90FFE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BB45BAA-9E88-4CE6-88EE-668A15F6C18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8687ED3-EDA8-4DD6-8343-960385C62ED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65331EE-586D-467C-9A32-05C04328860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3B20B97-E729-4C27-82AA-93760327AEE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F8B010D-B658-4403-80BA-59DA1D24CBA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5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938B924-7E24-489A-B546-A3824F968EA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6CFCDAD-4579-424A-A369-B8E2D42808A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A07CB8E4-B752-4442-988C-246039BEF05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5522-1D21-4C9C-A816-FCA606FC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8743A5-79E1-494C-8618-8017F555D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7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9052C96C-1235-4F6E-A033-FDE514308A4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65B8EC32-5183-4990-A08F-7E33391AF8F5}"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59F4AAAD-31B7-4BE1-A867-CB3B181A9899}"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1368802B-E21D-42A4-A516-C30C2B30A10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8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3B683974-8B70-4710-888C-BC004990345F}"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085D480-41DA-4411-8F72-97B9C2787A9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AC95505-47F1-41C0-82ED-02F1F6F35C4B}"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9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EB0C59F-D9E0-46D6-AD64-438FD830922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9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DBEDC938-7FA3-41B4-818B-0C0FFE791FD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280B801-5F2D-4A4D-A4A5-91F6D7C6D1B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0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A8A6A-8147-4633-BDCC-0F33FEED5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CCD22F2-6A12-46BC-9FC4-67826718851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97AEDD5E-B617-4152-B7C3-7DD2E5F2D668}"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1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015EF765-98CB-40DA-82A1-FDFBB02F8966}"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7060CF5E-648B-4F09-9161-6B57846F54A4}"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2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A44BF2D2-3400-40E7-A514-B7782CDEAB0E}"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0455B394-CA9A-4992-B134-7CA2F8C360BC}"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357610D1-2C8C-499D-A4A8-DCFAB412CF1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8A3431AD-2D1B-4AB1-B56A-A9BD38AFBCFB}"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5F811FF1-36DB-4D70-A290-399D218C80CC}"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3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DC6722B-A93F-4C10-85AC-DD87B08AFFB0}"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0"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FC847-F8FD-49A8-B5ED-754CCA91D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029580F6-4D26-47A2-AA79-BD9B3B9B745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74B384F3-3F9F-4675-AC30-08ADFE71F0E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DC3B584C-0B1C-4E9D-88BD-22C2925AFCA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5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739052D9-6B23-48B9-8FF6-5C858034B25D}"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5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05751D6B-DE7C-4C86-AA5D-160CD009FED2}"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CE856123-88C3-4BEF-A7E0-D021A9D92046}"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7E46055B-1FED-45E3-86CC-B5E53D2FFDE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AE28BB1E-6799-4A60-B737-C52F90F2377C}"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7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3106BAEA-F29D-4BAC-B62D-CD322A5CFF45}"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251A1EB1-8B42-4AB1-A037-DC2579393DC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17830-4EFB-4301-932D-920052B6C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FDF55104-C989-4447-830B-425C4E7BAC5C}"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452A2EF0-4587-4BD1-B170-77D8F523CB4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7B437DF-2F19-4EC2-B48E-622A9A26C8E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340148C1-78F9-4512-8E0C-45B59EA5A4C7}"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9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B664E077-E062-4DC8-A5BB-7481E38FC29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9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2BB09416-D19F-4BDF-91B3-8D17245B6A4E}"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0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135540A4-8836-452E-A317-985198BD72A4}"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2B742A76-0A39-4804-B627-D393C9D7CC96}"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9D1344EB-F01D-4C18-89E3-69C900FB32EF}"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D13E172E-E96C-4C39-9483-F046233F7D9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18"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C4E73-BFBE-4266-A36C-31FC1697F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452C5D9D-E866-4FB4-89B9-492A91665711}"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CB41B437-5978-42FC-A231-36197E91520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1456AA4E-1159-40C0-9275-5DA66C1D5CB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2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3712E38-009B-44AC-AAB9-5E21E1F64C43}"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2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67C3F68-2692-480E-BC63-5A41138A526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842F96CC-831F-4F01-BB63-F54626F088C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2F2853E7-EFA4-450D-A549-8749F1FA94E2}"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3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4F214B01-364B-4DF1-9B22-E28D4F0451DE}"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4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F833D60A-1845-4F3F-BE47-B3D495C86744}"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D3EFAD2D-3585-4817-BD3C-5F636AED82EC}"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D0F72B-24FF-424D-971D-040F15D329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5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7E6E397E-398C-42EE-95E8-EA2895909DE1}"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7227434A-30B1-4991-862B-917B47EF4E20}"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DF2E4297-3A06-4FE3-8DCB-6931FA719D08}"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ACFD1C03-6692-4208-93C7-73338744D16A}"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FF7E6D77-F8D5-4FD5-8919-15B8D596B71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5898FD0-1807-4447-B46C-FE6C87350A19}"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29303AE8-A298-48AB-BCFC-CF0185F560E0}"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0C670BFB-276F-4B34-B953-594825F6EE3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7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D594035-F6E7-41D5-9141-EE0B7A02315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8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3674992A-27C7-418B-B93D-6CA8EE3CB76A}"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6"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E2334C-3906-429D-9F71-06624656B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28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1215ABA1-A4AB-4976-9499-C67B18B37D6B}"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CD54CD06-9E13-44A6-89D4-C278CD545331}"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44E8B01C-21F2-4F5B-97B7-601A0EC974CA}"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46CD4868-7EDD-4CE8-AB3D-D291369B59F5}"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0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2C33DB68-A703-44DE-BBA8-AB14B6927603}"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42ACA473-4955-4677-9684-0470DCF23F41}"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AB494211-4AAB-4AC3-8A8A-6861847B6B69}"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E27EC2F2-BA7A-4B15-8EE1-459282296879}"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AD103D4F-2969-42FE-A26D-EC833BDFE25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9333E640-CD0E-4D42-9E51-801A2BCBBF11}"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E8911-1612-47ED-BE60-1D88256EB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2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2CC5E7BF-3C21-41FB-B5C6-D63613D0A9E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2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EA5F63F8-AB10-4E36-B7F3-4DD352A29565}"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3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CF26ED68-990C-478B-A7B8-1082A036C093}"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EF9D207D-0AF9-4427-B95F-69870F78E219}"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C0FA470D-105E-4E82-B95E-034B1E04CCF1}"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24071043-F14A-495B-ABD2-AD366E203CB9}"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4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5040E46-653F-4279-B52A-70D9E21F6E20}"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1E24034C-0241-4DA8-B04C-0DB28CD4B49B}"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C1E68A2B-A81E-4E60-A80D-49D9708E1202}"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5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B4CC1B9C-C1D8-43A0-843B-B45BC93A45A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E0738-EE26-4486-953A-25307C286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5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A722439-EE46-4583-9286-30BEDF91D31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D363A3F5-5ED7-4B57-9192-BB38396F614B}"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F66F785-9B58-4342-80BA-1E4277DFE928}"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6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B60AC38F-2604-4BC0-A95B-C7E7E32B0C0A}"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7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692F0826-5E5A-4F55-B965-5BF20B85C2C8}"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1CD7CF94-8766-4468-AD51-FDAD364D3EB0}"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8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63D55A48-8938-4CDF-A1AC-D3C2581AF6BC}"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D533D3B3-1EB4-4895-A14B-51779589A2FE}"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D6CE8194-EA81-491C-A26B-942AAB73627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C8A459FC-1ACB-482C-AC4C-AB6267CA4C75}"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0EB66-ABA1-489A-AE97-4F2847C17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D041CC22-4C1F-4F2A-BA53-BDE4D38059CB}"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9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93826BAE-937D-4F47-82D5-5E21E8A73F2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1"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5F84F7C-4DF7-4EE1-BA15-8BA5034EFEEA}"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9BBC2C71-5B5A-4547-AC7B-EB521990EFDC}"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09"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528FF271-A3FE-4FD9-81C1-1EBF3832CACD}"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7E18C8A4-E5A5-466A-BDAA-D0EA15053661}"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17"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AFC1C709-2901-48DA-9D0F-ECE56DD34418}"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575F274D-BAEE-4966-8D13-1596D40F103B}"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B7615202-8E90-4B15-AD46-1DCE97F34262}"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D2306C0C-6B25-4C27-93D0-45F18809DC80}"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3"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B007-6A12-458B-A014-FCFEB7E5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A4E86-0BDE-426D-8B53-FD2527AAB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3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EA26859-F5FA-454A-8737-D46A3F1B1E85}"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B65A9B68-9FF5-4E7F-9AE0-703DF1ECD9B6}"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A49FF484-3B23-4A64-90E5-8453E9362CD8}"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3337D40-40AC-4769-901E-80F65B74B5B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7FCD16E-0F3D-44DC-92AB-7EB67009C1CB}"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4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3F16D449-A397-4F02-8767-45B403D53086}"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C93C73CA-43A9-4D97-87F8-90237DD6814C}"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5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002A80E6-7CC1-47B5-9913-938D186E4FBA}"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6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F0D3A298-B635-416C-8942-3A0E9BA0987C}"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D8633-9181-491F-A3B5-60466383F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1E9D2-8006-4FE9-95AB-F07CDC8092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333D3-C234-4457-A98A-668089D22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4"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7E4C0-56C3-4264-9BAF-DD6FED818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5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5DD68-E83B-4E8D-A0EB-AD0F7D9E2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2"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C44FE-B9B2-457A-8B52-AE0E0EC05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65"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BCA50-523E-447C-B7C0-3A3BEC333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70"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9A7117-8EA5-4180-AB88-E0D33189A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F242C-F49B-4839-A003-4976F61221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F481-BCBE-4849-BE99-554CE7407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2"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8D2D4-2D3D-491B-AC63-86F6EA2355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4"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2188A-6D0B-4317-B3D0-85B514734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29530-C5B0-449A-AA3E-4459D1FB2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16061-AEAC-418A-B2C7-A60E7ED5D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8A5CD-F8A7-4011-AA0D-227C32550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FFABC-2CF2-4439-ACCF-088FC2CAA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5"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72E77-1F9E-4745-8484-F431F40CC1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9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8B597-3547-4C39-964D-158268E9E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3"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A7247-5CCB-4A29-8713-F8384FA2C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0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AA7414-646F-47A8-A04B-E8ED04E0A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A6F7-E4CD-4AE7-8426-3D981A18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11"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91331-A88E-4BA7-ACDA-2D9940C549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329C87-D22C-4AAB-8BB1-3E72429384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3"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C6ED7F-1ACD-4A07-8574-08D22054A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5"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7E86D-E0DD-4AE4-8A27-1E14BD733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E5405-491C-43A8-B84E-4CF3B154A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AE3AF-6B3A-43BC-93B4-CF2173316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4CD77C-01E1-473E-8830-CCAFD1152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C25A7-0EAE-40D5-A6EA-7FB9ADE09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36"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D4EB0-EF35-4F3C-BDA9-092896616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0"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22FC2-709A-4F73-BDE4-9974F02CE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0843-59E7-469A-B115-DB383898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4"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F517D-565C-4505-9E52-21BBEA9740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47"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F8254-B714-4866-8170-0842BEE4A4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52"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1A6C5B-463D-419E-983D-19F2F63F2C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6CBB52-8CED-4BC0-B082-0DADEEAA52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4"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D3F77-A8D0-49C3-ADD9-1B9F8D329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6"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155BE-C5A5-4B91-8F96-86014E5A0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26C26-E1B7-41D1-868A-0D21D106F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4437F-4F8A-44AC-A8D6-A1EF73F4A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C848B-803E-4A70-B0B1-D8AA19D53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3"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7F58E-3648-4073-8231-CC881DBDE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63E6-8897-4DD7-B990-CF3F06C3F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77"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AEAB4-3510-4E97-A029-98861D43B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1"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B6F2E-E519-4B14-9A23-D8BBA6E6D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5"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A5EB1-A07B-45AD-A873-1788EFE3D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88"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4B3B39-FABC-4B9F-9F8B-45FABA77C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93"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1E5CD7-A532-48A7-9FFF-AE9D571D93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CA136-B7BF-450F-ABA1-7508CFD53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5"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8FD04-191B-463E-9A15-C81D32134B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7"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16BB9E-2E39-43D1-BDEC-49C82DFA3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09"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EDBA4-69D8-4EA4-BF2A-3A75431D3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9B08A1-DB4E-499E-A6D7-72F2E9F85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54BE-8646-4981-869A-36714FA3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0720" y="7740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4C78C-F5EF-4F1E-B84D-5926E920F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4"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6776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160E6-42AD-4479-9ABB-AB5E04A53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18" name="PlaceHolder 2"/>
          <p:cNvSpPr>
            <a:spLocks noGrp="1"/>
          </p:cNvSpPr>
          <p:nvPr>
            <p:ph/>
          </p:nvPr>
        </p:nvSpPr>
        <p:spPr>
          <a:xfrm>
            <a:off x="450720" y="158904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E7773-1AF1-428F-A8DA-DF0239894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2"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90CBED-CFB7-41DB-AEA9-89C1A15E2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6" name="PlaceHolder 2"/>
          <p:cNvSpPr>
            <a:spLocks noGrp="1"/>
          </p:cNvSpPr>
          <p:nvPr>
            <p:ph/>
          </p:nvPr>
        </p:nvSpPr>
        <p:spPr>
          <a:xfrm>
            <a:off x="450720" y="15890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450720" y="395316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66D9A-5CF1-4BAE-A3EB-2DAF10ACA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29" name="PlaceHolder 2"/>
          <p:cNvSpPr>
            <a:spLocks noGrp="1"/>
          </p:cNvSpPr>
          <p:nvPr>
            <p:ph/>
          </p:nvPr>
        </p:nvSpPr>
        <p:spPr>
          <a:xfrm>
            <a:off x="45072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667760" y="15890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5072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667760" y="395316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A0B0B-55FC-471D-8375-F81B5B5971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34" name="PlaceHolder 2"/>
          <p:cNvSpPr>
            <a:spLocks noGrp="1"/>
          </p:cNvSpPr>
          <p:nvPr>
            <p:ph/>
          </p:nvPr>
        </p:nvSpPr>
        <p:spPr>
          <a:xfrm>
            <a:off x="45072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23316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15600" y="15890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5072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23316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15600" y="395316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968213-B41C-4BEE-B4D3-F4D85BCF35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E7A26-2813-44B8-9487-22309167D6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48" name="PlaceHolder 2"/>
          <p:cNvSpPr>
            <a:spLocks noGrp="1"/>
          </p:cNvSpPr>
          <p:nvPr>
            <p:ph type="subTitle"/>
          </p:nvPr>
        </p:nvSpPr>
        <p:spPr>
          <a:xfrm>
            <a:off x="450720" y="158904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78EC2-C3C1-494F-8698-1039831815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50" name="PlaceHolder 2"/>
          <p:cNvSpPr>
            <a:spLocks noGrp="1"/>
          </p:cNvSpPr>
          <p:nvPr>
            <p:ph/>
          </p:nvPr>
        </p:nvSpPr>
        <p:spPr>
          <a:xfrm>
            <a:off x="450720" y="158904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59A17-6685-4CB2-9E91-C6ED302FC2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 name="CCSSO_Color Bars_DESR2.png" descr="/Volumes/Clients/CCSSO/CCS007_Org Logo/Final/CCS007_OrgLogo_FINAL_121609/PNG/CCSSO_Color Bars_DESR2.png"/>
          <p:cNvPicPr/>
          <p:nvPr/>
        </p:nvPicPr>
        <p:blipFill>
          <a:blip r:embed="rId2"/>
          <a:stretch/>
        </p:blipFill>
        <p:spPr>
          <a:xfrm>
            <a:off x="-1440" y="6488280"/>
            <a:ext cx="914400" cy="380880"/>
          </a:xfrm>
          <a:prstGeom prst="rect">
            <a:avLst/>
          </a:prstGeom>
          <a:ln w="0">
            <a:noFill/>
          </a:ln>
        </p:spPr>
      </p:pic>
      <p:sp>
        <p:nvSpPr>
          <p:cNvPr id="2" name="Rectangle 14"/>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E5E9-AD2E-4B46-854A-5CE36BC2F6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384" name="Rectangle 5"/>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8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8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4E9D-E318-4145-A1FF-33F4A365A1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7"/>
          <p:cNvSpPr/>
          <p:nvPr/>
        </p:nvSpPr>
        <p:spPr>
          <a:xfrm>
            <a:off x="0" y="0"/>
            <a:ext cx="475308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428" name="Rectangle 9"/>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28E6-A493-4DDF-A6F7-029F892F63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471" name="Rectangle 9"/>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7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7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768F-77D8-4D0B-B90F-505AA438A1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6"/>
          <p:cNvSpPr/>
          <p:nvPr/>
        </p:nvSpPr>
        <p:spPr>
          <a:xfrm rot="5400000">
            <a:off x="3961800" y="396216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515" name="Rectangle 8"/>
          <p:cNvSpPr/>
          <p:nvPr/>
        </p:nvSpPr>
        <p:spPr>
          <a:xfrm rot="5400000">
            <a:off x="-3890880" y="4863960"/>
            <a:ext cx="815364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1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1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F873-0A2F-46A3-926A-768338FAEB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7"/>
          <p:cNvSpPr/>
          <p:nvPr/>
        </p:nvSpPr>
        <p:spPr>
          <a:xfrm>
            <a:off x="0" y="0"/>
            <a:ext cx="9144000" cy="1219320"/>
          </a:xfrm>
          <a:prstGeom prst="rect">
            <a:avLst/>
          </a:prstGeom>
          <a:solidFill>
            <a:srgbClr val="006b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8" name="CCSSO_Color Bars_DESR2.png" descr="/Volumes/Clients/CCSSO/CCS007_Org Logo/Final/CCS007_OrgLogo_FINAL_121609/PNG/CCSSO_Color Bars_DESR2.png"/>
          <p:cNvPicPr/>
          <p:nvPr/>
        </p:nvPicPr>
        <p:blipFill>
          <a:blip r:embed="rId2"/>
          <a:stretch/>
        </p:blipFill>
        <p:spPr>
          <a:xfrm>
            <a:off x="-1440" y="6488280"/>
            <a:ext cx="914400" cy="380880"/>
          </a:xfrm>
          <a:prstGeom prst="rect">
            <a:avLst/>
          </a:prstGeom>
          <a:ln w="0">
            <a:noFill/>
          </a:ln>
        </p:spPr>
      </p:pic>
      <p:sp>
        <p:nvSpPr>
          <p:cNvPr id="559" name="Rectangle 14"/>
          <p:cNvSpPr/>
          <p:nvPr/>
        </p:nvSpPr>
        <p:spPr>
          <a:xfrm>
            <a:off x="990720" y="6488280"/>
            <a:ext cx="8153280" cy="380880"/>
          </a:xfrm>
          <a:prstGeom prst="rect">
            <a:avLst/>
          </a:prstGeom>
          <a:solidFill>
            <a:srgbClr val="006b6e"/>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1"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62" name="PlaceHolder 3"/>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FD22-1B93-45FA-8F8E-5CBFEFD785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56b"/>
        </a:solidFill>
      </p:bgPr>
    </p:bg>
    <p:spTree>
      <p:nvGrpSpPr>
        <p:cNvPr id="1" name=""/>
        <p:cNvGrpSpPr/>
        <p:nvPr/>
      </p:nvGrpSpPr>
      <p:grpSpPr>
        <a:xfrm>
          <a:off x="0" y="0"/>
          <a:ext cx="0" cy="0"/>
          <a:chOff x="0" y="0"/>
          <a:chExt cx="0" cy="0"/>
        </a:xfrm>
      </p:grpSpPr>
      <p:sp>
        <p:nvSpPr>
          <p:cNvPr id="599"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0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0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03"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04"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A351-7A53-41D9-9673-6D97D3075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43" name="Rectangle 5"/>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45"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46"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47"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EC9A-1EDE-4E80-A424-0AA0D6FF13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7"/>
          <p:cNvSpPr/>
          <p:nvPr/>
        </p:nvSpPr>
        <p:spPr>
          <a:xfrm>
            <a:off x="0" y="0"/>
            <a:ext cx="4753080" cy="1219320"/>
          </a:xfrm>
          <a:prstGeom prst="rect">
            <a:avLst/>
          </a:prstGeom>
          <a:solidFill>
            <a:srgbClr val="4b056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687" name="Rectangle 9"/>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8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90"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91"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52F7-F03B-4B4B-98B5-CAD66D9698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730" name="Rectangle 9"/>
          <p:cNvSpPr/>
          <p:nvPr/>
        </p:nvSpPr>
        <p:spPr>
          <a:xfrm>
            <a:off x="990720" y="6488280"/>
            <a:ext cx="815328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3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3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73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FCB0-0BC5-4359-ADDA-8B312F80F9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6"/>
          <p:cNvSpPr/>
          <p:nvPr/>
        </p:nvSpPr>
        <p:spPr>
          <a:xfrm rot="5400000">
            <a:off x="3961800" y="3962160"/>
            <a:ext cx="9144000" cy="1219320"/>
          </a:xfrm>
          <a:prstGeom prst="rect">
            <a:avLst/>
          </a:prstGeom>
          <a:solidFill>
            <a:srgbClr val="4b056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3"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774" name="Rectangle 8"/>
          <p:cNvSpPr/>
          <p:nvPr/>
        </p:nvSpPr>
        <p:spPr>
          <a:xfrm rot="5400000">
            <a:off x="-3890880" y="4863960"/>
            <a:ext cx="8153640" cy="380880"/>
          </a:xfrm>
          <a:prstGeom prst="rect">
            <a:avLst/>
          </a:prstGeom>
          <a:solidFill>
            <a:srgbClr val="4b056b"/>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7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77"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778"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7CD6-56C3-4A53-A90A-EAB6A8D38B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0" y="0"/>
            <a:ext cx="9144000" cy="1219320"/>
          </a:xfrm>
          <a:prstGeom prst="rect">
            <a:avLst/>
          </a:prstGeom>
          <a:solidFill>
            <a:srgbClr val="7d6a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CCSSO_Color Bars_DESR2.png" descr="/Volumes/Clients/CCSSO/CCS007_Org Logo/Final/CCS007_OrgLogo_FINAL_121609/PNG/CCSSO_Color Bars_DESR2.png"/>
          <p:cNvPicPr/>
          <p:nvPr/>
        </p:nvPicPr>
        <p:blipFill>
          <a:blip r:embed="rId2"/>
          <a:stretch/>
        </p:blipFill>
        <p:spPr>
          <a:xfrm>
            <a:off x="38160" y="6488280"/>
            <a:ext cx="914400" cy="380880"/>
          </a:xfrm>
          <a:prstGeom prst="rect">
            <a:avLst/>
          </a:prstGeom>
          <a:ln w="0">
            <a:noFill/>
          </a:ln>
        </p:spPr>
      </p:pic>
      <p:sp>
        <p:nvSpPr>
          <p:cNvPr id="46" name="Rectangle 14"/>
          <p:cNvSpPr/>
          <p:nvPr/>
        </p:nvSpPr>
        <p:spPr>
          <a:xfrm>
            <a:off x="990720" y="6488280"/>
            <a:ext cx="8153280" cy="380880"/>
          </a:xfrm>
          <a:prstGeom prst="rect">
            <a:avLst/>
          </a:prstGeom>
          <a:solidFill>
            <a:srgbClr val="7d6a5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7d6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7d6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7d6a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2709-DB2A-451F-93AD-ADB79D5BF5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16"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81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1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20"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21"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FB49-551A-4DCD-9BBD-639D85121B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860" name="Rectangle 5"/>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2"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63"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4"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F024-7C5D-4C4C-AC1C-5E700925DE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Rectangle 7"/>
          <p:cNvSpPr/>
          <p:nvPr/>
        </p:nvSpPr>
        <p:spPr>
          <a:xfrm>
            <a:off x="0" y="0"/>
            <a:ext cx="4753080" cy="1219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04" name="Rectangle 9"/>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0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0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F38B-ED1F-4546-98FC-53CC835154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47" name="Rectangle 9"/>
          <p:cNvSpPr/>
          <p:nvPr/>
        </p:nvSpPr>
        <p:spPr>
          <a:xfrm>
            <a:off x="990720" y="6488280"/>
            <a:ext cx="815328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50"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51"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02F5-E1D7-4556-B132-B2A40CA35E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Rectangle 6"/>
          <p:cNvSpPr/>
          <p:nvPr/>
        </p:nvSpPr>
        <p:spPr>
          <a:xfrm rot="5400000">
            <a:off x="3961800" y="3962160"/>
            <a:ext cx="9144000" cy="1219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0"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991" name="Rectangle 8"/>
          <p:cNvSpPr/>
          <p:nvPr/>
        </p:nvSpPr>
        <p:spPr>
          <a:xfrm rot="5400000">
            <a:off x="-3890880" y="4863960"/>
            <a:ext cx="8153640" cy="380880"/>
          </a:xfrm>
          <a:prstGeom prst="rect">
            <a:avLst/>
          </a:prstGeom>
          <a:solidFill>
            <a:srgbClr val="ff6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94"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95"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DF3F-E571-4A6B-A631-07E73A4608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2334"/>
        </a:solidFill>
      </p:bgPr>
    </p:bg>
    <p:spTree>
      <p:nvGrpSpPr>
        <p:cNvPr id="1" name=""/>
        <p:cNvGrpSpPr/>
        <p:nvPr/>
      </p:nvGrpSpPr>
      <p:grpSpPr>
        <a:xfrm>
          <a:off x="0" y="0"/>
          <a:ext cx="0" cy="0"/>
          <a:chOff x="0" y="0"/>
          <a:chExt cx="0" cy="0"/>
        </a:xfrm>
      </p:grpSpPr>
      <p:sp>
        <p:nvSpPr>
          <p:cNvPr id="1033"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4"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03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037"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8"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6EB2-BFEB-4285-B144-92380D3A3B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077" name="Rectangle 5"/>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7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080"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81"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7974-A252-473A-B15C-586408D384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Rectangle 7"/>
          <p:cNvSpPr/>
          <p:nvPr/>
        </p:nvSpPr>
        <p:spPr>
          <a:xfrm>
            <a:off x="0" y="0"/>
            <a:ext cx="475308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121" name="Rectangle 9"/>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24"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25"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6"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AB6F-043C-4AF4-A7D1-4954E2B14F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164" name="Rectangle 9"/>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6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67"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168"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8137-1967-4813-8555-629BD741D8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Rectangle 6"/>
          <p:cNvSpPr/>
          <p:nvPr/>
        </p:nvSpPr>
        <p:spPr>
          <a:xfrm rot="5400000">
            <a:off x="3961800" y="396216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7"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1208" name="Rectangle 8"/>
          <p:cNvSpPr/>
          <p:nvPr/>
        </p:nvSpPr>
        <p:spPr>
          <a:xfrm rot="5400000">
            <a:off x="-3890880" y="4863960"/>
            <a:ext cx="815364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1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11"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12"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3"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F25E-DA68-4517-BF85-2A87D5274A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0" y="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90" name="Rectangle 14"/>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3"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AABE-A27E-4C9D-9C4F-F6A36D9443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bb0"/>
        </a:solidFill>
      </p:bgPr>
    </p:bg>
    <p:spTree>
      <p:nvGrpSpPr>
        <p:cNvPr id="1" name=""/>
        <p:cNvGrpSpPr/>
        <p:nvPr/>
      </p:nvGrpSpPr>
      <p:grpSpPr>
        <a:xfrm>
          <a:off x="0" y="0"/>
          <a:ext cx="0" cy="0"/>
          <a:chOff x="0" y="0"/>
          <a:chExt cx="0" cy="0"/>
        </a:xfrm>
      </p:grpSpPr>
      <p:sp>
        <p:nvSpPr>
          <p:cNvPr id="1250"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1"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25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5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54"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5"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23CD-5405-476D-B837-C851DC348D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294" name="Rectangle 5"/>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96"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97"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98"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9"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4EC7-3B66-4F85-8A8C-924ABCD903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Rectangle 7"/>
          <p:cNvSpPr/>
          <p:nvPr/>
        </p:nvSpPr>
        <p:spPr>
          <a:xfrm>
            <a:off x="0" y="0"/>
            <a:ext cx="4753080" cy="1219320"/>
          </a:xfrm>
          <a:prstGeom prst="rect">
            <a:avLst/>
          </a:prstGeom>
          <a:solidFill>
            <a:srgbClr val="008b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7"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38" name="Rectangle 9"/>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4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41"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2"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47F5-7CEB-4D52-BFD2-C3556489E3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81" name="Rectangle 9"/>
          <p:cNvSpPr/>
          <p:nvPr/>
        </p:nvSpPr>
        <p:spPr>
          <a:xfrm>
            <a:off x="990720" y="6488280"/>
            <a:ext cx="815328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84"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85"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C994-EAD2-4958-AF29-E820823E82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Rectangle 6"/>
          <p:cNvSpPr/>
          <p:nvPr/>
        </p:nvSpPr>
        <p:spPr>
          <a:xfrm rot="5400000">
            <a:off x="3961800" y="3962160"/>
            <a:ext cx="9144000" cy="1219320"/>
          </a:xfrm>
          <a:prstGeom prst="rect">
            <a:avLst/>
          </a:prstGeom>
          <a:solidFill>
            <a:srgbClr val="008b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4" name="CCSSO_Color Bars_DESR2.png" descr="/Volumes/Clients/CCSSO/CCS007_Org Logo/Final/CCS007_OrgLogo_FINAL_121609/PNG/CCSSO_Color Bars_DESR2.png"/>
          <p:cNvPicPr/>
          <p:nvPr/>
        </p:nvPicPr>
        <p:blipFill>
          <a:blip r:embed="rId2"/>
          <a:stretch/>
        </p:blipFill>
        <p:spPr>
          <a:xfrm rot="5400000">
            <a:off x="-271440" y="266400"/>
            <a:ext cx="914400" cy="380880"/>
          </a:xfrm>
          <a:prstGeom prst="rect">
            <a:avLst/>
          </a:prstGeom>
          <a:ln w="0">
            <a:noFill/>
          </a:ln>
        </p:spPr>
      </p:pic>
      <p:sp>
        <p:nvSpPr>
          <p:cNvPr id="1425" name="Rectangle 8"/>
          <p:cNvSpPr/>
          <p:nvPr/>
        </p:nvSpPr>
        <p:spPr>
          <a:xfrm rot="5400000">
            <a:off x="-3890880" y="4863960"/>
            <a:ext cx="8153640" cy="380880"/>
          </a:xfrm>
          <a:prstGeom prst="rect">
            <a:avLst/>
          </a:prstGeom>
          <a:solidFill>
            <a:srgbClr val="008bb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428"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29"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0"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E3AE-8B86-46A4-8F57-757DAEEE2F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7"/>
          <p:cNvSpPr/>
          <p:nvPr/>
        </p:nvSpPr>
        <p:spPr>
          <a:xfrm>
            <a:off x="0" y="0"/>
            <a:ext cx="9144000" cy="1219320"/>
          </a:xfrm>
          <a:prstGeom prst="rect">
            <a:avLst/>
          </a:prstGeom>
          <a:solidFill>
            <a:srgbClr val="ba23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134" name="Rectangle 14"/>
          <p:cNvSpPr/>
          <p:nvPr/>
        </p:nvSpPr>
        <p:spPr>
          <a:xfrm>
            <a:off x="990720" y="6488280"/>
            <a:ext cx="8153280" cy="380880"/>
          </a:xfrm>
          <a:prstGeom prst="rect">
            <a:avLst/>
          </a:prstGeom>
          <a:solidFill>
            <a:srgbClr val="ba233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4B08-7D0B-44A9-887A-06E1004A0E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4b05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4b05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9569-3D53-4017-BCBF-CA38D4200A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8"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27E0-7ACF-41E5-A3E1-8F7EBCDB6A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a23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a2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9"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4B87-3477-44B1-8D4B-6268B45F61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8b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8bb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0"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7652-F1C4-41FF-8E9A-D9C9EDA619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b6e"/>
        </a:solidFill>
      </p:bgPr>
    </p:bg>
    <p:spTree>
      <p:nvGrpSpPr>
        <p:cNvPr id="1" name=""/>
        <p:cNvGrpSpPr/>
        <p:nvPr/>
      </p:nvGrpSpPr>
      <p:grpSpPr>
        <a:xfrm>
          <a:off x="0" y="0"/>
          <a:ext cx="0" cy="0"/>
          <a:chOff x="0" y="0"/>
          <a:chExt cx="0" cy="0"/>
        </a:xfrm>
      </p:grpSpPr>
      <p:sp>
        <p:nvSpPr>
          <p:cNvPr id="340" name="Rectangle 10"/>
          <p:cNvSpPr/>
          <p:nvPr/>
        </p:nvSpPr>
        <p:spPr>
          <a:xfrm>
            <a:off x="0" y="6488280"/>
            <a:ext cx="9144000" cy="38088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1" name="CCSSO_Color Bars_DESR2.png" descr="/Volumes/Clients/CCSSO/CCS007_Org Logo/Final/CCS007_OrgLogo_FINAL_121609/PNG/CCSSO_Color Bars_DESR2.png"/>
          <p:cNvPicPr/>
          <p:nvPr/>
        </p:nvPicPr>
        <p:blipFill>
          <a:blip r:embed="rId2"/>
          <a:stretch/>
        </p:blipFill>
        <p:spPr>
          <a:xfrm>
            <a:off x="0" y="6488280"/>
            <a:ext cx="914400" cy="380880"/>
          </a:xfrm>
          <a:prstGeom prst="rect">
            <a:avLst/>
          </a:prstGeom>
          <a:ln w="0">
            <a:noFill/>
          </a:ln>
        </p:spPr>
      </p:pic>
      <p:sp>
        <p:nvSpPr>
          <p:cNvPr id="342" name="PlaceHolder 1"/>
          <p:cNvSpPr>
            <a:spLocks noGrp="1"/>
          </p:cNvSpPr>
          <p:nvPr>
            <p:ph type="body"/>
          </p:nvPr>
        </p:nvSpPr>
        <p:spPr>
          <a:xfrm>
            <a:off x="450720" y="1589040"/>
            <a:ext cx="8229600" cy="4525920"/>
          </a:xfrm>
          <a:prstGeom prst="rect">
            <a:avLst/>
          </a:prstGeom>
          <a:noFill/>
          <a:ln w="0">
            <a:noFill/>
          </a:ln>
        </p:spPr>
        <p:txBody>
          <a:bodyPr lIns="90000" rIns="90000" tIns="46800" bIns="46800"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6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3" name="PlaceHolder 2"/>
          <p:cNvSpPr>
            <a:spLocks noGrp="1"/>
          </p:cNvSpPr>
          <p:nvPr>
            <p:ph type="title"/>
          </p:nvPr>
        </p:nvSpPr>
        <p:spPr>
          <a:xfrm>
            <a:off x="450720" y="77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34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4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5DC6-33D6-48C7-998F-B19A9A3643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csso.org/" TargetMode="External"/><Relationship Id="rId3" Type="http://schemas.openxmlformats.org/officeDocument/2006/relationships/hyperlink" Target="mailto:carrieh@ccsso.org"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272520" y="2133720"/>
            <a:ext cx="8464680" cy="429264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Calibri"/>
              </a:rPr>
              <a:t>Common Core State Standards in Mathematics</a:t>
            </a:r>
            <a:endParaRPr b="0" lang="en-US" sz="5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RIE HEATH PHILLIPS</a:t>
            </a:r>
            <a:endParaRPr b="0" lang="en-US" sz="40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PTEMBER 7, 2011</a:t>
            </a:r>
            <a:endParaRPr b="0" lang="en-US" sz="4000" spc="-1" strike="noStrike">
              <a:solidFill>
                <a:srgbClr val="000000"/>
              </a:solidFill>
              <a:latin typeface="Arial"/>
            </a:endParaRPr>
          </a:p>
        </p:txBody>
      </p:sp>
      <p:sp>
        <p:nvSpPr>
          <p:cNvPr id="147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73" name="Picture 1" descr=""/>
          <p:cNvPicPr/>
          <p:nvPr/>
        </p:nvPicPr>
        <p:blipFill>
          <a:blip r:embed="rId1"/>
          <a:stretch/>
        </p:blipFill>
        <p:spPr>
          <a:xfrm>
            <a:off x="2570040" y="0"/>
            <a:ext cx="400392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Math Key Advances</a:t>
            </a:r>
            <a:endParaRPr b="0" lang="en-US" sz="3200" spc="-1" strike="noStrike">
              <a:solidFill>
                <a:srgbClr val="ffffff"/>
              </a:solidFill>
              <a:latin typeface="Arial Black"/>
            </a:endParaRPr>
          </a:p>
        </p:txBody>
      </p:sp>
      <p:sp>
        <p:nvSpPr>
          <p:cNvPr id="1492" name="PlaceHolder 2"/>
          <p:cNvSpPr>
            <a:spLocks noGrp="1"/>
          </p:cNvSpPr>
          <p:nvPr>
            <p:ph/>
          </p:nvPr>
        </p:nvSpPr>
        <p:spPr>
          <a:xfrm>
            <a:off x="266760" y="1255320"/>
            <a:ext cx="8648640" cy="5087880"/>
          </a:xfrm>
          <a:prstGeom prst="rect">
            <a:avLst/>
          </a:prstGeom>
          <a:noFill/>
          <a:ln w="0">
            <a:noFill/>
          </a:ln>
        </p:spPr>
        <p:txBody>
          <a:bodyPr anchor="t">
            <a:normAutofit/>
          </a:bodyPr>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concepts and skills </a:t>
            </a:r>
            <a:endParaRPr b="0" lang="en-US" sz="3200" spc="-1" strike="noStrike">
              <a:solidFill>
                <a:srgbClr val="000000"/>
              </a:solidFill>
              <a:latin typeface="Arial"/>
            </a:endParaRPr>
          </a:p>
          <a:p>
            <a:pPr lvl="1" marL="743040" indent="-285840">
              <a:lnSpc>
                <a:spcPct val="9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ep understanding and procedural fluency</a:t>
            </a:r>
            <a:endParaRPr b="0" lang="en-US" sz="28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l practices</a:t>
            </a:r>
            <a:endParaRPr b="0" lang="en-US" sz="3200" spc="-1" strike="noStrike">
              <a:solidFill>
                <a:srgbClr val="000000"/>
              </a:solidFill>
              <a:latin typeface="Arial"/>
            </a:endParaRPr>
          </a:p>
          <a:p>
            <a:pPr lvl="1" marL="743040" indent="-285840">
              <a:lnSpc>
                <a:spcPct val="9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reasoning and sense-making in mathematics</a:t>
            </a:r>
            <a:endParaRPr b="0" lang="en-US" sz="2800" spc="-1" strike="noStrike">
              <a:solidFill>
                <a:srgbClr val="000000"/>
              </a:solidFill>
              <a:latin typeface="Arial"/>
            </a:endParaRPr>
          </a:p>
          <a:p>
            <a:pPr marL="343080" indent="-343080">
              <a:lnSpc>
                <a:spcPct val="90000"/>
              </a:lnSpc>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and communication </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New Common Summative Assessment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494" name=""/>
          <p:cNvSpPr txBox="1"/>
          <p:nvPr/>
        </p:nvSpPr>
        <p:spPr>
          <a:xfrm>
            <a:off x="341280" y="1623600"/>
            <a:ext cx="8329680" cy="4713480"/>
          </a:xfrm>
          <a:prstGeom prst="rect">
            <a:avLst/>
          </a:prstGeom>
          <a:noFill/>
          <a:ln w="0">
            <a:noFill/>
          </a:ln>
        </p:spPr>
        <p:txBody>
          <a:bodyPr anchor="t">
            <a:normAutofit/>
          </a:bodyPr>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ssessment consortia</a:t>
            </a:r>
            <a:endParaRPr b="0" lang="en-US" sz="3200" spc="-1" strike="noStrike">
              <a:solidFill>
                <a:srgbClr val="000000"/>
              </a:solidFill>
              <a:latin typeface="Arial"/>
            </a:endParaRPr>
          </a:p>
          <a:p>
            <a:pPr lvl="1" marL="743040" indent="-28584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for Readiness for College and Career (PARCC)</a:t>
            </a:r>
            <a:endParaRPr b="0" lang="en-US" sz="2800" spc="-1" strike="noStrike">
              <a:solidFill>
                <a:srgbClr val="000000"/>
              </a:solidFill>
              <a:latin typeface="Arial"/>
            </a:endParaRPr>
          </a:p>
          <a:p>
            <a:pPr lvl="1" marL="743040" indent="-28584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ER Balanced</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ummative assessments used for accountability purposes in 2014-2015 school year</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5" name="Picture Placeholder 6" descr="PARCC-States-with-Governing.png"/>
          <p:cNvPicPr/>
          <p:nvPr/>
        </p:nvPicPr>
        <p:blipFill>
          <a:blip r:embed="rId1"/>
          <a:srcRect l="154" t="0" r="154" b="0"/>
          <a:stretch/>
        </p:blipFill>
        <p:spPr>
          <a:xfrm>
            <a:off x="0" y="1371600"/>
            <a:ext cx="9144000" cy="5181480"/>
          </a:xfrm>
          <a:prstGeom prst="rect">
            <a:avLst/>
          </a:prstGeom>
          <a:ln w="0">
            <a:noFill/>
          </a:ln>
        </p:spPr>
      </p:pic>
      <p:sp>
        <p:nvSpPr>
          <p:cNvPr id="1496" name="PlaceHolder 1"/>
          <p:cNvSpPr>
            <a:spLocks noGrp="1"/>
          </p:cNvSpPr>
          <p:nvPr>
            <p:ph type="title"/>
          </p:nvPr>
        </p:nvSpPr>
        <p:spPr>
          <a:xfrm>
            <a:off x="171360" y="-360"/>
            <a:ext cx="897264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artnership for Assessment of Readiness for College and Careers (PARCC)</a:t>
            </a:r>
            <a:endParaRPr b="0" lang="en-US" sz="2400" spc="-1" strike="noStrike">
              <a:solidFill>
                <a:srgbClr val="ffffff"/>
              </a:solidFill>
              <a:latin typeface="Arial Black"/>
            </a:endParaRPr>
          </a:p>
        </p:txBody>
      </p:sp>
      <p:sp>
        <p:nvSpPr>
          <p:cNvPr id="1497" name="TextBox 14"/>
          <p:cNvSpPr/>
          <p:nvPr/>
        </p:nvSpPr>
        <p:spPr>
          <a:xfrm>
            <a:off x="3124080" y="6170760"/>
            <a:ext cx="4419720" cy="3034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Governing Board States                Participating States</a:t>
            </a:r>
            <a:endParaRPr b="0" lang="en-US" sz="1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313920" y="77400"/>
            <a:ext cx="8366040" cy="1143000"/>
          </a:xfrm>
          <a:prstGeom prst="rect">
            <a:avLst/>
          </a:prstGeom>
          <a:noFill/>
          <a:ln w="0">
            <a:noFill/>
          </a:ln>
        </p:spPr>
        <p:txBody>
          <a:bodyPr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RCC Assessment Design </a:t>
            </a:r>
            <a:br>
              <a:rPr sz="3200"/>
            </a:br>
            <a:r>
              <a:rPr b="0" lang="en-US" sz="3200" spc="-1" strike="noStrike">
                <a:solidFill>
                  <a:srgbClr val="ffffff"/>
                </a:solidFill>
                <a:latin typeface="Arial Black"/>
              </a:rPr>
              <a:t>Within Year</a:t>
            </a:r>
            <a:endParaRPr b="0" lang="en-US" sz="3200" spc="-1" strike="noStrike">
              <a:solidFill>
                <a:srgbClr val="ffffff"/>
              </a:solidFill>
              <a:latin typeface="Arial Black"/>
            </a:endParaRPr>
          </a:p>
        </p:txBody>
      </p:sp>
      <p:pic>
        <p:nvPicPr>
          <p:cNvPr id="1499" name="Picture 5" descr="yearbar.png"/>
          <p:cNvPicPr/>
          <p:nvPr/>
        </p:nvPicPr>
        <p:blipFill>
          <a:blip r:embed="rId1"/>
          <a:stretch/>
        </p:blipFill>
        <p:spPr>
          <a:xfrm>
            <a:off x="76320" y="1281240"/>
            <a:ext cx="8686800" cy="990360"/>
          </a:xfrm>
          <a:prstGeom prst="rect">
            <a:avLst/>
          </a:prstGeom>
          <a:ln w="0">
            <a:noFill/>
          </a:ln>
        </p:spPr>
      </p:pic>
      <p:grpSp>
        <p:nvGrpSpPr>
          <p:cNvPr id="1500" name="Group 39"/>
          <p:cNvGrpSpPr/>
          <p:nvPr/>
        </p:nvGrpSpPr>
        <p:grpSpPr>
          <a:xfrm>
            <a:off x="7120080" y="2006640"/>
            <a:ext cx="1901520" cy="2438280"/>
            <a:chOff x="7120080" y="2006640"/>
            <a:chExt cx="1901520" cy="2438280"/>
          </a:xfrm>
        </p:grpSpPr>
        <p:sp>
          <p:nvSpPr>
            <p:cNvPr id="1501" name="Straight Connector 7"/>
            <p:cNvSpPr/>
            <p:nvPr/>
          </p:nvSpPr>
          <p:spPr>
            <a:xfrm>
              <a:off x="7951680" y="2006640"/>
              <a:ext cx="0" cy="1458720"/>
            </a:xfrm>
            <a:prstGeom prst="line">
              <a:avLst/>
            </a:prstGeom>
            <a:ln w="38160">
              <a:solidFill>
                <a:srgbClr val="72bf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02" name="Picture 5" descr="clipboard.png"/>
            <p:cNvPicPr/>
            <p:nvPr/>
          </p:nvPicPr>
          <p:blipFill>
            <a:blip r:embed="rId2"/>
            <a:stretch/>
          </p:blipFill>
          <p:spPr>
            <a:xfrm>
              <a:off x="7120080" y="2616120"/>
              <a:ext cx="1901520" cy="1828800"/>
            </a:xfrm>
            <a:prstGeom prst="rect">
              <a:avLst/>
            </a:prstGeom>
            <a:ln w="0">
              <a:noFill/>
            </a:ln>
          </p:spPr>
        </p:pic>
        <p:sp>
          <p:nvSpPr>
            <p:cNvPr id="1503" name="TextBox 35"/>
            <p:cNvSpPr/>
            <p:nvPr/>
          </p:nvSpPr>
          <p:spPr>
            <a:xfrm>
              <a:off x="7121520" y="3225960"/>
              <a:ext cx="17431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End-of-Year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essment</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novative, computer-based item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grpSp>
        <p:nvGrpSpPr>
          <p:cNvPr id="1504" name="Group 34"/>
          <p:cNvGrpSpPr/>
          <p:nvPr/>
        </p:nvGrpSpPr>
        <p:grpSpPr>
          <a:xfrm>
            <a:off x="5056200" y="2063880"/>
            <a:ext cx="1913040" cy="2431800"/>
            <a:chOff x="5056200" y="2063880"/>
            <a:chExt cx="1913040" cy="2431800"/>
          </a:xfrm>
        </p:grpSpPr>
        <p:sp>
          <p:nvSpPr>
            <p:cNvPr id="1505" name="Straight Connector 12"/>
            <p:cNvSpPr/>
            <p:nvPr/>
          </p:nvSpPr>
          <p:spPr>
            <a:xfrm>
              <a:off x="5994360" y="2063880"/>
              <a:ext cx="0" cy="1704960"/>
            </a:xfrm>
            <a:prstGeom prst="line">
              <a:avLst/>
            </a:prstGeom>
            <a:ln w="38160">
              <a:solidFill>
                <a:srgbClr val="72bf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06" name="Picture 18" descr="clipboard.png"/>
            <p:cNvPicPr/>
            <p:nvPr/>
          </p:nvPicPr>
          <p:blipFill>
            <a:blip r:embed="rId3"/>
            <a:stretch/>
          </p:blipFill>
          <p:spPr>
            <a:xfrm>
              <a:off x="5066640" y="2667240"/>
              <a:ext cx="1902600" cy="1828440"/>
            </a:xfrm>
            <a:prstGeom prst="rect">
              <a:avLst/>
            </a:prstGeom>
            <a:ln w="0">
              <a:noFill/>
            </a:ln>
          </p:spPr>
        </p:pic>
        <p:sp>
          <p:nvSpPr>
            <p:cNvPr id="1507" name="TextBox 15"/>
            <p:cNvSpPr/>
            <p:nvPr/>
          </p:nvSpPr>
          <p:spPr>
            <a:xfrm>
              <a:off x="5056200" y="3279960"/>
              <a:ext cx="18734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formance-Based</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ment (PBA)</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tasks</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of concepts and skills</a:t>
              </a:r>
              <a:endParaRPr b="0" lang="en-US" sz="1000" spc="-1" strike="noStrike">
                <a:solidFill>
                  <a:srgbClr val="000000"/>
                </a:solidFill>
                <a:latin typeface="Calibri"/>
              </a:endParaRPr>
            </a:p>
          </p:txBody>
        </p:sp>
      </p:grpSp>
      <p:grpSp>
        <p:nvGrpSpPr>
          <p:cNvPr id="1508" name="Group 43"/>
          <p:cNvGrpSpPr/>
          <p:nvPr/>
        </p:nvGrpSpPr>
        <p:grpSpPr>
          <a:xfrm>
            <a:off x="192240" y="5091120"/>
            <a:ext cx="4173480" cy="838080"/>
            <a:chOff x="192240" y="5091120"/>
            <a:chExt cx="4173480" cy="838080"/>
          </a:xfrm>
        </p:grpSpPr>
        <p:pic>
          <p:nvPicPr>
            <p:cNvPr id="1509" name="Picture 44" descr="key.png"/>
            <p:cNvPicPr/>
            <p:nvPr/>
          </p:nvPicPr>
          <p:blipFill>
            <a:blip r:embed="rId4">
              <a:lum bright="8000"/>
            </a:blip>
            <a:stretch/>
          </p:blipFill>
          <p:spPr>
            <a:xfrm>
              <a:off x="192240" y="5091120"/>
              <a:ext cx="4142160" cy="838080"/>
            </a:xfrm>
            <a:prstGeom prst="rect">
              <a:avLst/>
            </a:prstGeom>
            <a:ln w="0">
              <a:noFill/>
            </a:ln>
          </p:spPr>
        </p:pic>
        <p:sp>
          <p:nvSpPr>
            <p:cNvPr id="1510" name="TextBox 29"/>
            <p:cNvSpPr/>
            <p:nvPr/>
          </p:nvSpPr>
          <p:spPr>
            <a:xfrm>
              <a:off x="865080" y="5246640"/>
              <a:ext cx="134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tive assessment for accountability</a:t>
              </a:r>
              <a:endParaRPr b="0" lang="en-US" sz="1000" spc="-1" strike="noStrike">
                <a:solidFill>
                  <a:srgbClr val="000000"/>
                </a:solidFill>
                <a:latin typeface="Calibri"/>
              </a:endParaRPr>
            </a:p>
          </p:txBody>
        </p:sp>
        <p:sp>
          <p:nvSpPr>
            <p:cNvPr id="1511" name="TextBox 30"/>
            <p:cNvSpPr/>
            <p:nvPr/>
          </p:nvSpPr>
          <p:spPr>
            <a:xfrm>
              <a:off x="2986200" y="5319720"/>
              <a:ext cx="1379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assessment</a:t>
              </a:r>
              <a:endParaRPr b="0" lang="en-US" sz="1000" spc="-1" strike="noStrike">
                <a:solidFill>
                  <a:srgbClr val="000000"/>
                </a:solidFill>
                <a:latin typeface="Calibri"/>
              </a:endParaRPr>
            </a:p>
          </p:txBody>
        </p:sp>
      </p:grpSp>
      <p:grpSp>
        <p:nvGrpSpPr>
          <p:cNvPr id="1512" name="Group 47"/>
          <p:cNvGrpSpPr/>
          <p:nvPr/>
        </p:nvGrpSpPr>
        <p:grpSpPr>
          <a:xfrm>
            <a:off x="457200" y="2895480"/>
            <a:ext cx="1738440" cy="1828800"/>
            <a:chOff x="457200" y="2895480"/>
            <a:chExt cx="1738440" cy="1828800"/>
          </a:xfrm>
        </p:grpSpPr>
        <p:pic>
          <p:nvPicPr>
            <p:cNvPr id="1513" name="Picture 6" descr="clipboard-faded.png"/>
            <p:cNvPicPr/>
            <p:nvPr/>
          </p:nvPicPr>
          <p:blipFill>
            <a:blip r:embed="rId5">
              <a:lum bright="12000"/>
            </a:blip>
            <a:stretch/>
          </p:blipFill>
          <p:spPr>
            <a:xfrm>
              <a:off x="467280" y="2895480"/>
              <a:ext cx="1728360" cy="1828800"/>
            </a:xfrm>
            <a:prstGeom prst="rect">
              <a:avLst/>
            </a:prstGeom>
            <a:ln w="0">
              <a:noFill/>
            </a:ln>
          </p:spPr>
        </p:pic>
        <p:sp>
          <p:nvSpPr>
            <p:cNvPr id="1514" name="TextBox 39"/>
            <p:cNvSpPr/>
            <p:nvPr/>
          </p:nvSpPr>
          <p:spPr>
            <a:xfrm>
              <a:off x="457200" y="3435120"/>
              <a:ext cx="1676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rly Assessment</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indicator of student knowledge and skills to inform instruction, supports, and PD</a:t>
              </a:r>
              <a:endParaRPr b="0" lang="en-US" sz="1000" spc="-1" strike="noStrike">
                <a:solidFill>
                  <a:srgbClr val="000000"/>
                </a:solidFill>
                <a:latin typeface="Calibri"/>
              </a:endParaRPr>
            </a:p>
          </p:txBody>
        </p:sp>
      </p:grpSp>
      <p:grpSp>
        <p:nvGrpSpPr>
          <p:cNvPr id="1515" name="Group 47"/>
          <p:cNvGrpSpPr/>
          <p:nvPr/>
        </p:nvGrpSpPr>
        <p:grpSpPr>
          <a:xfrm>
            <a:off x="4662360" y="4849920"/>
            <a:ext cx="1143000" cy="1218960"/>
            <a:chOff x="4662360" y="4849920"/>
            <a:chExt cx="1143000" cy="1218960"/>
          </a:xfrm>
        </p:grpSpPr>
        <p:pic>
          <p:nvPicPr>
            <p:cNvPr id="1516" name="Picture 6" descr="clipboard-faded.png"/>
            <p:cNvPicPr/>
            <p:nvPr/>
          </p:nvPicPr>
          <p:blipFill>
            <a:blip r:embed="rId6">
              <a:lum bright="12000"/>
            </a:blip>
            <a:stretch/>
          </p:blipFill>
          <p:spPr>
            <a:xfrm>
              <a:off x="4662360" y="4849920"/>
              <a:ext cx="1143000" cy="1218960"/>
            </a:xfrm>
            <a:prstGeom prst="rect">
              <a:avLst/>
            </a:prstGeom>
            <a:ln w="0">
              <a:noFill/>
            </a:ln>
          </p:spPr>
        </p:pic>
        <p:sp>
          <p:nvSpPr>
            <p:cNvPr id="1517" name="TextBox 35"/>
            <p:cNvSpPr/>
            <p:nvPr/>
          </p:nvSpPr>
          <p:spPr>
            <a:xfrm>
              <a:off x="4662360" y="5209560"/>
              <a:ext cx="114300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A/Literacy</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aking</a:t>
              </a:r>
              <a:endParaRPr b="0" lang="en-US" sz="1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ening</a:t>
              </a:r>
              <a:endParaRPr b="0" lang="en-US" sz="1100" spc="-1" strike="noStrike">
                <a:solidFill>
                  <a:srgbClr val="000000"/>
                </a:solidFill>
                <a:latin typeface="Calibri"/>
              </a:endParaRPr>
            </a:p>
          </p:txBody>
        </p:sp>
      </p:grpSp>
      <p:sp>
        <p:nvSpPr>
          <p:cNvPr id="1518" name="Straight Connector 4"/>
          <p:cNvSpPr/>
          <p:nvPr/>
        </p:nvSpPr>
        <p:spPr>
          <a:xfrm flipH="1">
            <a:off x="5181120" y="4952880"/>
            <a:ext cx="1800" cy="344520"/>
          </a:xfrm>
          <a:prstGeom prst="line">
            <a:avLst/>
          </a:prstGeom>
          <a:ln w="2232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519" name="Straight Arrow Connector 23"/>
          <p:cNvCxnSpPr/>
          <p:nvPr/>
        </p:nvCxnSpPr>
        <p:spPr>
          <a:xfrm flipH="1">
            <a:off x="3445920" y="4849560"/>
            <a:ext cx="3577320" cy="1080"/>
          </a:xfrm>
          <a:prstGeom prst="straightConnector1">
            <a:avLst/>
          </a:prstGeom>
          <a:ln w="22320">
            <a:solidFill>
              <a:srgbClr val="b6dcdf"/>
            </a:solidFill>
            <a:prstDash val="dash"/>
            <a:miter/>
            <a:headEnd len="med" type="arrow" w="med"/>
            <a:tailEnd len="med" type="arrow" w="med"/>
          </a:ln>
        </p:spPr>
      </p:cxnSp>
      <p:sp>
        <p:nvSpPr>
          <p:cNvPr id="1520" name="TextBox 34"/>
          <p:cNvSpPr/>
          <p:nvPr/>
        </p:nvSpPr>
        <p:spPr>
          <a:xfrm>
            <a:off x="533520" y="2235240"/>
            <a:ext cx="4038480" cy="276480"/>
          </a:xfrm>
          <a:prstGeom prst="rect">
            <a:avLst/>
          </a:prstGeom>
          <a:solidFill>
            <a:srgbClr val="ffffff"/>
          </a:solidFill>
          <a:ln w="25560">
            <a:solidFill>
              <a:srgbClr val="72bfc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Arial"/>
              </a:rPr>
              <a:t>Flexible</a:t>
            </a:r>
            <a:endParaRPr b="0" lang="en-US" sz="1200" spc="-1" strike="noStrike">
              <a:solidFill>
                <a:srgbClr val="000000"/>
              </a:solidFill>
              <a:latin typeface="Calibri"/>
            </a:endParaRPr>
          </a:p>
        </p:txBody>
      </p:sp>
      <p:cxnSp>
        <p:nvCxnSpPr>
          <p:cNvPr id="1521" name="Straight Arrow Connector 38"/>
          <p:cNvCxnSpPr/>
          <p:nvPr/>
        </p:nvCxnSpPr>
        <p:spPr>
          <a:xfrm flipH="1">
            <a:off x="533160" y="2723040"/>
            <a:ext cx="3962880" cy="19800"/>
          </a:xfrm>
          <a:prstGeom prst="straightConnector1">
            <a:avLst/>
          </a:prstGeom>
          <a:ln w="22320">
            <a:solidFill>
              <a:srgbClr val="b6dcdf"/>
            </a:solidFill>
            <a:prstDash val="dash"/>
            <a:miter/>
            <a:headEnd len="med" type="arrow" w="med"/>
            <a:tailEnd len="med" type="arrow" w="med"/>
          </a:ln>
        </p:spPr>
      </p:cxnSp>
      <p:grpSp>
        <p:nvGrpSpPr>
          <p:cNvPr id="1522" name="Group 47"/>
          <p:cNvGrpSpPr/>
          <p:nvPr/>
        </p:nvGrpSpPr>
        <p:grpSpPr>
          <a:xfrm>
            <a:off x="2666880" y="2895480"/>
            <a:ext cx="1905120" cy="1828800"/>
            <a:chOff x="2666880" y="2895480"/>
            <a:chExt cx="1905120" cy="1828800"/>
          </a:xfrm>
        </p:grpSpPr>
        <p:pic>
          <p:nvPicPr>
            <p:cNvPr id="1523" name="Picture 6" descr="clipboard-faded.png"/>
            <p:cNvPicPr/>
            <p:nvPr/>
          </p:nvPicPr>
          <p:blipFill>
            <a:blip r:embed="rId7">
              <a:lum bright="12000"/>
            </a:blip>
            <a:stretch/>
          </p:blipFill>
          <p:spPr>
            <a:xfrm>
              <a:off x="2753280" y="2895480"/>
              <a:ext cx="1728360" cy="1828800"/>
            </a:xfrm>
            <a:prstGeom prst="rect">
              <a:avLst/>
            </a:prstGeom>
            <a:ln w="0">
              <a:noFill/>
            </a:ln>
          </p:spPr>
        </p:pic>
        <p:sp>
          <p:nvSpPr>
            <p:cNvPr id="1524" name="TextBox 47"/>
            <p:cNvSpPr/>
            <p:nvPr/>
          </p:nvSpPr>
          <p:spPr>
            <a:xfrm>
              <a:off x="2666880" y="3435120"/>
              <a:ext cx="1905120" cy="25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5" name="TextBox 48"/>
          <p:cNvSpPr/>
          <p:nvPr/>
        </p:nvSpPr>
        <p:spPr>
          <a:xfrm>
            <a:off x="2743200" y="3429000"/>
            <a:ext cx="1676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id-Year Assessment</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based</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s on hard to measure standards</a:t>
            </a: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summative</a:t>
            </a:r>
            <a:endParaRPr b="0" lang="en-US" sz="1000" spc="-1" strike="noStrike">
              <a:solidFill>
                <a:srgbClr val="000000"/>
              </a:solidFill>
              <a:latin typeface="Calibri"/>
            </a:endParaRPr>
          </a:p>
        </p:txBody>
      </p:sp>
      <p:sp>
        <p:nvSpPr>
          <p:cNvPr id="1526" name="TextBox 31"/>
          <p:cNvSpPr/>
          <p:nvPr/>
        </p:nvSpPr>
        <p:spPr>
          <a:xfrm>
            <a:off x="6480" y="6124680"/>
            <a:ext cx="600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ea typeface="ＭＳ Ｐゴシック"/>
              </a:rPr>
              <a:t>Source: Center for K–12 Assessment &amp; Performance Management at ETS</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31840" y="77400"/>
            <a:ext cx="862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marter Balanced Assessment Consortium</a:t>
            </a:r>
            <a:endParaRPr b="0" lang="en-US" sz="2800" spc="-1" strike="noStrike">
              <a:solidFill>
                <a:srgbClr val="ffffff"/>
              </a:solidFill>
              <a:latin typeface="Arial Black"/>
            </a:endParaRPr>
          </a:p>
        </p:txBody>
      </p:sp>
      <p:graphicFrame>
        <p:nvGraphicFramePr>
          <p:cNvPr id="1528" name=""/>
          <p:cNvGraphicFramePr/>
          <p:nvPr/>
        </p:nvGraphicFramePr>
        <p:xfrm>
          <a:off x="858960" y="3300480"/>
          <a:ext cx="7412040" cy="1104840"/>
        </p:xfrm>
        <a:graphic>
          <a:graphicData uri="http://schemas.openxmlformats.org/drawingml/2006/table">
            <a:tbl>
              <a:tblPr/>
              <a:tblGrid>
                <a:gridCol w="7185240"/>
                <a:gridCol w="226800"/>
              </a:tblGrid>
              <a:tr h="368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w="5760">
                      <a:solidFill>
                        <a:srgbClr val="000000"/>
                      </a:solidFill>
                    </a:lnT>
                    <a:lnB w="5760">
                      <a:solidFill>
                        <a:srgbClr val="000000"/>
                      </a:solidFill>
                    </a:lnB>
                    <a:noFill/>
                  </a:tcPr>
                </a:tc>
              </a:tr>
              <a:tr h="739800">
                <a:tc>
                  <a:txBody>
                    <a:bodyPr lIns="95400" rIns="95400" tIns="95400" bIns="9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5400" marR="95400">
                    <a:lnL>
                      <a:noFill/>
                    </a:lnL>
                    <a:lnR>
                      <a:noFill/>
                    </a:lnR>
                    <a:lnT>
                      <a:noFill/>
                    </a:lnT>
                    <a:lnB>
                      <a:noFill/>
                    </a:lnB>
                    <a:solidFill>
                      <a:srgbClr val="ffffff"/>
                    </a:solidFill>
                  </a:tcPr>
                </a:tc>
                <a:tc>
                  <a:txBody>
                    <a:bodyPr lIns="95400" rIns="95400" tIns="95400" bIns="9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txBody>
                  <a:tcPr anchor="t" marL="95400" marR="95400">
                    <a:lnL>
                      <a:noFill/>
                    </a:lnL>
                    <a:lnR>
                      <a:noFill/>
                    </a:lnR>
                    <a:lnT w="5760">
                      <a:solidFill>
                        <a:srgbClr val="000000"/>
                      </a:solidFill>
                    </a:lnT>
                    <a:lnB>
                      <a:noFill/>
                    </a:lnB>
                    <a:solidFill>
                      <a:srgbClr val="ffffff"/>
                    </a:solidFill>
                  </a:tcPr>
                </a:tc>
              </a:tr>
            </a:tbl>
          </a:graphicData>
        </a:graphic>
      </p:graphicFrame>
      <p:pic>
        <p:nvPicPr>
          <p:cNvPr id="1529" name="Picture 1" descr=""/>
          <p:cNvPicPr/>
          <p:nvPr/>
        </p:nvPicPr>
        <p:blipFill>
          <a:blip r:embed="rId1"/>
          <a:stretch/>
        </p:blipFill>
        <p:spPr>
          <a:xfrm>
            <a:off x="612720" y="1300320"/>
            <a:ext cx="8131320" cy="512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3" descr=""/>
          <p:cNvPicPr/>
          <p:nvPr/>
        </p:nvPicPr>
        <p:blipFill>
          <a:blip r:embed="rId1"/>
          <a:stretch/>
        </p:blipFill>
        <p:spPr>
          <a:xfrm>
            <a:off x="0" y="503280"/>
            <a:ext cx="9144000" cy="5292720"/>
          </a:xfrm>
          <a:prstGeom prst="rect">
            <a:avLst/>
          </a:prstGeom>
          <a:ln w="0">
            <a:noFill/>
          </a:ln>
        </p:spPr>
      </p:pic>
      <p:sp>
        <p:nvSpPr>
          <p:cNvPr id="1531" name="TextBox 2"/>
          <p:cNvSpPr/>
          <p:nvPr/>
        </p:nvSpPr>
        <p:spPr>
          <a:xfrm>
            <a:off x="0" y="6210360"/>
            <a:ext cx="600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ea typeface="ＭＳ Ｐゴシック"/>
              </a:rPr>
              <a:t>Source: Center for K–12 Assessment &amp; Performance Management at ET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2"/>
          <p:cNvSpPr/>
          <p:nvPr/>
        </p:nvSpPr>
        <p:spPr>
          <a:xfrm>
            <a:off x="299880" y="0"/>
            <a:ext cx="8844120" cy="12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nsortia Similarities</a:t>
            </a:r>
            <a:endParaRPr b="0" lang="en-US" sz="4000" spc="-1" strike="noStrike">
              <a:solidFill>
                <a:srgbClr val="000000"/>
              </a:solidFill>
              <a:latin typeface="Calibri"/>
            </a:endParaRPr>
          </a:p>
        </p:txBody>
      </p:sp>
      <p:sp>
        <p:nvSpPr>
          <p:cNvPr id="1533" name=""/>
          <p:cNvSpPr txBox="1"/>
          <p:nvPr/>
        </p:nvSpPr>
        <p:spPr>
          <a:xfrm>
            <a:off x="228600" y="1390320"/>
            <a:ext cx="8686800" cy="4832280"/>
          </a:xfrm>
          <a:prstGeom prst="rect">
            <a:avLst/>
          </a:prstGeom>
          <a:noFill/>
          <a:ln w="0">
            <a:noFill/>
          </a:ln>
        </p:spPr>
        <p:txBody>
          <a:bodyPr anchor="t">
            <a:normAutofit fontScale="98000"/>
          </a:bodyPr>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ond multiple choice and short answer tests; will include performance task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depth of understanding and higher-order thinking skill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based, with quicker turn-around for scoring</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recise, actionable information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teractive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writing (particularly writing to sources) than current tests</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libraries of resources, including released items, formative assessments, data-management system, and professional development</a:t>
            </a:r>
            <a:endParaRPr b="0" lang="en-US" sz="2400" spc="-1" strike="noStrike">
              <a:solidFill>
                <a:srgbClr val="000000"/>
              </a:solidFill>
              <a:latin typeface="Arial"/>
            </a:endParaRPr>
          </a:p>
          <a:p>
            <a:pPr marL="335880" indent="-3358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2"/>
          <p:cNvSpPr/>
          <p:nvPr/>
        </p:nvSpPr>
        <p:spPr>
          <a:xfrm>
            <a:off x="409680" y="77760"/>
            <a:ext cx="87343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nsortia Differences</a:t>
            </a:r>
            <a:endParaRPr b="0" lang="en-US" sz="4000" spc="-1" strike="noStrike">
              <a:solidFill>
                <a:srgbClr val="000000"/>
              </a:solidFill>
              <a:latin typeface="Calibri"/>
            </a:endParaRPr>
          </a:p>
        </p:txBody>
      </p:sp>
      <p:sp>
        <p:nvSpPr>
          <p:cNvPr id="1535" name=""/>
          <p:cNvSpPr txBox="1"/>
          <p:nvPr/>
        </p:nvSpPr>
        <p:spPr>
          <a:xfrm>
            <a:off x="228240" y="1371600"/>
            <a:ext cx="8658360" cy="4991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based adaptive </a:t>
            </a:r>
            <a:r>
              <a:rPr b="0" lang="en-US" sz="2800" spc="-1" strike="noStrike">
                <a:solidFill>
                  <a:srgbClr val="000000"/>
                </a:solidFill>
                <a:latin typeface="Arial"/>
              </a:rPr>
              <a:t>testing is used in SMARTER Balanced Consortium. PARCC has computer-based, but not adaptive, tes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scoring </a:t>
            </a:r>
            <a:r>
              <a:rPr b="0" lang="en-US" sz="2800" spc="-1" strike="noStrike">
                <a:solidFill>
                  <a:srgbClr val="000000"/>
                </a:solidFill>
                <a:latin typeface="Arial"/>
              </a:rPr>
              <a:t>is emphasized in SMARTER Balanced when evaluating performance tasks.</a:t>
            </a:r>
            <a:endParaRPr b="0" lang="en-US" sz="28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320400" y="77400"/>
            <a:ext cx="835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formance Event Sample: Math</a:t>
            </a:r>
            <a:endParaRPr b="0" lang="en-US" sz="3200" spc="-1" strike="noStrike">
              <a:solidFill>
                <a:srgbClr val="ffffff"/>
              </a:solidFill>
              <a:latin typeface="Arial Black"/>
            </a:endParaRPr>
          </a:p>
        </p:txBody>
      </p:sp>
      <p:pic>
        <p:nvPicPr>
          <p:cNvPr id="1537" name="Picture 2" descr=""/>
          <p:cNvPicPr/>
          <p:nvPr/>
        </p:nvPicPr>
        <p:blipFill>
          <a:blip r:embed="rId1"/>
          <a:stretch/>
        </p:blipFill>
        <p:spPr>
          <a:xfrm>
            <a:off x="320760" y="1387440"/>
            <a:ext cx="8235720" cy="5025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formance Event Sample: Math </a:t>
            </a:r>
            <a:r>
              <a:rPr b="0" i="1" lang="en-US" sz="3200" spc="-1" strike="noStrike">
                <a:solidFill>
                  <a:srgbClr val="ffffff"/>
                </a:solidFill>
                <a:latin typeface="Arial Black"/>
              </a:rPr>
              <a:t>continued</a:t>
            </a:r>
            <a:endParaRPr b="0" lang="en-US" sz="3200" spc="-1" strike="noStrike">
              <a:solidFill>
                <a:srgbClr val="ffffff"/>
              </a:solidFill>
              <a:latin typeface="Arial Black"/>
            </a:endParaRPr>
          </a:p>
        </p:txBody>
      </p:sp>
      <p:pic>
        <p:nvPicPr>
          <p:cNvPr id="1539" name="Picture 3" descr=""/>
          <p:cNvPicPr/>
          <p:nvPr/>
        </p:nvPicPr>
        <p:blipFill>
          <a:blip r:embed="rId1"/>
          <a:stretch/>
        </p:blipFill>
        <p:spPr>
          <a:xfrm>
            <a:off x="109440" y="1392120"/>
            <a:ext cx="9034560" cy="2390760"/>
          </a:xfrm>
          <a:prstGeom prst="rect">
            <a:avLst/>
          </a:prstGeom>
          <a:ln w="0">
            <a:noFill/>
          </a:ln>
        </p:spPr>
      </p:pic>
      <p:pic>
        <p:nvPicPr>
          <p:cNvPr id="1540" name="Picture 4" descr=""/>
          <p:cNvPicPr/>
          <p:nvPr/>
        </p:nvPicPr>
        <p:blipFill>
          <a:blip r:embed="rId2"/>
          <a:stretch/>
        </p:blipFill>
        <p:spPr>
          <a:xfrm>
            <a:off x="109440" y="3916440"/>
            <a:ext cx="8750520" cy="204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272520" y="95400"/>
            <a:ext cx="7651800" cy="104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Overview of the Initiative</a:t>
            </a:r>
            <a:endParaRPr b="0" lang="en-US" sz="3600" spc="-1" strike="noStrike">
              <a:solidFill>
                <a:srgbClr val="ffffff"/>
              </a:solidFill>
              <a:latin typeface="Arial Black"/>
            </a:endParaRPr>
          </a:p>
        </p:txBody>
      </p:sp>
      <p:sp>
        <p:nvSpPr>
          <p:cNvPr id="1475" name=""/>
          <p:cNvSpPr txBox="1"/>
          <p:nvPr/>
        </p:nvSpPr>
        <p:spPr>
          <a:xfrm>
            <a:off x="254160" y="1726920"/>
            <a:ext cx="8686800" cy="4190760"/>
          </a:xfrm>
          <a:prstGeom prst="rect">
            <a:avLst/>
          </a:prstGeom>
          <a:noFill/>
          <a:ln w="0">
            <a:noFill/>
          </a:ln>
        </p:spPr>
        <p:txBody>
          <a:bodyPr anchor="t">
            <a:normAutofit/>
          </a:bodyPr>
          <a:p>
            <a:pPr>
              <a:lnSpc>
                <a:spcPct val="90000"/>
              </a:lnSpc>
              <a:spcBef>
                <a:spcPts val="924"/>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State-led and developed common core standards for K-12 in English/language arts and mathematics</a:t>
            </a:r>
            <a:endParaRPr b="0" lang="en-US" sz="37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924"/>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nitiative led by Council of Chief State School Officers (CCSSO) and National Governors Association (NGA)</a:t>
            </a:r>
            <a:endParaRPr b="0" lang="en-US" sz="3700" spc="-1" strike="noStrike">
              <a:solidFill>
                <a:srgbClr val="000000"/>
              </a:solidFill>
              <a:latin typeface="Arial"/>
            </a:endParaRPr>
          </a:p>
          <a:p>
            <a:pP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6b6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erformance Event Sample: </a:t>
            </a:r>
            <a:br>
              <a:rPr sz="2400"/>
            </a:br>
            <a:r>
              <a:rPr b="0" lang="en-US" sz="2400" spc="-1" strike="noStrike">
                <a:solidFill>
                  <a:srgbClr val="ffffff"/>
                </a:solidFill>
                <a:latin typeface="Arial Black"/>
              </a:rPr>
              <a:t>Literacy in Science/Technical Subjects</a:t>
            </a:r>
            <a:endParaRPr b="0" lang="en-US" sz="2400" spc="-1" strike="noStrike">
              <a:solidFill>
                <a:srgbClr val="ffffff"/>
              </a:solidFill>
              <a:latin typeface="Arial Black"/>
            </a:endParaRPr>
          </a:p>
        </p:txBody>
      </p:sp>
      <p:sp>
        <p:nvSpPr>
          <p:cNvPr id="1542" name=""/>
          <p:cNvSpPr txBox="1"/>
          <p:nvPr/>
        </p:nvSpPr>
        <p:spPr>
          <a:xfrm>
            <a:off x="340920" y="1433520"/>
            <a:ext cx="8366040" cy="49132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Verdana"/>
              </a:rPr>
              <a:t>Compare what the latest science tells us about Genetically Modified food against the arguments offered for and against Genetically Modified food.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ea typeface="Verdana"/>
              </a:rPr>
              <a:t>Evaluate the hypotheses, data, analysis, and conclusions of each side, including determining the extent to which each side in the debate over Genetically Modified food relies on the available science, argues from an economic perspective or appeals to political and emotional concerns</a:t>
            </a:r>
            <a:r>
              <a:rPr b="0" lang="en-US" sz="2300" spc="-1" strike="noStrike">
                <a:solidFill>
                  <a:srgbClr val="000000"/>
                </a:solidFill>
                <a:latin typeface="Arial"/>
                <a:ea typeface="Verdana"/>
              </a:rPr>
              <a:t>.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Verdana"/>
              </a:rPr>
              <a:t>Verify the data from each author and corroborate or challenge the conclusions with other sources of information.</a:t>
            </a:r>
            <a:endParaRPr b="0" lang="en-US" sz="2300" spc="-1" strike="noStrike">
              <a:solidFill>
                <a:srgbClr val="000000"/>
              </a:solidFill>
              <a:latin typeface="Arial"/>
            </a:endParaRPr>
          </a:p>
          <a:p>
            <a:pPr>
              <a:spcBef>
                <a:spcPts val="575"/>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190440" y="-360"/>
            <a:ext cx="880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lementation Timeline and Themes</a:t>
            </a:r>
            <a:endParaRPr b="0" lang="en-US" sz="3200" spc="-1" strike="noStrike">
              <a:solidFill>
                <a:srgbClr val="ffffff"/>
              </a:solidFill>
              <a:latin typeface="Arial Black"/>
            </a:endParaRPr>
          </a:p>
        </p:txBody>
      </p:sp>
      <p:sp>
        <p:nvSpPr>
          <p:cNvPr id="1544" name=""/>
          <p:cNvSpPr txBox="1"/>
          <p:nvPr/>
        </p:nvSpPr>
        <p:spPr>
          <a:xfrm>
            <a:off x="340920" y="1433520"/>
            <a:ext cx="8366040" cy="4913280"/>
          </a:xfrm>
          <a:prstGeom prst="rect">
            <a:avLst/>
          </a:prstGeom>
          <a:noFill/>
          <a:ln w="0">
            <a:noFill/>
          </a:ln>
        </p:spPr>
        <p:txBody>
          <a:bodyPr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Some states implementing this year in grades K-2. Full implementation in handful of states and district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Key areas of support states/districts are seeking:</a:t>
            </a:r>
            <a:endParaRPr b="0" lang="en-US" sz="24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Instructional materials: what take away from what you’re teaching along with what you need to add</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Professional development: beyond awareness of the standards – professional learning communities, job-embedded professional development</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Instruction and assessments: depth of understanding required of students</a:t>
            </a:r>
            <a:endParaRPr b="0" lang="en-US" sz="2000" spc="-1" strike="noStrike">
              <a:solidFill>
                <a:srgbClr val="000000"/>
              </a:solidFill>
              <a:latin typeface="Arial"/>
            </a:endParaRPr>
          </a:p>
          <a:p>
            <a:pPr lvl="1" marL="743040" indent="-285840">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Literacy in content areas</a:t>
            </a:r>
            <a:endParaRPr b="0" lang="en-US" sz="2000" spc="-1" strike="noStrike">
              <a:solidFill>
                <a:srgbClr val="000000"/>
              </a:solidFill>
              <a:latin typeface="Arial"/>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Mathematics Common Core Coalition (MC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0" y="12204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ources</a:t>
            </a:r>
            <a:endParaRPr b="0" lang="en-US" sz="3200" spc="-1" strike="noStrike">
              <a:solidFill>
                <a:srgbClr val="ffffff"/>
              </a:solidFill>
              <a:latin typeface="Arial Black"/>
            </a:endParaRPr>
          </a:p>
        </p:txBody>
      </p:sp>
      <p:sp>
        <p:nvSpPr>
          <p:cNvPr id="1546" name=""/>
          <p:cNvSpPr txBox="1"/>
          <p:nvPr/>
        </p:nvSpPr>
        <p:spPr>
          <a:xfrm>
            <a:off x="258480" y="1460160"/>
            <a:ext cx="8529480" cy="488628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0000"/>
                </a:solidFill>
                <a:uFillTx/>
                <a:latin typeface="Arial"/>
                <a:ea typeface="Verdana"/>
                <a:hlinkClick r:id="rId1"/>
              </a:rPr>
              <a:t>www.corestandards.org</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0000"/>
                </a:solidFill>
                <a:uFillTx/>
                <a:latin typeface="Arial"/>
                <a:ea typeface="Verdana"/>
                <a:hlinkClick r:id="rId2"/>
              </a:rPr>
              <a:t>www.ccsso.org</a:t>
            </a:r>
            <a:r>
              <a:rPr b="0" lang="en-US" sz="4400" spc="-1" strike="noStrike">
                <a:solidFill>
                  <a:srgbClr val="000000"/>
                </a:solidFill>
                <a:latin typeface="Arial"/>
                <a:ea typeface="Verdana"/>
              </a:rPr>
              <a:t> </a:t>
            </a:r>
            <a:endParaRPr b="0" lang="en-US" sz="4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Carrie Heath Phillip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Program Director, Common Core State Standard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Council of Chief State School Officer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ea typeface="Verdana"/>
                <a:hlinkClick r:id="rId3"/>
              </a:rPr>
              <a:t>carrieh@ccsso.org</a:t>
            </a:r>
            <a:r>
              <a:rPr b="0" lang="en-US" sz="2800" spc="-1" strike="noStrike">
                <a:solidFill>
                  <a:srgbClr val="000000"/>
                </a:solidFill>
                <a:latin typeface="Arial"/>
                <a:ea typeface="Verdana"/>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Verdana"/>
              </a:rPr>
              <a:t>Twitter: @cheathphill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272520" y="165240"/>
            <a:ext cx="8718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Why did governors and chiefs do this?</a:t>
            </a:r>
            <a:endParaRPr b="0" lang="en-US" sz="3200" spc="-1" strike="noStrike">
              <a:solidFill>
                <a:srgbClr val="ffffff"/>
              </a:solidFill>
              <a:latin typeface="Arial Black"/>
            </a:endParaRPr>
          </a:p>
        </p:txBody>
      </p:sp>
      <p:sp>
        <p:nvSpPr>
          <p:cNvPr id="1477" name=""/>
          <p:cNvSpPr txBox="1"/>
          <p:nvPr/>
        </p:nvSpPr>
        <p:spPr>
          <a:xfrm>
            <a:off x="380520" y="1337760"/>
            <a:ext cx="8504280" cy="5008680"/>
          </a:xfrm>
          <a:prstGeom prst="rect">
            <a:avLst/>
          </a:prstGeom>
          <a:noFill/>
          <a:ln w="0">
            <a:noFill/>
          </a:ln>
        </p:spPr>
        <p:txBody>
          <a:bodyPr anchor="t">
            <a:normAutofit/>
          </a:bodyPr>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tudents with the knowledge and skills they need to succeed in </a:t>
            </a:r>
            <a:r>
              <a:rPr b="1" lang="en-US" sz="2800" spc="-1" strike="noStrike">
                <a:solidFill>
                  <a:srgbClr val="000000"/>
                </a:solidFill>
                <a:latin typeface="Arial"/>
              </a:rPr>
              <a:t>college and work</a:t>
            </a: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t>
            </a:r>
            <a:r>
              <a:rPr b="1" lang="en-US" sz="2800" spc="-1" strike="noStrike">
                <a:solidFill>
                  <a:srgbClr val="000000"/>
                </a:solidFill>
                <a:latin typeface="Arial"/>
              </a:rPr>
              <a:t>consistent expectations </a:t>
            </a:r>
            <a:r>
              <a:rPr b="0" lang="en-US" sz="2800" spc="-1" strike="noStrike">
                <a:solidFill>
                  <a:srgbClr val="000000"/>
                </a:solidFill>
                <a:latin typeface="Arial"/>
              </a:rPr>
              <a:t>regardless of a student’s zip code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ates more </a:t>
            </a:r>
            <a:r>
              <a:rPr b="1" lang="en-US" sz="2800" spc="-1" strike="noStrike">
                <a:solidFill>
                  <a:srgbClr val="000000"/>
                </a:solidFill>
                <a:latin typeface="Arial"/>
              </a:rPr>
              <a:t>globally competitiv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ors, parents, and students with </a:t>
            </a:r>
            <a:r>
              <a:rPr b="1" lang="en-US" sz="2800" spc="-1" strike="noStrike">
                <a:solidFill>
                  <a:srgbClr val="000000"/>
                </a:solidFill>
                <a:latin typeface="Arial"/>
              </a:rPr>
              <a:t>clear, focused guideposts</a:t>
            </a: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r>
              <a:rPr b="1" lang="en-US" sz="2800" spc="-1" strike="noStrike">
                <a:solidFill>
                  <a:srgbClr val="000000"/>
                </a:solidFill>
                <a:latin typeface="Arial"/>
              </a:rPr>
              <a:t> economies of scale </a:t>
            </a:r>
            <a:endParaRPr b="0" lang="en-US" sz="2800" spc="-1" strike="noStrike">
              <a:solidFill>
                <a:srgbClr val="000000"/>
              </a:solidFill>
              <a:latin typeface="Arial"/>
            </a:endParaRPr>
          </a:p>
          <a:p>
            <a:pPr marL="343080" indent="-343080">
              <a:lnSpc>
                <a:spcPct val="80000"/>
              </a:lnSpc>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llege- and Career-Readiness as the Anchor</a:t>
            </a:r>
            <a:endParaRPr b="0" lang="en-US" sz="4000" spc="-1" strike="noStrike">
              <a:solidFill>
                <a:srgbClr val="ffffff"/>
              </a:solidFill>
              <a:latin typeface="Arial Black"/>
            </a:endParaRPr>
          </a:p>
        </p:txBody>
      </p:sp>
      <p:sp>
        <p:nvSpPr>
          <p:cNvPr id="1479" name="PlaceHolder 2"/>
          <p:cNvSpPr>
            <a:spLocks noGrp="1"/>
          </p:cNvSpPr>
          <p:nvPr>
            <p:ph/>
          </p:nvPr>
        </p:nvSpPr>
        <p:spPr>
          <a:xfrm>
            <a:off x="252000" y="1450440"/>
            <a:ext cx="8559720" cy="4962600"/>
          </a:xfrm>
          <a:prstGeom prst="rect">
            <a:avLst/>
          </a:prstGeom>
          <a:noFill/>
          <a:ln w="0">
            <a:noFill/>
          </a:ln>
        </p:spPr>
        <p:txBody>
          <a:bodyPr anchor="t">
            <a:normAutofit/>
          </a:bodyPr>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areer-readiness and college-readiness levels are very similar </a:t>
            </a:r>
            <a:endParaRPr b="0" lang="en-US" sz="3200" spc="-1" strike="noStrike">
              <a:solidFill>
                <a:srgbClr val="000000"/>
              </a:solidFill>
              <a:latin typeface="Arial"/>
            </a:endParaRPr>
          </a:p>
          <a:p>
            <a:pPr marL="343080" indent="-34308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re is a gap between high school expectations for students and what students are expected to do in college/career</a:t>
            </a:r>
            <a:endParaRPr b="0" lang="en-US" sz="3200" spc="-1" strike="noStrike">
              <a:solidFill>
                <a:srgbClr val="000000"/>
              </a:solidFill>
              <a:latin typeface="Arial"/>
            </a:endParaRPr>
          </a:p>
          <a:p>
            <a:pPr lvl="1" marL="743040" indent="-285840">
              <a:spcBef>
                <a:spcPts val="799"/>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ng high school graduates, only half are academically prepared for postsecondary education (Greene &amp; Winters, 200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55680" y="164880"/>
            <a:ext cx="7873920" cy="91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atures of the standards</a:t>
            </a:r>
            <a:endParaRPr b="0" lang="en-US" sz="4000" spc="-1" strike="noStrike">
              <a:solidFill>
                <a:srgbClr val="ffffff"/>
              </a:solidFill>
              <a:latin typeface="Arial Black"/>
            </a:endParaRPr>
          </a:p>
        </p:txBody>
      </p:sp>
      <p:sp>
        <p:nvSpPr>
          <p:cNvPr id="1481" name="PlaceHolder 2"/>
          <p:cNvSpPr>
            <a:spLocks noGrp="1"/>
          </p:cNvSpPr>
          <p:nvPr>
            <p:ph/>
          </p:nvPr>
        </p:nvSpPr>
        <p:spPr>
          <a:xfrm>
            <a:off x="259920" y="1665000"/>
            <a:ext cx="8674200" cy="4792680"/>
          </a:xfrm>
          <a:prstGeom prst="rect">
            <a:avLst/>
          </a:prstGeom>
          <a:noFill/>
          <a:ln w="0">
            <a:noFill/>
          </a:ln>
        </p:spPr>
        <p:txBody>
          <a:bodyPr anchor="t">
            <a:normAutofit/>
          </a:bodyPr>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ed with college and work expectatio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and coherent</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igorous content and application of knowledge through high-order skill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on strengths and lessons of current state standard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ly benchmarked</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vidence and research</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246240" y="177840"/>
            <a:ext cx="847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tandards Development Process</a:t>
            </a:r>
            <a:endParaRPr b="0" lang="en-US" sz="3600" spc="-1" strike="noStrike">
              <a:solidFill>
                <a:srgbClr val="ffffff"/>
              </a:solidFill>
              <a:latin typeface="Arial Black"/>
            </a:endParaRPr>
          </a:p>
        </p:txBody>
      </p:sp>
      <p:sp>
        <p:nvSpPr>
          <p:cNvPr id="1483" name="PlaceHolder 2"/>
          <p:cNvSpPr>
            <a:spLocks noGrp="1"/>
          </p:cNvSpPr>
          <p:nvPr>
            <p:ph/>
          </p:nvPr>
        </p:nvSpPr>
        <p:spPr>
          <a:xfrm>
            <a:off x="387000" y="1511280"/>
            <a:ext cx="8210520" cy="4546800"/>
          </a:xfrm>
          <a:prstGeom prst="rect">
            <a:avLst/>
          </a:prstGeom>
          <a:noFill/>
          <a:ln w="0">
            <a:noFill/>
          </a:ln>
        </p:spPr>
        <p:txBody>
          <a:bodyPr anchor="t">
            <a:normAutofit/>
          </a:bodyPr>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and career-readiness standards for English/language arts and mathematics developed summer of 2009</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college and career readiness standards, K-12 learning progressions develope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omment period with 10,000 response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tandards released on June 2, 2010.</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TextBox 6"/>
          <p:cNvSpPr/>
          <p:nvPr/>
        </p:nvSpPr>
        <p:spPr>
          <a:xfrm>
            <a:off x="0" y="583416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44 states and D.C. have fully adopted the Common Core State Standards; 1 state has provisionally adopted the standards; and 1 state has adopted only the ELA standards.</a:t>
            </a:r>
            <a:endParaRPr b="0" lang="en-US" sz="1400" spc="-1" strike="noStrike">
              <a:solidFill>
                <a:srgbClr val="000000"/>
              </a:solidFill>
              <a:latin typeface="Calibri"/>
            </a:endParaRPr>
          </a:p>
        </p:txBody>
      </p:sp>
      <p:sp>
        <p:nvSpPr>
          <p:cNvPr id="1485" name="TextBox 2"/>
          <p:cNvSpPr/>
          <p:nvPr/>
        </p:nvSpPr>
        <p:spPr>
          <a:xfrm>
            <a:off x="304920" y="304920"/>
            <a:ext cx="86104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Core State Standards Adoptio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of September 2011)</a:t>
            </a:r>
            <a:endParaRPr b="0" lang="en-US" sz="1200" spc="-1" strike="noStrike">
              <a:solidFill>
                <a:srgbClr val="000000"/>
              </a:solidFill>
              <a:latin typeface="Calibri"/>
            </a:endParaRPr>
          </a:p>
        </p:txBody>
      </p:sp>
      <p:pic>
        <p:nvPicPr>
          <p:cNvPr id="1486" name="Picture 2" descr=""/>
          <p:cNvPicPr/>
          <p:nvPr/>
        </p:nvPicPr>
        <p:blipFill>
          <a:blip r:embed="rId1"/>
          <a:stretch/>
        </p:blipFill>
        <p:spPr>
          <a:xfrm>
            <a:off x="1547640" y="1038240"/>
            <a:ext cx="6048720" cy="4781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th Standards: Design and Organization</a:t>
            </a:r>
            <a:endParaRPr b="0" lang="en-US" sz="3600" spc="-1" strike="noStrike">
              <a:solidFill>
                <a:srgbClr val="ffffff"/>
              </a:solidFill>
              <a:latin typeface="Arial Black"/>
            </a:endParaRPr>
          </a:p>
        </p:txBody>
      </p:sp>
      <p:sp>
        <p:nvSpPr>
          <p:cNvPr id="1488" name=""/>
          <p:cNvSpPr txBox="1"/>
          <p:nvPr/>
        </p:nvSpPr>
        <p:spPr>
          <a:xfrm>
            <a:off x="450720" y="1466640"/>
            <a:ext cx="8229600" cy="464796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for Mathematical Practice</a:t>
            </a:r>
            <a:endParaRPr b="0" lang="en-US" sz="24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y across all grade levels</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habits of mind of a mathematically expert student</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for Mathematical Content</a:t>
            </a:r>
            <a:endParaRPr b="0" lang="en-US" sz="24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8 standards presented by grade level</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chool standards presented by conceptual them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endix</a:t>
            </a:r>
            <a:r>
              <a:rPr b="0" lang="en-US"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ing high school math courses based on the Common Core State Standards</a:t>
            </a:r>
            <a:endParaRPr b="0" lang="en-US" sz="2200" spc="-1" strike="noStrike">
              <a:solidFill>
                <a:srgbClr val="000000"/>
              </a:solidFill>
              <a:latin typeface="Arial"/>
            </a:endParaRPr>
          </a:p>
          <a:p>
            <a:pPr marL="457200" indent="-457200">
              <a:spcBef>
                <a:spcPts val="550"/>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450720" y="77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igh School </a:t>
            </a:r>
            <a:endParaRPr b="0" lang="en-US" sz="3200" spc="-1" strike="noStrike">
              <a:solidFill>
                <a:srgbClr val="ffffff"/>
              </a:solidFill>
              <a:latin typeface="Arial Black"/>
            </a:endParaRPr>
          </a:p>
        </p:txBody>
      </p:sp>
      <p:sp>
        <p:nvSpPr>
          <p:cNvPr id="1490" name=""/>
          <p:cNvSpPr txBox="1"/>
          <p:nvPr/>
        </p:nvSpPr>
        <p:spPr>
          <a:xfrm>
            <a:off x="457200" y="1460520"/>
            <a:ext cx="8686800" cy="4495680"/>
          </a:xfrm>
          <a:prstGeom prst="rect">
            <a:avLst/>
          </a:prstGeom>
          <a:noFill/>
          <a:ln w="0">
            <a:noFill/>
          </a:ln>
        </p:spPr>
        <p:txBody>
          <a:bodyPr anchor="t">
            <a:normAutofit fontScale="95000"/>
          </a:bodyPr>
          <a:p>
            <a:pPr marL="434160" indent="-43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ual themes in high school</a:t>
            </a:r>
            <a:endParaRPr b="0" lang="en-US" sz="28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and Quantity</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bra</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y</a:t>
            </a:r>
            <a:endParaRPr b="0" lang="en-US" sz="24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and Probability</a:t>
            </a:r>
            <a:endParaRPr b="0" lang="en-US" sz="2400" spc="-1" strike="noStrike">
              <a:solidFill>
                <a:srgbClr val="000000"/>
              </a:solidFill>
              <a:latin typeface="Arial"/>
            </a:endParaRPr>
          </a:p>
          <a:p>
            <a:pPr marL="434160" indent="-43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34160" indent="-43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ge and career readiness threshold</a:t>
            </a:r>
            <a:endParaRPr b="0" lang="en-US" sz="2800" spc="-1" strike="noStrike">
              <a:solidFill>
                <a:srgbClr val="000000"/>
              </a:solidFill>
              <a:latin typeface="Arial"/>
            </a:endParaRPr>
          </a:p>
          <a:p>
            <a:pPr marL="434160" indent="-434160">
              <a:spcBef>
                <a:spcPts val="601"/>
              </a:spcBef>
              <a:buClr>
                <a:srgbClr val="006b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andards indicate material beyond the threshold; can be in courses required for all students.</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2:26:57Z</dcterms:created>
  <dc:creator>Rhea Gavounas</dc:creator>
  <dc:description/>
  <cp:keywords/>
  <dc:language>en-US</dc:language>
  <cp:lastModifiedBy>IES</cp:lastModifiedBy>
  <dcterms:modified xsi:type="dcterms:W3CDTF">2011-10-12T15:26:40Z</dcterms:modified>
  <cp:revision>358</cp:revision>
  <dc:subject/>
  <dc:title>PowerPoint Template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ategory">
    <vt:lpwstr>Templates</vt:lpwstr>
  </property>
  <property fmtid="{D5CDD505-2E9C-101B-9397-08002B2CF9AE}" pid="6" name="ContentType">
    <vt:lpwstr>Document</vt:lpwstr>
  </property>
  <property fmtid="{D5CDD505-2E9C-101B-9397-08002B2CF9AE}" pid="7" name="Description0">
    <vt:lpwstr>A PowerPoint template with a blue gradient background and a dark blue bottom frame.</vt:lpwstr>
  </property>
  <property fmtid="{D5CDD505-2E9C-101B-9397-08002B2CF9AE}" pid="8" name="Keywords">
    <vt:lpwstr/>
  </property>
  <property fmtid="{D5CDD505-2E9C-101B-9397-08002B2CF9AE}" pid="9" name="Owner">
    <vt:lpwstr/>
  </property>
  <property fmtid="{D5CDD505-2E9C-101B-9397-08002B2CF9AE}" pid="10" name="SPSDescription">
    <vt:lpwstr/>
  </property>
  <property fmtid="{D5CDD505-2E9C-101B-9397-08002B2CF9AE}" pid="11" name="Slides">
    <vt:lpwstr>1</vt:lpwstr>
  </property>
  <property fmtid="{D5CDD505-2E9C-101B-9397-08002B2CF9AE}" pid="12" name="Status">
    <vt:lpwstr/>
  </property>
  <property fmtid="{D5CDD505-2E9C-101B-9397-08002B2CF9AE}" pid="13" name="Subject">
    <vt:lpwstr/>
  </property>
  <property fmtid="{D5CDD505-2E9C-101B-9397-08002B2CF9AE}" pid="14" name="Thumbnail">
    <vt:lpwstr>http://ccssosrv9/SiteCollectionImages/communications/PPT%205.jpg, </vt:lpwstr>
  </property>
  <property fmtid="{D5CDD505-2E9C-101B-9397-08002B2CF9AE}" pid="15" name="_Author">
    <vt:lpwstr>Rhea Gavounas</vt:lpwstr>
  </property>
  <property fmtid="{D5CDD505-2E9C-101B-9397-08002B2CF9AE}" pid="16" name="_Category">
    <vt:lpwstr/>
  </property>
  <property fmtid="{D5CDD505-2E9C-101B-9397-08002B2CF9AE}" pid="17" name="_Comments">
    <vt:lpwstr/>
  </property>
</Properties>
</file>