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notesMasterIdLst>
    <p:notesMasterId r:id="rId36"/>
  </p:notesMasterIdLst>
  <p:sldIdLst>
    <p:sldId id="256" r:id="rId37"/>
    <p:sldId id="257" r:id="rId38"/>
    <p:sldId id="258" r:id="rId39"/>
    <p:sldId id="259" r:id="rId40"/>
    <p:sldId id="260" r:id="rId41"/>
    <p:sldId id="261" r:id="rId42"/>
    <p:sldId id="262" r:id="rId43"/>
    <p:sldId id="263" r:id="rId44"/>
    <p:sldId id="264" r:id="rId45"/>
    <p:sldId id="265" r:id="rId46"/>
    <p:sldId id="266" r:id="rId47"/>
    <p:sldId id="267" r:id="rId48"/>
    <p:sldId id="268" r:id="rId49"/>
    <p:sldId id="269" r:id="rId50"/>
    <p:sldId id="270" r:id="rId51"/>
    <p:sldId id="271" r:id="rId52"/>
    <p:sldId id="272" r:id="rId53"/>
    <p:sldId id="273" r:id="rId54"/>
    <p:sldId id="274" r:id="rId55"/>
    <p:sldId id="275" r:id="rId56"/>
    <p:sldId id="276" r:id="rId57"/>
    <p:sldId id="277" r:id="rId58"/>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notesMaster" Target="notesMasters/notesMaster1.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slide" Target="slides/slide11.xml"/><Relationship Id="rId48" Type="http://schemas.openxmlformats.org/officeDocument/2006/relationships/slide" Target="slides/slide12.xml"/><Relationship Id="rId49" Type="http://schemas.openxmlformats.org/officeDocument/2006/relationships/slide" Target="slides/slide13.xml"/><Relationship Id="rId50" Type="http://schemas.openxmlformats.org/officeDocument/2006/relationships/slide" Target="slides/slide14.xml"/><Relationship Id="rId51" Type="http://schemas.openxmlformats.org/officeDocument/2006/relationships/slide" Target="slides/slide15.xml"/><Relationship Id="rId52" Type="http://schemas.openxmlformats.org/officeDocument/2006/relationships/slide" Target="slides/slide16.xml"/><Relationship Id="rId53" Type="http://schemas.openxmlformats.org/officeDocument/2006/relationships/slide" Target="slides/slide17.xml"/><Relationship Id="rId54" Type="http://schemas.openxmlformats.org/officeDocument/2006/relationships/slide" Target="slides/slide18.xml"/><Relationship Id="rId55" Type="http://schemas.openxmlformats.org/officeDocument/2006/relationships/slide" Target="slides/slide19.xml"/><Relationship Id="rId56" Type="http://schemas.openxmlformats.org/officeDocument/2006/relationships/slide" Target="slides/slide20.xml"/><Relationship Id="rId57" Type="http://schemas.openxmlformats.org/officeDocument/2006/relationships/slide" Target="slides/slide21.xml"/><Relationship Id="rId58" Type="http://schemas.openxmlformats.org/officeDocument/2006/relationships/slide" Target="slides/slide2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68" name="PlaceHolder 1"/>
          <p:cNvSpPr>
            <a:spLocks noGrp="1"/>
          </p:cNvSpPr>
          <p:nvPr>
            <p:ph type="sldImg"/>
          </p:nvPr>
        </p:nvSpPr>
        <p:spPr>
          <a:xfrm>
            <a:off x="1723680" y="712800"/>
            <a:ext cx="3956040" cy="2967120"/>
          </a:xfrm>
          <a:prstGeom prst="rect">
            <a:avLst/>
          </a:prstGeom>
          <a:noFill/>
          <a:ln w="9360">
            <a:solidFill>
              <a:srgbClr val="000000"/>
            </a:solidFill>
            <a:miter/>
          </a:ln>
        </p:spPr>
        <p:txBody>
          <a:bodyPr lIns="90000" rIns="90000" tIns="46800" bIns="46800" anchor="t">
            <a:noAutofit/>
          </a:bodyPr>
          <a:p>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1469"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0" name="PlaceHolder 3"/>
          <p:cNvSpPr>
            <a:spLocks noGrp="1"/>
          </p:cNvSpPr>
          <p:nvPr>
            <p:ph type="sldNum" idx="101"/>
          </p:nvPr>
        </p:nvSpPr>
        <p:spPr>
          <a:xfrm>
            <a:off x="6024240" y="8809200"/>
            <a:ext cx="865080" cy="3967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3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E1F4F5A-7DCD-4CB5-8B74-0204C2C4458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724040" y="712800"/>
            <a:ext cx="3956040" cy="2967120"/>
          </a:xfrm>
          <a:prstGeom prst="rect">
            <a:avLst/>
          </a:prstGeom>
          <a:ln w="0">
            <a:noFill/>
          </a:ln>
        </p:spPr>
      </p:sp>
      <p:sp>
        <p:nvSpPr>
          <p:cNvPr id="1548"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re Standards for Mathema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overview of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states implementing instruction aligned with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the development of assessments aligned with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dvice for researchers currently developing math curricula, teacher professional development materials, or assess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dditional information that would be important of education researchers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9"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B460BF-9AAC-48CF-8655-F1EC07B720FC}"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724040" y="712800"/>
            <a:ext cx="3956040" cy="2967120"/>
          </a:xfrm>
          <a:prstGeom prst="rect">
            <a:avLst/>
          </a:prstGeom>
          <a:ln w="0">
            <a:noFill/>
          </a:ln>
        </p:spPr>
      </p:sp>
      <p:sp>
        <p:nvSpPr>
          <p:cNvPr id="1577"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of the standards – international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idence tells us that in high performing countries like Singapore, the gap between what is taught and what is learned is relatively smaller than in Malaysia or the U.S. states. Malaysia’s standards are higher than Singapore’s, but their performance is much lower. One could interpret the narrower gap in Singapore as evidence that they actually use their standards to manage instruction; that is, Singapore’s standards were set within the reach of hard work for their system and their population. Singapore’s Ministry of Education flags its webpage with the motto, “Teach Less, Learn More.” We accepted the challenge of writing standards that could work that way for U.S. teachers and students: By providing focus and coherence, we could enable more learning to take place at all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8"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E8FA49-E0B2-4B63-8C21-831583212A53}"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02A4FE-5314-4E36-A14E-8121DF82931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580" name="PlaceHolder 1"/>
          <p:cNvSpPr>
            <a:spLocks noGrp="1"/>
          </p:cNvSpPr>
          <p:nvPr>
            <p:ph type="sldImg"/>
          </p:nvPr>
        </p:nvSpPr>
        <p:spPr>
          <a:xfrm>
            <a:off x="1724040" y="712800"/>
            <a:ext cx="3956040" cy="2967120"/>
          </a:xfrm>
          <a:prstGeom prst="rect">
            <a:avLst/>
          </a:prstGeom>
          <a:ln w="0">
            <a:noFill/>
          </a:ln>
        </p:spPr>
      </p:sp>
      <p:sp>
        <p:nvSpPr>
          <p:cNvPr id="1581"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2"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6115-42F2-47F2-9681-1D1AD3A8F0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724040" y="712800"/>
            <a:ext cx="3956040" cy="2967120"/>
          </a:xfrm>
          <a:prstGeom prst="rect">
            <a:avLst/>
          </a:prstGeom>
          <a:ln w="0">
            <a:noFill/>
          </a:ln>
        </p:spPr>
      </p:sp>
      <p:sp>
        <p:nvSpPr>
          <p:cNvPr id="1584"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4 state members</a:t>
            </a:r>
            <a:endParaRPr b="0" lang="en-US" sz="400" spc="-1" strike="noStrike">
              <a:solidFill>
                <a:srgbClr val="000000"/>
              </a:solidFill>
              <a:latin typeface="Arial"/>
            </a:endParaRPr>
          </a:p>
        </p:txBody>
      </p:sp>
      <p:sp>
        <p:nvSpPr>
          <p:cNvPr id="1585"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E4005C-2E8F-48DB-AD30-FCEDFC8BB14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724040" y="712800"/>
            <a:ext cx="3956040" cy="2967120"/>
          </a:xfrm>
          <a:prstGeom prst="rect">
            <a:avLst/>
          </a:prstGeom>
          <a:ln w="0">
            <a:noFill/>
          </a:ln>
        </p:spPr>
      </p:sp>
      <p:sp>
        <p:nvSpPr>
          <p:cNvPr id="1587"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8"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6C2F404-95A8-45A8-9090-69D5516D595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724040" y="712800"/>
            <a:ext cx="3956040" cy="2967120"/>
          </a:xfrm>
          <a:prstGeom prst="rect">
            <a:avLst/>
          </a:prstGeom>
          <a:ln w="0">
            <a:noFill/>
          </a:ln>
        </p:spPr>
      </p:sp>
      <p:sp>
        <p:nvSpPr>
          <p:cNvPr id="1590"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state members</a:t>
            </a:r>
            <a:endParaRPr b="0" lang="en-US" sz="1200" spc="-1" strike="noStrike">
              <a:solidFill>
                <a:srgbClr val="000000"/>
              </a:solidFill>
              <a:latin typeface="Arial"/>
            </a:endParaRPr>
          </a:p>
        </p:txBody>
      </p:sp>
      <p:sp>
        <p:nvSpPr>
          <p:cNvPr id="1591"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A7C79F-EDFC-47C6-ADE2-1A4638EA335D}"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724040" y="712800"/>
            <a:ext cx="3956040" cy="2967120"/>
          </a:xfrm>
          <a:prstGeom prst="rect">
            <a:avLst/>
          </a:prstGeom>
          <a:ln w="0">
            <a:noFill/>
          </a:ln>
        </p:spPr>
      </p:sp>
      <p:sp>
        <p:nvSpPr>
          <p:cNvPr id="1593"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omputer adaptive summative assessments that give a snapshot of student performance without a “one size fits all approach.” This assessment can be used to describe student achievement and growth of student learning as part of program evaluation and school, district and state accountability systems. This assessment will measure English language arts and mathematics in grades 3-8 and 11 across the full range of the Common Core State Standards (CC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interim and formative assessments that help teachers identify the specific needs of each student so that they can help the students progress toward being career and college rea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Professional Development. Teachers will be involved at all stages of item and test development, including item writing, scoring, and the design of reporting systems. This will ensure the system works well and that teachers can learn from national experts and from each other as they evaluate students’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nline tailored reporting system that supports educators to access information about student progress toward college and career readiness as well as to identify specific strengths and weaknesses along th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4"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6BEA5A-A859-4D87-B7A6-9DA152A24741}"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85840" y="698400"/>
            <a:ext cx="4654440" cy="3490920"/>
          </a:xfrm>
          <a:prstGeom prst="rect">
            <a:avLst/>
          </a:prstGeom>
          <a:ln w="0">
            <a:noFill/>
          </a:ln>
        </p:spPr>
      </p:sp>
      <p:sp>
        <p:nvSpPr>
          <p:cNvPr id="159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7"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DF90-FBC8-429A-8DB3-E4496621D4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85840" y="698400"/>
            <a:ext cx="4654440" cy="3490920"/>
          </a:xfrm>
          <a:prstGeom prst="rect">
            <a:avLst/>
          </a:prstGeom>
          <a:ln w="0">
            <a:noFill/>
          </a:ln>
        </p:spPr>
      </p:sp>
      <p:sp>
        <p:nvSpPr>
          <p:cNvPr id="159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0"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E982-325E-4092-B4D2-09906C20B8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B2B706-13E4-485D-86A1-4B34E9763253}"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602" name="PlaceHolder 1"/>
          <p:cNvSpPr>
            <a:spLocks noGrp="1"/>
          </p:cNvSpPr>
          <p:nvPr>
            <p:ph type="sldImg"/>
          </p:nvPr>
        </p:nvSpPr>
        <p:spPr>
          <a:xfrm>
            <a:off x="1724040" y="712800"/>
            <a:ext cx="3956040" cy="2967120"/>
          </a:xfrm>
          <a:prstGeom prst="rect">
            <a:avLst/>
          </a:prstGeom>
          <a:ln w="0">
            <a:noFill/>
          </a:ln>
        </p:spPr>
      </p:sp>
      <p:sp>
        <p:nvSpPr>
          <p:cNvPr id="1603"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was taken from the Ohio Performance Assessment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udience members won’t be able to read the example, so a summary of this performance even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a scenario where Ms. Johnson wanted to lower her gas bill, so she installed insulation in her home. When she received her gas bill the following year, her bill wasn’t cheaper. Gas prices were higher in 2008, which partially explains her gas bill. Ms. Johnson’s children, Kevin and Shana, see that “heating degree days” are also listed on the bill and think this might provide some insight into why Ms. Johnson’s savings weren’t as high as anticipated.</a:t>
            </a:r>
            <a:endParaRPr b="0" lang="en-US" sz="1200" spc="-1" strike="noStrike">
              <a:solidFill>
                <a:srgbClr val="000000"/>
              </a:solidFill>
              <a:latin typeface="Arial"/>
            </a:endParaRPr>
          </a:p>
        </p:txBody>
      </p:sp>
      <p:sp>
        <p:nvSpPr>
          <p:cNvPr id="1604"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A1E7-2A0E-44D3-8B31-91B095E3FCF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AF4D3D2-2699-467B-A98E-BFC83033DF3D}"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606" name="PlaceHolder 1"/>
          <p:cNvSpPr>
            <a:spLocks noGrp="1"/>
          </p:cNvSpPr>
          <p:nvPr>
            <p:ph type="sldImg"/>
          </p:nvPr>
        </p:nvSpPr>
        <p:spPr>
          <a:xfrm>
            <a:off x="1724040" y="712800"/>
            <a:ext cx="3956040" cy="2967120"/>
          </a:xfrm>
          <a:prstGeom prst="rect">
            <a:avLst/>
          </a:prstGeom>
          <a:ln w="0">
            <a:noFill/>
          </a:ln>
        </p:spPr>
      </p:sp>
      <p:sp>
        <p:nvSpPr>
          <p:cNvPr id="1607"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ask, students mus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research (via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complex information</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 out main ideas and supporting details in informational tex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how to use mathematics in a real-world scenario</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percentage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judgment based on research and their own analysis of information</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o inform</a:t>
            </a:r>
            <a:endParaRPr b="0" lang="en-US" sz="1200" spc="-1" strike="noStrike">
              <a:solidFill>
                <a:srgbClr val="000000"/>
              </a:solidFill>
              <a:latin typeface="Arial"/>
            </a:endParaRPr>
          </a:p>
        </p:txBody>
      </p:sp>
      <p:sp>
        <p:nvSpPr>
          <p:cNvPr id="1608"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AD4B-8F2D-4314-AA7F-ADC2AD2680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B1DF75-DE7E-4FCE-84DA-30E1F418CDE0}"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551" name="PlaceHolder 1"/>
          <p:cNvSpPr>
            <a:spLocks noGrp="1"/>
          </p:cNvSpPr>
          <p:nvPr>
            <p:ph type="sldImg"/>
          </p:nvPr>
        </p:nvSpPr>
        <p:spPr>
          <a:xfrm>
            <a:off x="1724040" y="712800"/>
            <a:ext cx="3956040" cy="2967120"/>
          </a:xfrm>
          <a:prstGeom prst="rect">
            <a:avLst/>
          </a:prstGeom>
          <a:ln w="0">
            <a:noFill/>
          </a:ln>
        </p:spPr>
      </p:sp>
      <p:sp>
        <p:nvSpPr>
          <p:cNvPr id="1552"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o Chief State School Officers are and what they are responsible for. </a:t>
            </a:r>
            <a:endParaRPr b="0" lang="en-US" sz="1200" spc="-1" strike="noStrike">
              <a:solidFill>
                <a:srgbClr val="000000"/>
              </a:solidFill>
              <a:latin typeface="Arial"/>
            </a:endParaRPr>
          </a:p>
        </p:txBody>
      </p:sp>
      <p:sp>
        <p:nvSpPr>
          <p:cNvPr id="1553" name="Slide Number Placeholder 3"/>
          <p:cNvSpPr/>
          <p:nvPr/>
        </p:nvSpPr>
        <p:spPr>
          <a:xfrm>
            <a:off x="3981600" y="8845560"/>
            <a:ext cx="3044520" cy="466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057EF6E-B01F-4426-B362-C53D7916E1D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724040" y="712800"/>
            <a:ext cx="3956040" cy="2967120"/>
          </a:xfrm>
          <a:prstGeom prst="rect">
            <a:avLst/>
          </a:prstGeom>
          <a:ln w="0">
            <a:noFill/>
          </a:ln>
        </p:spPr>
      </p:sp>
      <p:sp>
        <p:nvSpPr>
          <p:cNvPr id="1610"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1"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392D58-A4B5-4258-B54D-F4B82282FFDF}"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724040" y="712800"/>
            <a:ext cx="3956040" cy="2967120"/>
          </a:xfrm>
          <a:prstGeom prst="rect">
            <a:avLst/>
          </a:prstGeom>
          <a:ln w="0">
            <a:noFill/>
          </a:ln>
        </p:spPr>
      </p:sp>
      <p:sp>
        <p:nvSpPr>
          <p:cNvPr id="1613"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4"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659723-5280-49BF-B199-CC7C63030E27}"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724040" y="712800"/>
            <a:ext cx="3956040" cy="2967120"/>
          </a:xfrm>
          <a:prstGeom prst="rect">
            <a:avLst/>
          </a:prstGeom>
          <a:ln w="0">
            <a:noFill/>
          </a:ln>
        </p:spPr>
      </p:sp>
      <p:sp>
        <p:nvSpPr>
          <p:cNvPr id="1616"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7"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819DED-D1E7-4A4C-9C3E-53CDBEECCA0E}"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724040" y="712800"/>
            <a:ext cx="3956040" cy="2967120"/>
          </a:xfrm>
          <a:prstGeom prst="rect">
            <a:avLst/>
          </a:prstGeom>
          <a:ln w="0">
            <a:noFill/>
          </a:ln>
        </p:spPr>
      </p:sp>
      <p:sp>
        <p:nvSpPr>
          <p:cNvPr id="1555"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PARTISAN INITIATI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724040" y="712800"/>
            <a:ext cx="3956040" cy="2967120"/>
          </a:xfrm>
          <a:prstGeom prst="rect">
            <a:avLst/>
          </a:prstGeom>
          <a:ln w="0">
            <a:noFill/>
          </a:ln>
        </p:spPr>
      </p:sp>
      <p:sp>
        <p:nvSpPr>
          <p:cNvPr id="1557"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SEARCH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high school juniors and seniors taking the ACT college entrance exam, half of the students were ready for college-level reading assignments in core subjects like math, history, science, and English (ACT,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LA</a:t>
            </a:r>
            <a:endParaRPr b="0" lang="en-US" sz="20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read more non-fiction (periodicals, technical manuals, etc.) and more complex texts</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read with greater independence</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tudents’ writing in college isn’t meeting professors’ expectations</a:t>
            </a:r>
            <a:endParaRPr b="0" lang="en-US" sz="12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th</a:t>
            </a:r>
            <a:endParaRPr b="0" lang="en-US" sz="20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have deep knowledge of core mathematical concepts (such as ratio and proportion) that are gatekeepers for success in advanced mathematics courses in college or advanced technical training in a career.</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apply their mathematical knowledge to new and novel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2423F8-EA17-40DE-A10F-A8FE3F9F4FC2}"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85840" y="696960"/>
            <a:ext cx="4654440" cy="3492360"/>
          </a:xfrm>
          <a:prstGeom prst="rect">
            <a:avLst/>
          </a:prstGeom>
          <a:ln w="0">
            <a:noFill/>
          </a:ln>
        </p:spPr>
      </p:sp>
      <p:sp>
        <p:nvSpPr>
          <p:cNvPr id="1560" name="PlaceHolder 2"/>
          <p:cNvSpPr>
            <a:spLocks noGrp="1"/>
          </p:cNvSpPr>
          <p:nvPr>
            <p:ph type="body"/>
          </p:nvPr>
        </p:nvSpPr>
        <p:spPr>
          <a:xfrm>
            <a:off x="703440" y="44244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1"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2B1D-4980-4D93-AD2A-96CFB7B549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85840" y="696960"/>
            <a:ext cx="4654440" cy="3492360"/>
          </a:xfrm>
          <a:prstGeom prst="rect">
            <a:avLst/>
          </a:prstGeom>
          <a:ln w="0">
            <a:noFill/>
          </a:ln>
        </p:spPr>
      </p:sp>
      <p:sp>
        <p:nvSpPr>
          <p:cNvPr id="1563" name="PlaceHolder 2"/>
          <p:cNvSpPr>
            <a:spLocks noGrp="1"/>
          </p:cNvSpPr>
          <p:nvPr>
            <p:ph type="body"/>
          </p:nvPr>
        </p:nvSpPr>
        <p:spPr>
          <a:xfrm>
            <a:off x="703440" y="44244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4"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DC9D-91C8-4AC6-9742-C9A82764382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724040" y="712800"/>
            <a:ext cx="3956040" cy="2967120"/>
          </a:xfrm>
          <a:prstGeom prst="rect">
            <a:avLst/>
          </a:prstGeom>
          <a:ln w="0">
            <a:noFill/>
          </a:ln>
        </p:spPr>
      </p:sp>
      <p:sp>
        <p:nvSpPr>
          <p:cNvPr id="1566"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7" name="Slide Number Placeholder 3"/>
          <p:cNvSpPr/>
          <p:nvPr/>
        </p:nvSpPr>
        <p:spPr>
          <a:xfrm>
            <a:off x="3979800" y="8845560"/>
            <a:ext cx="304488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6A41-6737-40C6-B803-D4AEAA8B15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90B9-A35C-4D63-B5FF-7551C624F65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69" name="PlaceHolder 1"/>
          <p:cNvSpPr>
            <a:spLocks noGrp="1"/>
          </p:cNvSpPr>
          <p:nvPr>
            <p:ph type="sldImg"/>
          </p:nvPr>
        </p:nvSpPr>
        <p:spPr>
          <a:xfrm>
            <a:off x="1724040" y="712800"/>
            <a:ext cx="3956040" cy="2967120"/>
          </a:xfrm>
          <a:prstGeom prst="rect">
            <a:avLst/>
          </a:prstGeom>
          <a:ln w="0">
            <a:noFill/>
          </a:ln>
        </p:spPr>
      </p:sp>
      <p:sp>
        <p:nvSpPr>
          <p:cNvPr id="1570"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1"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71A7-CABA-41A0-A5BC-C776E4C3F9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B51300-1D43-4DAB-957E-51A52BBA399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73" name="PlaceHolder 1"/>
          <p:cNvSpPr>
            <a:spLocks noGrp="1"/>
          </p:cNvSpPr>
          <p:nvPr>
            <p:ph type="sldImg"/>
          </p:nvPr>
        </p:nvSpPr>
        <p:spPr>
          <a:xfrm>
            <a:off x="1724040" y="712800"/>
            <a:ext cx="3956040" cy="2967120"/>
          </a:xfrm>
          <a:prstGeom prst="rect">
            <a:avLst/>
          </a:prstGeom>
          <a:ln w="0">
            <a:noFill/>
          </a:ln>
        </p:spPr>
      </p:sp>
      <p:sp>
        <p:nvSpPr>
          <p:cNvPr id="1574"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5"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31399F-7309-47CA-B728-80EF437761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EB950-8DF4-4CD0-A442-80798D9DB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3179A-8050-4041-9253-F337889B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4129F5-CC23-4858-A223-5282E326E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6BB46F-9E89-4B21-AE70-9B95C62843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1493B5-05C4-46FA-BC41-654D13945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5A3BF-6040-4EAD-9ADD-0CA1F894E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B176FE-843B-4DAD-ABCE-867F5B917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6586B-9421-44B0-ADE2-4B953366E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CB255-4AD3-4961-B004-90F81A35A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7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6B75EB-D9D7-4773-963E-28F657546C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7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8DE3AF-4222-4173-9B99-2A886FBB34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4BAB54-F209-48E9-8B45-D658D153B9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1C05E-0926-408F-A38D-A0DB85DC5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9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F2B6F6-8BD2-48F2-ADAA-EC11E978F4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9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B061F7-3807-4CA9-B06B-709AD499D5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9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DAB250-5900-4C7F-A83E-CE2FBC3CF9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C61AD7-9F86-4850-8797-002EEE3E55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C808E0-79FF-445C-A9DF-96BC3252AF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5B133A-ACBE-47CE-BFF3-B8C8B83140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B22616-0CC3-4904-88D0-8AE3BE214E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339830-7664-4542-8C99-3408FE2DFB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1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7F54E2-6759-4C11-A588-8F22B5FAAB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1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637114-C3A4-45EF-928C-02D8F71358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8"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D1938-DCD9-4EEF-8FBE-F1F50BB7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2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983AA6-FF2A-4007-BEE5-5D528B6405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DB7577-078C-4A38-89B8-BB03B11A1D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3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CDB500-BBF0-42FE-A1B6-67E1B6C331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3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6F04F0-C9BA-4791-A45C-2663E2978A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3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BA9E07-A105-420D-8019-5A059A1E10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425DF1-8552-425C-B754-5A8AD4F95C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2DEAD3-F413-4C29-B97D-037224F10B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D08DD2-EF32-404C-BD92-7F32424E08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727CF4-4398-46EE-B36B-FC2709F631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6FDC16-2EE3-41AB-9510-D06442C3C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71BD7-6748-4BE2-9740-BB4D087F3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066126-009F-4437-8353-3956C27C1C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605997-26EE-4288-A03A-66027AB683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6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C70769-2C02-4997-8FF1-93DA5C0FF0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C31BFD-EDFC-42D0-85A5-5022FB58ED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7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366CF5-7D40-4119-97A3-A070A565AF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A70D7D-7A45-4B73-B99E-0EC68A8765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23B4A9-560E-4C56-BF65-14A846678E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7563A3-2749-44F0-8383-FF0487FED0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5F9670-0A04-482A-839E-E0967A069E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A8EE0-871C-434C-B0D7-5EE5C1EFD9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B774F-F9A0-489C-8470-F29D06450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1CE743-4727-4B92-A7F7-C837D8376F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2709AB-B332-4F33-B783-1D4937DEC9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CC49E0-8625-4608-A302-AA6DAFD2F7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DE1453-D050-47F2-9C65-0BACCEA145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E86812-9771-453D-B2BF-33F1BF50BB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4C7C2F-7AC8-4527-BD70-F93E30508B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2"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8F0EEC-273E-4C1B-88C9-175E1A735D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4"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ECE0E3-152F-432D-898C-10430BA251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D576C7-82FA-4550-A853-C04DFDC149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95CF19-A919-40A0-A191-9495D2B099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5"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C6983-F45C-422E-A92C-64EF7E6AA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6BE0A7-F132-400D-88C4-D1367D58E2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6F7BE4-45D0-491B-B45A-62D0AE1C86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6F6497-D92B-4411-B624-A18BC6CE7E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5CC58A-ECB5-4048-AF51-8D0A27E2AB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3"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FFF035-E278-433E-AE15-64E34C6E53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1979D49-C89B-4F3B-91A0-61C4FA00D2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51"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3EC8F9-9742-4538-B23B-BD528A27E9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9C02389B-DBC8-4F38-B94F-44D08DEF4A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0"/>
          </p:nvPr>
        </p:nvSpPr>
        <p:spPr/>
        <p:txBody>
          <a:bodyPr/>
          <a:p>
            <a:fld id="{F601A071-C3CC-459F-9DFE-1F0A46F90C6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0"/>
          </p:nvPr>
        </p:nvSpPr>
        <p:spPr/>
        <p:txBody>
          <a:bodyPr/>
          <a:p>
            <a:fld id="{624EEC86-7C53-4193-BEE1-16365B42A5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209FC-B153-43F7-AB1B-E4DD4BA11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0"/>
          </p:nvPr>
        </p:nvSpPr>
        <p:spPr/>
        <p:txBody>
          <a:bodyPr/>
          <a:p>
            <a:fld id="{BE56592D-8502-4F29-B0DD-78BAAB087F4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sldNum" idx="40"/>
          </p:nvPr>
        </p:nvSpPr>
        <p:spPr/>
        <p:txBody>
          <a:bodyPr/>
          <a:p>
            <a:fld id="{9A6CB882-FEEE-4F6C-BBC6-5998DA73133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0"/>
          </p:nvPr>
        </p:nvSpPr>
        <p:spPr/>
        <p:txBody>
          <a:bodyPr/>
          <a:p>
            <a:fld id="{18296DF7-66AB-477E-9A96-D90D71BE1AD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0"/>
          </p:nvPr>
        </p:nvSpPr>
        <p:spPr/>
        <p:txBody>
          <a:bodyPr/>
          <a:p>
            <a:fld id="{C0908227-4892-4E89-B3C6-806A862E75B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0"/>
          </p:nvPr>
        </p:nvSpPr>
        <p:spPr/>
        <p:txBody>
          <a:bodyPr/>
          <a:p>
            <a:fld id="{6821993B-D307-4791-B5E5-D8C49AFE15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0"/>
          </p:nvPr>
        </p:nvSpPr>
        <p:spPr/>
        <p:txBody>
          <a:bodyPr/>
          <a:p>
            <a:fld id="{D6AC3863-6AAA-42C4-BA25-E8AD4CF1BB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0"/>
          </p:nvPr>
        </p:nvSpPr>
        <p:spPr/>
        <p:txBody>
          <a:bodyPr/>
          <a:p>
            <a:fld id="{F3872770-CFB0-4070-AA36-7EEDEB7AE06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0"/>
          </p:nvPr>
        </p:nvSpPr>
        <p:spPr/>
        <p:txBody>
          <a:bodyPr/>
          <a:p>
            <a:fld id="{5F867578-CE17-4CF1-8225-BC19DC1A562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9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0"/>
          </p:nvPr>
        </p:nvSpPr>
        <p:spPr/>
        <p:txBody>
          <a:bodyPr/>
          <a:p>
            <a:fld id="{8217B059-0C7F-4EA0-9071-1C161637B0C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A69CA04-DF70-4954-AB70-445268D2E2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F777A-8394-4B00-ABFE-F2428F935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3276329-B8F2-4E4B-959F-FE63B9B6DC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AA3E83A-CA5E-44BB-B021-171D5BC343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3ED8619-F660-4978-98D6-2990A5BE6F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0A90A64-F179-47DC-9567-E91EE99843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CB00C3B-F032-4BAB-9AF7-95D1B28A54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6659C77-F4F2-408E-84CF-28E6E93913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BDCBC98-6A45-475D-9A9F-AB6E7F0CE8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FCB0169-CB62-4822-ADC4-D9F6208B3A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A209182-29C9-4612-A030-6A1922B0BA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3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887469F-9904-4B43-B3F6-6F539E2F4B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A2FE3-337D-4D18-9874-8BDCE98F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3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F81DB63-C07B-4402-B9E9-80F66BF651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2E86985-8027-4854-B6D3-D081B9F03C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0"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AE5AB33-F559-462A-926B-E20E6E8904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2"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38AFAAB-3B27-4DB7-9D39-EE6BC4B770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CC1DA8A-C179-4495-A384-DC27BB21DE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36D444C-C247-4D89-88F3-5CFA9BD789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61C11D5-9404-4807-A608-3244228737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8CBDAD7-C892-438C-A223-EAE425654F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3"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57AE626-FFA9-4D95-B85C-4FCE1148A5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19E73A4-8B66-4E59-862D-C4E5DAFC83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A1086-2620-4FB4-A149-08FFF146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71"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D41D896-9ABD-44AF-9563-091979BC26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7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4BA9160-A98F-4142-B448-B012C40C31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79"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E69CA89-F910-427D-B6D4-9F389D8627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C851920-F09A-40AC-92DC-FBB56BAAC3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A7B0256-0CE2-40E7-8A61-D619004167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484F1B7-4531-44C8-A234-6C2970D7A0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8A634BD-D479-4CBC-AC52-B3E877C853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4B46763-5C2D-429D-A606-22B496647E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AA4A42E-C48B-484D-8B03-E14A180E32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CFF4ECE-431F-4852-BBCA-C456164C3D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8383-FA18-49F0-BC45-E195256A1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7E89B-718F-46B5-907F-60C430551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84708E2-7FD3-497E-BBFD-0B7DE36442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6B6E31F-A5EC-4202-9AAB-65816BD795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10A06AD-14F0-48DE-8872-3FCB5A79A6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25B9958-521A-4459-9A51-B5A16D17A7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2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1BE495D-9D92-4F93-BFE8-C92F5B4D28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439911E-AE3A-458C-8A1F-A09F52C3C68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9F8DD2C-9503-488D-BA41-973B836480B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2A510C6-0D40-4B05-8922-49365C2615E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4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91B7478-40E3-4372-A172-6589522BD2C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505DBED-5F2C-4FB8-9D66-EA3FEFAD5C9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DAF94-3186-4FE1-9CAD-9DF3BA893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4B1FD2E-815E-4D05-AE32-EE0F99F64D6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4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8C85E40-F00F-4A6A-96D3-FDCEAFC0DCF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5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B4EE935-916F-4E9C-B198-DF1F2A15E9F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5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E622A92-E083-4A30-BF9D-FA1CC523289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5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9787A76-167E-4F1E-9136-D82AB1FB31C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6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B7DA603-CB8C-47BF-8DAB-C9D419A3253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6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1571918-FA94-4C60-BF91-CC918F47589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2F05D76-C646-49A6-BF66-32A2897D05D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E422C54-D2B0-4E12-AC98-9B1C6943281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4F60124-4F67-4E59-B3EA-87346A4C629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4"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30D94-D6CB-4B57-8B13-43DE077D5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9578333-FBA9-474D-9F8D-A98DD800592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C16ABC7-E57A-4BB6-BA13-A6DD7CC11CB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691D3F1-85EF-409F-976C-015017CE62B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9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25BC8B6-2B48-4982-8536-DFC22DB8D7A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9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D7FF688-70DB-4E49-ADF6-E80E300CD5F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9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8C7A5CC-B5AA-4BE5-A30D-FBF3BEE36AF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0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726B227-132A-4AC6-8396-E443F7CDD3F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0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92D83F1F-51E9-4CBE-B559-A82AE83090D7}"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1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871B2528-59F9-408D-9A43-08A8EB37785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BA09932-BF74-4768-984E-94416224A184}"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A2DA5-4B53-4A94-BEE4-F9865CEFB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D13DEDE-EA17-4F40-8C6A-BB3983DBE1D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1D241B2-0B8D-4131-BC5D-540B8C27739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FAB7011-F24E-4713-AA70-8FB8A660441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7ABCC61-8329-421C-8825-81123C39638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3B3AE24-B0A7-47BE-81D8-F26AABB909B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3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1A19988-3B0C-4077-933F-23EC6CFFD35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3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49AF2B5-809F-41DC-8167-D0D456E3C1A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4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A8CA378-D4AE-4B2D-A1E6-7672AA1A7BC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4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D4C572B-0E83-4BA3-AA2C-218A412B621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4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8CC995F-4ED7-4AD4-8259-1F6B08E06F16}"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89F40-F9E2-4950-AEE2-4B6207AD3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5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75AA73C5-67A2-49E2-9497-2337B621422F}"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A8134364-A28B-4908-BCD8-FF8B5E13089B}"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6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269BD5B-631E-4A30-90A7-4EBAD9F9779E}"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6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2099E16-3A51-41C0-A8DE-3EDCD2B5357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7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FE0FC36B-C3C9-42F9-9599-9E9DD40CF0F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390E073-1535-4255-A675-5D30C416DB3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2A6CA4E-5C51-448E-A88C-25E26BC6CFF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7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82543BF-DC67-4FEF-A7BE-69C40664B5B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8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8B10110-3BD0-4828-93BF-A7CE3F7312B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8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5354684-F370-4A86-BC1A-7C0B4F26919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75B8A-A73B-47B3-A351-75B2896D0E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8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3D6F5D4-3F39-48B5-B66C-F5EE551262E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9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A9E1E8B2-EDF0-4246-80F1-AB290697AED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9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039151CE-3B9E-4B57-939D-DD0C1F5168C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914FF8F5-05FC-4242-B18C-2FAA2CD629C7}"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B5CD8EF-61AC-4780-8B40-6CACF6EF2F5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BA053C2-CDF1-4D49-B80B-FC5FDA1DCA5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BE109C12-42A0-43C6-84DD-0B2C040C6F3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032ECD7-FB66-4859-AB44-FC5E4F98FF4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413CE1A-A4FD-4E93-96C3-5193A21C998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2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3D400AE-C2A1-4C10-A800-E3579F1F43B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05C9B-C182-4D66-99A4-6CF20B100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2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E105872-7DEF-45C8-94D0-BB38086E479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2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D350932-1144-4255-8EB5-11CACF661A3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3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B102D57-7D50-43D8-A051-22AAB5DB7C3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3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FEEF504-5675-4306-886B-1EE39EE6892E}"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4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31F889C-5064-401C-8A65-805A25ADD47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C55D4BD5-3392-4226-825F-F1F4A79F792D}"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97E13D3-AB74-4EE4-BE15-E42F682CBE4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BE809A7-353A-4543-B35A-58948C446D5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EE03C78-F7E9-4C9D-AC60-7E08B52EB4F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085145C-6E46-4991-A0AF-AE7F4C44C30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2934E-DB67-49C0-B721-42FB216A1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C9B1C2E-A316-4094-A093-0EF8B22F25C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6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1D6E8AB-824A-4AA0-9D13-C0C35D0F84D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6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85B8C3B-FC90-4FDA-8179-C24134E675D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3A93731-CA86-40D3-8287-F7C3192D9A0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783410E-9113-45A5-945A-2477CF4F912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62E9DCA1-F5B3-4E2F-99B6-10CB65E7C1A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8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71B722CE-1087-4CEE-B049-98B3B9BD7C3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C2D0E137-747F-41A7-BA37-070F293614C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9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E3E09C2-CC54-4356-8C53-CF071E4B4AE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0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9540755-97D8-4633-B7D7-45F50F3E02A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F4B46-D9B8-4547-A61F-374D412F4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0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42D4F1A8-21BE-4614-B151-E85BB6A7B21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C4B01CB-CD24-42E8-B3F0-2EF55539D3A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AF6810F-85BC-4F72-AAA2-63FAC4F7930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0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B8C048A-10D7-485D-B448-0E91954FD32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20D113F-1A23-476F-8A79-3240C7E51E4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ABD30B9-F3E6-4108-B79D-E3997BB1E7D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4AF7BAE0-99C0-49AD-A386-64383A35088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2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3B532A90-C1DD-40C4-9562-438C4A2ABF1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2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68AB7002-8C5D-4601-A981-86D5C6D1EBEC}"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439CE378-F8EC-494B-8E2B-14687E9ACD2E}"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5855E-FDF6-46E9-8412-68D2EE69B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4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6617110-64D8-42DD-A085-778827B3C22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4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48383A1-716E-48A8-974D-8FE2DFB8E02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4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CC43154-4102-45A2-8364-2DEFAD29FD2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8553C69-5A4B-474D-9D0F-D8702C16DC6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6163748-7D37-443D-9323-CC35206E1F8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5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0B6FC45-1CED-48A7-B878-5314105D17D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5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E48B051-F224-484E-9811-93D8F57ABD5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5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0B4641E-ED3A-4B46-A4A2-266F20E095E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AC3FF46C-649F-42DB-BB88-0505A2DD420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535E199B-CA82-4CF4-955E-6AFD30A036BC}"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91A4-A987-4B23-9EC2-4822D2B9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D0250-4CDB-433C-8EDB-A5F879EC1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7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2E8E3E00-A47B-49B3-A3B8-3B1C3DCE1E75}"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4A0130A6-A560-4135-9770-DC24E0716C33}"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8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6133D54-40D5-49BA-B43A-F1DC6DF507F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8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6DFF28FC-ABE9-4C75-AD05-9034E52F45FC}"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8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87FA38FB-227F-4A29-AD61-EDA756D7531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AFB4B6A2-5086-4BE8-B3DC-C6551962DD2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F975711-6EF9-4D95-985A-FC235A132E1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9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FB42296-4D0D-4165-A11A-DC241A8465CC}"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9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93D2890E-9C78-43B8-A8DE-CA520E4A17E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AA0EC25D-3BE0-4DB7-B0EA-ECBD473AB2B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4722B-D059-4879-9BF1-157974709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62CFE928-A1A4-42B7-BE70-D44B9AB0DBA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A6C1357C-0DD4-48FE-9F4C-45C33DB796B1}"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1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09242E19-B88F-452A-A3E4-A5F5482A3895}"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4A10CAF5-B330-46E9-9E4B-5F0CC1D5A27A}"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2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EBAEF098-BA94-4860-A0BA-F5D591562633}"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1FBD9B48-2197-46F4-B2E6-3758A1C92072}"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99333D6A-D822-4201-8EAC-D0BA514F7CAF}"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710D0FE8-AA14-4188-9860-F623D8B4B64F}"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65FBB7B2-182A-4209-8FE9-A9F828D21FE7}"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49FE958-BD41-47FE-A3ED-8876EC072C5C}"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58A78-B9AA-410A-88E6-BED7A8FF2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6081BF61-886F-434E-B2DA-FB155B19A065}"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3D8632A0-CD81-4486-9E1C-E40019B39270}"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0C4EB95-09C9-4DC8-B2C2-68757A9209C7}"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5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AB198043-7333-461C-AD9F-2FB005EF04E1}"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5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29316E31-6FC8-4984-BDD2-4E0A088D65F6}"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1BD76E41-681E-457A-A58D-7C1337FC7EAA}"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7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9642AD93-00BF-4085-97AD-577EF3B37437}"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7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A4941BC4-CEBE-4CEE-9F1C-CB61424A9FD7}"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7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1CB34FCB-EE9A-42CB-8CFA-22E80140E428}"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5A3DB8B2-2444-4046-A3E6-8A9B514C0AED}"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32250-51C2-4291-B987-D14A49D7D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FDD36666-8CDE-49F8-A77E-0B3E39AFF590}"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127521E1-AE65-4D8B-9D85-80F6884C93FF}"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4BED0DCB-23CF-4AD9-BBBF-4EBE98FCE7B8}"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6DC9376D-31B1-484A-86B0-3858C3F32B95}"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9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C869D996-5809-4EA2-BA3D-A40BAC496126}"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9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8727AAD3-0190-41C7-8C2A-2BC37749A21A}"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0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1DE0E2AF-2D74-4D95-9B0A-BB60B1832A5E}"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21CC4B6F-5AF1-48B2-A5E8-E2B733E8BDBA}"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65B7C132-E31E-4E58-8A96-DCBCECB89B1C}"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BAE0B97F-2BE5-40A0-A120-AB00622B9AE1}"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A732C-7A2A-40CF-A02B-37A8A5531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8FA0C2E1-B5D4-43CD-93BD-1C89C3216C6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061EF938-1DC9-44B5-8ADB-64CD0716A0C5}"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EF9EA63F-065B-4F08-967D-79882A3A3C18}"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2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8215BD18-2958-48A0-BE22-04306B320A20}"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2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DF7D4D0-C023-4C00-A2AC-4A2E37515304}"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3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1B60E7C6-18D5-4FE6-855B-4495E35F446F}"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3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7DC6B875-89F9-4508-AD4D-390DE1816CD9}"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3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9DBCBC9E-35A4-46C3-82C7-095065A7BD8A}"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4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0C6783D4-ABE9-41C5-A5F2-D8D64A37B8AC}"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2B188A05-A296-4FA3-9320-C5851938B796}"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188D0D-51BE-4666-9DAD-08B451940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5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05F3B33A-9541-4541-9E80-4445EDF399AD}"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CA470999-E019-4113-B165-0859B5FB181E}"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09FED3D6-C123-4669-B99B-A992EE6DAF72}"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DAFD6980-4509-4DD8-83AC-C3134CA38B26}"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CF4A8B12-514C-4EEE-A1EC-938A904F841B}"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7CCEAAA9-CC7F-4F80-ACB4-C45CF99117AA}"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7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83EFE237-3C6D-4986-81D5-5B18997E1DBA}"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7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16C33C6-4AB2-4B13-BA27-91B0F7EF7145}"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7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9DC4445-D958-4A65-8282-90098F3FBCA4}"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8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ED2843BA-D8F1-485A-8D4A-DEC7772CD9FD}"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8C62E-E0B4-4DA0-A97F-5452AE1EB2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8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B3E75619-BC9A-4516-84B7-FF4CA53FA85C}"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36B0B50E-4E97-4A27-9822-7BC05382FE75}"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0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51FF0FF5-CF7E-4DC3-9F9B-CDD1C4C67663}"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0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940D483C-00D6-487B-9F2D-083153B9B583}"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0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84E5FA91-2067-43F8-A89E-3497F56BEEB7}"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BBE1FF3-6EFA-4506-BD1F-807C2F7CCC45}"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CDFA685-3D6B-4CF7-A619-74FF5049E517}"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1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BFCF1E73-E1F2-4878-BC91-92C866671E57}"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1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ACA169F1-A6A3-4848-9B50-F855E3E84C8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1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6EBC28DA-934C-4E6D-B291-FD4683278A4A}"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D2B8FA-94D5-4D70-B4CD-3C2AF11DD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2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EF4A9B43-A7CE-43F6-B920-B3A868A666FA}"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2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A3F27B6C-840C-431D-A0D5-06458F7F5738}"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3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BB9C747F-F2C8-45CE-868D-13D70ED3A4E4}"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BA7C5068-EE2F-42F7-B82D-2ED35DA21FF9}"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FBE20E6D-F723-4BFB-903B-F16903D6EE62}"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CC8D1CD8-8DEF-431D-B79A-1BAAC0E9B405}"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BF706D71-F624-490F-98D2-192C89C8AC41}"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16574A41-1B6F-4F93-A4B6-103098D1C177}"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591ED891-63D1-4AEC-A786-5EC8BAC0DDE7}"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5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681283FA-7D57-424A-A827-D595540D4C85}"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834266-A79E-403D-93ED-EDCBB5486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5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BFB2E6AE-4936-415C-B3D4-526E3BCC7AB4}"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E8E5C8F9-C0E7-4998-B518-90A08C958F21}"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35ECCDE3-342F-4A97-808B-CF8FE9EA6C90}"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2F67516D-4F93-48C4-A7B9-F7572DFA1AD7}"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7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C5E24984-8BB7-4434-8F24-13CE73ED77F9}"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A645EF3B-8562-4254-B82E-A948A5FABABA}"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8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E4683FFD-30CC-4E73-B85C-6FE0CF24AF29}"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9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76F561BB-DEB9-46EF-8604-5F7A44B726AF}"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9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532DA70D-F229-4B98-9FC8-7911C48958A3}"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D4266502-2473-44CF-A189-B1E49F08EE67}"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10FDF-1ECF-4CD5-8FCC-79388D75E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2A50C0CC-DF25-469B-AFCC-C88F1EC0B9EA}"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9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8FA53F37-AC9E-4591-B41E-F7C2D3DEE8BA}"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0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C05DC7BE-FBD9-4FF0-9578-5298FDD79D9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0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59F706B7-75A7-4BC1-BF99-7B511607A895}"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0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16BAF99C-82ED-4BCE-8CB6-78FD6EF13F60}"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1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CE4C675D-FF73-44EB-BE21-35EF5F5B6144}"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1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2A1286F2-AEDE-4481-B48C-ECFEEAB9ABFC}"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EC670890-3444-4D2C-92E3-21925D7BB22C}"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2"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0F2E628-44B8-4F6C-9AB9-22CC5BFCC426}"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4"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8F0FD4C5-F4B1-4009-A855-BDBEEEFC7741}"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6FDC-E92A-4C1C-8A0D-9310298C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02CD5-5D1F-48EA-9E1A-ABD73322A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8FD0D325-A954-4F4D-AB90-99E4F8EDF9B0}"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4343B846-8ED8-42E9-923A-4ABF485364DD}"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839A4050-2463-47D5-B79F-4C21ADE1D725}"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4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035E4D8A-B0A0-4CFE-94FB-1CEA106478B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4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BC6CE0AB-396D-49C0-8B31-216337FDB3C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4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7617047-79D0-4667-85FE-4B0253C390EF}"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53"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06D75DD5-36F0-4CEB-AFA7-75E0338DAD43}"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5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35BA3E35-0E5C-4136-A17B-DA7491F9F2C2}"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61"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A98CEABB-D785-4C1C-81F5-D5CE108E657F}"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56CE3-DD8F-483D-8390-3652D6569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06659-9AE5-4E84-AA99-8F40A28F7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D9E1A-F96B-4574-B1FE-BC1B39B75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0A49F-32DB-4CF7-8849-43E93712F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7061B-965A-4A41-98F8-2DCFE141C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5C037-5DBE-4917-92EB-F74F1BF93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AD745A-9C61-423F-9994-9E125D80B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7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E9C4A-2232-422E-92CB-993D19994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3CCC1E-DC21-4C7B-B129-6A89041754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FCCD7-FBA8-4080-929D-9976C38F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2"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F351F-EDEB-4B53-9F1C-201933CEB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4"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437A0-139A-4685-9C4C-4BD8F31EE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CB6CC-A62D-4F98-9B44-9010B586E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C30353-36C8-4861-B745-A814DC931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DCF5E-7500-4445-9A82-FC485D79B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FB3DC-0B08-42EB-A0EB-019D876BA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B904E-AD0D-4156-B5B1-A1F480755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E3D48-3ABD-4B29-8B7D-DC6A9E279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3"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A7EDEA-417D-4AEF-A83F-4B8F0FEE6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97D41-B433-478A-B7DA-F27E08866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2A2E4-96B3-4769-9E8D-CF1FF1E2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11"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E24892-3AD5-493C-9EF6-975CF44DCF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BCDD23-7541-4BAB-BD7F-84310B6A6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3"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856EFB-BEC7-4CB4-8970-E8F1BCE956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5"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68823-E023-4B8C-A41C-974DFAACF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B18DAD-3FD2-4D41-A02A-AAB79129E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A5DA5-EEE2-47E2-9F16-5CECC163F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FF422-DBD3-4327-B385-16B728BC2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564D6-12B5-46F9-8133-6A562A181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B8FEB-4331-4A5B-A46B-4B280025F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091699-820F-4833-959D-784195850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FD520-8C8C-48B1-A298-2E4B37DAC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4"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B176F-7E99-4A29-99BF-8C40857780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6EADF-BBB5-478B-A766-A47EB87F2A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52"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B2816-2462-4234-B1FC-0FE6357F33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5B9B9C-0496-437A-8D85-0826229FD4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2CD04C-7A6C-4A96-861A-0DDF91EC76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F1C74-1545-41E0-B851-7D9BD0999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36FB3-3315-4562-9994-39619A3E1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C3AF53-86AE-4EF2-AF07-9308C5452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9A4CE-8BB7-45D2-A340-F0FDD0FC5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1D1E3A-E40C-4F7F-9D71-F5773569C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ED46-B77F-4C28-8204-CC357D90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A24B9-97B4-4AA3-8F09-81A1F0CA7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E2C09-C002-4074-BB01-E3915AA88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B5407-B1F4-438B-868C-B7133D16C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F23DC0-CBAD-4FE7-A38D-F4C2829A20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9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7F3735-270D-48EA-AA45-E7ECF45315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C9EB4C-1D5A-4959-81DE-5DBD83522D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7387F-EF15-47A8-BFDF-CA63F183B6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1E098D-3936-4FD0-815B-441D55881C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6FE9AF-5AD6-433A-A187-C115F35637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895D60-9BCA-40CE-8461-976EFC5A9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A69B-07F4-41B1-AA27-527905E2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0EE1A-EBC8-4355-BC00-0B1F03CD5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EC9C5-84FD-496C-8B0C-A0C86F96FE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CA55C-3F85-4A45-BD66-A76E3965A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2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5ED22-E558-430B-A5FE-5050B34D4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2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E00A7-E2E7-4E7E-9026-D112EA9D93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2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33CEF7-0A91-4A76-86D1-C2CD0AD6DF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3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661753-D440-49BD-A70B-E54DF08E54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C9754E-7B2E-4F06-8F07-BBC27DB268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4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3C1C51-ECD8-4285-B71D-C66392F7C1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6B6C5-C16B-4751-90B6-62CD4F5123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 name="CCSSO_Color Bars_DESR2.png" descr="/Volumes/Clients/CCSSO/CCS007_Org Logo/Final/CCS007_OrgLogo_FINAL_121609/PNG/CCSSO_Color Bars_DESR2.png"/>
          <p:cNvPicPr/>
          <p:nvPr/>
        </p:nvPicPr>
        <p:blipFill>
          <a:blip r:embed="rId2"/>
          <a:stretch/>
        </p:blipFill>
        <p:spPr>
          <a:xfrm>
            <a:off x="-1440" y="6488280"/>
            <a:ext cx="914400" cy="380880"/>
          </a:xfrm>
          <a:prstGeom prst="rect">
            <a:avLst/>
          </a:prstGeom>
          <a:ln w="0">
            <a:noFill/>
          </a:ln>
        </p:spPr>
      </p:pic>
      <p:sp>
        <p:nvSpPr>
          <p:cNvPr id="2" name="Rectangle 14"/>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A206-B3CD-4A47-A41F-07B698057B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384" name="Rectangle 5"/>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38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8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F0DB-FFCF-4FC4-98DA-C2E181FAFE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7"/>
          <p:cNvSpPr/>
          <p:nvPr/>
        </p:nvSpPr>
        <p:spPr>
          <a:xfrm>
            <a:off x="0" y="0"/>
            <a:ext cx="475308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428" name="Rectangle 9"/>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354D-ED6F-484A-89FE-94679BA8A0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471" name="Rectangle 9"/>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930B-A0FE-4135-B8B5-94B119DE1F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6"/>
          <p:cNvSpPr/>
          <p:nvPr/>
        </p:nvSpPr>
        <p:spPr>
          <a:xfrm rot="5400000">
            <a:off x="3961800" y="3962160"/>
            <a:ext cx="914400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515" name="Rectangle 8"/>
          <p:cNvSpPr/>
          <p:nvPr/>
        </p:nvSpPr>
        <p:spPr>
          <a:xfrm rot="5400000">
            <a:off x="-3890880" y="4863960"/>
            <a:ext cx="815364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17"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1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CAD5-8BF5-42C9-906C-649428AF11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7"/>
          <p:cNvSpPr/>
          <p:nvPr/>
        </p:nvSpPr>
        <p:spPr>
          <a:xfrm>
            <a:off x="0" y="0"/>
            <a:ext cx="914400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8" name="CCSSO_Color Bars_DESR2.png" descr="/Volumes/Clients/CCSSO/CCS007_Org Logo/Final/CCS007_OrgLogo_FINAL_121609/PNG/CCSSO_Color Bars_DESR2.png"/>
          <p:cNvPicPr/>
          <p:nvPr/>
        </p:nvPicPr>
        <p:blipFill>
          <a:blip r:embed="rId2"/>
          <a:stretch/>
        </p:blipFill>
        <p:spPr>
          <a:xfrm>
            <a:off x="-1440" y="6488280"/>
            <a:ext cx="914400" cy="380880"/>
          </a:xfrm>
          <a:prstGeom prst="rect">
            <a:avLst/>
          </a:prstGeom>
          <a:ln w="0">
            <a:noFill/>
          </a:ln>
        </p:spPr>
      </p:pic>
      <p:sp>
        <p:nvSpPr>
          <p:cNvPr id="559" name="Rectangle 14"/>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1"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62" name="PlaceHolder 3"/>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F2DF-C8E7-4A4D-B92C-F2E3831194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56b"/>
        </a:solidFill>
      </p:bgPr>
    </p:bg>
    <p:spTree>
      <p:nvGrpSpPr>
        <p:cNvPr id="1" name=""/>
        <p:cNvGrpSpPr/>
        <p:nvPr/>
      </p:nvGrpSpPr>
      <p:grpSpPr>
        <a:xfrm>
          <a:off x="0" y="0"/>
          <a:ext cx="0" cy="0"/>
          <a:chOff x="0" y="0"/>
          <a:chExt cx="0" cy="0"/>
        </a:xfrm>
      </p:grpSpPr>
      <p:sp>
        <p:nvSpPr>
          <p:cNvPr id="599"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60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02"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03"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04"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A089-061B-4887-BEE8-6074B70BE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643" name="Rectangle 5"/>
          <p:cNvSpPr/>
          <p:nvPr/>
        </p:nvSpPr>
        <p:spPr>
          <a:xfrm>
            <a:off x="990720" y="6488280"/>
            <a:ext cx="815328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45"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46"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47"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ED8C-E7BB-4708-831E-E6D5693E72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7"/>
          <p:cNvSpPr/>
          <p:nvPr/>
        </p:nvSpPr>
        <p:spPr>
          <a:xfrm>
            <a:off x="0" y="0"/>
            <a:ext cx="4753080" cy="1219320"/>
          </a:xfrm>
          <a:prstGeom prst="rect">
            <a:avLst/>
          </a:prstGeom>
          <a:solidFill>
            <a:srgbClr val="4b056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6"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687" name="Rectangle 9"/>
          <p:cNvSpPr/>
          <p:nvPr/>
        </p:nvSpPr>
        <p:spPr>
          <a:xfrm>
            <a:off x="990720" y="6488280"/>
            <a:ext cx="815328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8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90"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91"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DAC8-33F3-405C-996C-4C5C353C9B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730" name="Rectangle 9"/>
          <p:cNvSpPr/>
          <p:nvPr/>
        </p:nvSpPr>
        <p:spPr>
          <a:xfrm>
            <a:off x="990720" y="6488280"/>
            <a:ext cx="815328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32"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733"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734"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9E99-847E-4B99-8A47-518AA4A7D6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6"/>
          <p:cNvSpPr/>
          <p:nvPr/>
        </p:nvSpPr>
        <p:spPr>
          <a:xfrm rot="5400000">
            <a:off x="3961800" y="3962160"/>
            <a:ext cx="9144000" cy="1219320"/>
          </a:xfrm>
          <a:prstGeom prst="rect">
            <a:avLst/>
          </a:prstGeom>
          <a:solidFill>
            <a:srgbClr val="4b056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3"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774" name="Rectangle 8"/>
          <p:cNvSpPr/>
          <p:nvPr/>
        </p:nvSpPr>
        <p:spPr>
          <a:xfrm rot="5400000">
            <a:off x="-3890880" y="4863960"/>
            <a:ext cx="815364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7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777"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778"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2B4E-298B-4B66-8530-E0AEEBE2C6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0" y="0"/>
            <a:ext cx="9144000" cy="1219320"/>
          </a:xfrm>
          <a:prstGeom prst="rect">
            <a:avLst/>
          </a:prstGeom>
          <a:solidFill>
            <a:srgbClr val="7d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CCSSO_Color Bars_DESR2.png" descr="/Volumes/Clients/CCSSO/CCS007_Org Logo/Final/CCS007_OrgLogo_FINAL_121609/PNG/CCSSO_Color Bars_DESR2.png"/>
          <p:cNvPicPr/>
          <p:nvPr/>
        </p:nvPicPr>
        <p:blipFill>
          <a:blip r:embed="rId2"/>
          <a:stretch/>
        </p:blipFill>
        <p:spPr>
          <a:xfrm>
            <a:off x="38160" y="6488280"/>
            <a:ext cx="914400" cy="380880"/>
          </a:xfrm>
          <a:prstGeom prst="rect">
            <a:avLst/>
          </a:prstGeom>
          <a:ln w="0">
            <a:noFill/>
          </a:ln>
        </p:spPr>
      </p:pic>
      <p:sp>
        <p:nvSpPr>
          <p:cNvPr id="46" name="Rectangle 14"/>
          <p:cNvSpPr/>
          <p:nvPr/>
        </p:nvSpPr>
        <p:spPr>
          <a:xfrm>
            <a:off x="990720" y="6488280"/>
            <a:ext cx="8153280" cy="380880"/>
          </a:xfrm>
          <a:prstGeom prst="rect">
            <a:avLst/>
          </a:prstGeom>
          <a:solidFill>
            <a:srgbClr val="7d6a5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7d6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7d6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7d6a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7d6a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7d6a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AA28-E106-45C5-BBFB-43BE7CA27A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16"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7"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81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1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20"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21"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60D4-329E-4F7D-8671-134779411C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860" name="Rectangle 5"/>
          <p:cNvSpPr/>
          <p:nvPr/>
        </p:nvSpPr>
        <p:spPr>
          <a:xfrm>
            <a:off x="990720" y="6488280"/>
            <a:ext cx="815328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2"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63"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4"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4D5C-6169-4B4D-8682-FD06BC8F5E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Rectangle 7"/>
          <p:cNvSpPr/>
          <p:nvPr/>
        </p:nvSpPr>
        <p:spPr>
          <a:xfrm>
            <a:off x="0" y="0"/>
            <a:ext cx="4753080" cy="1219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904" name="Rectangle 9"/>
          <p:cNvSpPr/>
          <p:nvPr/>
        </p:nvSpPr>
        <p:spPr>
          <a:xfrm>
            <a:off x="990720" y="6488280"/>
            <a:ext cx="815328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07"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08"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2090-2BDC-4C74-9D81-DB04941423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947" name="Rectangle 9"/>
          <p:cNvSpPr/>
          <p:nvPr/>
        </p:nvSpPr>
        <p:spPr>
          <a:xfrm>
            <a:off x="990720" y="6488280"/>
            <a:ext cx="815328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50"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51"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960D-899C-4738-833B-044CB68A99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6"/>
          <p:cNvSpPr/>
          <p:nvPr/>
        </p:nvSpPr>
        <p:spPr>
          <a:xfrm rot="5400000">
            <a:off x="3961800" y="3962160"/>
            <a:ext cx="9144000" cy="1219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0"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991" name="Rectangle 8"/>
          <p:cNvSpPr/>
          <p:nvPr/>
        </p:nvSpPr>
        <p:spPr>
          <a:xfrm rot="5400000">
            <a:off x="-3890880" y="4863960"/>
            <a:ext cx="815364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94"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95"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B377-864C-41D7-AB46-2A3F328197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2334"/>
        </a:solidFill>
      </p:bgPr>
    </p:bg>
    <p:spTree>
      <p:nvGrpSpPr>
        <p:cNvPr id="1" name=""/>
        <p:cNvGrpSpPr/>
        <p:nvPr/>
      </p:nvGrpSpPr>
      <p:grpSpPr>
        <a:xfrm>
          <a:off x="0" y="0"/>
          <a:ext cx="0" cy="0"/>
          <a:chOff x="0" y="0"/>
          <a:chExt cx="0" cy="0"/>
        </a:xfrm>
      </p:grpSpPr>
      <p:sp>
        <p:nvSpPr>
          <p:cNvPr id="1033"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4"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03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037"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38"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7EA3-EA07-4B68-AE35-7E9DFBE57C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077" name="Rectangle 5"/>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7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080"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81"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D295-2A52-4C1D-8E76-6C70F70826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Rectangle 7"/>
          <p:cNvSpPr/>
          <p:nvPr/>
        </p:nvSpPr>
        <p:spPr>
          <a:xfrm>
            <a:off x="0" y="0"/>
            <a:ext cx="475308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121" name="Rectangle 9"/>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24"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25"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6"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76AB-FED8-4E4F-A99A-5BD83A77F7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164" name="Rectangle 9"/>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6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67"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68"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A9F-F538-4648-AB65-4782C7566B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Rectangle 6"/>
          <p:cNvSpPr/>
          <p:nvPr/>
        </p:nvSpPr>
        <p:spPr>
          <a:xfrm rot="5400000">
            <a:off x="3961800" y="3962160"/>
            <a:ext cx="914400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7"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1208" name="Rectangle 8"/>
          <p:cNvSpPr/>
          <p:nvPr/>
        </p:nvSpPr>
        <p:spPr>
          <a:xfrm rot="5400000">
            <a:off x="-3890880" y="4863960"/>
            <a:ext cx="815364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1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11"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12"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0D56-4D49-42C7-B9E7-643D52FB5B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0" y="0"/>
            <a:ext cx="914400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90" name="Rectangle 14"/>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3"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5FE9-CA5E-4B2D-AFE1-2166BEFEEC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bb0"/>
        </a:solidFill>
      </p:bgPr>
    </p:bg>
    <p:spTree>
      <p:nvGrpSpPr>
        <p:cNvPr id="1" name=""/>
        <p:cNvGrpSpPr/>
        <p:nvPr/>
      </p:nvGrpSpPr>
      <p:grpSpPr>
        <a:xfrm>
          <a:off x="0" y="0"/>
          <a:ext cx="0" cy="0"/>
          <a:chOff x="0" y="0"/>
          <a:chExt cx="0" cy="0"/>
        </a:xfrm>
      </p:grpSpPr>
      <p:sp>
        <p:nvSpPr>
          <p:cNvPr id="1250"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1"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25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5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54"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5"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5C9B-208C-4AE1-B603-A9A119BF24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294" name="Rectangle 5"/>
          <p:cNvSpPr/>
          <p:nvPr/>
        </p:nvSpPr>
        <p:spPr>
          <a:xfrm>
            <a:off x="990720" y="6488280"/>
            <a:ext cx="815328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9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97"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98"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9"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9E88-34D0-45A5-A6D9-ED9D0D32BB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Rectangle 7"/>
          <p:cNvSpPr/>
          <p:nvPr/>
        </p:nvSpPr>
        <p:spPr>
          <a:xfrm>
            <a:off x="0" y="0"/>
            <a:ext cx="4753080" cy="1219320"/>
          </a:xfrm>
          <a:prstGeom prst="rect">
            <a:avLst/>
          </a:prstGeom>
          <a:solidFill>
            <a:srgbClr val="008b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7"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338" name="Rectangle 9"/>
          <p:cNvSpPr/>
          <p:nvPr/>
        </p:nvSpPr>
        <p:spPr>
          <a:xfrm>
            <a:off x="990720" y="6488280"/>
            <a:ext cx="815328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4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341"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2"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DFE2-D42B-490A-966A-A8E5FBAD98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381" name="Rectangle 9"/>
          <p:cNvSpPr/>
          <p:nvPr/>
        </p:nvSpPr>
        <p:spPr>
          <a:xfrm>
            <a:off x="990720" y="6488280"/>
            <a:ext cx="815328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384"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85"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BE5C-51FD-4AEE-BDFC-6E2428A8EC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Rectangle 6"/>
          <p:cNvSpPr/>
          <p:nvPr/>
        </p:nvSpPr>
        <p:spPr>
          <a:xfrm rot="5400000">
            <a:off x="3961800" y="3962160"/>
            <a:ext cx="9144000" cy="1219320"/>
          </a:xfrm>
          <a:prstGeom prst="rect">
            <a:avLst/>
          </a:prstGeom>
          <a:solidFill>
            <a:srgbClr val="008b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4"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1425" name="Rectangle 8"/>
          <p:cNvSpPr/>
          <p:nvPr/>
        </p:nvSpPr>
        <p:spPr>
          <a:xfrm rot="5400000">
            <a:off x="-3890880" y="4863960"/>
            <a:ext cx="815364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6"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7"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428"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29"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0"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FEF2-D899-43A5-B7D3-E26A5D81BE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7"/>
          <p:cNvSpPr/>
          <p:nvPr/>
        </p:nvSpPr>
        <p:spPr>
          <a:xfrm>
            <a:off x="0" y="0"/>
            <a:ext cx="914400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34" name="Rectangle 14"/>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5D94-E085-4A73-B2F2-C55185A107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9DB5-361E-4535-8C70-C26270AF5A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8"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1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AC2E-3336-4222-AC79-B7DAD99B4D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6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A6E3-4958-45EC-9221-40535E4476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B809-E7FC-4F78-98D8-68E3D3FEF6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b6e"/>
        </a:solidFill>
      </p:bgPr>
    </p:bg>
    <p:spTree>
      <p:nvGrpSpPr>
        <p:cNvPr id="1" name=""/>
        <p:cNvGrpSpPr/>
        <p:nvPr/>
      </p:nvGrpSpPr>
      <p:grpSpPr>
        <a:xfrm>
          <a:off x="0" y="0"/>
          <a:ext cx="0" cy="0"/>
          <a:chOff x="0" y="0"/>
          <a:chExt cx="0" cy="0"/>
        </a:xfrm>
      </p:grpSpPr>
      <p:sp>
        <p:nvSpPr>
          <p:cNvPr id="340"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1"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34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34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4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4764-0EA6-47E2-BC9D-7F05D3D284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csso.org/" TargetMode="External"/><Relationship Id="rId3" Type="http://schemas.openxmlformats.org/officeDocument/2006/relationships/hyperlink" Target="mailto:carrieh@ccsso.org"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272520" y="2133720"/>
            <a:ext cx="8464680" cy="429264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Calibri"/>
              </a:rPr>
              <a:t>Common Core State Standards in Mathematics</a:t>
            </a:r>
            <a:endParaRPr b="0" lang="en-US" sz="5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RIE HEATH PHILLIPS</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PTEMBER 7, 2011</a:t>
            </a:r>
            <a:endParaRPr b="0" lang="en-US" sz="4000" spc="-1" strike="noStrike">
              <a:solidFill>
                <a:srgbClr val="000000"/>
              </a:solidFill>
              <a:latin typeface="Arial"/>
            </a:endParaRPr>
          </a:p>
        </p:txBody>
      </p:sp>
      <p:sp>
        <p:nvSpPr>
          <p:cNvPr id="147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73" name="Picture 1" descr=""/>
          <p:cNvPicPr/>
          <p:nvPr/>
        </p:nvPicPr>
        <p:blipFill>
          <a:blip r:embed="rId1"/>
          <a:stretch/>
        </p:blipFill>
        <p:spPr>
          <a:xfrm>
            <a:off x="2570040" y="0"/>
            <a:ext cx="400392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Math Key Advances</a:t>
            </a:r>
            <a:endParaRPr b="0" lang="en-US" sz="3200" spc="-1" strike="noStrike">
              <a:solidFill>
                <a:srgbClr val="ffffff"/>
              </a:solidFill>
              <a:latin typeface="Arial Black"/>
            </a:endParaRPr>
          </a:p>
        </p:txBody>
      </p:sp>
      <p:sp>
        <p:nvSpPr>
          <p:cNvPr id="1492" name="PlaceHolder 2"/>
          <p:cNvSpPr>
            <a:spLocks noGrp="1"/>
          </p:cNvSpPr>
          <p:nvPr>
            <p:ph/>
          </p:nvPr>
        </p:nvSpPr>
        <p:spPr>
          <a:xfrm>
            <a:off x="266760" y="1255320"/>
            <a:ext cx="8648640" cy="5087880"/>
          </a:xfrm>
          <a:prstGeom prst="rect">
            <a:avLst/>
          </a:prstGeom>
          <a:noFill/>
          <a:ln w="0">
            <a:noFill/>
          </a:ln>
        </p:spPr>
        <p:txBody>
          <a:bodyPr anchor="t">
            <a:normAutofit/>
          </a:bodyPr>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e</a:t>
            </a: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of concepts and skills </a:t>
            </a:r>
            <a:endParaRPr b="0" lang="en-US" sz="3200" spc="-1" strike="noStrike">
              <a:solidFill>
                <a:srgbClr val="000000"/>
              </a:solidFill>
              <a:latin typeface="Arial"/>
            </a:endParaRPr>
          </a:p>
          <a:p>
            <a:pPr lvl="1" marL="743040" indent="-285840">
              <a:lnSpc>
                <a:spcPct val="9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ep understanding and procedural fluency</a:t>
            </a:r>
            <a:endParaRPr b="0" lang="en-US" sz="2800" spc="-1" strike="noStrike">
              <a:solidFill>
                <a:srgbClr val="000000"/>
              </a:solidFill>
              <a:latin typeface="Arial"/>
            </a:endParaRPr>
          </a:p>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al practices</a:t>
            </a:r>
            <a:endParaRPr b="0" lang="en-US" sz="3200" spc="-1" strike="noStrike">
              <a:solidFill>
                <a:srgbClr val="000000"/>
              </a:solidFill>
              <a:latin typeface="Arial"/>
            </a:endParaRPr>
          </a:p>
          <a:p>
            <a:pPr lvl="1" marL="743040" indent="-285840">
              <a:lnSpc>
                <a:spcPct val="9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reasoning and sense-making in mathematics</a:t>
            </a:r>
            <a:endParaRPr b="0" lang="en-US" sz="2800" spc="-1" strike="noStrike">
              <a:solidFill>
                <a:srgbClr val="000000"/>
              </a:solidFill>
              <a:latin typeface="Arial"/>
            </a:endParaRPr>
          </a:p>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a:t>
            </a: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and communication </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New Common Summative Assessment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494" name=""/>
          <p:cNvSpPr txBox="1"/>
          <p:nvPr/>
        </p:nvSpPr>
        <p:spPr>
          <a:xfrm>
            <a:off x="341280" y="1623600"/>
            <a:ext cx="8329680" cy="4713480"/>
          </a:xfrm>
          <a:prstGeom prst="rect">
            <a:avLst/>
          </a:prstGeom>
          <a:noFill/>
          <a:ln w="0">
            <a:noFill/>
          </a:ln>
        </p:spPr>
        <p:txBody>
          <a:bodyPr anchor="t">
            <a:normAutofit/>
          </a:bodyPr>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ssessment consortia</a:t>
            </a:r>
            <a:endParaRPr b="0" lang="en-US" sz="3200" spc="-1" strike="noStrike">
              <a:solidFill>
                <a:srgbClr val="000000"/>
              </a:solidFill>
              <a:latin typeface="Arial"/>
            </a:endParaRPr>
          </a:p>
          <a:p>
            <a:pPr lvl="1" marL="743040" indent="-28584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for Readiness for College and Career (PARCC)</a:t>
            </a:r>
            <a:endParaRPr b="0" lang="en-US" sz="2800" spc="-1" strike="noStrike">
              <a:solidFill>
                <a:srgbClr val="000000"/>
              </a:solidFill>
              <a:latin typeface="Arial"/>
            </a:endParaRPr>
          </a:p>
          <a:p>
            <a:pPr lvl="1" marL="743040" indent="-28584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ER Balanced</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ummative assessments used for accountability purposes in 2014-2015 school year</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5" name="Picture Placeholder 6" descr="PARCC-States-with-Governing.png"/>
          <p:cNvPicPr/>
          <p:nvPr/>
        </p:nvPicPr>
        <p:blipFill>
          <a:blip r:embed="rId1"/>
          <a:srcRect l="154" t="0" r="154" b="0"/>
          <a:stretch/>
        </p:blipFill>
        <p:spPr>
          <a:xfrm>
            <a:off x="0" y="1371600"/>
            <a:ext cx="9144000" cy="5181480"/>
          </a:xfrm>
          <a:prstGeom prst="rect">
            <a:avLst/>
          </a:prstGeom>
          <a:ln w="0">
            <a:noFill/>
          </a:ln>
        </p:spPr>
      </p:pic>
      <p:sp>
        <p:nvSpPr>
          <p:cNvPr id="1496" name="PlaceHolder 1"/>
          <p:cNvSpPr>
            <a:spLocks noGrp="1"/>
          </p:cNvSpPr>
          <p:nvPr>
            <p:ph type="title"/>
          </p:nvPr>
        </p:nvSpPr>
        <p:spPr>
          <a:xfrm>
            <a:off x="171360" y="-360"/>
            <a:ext cx="897264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artnership for Assessment of Readiness for College and Careers (PARCC)</a:t>
            </a:r>
            <a:endParaRPr b="0" lang="en-US" sz="2400" spc="-1" strike="noStrike">
              <a:solidFill>
                <a:srgbClr val="ffffff"/>
              </a:solidFill>
              <a:latin typeface="Arial Black"/>
            </a:endParaRPr>
          </a:p>
        </p:txBody>
      </p:sp>
      <p:sp>
        <p:nvSpPr>
          <p:cNvPr id="1497" name="TextBox 14"/>
          <p:cNvSpPr/>
          <p:nvPr/>
        </p:nvSpPr>
        <p:spPr>
          <a:xfrm>
            <a:off x="3124080" y="6170760"/>
            <a:ext cx="4419720" cy="3034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Governing Board States                Participating States</a:t>
            </a:r>
            <a:endParaRPr b="0" lang="en-US" sz="1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313920" y="77400"/>
            <a:ext cx="8366040" cy="1143000"/>
          </a:xfrm>
          <a:prstGeom prst="rect">
            <a:avLst/>
          </a:prstGeom>
          <a:noFill/>
          <a:ln w="0">
            <a:noFill/>
          </a:ln>
        </p:spPr>
        <p:txBody>
          <a:bodyPr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RCC Assessment Design </a:t>
            </a:r>
            <a:br>
              <a:rPr sz="3200"/>
            </a:br>
            <a:r>
              <a:rPr b="0" lang="en-US" sz="3200" spc="-1" strike="noStrike">
                <a:solidFill>
                  <a:srgbClr val="ffffff"/>
                </a:solidFill>
                <a:latin typeface="Arial Black"/>
              </a:rPr>
              <a:t>Within Year</a:t>
            </a:r>
            <a:endParaRPr b="0" lang="en-US" sz="3200" spc="-1" strike="noStrike">
              <a:solidFill>
                <a:srgbClr val="ffffff"/>
              </a:solidFill>
              <a:latin typeface="Arial Black"/>
            </a:endParaRPr>
          </a:p>
        </p:txBody>
      </p:sp>
      <p:pic>
        <p:nvPicPr>
          <p:cNvPr id="1499" name="Picture 5" descr="yearbar.png"/>
          <p:cNvPicPr/>
          <p:nvPr/>
        </p:nvPicPr>
        <p:blipFill>
          <a:blip r:embed="rId1"/>
          <a:stretch/>
        </p:blipFill>
        <p:spPr>
          <a:xfrm>
            <a:off x="76320" y="1281240"/>
            <a:ext cx="8686800" cy="990360"/>
          </a:xfrm>
          <a:prstGeom prst="rect">
            <a:avLst/>
          </a:prstGeom>
          <a:ln w="0">
            <a:noFill/>
          </a:ln>
        </p:spPr>
      </p:pic>
      <p:grpSp>
        <p:nvGrpSpPr>
          <p:cNvPr id="1500" name="Group 39"/>
          <p:cNvGrpSpPr/>
          <p:nvPr/>
        </p:nvGrpSpPr>
        <p:grpSpPr>
          <a:xfrm>
            <a:off x="7120080" y="2006640"/>
            <a:ext cx="1901520" cy="2438280"/>
            <a:chOff x="7120080" y="2006640"/>
            <a:chExt cx="1901520" cy="2438280"/>
          </a:xfrm>
        </p:grpSpPr>
        <p:sp>
          <p:nvSpPr>
            <p:cNvPr id="1501" name="Straight Connector 7"/>
            <p:cNvSpPr/>
            <p:nvPr/>
          </p:nvSpPr>
          <p:spPr>
            <a:xfrm>
              <a:off x="7951680" y="2006640"/>
              <a:ext cx="0" cy="1458720"/>
            </a:xfrm>
            <a:prstGeom prst="line">
              <a:avLst/>
            </a:prstGeom>
            <a:ln w="38160">
              <a:solidFill>
                <a:srgbClr val="72bf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02" name="Picture 5" descr="clipboard.png"/>
            <p:cNvPicPr/>
            <p:nvPr/>
          </p:nvPicPr>
          <p:blipFill>
            <a:blip r:embed="rId2"/>
            <a:stretch/>
          </p:blipFill>
          <p:spPr>
            <a:xfrm>
              <a:off x="7120080" y="2616120"/>
              <a:ext cx="1901520" cy="1828800"/>
            </a:xfrm>
            <a:prstGeom prst="rect">
              <a:avLst/>
            </a:prstGeom>
            <a:ln w="0">
              <a:noFill/>
            </a:ln>
          </p:spPr>
        </p:pic>
        <p:sp>
          <p:nvSpPr>
            <p:cNvPr id="1503" name="TextBox 35"/>
            <p:cNvSpPr/>
            <p:nvPr/>
          </p:nvSpPr>
          <p:spPr>
            <a:xfrm>
              <a:off x="7121520" y="3225960"/>
              <a:ext cx="17431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End-of-Year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ssessment</a:t>
              </a:r>
              <a:endParaRPr b="0" lang="en-US" sz="1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novative, computer-based item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grpSp>
        <p:nvGrpSpPr>
          <p:cNvPr id="1504" name="Group 34"/>
          <p:cNvGrpSpPr/>
          <p:nvPr/>
        </p:nvGrpSpPr>
        <p:grpSpPr>
          <a:xfrm>
            <a:off x="5056200" y="2063880"/>
            <a:ext cx="1913040" cy="2431800"/>
            <a:chOff x="5056200" y="2063880"/>
            <a:chExt cx="1913040" cy="2431800"/>
          </a:xfrm>
        </p:grpSpPr>
        <p:sp>
          <p:nvSpPr>
            <p:cNvPr id="1505" name="Straight Connector 12"/>
            <p:cNvSpPr/>
            <p:nvPr/>
          </p:nvSpPr>
          <p:spPr>
            <a:xfrm>
              <a:off x="5994360" y="2063880"/>
              <a:ext cx="0" cy="1704960"/>
            </a:xfrm>
            <a:prstGeom prst="line">
              <a:avLst/>
            </a:prstGeom>
            <a:ln w="38160">
              <a:solidFill>
                <a:srgbClr val="72bf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06" name="Picture 18" descr="clipboard.png"/>
            <p:cNvPicPr/>
            <p:nvPr/>
          </p:nvPicPr>
          <p:blipFill>
            <a:blip r:embed="rId3"/>
            <a:stretch/>
          </p:blipFill>
          <p:spPr>
            <a:xfrm>
              <a:off x="5066640" y="2667240"/>
              <a:ext cx="1902600" cy="1828440"/>
            </a:xfrm>
            <a:prstGeom prst="rect">
              <a:avLst/>
            </a:prstGeom>
            <a:ln w="0">
              <a:noFill/>
            </a:ln>
          </p:spPr>
        </p:pic>
        <p:sp>
          <p:nvSpPr>
            <p:cNvPr id="1507" name="TextBox 15"/>
            <p:cNvSpPr/>
            <p:nvPr/>
          </p:nvSpPr>
          <p:spPr>
            <a:xfrm>
              <a:off x="5056200" y="3279960"/>
              <a:ext cx="18734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formance-Based</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ssment (PBA)</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tasks</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of concepts and skills</a:t>
              </a:r>
              <a:endParaRPr b="0" lang="en-US" sz="1000" spc="-1" strike="noStrike">
                <a:solidFill>
                  <a:srgbClr val="000000"/>
                </a:solidFill>
                <a:latin typeface="Calibri"/>
              </a:endParaRPr>
            </a:p>
          </p:txBody>
        </p:sp>
      </p:grpSp>
      <p:grpSp>
        <p:nvGrpSpPr>
          <p:cNvPr id="1508" name="Group 43"/>
          <p:cNvGrpSpPr/>
          <p:nvPr/>
        </p:nvGrpSpPr>
        <p:grpSpPr>
          <a:xfrm>
            <a:off x="192240" y="5091120"/>
            <a:ext cx="4173480" cy="838080"/>
            <a:chOff x="192240" y="5091120"/>
            <a:chExt cx="4173480" cy="838080"/>
          </a:xfrm>
        </p:grpSpPr>
        <p:pic>
          <p:nvPicPr>
            <p:cNvPr id="1509" name="Picture 44" descr="key.png"/>
            <p:cNvPicPr/>
            <p:nvPr/>
          </p:nvPicPr>
          <p:blipFill>
            <a:blip r:embed="rId4">
              <a:lum bright="8000"/>
            </a:blip>
            <a:stretch/>
          </p:blipFill>
          <p:spPr>
            <a:xfrm>
              <a:off x="192240" y="5091120"/>
              <a:ext cx="4142160" cy="838080"/>
            </a:xfrm>
            <a:prstGeom prst="rect">
              <a:avLst/>
            </a:prstGeom>
            <a:ln w="0">
              <a:noFill/>
            </a:ln>
          </p:spPr>
        </p:pic>
        <p:sp>
          <p:nvSpPr>
            <p:cNvPr id="1510" name="TextBox 29"/>
            <p:cNvSpPr/>
            <p:nvPr/>
          </p:nvSpPr>
          <p:spPr>
            <a:xfrm>
              <a:off x="865080" y="5246640"/>
              <a:ext cx="134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tive assessment for accountability</a:t>
              </a:r>
              <a:endParaRPr b="0" lang="en-US" sz="1000" spc="-1" strike="noStrike">
                <a:solidFill>
                  <a:srgbClr val="000000"/>
                </a:solidFill>
                <a:latin typeface="Calibri"/>
              </a:endParaRPr>
            </a:p>
          </p:txBody>
        </p:sp>
        <p:sp>
          <p:nvSpPr>
            <p:cNvPr id="1511" name="TextBox 30"/>
            <p:cNvSpPr/>
            <p:nvPr/>
          </p:nvSpPr>
          <p:spPr>
            <a:xfrm>
              <a:off x="2986200" y="5319720"/>
              <a:ext cx="1379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assessment</a:t>
              </a:r>
              <a:endParaRPr b="0" lang="en-US" sz="1000" spc="-1" strike="noStrike">
                <a:solidFill>
                  <a:srgbClr val="000000"/>
                </a:solidFill>
                <a:latin typeface="Calibri"/>
              </a:endParaRPr>
            </a:p>
          </p:txBody>
        </p:sp>
      </p:grpSp>
      <p:grpSp>
        <p:nvGrpSpPr>
          <p:cNvPr id="1512" name="Group 47"/>
          <p:cNvGrpSpPr/>
          <p:nvPr/>
        </p:nvGrpSpPr>
        <p:grpSpPr>
          <a:xfrm>
            <a:off x="457200" y="2895480"/>
            <a:ext cx="1738440" cy="1828800"/>
            <a:chOff x="457200" y="2895480"/>
            <a:chExt cx="1738440" cy="1828800"/>
          </a:xfrm>
        </p:grpSpPr>
        <p:pic>
          <p:nvPicPr>
            <p:cNvPr id="1513" name="Picture 6" descr="clipboard-faded.png"/>
            <p:cNvPicPr/>
            <p:nvPr/>
          </p:nvPicPr>
          <p:blipFill>
            <a:blip r:embed="rId5">
              <a:lum bright="12000"/>
            </a:blip>
            <a:stretch/>
          </p:blipFill>
          <p:spPr>
            <a:xfrm>
              <a:off x="467280" y="2895480"/>
              <a:ext cx="1728360" cy="1828800"/>
            </a:xfrm>
            <a:prstGeom prst="rect">
              <a:avLst/>
            </a:prstGeom>
            <a:ln w="0">
              <a:noFill/>
            </a:ln>
          </p:spPr>
        </p:pic>
        <p:sp>
          <p:nvSpPr>
            <p:cNvPr id="1514" name="TextBox 39"/>
            <p:cNvSpPr/>
            <p:nvPr/>
          </p:nvSpPr>
          <p:spPr>
            <a:xfrm>
              <a:off x="457200" y="3435120"/>
              <a:ext cx="1676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rly Assessment</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indicator of student knowledge and skills to inform instruction, supports, and PD</a:t>
              </a:r>
              <a:endParaRPr b="0" lang="en-US" sz="1000" spc="-1" strike="noStrike">
                <a:solidFill>
                  <a:srgbClr val="000000"/>
                </a:solidFill>
                <a:latin typeface="Calibri"/>
              </a:endParaRPr>
            </a:p>
          </p:txBody>
        </p:sp>
      </p:grpSp>
      <p:grpSp>
        <p:nvGrpSpPr>
          <p:cNvPr id="1515" name="Group 47"/>
          <p:cNvGrpSpPr/>
          <p:nvPr/>
        </p:nvGrpSpPr>
        <p:grpSpPr>
          <a:xfrm>
            <a:off x="4662360" y="4849920"/>
            <a:ext cx="1143000" cy="1218960"/>
            <a:chOff x="4662360" y="4849920"/>
            <a:chExt cx="1143000" cy="1218960"/>
          </a:xfrm>
        </p:grpSpPr>
        <p:pic>
          <p:nvPicPr>
            <p:cNvPr id="1516" name="Picture 6" descr="clipboard-faded.png"/>
            <p:cNvPicPr/>
            <p:nvPr/>
          </p:nvPicPr>
          <p:blipFill>
            <a:blip r:embed="rId6">
              <a:lum bright="12000"/>
            </a:blip>
            <a:stretch/>
          </p:blipFill>
          <p:spPr>
            <a:xfrm>
              <a:off x="4662360" y="4849920"/>
              <a:ext cx="1143000" cy="1218960"/>
            </a:xfrm>
            <a:prstGeom prst="rect">
              <a:avLst/>
            </a:prstGeom>
            <a:ln w="0">
              <a:noFill/>
            </a:ln>
          </p:spPr>
        </p:pic>
        <p:sp>
          <p:nvSpPr>
            <p:cNvPr id="1517" name="TextBox 35"/>
            <p:cNvSpPr/>
            <p:nvPr/>
          </p:nvSpPr>
          <p:spPr>
            <a:xfrm>
              <a:off x="4662360" y="5209560"/>
              <a:ext cx="1143000" cy="5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A/Literacy</a:t>
              </a:r>
              <a:endParaRPr b="0" lang="en-US" sz="1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aking</a:t>
              </a:r>
              <a:endParaRPr b="0" lang="en-US" sz="1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stening</a:t>
              </a:r>
              <a:endParaRPr b="0" lang="en-US" sz="1100" spc="-1" strike="noStrike">
                <a:solidFill>
                  <a:srgbClr val="000000"/>
                </a:solidFill>
                <a:latin typeface="Calibri"/>
              </a:endParaRPr>
            </a:p>
          </p:txBody>
        </p:sp>
      </p:grpSp>
      <p:sp>
        <p:nvSpPr>
          <p:cNvPr id="1518" name="Straight Connector 4"/>
          <p:cNvSpPr/>
          <p:nvPr/>
        </p:nvSpPr>
        <p:spPr>
          <a:xfrm flipH="1">
            <a:off x="5181120" y="4952880"/>
            <a:ext cx="1800" cy="344520"/>
          </a:xfrm>
          <a:prstGeom prst="line">
            <a:avLst/>
          </a:prstGeom>
          <a:ln w="2232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519" name="Straight Arrow Connector 23"/>
          <p:cNvCxnSpPr/>
          <p:nvPr/>
        </p:nvCxnSpPr>
        <p:spPr>
          <a:xfrm flipH="1">
            <a:off x="3445920" y="4849560"/>
            <a:ext cx="3577320" cy="1080"/>
          </a:xfrm>
          <a:prstGeom prst="straightConnector1">
            <a:avLst/>
          </a:prstGeom>
          <a:ln w="22320">
            <a:solidFill>
              <a:srgbClr val="b6dcdf"/>
            </a:solidFill>
            <a:prstDash val="dash"/>
            <a:miter/>
            <a:headEnd len="med" type="arrow" w="med"/>
            <a:tailEnd len="med" type="arrow" w="med"/>
          </a:ln>
        </p:spPr>
      </p:cxnSp>
      <p:sp>
        <p:nvSpPr>
          <p:cNvPr id="1520" name="TextBox 34"/>
          <p:cNvSpPr/>
          <p:nvPr/>
        </p:nvSpPr>
        <p:spPr>
          <a:xfrm>
            <a:off x="533520" y="2235240"/>
            <a:ext cx="4038480" cy="276480"/>
          </a:xfrm>
          <a:prstGeom prst="rect">
            <a:avLst/>
          </a:prstGeom>
          <a:solidFill>
            <a:srgbClr val="ffffff"/>
          </a:solidFill>
          <a:ln w="25560">
            <a:solidFill>
              <a:srgbClr val="72bfc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Flexible</a:t>
            </a:r>
            <a:endParaRPr b="0" lang="en-US" sz="1200" spc="-1" strike="noStrike">
              <a:solidFill>
                <a:srgbClr val="000000"/>
              </a:solidFill>
              <a:latin typeface="Calibri"/>
            </a:endParaRPr>
          </a:p>
        </p:txBody>
      </p:sp>
      <p:cxnSp>
        <p:nvCxnSpPr>
          <p:cNvPr id="1521" name="Straight Arrow Connector 38"/>
          <p:cNvCxnSpPr/>
          <p:nvPr/>
        </p:nvCxnSpPr>
        <p:spPr>
          <a:xfrm flipH="1">
            <a:off x="533160" y="2723040"/>
            <a:ext cx="3962880" cy="19800"/>
          </a:xfrm>
          <a:prstGeom prst="straightConnector1">
            <a:avLst/>
          </a:prstGeom>
          <a:ln w="22320">
            <a:solidFill>
              <a:srgbClr val="b6dcdf"/>
            </a:solidFill>
            <a:prstDash val="dash"/>
            <a:miter/>
            <a:headEnd len="med" type="arrow" w="med"/>
            <a:tailEnd len="med" type="arrow" w="med"/>
          </a:ln>
        </p:spPr>
      </p:cxnSp>
      <p:grpSp>
        <p:nvGrpSpPr>
          <p:cNvPr id="1522" name="Group 47"/>
          <p:cNvGrpSpPr/>
          <p:nvPr/>
        </p:nvGrpSpPr>
        <p:grpSpPr>
          <a:xfrm>
            <a:off x="2666880" y="2895480"/>
            <a:ext cx="1905120" cy="1828800"/>
            <a:chOff x="2666880" y="2895480"/>
            <a:chExt cx="1905120" cy="1828800"/>
          </a:xfrm>
        </p:grpSpPr>
        <p:pic>
          <p:nvPicPr>
            <p:cNvPr id="1523" name="Picture 6" descr="clipboard-faded.png"/>
            <p:cNvPicPr/>
            <p:nvPr/>
          </p:nvPicPr>
          <p:blipFill>
            <a:blip r:embed="rId7">
              <a:lum bright="12000"/>
            </a:blip>
            <a:stretch/>
          </p:blipFill>
          <p:spPr>
            <a:xfrm>
              <a:off x="2753280" y="2895480"/>
              <a:ext cx="1728360" cy="1828800"/>
            </a:xfrm>
            <a:prstGeom prst="rect">
              <a:avLst/>
            </a:prstGeom>
            <a:ln w="0">
              <a:noFill/>
            </a:ln>
          </p:spPr>
        </p:pic>
        <p:sp>
          <p:nvSpPr>
            <p:cNvPr id="1524" name="TextBox 47"/>
            <p:cNvSpPr/>
            <p:nvPr/>
          </p:nvSpPr>
          <p:spPr>
            <a:xfrm>
              <a:off x="2666880" y="3435120"/>
              <a:ext cx="1905120" cy="25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5" name="TextBox 48"/>
          <p:cNvSpPr/>
          <p:nvPr/>
        </p:nvSpPr>
        <p:spPr>
          <a:xfrm>
            <a:off x="2743200" y="3429000"/>
            <a:ext cx="1676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id-Year Assessment</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based</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s on hard to measure standards</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ly  summative</a:t>
            </a:r>
            <a:endParaRPr b="0" lang="en-US" sz="1000" spc="-1" strike="noStrike">
              <a:solidFill>
                <a:srgbClr val="000000"/>
              </a:solidFill>
              <a:latin typeface="Calibri"/>
            </a:endParaRPr>
          </a:p>
        </p:txBody>
      </p:sp>
      <p:sp>
        <p:nvSpPr>
          <p:cNvPr id="1526" name="TextBox 31"/>
          <p:cNvSpPr/>
          <p:nvPr/>
        </p:nvSpPr>
        <p:spPr>
          <a:xfrm>
            <a:off x="6480" y="6124680"/>
            <a:ext cx="600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ea typeface="ＭＳ Ｐゴシック"/>
              </a:rPr>
              <a:t>Source: Center for K–12 Assessment &amp; Performance Management at ETS</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231840" y="77400"/>
            <a:ext cx="862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marter Balanced Assessment Consortium</a:t>
            </a:r>
            <a:endParaRPr b="0" lang="en-US" sz="2800" spc="-1" strike="noStrike">
              <a:solidFill>
                <a:srgbClr val="ffffff"/>
              </a:solidFill>
              <a:latin typeface="Arial Black"/>
            </a:endParaRPr>
          </a:p>
        </p:txBody>
      </p:sp>
      <p:graphicFrame>
        <p:nvGraphicFramePr>
          <p:cNvPr id="1528" name=""/>
          <p:cNvGraphicFramePr/>
          <p:nvPr/>
        </p:nvGraphicFramePr>
        <p:xfrm>
          <a:off x="858960" y="3300480"/>
          <a:ext cx="7412040" cy="1104840"/>
        </p:xfrm>
        <a:graphic>
          <a:graphicData uri="http://schemas.openxmlformats.org/drawingml/2006/table">
            <a:tbl>
              <a:tblPr/>
              <a:tblGrid>
                <a:gridCol w="7185240"/>
                <a:gridCol w="226800"/>
              </a:tblGrid>
              <a:tr h="368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w="5760">
                      <a:solidFill>
                        <a:srgbClr val="000000"/>
                      </a:solidFill>
                    </a:lnT>
                    <a:lnB w="5760">
                      <a:solidFill>
                        <a:srgbClr val="000000"/>
                      </a:solidFill>
                    </a:lnB>
                    <a:noFill/>
                  </a:tcPr>
                </a:tc>
              </a:tr>
              <a:tr h="739800">
                <a:tc>
                  <a:txBody>
                    <a:bodyPr lIns="95400" rIns="95400" tIns="95400" bIns="9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5400" marR="95400">
                    <a:lnL>
                      <a:noFill/>
                    </a:lnL>
                    <a:lnR>
                      <a:noFill/>
                    </a:lnR>
                    <a:lnT>
                      <a:noFill/>
                    </a:lnT>
                    <a:lnB>
                      <a:noFill/>
                    </a:lnB>
                    <a:solidFill>
                      <a:srgbClr val="ffffff"/>
                    </a:solidFill>
                  </a:tcPr>
                </a:tc>
                <a:tc>
                  <a:txBody>
                    <a:bodyPr lIns="95400" rIns="95400" tIns="95400" bIns="9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txBody>
                  <a:tcPr anchor="t" marL="95400" marR="95400">
                    <a:lnL>
                      <a:noFill/>
                    </a:lnL>
                    <a:lnR>
                      <a:noFill/>
                    </a:lnR>
                    <a:lnT w="5760">
                      <a:solidFill>
                        <a:srgbClr val="000000"/>
                      </a:solidFill>
                    </a:lnT>
                    <a:lnB>
                      <a:noFill/>
                    </a:lnB>
                    <a:solidFill>
                      <a:srgbClr val="ffffff"/>
                    </a:solidFill>
                  </a:tcPr>
                </a:tc>
              </a:tr>
            </a:tbl>
          </a:graphicData>
        </a:graphic>
      </p:graphicFrame>
      <p:pic>
        <p:nvPicPr>
          <p:cNvPr id="1529" name="Picture 1" descr=""/>
          <p:cNvPicPr/>
          <p:nvPr/>
        </p:nvPicPr>
        <p:blipFill>
          <a:blip r:embed="rId1"/>
          <a:stretch/>
        </p:blipFill>
        <p:spPr>
          <a:xfrm>
            <a:off x="612720" y="1300320"/>
            <a:ext cx="8131320" cy="512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0" name="Picture 3" descr=""/>
          <p:cNvPicPr/>
          <p:nvPr/>
        </p:nvPicPr>
        <p:blipFill>
          <a:blip r:embed="rId1"/>
          <a:stretch/>
        </p:blipFill>
        <p:spPr>
          <a:xfrm>
            <a:off x="0" y="503280"/>
            <a:ext cx="9144000" cy="5292720"/>
          </a:xfrm>
          <a:prstGeom prst="rect">
            <a:avLst/>
          </a:prstGeom>
          <a:ln w="0">
            <a:noFill/>
          </a:ln>
        </p:spPr>
      </p:pic>
      <p:sp>
        <p:nvSpPr>
          <p:cNvPr id="1531" name="TextBox 2"/>
          <p:cNvSpPr/>
          <p:nvPr/>
        </p:nvSpPr>
        <p:spPr>
          <a:xfrm>
            <a:off x="0" y="6210360"/>
            <a:ext cx="600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ea typeface="ＭＳ Ｐゴシック"/>
              </a:rPr>
              <a:t>Source: Center for K–12 Assessment &amp; Performance Management at ET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2"/>
          <p:cNvSpPr/>
          <p:nvPr/>
        </p:nvSpPr>
        <p:spPr>
          <a:xfrm>
            <a:off x="299880" y="0"/>
            <a:ext cx="8844120" cy="12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nsortia Similarities</a:t>
            </a:r>
            <a:endParaRPr b="0" lang="en-US" sz="4000" spc="-1" strike="noStrike">
              <a:solidFill>
                <a:srgbClr val="000000"/>
              </a:solidFill>
              <a:latin typeface="Calibri"/>
            </a:endParaRPr>
          </a:p>
        </p:txBody>
      </p:sp>
      <p:sp>
        <p:nvSpPr>
          <p:cNvPr id="1533" name=""/>
          <p:cNvSpPr txBox="1"/>
          <p:nvPr/>
        </p:nvSpPr>
        <p:spPr>
          <a:xfrm>
            <a:off x="228600" y="1390320"/>
            <a:ext cx="8686800" cy="4832280"/>
          </a:xfrm>
          <a:prstGeom prst="rect">
            <a:avLst/>
          </a:prstGeom>
          <a:noFill/>
          <a:ln w="0">
            <a:noFill/>
          </a:ln>
        </p:spPr>
        <p:txBody>
          <a:bodyPr anchor="t">
            <a:normAutofit fontScale="98000"/>
          </a:bodyPr>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ond multiple choice and short answer tests; will include performance task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pth of understanding and higher-order thinking skill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based, with quicker turn-around for scoring</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recise, actionable information than current test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teractive than current test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writing (particularly writing to sources) than current test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libraries of resources, including released items, formative assessments, data-management system, and professional development</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2"/>
          <p:cNvSpPr/>
          <p:nvPr/>
        </p:nvSpPr>
        <p:spPr>
          <a:xfrm>
            <a:off x="409680" y="77760"/>
            <a:ext cx="8734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nsortia Differences</a:t>
            </a:r>
            <a:endParaRPr b="0" lang="en-US" sz="4000" spc="-1" strike="noStrike">
              <a:solidFill>
                <a:srgbClr val="000000"/>
              </a:solidFill>
              <a:latin typeface="Calibri"/>
            </a:endParaRPr>
          </a:p>
        </p:txBody>
      </p:sp>
      <p:sp>
        <p:nvSpPr>
          <p:cNvPr id="1535" name=""/>
          <p:cNvSpPr txBox="1"/>
          <p:nvPr/>
        </p:nvSpPr>
        <p:spPr>
          <a:xfrm>
            <a:off x="228240" y="1371600"/>
            <a:ext cx="8658360" cy="4991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based adaptive </a:t>
            </a:r>
            <a:r>
              <a:rPr b="0" lang="en-US" sz="2800" spc="-1" strike="noStrike">
                <a:solidFill>
                  <a:srgbClr val="000000"/>
                </a:solidFill>
                <a:latin typeface="Arial"/>
              </a:rPr>
              <a:t>testing is used in SMARTER Balanced Consortium. PARCC has computer-based, but not adaptive, tes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scoring </a:t>
            </a:r>
            <a:r>
              <a:rPr b="0" lang="en-US" sz="2800" spc="-1" strike="noStrike">
                <a:solidFill>
                  <a:srgbClr val="000000"/>
                </a:solidFill>
                <a:latin typeface="Arial"/>
              </a:rPr>
              <a:t>is emphasized in SMARTER Balanced when evaluating performance tasks.</a:t>
            </a:r>
            <a:endParaRPr b="0" lang="en-US" sz="28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320400" y="77400"/>
            <a:ext cx="835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formance Event Sample: Math</a:t>
            </a:r>
            <a:endParaRPr b="0" lang="en-US" sz="3200" spc="-1" strike="noStrike">
              <a:solidFill>
                <a:srgbClr val="ffffff"/>
              </a:solidFill>
              <a:latin typeface="Arial Black"/>
            </a:endParaRPr>
          </a:p>
        </p:txBody>
      </p:sp>
      <p:pic>
        <p:nvPicPr>
          <p:cNvPr id="1537" name="Picture 2" descr=""/>
          <p:cNvPicPr/>
          <p:nvPr/>
        </p:nvPicPr>
        <p:blipFill>
          <a:blip r:embed="rId1"/>
          <a:stretch/>
        </p:blipFill>
        <p:spPr>
          <a:xfrm>
            <a:off x="320760" y="1387440"/>
            <a:ext cx="8235720" cy="5025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formance Event Sample: Math </a:t>
            </a:r>
            <a:r>
              <a:rPr b="0" i="1" lang="en-US" sz="3200" spc="-1" strike="noStrike">
                <a:solidFill>
                  <a:srgbClr val="ffffff"/>
                </a:solidFill>
                <a:latin typeface="Arial Black"/>
              </a:rPr>
              <a:t>continued</a:t>
            </a:r>
            <a:endParaRPr b="0" lang="en-US" sz="3200" spc="-1" strike="noStrike">
              <a:solidFill>
                <a:srgbClr val="ffffff"/>
              </a:solidFill>
              <a:latin typeface="Arial Black"/>
            </a:endParaRPr>
          </a:p>
        </p:txBody>
      </p:sp>
      <p:pic>
        <p:nvPicPr>
          <p:cNvPr id="1539" name="Picture 3" descr=""/>
          <p:cNvPicPr/>
          <p:nvPr/>
        </p:nvPicPr>
        <p:blipFill>
          <a:blip r:embed="rId1"/>
          <a:stretch/>
        </p:blipFill>
        <p:spPr>
          <a:xfrm>
            <a:off x="109440" y="1392120"/>
            <a:ext cx="9034560" cy="2390760"/>
          </a:xfrm>
          <a:prstGeom prst="rect">
            <a:avLst/>
          </a:prstGeom>
          <a:ln w="0">
            <a:noFill/>
          </a:ln>
        </p:spPr>
      </p:pic>
      <p:pic>
        <p:nvPicPr>
          <p:cNvPr id="1540" name="Picture 4" descr=""/>
          <p:cNvPicPr/>
          <p:nvPr/>
        </p:nvPicPr>
        <p:blipFill>
          <a:blip r:embed="rId2"/>
          <a:stretch/>
        </p:blipFill>
        <p:spPr>
          <a:xfrm>
            <a:off x="109440" y="3916440"/>
            <a:ext cx="8750520" cy="204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272520" y="95400"/>
            <a:ext cx="7651800" cy="104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Overview of the Initiative</a:t>
            </a:r>
            <a:endParaRPr b="0" lang="en-US" sz="3600" spc="-1" strike="noStrike">
              <a:solidFill>
                <a:srgbClr val="ffffff"/>
              </a:solidFill>
              <a:latin typeface="Arial Black"/>
            </a:endParaRPr>
          </a:p>
        </p:txBody>
      </p:sp>
      <p:sp>
        <p:nvSpPr>
          <p:cNvPr id="1475" name=""/>
          <p:cNvSpPr txBox="1"/>
          <p:nvPr/>
        </p:nvSpPr>
        <p:spPr>
          <a:xfrm>
            <a:off x="254160" y="1726920"/>
            <a:ext cx="8686800" cy="4190760"/>
          </a:xfrm>
          <a:prstGeom prst="rect">
            <a:avLst/>
          </a:prstGeom>
          <a:noFill/>
          <a:ln w="0">
            <a:noFill/>
          </a:ln>
        </p:spPr>
        <p:txBody>
          <a:bodyPr anchor="t">
            <a:normAutofit/>
          </a:bodyPr>
          <a:p>
            <a:pPr>
              <a:lnSpc>
                <a:spcPct val="90000"/>
              </a:lnSpc>
              <a:spcBef>
                <a:spcPts val="924"/>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State-led and developed common core standards for K-12 in English/language arts and mathematics</a:t>
            </a:r>
            <a:endParaRPr b="0" lang="en-US" sz="37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924"/>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Initiative led by Council of Chief State School Officers (CCSSO) and National Governors Association (NGA)</a:t>
            </a:r>
            <a:endParaRPr b="0" lang="en-US" sz="3700" spc="-1" strike="noStrike">
              <a:solidFill>
                <a:srgbClr val="000000"/>
              </a:solidFill>
              <a:latin typeface="Arial"/>
            </a:endParaRPr>
          </a:p>
          <a:p>
            <a:pP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6b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36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erformance Event Sample: </a:t>
            </a:r>
            <a:br>
              <a:rPr sz="2400"/>
            </a:br>
            <a:r>
              <a:rPr b="0" lang="en-US" sz="2400" spc="-1" strike="noStrike">
                <a:solidFill>
                  <a:srgbClr val="ffffff"/>
                </a:solidFill>
                <a:latin typeface="Arial Black"/>
              </a:rPr>
              <a:t>Literacy in Science/Technical Subjects</a:t>
            </a:r>
            <a:endParaRPr b="0" lang="en-US" sz="2400" spc="-1" strike="noStrike">
              <a:solidFill>
                <a:srgbClr val="ffffff"/>
              </a:solidFill>
              <a:latin typeface="Arial Black"/>
            </a:endParaRPr>
          </a:p>
        </p:txBody>
      </p:sp>
      <p:sp>
        <p:nvSpPr>
          <p:cNvPr id="1542" name=""/>
          <p:cNvSpPr txBox="1"/>
          <p:nvPr/>
        </p:nvSpPr>
        <p:spPr>
          <a:xfrm>
            <a:off x="340920" y="1433520"/>
            <a:ext cx="8366040" cy="49132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Verdana"/>
              </a:rPr>
              <a:t>Compare what the latest science tells us about Genetically Modified food against the arguments offered for and against Genetically Modified food.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ea typeface="Verdana"/>
              </a:rPr>
              <a:t>Evaluate the hypotheses, data, analysis, and conclusions of each side, including determining the extent to which each side in the debate over Genetically Modified food relies on the available science, argues from an economic perspective or appeals to political and emotional concerns</a:t>
            </a:r>
            <a:r>
              <a:rPr b="0" lang="en-US" sz="2300" spc="-1" strike="noStrike">
                <a:solidFill>
                  <a:srgbClr val="000000"/>
                </a:solidFill>
                <a:latin typeface="Arial"/>
                <a:ea typeface="Verdana"/>
              </a:rPr>
              <a:t>.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Verdana"/>
              </a:rPr>
              <a:t>Verify the data from each author and corroborate or challenge the conclusions with other sources of information.</a:t>
            </a:r>
            <a:endParaRPr b="0" lang="en-US" sz="2300" spc="-1" strike="noStrike">
              <a:solidFill>
                <a:srgbClr val="000000"/>
              </a:solidFill>
              <a:latin typeface="Arial"/>
            </a:endParaRPr>
          </a:p>
          <a:p>
            <a:pPr>
              <a:spcBef>
                <a:spcPts val="575"/>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190440" y="-360"/>
            <a:ext cx="880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lementation Timeline and Themes</a:t>
            </a:r>
            <a:endParaRPr b="0" lang="en-US" sz="3200" spc="-1" strike="noStrike">
              <a:solidFill>
                <a:srgbClr val="ffffff"/>
              </a:solidFill>
              <a:latin typeface="Arial Black"/>
            </a:endParaRPr>
          </a:p>
        </p:txBody>
      </p:sp>
      <p:sp>
        <p:nvSpPr>
          <p:cNvPr id="1544" name=""/>
          <p:cNvSpPr txBox="1"/>
          <p:nvPr/>
        </p:nvSpPr>
        <p:spPr>
          <a:xfrm>
            <a:off x="340920" y="1433520"/>
            <a:ext cx="8366040" cy="4913280"/>
          </a:xfrm>
          <a:prstGeom prst="rect">
            <a:avLst/>
          </a:prstGeom>
          <a:noFill/>
          <a:ln w="0">
            <a:noFill/>
          </a:ln>
        </p:spPr>
        <p:txBody>
          <a:bodyPr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Some states implementing this year in grades K-2. Full implementation in handful of states and district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Key areas of support states/districts are seeking:</a:t>
            </a:r>
            <a:endParaRPr b="0" lang="en-US" sz="24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Instructional materials: what take away from what you’re teaching along with what you need to add</a:t>
            </a:r>
            <a:endParaRPr b="0" lang="en-US" sz="20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Professional development: beyond awareness of the standards – professional learning communities, job-embedded professional development</a:t>
            </a:r>
            <a:endParaRPr b="0" lang="en-US" sz="20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Instruction and assessments: depth of understanding required of students</a:t>
            </a:r>
            <a:endParaRPr b="0" lang="en-US" sz="20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Literacy in content areas</a:t>
            </a:r>
            <a:endParaRPr b="0" lang="en-US" sz="2000" spc="-1" strike="noStrike">
              <a:solidFill>
                <a:srgbClr val="000000"/>
              </a:solidFill>
              <a:latin typeface="Arial"/>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Mathematics Common Core Coalition (MC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0" y="12204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ources</a:t>
            </a:r>
            <a:endParaRPr b="0" lang="en-US" sz="3200" spc="-1" strike="noStrike">
              <a:solidFill>
                <a:srgbClr val="ffffff"/>
              </a:solidFill>
              <a:latin typeface="Arial Black"/>
            </a:endParaRPr>
          </a:p>
        </p:txBody>
      </p:sp>
      <p:sp>
        <p:nvSpPr>
          <p:cNvPr id="1546" name=""/>
          <p:cNvSpPr txBox="1"/>
          <p:nvPr/>
        </p:nvSpPr>
        <p:spPr>
          <a:xfrm>
            <a:off x="258480" y="1460160"/>
            <a:ext cx="8529480" cy="488628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0000"/>
                </a:solidFill>
                <a:uFillTx/>
                <a:latin typeface="Arial"/>
                <a:ea typeface="Verdana"/>
                <a:hlinkClick r:id="rId1"/>
              </a:rPr>
              <a:t>www.corestandards.org</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0000"/>
                </a:solidFill>
                <a:uFillTx/>
                <a:latin typeface="Arial"/>
                <a:ea typeface="Verdana"/>
                <a:hlinkClick r:id="rId2"/>
              </a:rPr>
              <a:t>www.ccsso.org</a:t>
            </a:r>
            <a:r>
              <a:rPr b="0" lang="en-US" sz="4400" spc="-1" strike="noStrike">
                <a:solidFill>
                  <a:srgbClr val="000000"/>
                </a:solidFill>
                <a:latin typeface="Arial"/>
                <a:ea typeface="Verdana"/>
              </a:rPr>
              <a:t> </a:t>
            </a:r>
            <a:endParaRPr b="0" lang="en-US" sz="4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Carrie Heath Phillip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Program Director, Common Core State Standard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Council of Chief State School Officer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ea typeface="Verdana"/>
                <a:hlinkClick r:id="rId3"/>
              </a:rPr>
              <a:t>carrieh@ccsso.org</a:t>
            </a:r>
            <a:r>
              <a:rPr b="0" lang="en-US" sz="2800" spc="-1" strike="noStrike">
                <a:solidFill>
                  <a:srgbClr val="000000"/>
                </a:solidFill>
                <a:latin typeface="Arial"/>
                <a:ea typeface="Verdana"/>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Twitter: @cheathphill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272520" y="165240"/>
            <a:ext cx="8718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Why did governors and chiefs do this?</a:t>
            </a:r>
            <a:endParaRPr b="0" lang="en-US" sz="3200" spc="-1" strike="noStrike">
              <a:solidFill>
                <a:srgbClr val="ffffff"/>
              </a:solidFill>
              <a:latin typeface="Arial Black"/>
            </a:endParaRPr>
          </a:p>
        </p:txBody>
      </p:sp>
      <p:sp>
        <p:nvSpPr>
          <p:cNvPr id="1477" name=""/>
          <p:cNvSpPr txBox="1"/>
          <p:nvPr/>
        </p:nvSpPr>
        <p:spPr>
          <a:xfrm>
            <a:off x="380520" y="1337760"/>
            <a:ext cx="8504280" cy="5008680"/>
          </a:xfrm>
          <a:prstGeom prst="rect">
            <a:avLst/>
          </a:prstGeom>
          <a:noFill/>
          <a:ln w="0">
            <a:noFill/>
          </a:ln>
        </p:spPr>
        <p:txBody>
          <a:bodyPr anchor="t">
            <a:normAutofit/>
          </a:bodyPr>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tudents with the knowledge and skills they need to succeed in </a:t>
            </a:r>
            <a:r>
              <a:rPr b="1" lang="en-US" sz="2800" spc="-1" strike="noStrike">
                <a:solidFill>
                  <a:srgbClr val="000000"/>
                </a:solidFill>
                <a:latin typeface="Arial"/>
              </a:rPr>
              <a:t>college and work</a:t>
            </a: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a:t>
            </a:r>
            <a:r>
              <a:rPr b="1" lang="en-US" sz="2800" spc="-1" strike="noStrike">
                <a:solidFill>
                  <a:srgbClr val="000000"/>
                </a:solidFill>
                <a:latin typeface="Arial"/>
              </a:rPr>
              <a:t>consistent expectations </a:t>
            </a:r>
            <a:r>
              <a:rPr b="0" lang="en-US" sz="2800" spc="-1" strike="noStrike">
                <a:solidFill>
                  <a:srgbClr val="000000"/>
                </a:solidFill>
                <a:latin typeface="Arial"/>
              </a:rPr>
              <a:t>regardless of a student’s zip code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tates more </a:t>
            </a:r>
            <a:r>
              <a:rPr b="1" lang="en-US" sz="2800" spc="-1" strike="noStrike">
                <a:solidFill>
                  <a:srgbClr val="000000"/>
                </a:solidFill>
                <a:latin typeface="Arial"/>
              </a:rPr>
              <a:t>globally competitiv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ducators, parents, and students with </a:t>
            </a:r>
            <a:r>
              <a:rPr b="1" lang="en-US" sz="2800" spc="-1" strike="noStrike">
                <a:solidFill>
                  <a:srgbClr val="000000"/>
                </a:solidFill>
                <a:latin typeface="Arial"/>
              </a:rPr>
              <a:t>clear, focused guideposts</a:t>
            </a: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r>
              <a:rPr b="1" lang="en-US" sz="2800" spc="-1" strike="noStrike">
                <a:solidFill>
                  <a:srgbClr val="000000"/>
                </a:solidFill>
                <a:latin typeface="Arial"/>
              </a:rPr>
              <a:t> economies of scale </a:t>
            </a:r>
            <a:endParaRPr b="0" lang="en-US" sz="2800" spc="-1" strike="noStrike">
              <a:solidFill>
                <a:srgbClr val="000000"/>
              </a:solidFill>
              <a:latin typeface="Arial"/>
            </a:endParaRPr>
          </a:p>
          <a:p>
            <a:pPr marL="343080" indent="-343080">
              <a:lnSpc>
                <a:spcPct val="80000"/>
              </a:lnSpc>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llege- and Career-Readiness as the Anchor</a:t>
            </a:r>
            <a:endParaRPr b="0" lang="en-US" sz="4000" spc="-1" strike="noStrike">
              <a:solidFill>
                <a:srgbClr val="ffffff"/>
              </a:solidFill>
              <a:latin typeface="Arial Black"/>
            </a:endParaRPr>
          </a:p>
        </p:txBody>
      </p:sp>
      <p:sp>
        <p:nvSpPr>
          <p:cNvPr id="1479" name="PlaceHolder 2"/>
          <p:cNvSpPr>
            <a:spLocks noGrp="1"/>
          </p:cNvSpPr>
          <p:nvPr>
            <p:ph/>
          </p:nvPr>
        </p:nvSpPr>
        <p:spPr>
          <a:xfrm>
            <a:off x="252000" y="1450440"/>
            <a:ext cx="8559720" cy="4962600"/>
          </a:xfrm>
          <a:prstGeom prst="rect">
            <a:avLst/>
          </a:prstGeom>
          <a:noFill/>
          <a:ln w="0">
            <a:noFill/>
          </a:ln>
        </p:spPr>
        <p:txBody>
          <a:bodyPr anchor="t">
            <a:normAutofit/>
          </a:bodyPr>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areer-readiness and college-readiness levels are very similar </a:t>
            </a: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re is a gap between high school expectations for students and what students are expected to do in college/career</a:t>
            </a:r>
            <a:endParaRPr b="0" lang="en-US" sz="3200" spc="-1" strike="noStrike">
              <a:solidFill>
                <a:srgbClr val="000000"/>
              </a:solidFill>
              <a:latin typeface="Arial"/>
            </a:endParaRPr>
          </a:p>
          <a:p>
            <a:pPr lvl="1" marL="743040" indent="-28584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ng high school graduates, only half are academically prepared for postsecondary education (Greene &amp; Winters, 200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355680" y="164880"/>
            <a:ext cx="7873920" cy="91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eatures of the standards</a:t>
            </a:r>
            <a:endParaRPr b="0" lang="en-US" sz="4000" spc="-1" strike="noStrike">
              <a:solidFill>
                <a:srgbClr val="ffffff"/>
              </a:solidFill>
              <a:latin typeface="Arial Black"/>
            </a:endParaRPr>
          </a:p>
        </p:txBody>
      </p:sp>
      <p:sp>
        <p:nvSpPr>
          <p:cNvPr id="1481" name="PlaceHolder 2"/>
          <p:cNvSpPr>
            <a:spLocks noGrp="1"/>
          </p:cNvSpPr>
          <p:nvPr>
            <p:ph/>
          </p:nvPr>
        </p:nvSpPr>
        <p:spPr>
          <a:xfrm>
            <a:off x="259920" y="1665000"/>
            <a:ext cx="8674200" cy="4792680"/>
          </a:xfrm>
          <a:prstGeom prst="rect">
            <a:avLst/>
          </a:prstGeom>
          <a:noFill/>
          <a:ln w="0">
            <a:noFill/>
          </a:ln>
        </p:spPr>
        <p:txBody>
          <a:bodyPr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ed with college and work expectation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and coherent</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igorous content and application of knowledge through high-order skill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on strengths and lessons of current state standard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ly benchmarked</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evidence and research</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246240" y="177840"/>
            <a:ext cx="8478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tandards Development Process</a:t>
            </a:r>
            <a:endParaRPr b="0" lang="en-US" sz="3600" spc="-1" strike="noStrike">
              <a:solidFill>
                <a:srgbClr val="ffffff"/>
              </a:solidFill>
              <a:latin typeface="Arial Black"/>
            </a:endParaRPr>
          </a:p>
        </p:txBody>
      </p:sp>
      <p:sp>
        <p:nvSpPr>
          <p:cNvPr id="1483" name="PlaceHolder 2"/>
          <p:cNvSpPr>
            <a:spLocks noGrp="1"/>
          </p:cNvSpPr>
          <p:nvPr>
            <p:ph/>
          </p:nvPr>
        </p:nvSpPr>
        <p:spPr>
          <a:xfrm>
            <a:off x="387000" y="1511280"/>
            <a:ext cx="8210520" cy="4546800"/>
          </a:xfrm>
          <a:prstGeom prst="rect">
            <a:avLst/>
          </a:prstGeom>
          <a:noFill/>
          <a:ln w="0">
            <a:noFill/>
          </a:ln>
        </p:spPr>
        <p:txBody>
          <a:bodyPr anchor="t">
            <a:normAutofit/>
          </a:bodyPr>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and career-readiness standards for English/language arts and mathematics developed summer of 2009</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college and career readiness standards, K-12 learning progressions develope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omment period with 10,000 response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tandards released on June 2, 2010.</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TextBox 6"/>
          <p:cNvSpPr/>
          <p:nvPr/>
        </p:nvSpPr>
        <p:spPr>
          <a:xfrm>
            <a:off x="0" y="583416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44 states and D.C. have fully adopted the Common Core State Standards; 1 state has provisionally adopted the standards; and 1 state has adopted only the ELA standards.</a:t>
            </a:r>
            <a:endParaRPr b="0" lang="en-US" sz="1400" spc="-1" strike="noStrike">
              <a:solidFill>
                <a:srgbClr val="000000"/>
              </a:solidFill>
              <a:latin typeface="Calibri"/>
            </a:endParaRPr>
          </a:p>
        </p:txBody>
      </p:sp>
      <p:sp>
        <p:nvSpPr>
          <p:cNvPr id="1485" name="TextBox 2"/>
          <p:cNvSpPr/>
          <p:nvPr/>
        </p:nvSpPr>
        <p:spPr>
          <a:xfrm>
            <a:off x="304920" y="304920"/>
            <a:ext cx="86104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Core State Standards Adoptio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 of September 2011)</a:t>
            </a:r>
            <a:endParaRPr b="0" lang="en-US" sz="1200" spc="-1" strike="noStrike">
              <a:solidFill>
                <a:srgbClr val="000000"/>
              </a:solidFill>
              <a:latin typeface="Calibri"/>
            </a:endParaRPr>
          </a:p>
        </p:txBody>
      </p:sp>
      <p:pic>
        <p:nvPicPr>
          <p:cNvPr id="1486" name="Picture 2" descr=""/>
          <p:cNvPicPr/>
          <p:nvPr/>
        </p:nvPicPr>
        <p:blipFill>
          <a:blip r:embed="rId1"/>
          <a:stretch/>
        </p:blipFill>
        <p:spPr>
          <a:xfrm>
            <a:off x="1547640" y="1038240"/>
            <a:ext cx="6048720" cy="47815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th Standards: Design and Organization</a:t>
            </a:r>
            <a:endParaRPr b="0" lang="en-US" sz="3600" spc="-1" strike="noStrike">
              <a:solidFill>
                <a:srgbClr val="ffffff"/>
              </a:solidFill>
              <a:latin typeface="Arial Black"/>
            </a:endParaRPr>
          </a:p>
        </p:txBody>
      </p:sp>
      <p:sp>
        <p:nvSpPr>
          <p:cNvPr id="1488" name=""/>
          <p:cNvSpPr txBox="1"/>
          <p:nvPr/>
        </p:nvSpPr>
        <p:spPr>
          <a:xfrm>
            <a:off x="450720" y="1466640"/>
            <a:ext cx="8229600" cy="464796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for Mathematical Practice</a:t>
            </a:r>
            <a:endParaRPr b="0" lang="en-US" sz="24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ry across all grade levels</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habits of mind of a mathematically expert student</a:t>
            </a: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for Mathematical Content</a:t>
            </a:r>
            <a:endParaRPr b="0" lang="en-US" sz="24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8 standards presented by grade level</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school standards presented by conceptual them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pendix</a:t>
            </a:r>
            <a:r>
              <a:rPr b="0" lang="en-US"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ing high school math courses based on the Common Core State Standards</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High School </a:t>
            </a:r>
            <a:endParaRPr b="0" lang="en-US" sz="3200" spc="-1" strike="noStrike">
              <a:solidFill>
                <a:srgbClr val="ffffff"/>
              </a:solidFill>
              <a:latin typeface="Arial Black"/>
            </a:endParaRPr>
          </a:p>
        </p:txBody>
      </p:sp>
      <p:sp>
        <p:nvSpPr>
          <p:cNvPr id="1490" name=""/>
          <p:cNvSpPr txBox="1"/>
          <p:nvPr/>
        </p:nvSpPr>
        <p:spPr>
          <a:xfrm>
            <a:off x="457200" y="1460520"/>
            <a:ext cx="8686800" cy="4495680"/>
          </a:xfrm>
          <a:prstGeom prst="rect">
            <a:avLst/>
          </a:prstGeom>
          <a:noFill/>
          <a:ln w="0">
            <a:noFill/>
          </a:ln>
        </p:spPr>
        <p:txBody>
          <a:bodyPr anchor="t">
            <a:normAutofit fontScale="95000"/>
          </a:bodyPr>
          <a:p>
            <a:pPr marL="434160" indent="-43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ual themes in high school</a:t>
            </a:r>
            <a:endParaRPr b="0" lang="en-US" sz="28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and Quantity</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bra</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y</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and Probability</a:t>
            </a:r>
            <a:endParaRPr b="0" lang="en-US" sz="2400" spc="-1" strike="noStrike">
              <a:solidFill>
                <a:srgbClr val="000000"/>
              </a:solidFill>
              <a:latin typeface="Arial"/>
            </a:endParaRPr>
          </a:p>
          <a:p>
            <a:pPr marL="434160" indent="-43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34160" indent="-43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ge and career readiness threshold</a:t>
            </a:r>
            <a:endParaRPr b="0" lang="en-US" sz="28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andards indicate material beyond the threshold; can be in courses required for all students.</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22:26:57Z</dcterms:created>
  <dc:creator>Rhea Gavounas</dc:creator>
  <dc:description/>
  <cp:keywords/>
  <dc:language>en-US</dc:language>
  <cp:lastModifiedBy>IES</cp:lastModifiedBy>
  <dcterms:modified xsi:type="dcterms:W3CDTF">2011-10-12T15:26:40Z</dcterms:modified>
  <cp:revision>358</cp:revision>
  <dc:subject/>
  <dc:title>PowerPoint Template 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ategory">
    <vt:lpwstr>Templates</vt:lpwstr>
  </property>
  <property fmtid="{D5CDD505-2E9C-101B-9397-08002B2CF9AE}" pid="6" name="ContentType">
    <vt:lpwstr>Document</vt:lpwstr>
  </property>
  <property fmtid="{D5CDD505-2E9C-101B-9397-08002B2CF9AE}" pid="7" name="Description0">
    <vt:lpwstr>A PowerPoint template with a blue gradient background and a dark blue bottom frame.</vt:lpwstr>
  </property>
  <property fmtid="{D5CDD505-2E9C-101B-9397-08002B2CF9AE}" pid="8" name="Keywords">
    <vt:lpwstr/>
  </property>
  <property fmtid="{D5CDD505-2E9C-101B-9397-08002B2CF9AE}" pid="9" name="Owner">
    <vt:lpwstr/>
  </property>
  <property fmtid="{D5CDD505-2E9C-101B-9397-08002B2CF9AE}" pid="10" name="SPSDescription">
    <vt:lpwstr/>
  </property>
  <property fmtid="{D5CDD505-2E9C-101B-9397-08002B2CF9AE}" pid="11" name="Slides">
    <vt:lpwstr>1</vt:lpwstr>
  </property>
  <property fmtid="{D5CDD505-2E9C-101B-9397-08002B2CF9AE}" pid="12" name="Status">
    <vt:lpwstr/>
  </property>
  <property fmtid="{D5CDD505-2E9C-101B-9397-08002B2CF9AE}" pid="13" name="Subject">
    <vt:lpwstr/>
  </property>
  <property fmtid="{D5CDD505-2E9C-101B-9397-08002B2CF9AE}" pid="14" name="Thumbnail">
    <vt:lpwstr>http://ccssosrv9/SiteCollectionImages/communications/PPT%205.jpg, </vt:lpwstr>
  </property>
  <property fmtid="{D5CDD505-2E9C-101B-9397-08002B2CF9AE}" pid="15" name="_Author">
    <vt:lpwstr>Rhea Gavounas</vt:lpwstr>
  </property>
  <property fmtid="{D5CDD505-2E9C-101B-9397-08002B2CF9AE}" pid="16" name="_Category">
    <vt:lpwstr/>
  </property>
  <property fmtid="{D5CDD505-2E9C-101B-9397-08002B2CF9AE}" pid="17" name="_Comments">
    <vt:lpwstr/>
  </property>
</Properties>
</file>