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3D044F7-851A-443D-9CBA-4852E2ACE95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asurement invariance: Do items included in the same instrument provide statistically invariant measures across different sample subgroups such as content area (grade level, site, etc). 900 pairs of teacher science-math questionnaires. 100 paris of observation-log. 4500 pairs of student questionnaire.</a:t>
            </a:r>
            <a:endParaRPr b="0" lang="en-US" sz="1200" spc="-1" strike="noStrike">
              <a:solidFill>
                <a:srgbClr val="000000"/>
              </a:solidFill>
              <a:latin typeface="Calibri"/>
            </a:endParaRPr>
          </a:p>
        </p:txBody>
      </p:sp>
      <p:sp>
        <p:nvSpPr>
          <p:cNvPr id="2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852DBF3-A8AE-4CF9-A805-F8D52E3E5676}"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nal consistency and exploratory factor analysis at both the critical component level and at the index level</a:t>
            </a:r>
            <a:endParaRPr b="0" lang="en-US" sz="1200" spc="-1" strike="noStrike">
              <a:solidFill>
                <a:srgbClr val="000000"/>
              </a:solidFill>
              <a:latin typeface="Calibri"/>
            </a:endParaRPr>
          </a:p>
        </p:txBody>
      </p:sp>
      <p:sp>
        <p:nvSpPr>
          <p:cNvPr id="2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5F9965C-B38E-42AC-9294-E5FD3F24694F}"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B48D860-568C-479E-A4F8-7AEFE824A6BA}"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Full Option Science System (FOSS)</a:t>
            </a:r>
            <a:r>
              <a:rPr b="0" lang="en-US" sz="1200" spc="-1" strike="noStrike">
                <a:solidFill>
                  <a:srgbClr val="000000"/>
                </a:solidFill>
                <a:latin typeface="Calibri"/>
              </a:rPr>
              <a:t>, </a:t>
            </a:r>
            <a:r>
              <a:rPr b="0" i="1" lang="en-US" sz="1200" spc="-1" strike="noStrike">
                <a:solidFill>
                  <a:srgbClr val="000000"/>
                </a:solidFill>
                <a:latin typeface="Calibri"/>
              </a:rPr>
              <a:t>Science and Technology for Children (STC)</a:t>
            </a:r>
            <a:r>
              <a:rPr b="0" lang="en-US" sz="1200" spc="-1" strike="noStrike">
                <a:solidFill>
                  <a:srgbClr val="000000"/>
                </a:solidFill>
                <a:latin typeface="Calibri"/>
              </a:rPr>
              <a:t>, </a:t>
            </a:r>
            <a:r>
              <a:rPr b="0" i="1" lang="en-US" sz="1200" spc="-1" strike="noStrike">
                <a:solidFill>
                  <a:srgbClr val="000000"/>
                </a:solidFill>
                <a:latin typeface="Calibri"/>
              </a:rPr>
              <a:t>Science Companion</a:t>
            </a:r>
            <a:r>
              <a:rPr b="0" lang="en-US" sz="1200" spc="-1" strike="noStrike">
                <a:solidFill>
                  <a:srgbClr val="000000"/>
                </a:solidFill>
                <a:latin typeface="Calibri"/>
              </a:rPr>
              <a:t>, </a:t>
            </a:r>
            <a:r>
              <a:rPr b="0" i="1" lang="en-US" sz="1200" spc="-1" strike="noStrike">
                <a:solidFill>
                  <a:srgbClr val="000000"/>
                </a:solidFill>
                <a:latin typeface="Calibri"/>
              </a:rPr>
              <a:t>Science Education for Public Understanding Program</a:t>
            </a:r>
            <a:r>
              <a:rPr b="0" lang="en-US" sz="1200" spc="-1" strike="noStrike">
                <a:solidFill>
                  <a:srgbClr val="000000"/>
                </a:solidFill>
                <a:latin typeface="Calibri"/>
              </a:rPr>
              <a:t>, and </a:t>
            </a:r>
            <a:r>
              <a:rPr b="0" i="1" lang="en-US" sz="1200" spc="-1" strike="noStrike">
                <a:solidFill>
                  <a:srgbClr val="000000"/>
                </a:solidFill>
                <a:latin typeface="Calibri"/>
              </a:rPr>
              <a:t>Everyday Mathematic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ason we were seeking to create instruments that could work across multiple projects is because the school district (CPS) like many others uses a combination of programs for elementary science. So, we needed to create measures that could be used across those programs.  This approach ultimately became useful in allowing us to also look at the critical components in other programs and in business-as-usual classrooms.</a:t>
            </a:r>
            <a:endParaRPr b="0" lang="en-US" sz="1200" spc="-1" strike="noStrike">
              <a:solidFill>
                <a:srgbClr val="000000"/>
              </a:solidFill>
              <a:latin typeface="Calibri"/>
            </a:endParaRPr>
          </a:p>
        </p:txBody>
      </p:sp>
      <p:sp>
        <p:nvSpPr>
          <p:cNvPr id="2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1E95D65-7559-42E2-B703-6A56FC66AC54}"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ructural Procedural: Organizing elements focused on what the teacher needs to 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ructural Educative: Developers’ expectations for what the teacher needs to know (content/pedagogical knowled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ructional Pedagogical: Expectations about teacher behavior, strategies, interactions during instructional transa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ructional Student Engagement: Expectations about students’ participation in the instructional transactions</a:t>
            </a:r>
            <a:endParaRPr b="0" lang="en-US" sz="1200" spc="-1" strike="noStrike">
              <a:solidFill>
                <a:srgbClr val="000000"/>
              </a:solidFill>
              <a:latin typeface="Calibri"/>
            </a:endParaRPr>
          </a:p>
        </p:txBody>
      </p:sp>
      <p:sp>
        <p:nvSpPr>
          <p:cNvPr id="2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3DB7213-C674-49A6-BDAE-E92D0D871240}"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ritten materials review (including but not limited to teacher’s guides, student books, assessment guidelines, and student journals): identified all possible program elements that could be critical components. Identified those that were explicit as well as those that seem to be implicit. We identified shared and unique components and began to place them into a framework.</a:t>
            </a: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views with developers: We provided the developers with a description of the FOI conceptual framework and its categories and examples of critical components in each of those categories. Then, we asked them to complete a critical component worksheet that included creating a critical component list, placing the critical components in the FOI framework, and suggesting strategies for measurement. we reconciled the developers’ critical components with our own, verifying those that matched, identifying those that we agreed were not aligned with ours, and accounting for them as we revised the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rs: Reviewed the list of critical components</a:t>
            </a:r>
            <a:endParaRPr b="0" lang="en-US" sz="1200" spc="-1" strike="noStrike">
              <a:solidFill>
                <a:srgbClr val="000000"/>
              </a:solidFill>
              <a:latin typeface="Calibri"/>
            </a:endParaRPr>
          </a:p>
        </p:txBody>
      </p:sp>
      <p:sp>
        <p:nvSpPr>
          <p:cNvPr id="2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42D450B-8542-4044-A5E3-D66646E48ACD}"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ruments provide a range of data collection approach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ilot test: quantitative instruments for internal consistency (cc level) and exploratory factor analysis (cc level), several cc’s were modified (e.g., removed, subsumed, reworded, redefined, split into more than one cc) and item redu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sed instruments were field tested: same analyses as pilot test and further item redu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WOP focuses on gathering information about the </a:t>
            </a:r>
            <a:r>
              <a:rPr b="0" lang="en-US" sz="1200" spc="-1" strike="noStrike" u="sng">
                <a:solidFill>
                  <a:srgbClr val="000000"/>
                </a:solidFill>
                <a:uFillTx/>
                <a:latin typeface="Calibri"/>
              </a:rPr>
              <a:t>school-wide</a:t>
            </a:r>
            <a:r>
              <a:rPr b="0" lang="en-US" sz="1200" spc="-1" strike="noStrike">
                <a:solidFill>
                  <a:srgbClr val="000000"/>
                </a:solidFill>
                <a:latin typeface="Calibri"/>
              </a:rPr>
              <a:t> implementation of those programs based on brief observations of classrooms throughout a school. During the SWOP, observers spend at least ten minutes in each classroom.  In schools with more than one classroom per grade, a minimum of two classrooms for each grade are observ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A3424A3-865F-494D-99A3-4ED8F99F0F18}"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of the critical components is measured in more than one instrument. This is an example of IP critical components across six instru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542DC34-20A9-473C-B33F-9B3BBB9C78D0}"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hows the number of items that measure each of the critical components in each of the teacher level instruments.</a:t>
            </a:r>
            <a:endParaRPr b="0" lang="en-US" sz="1200" spc="-1" strike="noStrike">
              <a:solidFill>
                <a:srgbClr val="000000"/>
              </a:solidFill>
              <a:latin typeface="Calibri"/>
            </a:endParaRPr>
          </a:p>
        </p:txBody>
      </p:sp>
      <p:sp>
        <p:nvSpPr>
          <p:cNvPr id="2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DA2B5C9-5FD0-4496-BE8E-39C2E5BC1FAC}"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estimate: 18-20 teachers/school (3-4 teachers per gra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 estimate at 10 students/class, 3 classes/grade, 3 grades/school, 50 schools</a:t>
            </a:r>
            <a:endParaRPr b="0" lang="en-US" sz="1200" spc="-1" strike="noStrike">
              <a:solidFill>
                <a:srgbClr val="000000"/>
              </a:solidFill>
              <a:latin typeface="Calibri"/>
            </a:endParaRPr>
          </a:p>
        </p:txBody>
      </p:sp>
      <p:sp>
        <p:nvSpPr>
          <p:cNvPr id="2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F577A22-ED40-4672-B49B-6556817914F5}"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25CBB-06A6-4FC5-8CC4-E8C0C08AE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33242-03CB-4901-85D4-EF6DDC34A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02EEB-2FAE-43CF-BEEE-9372FEC37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E2E1B-0EA0-42CC-8F37-341F2C147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7BB57-976F-4FA5-9494-B74BB7614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8BC50-7AC5-435E-A54C-A55A7E352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D5CB4-9A71-4878-8420-04B9029B9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2017C-8DC2-42A4-8CDC-E269E3233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FD34A-0AAC-4A30-A77D-A43EDA096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7BFC2-936E-4A5E-988C-5AF79B1B2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608FE-5B97-4110-86F2-973311A62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E7446-26C9-48A3-99BF-BF4C9AE62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98F40-0EBF-4397-9A45-F560C5565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2141C-9605-464E-93E0-6EF362AF6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2D23D-9040-46E9-96B8-48467C11B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69711-15E7-4297-A966-9AE9831F83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4717F-0CAA-4114-AD99-71574CF83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D6D82F-2FF5-41E7-AC7E-BDBE6E12F8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010F6-406E-4EDC-9FD6-01D4C9DF5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1A23DE-E399-4E0B-AD6E-90D158D06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C9A369-C0DC-4D36-A097-A40FC01929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D18A3-CE8C-40C0-9655-06A7BFAB1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8D3F6-79AA-476A-8E89-F3A433C65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1AE5DA-461F-43B8-A58D-81C7219CB1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A7581-B9C2-4EEC-8876-95B617371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9422C-78CA-4A4B-954D-0C7B2A950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27DE9-215E-4ED1-8A01-8532BE408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29F51-472E-4A61-81B2-D2C0CB32D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76F768-80AD-48A4-BE1B-4CF273E984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F45CA2-D86F-48D8-9E79-1D0DD7E7ED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EA5899-DDFB-47DC-830A-362E0F3A37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4947B-5CB1-46E8-A0C5-F3C84BD01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94EACD-6E03-4BFC-94C9-8A098A64F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48FF7-73AA-4A58-AE29-A65E73250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506DA-2B84-4FF5-BA04-03BDC4BF8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8884F-BCAA-45D0-8DBB-5EEEA0BE9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275C9A-3898-4676-84D2-14F66AE742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0BC61-05E2-4F6D-921D-24FE345FE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A19DC-19FF-463F-B846-44A31B1EB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6E381-17B7-44FB-9CEA-91209CCDB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6ACCF-11A7-4249-9666-E5952D64F9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6E0E5B-B289-4523-BAF1-6A520E98EB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C92E97-D667-4DE1-8370-8D05C4444B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2BEAA3-44B6-456F-9DBE-E0F310836F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52381-4CF0-4430-AD4F-A60D2457D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AFDA54-7DCB-448D-9403-06A39B47F2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BD5E38-0359-4186-8531-C28CDED95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6BD31D-8C78-4CAF-8693-BA61BA65E2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3F2AC6-6694-4A9D-B1ED-A89B035D9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D16446-DB18-46E3-8DBA-C9324851F2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95673-139F-4900-B4BB-DFDA4CA8E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3F26D3-8E40-467C-AB87-89886B2D37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6D3AC-11EC-4839-8FA5-6375F2A72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5F3950-5B9A-4494-BB6B-211F3C77C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D613B0-7BA3-4F1E-9CDB-3D92703EC6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89C2D-8E35-4852-A2AD-13A9ACEA3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64B6CB-FE71-4D53-8093-16D3553879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5A1F-7A39-4755-A801-0653B9B89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E491E-7185-48BD-B10A-82B3E017D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85AC-4F8F-4083-986A-8D9E8F7B9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FD8BD-732E-4611-A728-93E10051AB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8977F-9B06-4A42-BFA7-900A2CBDB43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5C574C-5A7B-4191-AE65-3F9493145CC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4C230-369F-43D6-9896-96468384AF1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63BBC-DEFD-4DBE-B911-AE53702A51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533c"/>
                </a:solidFill>
                <a:latin typeface="Arial"/>
              </a:rPr>
              <a:t>Scientific Validation Of A Set Of Instruments Measuring Fidelity Of Implementation (FOI) Of Reform-based Science And Mathematics Instructional Materials</a:t>
            </a:r>
            <a:endParaRPr b="0" lang="en-US" sz="2800" spc="-1" strike="noStrike">
              <a:solidFill>
                <a:srgbClr val="d2533c"/>
              </a:solidFill>
              <a:latin typeface="Arial"/>
            </a:endParaRPr>
          </a:p>
        </p:txBody>
      </p:sp>
      <p:sp>
        <p:nvSpPr>
          <p:cNvPr id="227"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Dae Y. Kim, Principal Investigator</a:t>
            </a: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Amy Cassata, Co-Principal Investigator</a:t>
            </a: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Jeanne Century, Co-Principal Investigator</a:t>
            </a:r>
            <a:endParaRPr b="0" lang="en-US" sz="2400" spc="-1" strike="noStrike">
              <a:solidFill>
                <a:srgbClr val="292934"/>
              </a:solidFill>
              <a:latin typeface="Arial"/>
            </a:endParaRPr>
          </a:p>
        </p:txBody>
      </p:sp>
      <p:sp>
        <p:nvSpPr>
          <p:cNvPr id="228" name="TextBox 3"/>
          <p:cNvSpPr/>
          <p:nvPr/>
        </p:nvSpPr>
        <p:spPr>
          <a:xfrm>
            <a:off x="685800" y="546588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92934"/>
                </a:solidFill>
                <a:latin typeface="Arial"/>
              </a:rPr>
              <a:t>IES Grantee Panel on Fidelity of Implementation</a:t>
            </a:r>
            <a:endParaRPr b="0" lang="en-US" sz="1800" spc="-1" strike="noStrike">
              <a:solidFill>
                <a:srgbClr val="29293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92934"/>
                </a:solidFill>
                <a:latin typeface="Arial"/>
              </a:rPr>
              <a:t>September 7, 2011</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Year 1: Student Questionnaire</a:t>
            </a:r>
            <a:endParaRPr b="0" lang="en-US" sz="4000" spc="-1" strike="noStrike">
              <a:solidFill>
                <a:srgbClr val="d2533c"/>
              </a:solidFill>
              <a:latin typeface="Arial"/>
            </a:endParaRPr>
          </a:p>
        </p:txBody>
      </p:sp>
      <p:sp>
        <p:nvSpPr>
          <p:cNvPr id="247" name=""/>
          <p:cNvSpPr txBox="1"/>
          <p:nvPr/>
        </p:nvSpPr>
        <p:spPr>
          <a:xfrm>
            <a:off x="456840" y="1599840"/>
            <a:ext cx="848844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20 to 25-item questionnair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iterature review for items measuring Student Engagement critical component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tem development and pilot testing</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gnitive interview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nsult with expert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eld testing</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300 students in grades 3-5</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nalyze factorial validity and internal consistency</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Instrument revision</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Year 2: Data Collection for Validation</a:t>
            </a:r>
            <a:endParaRPr b="0" lang="en-US" sz="4000" spc="-1" strike="noStrike">
              <a:solidFill>
                <a:srgbClr val="d2533c"/>
              </a:solidFill>
              <a:latin typeface="Arial"/>
            </a:endParaRPr>
          </a:p>
        </p:txBody>
      </p:sp>
      <p:sp>
        <p:nvSpPr>
          <p:cNvPr id="249" name=""/>
          <p:cNvSpPr txBox="1"/>
          <p:nvPr/>
        </p:nvSpPr>
        <p:spPr>
          <a:xfrm>
            <a:off x="456840" y="1600200"/>
            <a:ext cx="8388360" cy="508176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ll teachers will complete</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Questionnaire – Math</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Questionnaire – Science </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ll students (grades 3-5) will complete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tudent Questionnaire – Math</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tudent Questionnaire – Science</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300 teachers with additional observations and log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100 teachers: 2 Math observations and 4 Math log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100 teachers: 2 Science observations and 4 Science log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100 teachers: 1 Math &amp; 1 Science observation, 4 Math &amp; 4 Science log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udent achievement data (grades 3-5)</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Year 3: Analysis</a:t>
            </a:r>
            <a:endParaRPr b="0" lang="en-US" sz="4000" spc="-1" strike="noStrike">
              <a:solidFill>
                <a:srgbClr val="d2533c"/>
              </a:solidFill>
              <a:latin typeface="Arial"/>
            </a:endParaRPr>
          </a:p>
        </p:txBody>
      </p:sp>
      <p:sp>
        <p:nvSpPr>
          <p:cNvPr id="251"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ter-rater agreement (observation)</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ternal consistency of item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actorial structure of item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ifferences in scores across different groups/content areas</a:t>
            </a:r>
            <a:endParaRPr b="0" lang="en-US" sz="24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cience vs. mathematics</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Grade level</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tudy site</a:t>
            </a:r>
            <a:endParaRPr b="0" lang="en-US" sz="20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ross-instrument consistency </a:t>
            </a:r>
            <a:endParaRPr b="0" lang="en-US" sz="24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Questionnaire vs. Student Questionnaire</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Observation Protocol vs. Teacher Log</a:t>
            </a:r>
            <a:endParaRPr b="0" lang="en-US" sz="20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redictive validity</a:t>
            </a:r>
            <a:endParaRPr b="0" lang="en-US" sz="24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athematics and science achievement (grades 3-5)</a:t>
            </a:r>
            <a:endParaRPr b="0" lang="en-US" sz="20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redicting Student Achievement</a:t>
            </a:r>
            <a:endParaRPr b="0" lang="en-US" sz="4000" spc="-1" strike="noStrike">
              <a:solidFill>
                <a:srgbClr val="d2533c"/>
              </a:solidFill>
              <a:latin typeface="Arial"/>
            </a:endParaRPr>
          </a:p>
        </p:txBody>
      </p:sp>
      <p:sp>
        <p:nvSpPr>
          <p:cNvPr id="253"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o what extent do composite indices on the four subcategories (SP, SE, IP, ISE) predict student achievement in science and mathematic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lanned analysis for predictive validity</a:t>
            </a:r>
            <a:endParaRPr b="0" lang="en-US" sz="24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3-level fixed effects HLM model will explore the effect of the FOI composite indices measured at the teacher (classroom) level on individual students’ science and mathematics achievement (Grades 4-5)</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rior year’s science or math score will be entered as a covariate</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Other variables: student demographics, classroom characteristics</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ata for science and mathematics will be analyzed separately, then pooled</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ata for questionnaires, logs, and observations will be analyzed separately</a:t>
            </a:r>
            <a:endParaRPr b="0" lang="en-US" sz="20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ummary</a:t>
            </a:r>
            <a:endParaRPr b="0" lang="en-US" sz="4000" spc="-1" strike="noStrike">
              <a:solidFill>
                <a:srgbClr val="d2533c"/>
              </a:solidFill>
              <a:latin typeface="Arial"/>
            </a:endParaRPr>
          </a:p>
        </p:txBody>
      </p:sp>
      <p:sp>
        <p:nvSpPr>
          <p:cNvPr id="255"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FOI framework clearly and specifically describes the nature of reform-based mathematics and science instructional materials so these elements can be measured</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framework has resulted in a set of instruments which are currently being validated</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framework, and related instruments, have the potential to inform our understanding reform-based STEM curricula and to accumulate knowledge about the elements that make them most effectiv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strument Development</a:t>
            </a:r>
            <a:endParaRPr b="0" lang="en-US" sz="4000" spc="-1" strike="noStrike">
              <a:solidFill>
                <a:srgbClr val="d2533c"/>
              </a:solidFill>
              <a:latin typeface="Arial"/>
            </a:endParaRPr>
          </a:p>
        </p:txBody>
      </p:sp>
      <p:sp>
        <p:nvSpPr>
          <p:cNvPr id="23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SF-Funded Development Project (2007-2010)</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eveloped a framework for measuring the enactment of five reform-based mathematics and science curricula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reated a suite of instruments based on this framework</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riving Research Question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What are the enacted components of reform-based instructional materials in mathematics and science that are common across specific program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How can we rigorously and specifically measure multiple components of implementation?</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How can we collect data on and accumulate knowledge about implementation across multiple program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strument Development</a:t>
            </a:r>
            <a:endParaRPr b="0" lang="en-US" sz="4000" spc="-1" strike="noStrike">
              <a:solidFill>
                <a:srgbClr val="d2533c"/>
              </a:solidFill>
              <a:latin typeface="Arial"/>
            </a:endParaRPr>
          </a:p>
        </p:txBody>
      </p:sp>
      <p:sp>
        <p:nvSpPr>
          <p:cNvPr id="23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eform-based Curricula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34"/>
                </a:solidFill>
                <a:latin typeface="Arial"/>
              </a:rPr>
              <a:t>Full Option Science System (FOSS)</a:t>
            </a:r>
            <a:r>
              <a:rPr b="0" lang="en-US" sz="2000" spc="-1" strike="noStrike">
                <a:solidFill>
                  <a:srgbClr val="292934"/>
                </a:solidFill>
                <a:latin typeface="Arial"/>
              </a:rPr>
              <a:t>, </a:t>
            </a:r>
            <a:r>
              <a:rPr b="0" i="1" lang="en-US" sz="2000" spc="-1" strike="noStrike">
                <a:solidFill>
                  <a:srgbClr val="292934"/>
                </a:solidFill>
                <a:latin typeface="Arial"/>
              </a:rPr>
              <a:t>Science and Technology for Children (STC)</a:t>
            </a:r>
            <a:r>
              <a:rPr b="0" lang="en-US" sz="2000" spc="-1" strike="noStrike">
                <a:solidFill>
                  <a:srgbClr val="292934"/>
                </a:solidFill>
                <a:latin typeface="Arial"/>
              </a:rPr>
              <a:t>, </a:t>
            </a:r>
            <a:r>
              <a:rPr b="0" i="1" lang="en-US" sz="2000" spc="-1" strike="noStrike">
                <a:solidFill>
                  <a:srgbClr val="292934"/>
                </a:solidFill>
                <a:latin typeface="Arial"/>
              </a:rPr>
              <a:t>Science Companion</a:t>
            </a:r>
            <a:r>
              <a:rPr b="0" lang="en-US" sz="2000" spc="-1" strike="noStrike">
                <a:solidFill>
                  <a:srgbClr val="292934"/>
                </a:solidFill>
                <a:latin typeface="Arial"/>
              </a:rPr>
              <a:t>, </a:t>
            </a:r>
            <a:r>
              <a:rPr b="0" i="1" lang="en-US" sz="2000" spc="-1" strike="noStrike">
                <a:solidFill>
                  <a:srgbClr val="292934"/>
                </a:solidFill>
                <a:latin typeface="Arial"/>
              </a:rPr>
              <a:t>Science Education for Public Understanding Program</a:t>
            </a:r>
            <a:r>
              <a:rPr b="0" lang="en-US" sz="2000" spc="-1" strike="noStrike">
                <a:solidFill>
                  <a:srgbClr val="292934"/>
                </a:solidFill>
                <a:latin typeface="Arial"/>
              </a:rPr>
              <a:t>, and </a:t>
            </a:r>
            <a:r>
              <a:rPr b="0" i="1" lang="en-US" sz="2000" spc="-1" strike="noStrike">
                <a:solidFill>
                  <a:srgbClr val="292934"/>
                </a:solidFill>
                <a:latin typeface="Arial"/>
              </a:rPr>
              <a:t>Everyday Mathematics</a:t>
            </a:r>
            <a:r>
              <a:rPr b="0" lang="en-US" sz="2000" spc="-1" strike="noStrike">
                <a:solidFill>
                  <a:srgbClr val="292934"/>
                </a:solidFill>
                <a:latin typeface="Arial"/>
              </a:rPr>
              <a:t> </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t>
            </a:r>
            <a:r>
              <a:rPr b="0" lang="en-US" sz="2400" spc="-1" strike="noStrike">
                <a:solidFill>
                  <a:srgbClr val="292934"/>
                </a:solidFill>
                <a:latin typeface="Arial"/>
              </a:rPr>
              <a:t>Critical Components”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he measurable elements of the intended program model that are essential to its implementation</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ay be shared across programs or unique to specific program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an be organized into general categories</a:t>
            </a:r>
            <a:endParaRPr b="0" lang="en-US" sz="20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rPr>
              <a:t>Structural</a:t>
            </a:r>
            <a:r>
              <a:rPr b="0" lang="en-US" sz="1800" spc="-1" strike="noStrike">
                <a:solidFill>
                  <a:srgbClr val="292934"/>
                </a:solidFill>
                <a:latin typeface="Arial"/>
              </a:rPr>
              <a:t>: design, procedures, organization, and built-in supports </a:t>
            </a:r>
            <a:endParaRPr b="0" lang="en-US" sz="18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rPr>
              <a:t>Instructional</a:t>
            </a:r>
            <a:r>
              <a:rPr b="0" lang="en-US" sz="1800" spc="-1" strike="noStrike">
                <a:solidFill>
                  <a:srgbClr val="292934"/>
                </a:solidFill>
                <a:latin typeface="Arial"/>
              </a:rPr>
              <a:t>: expectations for participants’ actions, behaviors and interactions as they enact and engage in the intervention (users and recipients)</a:t>
            </a:r>
            <a:endParaRPr b="0" lang="en-US" sz="18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Framework for Measurement</a:t>
            </a:r>
            <a:endParaRPr b="0" lang="en-US" sz="4000" spc="-1" strike="noStrike">
              <a:solidFill>
                <a:srgbClr val="d2533c"/>
              </a:solidFill>
              <a:latin typeface="Arial"/>
            </a:endParaRPr>
          </a:p>
        </p:txBody>
      </p:sp>
      <p:sp>
        <p:nvSpPr>
          <p:cNvPr id="234" name=""/>
          <p:cNvSpPr txBox="1"/>
          <p:nvPr/>
        </p:nvSpPr>
        <p:spPr>
          <a:xfrm>
            <a:off x="270000" y="1599840"/>
            <a:ext cx="859608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rocess of Critical Component Identification</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eview of written materials to identify explicit and implicit component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Interviews with program developers to articulate the “intended” program model and critical component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nversations with program users about critical component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Iterative revision, reconciliation, and modification of critical components list and framework for organizing them</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pic>
        <p:nvPicPr>
          <p:cNvPr id="235" name="Object 9" descr=""/>
          <p:cNvPicPr/>
          <p:nvPr/>
        </p:nvPicPr>
        <p:blipFill>
          <a:blip r:embed="rId1"/>
          <a:stretch/>
        </p:blipFill>
        <p:spPr>
          <a:xfrm>
            <a:off x="479520" y="4402080"/>
            <a:ext cx="8207280" cy="207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FOI Framework for Instructional Materials</a:t>
            </a:r>
            <a:endParaRPr b="0" lang="en-US" sz="3600" spc="-1" strike="noStrike">
              <a:solidFill>
                <a:srgbClr val="d2533c"/>
              </a:solidFill>
              <a:latin typeface="Arial"/>
            </a:endParaRPr>
          </a:p>
        </p:txBody>
      </p:sp>
      <p:pic>
        <p:nvPicPr>
          <p:cNvPr id="237" name="Content Placeholder 3" descr="FOI IM pdf.2.pdf"/>
          <p:cNvPicPr/>
          <p:nvPr/>
        </p:nvPicPr>
        <p:blipFill>
          <a:blip r:embed="rId1"/>
          <a:srcRect l="1906" t="14600" r="0" b="9039"/>
          <a:stretch/>
        </p:blipFill>
        <p:spPr>
          <a:xfrm>
            <a:off x="165240" y="1601640"/>
            <a:ext cx="8521560" cy="515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easuring Implementation</a:t>
            </a:r>
            <a:endParaRPr b="0" lang="en-US"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uite of instruments measuring the operationalization of the identified critical component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Questionnaire</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Log</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structional Observation Protocol</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Teacher Interview Protocol</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chool Leader Questionnaire</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chool Leader Interview Protocol</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chool-Wide Observation Protocol</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ilot tested in 200 classrooms in CPS (2008) and revised</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eld-tested in 265 classrooms in CPS (2009)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easuring Implementation</a:t>
            </a:r>
            <a:endParaRPr b="0" lang="en-US" sz="4000" spc="-1" strike="noStrike">
              <a:solidFill>
                <a:srgbClr val="d2533c"/>
              </a:solidFill>
              <a:latin typeface="Arial"/>
            </a:endParaRPr>
          </a:p>
        </p:txBody>
      </p:sp>
      <p:pic>
        <p:nvPicPr>
          <p:cNvPr id="241" name="Content Placeholder 3" descr="ICM for IP.jpg"/>
          <p:cNvPicPr/>
          <p:nvPr/>
        </p:nvPicPr>
        <p:blipFill>
          <a:blip r:embed="rId1"/>
          <a:srcRect l="-1103" t="-806" r="-49" b="-2029"/>
          <a:stretch/>
        </p:blipFill>
        <p:spPr>
          <a:xfrm>
            <a:off x="0" y="1689120"/>
            <a:ext cx="9043920" cy="474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assroom-Level Instruments</a:t>
            </a:r>
            <a:endParaRPr b="0" lang="en-US" sz="4000" spc="-1" strike="noStrike">
              <a:solidFill>
                <a:srgbClr val="d2533c"/>
              </a:solidFill>
              <a:latin typeface="Arial"/>
            </a:endParaRPr>
          </a:p>
        </p:txBody>
      </p:sp>
      <p:graphicFrame>
        <p:nvGraphicFramePr>
          <p:cNvPr id="243" name=""/>
          <p:cNvGraphicFramePr/>
          <p:nvPr/>
        </p:nvGraphicFramePr>
        <p:xfrm>
          <a:off x="457200" y="1809720"/>
          <a:ext cx="8229600" cy="3038400"/>
        </p:xfrm>
        <a:graphic>
          <a:graphicData uri="http://schemas.openxmlformats.org/drawingml/2006/table">
            <a:tbl>
              <a:tblPr/>
              <a:tblGrid>
                <a:gridCol w="3738600"/>
                <a:gridCol w="1652400"/>
                <a:gridCol w="1419480"/>
                <a:gridCol w="1419120"/>
              </a:tblGrid>
              <a:tr h="368280">
                <a:tc row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Critical Components</a:t>
                      </a:r>
                      <a:endParaRPr b="0" lang="en-US" sz="1800" spc="-1" strike="noStrike">
                        <a:solidFill>
                          <a:srgbClr val="292934"/>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3a299"/>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Number of Items</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3a299"/>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eacher Instructional Questionnaire</a:t>
                      </a:r>
                      <a:endParaRPr b="0" lang="en-US" sz="1800" spc="-1" strike="noStrike">
                        <a:solidFill>
                          <a:srgbClr val="292934"/>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3a2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eacher Instructional Observation Protocol</a:t>
                      </a:r>
                      <a:endParaRPr b="0" lang="en-US" sz="1800" spc="-1" strike="noStrike">
                        <a:solidFill>
                          <a:srgbClr val="292934"/>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3a2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eacher Instructional Log</a:t>
                      </a:r>
                      <a:endParaRPr b="0" lang="en-US" sz="1800" spc="-1" strike="noStrike">
                        <a:solidFill>
                          <a:srgbClr val="292934"/>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3a29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tructural Procedural</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29</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44</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9</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tructural Educative</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4</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0</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4</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nstructional Pedagogical</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0</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5</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1</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f0ef"/>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nstructional Student Engagement</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2</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2</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32</a:t>
                      </a:r>
                      <a:endParaRPr b="0" lang="en-US" sz="1800" spc="-1" strike="noStrike">
                        <a:solidFill>
                          <a:srgbClr val="29293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ce0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Next Steps: Validation</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245"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ES Funding: Goal 5 (Measurement) Goal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Establish validity and reliability within and across the three classroom-level instruments</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evelop a student questionnaire (grades 3-5) to triangulate measures of student engagement</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articipant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50 schools across 4 sites (IL, WA, MA)</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ll teachers grades K-5 (N~1000)</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ll consented students grades 3-5 (N~4500)</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chools use both </a:t>
            </a:r>
            <a:r>
              <a:rPr b="0" i="1" lang="en-US" sz="2000" spc="-1" strike="noStrike">
                <a:solidFill>
                  <a:srgbClr val="292934"/>
                </a:solidFill>
                <a:latin typeface="Arial"/>
              </a:rPr>
              <a:t>Everyday Mathematics </a:t>
            </a:r>
            <a:r>
              <a:rPr b="0" lang="en-US" sz="2000" spc="-1" strike="noStrike">
                <a:solidFill>
                  <a:srgbClr val="292934"/>
                </a:solidFill>
                <a:latin typeface="Arial"/>
              </a:rPr>
              <a:t>and a reform-based science curriculum</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4:18:21Z</dcterms:created>
  <dc:creator>Amy Cassata-Widera</dc:creator>
  <dc:description/>
  <dc:language>en-US</dc:language>
  <cp:lastModifiedBy> </cp:lastModifiedBy>
  <dcterms:modified xsi:type="dcterms:W3CDTF">2011-09-06T16:01:09Z</dcterms:modified>
  <cp:revision>18</cp:revision>
  <dc:subject/>
  <dc:title>Scientific Validation Of A Set Of Instruments Measuring Fidelity Of Implementation (FOI) Of Reform-based Science And Mathematics Instructional Materials</dc:title>
</cp:coreProperties>
</file>