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9831-D688-488F-9F1D-999E35508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3334-C818-44F9-A258-F2B0760C21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87AD-ADFE-4E0C-889E-16BFFB2B10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0C83-9415-4120-A703-B50B770CFA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420C-DEAB-40E2-92A7-C0A4ACD44E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791B-26E3-4242-84C5-E2FCC61F00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7C6C-8376-46C4-A516-1E15567890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6FF9-E6C8-46A8-9E9D-B057547A23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AFFB-73D8-4026-8F48-5B5E8431F7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257C-8988-4661-A7A0-064EAF0733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B29D-DE76-4AB8-AB59-E29F195FC0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C674-E5EF-4A47-9463-6F2BDABAAA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1366-9613-4AB9-B91B-C0B52139B1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6B30-FAFD-4BE6-96B4-02B79EAD0D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8CB-D8C0-42F1-B417-7C1DB410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DC4-6616-4DB2-BEFA-0AEFF3E8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C56-122C-4147-B275-F162268C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A26-0033-48A4-AB51-E06770DE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D022-F890-4D41-91B7-4D93FF03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0EAE-0991-4D45-8663-7EF48ECB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10A5-5838-46D2-9DA9-946189B7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B30B-BD93-4D20-956D-B70DB5DB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5DEB-E6A4-4EA8-B1A1-EEAC8F80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9FAA-BA62-4244-903B-9A0182EE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4B9E-3E7B-4940-AECA-2625CCB7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5B2-81FF-43ED-8DA3-9837DE27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B5F7-E251-40F5-BAAE-1BAAA824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5CD9-7B53-4CF6-B958-66635D1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E06D-446F-441E-A32C-A4354585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4207-3E04-4CA8-83B0-9BCF951C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A153-5FE4-433C-900A-25B15194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EFB-9D78-4C53-A4CE-8588CF00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8DD-40CC-4FA8-AE63-7CC71602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822-2C18-4146-85B3-16B0951E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FEA-A05B-45D9-AB9F-08F7F418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B0E-D295-40A8-BE5D-55AEA008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995-D80D-4E1C-8392-80D1A112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A22-7611-40C8-9077-F5E0A565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4970-2814-413D-81C5-04F9D034A5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616B-B5D3-40B5-85C1-1B76302406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our Imperatives for Leading a Long-Term, Multi-Institutional Research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14400" y="2895480"/>
            <a:ext cx="7391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imes New Roman"/>
              </a:rPr>
              <a:t>IES Awardees Meeting—Sept 7, 2011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551560" y="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icture 9"/>
          <p:cNvSpPr/>
          <p:nvPr/>
        </p:nvSpPr>
        <p:spPr>
          <a:xfrm>
            <a:off x="6324480" y="3733920"/>
            <a:ext cx="210024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39625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2743200" y="4419720"/>
            <a:ext cx="3962520" cy="622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3"/>
          <a:stretch/>
        </p:blipFill>
        <p:spPr>
          <a:xfrm>
            <a:off x="1905120" y="5105520"/>
            <a:ext cx="5638680" cy="79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Use Resources to Maximize Good Work While Staying True to the Original Questions and Objectiv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047600" cy="83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erative 4: Tolerate Project Splintering and a Degree of Chao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x Project Can Accommodate Offshoot Efforts that Capitalize On New Ideas and Tal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ose Offshoots Can Be Led By Knowledgeable Participants, Whether Faculty, Students, or Staf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ult May Be Several Subprojects That Can Yield Multiple Papers or Presentations Each Project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ject Leader Must Welcome Complex Activi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gree of Conceptual (Not Logistical) Chaos is the Heart of Discov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n the Project Staff Try Out New Ideas and Explanations, the Project is Intellectually Optimiz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lex, Multi-Institutional Research Project Can and Should Pursue a Complex and Dynamic Agend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047600" cy="83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 Math At Sc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novative Paradigm to Boost Math Achievement Among All Lear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 Department of Education, Institute of Education Sciences (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years (2009-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ing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ly 50 low-performing elementary schools in Orange County, Califor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 Math 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esigned to develop deep intuitive understandings of fundamental mathematical concepts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ctions, proportions, symmetries, and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 game metaph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niversally motivat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ies challenge children to apply their spatial-temporal skills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o solve problem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858000" y="457200"/>
            <a:ext cx="1549440" cy="116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ollaborating Instit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828800"/>
          <a:ext cx="7924680" cy="4267080"/>
        </p:xfrm>
        <a:graphic>
          <a:graphicData uri="http://schemas.openxmlformats.org/drawingml/2006/table">
            <a:tbl>
              <a:tblPr/>
              <a:tblGrid>
                <a:gridCol w="3962520"/>
                <a:gridCol w="3962160"/>
              </a:tblGrid>
              <a:tr h="42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 of California, Ir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ichael E. Martin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nemarie Conl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orge Fark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Jeneen Grah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elissa Kibric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vid L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Jana Ley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Jennifer Lo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indsey Rich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eya Rutherfo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aterina Schenk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talie Tran (CSUF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izabeth van 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 Research Institu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drew Coulso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Fran Antenor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bby Daniel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nge County Department of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ephanie Schneid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auren Dur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erative 1: Know That Each Institution Has Unique Strengths and Liabili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Developer: The Demonstrated Efficacy of Its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orks, Doesn’t It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y Department of Education: Political Goodwill with District Superintendents and Princip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Make This Work, But Not Rock the Boa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University: The Integrity of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Mission is the Find the Tru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nd to Publish It!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peration and Division of Labor Are Ongoing and Complementary Strateg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047600" cy="83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erative 2: Make Continuous Efforts to Keep Morale Strong Among All Participant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gs Will Go Wrong.  Admit Fault and Take Criticism Graciously, Especially When It Comes From Your Institutional Partn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Project Leader Your “Cred” May Go 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Easy When Others Drop The Ball.  Blame is Poi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Long-Term Effort.  Do Good Work and Enjoy It.  The Two Are Synergist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Credit and Recognition Liber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er Term Product Is a Climate of Trust and Commit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ject Leader Must Be an Analytic Problem Solver, but Equally Important Must Build and Protect Mora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047600" cy="83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erative 3: Be Alert To Emergent Opportunitie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ng and Complex Project is Not Executed From an Unalterable Master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ople Enter and Leave the Project; Some Strategies Work, Some Don’t; The Political Landscape Chan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ay Find That The Project Picks Up Momentum After the First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mentum Can Build Along With Excitement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 To New Id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ven if You are Skeptical, the Ideas of Project Staff Can Bring Out Their Best Talent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1:17:40Z</dcterms:created>
  <dc:creator>Ripton, Amy (Contractor)</dc:creator>
  <dc:description/>
  <dc:language>en-US</dc:language>
  <cp:lastModifiedBy>Authorised User</cp:lastModifiedBy>
  <dcterms:modified xsi:type="dcterms:W3CDTF">2011-12-07T14:22:27Z</dcterms:modified>
  <cp:revision>95</cp:revision>
  <dc:subject/>
  <dc:title>Metacognition How Students Reflect on Their Learning  Michael E. Martinez University of California, Irvine</dc:title>
</cp:coreProperties>
</file>