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9C19-8CA8-40B2-8CD0-6CEB4CC9F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A7A0-BD33-4D91-B4F1-A32BE659C6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BD7D-36E1-4CA9-9C05-1E55CB3C1E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D318-2B29-48D1-B5B7-994F852814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5457-FEC9-4C3A-A007-F113D51735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7547-24E4-4FC5-970F-0A4C0F1E27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233E-0B42-4685-A601-B20CA81539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8C8C-5D43-40AF-BFF6-EE71C5B2FE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15DE-0B18-4C2D-9F0C-B25CEC36FB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C30E-BCF2-4440-9A32-8C80F978DA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E56B-7B67-4E56-A820-2D2BC7D57B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0164-6259-43A7-BD2F-708CC4FA3C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0AE5-116E-4D40-85AE-29BDC6E1BE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9164-2D9D-4182-9DD6-5621A75746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06BB-80FD-4FE4-97D9-5A85C23C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EBE-728A-4AA9-A9B4-BE843152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639-16E1-426C-9F81-966401B9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92C-3946-4C68-8A93-49745BED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044A-8AC6-4E20-A633-A60720F4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EC20-1783-4D41-85C1-CB125CCE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07E5-A6D0-45B4-844E-CB70F945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0F91-E6B3-44E3-A3FE-2DFB9497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95AB-7AE3-40E9-8B91-FA40B5A1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3CC2-AD83-4ABC-8FD7-091F7A55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E361-0DDE-40C0-B36A-F5E44A09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4C3-C6AA-4593-9709-2EBBA870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F162-0127-4D98-B069-34CF98D1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AC30-F82F-46FF-B484-B0CB229F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96A2-8B4B-4031-B266-D0F866B9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5A35-9F72-4056-8526-E0D7820D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744B-DAC8-45E6-8B1F-797FF358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276-746B-4BBC-B6BF-183835CA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F67-5014-4F4C-A558-960C85EF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8AD-FB7F-4A7B-8773-F4974230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4E2B-170E-434C-97BC-634C0D1E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362-AAB6-4BD4-93B9-3D2F9635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CAE-8787-4B27-B18A-463E84A1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088-C81A-43A6-9D78-CA8982D5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5B6A-872C-4D00-8DED-8ED12C55F4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AA4E-B5EB-4777-9F8D-4654D484AF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Four Imperatives for Leading a Long-Term, Multi-Institutional Research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914400" y="2895480"/>
            <a:ext cx="7391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imes New Roman"/>
              </a:rPr>
              <a:t>IES Awardees Meeting—Sept 7, 2011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5551560" y="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icture 9"/>
          <p:cNvSpPr/>
          <p:nvPr/>
        </p:nvSpPr>
        <p:spPr>
          <a:xfrm>
            <a:off x="6324480" y="3733920"/>
            <a:ext cx="210024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3962520" cy="66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2"/>
          <a:stretch/>
        </p:blipFill>
        <p:spPr>
          <a:xfrm>
            <a:off x="2743200" y="4419720"/>
            <a:ext cx="3962520" cy="622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3"/>
          <a:stretch/>
        </p:blipFill>
        <p:spPr>
          <a:xfrm>
            <a:off x="1905120" y="5105520"/>
            <a:ext cx="5638680" cy="79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Use Resources to Maximize Good Work While Staying True to the Original Questions and Objectiv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047600" cy="83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erative 4: Tolerate Project Splintering and a Degree of Chao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lex Project Can Accommodate Offshoot Efforts that Capitalize On New Ideas and Tal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ose Offshoots Can Be Led By Knowledgeable Participants, Whether Faculty, Students, or Staff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ult May Be Several Subprojects That Can Yield Multiple Papers or Presentations Each Project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oject Leader Must Welcome Complex Activi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gree of Conceptual (Not Logistical) Chaos is the Heart of Discov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en the Project Staff Try Out New Ideas and Explanations, the Project is Intellectually Optimiz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plex, Multi-Institutional Research Project Can and Should Pursue a Complex and Dynamic Agend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047600" cy="83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 Math At Sc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novative Paradigm to Boost Math Achievement Among All Lear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 Department of Education, Institute of Education Sciences (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years (2009-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ing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ely 50 low-performing elementary schools in Orange County, Califor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 Math Softw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esigned to develop deep intuitive understandings of fundamental mathematical concepts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ctions, proportions, symmetries, and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deo game metaph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niversally motivat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ties challenge children to apply their spatial-temporal skills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o solve problem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6858000" y="457200"/>
            <a:ext cx="1549440" cy="116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Collaborating Instit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828800"/>
          <a:ext cx="7924680" cy="4267080"/>
        </p:xfrm>
        <a:graphic>
          <a:graphicData uri="http://schemas.openxmlformats.org/drawingml/2006/table">
            <a:tbl>
              <a:tblPr/>
              <a:tblGrid>
                <a:gridCol w="3962520"/>
                <a:gridCol w="3962160"/>
              </a:tblGrid>
              <a:tr h="42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 of California, Irv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ichael E. Martine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nemarie Conl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eorge Fark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Jeneen Grah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elissa Kibric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avid L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Jana Ley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Jennifer Lo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indsey Rich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eya Rutherfo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aterina Schenk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atalie Tran (CSUF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lizabeth van 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 Research Institu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drew Coulso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Fran Antenor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bby Daniel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nge County Department of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tephanie Schneid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auren Dura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erative 1: Know That Each Institution Has Unique Strengths and Liabiliti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Developer: The Demonstrated Efficacy of Its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orks, Doesn’t It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y Department of Education: Political Goodwill with District Superintendents and Princip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Make This Work, But Not Rock the Boa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University: The Integrity of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Mission is the Find the Tru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nd to Publish It!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peration and Division of Labor Are Ongoing and Complementary Strateg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047600" cy="83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erative 2: Make Continuous Efforts to Keep Morale Strong Among All Participant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gs Will Go Wrong.  Admit Fault and Take Criticism Graciously, Especially When It Comes From Your Institutional Partn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Project Leader Your “Cred” May Go 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Easy When Others Drop The Ball.  Blame is Poi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Long-Term Effort.  Do Good Work and Enjoy It.  The Two Are Synergist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 Credit and Recognition Liber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er Term Product Is a Climate of Trust and Commit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sho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ject Leader Must Be an Analytic Problem Solver, but Equally Important Must Build and Protect Mora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047600" cy="83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erative 3: Be Alert To Emergent Opportunitie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ng and Complex Project is Not Executed From an Unalterable Master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ople Enter and Leave the Project; Some Strategies Work, Some Don’t; The Political Landscape Chang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ay Find That The Project Picks Up Momentum After the First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mentum Can Build Along With Excitement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en To New Id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ven if You are Skeptical, the Ideas of Project Staff Can Bring Out Their Best Talent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1:17:40Z</dcterms:created>
  <dc:creator>Ripton, Amy (Contractor)</dc:creator>
  <dc:description/>
  <dc:language>en-US</dc:language>
  <cp:lastModifiedBy>Authorised User</cp:lastModifiedBy>
  <dcterms:modified xsi:type="dcterms:W3CDTF">2011-12-07T14:22:27Z</dcterms:modified>
  <cp:revision>95</cp:revision>
  <dc:subject/>
  <dc:title>Metacognition How Students Reflect on Their Learning  Michael E. Martinez University of California, Irvine</dc:title>
</cp:coreProperties>
</file>